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6.gif" ContentType="image/gif"/>
  <Override PartName="/ppt/media/image20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8EA-1DDF-4DEF-B2E1-660307A8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115-6B64-406F-9A5D-4A7DDF66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2E7-0EF3-4498-89C2-4BD3ABFA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822-A009-48D4-A4DE-15500EC4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5852-9CC6-4BB3-B3FA-FCA99695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4FBE-CD60-4C2D-955D-54DE6F9F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54A4-1050-4D57-A430-D2023B61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5A4C-D871-43A4-8806-B6289488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E82-1CF8-402E-8D0C-D8A00B8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2DB-F4E3-49F0-BB8A-286170F0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EB7-847B-4097-84DE-08ECE0A8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D50-5EC0-40A3-8CEE-393BBBA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2BAB-78AF-47D7-9273-3AA2BC0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FE13-0578-4C01-BA95-4EE2FF0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DCF5-2800-417C-9212-A0163F2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F189-95A2-4532-B171-0D6700AB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00FE-173A-4A6D-B135-DA82AFF3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E5F-C120-4407-A069-1204A16D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DF2-B463-4F8C-9629-D2B170B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2CD-A5FA-4FD9-AC4F-87CC606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C5F-8879-43A2-9579-861DF67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1EB-FF52-4DF4-8024-CCFE6EE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DAA-CD17-4F8C-A5B0-FDD9173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7B5-46D1-4434-A6D8-B711084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B09-BC25-4EB1-AF40-A6DE26321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C8F2-1349-4B13-A919-01659BB1DC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557280" y="2808360"/>
            <a:ext cx="523872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中的快乐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24000" y="9079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教新课标 五年级品德与社会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199"/>
          <p:cNvSpPr/>
          <p:nvPr/>
        </p:nvSpPr>
        <p:spPr>
          <a:xfrm>
            <a:off x="463680" y="468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371-1FD5-4802-BBA3-A45ECD3A73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700280"/>
            <a:ext cx="4427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作业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000" y="306864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习下一课，写自己迄今为止最愉快的一次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8" descr="20084315131129_2"/>
          <p:cNvPicPr/>
          <p:nvPr/>
        </p:nvPicPr>
        <p:blipFill>
          <a:blip r:embed="rId2"/>
          <a:stretch/>
        </p:blipFill>
        <p:spPr>
          <a:xfrm>
            <a:off x="1835280" y="2421000"/>
            <a:ext cx="5473440" cy="36496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9"/>
          <p:cNvSpPr txBox="1"/>
          <p:nvPr/>
        </p:nvSpPr>
        <p:spPr>
          <a:xfrm>
            <a:off x="1835280" y="620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（一）音乐激趣，感知快乐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780000" y="17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幸福拍手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儿童歌曲 - 幸福拍手歌.mp3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34"/>
          <p:cNvPicPr/>
          <p:nvPr/>
        </p:nvPicPr>
        <p:blipFill>
          <a:blip r:embed="rId4"/>
          <a:stretch/>
        </p:blipFill>
        <p:spPr>
          <a:xfrm>
            <a:off x="7723080" y="5254560"/>
            <a:ext cx="1420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700"/>
                            </p:stCondLst>
                            <p:childTnLst>
                              <p:par>
                                <p:cTn id="3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3312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7"/>
          <p:cNvGrpSpPr/>
          <p:nvPr/>
        </p:nvGrpSpPr>
        <p:grpSpPr>
          <a:xfrm>
            <a:off x="0" y="1197000"/>
            <a:ext cx="4319280" cy="2060280"/>
            <a:chOff x="0" y="1197000"/>
            <a:chExt cx="4319280" cy="2060280"/>
          </a:xfrm>
        </p:grpSpPr>
        <p:pic>
          <p:nvPicPr>
            <p:cNvPr id="92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4319280" cy="20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1270080"/>
              <a:ext cx="2214000" cy="2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6443640" y="765000"/>
            <a:ext cx="2700360" cy="220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0" y="3716280"/>
            <a:ext cx="2413080" cy="26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6"/>
          <a:stretch/>
        </p:blipFill>
        <p:spPr>
          <a:xfrm>
            <a:off x="6227640" y="3860640"/>
            <a:ext cx="2916360" cy="271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200813203128154_2"/>
          <p:cNvPicPr/>
          <p:nvPr/>
        </p:nvPicPr>
        <p:blipFill>
          <a:blip r:embed="rId7"/>
          <a:stretch/>
        </p:blipFill>
        <p:spPr>
          <a:xfrm>
            <a:off x="2627280" y="234936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24"/>
          <p:cNvSpPr txBox="1"/>
          <p:nvPr/>
        </p:nvSpPr>
        <p:spPr>
          <a:xfrm>
            <a:off x="324000" y="189000"/>
            <a:ext cx="5486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宋体"/>
              </a:rPr>
              <a:t>（二）创设情境，体验快乐</a:t>
            </a:r>
            <a:endParaRPr b="0" lang="en-US" sz="28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539640" y="3141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生活中的每个人都有自己的快乐。让大家彼此分享，说说自己的快乐，再观察一下其他人都有哪些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340000" y="1773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2"/>
          <p:cNvPicPr/>
          <p:nvPr/>
        </p:nvPicPr>
        <p:blipFill>
          <a:blip r:embed="rId2"/>
          <a:stretch/>
        </p:blipFill>
        <p:spPr>
          <a:xfrm>
            <a:off x="0" y="1052640"/>
            <a:ext cx="3132000" cy="2278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250920" y="692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三）合作交流，发现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"/>
                            </p:stCondLst>
                            <p:childTnLst>
                              <p:par>
                                <p:cTn id="8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640" y="155700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相聚的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195640" y="1557360"/>
            <a:ext cx="54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相聚的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6" name="Picture 28" descr="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29"/>
            <p:cNvSpPr/>
            <p:nvPr/>
          </p:nvSpPr>
          <p:spPr>
            <a:xfrm>
              <a:off x="1924200" y="1004040"/>
              <a:ext cx="609624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朋友相聚的快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1258920" y="620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助人为乐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7" descr="4"/>
          <p:cNvPicPr/>
          <p:nvPr/>
        </p:nvPicPr>
        <p:blipFill>
          <a:blip r:embed="rId3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8"/>
          <p:cNvSpPr/>
          <p:nvPr/>
        </p:nvSpPr>
        <p:spPr>
          <a:xfrm>
            <a:off x="826920" y="404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尊敬老人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9" descr="W020090628467690466340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0"/>
          <p:cNvSpPr/>
          <p:nvPr/>
        </p:nvSpPr>
        <p:spPr>
          <a:xfrm>
            <a:off x="1547640" y="62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院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1" descr="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2"/>
          <p:cNvSpPr/>
          <p:nvPr/>
        </p:nvSpPr>
        <p:spPr>
          <a:xfrm>
            <a:off x="1979640" y="620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幸福家庭的欢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歌声与微笑 伴奏.mp3" descr=""/>
          <p:cNvPicPr/>
          <p:nvPr/>
        </p:nvPicPr>
        <p:blipFill>
          <a:blip r:embed="rId6"/>
          <a:stretch/>
        </p:blipFill>
        <p:spPr>
          <a:xfrm>
            <a:off x="539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36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600"/>
                            </p:stCondLst>
                            <p:childTnLst>
                              <p:par>
                                <p:cTn id="15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3600"/>
                            </p:stCondLst>
                            <p:childTnLst>
                              <p:par>
                                <p:cTn id="15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8600"/>
                            </p:stCondLst>
                            <p:childTnLst>
                              <p:par>
                                <p:cTn id="1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072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4214880" y="3645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250920" y="549360"/>
            <a:ext cx="8281440" cy="4752720"/>
            <a:chOff x="250920" y="549360"/>
            <a:chExt cx="8281440" cy="4752720"/>
          </a:xfrm>
        </p:grpSpPr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549360"/>
              <a:ext cx="3960360" cy="47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"/>
            <p:cNvPicPr/>
            <p:nvPr/>
          </p:nvPicPr>
          <p:blipFill>
            <a:blip r:embed="rId3">
              <a:lum bright="42000"/>
            </a:blip>
            <a:stretch/>
          </p:blipFill>
          <p:spPr>
            <a:xfrm>
              <a:off x="4211280" y="620640"/>
              <a:ext cx="4321080" cy="33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9"/>
          <p:cNvSpPr/>
          <p:nvPr/>
        </p:nvSpPr>
        <p:spPr>
          <a:xfrm>
            <a:off x="4356000" y="414972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自己的付出获得的快乐更持久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835280" y="126828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什么是</a:t>
            </a:r>
            <a:r>
              <a:rPr b="1" lang="zh-CN" sz="8800" spc="-1" strike="noStrike">
                <a:solidFill>
                  <a:srgbClr val="ff5050"/>
                </a:solidFill>
                <a:latin typeface="Arial"/>
                <a:ea typeface="楷体_GB2312"/>
              </a:rPr>
              <a:t>快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69228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抒写情怀，理解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11280" y="2781360"/>
            <a:ext cx="79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帮助别人的时候，我们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时候，我们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200"/>
                            </p:stCondLst>
                            <p:childTnLst>
                              <p:par>
                                <p:cTn id="185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417760" y="692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五）走进生活，创造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女生"/>
          <p:cNvPicPr/>
          <p:nvPr/>
        </p:nvPicPr>
        <p:blipFill>
          <a:blip r:embed="rId2"/>
          <a:stretch/>
        </p:blipFill>
        <p:spPr>
          <a:xfrm>
            <a:off x="395280" y="2060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059280" y="2276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生活中去寻找、发现更多的快乐，用自己的双手创造出更多的快乐。做每一件事之前对自己说一声“我很快乐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95280" y="692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名人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916360" y="2852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324000" y="1628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一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年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乐，是人生中最伟大的事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正的快乐是对生活的乐观，对工作的愉快，对事业的兴奋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因斯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乐人之乐，人亦乐其乐；忧人之忧，人亦忧其忧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是一种没有副作用的镇静剂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格拉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0:50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59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ac08000000000001024120</vt:lpwstr>
  </property>
</Properties>
</file>