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27.jpeg" ContentType="image/jpeg"/>
  <Override PartName="/ppt/media/image33.jpeg" ContentType="image/jpeg"/>
  <Override PartName="/ppt/media/image5.png" ContentType="image/png"/>
  <Override PartName="/ppt/media/image10.png" ContentType="image/png"/>
  <Override PartName="/ppt/media/image35.jpeg" ContentType="image/jpeg"/>
  <Override PartName="/ppt/media/image30.png" ContentType="image/png"/>
  <Override PartName="/ppt/media/image8.jpeg" ContentType="image/jpeg"/>
  <Override PartName="/ppt/media/image6.png" ContentType="image/png"/>
  <Override PartName="/ppt/media/image11.jpeg" ContentType="image/jpeg"/>
  <Override PartName="/ppt/media/image36.jpeg" ContentType="image/jpeg"/>
  <Override PartName="/ppt/media/image13.png" ContentType="image/png"/>
  <Override PartName="/ppt/media/image18.png" ContentType="image/png"/>
  <Override PartName="/ppt/media/image28.png" ContentType="image/png"/>
  <Override PartName="/ppt/media/image7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9.png" ContentType="image/png"/>
  <Override PartName="/ppt/media/image34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media/image20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381A-A0FA-43B0-80F6-5F8514CD3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768D-F234-479D-A487-D077AD7C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24302-536C-489C-B354-E158AB9A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78AEF-2678-4671-97EA-60EDBEDA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A1F44-1877-4B75-B66E-61A1D97F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0C1F9-FEE5-4706-B597-99472791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C56F81-59BE-48F9-BFCE-4107FDE2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68FB7F-B421-4AE0-83AF-76D86FA3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E8DD6F-9211-4729-8F33-472AC7DC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EEF7E-F664-4ABF-9315-C2C9B152F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86BEE-FD17-48DC-A2D1-25F66053A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6C12F6-174D-4610-8C88-B5FB0EAE4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AC91-971C-4434-BBC4-2DEAE4132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86FC64-9812-4811-BCD3-ACCBF7D3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FE40E6-75F0-4FC6-B128-B68DB8C4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649A94-2422-4350-AC11-C64C9160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752866-72BC-468F-B8A5-CD889B57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D36173-68A5-4C5F-804E-DE5CAF4F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2FEEF9-188F-4BE3-B24D-AD3551D0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03BBB1-A305-4591-A6EE-D98B0059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354661-6A81-4D94-AD32-58C94188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85BB06-B7A0-4BD9-91E7-F5A696EB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743F43-3F3A-403E-B24F-17507A17E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147F-8C48-4BD4-A0AC-A72FD3426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7BDCF-AA0F-47CD-99FC-47C2B0490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BB3E-0112-4CC7-8390-EAE41C780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CC2D0-8578-4A85-9B2B-F79DAFD1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11DD-86B4-4438-98DD-31A392F6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30A5-9A4D-4CE0-836A-743BEE74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847F-881D-4CF6-9CD5-ABBE8867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46CF-EFEB-4745-81F7-C122DF7D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471D-720E-4822-88B7-A5374043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8FB6-69E5-4132-B25E-D65604CA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573EC-F675-41A2-92AE-B8426D64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279C-F436-479B-AF25-140969AC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6BFE-A550-4015-81EC-8FA3E82F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CD6FC-1BCD-4507-913A-CFB9A5A47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99BA-AB5E-4C15-8FA7-6DC94A179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DB295-05EF-4C16-922C-4D9CFE62D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20F52-828A-4B17-A9EA-AF4F9684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026F2-CC62-40C8-A43E-42E28884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E608D-7A2D-4C36-A761-F2095E90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36AD8-0218-441B-9503-5EF3AF54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BBC3-3D4D-4C25-A1C7-C1AB1FEA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E03FD-20D8-46E0-9062-C20FB091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65F24-CA5C-427B-A802-201051C3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E4E2B-8332-48C4-A1F0-369A5BA9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DF737-9363-4743-9427-9C1B12FB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6C697-CDAF-4B0E-9060-6FB76C4B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1940F-16F6-4FDF-9C99-A9064B919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31427-1A39-4486-8E90-A587BD455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C0403-9723-45D2-A5D6-0D2EE4198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E7CF6-9197-4F84-AD8E-4B8CF8DA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74701-CA4B-4A5F-BCFC-8B5D8F3F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26D3-1426-4600-A4C1-FB3EF824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89318-66F7-431C-8CC0-F50C7F7E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8D3DD-099F-460A-B06B-235C155F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E8B90-8F92-40BC-A868-2CCB0926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01965-AC6D-46CB-B239-E10D6791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1A7C3-7C91-4BA1-9B99-A5EE5236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8B6AC-6D23-44E4-B75F-E54DC83C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251A2-0C31-4CA6-B8FB-C2AA5B03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41E57-C935-4867-AC64-1829625DE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69594-50DE-43A3-829F-F501B5C52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12BE5-E942-4ED2-AC35-3B431FD46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D723-3414-48FA-BB47-10491F01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5BB19-41AC-4A76-B8D9-2CFC5024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715CE-4D09-43E5-A891-7E70737B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DA9BA-1B9C-4603-831B-7F1D56EC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95255-2BD0-42FA-98B7-CF43167F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0A8A2-5CA9-4D2E-B0E2-D8A84ED9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88400-AABF-4E4A-BA81-D8CD1518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8A703-1710-4813-8AC3-0A322E69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C93C9-F03E-4EAB-A425-20550254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A5858-84B9-49D6-BD55-9EEA6D12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DC5C5-D70A-491D-BCD7-D3EC2FDF6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9EDB-78D0-43B5-A40E-FFC4355B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E3D17-F59F-450D-89DE-691C2234A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88B24-0BF1-470E-830F-8B9A8FFB7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56B07-5238-4D51-BC7C-6A50A7D7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D6B03-631C-4B07-B65D-46A2958F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5B039-DEF4-4243-B69B-1238CA06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0ABC1-C0A1-4759-B48E-0510F45A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B1E68-C3C3-4064-B099-6E22BB51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7C9F0-4D37-443E-A994-4FEA8B5C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6A7C8-E030-40E2-A8C2-8F78695C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8499E-2DB6-4DA4-BD02-6F2BDFA7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A00D-C5F2-4B02-AD3D-91335851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9B4CC-4719-4C99-AF04-C5137A79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06F10-5719-4FB6-85E5-5C5B03BE1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65951-BFCA-4981-BBC9-8A63C1CDA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5D374-D0A0-4827-B982-5F9F55AFD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1F21C-C040-4FAD-B000-0A0A1686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BDF89-4703-4E29-8C9F-19A22734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28577-A32E-46DD-AC6E-F406052B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1D97B-1649-4EF8-BD01-9D200CB7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686B5-D560-4C7B-8975-6C1910BD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62A24-95FA-4761-B362-0955E209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3D43-2919-401C-A443-19101986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BDD8F-213B-4AED-A3F5-7824CAB4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865D7-D9C1-4746-B3D2-53B44422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94547-387F-44E0-8FEE-78B43EB9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F9A02-D2C8-402D-962A-B7354A873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0C606-3C63-4409-B974-814D12B4E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1BE91-D26A-41EC-9FEC-8DE07E785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630C4-36FD-4689-B724-52B71986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D8B0F-E61D-4CC2-89EA-1247A08E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47216-E090-4C28-BDAA-E1B0F44A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24108-2062-462F-A58E-0E432E85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B430-DE8C-48DD-9F72-404E839F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949D8-7C6F-4355-A072-FD7572DE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D5B33-8D7E-405A-9D1B-1CE907F6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3AE60-E344-4A09-BCBE-B6708F94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70C1B-CD19-4930-9496-F0041B7E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D5754-F566-42E4-88D8-0CA3826D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C1CB2-2342-4A44-A1FC-6D75D1382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87ABD-6F17-45A9-9A80-A44AA2DC9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C9C11A-7C78-4FFF-BD63-959749E98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2FD72-1936-41ED-898A-2734154D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20CD9C-83BB-43EE-9A1D-5E7AE0CB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直角三角形 13" descr=""/>
          <p:cNvPicPr/>
          <p:nvPr/>
        </p:nvPicPr>
        <p:blipFill>
          <a:blip r:embed="rId2"/>
          <a:stretch/>
        </p:blipFill>
        <p:spPr>
          <a:xfrm>
            <a:off x="-6480" y="5791320"/>
            <a:ext cx="3402000" cy="1081080"/>
          </a:xfrm>
          <a:prstGeom prst="rect">
            <a:avLst/>
          </a:prstGeom>
          <a:ln w="0">
            <a:noFill/>
          </a:ln>
        </p:spPr>
      </p:pic>
      <p:pic>
        <p:nvPicPr>
          <p:cNvPr id="3" name="直接连接符 14" descr=""/>
          <p:cNvPicPr/>
          <p:nvPr/>
        </p:nvPicPr>
        <p:blipFill>
          <a:blip r:embed="rId3"/>
          <a:stretch/>
        </p:blipFill>
        <p:spPr>
          <a:xfrm>
            <a:off x="-11160" y="5781600"/>
            <a:ext cx="3408480" cy="109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CF43-06BA-4D8C-927D-214199C5456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直角三角形 13" descr=""/>
          <p:cNvPicPr/>
          <p:nvPr/>
        </p:nvPicPr>
        <p:blipFill>
          <a:blip r:embed="rId2"/>
          <a:stretch/>
        </p:blipFill>
        <p:spPr>
          <a:xfrm>
            <a:off x="-6480" y="5791320"/>
            <a:ext cx="3402000" cy="1081080"/>
          </a:xfrm>
          <a:prstGeom prst="rect">
            <a:avLst/>
          </a:prstGeom>
          <a:ln w="0">
            <a:noFill/>
          </a:ln>
        </p:spPr>
      </p:pic>
      <p:pic>
        <p:nvPicPr>
          <p:cNvPr id="402" name="直接连接符 14" descr=""/>
          <p:cNvPicPr/>
          <p:nvPr/>
        </p:nvPicPr>
        <p:blipFill>
          <a:blip r:embed="rId3"/>
          <a:stretch/>
        </p:blipFill>
        <p:spPr>
          <a:xfrm>
            <a:off x="-11160" y="5781600"/>
            <a:ext cx="3408480" cy="109548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65A2-8201-4C6D-B49F-AE6853DA27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D418-7AE2-4E91-AFDC-8BA91680F65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组合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88" name="任意多边形 16"/>
            <p:cNvSpPr/>
            <p:nvPr/>
          </p:nvSpPr>
          <p:spPr>
            <a:xfrm>
              <a:off x="1688040" y="5089320"/>
              <a:ext cx="7455240" cy="45324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任意多边形 18"/>
            <p:cNvSpPr/>
            <p:nvPr/>
          </p:nvSpPr>
          <p:spPr>
            <a:xfrm>
              <a:off x="36360" y="5353560"/>
              <a:ext cx="9107280" cy="73224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任意多边形 19" descr=""/>
            <p:cNvPicPr/>
            <p:nvPr/>
          </p:nvPicPr>
          <p:blipFill>
            <a:blip r:embed="rId2"/>
            <a:stretch/>
          </p:blipFill>
          <p:spPr>
            <a:xfrm>
              <a:off x="720" y="4952880"/>
              <a:ext cx="9142560" cy="191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直接连接符 20" descr=""/>
            <p:cNvPicPr/>
            <p:nvPr/>
          </p:nvPicPr>
          <p:blipFill>
            <a:blip r:embed="rId3"/>
            <a:stretch/>
          </p:blipFill>
          <p:spPr>
            <a:xfrm>
              <a:off x="-3240" y="5124960"/>
              <a:ext cx="9147240" cy="74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B95D-A3DB-4080-8DCF-26003FD27AA1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直角三角形 13" descr=""/>
          <p:cNvPicPr/>
          <p:nvPr/>
        </p:nvPicPr>
        <p:blipFill>
          <a:blip r:embed="rId3"/>
          <a:stretch/>
        </p:blipFill>
        <p:spPr>
          <a:xfrm>
            <a:off x="-6480" y="5791320"/>
            <a:ext cx="3402000" cy="1081080"/>
          </a:xfrm>
          <a:prstGeom prst="rect">
            <a:avLst/>
          </a:prstGeom>
          <a:ln w="0">
            <a:noFill/>
          </a:ln>
        </p:spPr>
      </p:pic>
      <p:pic>
        <p:nvPicPr>
          <p:cNvPr id="136" name="直接连接符 14" descr=""/>
          <p:cNvPicPr/>
          <p:nvPr/>
        </p:nvPicPr>
        <p:blipFill>
          <a:blip r:embed="rId4"/>
          <a:stretch/>
        </p:blipFill>
        <p:spPr>
          <a:xfrm>
            <a:off x="-11160" y="5781600"/>
            <a:ext cx="3408480" cy="1095480"/>
          </a:xfrm>
          <a:prstGeom prst="rect">
            <a:avLst/>
          </a:prstGeom>
          <a:ln w="0">
            <a:noFill/>
          </a:ln>
        </p:spPr>
      </p:pic>
      <p:sp>
        <p:nvSpPr>
          <p:cNvPr id="137" name="燕尾形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round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燕尾形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round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AB8C-E95E-410B-81A9-09FC2335E18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直角三角形 13" descr=""/>
          <p:cNvPicPr/>
          <p:nvPr/>
        </p:nvPicPr>
        <p:blipFill>
          <a:blip r:embed="rId3"/>
          <a:stretch/>
        </p:blipFill>
        <p:spPr>
          <a:xfrm>
            <a:off x="-6480" y="5791320"/>
            <a:ext cx="3402000" cy="1081080"/>
          </a:xfrm>
          <a:prstGeom prst="rect">
            <a:avLst/>
          </a:prstGeom>
          <a:ln w="0">
            <a:noFill/>
          </a:ln>
        </p:spPr>
      </p:pic>
      <p:pic>
        <p:nvPicPr>
          <p:cNvPr id="183" name="直接连接符 14" descr=""/>
          <p:cNvPicPr/>
          <p:nvPr/>
        </p:nvPicPr>
        <p:blipFill>
          <a:blip r:embed="rId4"/>
          <a:stretch/>
        </p:blipFill>
        <p:spPr>
          <a:xfrm>
            <a:off x="-11160" y="5781600"/>
            <a:ext cx="3408480" cy="10954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068B-08E2-46CF-821A-BBE6E7A2FF9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CB75-281F-4419-99B8-40B3E02F41C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直角三角形 13" descr=""/>
          <p:cNvPicPr/>
          <p:nvPr/>
        </p:nvPicPr>
        <p:blipFill>
          <a:blip r:embed="rId3"/>
          <a:stretch/>
        </p:blipFill>
        <p:spPr>
          <a:xfrm>
            <a:off x="-6480" y="5791320"/>
            <a:ext cx="3402000" cy="1081080"/>
          </a:xfrm>
          <a:prstGeom prst="rect">
            <a:avLst/>
          </a:prstGeom>
          <a:ln w="0">
            <a:noFill/>
          </a:ln>
        </p:spPr>
      </p:pic>
      <p:pic>
        <p:nvPicPr>
          <p:cNvPr id="269" name="直接连接符 14" descr=""/>
          <p:cNvPicPr/>
          <p:nvPr/>
        </p:nvPicPr>
        <p:blipFill>
          <a:blip r:embed="rId4"/>
          <a:stretch/>
        </p:blipFill>
        <p:spPr>
          <a:xfrm>
            <a:off x="-11160" y="5781600"/>
            <a:ext cx="3408480" cy="10954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B4D9-B6AA-4C73-9CA1-B5AA5D2221E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291D-DEA0-458E-8CAE-76140F0D77A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任意多边形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任意多边形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直角三角形 16" descr=""/>
          <p:cNvPicPr/>
          <p:nvPr/>
        </p:nvPicPr>
        <p:blipFill>
          <a:blip r:embed="rId3"/>
          <a:stretch/>
        </p:blipFill>
        <p:spPr>
          <a:xfrm>
            <a:off x="-6480" y="5791320"/>
            <a:ext cx="3402000" cy="1081080"/>
          </a:xfrm>
          <a:prstGeom prst="rect">
            <a:avLst/>
          </a:prstGeom>
          <a:ln w="0">
            <a:noFill/>
          </a:ln>
        </p:spPr>
      </p:pic>
      <p:pic>
        <p:nvPicPr>
          <p:cNvPr id="355" name="直接连接符 18" descr=""/>
          <p:cNvPicPr/>
          <p:nvPr/>
        </p:nvPicPr>
        <p:blipFill>
          <a:blip r:embed="rId4"/>
          <a:stretch/>
        </p:blipFill>
        <p:spPr>
          <a:xfrm>
            <a:off x="-11160" y="5781600"/>
            <a:ext cx="3408480" cy="1095480"/>
          </a:xfrm>
          <a:prstGeom prst="rect">
            <a:avLst/>
          </a:prstGeom>
          <a:ln w="0">
            <a:noFill/>
          </a:ln>
        </p:spPr>
      </p:pic>
      <p:sp>
        <p:nvSpPr>
          <p:cNvPr id="356" name="燕尾形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round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燕尾形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round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6637-EEF3-4003-A7D0-26ED58B9E64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3"/>
          <p:cNvSpPr/>
          <p:nvPr/>
        </p:nvSpPr>
        <p:spPr>
          <a:xfrm>
            <a:off x="870120" y="973080"/>
            <a:ext cx="645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水结冰了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图片 6" descr=""/>
          <p:cNvPicPr/>
          <p:nvPr/>
        </p:nvPicPr>
        <p:blipFill>
          <a:blip r:embed="rId1"/>
          <a:stretch/>
        </p:blipFill>
        <p:spPr>
          <a:xfrm>
            <a:off x="4843440" y="2924280"/>
            <a:ext cx="3122640" cy="2284200"/>
          </a:xfrm>
          <a:prstGeom prst="rect">
            <a:avLst/>
          </a:prstGeom>
          <a:ln w="0">
            <a:noFill/>
          </a:ln>
        </p:spPr>
      </p:pic>
      <p:sp>
        <p:nvSpPr>
          <p:cNvPr id="446" name="TextBox 7"/>
          <p:cNvSpPr/>
          <p:nvPr/>
        </p:nvSpPr>
        <p:spPr>
          <a:xfrm>
            <a:off x="3359160" y="5176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教科版三年级科学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图片 8" descr=""/>
          <p:cNvPicPr/>
          <p:nvPr/>
        </p:nvPicPr>
        <p:blipFill>
          <a:blip r:embed="rId2"/>
          <a:stretch/>
        </p:blipFill>
        <p:spPr>
          <a:xfrm>
            <a:off x="781200" y="2637000"/>
            <a:ext cx="3697200" cy="2325600"/>
          </a:xfrm>
          <a:prstGeom prst="rect">
            <a:avLst/>
          </a:prstGeom>
          <a:ln w="0">
            <a:noFill/>
          </a:ln>
        </p:spPr>
      </p:pic>
      <p:sp>
        <p:nvSpPr>
          <p:cNvPr id="44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WordArt 2"/>
          <p:cNvSpPr txBox="1"/>
          <p:nvPr/>
        </p:nvSpPr>
        <p:spPr>
          <a:xfrm>
            <a:off x="611280" y="476280"/>
            <a:ext cx="259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猜一猜</a:t>
            </a:r>
            <a:endParaRPr b="1" lang="en-US" sz="1800" spc="1" strike="noStrike">
              <a:ln w="12600">
                <a:solidFill>
                  <a:srgbClr val="ffff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8" name="Rectangle 3"/>
          <p:cNvSpPr/>
          <p:nvPr/>
        </p:nvSpPr>
        <p:spPr>
          <a:xfrm>
            <a:off x="611280" y="205992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水在什么温度时结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WordArt 4"/>
          <p:cNvSpPr txBox="1"/>
          <p:nvPr/>
        </p:nvSpPr>
        <p:spPr>
          <a:xfrm rot="5400000">
            <a:off x="7559280" y="1557360"/>
            <a:ext cx="1368360" cy="180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7000"/>
                    </a:srgbClr>
                  </a:outerShdw>
                </a:effectLst>
                <a:latin typeface="宋体"/>
              </a:rPr>
              <a:t>？</a:t>
            </a:r>
            <a:endParaRPr b="0" i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90" name="图片 1" descr=""/>
          <p:cNvPicPr/>
          <p:nvPr/>
        </p:nvPicPr>
        <p:blipFill>
          <a:blip r:embed="rId1"/>
          <a:stretch/>
        </p:blipFill>
        <p:spPr>
          <a:xfrm>
            <a:off x="3728880" y="3429000"/>
            <a:ext cx="5438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3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24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5" dur="2000" fill="hold"/>
                                        <p:tgtEl>
                                          <p:spTgt spid="4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WordArt 2"/>
          <p:cNvSpPr txBox="1"/>
          <p:nvPr/>
        </p:nvSpPr>
        <p:spPr>
          <a:xfrm>
            <a:off x="611280" y="476280"/>
            <a:ext cx="4321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按照下面的方法做实验：</a:t>
            </a:r>
            <a:endParaRPr b="1" lang="en-US" sz="1800" spc="1" strike="noStrike">
              <a:ln w="12600">
                <a:solidFill>
                  <a:srgbClr val="ffff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2" name="Rectangle 3"/>
          <p:cNvSpPr/>
          <p:nvPr/>
        </p:nvSpPr>
        <p:spPr>
          <a:xfrm>
            <a:off x="250920" y="19836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杯内放入冰块，并测量冰的温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4" descr=""/>
          <p:cNvPicPr/>
          <p:nvPr/>
        </p:nvPicPr>
        <p:blipFill>
          <a:blip r:embed="rId1"/>
          <a:stretch/>
        </p:blipFill>
        <p:spPr>
          <a:xfrm>
            <a:off x="468360" y="3433680"/>
            <a:ext cx="1523880" cy="342432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5"/>
          <p:cNvSpPr/>
          <p:nvPr/>
        </p:nvSpPr>
        <p:spPr>
          <a:xfrm>
            <a:off x="2916360" y="215748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在杯内加入食盐，测量冰和盐混合后的温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6" descr=""/>
          <p:cNvPicPr/>
          <p:nvPr/>
        </p:nvPicPr>
        <p:blipFill>
          <a:blip r:embed="rId2"/>
          <a:stretch/>
        </p:blipFill>
        <p:spPr>
          <a:xfrm>
            <a:off x="3059280" y="3357720"/>
            <a:ext cx="1742760" cy="334296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7"/>
          <p:cNvSpPr/>
          <p:nvPr/>
        </p:nvSpPr>
        <p:spPr>
          <a:xfrm>
            <a:off x="5508720" y="235296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将盛有少量水的试管插入冰和盐混合物中，当试管里出现冰时测量试管里的温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8" descr=""/>
          <p:cNvPicPr/>
          <p:nvPr/>
        </p:nvPicPr>
        <p:blipFill>
          <a:blip r:embed="rId3"/>
          <a:stretch/>
        </p:blipFill>
        <p:spPr>
          <a:xfrm>
            <a:off x="6084720" y="3448080"/>
            <a:ext cx="17719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1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3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9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图片 1" descr=""/>
          <p:cNvPicPr/>
          <p:nvPr/>
        </p:nvPicPr>
        <p:blipFill>
          <a:blip r:embed="rId1"/>
          <a:stretch/>
        </p:blipFill>
        <p:spPr>
          <a:xfrm>
            <a:off x="9360" y="0"/>
            <a:ext cx="9125280" cy="685800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17"/>
          <p:cNvSpPr/>
          <p:nvPr/>
        </p:nvSpPr>
        <p:spPr>
          <a:xfrm>
            <a:off x="3971880" y="260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观察记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900000" y="1052640"/>
          <a:ext cx="7128000" cy="1068120"/>
        </p:xfrm>
        <a:graphic>
          <a:graphicData uri="http://schemas.openxmlformats.org/drawingml/2006/table">
            <a:tbl>
              <a:tblPr/>
              <a:tblGrid>
                <a:gridCol w="3672000"/>
                <a:gridCol w="3456000"/>
              </a:tblGrid>
              <a:tr h="549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水的温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水结冰后的温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WordArt 2"/>
          <p:cNvSpPr txBox="1"/>
          <p:nvPr/>
        </p:nvSpPr>
        <p:spPr>
          <a:xfrm rot="572400">
            <a:off x="323640" y="0"/>
            <a:ext cx="3097080" cy="15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1827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汇报交流：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1827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84360" y="3446640"/>
            <a:ext cx="7056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4"/>
          <p:cNvSpPr/>
          <p:nvPr/>
        </p:nvSpPr>
        <p:spPr>
          <a:xfrm>
            <a:off x="108000" y="3716280"/>
            <a:ext cx="92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、是什么使水的状态发生了变化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5"/>
          <p:cNvSpPr/>
          <p:nvPr/>
        </p:nvSpPr>
        <p:spPr>
          <a:xfrm>
            <a:off x="900000" y="148608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、水在什么温度时会结冰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539640" y="270720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答：水在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0℃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时会结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从液态变为了固态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7"/>
          <p:cNvSpPr/>
          <p:nvPr/>
        </p:nvSpPr>
        <p:spPr>
          <a:xfrm>
            <a:off x="684360" y="4724640"/>
            <a:ext cx="77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答：温度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变化使水的状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发生了变化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9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500"/>
                            </p:stCondLst>
                            <p:childTnLst>
                              <p:par>
                                <p:cTn id="290" dur="indefinite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Lucida Sans Unicode"/>
              </a:rPr>
              <a:t>判断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Lucida Sans Unicode"/>
              </a:rPr>
              <a:t>、只要到了冬天，所有地方都可以看到结冰的现象。  （    ）              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Lucida Sans Unicode"/>
              </a:rPr>
              <a:t>、水在结冰过程中，要向周围放出热量。                  （    ）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6286680" y="4581360"/>
            <a:ext cx="18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6715080" y="3143160"/>
            <a:ext cx="203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811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ff811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2"/>
          <p:cNvSpPr/>
          <p:nvPr/>
        </p:nvSpPr>
        <p:spPr>
          <a:xfrm>
            <a:off x="468360" y="765000"/>
            <a:ext cx="835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996633"/>
                </a:solidFill>
                <a:latin typeface="Arial"/>
              </a:rPr>
              <a:t>　　</a:t>
            </a:r>
            <a:r>
              <a:rPr b="1" lang="zh-CN" sz="7200" spc="-1" strike="noStrike">
                <a:solidFill>
                  <a:srgbClr val="996633"/>
                </a:solidFill>
                <a:latin typeface="Arial"/>
                <a:ea typeface="楷体_GB2312"/>
              </a:rPr>
              <a:t>你能解释冰箱里的水为什么会结冰了吗？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AutoShape 2"/>
          <p:cNvSpPr/>
          <p:nvPr/>
        </p:nvSpPr>
        <p:spPr>
          <a:xfrm>
            <a:off x="900000" y="2637000"/>
            <a:ext cx="1871640" cy="431640"/>
          </a:xfrm>
          <a:prstGeom prst="rightArrow">
            <a:avLst>
              <a:gd name="adj1" fmla="val 50000"/>
              <a:gd name="adj2" fmla="val 108343"/>
            </a:avLst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3"/>
          <p:cNvSpPr/>
          <p:nvPr/>
        </p:nvSpPr>
        <p:spPr>
          <a:xfrm>
            <a:off x="3780000" y="1916280"/>
            <a:ext cx="136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凝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4"/>
          <p:cNvGrpSpPr/>
          <p:nvPr/>
        </p:nvGrpSpPr>
        <p:grpSpPr>
          <a:xfrm>
            <a:off x="611280" y="1557360"/>
            <a:ext cx="3240000" cy="3633480"/>
            <a:chOff x="611280" y="1557360"/>
            <a:chExt cx="3240000" cy="3633480"/>
          </a:xfrm>
        </p:grpSpPr>
        <p:pic>
          <p:nvPicPr>
            <p:cNvPr id="515" name="Picture 5" descr="9"/>
            <p:cNvPicPr/>
            <p:nvPr/>
          </p:nvPicPr>
          <p:blipFill>
            <a:blip r:embed="rId1"/>
            <a:stretch/>
          </p:blipFill>
          <p:spPr>
            <a:xfrm>
              <a:off x="754200" y="1557360"/>
              <a:ext cx="2665440" cy="25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Text Box 6"/>
            <p:cNvSpPr/>
            <p:nvPr/>
          </p:nvSpPr>
          <p:spPr>
            <a:xfrm>
              <a:off x="611280" y="4365720"/>
              <a:ext cx="3240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水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（液体）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Group 7"/>
          <p:cNvGrpSpPr/>
          <p:nvPr/>
        </p:nvGrpSpPr>
        <p:grpSpPr>
          <a:xfrm>
            <a:off x="5651640" y="1484280"/>
            <a:ext cx="2795400" cy="3633480"/>
            <a:chOff x="5651640" y="1484280"/>
            <a:chExt cx="2795400" cy="3633480"/>
          </a:xfrm>
        </p:grpSpPr>
        <p:pic>
          <p:nvPicPr>
            <p:cNvPr id="518" name="Picture 8" descr="2"/>
            <p:cNvPicPr/>
            <p:nvPr/>
          </p:nvPicPr>
          <p:blipFill>
            <a:blip r:embed="rId2"/>
            <a:stretch/>
          </p:blipFill>
          <p:spPr>
            <a:xfrm>
              <a:off x="5651640" y="1484280"/>
              <a:ext cx="2795400" cy="25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Rectangle 9"/>
            <p:cNvSpPr/>
            <p:nvPr/>
          </p:nvSpPr>
          <p:spPr>
            <a:xfrm>
              <a:off x="5965920" y="4292640"/>
              <a:ext cx="1626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冰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（固 体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0" name="Picture 10" descr=""/>
          <p:cNvPicPr/>
          <p:nvPr/>
        </p:nvPicPr>
        <p:blipFill>
          <a:blip r:embed="rId3"/>
          <a:stretch/>
        </p:blipFill>
        <p:spPr>
          <a:xfrm>
            <a:off x="755640" y="1413000"/>
            <a:ext cx="266400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44 -1.32948E-006 L 0.29931 -1.32948E-006 E">
                                      <p:cBhvr>
                                        <p:cTn id="361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7835-7AC9-42F0-B413-65A87C0F107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12" descr="165541_1255831427reh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6" name="WordArt 15"/>
          <p:cNvSpPr txBox="1"/>
          <p:nvPr/>
        </p:nvSpPr>
        <p:spPr>
          <a:xfrm>
            <a:off x="1619280" y="2781360"/>
            <a:ext cx="5832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28440">
                  <a:solidFill>
                    <a:srgbClr val="ffffff"/>
                  </a:solidFill>
                  <a:round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def5fa">
                      <a:alpha val="50000"/>
                    </a:srgbClr>
                  </a:outerShdw>
                </a:effectLst>
                <a:latin typeface="华文新魏"/>
              </a:rPr>
              <a:t>再见！</a:t>
            </a:r>
            <a:endParaRPr b="1" lang="en-US" sz="5400" spc="1" strike="noStrike">
              <a:ln w="28440">
                <a:solidFill>
                  <a:srgbClr val="ffffff"/>
                </a:solidFill>
                <a:round/>
              </a:ln>
              <a:solidFill>
                <a:srgbClr val="000000"/>
              </a:solidFill>
              <a:effectLst>
                <a:outerShdw dist="107932" dir="2700000" blurRad="0" rotWithShape="0">
                  <a:srgbClr val="def5fa">
                    <a:alpha val="5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Rectangle 2" descr=""/>
          <p:cNvPicPr/>
          <p:nvPr/>
        </p:nvPicPr>
        <p:blipFill>
          <a:blip r:embed="rId1"/>
          <a:stretch/>
        </p:blipFill>
        <p:spPr>
          <a:xfrm>
            <a:off x="695160" y="201600"/>
            <a:ext cx="8448840" cy="1249200"/>
          </a:xfrm>
          <a:prstGeom prst="rect">
            <a:avLst/>
          </a:prstGeom>
          <a:ln w="0">
            <a:noFill/>
          </a:ln>
        </p:spPr>
      </p:pic>
      <p:sp>
        <p:nvSpPr>
          <p:cNvPr id="450" name="Text Box 10"/>
          <p:cNvSpPr/>
          <p:nvPr/>
        </p:nvSpPr>
        <p:spPr>
          <a:xfrm>
            <a:off x="155520" y="3733920"/>
            <a:ext cx="54612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冰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14" descr=""/>
          <p:cNvPicPr/>
          <p:nvPr/>
        </p:nvPicPr>
        <p:blipFill>
          <a:blip r:embed="rId2"/>
          <a:stretch/>
        </p:blipFill>
        <p:spPr>
          <a:xfrm>
            <a:off x="4191120" y="3068640"/>
            <a:ext cx="3579840" cy="350532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15"/>
          <p:cNvSpPr/>
          <p:nvPr/>
        </p:nvSpPr>
        <p:spPr>
          <a:xfrm>
            <a:off x="7395480" y="3886200"/>
            <a:ext cx="911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池塘结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17" descr="6a600c338744ebf8cc7b213bd9f9d72a6159252dd42a8790"/>
          <p:cNvPicPr/>
          <p:nvPr/>
        </p:nvPicPr>
        <p:blipFill>
          <a:blip r:embed="rId3"/>
          <a:stretch/>
        </p:blipFill>
        <p:spPr>
          <a:xfrm>
            <a:off x="609480" y="3068640"/>
            <a:ext cx="3581640" cy="3505320"/>
          </a:xfrm>
          <a:prstGeom prst="rect">
            <a:avLst/>
          </a:prstGeom>
          <a:ln w="0">
            <a:noFill/>
          </a:ln>
        </p:spPr>
      </p:pic>
      <p:sp>
        <p:nvSpPr>
          <p:cNvPr id="454" name="TextBox 1"/>
          <p:cNvSpPr/>
          <p:nvPr/>
        </p:nvSpPr>
        <p:spPr>
          <a:xfrm>
            <a:off x="571680" y="1222200"/>
            <a:ext cx="8248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寒冷的冬天刚过去不久，不知道你注意观察在寒冷的冬天 ，我们周围的水发生了什么变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Rectangle 2" descr=""/>
          <p:cNvPicPr/>
          <p:nvPr/>
        </p:nvPicPr>
        <p:blipFill>
          <a:blip r:embed="rId1"/>
          <a:stretch/>
        </p:blipFill>
        <p:spPr>
          <a:xfrm>
            <a:off x="914400" y="260280"/>
            <a:ext cx="8229600" cy="11430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3" descr=""/>
          <p:cNvPicPr/>
          <p:nvPr/>
        </p:nvPicPr>
        <p:blipFill>
          <a:blip r:embed="rId2"/>
          <a:stretch/>
        </p:blipFill>
        <p:spPr>
          <a:xfrm>
            <a:off x="755640" y="1989000"/>
            <a:ext cx="1380960" cy="32767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4" descr=""/>
          <p:cNvPicPr/>
          <p:nvPr/>
        </p:nvPicPr>
        <p:blipFill>
          <a:blip r:embed="rId3"/>
          <a:stretch/>
        </p:blipFill>
        <p:spPr>
          <a:xfrm>
            <a:off x="3635280" y="1557360"/>
            <a:ext cx="1441440" cy="423396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5" descr=""/>
          <p:cNvPicPr/>
          <p:nvPr/>
        </p:nvPicPr>
        <p:blipFill>
          <a:blip r:embed="rId4"/>
          <a:stretch/>
        </p:blipFill>
        <p:spPr>
          <a:xfrm>
            <a:off x="6372360" y="1989000"/>
            <a:ext cx="1830240" cy="3456000"/>
          </a:xfrm>
          <a:prstGeom prst="rect">
            <a:avLst/>
          </a:prstGeom>
          <a:ln w="0">
            <a:noFill/>
          </a:ln>
        </p:spPr>
      </p:pic>
      <p:sp>
        <p:nvSpPr>
          <p:cNvPr id="459" name="AutoShape 6"/>
          <p:cNvSpPr/>
          <p:nvPr/>
        </p:nvSpPr>
        <p:spPr>
          <a:xfrm>
            <a:off x="2268360" y="3573360"/>
            <a:ext cx="1079640" cy="216000"/>
          </a:xfrm>
          <a:prstGeom prst="rightArrow">
            <a:avLst>
              <a:gd name="adj1" fmla="val 50000"/>
              <a:gd name="adj2" fmla="val 124958"/>
            </a:avLst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7"/>
          <p:cNvSpPr/>
          <p:nvPr/>
        </p:nvSpPr>
        <p:spPr>
          <a:xfrm>
            <a:off x="5219640" y="3573360"/>
            <a:ext cx="1079640" cy="216000"/>
          </a:xfrm>
          <a:prstGeom prst="rightArrow">
            <a:avLst>
              <a:gd name="adj1" fmla="val 50000"/>
              <a:gd name="adj2" fmla="val 124958"/>
            </a:avLst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Rectangle 2" descr=""/>
          <p:cNvPicPr/>
          <p:nvPr/>
        </p:nvPicPr>
        <p:blipFill>
          <a:blip r:embed="rId1"/>
          <a:stretch/>
        </p:blipFill>
        <p:spPr>
          <a:xfrm>
            <a:off x="914400" y="189000"/>
            <a:ext cx="8229600" cy="11430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3" descr=""/>
          <p:cNvPicPr/>
          <p:nvPr/>
        </p:nvPicPr>
        <p:blipFill>
          <a:blip r:embed="rId2"/>
          <a:stretch/>
        </p:blipFill>
        <p:spPr>
          <a:xfrm>
            <a:off x="179280" y="1596960"/>
            <a:ext cx="4038840" cy="452592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4" descr=""/>
          <p:cNvPicPr/>
          <p:nvPr/>
        </p:nvPicPr>
        <p:blipFill>
          <a:blip r:embed="rId3"/>
          <a:stretch/>
        </p:blipFill>
        <p:spPr>
          <a:xfrm>
            <a:off x="5940360" y="1268280"/>
            <a:ext cx="250668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Rectangle 2" descr=""/>
          <p:cNvPicPr/>
          <p:nvPr/>
        </p:nvPicPr>
        <p:blipFill>
          <a:blip r:embed="rId1"/>
          <a:stretch/>
        </p:blipFill>
        <p:spPr>
          <a:xfrm>
            <a:off x="0" y="907920"/>
            <a:ext cx="5969160" cy="114300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0" y="2997360"/>
            <a:ext cx="4038480" cy="38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Lucida Sans Unicode"/>
              </a:rPr>
              <a:t>冰是什么颜色的？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Lucida Sans Unicode"/>
              </a:rPr>
              <a:t>隔着冰能不能看到其他的物体？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Lucida Sans Unicode"/>
              </a:rPr>
              <a:t>冰块有固定的形状么？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105520" y="3284280"/>
            <a:ext cx="403848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Lucida Sans Unicode"/>
              </a:rPr>
              <a:t>冰是无色的。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Lucida Sans Unicode"/>
              </a:rPr>
              <a:t>能看见，冰是透明的。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Lucida Sans Unicode"/>
              </a:rPr>
              <a:t>冰有固定的形状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7" name="Picture 5" descr="2458866_173237085_2"/>
          <p:cNvPicPr/>
          <p:nvPr/>
        </p:nvPicPr>
        <p:blipFill>
          <a:blip r:embed="rId2"/>
          <a:stretch/>
        </p:blipFill>
        <p:spPr>
          <a:xfrm rot="1202400">
            <a:off x="5108400" y="172800"/>
            <a:ext cx="3721320" cy="2571480"/>
          </a:xfrm>
          <a:prstGeom prst="rect">
            <a:avLst/>
          </a:prstGeom>
          <a:ln w="0">
            <a:noFill/>
          </a:ln>
        </p:spPr>
      </p:pic>
      <p:sp>
        <p:nvSpPr>
          <p:cNvPr id="468" name="文本框 8199"/>
          <p:cNvSpPr/>
          <p:nvPr/>
        </p:nvSpPr>
        <p:spPr>
          <a:xfrm>
            <a:off x="125280" y="23558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811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ff811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%B1%F9%BF%E9500x375--19443976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470" name="Rectangle 3" descr=""/>
          <p:cNvPicPr/>
          <p:nvPr/>
        </p:nvPicPr>
        <p:blipFill>
          <a:blip r:embed="rId2"/>
          <a:stretch/>
        </p:blipFill>
        <p:spPr>
          <a:xfrm>
            <a:off x="0" y="274680"/>
            <a:ext cx="8229600" cy="114300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0" y="1999800"/>
            <a:ext cx="8229600" cy="23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Lucida Sans Unicode"/>
              </a:rPr>
              <a:t>用手触摸冰块，有什么感觉？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Lucida Sans Unicode"/>
              </a:rPr>
              <a:t>比较硬，很光滑，冷，温度低。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8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8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OOOPIC_lzw_20090426e5be39a7140a4cc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Rectangle 3" descr=""/>
          <p:cNvPicPr/>
          <p:nvPr/>
        </p:nvPicPr>
        <p:blipFill>
          <a:blip r:embed="rId2"/>
          <a:stretch/>
        </p:blipFill>
        <p:spPr>
          <a:xfrm>
            <a:off x="0" y="274680"/>
            <a:ext cx="8229600" cy="1143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Lucida Sans Unicode"/>
              </a:rPr>
              <a:t>你还知道冰的其他特点么？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Lucida Sans Unicode"/>
              </a:rPr>
              <a:t>冰是固体，遇热会融化，冰会浮在水面上。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6" dur="5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1" dur="500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76" name="Picture 3" descr="EX120"/>
            <p:cNvPicPr/>
            <p:nvPr/>
          </p:nvPicPr>
          <p:blipFill>
            <a:blip r:embed="rId1"/>
            <a:stretch/>
          </p:blipFill>
          <p:spPr>
            <a:xfrm>
              <a:off x="7667640" y="0"/>
              <a:ext cx="1476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Picture 4" descr="5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4032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5" descr=""/>
            <p:cNvPicPr/>
            <p:nvPr/>
          </p:nvPicPr>
          <p:blipFill>
            <a:blip r:embed="rId3"/>
            <a:stretch/>
          </p:blipFill>
          <p:spPr>
            <a:xfrm>
              <a:off x="1403280" y="2033640"/>
              <a:ext cx="6264360" cy="482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Text Box 6"/>
            <p:cNvSpPr/>
            <p:nvPr/>
          </p:nvSpPr>
          <p:spPr>
            <a:xfrm>
              <a:off x="2340000" y="260280"/>
              <a:ext cx="1584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99"/>
                  </a:solidFill>
                  <a:latin typeface="Arial"/>
                </a:rPr>
                <a:t>冰的特点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7"/>
            <p:cNvSpPr/>
            <p:nvPr/>
          </p:nvSpPr>
          <p:spPr>
            <a:xfrm>
              <a:off x="5148360" y="260280"/>
              <a:ext cx="1584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99"/>
                  </a:solidFill>
                  <a:latin typeface="Arial"/>
                </a:rPr>
                <a:t>水的特点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Text Box 8"/>
          <p:cNvSpPr/>
          <p:nvPr/>
        </p:nvSpPr>
        <p:spPr>
          <a:xfrm>
            <a:off x="1908000" y="31417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比较硬、很光滑、温度低、易融化、冰块会浮在水上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9"/>
          <p:cNvSpPr/>
          <p:nvPr/>
        </p:nvSpPr>
        <p:spPr>
          <a:xfrm>
            <a:off x="5364000" y="3284280"/>
            <a:ext cx="20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会流动的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没有固定形状的液体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0"/>
          <p:cNvSpPr/>
          <p:nvPr/>
        </p:nvSpPr>
        <p:spPr>
          <a:xfrm>
            <a:off x="3851280" y="3789360"/>
            <a:ext cx="14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没有颜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没有气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透明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1"/>
          <p:cNvSpPr/>
          <p:nvPr/>
        </p:nvSpPr>
        <p:spPr>
          <a:xfrm>
            <a:off x="2340000" y="47973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冰是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971640" y="132588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33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996633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996633"/>
                </a:solidFill>
                <a:latin typeface="Arial"/>
              </a:rPr>
              <a:t>）冰是固体，因为冰具有固体的特点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900000" y="3486600"/>
            <a:ext cx="696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33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996633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996633"/>
                </a:solidFill>
                <a:latin typeface="Arial"/>
              </a:rPr>
              <a:t>）水结成冰以后，形态发生了改变，从液体变成固体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2:08:4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4:39Z</dcterms:modified>
  <cp:revision>3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