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3FC-0D7B-4D75-A142-05D44B5E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C04-618A-40BE-AF38-427CB736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82F-523C-4E21-97B0-0376204D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4FA-CA05-4731-9589-91DEE3C4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C15-7D31-46A9-B978-28BEEC3D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138-486E-423E-81F8-CBA9D66E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802-144C-463E-BA9D-A3C296F2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4D8-96C2-48A0-89F0-2AF5BEDE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1CC-663E-412A-8380-609C39F6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238-AD6B-471E-8A13-669190D8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616-971C-410F-946A-0AEE6594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8F1-37A0-448B-87B4-6E6012B3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22A78-27E7-4353-A910-1A094E4C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E56CD-3E6B-4A4B-B773-EE17B8F2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1A16F-BC89-4274-8D12-771ACB7F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D1BEB-BE5B-47FE-95A6-A1310A49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A77A3-AE9F-4C3A-87F8-DD314AA3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F0B6B-A807-4087-ABE3-F929F4FD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2E0C8-A12C-45EE-A929-90187855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34EA8-FE4C-42A3-9002-2DA8E462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386F0-0DA7-469C-91D4-A2C4EDC7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D4CB5-F472-445B-8521-E22B0093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81EA3-FA25-4132-80E6-B84BAECB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DDFB2-985B-466F-ABDD-52EDE616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863B6-318A-4692-8CA7-57E707CC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98EAA-E480-4C1D-8313-9E354E86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D8C9B-7A66-4E73-8D49-DE41D9E5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D77C3-E6F2-45AC-9E8B-92E9E1DB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9E306-8E99-47B9-B0F6-B29BE69A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22A3C-957A-4B1F-9033-CBC221DE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3216A-3F84-4490-903B-5747C74A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6F9E4-9E05-4689-9BF4-C6B5B4CE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D5B9B-4EAB-4276-BF5B-DF5BEBC6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695BE-942F-47F8-B4BE-5CE5029C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68CD5-A581-443F-B8F1-94FFCA83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3E5F3-5259-470D-968A-6F5B493A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B168-EFF4-4C33-B790-BC4432AC39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3E98-4CA4-41EA-B63B-124AB5F3ED4D}" type="slidenum">
              <a:rPr b="1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B72D-11E1-489C-8F9A-A22C345A6717}" type="slidenum">
              <a:rPr b="1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30040" y="1988640"/>
            <a:ext cx="7777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酸碱的化学性质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4645080" y="119700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------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实验活动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314280" y="907920"/>
            <a:ext cx="2722320" cy="642600"/>
            <a:chOff x="314280" y="907920"/>
            <a:chExt cx="2722320" cy="642600"/>
          </a:xfrm>
        </p:grpSpPr>
        <p:sp>
          <p:nvSpPr>
            <p:cNvPr id="210" name="AutoShape 3"/>
            <p:cNvSpPr/>
            <p:nvPr/>
          </p:nvSpPr>
          <p:spPr>
            <a:xfrm>
              <a:off x="314280" y="907920"/>
              <a:ext cx="2722320" cy="551160"/>
            </a:xfrm>
            <a:prstGeom prst="flowChartOnlineStorage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fd94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97a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"/>
            <p:cNvSpPr/>
            <p:nvPr/>
          </p:nvSpPr>
          <p:spPr>
            <a:xfrm>
              <a:off x="741960" y="907920"/>
              <a:ext cx="1621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3302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思考：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5"/>
          <p:cNvSpPr/>
          <p:nvPr/>
        </p:nvSpPr>
        <p:spPr>
          <a:xfrm>
            <a:off x="1413000" y="1755720"/>
            <a:ext cx="63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实验五：可以验证氢氧化钙的那些性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46069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练习与实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000" y="2276280"/>
            <a:ext cx="734364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某硫酸厂排出的废水中含有硫酸等杂质，严重危害当地的生态环境，你会怎么处理这些废水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226960" y="46213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能写出化学方程式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8199"/>
          <p:cNvSpPr/>
          <p:nvPr/>
        </p:nvSpPr>
        <p:spPr>
          <a:xfrm>
            <a:off x="2303640" y="587844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85760" y="1243080"/>
            <a:ext cx="885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亮在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盐酸中和氢氧化钠溶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实验时，滴加盐酸前忘了加入指示剂，导致无法判断该中和反应进行的程度。于是他对所得溶液的酸碱性进行探究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〖探究目的〗探究所得溶液的酸碱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〖提出猜想〗所得溶液可能呈碱性、也可能呈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，还可能呈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〖实验验证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68360" y="3860640"/>
          <a:ext cx="8351640" cy="2581200"/>
        </p:xfrm>
        <a:graphic>
          <a:graphicData uri="http://schemas.openxmlformats.org/drawingml/2006/table">
            <a:tbl>
              <a:tblPr/>
              <a:tblGrid>
                <a:gridCol w="2601720"/>
                <a:gridCol w="3228840"/>
                <a:gridCol w="252108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操作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结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用试管取该溶液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~2mL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滴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~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滴无色酚酞溶液，振荡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无色酚酞溶液变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2000" spc="-1" strike="noStrike" u="sng">
                          <a:solidFill>
                            <a:srgbClr val="ffffff"/>
                          </a:solidFill>
                          <a:uFillTx/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微软雅黑"/>
                          <a:ea typeface="微软雅黑"/>
                        </a:rPr>
                        <a:t>                            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溶液呈碱性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无色酚酞不变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溶液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______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9" name="Group 33"/>
          <p:cNvGrpSpPr/>
          <p:nvPr/>
        </p:nvGrpSpPr>
        <p:grpSpPr>
          <a:xfrm>
            <a:off x="4145040" y="-85320"/>
            <a:ext cx="4927680" cy="1177920"/>
            <a:chOff x="4145040" y="-85320"/>
            <a:chExt cx="4927680" cy="1177920"/>
          </a:xfrm>
        </p:grpSpPr>
        <p:grpSp>
          <p:nvGrpSpPr>
            <p:cNvPr id="220" name="Group 34"/>
            <p:cNvGrpSpPr/>
            <p:nvPr/>
          </p:nvGrpSpPr>
          <p:grpSpPr>
            <a:xfrm>
              <a:off x="5365080" y="-84960"/>
              <a:ext cx="1153080" cy="1169280"/>
              <a:chOff x="5365080" y="-84960"/>
              <a:chExt cx="1153080" cy="1169280"/>
            </a:xfrm>
          </p:grpSpPr>
          <p:grpSp>
            <p:nvGrpSpPr>
              <p:cNvPr id="221" name="Group 35"/>
              <p:cNvGrpSpPr/>
              <p:nvPr/>
            </p:nvGrpSpPr>
            <p:grpSpPr>
              <a:xfrm>
                <a:off x="5365080" y="-84960"/>
                <a:ext cx="1153080" cy="1169280"/>
                <a:chOff x="5365080" y="-84960"/>
                <a:chExt cx="1153080" cy="1169280"/>
              </a:xfrm>
            </p:grpSpPr>
            <p:pic>
              <p:nvPicPr>
                <p:cNvPr id="222" name="椭圆 4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65080" y="-23760"/>
                  <a:ext cx="1153080" cy="1108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椭圆 48"/>
                <p:cNvSpPr/>
                <p:nvPr/>
              </p:nvSpPr>
              <p:spPr>
                <a:xfrm rot="2140200">
                  <a:off x="5596560" y="86400"/>
                  <a:ext cx="708480" cy="37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167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椭圆 46"/>
              <p:cNvSpPr/>
              <p:nvPr/>
            </p:nvSpPr>
            <p:spPr>
              <a:xfrm>
                <a:off x="5511600" y="118440"/>
                <a:ext cx="865080" cy="831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Arial"/>
                  </a:rPr>
                  <a:t>以 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39"/>
            <p:cNvGrpSpPr/>
            <p:nvPr/>
          </p:nvGrpSpPr>
          <p:grpSpPr>
            <a:xfrm>
              <a:off x="4145040" y="-78840"/>
              <a:ext cx="1153080" cy="1171440"/>
              <a:chOff x="4145040" y="-78840"/>
              <a:chExt cx="1153080" cy="1171440"/>
            </a:xfrm>
          </p:grpSpPr>
          <p:pic>
            <p:nvPicPr>
              <p:cNvPr id="226" name="椭圆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4145040" y="-15480"/>
                <a:ext cx="115308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椭圆 43"/>
              <p:cNvSpPr/>
              <p:nvPr/>
            </p:nvSpPr>
            <p:spPr>
              <a:xfrm rot="2140200">
                <a:off x="4386600" y="92880"/>
                <a:ext cx="710640" cy="3754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 44"/>
              <p:cNvSpPr/>
              <p:nvPr/>
            </p:nvSpPr>
            <p:spPr>
              <a:xfrm>
                <a:off x="4401720" y="135720"/>
                <a:ext cx="645480" cy="372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0000"/>
                    </a:solidFill>
                    <a:latin typeface="Arial"/>
                  </a:rPr>
                  <a:t>学</a:t>
                </a: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3"/>
            <p:cNvGrpSpPr/>
            <p:nvPr/>
          </p:nvGrpSpPr>
          <p:grpSpPr>
            <a:xfrm>
              <a:off x="7919640" y="-85320"/>
              <a:ext cx="1153080" cy="1169640"/>
              <a:chOff x="7919640" y="-85320"/>
              <a:chExt cx="1153080" cy="1169640"/>
            </a:xfrm>
          </p:grpSpPr>
          <p:pic>
            <p:nvPicPr>
              <p:cNvPr id="230" name="椭圆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7919640" y="-23760"/>
                <a:ext cx="115308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椭圆 40"/>
              <p:cNvSpPr/>
              <p:nvPr/>
            </p:nvSpPr>
            <p:spPr>
              <a:xfrm rot="2140200">
                <a:off x="8173440" y="86400"/>
                <a:ext cx="709560" cy="3747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Arial"/>
                  </a:rPr>
                  <a:t>用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41"/>
              <p:cNvSpPr/>
              <p:nvPr/>
            </p:nvSpPr>
            <p:spPr>
              <a:xfrm>
                <a:off x="8174520" y="128880"/>
                <a:ext cx="64548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47"/>
            <p:cNvGrpSpPr/>
            <p:nvPr/>
          </p:nvGrpSpPr>
          <p:grpSpPr>
            <a:xfrm>
              <a:off x="6650280" y="-81720"/>
              <a:ext cx="1153080" cy="1170360"/>
              <a:chOff x="6650280" y="-81720"/>
              <a:chExt cx="1153080" cy="1170360"/>
            </a:xfrm>
          </p:grpSpPr>
          <p:pic>
            <p:nvPicPr>
              <p:cNvPr id="234" name="椭圆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6650280" y="-19440"/>
                <a:ext cx="115308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椭圆 37"/>
              <p:cNvSpPr/>
              <p:nvPr/>
            </p:nvSpPr>
            <p:spPr>
              <a:xfrm rot="2140200">
                <a:off x="6901560" y="90360"/>
                <a:ext cx="710640" cy="3740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椭圆 38"/>
              <p:cNvSpPr/>
              <p:nvPr/>
            </p:nvSpPr>
            <p:spPr>
              <a:xfrm>
                <a:off x="6903720" y="132480"/>
                <a:ext cx="645480" cy="37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Arial"/>
                  </a:rPr>
                  <a:t>致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TextBox 32"/>
            <p:cNvSpPr/>
            <p:nvPr/>
          </p:nvSpPr>
          <p:spPr>
            <a:xfrm>
              <a:off x="4215960" y="411120"/>
              <a:ext cx="10227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3"/>
            <p:cNvSpPr/>
            <p:nvPr/>
          </p:nvSpPr>
          <p:spPr>
            <a:xfrm>
              <a:off x="5430600" y="145080"/>
              <a:ext cx="1023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以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4"/>
            <p:cNvSpPr/>
            <p:nvPr/>
          </p:nvSpPr>
          <p:spPr>
            <a:xfrm>
              <a:off x="6720480" y="145080"/>
              <a:ext cx="1023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致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35"/>
            <p:cNvSpPr/>
            <p:nvPr/>
          </p:nvSpPr>
          <p:spPr>
            <a:xfrm>
              <a:off x="7990560" y="407520"/>
              <a:ext cx="10238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55"/>
          <p:cNvSpPr/>
          <p:nvPr/>
        </p:nvSpPr>
        <p:spPr>
          <a:xfrm>
            <a:off x="8124840" y="127080"/>
            <a:ext cx="8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50920" y="1052640"/>
            <a:ext cx="846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〖 分析与思考〗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无色酚酞溶液不变色，为了进一步确定溶液的酸碱性，小芳提出了以下方案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案一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案二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96C4-B989-4A55-B3B6-B82D844B2A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tb"/>
          <p:cNvPicPr/>
          <p:nvPr/>
        </p:nvPicPr>
        <p:blipFill>
          <a:blip r:embed="rId1"/>
          <a:stretch/>
        </p:blipFill>
        <p:spPr>
          <a:xfrm>
            <a:off x="1440" y="-298440"/>
            <a:ext cx="9142560" cy="1368360"/>
          </a:xfrm>
          <a:prstGeom prst="rect">
            <a:avLst/>
          </a:prstGeom>
          <a:ln w="0">
            <a:noFill/>
          </a:ln>
        </p:spPr>
      </p:pic>
      <p:sp>
        <p:nvSpPr>
          <p:cNvPr id="248" name="Oval 4"/>
          <p:cNvSpPr/>
          <p:nvPr/>
        </p:nvSpPr>
        <p:spPr>
          <a:xfrm>
            <a:off x="1440" y="246240"/>
            <a:ext cx="5872320" cy="93492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2489040" y="1216080"/>
            <a:ext cx="383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568440" y="1916280"/>
            <a:ext cx="7199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、 </a:t>
            </a:r>
            <a:r>
              <a:rPr b="1" lang="zh-CN" sz="3200" spc="-1" strike="noStrike">
                <a:solidFill>
                  <a:srgbClr val="00cc00"/>
                </a:solidFill>
                <a:latin typeface="Calibri"/>
              </a:rPr>
              <a:t>酸的化学性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595440" y="3782880"/>
            <a:ext cx="768492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碱的化学性质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403280" y="246240"/>
            <a:ext cx="303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课堂感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23640" y="5851440"/>
            <a:ext cx="604692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一瓶是酸、一瓶是碱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409760" y="1600200"/>
            <a:ext cx="337824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4978440" y="1600200"/>
            <a:ext cx="337824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5"/>
          <p:cNvGrpSpPr/>
          <p:nvPr/>
        </p:nvGrpSpPr>
        <p:grpSpPr>
          <a:xfrm>
            <a:off x="0" y="93600"/>
            <a:ext cx="4787280" cy="1105920"/>
            <a:chOff x="0" y="93600"/>
            <a:chExt cx="4787280" cy="1105920"/>
          </a:xfrm>
        </p:grpSpPr>
        <p:grpSp>
          <p:nvGrpSpPr>
            <p:cNvPr id="168" name="Group 6"/>
            <p:cNvGrpSpPr/>
            <p:nvPr/>
          </p:nvGrpSpPr>
          <p:grpSpPr>
            <a:xfrm>
              <a:off x="0" y="118080"/>
              <a:ext cx="4787280" cy="1081440"/>
              <a:chOff x="0" y="118080"/>
              <a:chExt cx="4787280" cy="1081440"/>
            </a:xfrm>
          </p:grpSpPr>
          <p:sp>
            <p:nvSpPr>
              <p:cNvPr id="169" name="AutoShape 14"/>
              <p:cNvSpPr/>
              <p:nvPr/>
            </p:nvSpPr>
            <p:spPr>
              <a:xfrm>
                <a:off x="0" y="118080"/>
                <a:ext cx="4787280" cy="1081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6411"/>
                  </a:gs>
                  <a:gs pos="50000">
                    <a:srgbClr val="0000ff"/>
                  </a:gs>
                  <a:gs pos="100000">
                    <a:srgbClr val="51641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8"/>
              <p:cNvSpPr/>
              <p:nvPr/>
            </p:nvSpPr>
            <p:spPr>
              <a:xfrm>
                <a:off x="345240" y="209160"/>
                <a:ext cx="397080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WordArt 9"/>
            <p:cNvSpPr txBox="1"/>
            <p:nvPr/>
          </p:nvSpPr>
          <p:spPr>
            <a:xfrm>
              <a:off x="487440" y="93600"/>
              <a:ext cx="3812400" cy="102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提出问题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72" name="Text Box 10"/>
          <p:cNvSpPr/>
          <p:nvPr/>
        </p:nvSpPr>
        <p:spPr>
          <a:xfrm>
            <a:off x="10440" y="2066760"/>
            <a:ext cx="1399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瓶无色溶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844720" y="655560"/>
            <a:ext cx="533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酸碱和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指示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反应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3"/>
          <p:cNvSpPr txBox="1"/>
          <p:nvPr/>
        </p:nvSpPr>
        <p:spPr>
          <a:xfrm>
            <a:off x="293760" y="668160"/>
            <a:ext cx="20574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合作探究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84200" y="1341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31800" y="1989000"/>
            <a:ext cx="684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取点滴板，向其中四个穴分别滴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滴上边四种溶液，然后分别滴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滴紫色石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取点滴板，向其中四个穴分别滴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滴上边四种溶液，然后分别滴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滴无色酚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886320" y="422100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实验现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39840" y="535320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验结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901960" y="5157720"/>
            <a:ext cx="56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酸性溶液使紫色石蕊溶液变红色，不能使无色酚酞溶液变色，碱溶液能使紫色石蕊变蓝，使无色酚酞变红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743200" y="422280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5640" y="7840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实验步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取两只生锈的铁钉分别放入两只试管中、然后加入约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2m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稀盐酸，观察现象。当观察到铁钉表面的锈去掉，铁钉变得光亮时，将其中一支试管中的铁钉取出，洗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继续观察另一支试管中的现象，过一段时间将铁钉取出，洗净。比较两只铁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WordArt 3"/>
          <p:cNvSpPr txBox="1"/>
          <p:nvPr/>
        </p:nvSpPr>
        <p:spPr>
          <a:xfrm>
            <a:off x="146160" y="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合作探究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48680" y="2916720"/>
            <a:ext cx="60696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铁锈、铁钉和稀盐酸的反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12760" y="47480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实验现象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676520" y="5791320"/>
            <a:ext cx="16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验结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3637080" y="526716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稀盐酸能和铁以及铁锈发生化学反应。用稀盐酸除去金属表面的锈时，要注意控制酸的用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854000" y="18900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一、二、三、四组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硫酸铜和氢氧化钠反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116000" y="134136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五、六组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氢氧化钠和盐酸的反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899360" y="387504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七、八组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氢氧化钙和稀盐酸的反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936160" y="1160640"/>
            <a:ext cx="42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在试管中加入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硫酸铜溶液，然后滴入几滴氢氧化钠溶液，观察现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向上述溶液试管中加入稀盐酸，观察现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116000" y="2685960"/>
            <a:ext cx="77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在试管中加入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氢氧化钠溶液，然后滴几滴酚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向上述试管中边用滴管慢慢滴入稀盐酸，不断振荡试管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直至溶液颜色变为无色为止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取上述无色溶液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置于蒸发皿中加热，使液体蒸干，观察现象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174480" y="5013360"/>
            <a:ext cx="34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向两支试管中和各加入相同量的氢氧化钙粉末，然后加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水，振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向上述两支试管各滴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滴酚酞，观察现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继续向其中一只试管中加入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水，振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向另一支试管加入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ml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稀盐酸，振荡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8199"/>
          <p:cNvSpPr/>
          <p:nvPr/>
        </p:nvSpPr>
        <p:spPr>
          <a:xfrm>
            <a:off x="3355920" y="1878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971640" y="495360"/>
          <a:ext cx="7843680" cy="5670360"/>
        </p:xfrm>
        <a:graphic>
          <a:graphicData uri="http://schemas.openxmlformats.org/drawingml/2006/table">
            <a:tbl>
              <a:tblPr/>
              <a:tblGrid>
                <a:gridCol w="1560600"/>
                <a:gridCol w="6283080"/>
              </a:tblGrid>
              <a:tr h="72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用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氢氧化钠溶液、硫酸铜溶液、稀盐酸、试管、胶头滴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步骤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f497d"/>
                          </a:solidFill>
                          <a:latin typeface="微软雅黑"/>
                          <a:ea typeface="微软雅黑"/>
                        </a:rPr>
                        <a:t>、在试管中加入约</a:t>
                      </a:r>
                      <a:r>
                        <a:rPr b="1" lang="en-US" sz="20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2m</a:t>
                      </a:r>
                      <a:r>
                        <a:rPr b="1" lang="zh-CN" sz="20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L</a:t>
                      </a:r>
                      <a:r>
                        <a:rPr b="1" lang="zh-CN" sz="2000" spc="-1" strike="noStrike">
                          <a:solidFill>
                            <a:srgbClr val="1f497d"/>
                          </a:solidFill>
                          <a:latin typeface="微软雅黑"/>
                          <a:ea typeface="微软雅黑"/>
                        </a:rPr>
                        <a:t>硫酸铜溶液，然后滴入几滴氢氧化钠溶液，观察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f497d"/>
                          </a:solidFill>
                          <a:latin typeface="微软雅黑"/>
                          <a:ea typeface="微软雅黑"/>
                        </a:rPr>
                        <a:t>、向上述溶液试管中加入稀盐酸，观察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结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 Box 40"/>
          <p:cNvSpPr/>
          <p:nvPr/>
        </p:nvSpPr>
        <p:spPr>
          <a:xfrm>
            <a:off x="-258480" y="663480"/>
            <a:ext cx="115524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硫酸铜和氢氧化钠反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1"/>
          <p:cNvSpPr/>
          <p:nvPr/>
        </p:nvSpPr>
        <p:spPr>
          <a:xfrm>
            <a:off x="2556000" y="4976640"/>
            <a:ext cx="648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氢氧化钠和硫酸铜反应产生不溶于水的蓝色沉淀，氢氧化铜不溶于水，但可以溶于盐酸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2273400" y="378792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步骤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Tahoma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中出现蓝色沉淀，溶液由蓝色变为无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步骤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中蓝色沉淀消失，溶液由无色变为蓝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2917800" y="1413000"/>
            <a:ext cx="5470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2NaOH+CuSO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==Na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SO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+Cu(OH)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Cu(OH)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+2HCl==CuCl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+2H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upload__7c4b2ff9_11ff8f0e0e1__7ffc_00000795"/>
          <p:cNvPicPr/>
          <p:nvPr/>
        </p:nvPicPr>
        <p:blipFill>
          <a:blip r:embed="rId1"/>
          <a:stretch/>
        </p:blipFill>
        <p:spPr>
          <a:xfrm>
            <a:off x="1332000" y="1125360"/>
            <a:ext cx="6264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3280" y="404280"/>
            <a:ext cx="868680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交流共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7788240" cy="9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你认为溶液蒸发后留在玻璃片上的可能是什么物质？并与同学交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9752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17520" y="225360"/>
          <a:ext cx="7450200" cy="6267600"/>
        </p:xfrm>
        <a:graphic>
          <a:graphicData uri="http://schemas.openxmlformats.org/drawingml/2006/table">
            <a:tbl>
              <a:tblPr/>
              <a:tblGrid>
                <a:gridCol w="1276200"/>
                <a:gridCol w="6174000"/>
              </a:tblGrid>
              <a:tr h="932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用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氢氧化钙粉末、蒸馏水、酚酞溶液、稀盐酸、试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支、药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步骤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、向两支试管中和各加入相同量的氢氧化钙粉末，然后加入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m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L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水，振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、向上述两支试管各滴入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~2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滴酚酞，观察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、继续向其中一只试管中加入约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m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L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水，振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、向另一支试管加入约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m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L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稀盐酸，振荡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结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Text Box 40"/>
          <p:cNvSpPr/>
          <p:nvPr/>
        </p:nvSpPr>
        <p:spPr>
          <a:xfrm>
            <a:off x="62280" y="765000"/>
            <a:ext cx="115524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氢氧化钙和稀盐酸的反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3906720" y="6342120"/>
            <a:ext cx="154080" cy="36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3000600" y="1514520"/>
            <a:ext cx="408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+ 2HCl == Ca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+ 2H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2484360" y="4221000"/>
            <a:ext cx="5354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步骤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中试管中出现白色浑浊液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步骤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中白色浑浊液体变为红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步骤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中试管中仍然是红色浑浊液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步骤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中红色浑浊液体变为无色澄清的溶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3710880" y="5732640"/>
            <a:ext cx="36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氢氧化钙能和稀盐酸发生中和反应，不需要加指示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也可以判断反应是否发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02:05:27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9:02:23Z</dcterms:modified>
  <cp:revision>8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