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6.png" ContentType="image/png"/>
  <Override PartName="/ppt/media/image2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gif" ContentType="image/gif"/>
  <Override PartName="/ppt/media/image18.jpeg" ContentType="image/jpeg"/>
  <Override PartName="/ppt/media/image16.jpeg" ContentType="image/jpeg"/>
  <Override PartName="/ppt/media/chimes.wav" ContentType="audio/x-wav"/>
  <Override PartName="/ppt/media/image22.jpeg" ContentType="image/jpeg"/>
  <Override PartName="/ppt/media/image1.jpeg" ContentType="image/jpeg"/>
  <Override PartName="/ppt/media/image23.jpeg" ContentType="image/jpeg"/>
  <Override PartName="/ppt/media/image2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8F8-2AAA-4B9B-9FCB-63FC9E99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079-A3CC-4032-8680-5A99D142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A78F92-0D7F-41B3-A748-9DBCD9B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0E064A-DD5F-4247-AB66-1C634CF6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496A79-22A3-4401-8B32-22D16E9A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56270C-EE73-40CB-B741-3D1B6E7B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3BAA43-2D78-445C-98B6-E42424D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59D61A-2FCC-4547-85D8-60EDBD1D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79AB6B-983D-4F38-BCB6-6D5B3F25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A30479-2980-41E2-AC30-2A1FC880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7EB891-A8D6-4866-918F-7B0D0945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44C8B-3CE7-4D8D-ADEC-D93FD7A2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611-7200-4580-A7C7-CCC5E63B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48350-5775-4222-A726-EAF822D4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5A706-18C7-48BB-A7A8-0C32EF37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571DD-2D85-4543-A8DE-A6717E04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CE2EB-D6ED-455D-A01D-39712370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882C5-C978-4316-9D87-07A2C176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DF78C-66AD-426D-A637-E3290A18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ED52E-2D1E-42B3-9176-F00FB0F0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8F837-5C55-443F-A7EA-2796FF52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92996-14A4-4150-A62A-95E90C6A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0990C-95B7-4045-A1EC-4B87E1F9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238-0289-467F-BF84-D1305C5C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21604-4934-4CFE-B919-F271CFA1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C195D-C12D-4971-84CE-497BA231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EFB0C-4058-493E-8C8D-29CEE698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7DEAE-FC7E-4BDA-84BF-6C4D87CD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1168C-6ADC-4FA3-BA44-F3D678D8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74F8B-9334-45E8-A01C-1E681249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F3BF8-512D-4317-9941-0034390D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B84D1-FD27-4432-95EB-C9534E92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7A9B0-A043-4959-849E-DC2BCF0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47CCD-42E3-4B01-AD9B-6AE8C057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BE31-C994-4D78-A096-C6CDE0BB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FAC5B-2B87-48FC-9044-982D8031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43548-0EF2-4221-85F1-0C43568A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809F4-33F7-405B-8FF4-5C56C677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EE9BA-A471-4854-8A84-ECBBCB71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D9E97-8246-4BFB-BE46-BE5E0B91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9B90F-C9D3-4986-BFD5-ECFFD3C8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CDCAD-930D-469A-8B48-1FF33733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BE24E-7F20-47F3-A77D-B3D9011F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3C265-EC63-46E9-B978-7EFBA9CF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3A05A-A61C-488C-8FAB-466046AB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9BDD-79B9-4CD8-ADCD-614D788B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66C7E-18C8-48E9-84B1-8EBE878F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0D982-92D9-4A09-9944-628263E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37383-81EA-4A42-8402-71F0D034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B553E-049E-4BED-B265-DC628A90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08DEA-68A5-41C9-921A-70850CD5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64DDA-9C6F-4EDC-9937-0D7A36C9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941AE-7F53-4F39-B2CC-9C7B15D4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5B3A3-999E-4042-ADC6-1F38786D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F9D01-4B85-4E3D-8A73-A8D0503A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4C6E5-B5F5-4302-8DC8-2AEDBA2E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2CCC-F373-4299-AC63-D8BAA284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DE29B-3487-46A2-A5B6-6172775D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77B0C-5383-4E24-84CD-2FB8992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7B957-6B70-43C7-A620-E5538069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10FA4-4BD6-4E46-88DC-01E953D8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CF644-C588-4AB6-80E4-5791A9CE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10BF6-E75D-4035-BCF0-9772E7F0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F0B7A-A133-436C-BCC4-60563AC9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82E9A-86F5-4F7E-B93A-9EA235BF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57A16-775C-4C7E-87C9-848F515B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C94AC-4E70-462C-B2D5-6368C0A6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E290-0B7D-4E4B-89AF-4840F4AF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55F73-0CCD-4344-B694-DA44A06D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1D4EC-6F4A-4348-A7E6-23F28C02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4084A-938C-4E8E-9B34-1B2A4943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4504E-6F9D-44BF-A512-926D70D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792D3-6B23-48B3-BDFE-6CA0AA50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66B2D-C6C1-4561-BF90-04D64AD3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3D57CE-FEDF-4AC2-A27F-7B75255F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115FD-C862-416A-987B-397F4D18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3F181-69B9-452A-B1DF-A3BEF359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8EBE-D3BB-448C-B46F-BFCF8F57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B49A-301C-4454-8D55-7DC36D9E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96F2-80D7-4629-8929-EB44A2A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B6A-DD87-44CB-9DF0-D055B16F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89B6-D90C-4C47-B9B4-FDE8B3C4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0587-0FFB-4052-8A1D-E29D383E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149E-34B2-41A7-A00B-36A3097F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B52E-30F7-4B35-ADD6-C1B6C16C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9DAF-30B4-4D1C-BAB2-474AD747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E4FD-837E-463B-AB39-C42EB761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58EC-F7D5-40B9-9382-E6FB7EB1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07DC-E9F4-4B8C-B028-1E5CAC4D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FED2-0F59-4A38-9D17-24DAB03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1DDA-A9A3-44CF-8C09-F0700098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CA2-D082-4137-9961-E57E8FEF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3714-AF22-40C7-B22D-1366345B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B986-1A5D-4539-9527-6890FE1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080A-076F-4E11-B668-947ECDCA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11F5-C312-4E3A-9326-B90D99F7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B8553-9187-4F95-A28C-90D0937C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5644E-5427-4E47-87D9-24E5D711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79DD-2FB2-4B5B-85CA-455DC9BD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8E9F3-01B6-4948-BCE8-FB4EB4FC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C814F-B12F-4FD4-B8F1-A7234D71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A80D6-EBDE-4383-ADB8-E30EEB4E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D62-06A0-4329-B0D8-D54A5BF5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F0655-06DB-4172-B1B6-A1880AE7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0B243-8B35-4D4A-9ABC-E73AA673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E8BDE-7424-47AA-84FE-45545E87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1909B-13EC-4478-9F60-0DB9DB3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F0E17-9678-4CE4-853A-9F81DD71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7700-1BC3-41A5-A1C5-E1E9F79D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84C1B-4356-4F14-8513-4A97B250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B274-3A9F-47E2-8BCD-817A88D9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017F-08B8-4B01-8C27-370E7BA8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A9EAA-B3F9-4632-9E1A-9B7F4415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CAD-ADAC-416D-B719-910AB63A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B81E1-3860-4192-A5C5-1A89FD46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564A4-88C2-4A53-AE1A-73AC2742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2D74A-ECA5-44A5-BD05-657A7EC9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FC4BA-C7AA-4AB6-BB81-53FA6EE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FAE15-6E8F-467E-ADC7-40119F18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7378F-B34D-4403-BB13-BC7DF79A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FED1-3401-4405-ABE3-F5979B8B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3097A-6E62-451A-859E-8DFF9306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AC34-5124-4EC6-822F-E0F483C6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D3124-8A4A-4E0A-BA46-80444DF2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95A-45C3-487E-80FD-48D18987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498DC-3DA0-4448-B8A4-5BFE1D64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7205D-34E1-4108-BB87-1473E91E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35D9E-A0A0-47D7-8072-E3CCE299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9DCFC-8F04-4175-AB43-E7CCA363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BABDB-8AF3-42E9-B54B-F26D7323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79DF8-1B86-483A-90A5-2F0445B6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E83AE-A69F-4EE6-8C2C-CB64FB2C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A0530-9C02-44A4-9D23-675EE656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EAD88-BC20-496F-BAFF-A38C819F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69AF4-5646-4699-B133-8F09CA47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40E-30E5-48AE-BA4F-131E2753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D38D9-77EB-46CA-AA04-3A88AD35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6717F-6B20-49E2-9439-ADD8117C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E6114-C42F-4CE5-B176-5A224602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E6D53-F150-43DC-8B08-E21FD4F8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4803C-10F0-4E06-8119-76FD207E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B4F17-F5DD-4568-A206-ED79BD38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1043C-1B30-4F36-9433-8C94F6C3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71996-3C5B-4A38-B368-F8F76AAB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64012-65E0-45AF-BF9E-F6DACCAA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C7939-E231-45E7-97CF-0FB3C589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397-FBC3-44FA-9E34-E43AB565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B189F-6C98-4437-8F95-7BCE96B8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D8D1C-8655-4281-9731-B74CE0DD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DF1DB-8D30-4082-B96B-67EC555C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9E82C-38D8-45FB-B742-792A6E8A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FE0E5-701A-433E-892B-D94AB4F7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BD07C-29CA-4633-9087-81D735C5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057C1-02C9-4577-BB0D-591FA8EC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80BBB-C75A-4D86-990E-44DB415B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FBD0E-4958-404C-8B98-F6C16038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989CD-6C27-48CC-A7C0-5F8393ED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A96-1CB8-4ED8-86B7-A56DA4B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4F653-39E7-4592-9393-D4E87B52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BAD0D-63FD-47E9-9A82-E39CC64D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5A9F4-97CD-4443-9AA8-C476843B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E467B-138E-44B3-A847-781358EB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67BBF-5D75-4B50-9FA4-18DC3414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DD828-5F21-4BD4-A8BB-680B8512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B0013-6CF2-46B5-9C73-223AEAEC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1748E3-3713-4D50-8244-1B06CFDF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D18D1-6319-431A-911C-893478B4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62EB6-E071-42AE-9627-B2BF13BE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468E-CAA5-4D34-BC98-40A880EA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3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3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3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4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4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5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5206-D668-4AD4-A201-C89368A4F9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9" name="Group 18"/>
          <p:cNvGrpSpPr/>
          <p:nvPr/>
        </p:nvGrpSpPr>
        <p:grpSpPr>
          <a:xfrm>
            <a:off x="7797600" y="4320360"/>
            <a:ext cx="977760" cy="1157400"/>
            <a:chOff x="7797600" y="4320360"/>
            <a:chExt cx="977760" cy="1157400"/>
          </a:xfrm>
        </p:grpSpPr>
        <p:sp>
          <p:nvSpPr>
            <p:cNvPr id="640" name="Freeform 19"/>
            <p:cNvSpPr/>
            <p:nvPr/>
          </p:nvSpPr>
          <p:spPr>
            <a:xfrm rot="7320000">
              <a:off x="7788600" y="4656600"/>
              <a:ext cx="9968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0"/>
            <p:cNvSpPr/>
            <p:nvPr/>
          </p:nvSpPr>
          <p:spPr>
            <a:xfrm rot="7320000">
              <a:off x="7764120" y="4635000"/>
              <a:ext cx="9936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1"/>
            <p:cNvSpPr/>
            <p:nvPr/>
          </p:nvSpPr>
          <p:spPr>
            <a:xfrm rot="7320000">
              <a:off x="7932240" y="4620960"/>
              <a:ext cx="6588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Group 22"/>
            <p:cNvGrpSpPr/>
            <p:nvPr/>
          </p:nvGrpSpPr>
          <p:grpSpPr>
            <a:xfrm>
              <a:off x="7797600" y="4320360"/>
              <a:ext cx="977760" cy="1157400"/>
              <a:chOff x="7797600" y="4320360"/>
              <a:chExt cx="977760" cy="1157400"/>
            </a:xfrm>
          </p:grpSpPr>
          <p:sp>
            <p:nvSpPr>
              <p:cNvPr id="644" name="Freeform 23"/>
              <p:cNvSpPr/>
              <p:nvPr/>
            </p:nvSpPr>
            <p:spPr>
              <a:xfrm rot="7320000">
                <a:off x="7916760" y="5064120"/>
                <a:ext cx="9324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24"/>
              <p:cNvSpPr/>
              <p:nvPr/>
            </p:nvSpPr>
            <p:spPr>
              <a:xfrm rot="7320000">
                <a:off x="7758000" y="4652640"/>
                <a:ext cx="1056960" cy="4924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25"/>
              <p:cNvSpPr/>
              <p:nvPr/>
            </p:nvSpPr>
            <p:spPr>
              <a:xfrm rot="7320000">
                <a:off x="8039880" y="4763160"/>
                <a:ext cx="7477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26"/>
              <p:cNvSpPr/>
              <p:nvPr/>
            </p:nvSpPr>
            <p:spPr>
              <a:xfrm rot="7320000">
                <a:off x="8514360" y="4560840"/>
                <a:ext cx="99720" cy="1868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27"/>
              <p:cNvSpPr/>
              <p:nvPr/>
            </p:nvSpPr>
            <p:spPr>
              <a:xfrm rot="7320000">
                <a:off x="8155080" y="4762440"/>
                <a:ext cx="30564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08D5-58B1-4C2E-A26B-B594A7C6357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9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9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E7DB-3DF4-4E20-AEF0-ABF93F84FA2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4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05DD-E678-4080-8A8E-67432E0AA2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8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78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79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4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4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AA1-9F3C-4F9E-9520-1FF8B1C84B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EF1B-2C3A-448F-A542-01BD988AF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B971-B11E-40D7-A27F-C5F2F708BB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1DC7-6269-4554-894E-A034DC4C85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2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3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40"/>
          <p:cNvGrpSpPr/>
          <p:nvPr/>
        </p:nvGrpSpPr>
        <p:grpSpPr>
          <a:xfrm>
            <a:off x="7171200" y="-81720"/>
            <a:ext cx="2427840" cy="2247840"/>
            <a:chOff x="7171200" y="-81720"/>
            <a:chExt cx="2427840" cy="2247840"/>
          </a:xfrm>
        </p:grpSpPr>
        <p:grpSp>
          <p:nvGrpSpPr>
            <p:cNvPr id="237" name="Group 41"/>
            <p:cNvGrpSpPr/>
            <p:nvPr/>
          </p:nvGrpSpPr>
          <p:grpSpPr>
            <a:xfrm>
              <a:off x="7171200" y="-81720"/>
              <a:ext cx="2427840" cy="2247840"/>
              <a:chOff x="7171200" y="-81720"/>
              <a:chExt cx="2427840" cy="2247840"/>
            </a:xfrm>
          </p:grpSpPr>
          <p:sp>
            <p:nvSpPr>
              <p:cNvPr id="23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Group 43"/>
              <p:cNvGrpSpPr/>
              <p:nvPr/>
            </p:nvGrpSpPr>
            <p:grpSpPr>
              <a:xfrm>
                <a:off x="7171200" y="-81720"/>
                <a:ext cx="2427840" cy="2247840"/>
                <a:chOff x="7171200" y="-81720"/>
                <a:chExt cx="2427840" cy="2247840"/>
              </a:xfrm>
            </p:grpSpPr>
            <p:sp>
              <p:nvSpPr>
                <p:cNvPr id="240" name="Freeform 44"/>
                <p:cNvSpPr/>
                <p:nvPr/>
              </p:nvSpPr>
              <p:spPr>
                <a:xfrm rot="18427200">
                  <a:off x="787824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45"/>
                <p:cNvSpPr/>
                <p:nvPr/>
              </p:nvSpPr>
              <p:spPr>
                <a:xfrm rot="18427200">
                  <a:off x="801108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46"/>
                <p:cNvSpPr/>
                <p:nvPr/>
              </p:nvSpPr>
              <p:spPr>
                <a:xfrm rot="18427200">
                  <a:off x="77090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47"/>
                <p:cNvSpPr/>
                <p:nvPr/>
              </p:nvSpPr>
              <p:spPr>
                <a:xfrm rot="18427200">
                  <a:off x="7782840" y="-2412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49"/>
                <p:cNvSpPr/>
                <p:nvPr/>
              </p:nvSpPr>
              <p:spPr>
                <a:xfrm rot="18427200">
                  <a:off x="8334720" y="127800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50"/>
                <p:cNvSpPr/>
                <p:nvPr/>
              </p:nvSpPr>
              <p:spPr>
                <a:xfrm rot="18427200">
                  <a:off x="790884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51"/>
                <p:cNvSpPr/>
                <p:nvPr/>
              </p:nvSpPr>
              <p:spPr>
                <a:xfrm rot="18427200">
                  <a:off x="7852680" y="22248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249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3C58-7F9E-45D8-BCBA-2688B13EC1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0C46-D87A-486A-ACED-1992BFE312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C6DD-B14A-4649-833E-18A83CD4B9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3CFD-8CC0-4441-8A5D-044716E8A3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7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7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7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EF85-3AE7-405B-A3BD-9C9C9745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2.jpeg"/><Relationship Id="rId3" Type="http://schemas.openxmlformats.org/officeDocument/2006/relationships/image" Target="../media/image12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hyperlink" Target="http://www.enet.com.cn/article/2004/1214/v2004121102953241365_jp.html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gif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WordArt 3"/>
          <p:cNvSpPr txBox="1"/>
          <p:nvPr/>
        </p:nvSpPr>
        <p:spPr>
          <a:xfrm>
            <a:off x="1403280" y="1700280"/>
            <a:ext cx="6193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8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世界文化之旅</a:t>
            </a:r>
            <a:r>
              <a:rPr b="1" lang="en-US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9" name="Rectangle 4"/>
          <p:cNvSpPr/>
          <p:nvPr/>
        </p:nvSpPr>
        <p:spPr>
          <a:xfrm>
            <a:off x="0" y="20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矩形 1"/>
          <p:cNvSpPr/>
          <p:nvPr/>
        </p:nvSpPr>
        <p:spPr>
          <a:xfrm>
            <a:off x="3063600" y="83664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五课  多元文化地球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师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WordArt 3"/>
          <p:cNvSpPr txBox="1"/>
          <p:nvPr/>
        </p:nvSpPr>
        <p:spPr>
          <a:xfrm>
            <a:off x="3059280" y="476280"/>
            <a:ext cx="213336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埃及金字塔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881" name="Picture 4" descr="e2-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79280" y="5157720"/>
            <a:ext cx="1473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澳大利亚悉尼歌剧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3"/>
          <p:cNvSpPr/>
          <p:nvPr/>
        </p:nvSpPr>
        <p:spPr>
          <a:xfrm>
            <a:off x="2484360" y="260280"/>
            <a:ext cx="36576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方正姚体"/>
                <a:ea typeface="方正姚体"/>
              </a:rPr>
              <a:t>悉尼歌剧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澳大利亚</a:t>
            </a:r>
            <a:r>
              <a:rPr b="0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4" descr="e2-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50920" y="5084640"/>
            <a:ext cx="1473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e2-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476280"/>
            <a:ext cx="1473120" cy="1511280"/>
          </a:xfrm>
          <a:prstGeom prst="rect">
            <a:avLst/>
          </a:prstGeom>
          <a:ln w="0">
            <a:noFill/>
          </a:ln>
        </p:spPr>
      </p:pic>
      <p:sp>
        <p:nvSpPr>
          <p:cNvPr id="888" name="Text Box 5"/>
          <p:cNvSpPr/>
          <p:nvPr/>
        </p:nvSpPr>
        <p:spPr>
          <a:xfrm>
            <a:off x="7122960" y="863640"/>
            <a:ext cx="1133640" cy="30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6" descr="风车"/>
          <p:cNvPicPr/>
          <p:nvPr/>
        </p:nvPicPr>
        <p:blipFill>
          <a:blip r:embed="rId2"/>
          <a:stretch/>
        </p:blipFill>
        <p:spPr>
          <a:xfrm>
            <a:off x="0" y="-6480"/>
            <a:ext cx="9150480" cy="688824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7"/>
          <p:cNvSpPr/>
          <p:nvPr/>
        </p:nvSpPr>
        <p:spPr>
          <a:xfrm>
            <a:off x="6809040" y="549360"/>
            <a:ext cx="16426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荷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郁金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8" descr="e2-1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4000" y="5157720"/>
            <a:ext cx="1473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netease-163-sea-1024-wo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1780920" y="1680840"/>
            <a:ext cx="690228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姚体"/>
              </a:rPr>
              <a:t>提起安徒生，大家就会想起那些童话故事，想起了丹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4" descr="112636"/>
          <p:cNvPicPr/>
          <p:nvPr/>
        </p:nvPicPr>
        <p:blipFill>
          <a:blip r:embed="rId2"/>
          <a:stretch/>
        </p:blipFill>
        <p:spPr>
          <a:xfrm>
            <a:off x="152280" y="685800"/>
            <a:ext cx="9906120" cy="99072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5"/>
          <p:cNvSpPr/>
          <p:nvPr/>
        </p:nvSpPr>
        <p:spPr>
          <a:xfrm>
            <a:off x="108000" y="33336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(</a:t>
            </a:r>
            <a:r>
              <a:rPr b="1" i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三</a:t>
            </a:r>
            <a:r>
              <a:rPr b="1" i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)</a:t>
            </a:r>
            <a:r>
              <a:rPr b="1" i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同国家的文化代表人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6"/>
          <p:cNvSpPr/>
          <p:nvPr/>
        </p:nvSpPr>
        <p:spPr>
          <a:xfrm>
            <a:off x="304920" y="4495680"/>
            <a:ext cx="2590560" cy="160020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7"/>
          <p:cNvSpPr/>
          <p:nvPr/>
        </p:nvSpPr>
        <p:spPr>
          <a:xfrm>
            <a:off x="914400" y="5105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方正姚体"/>
                <a:ea typeface="方正姚体"/>
              </a:rPr>
              <a:t>评一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8"/>
          <p:cNvSpPr/>
          <p:nvPr/>
        </p:nvSpPr>
        <p:spPr>
          <a:xfrm>
            <a:off x="3048120" y="449568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cc"/>
                </a:solidFill>
                <a:latin typeface="华文行楷"/>
                <a:ea typeface="华文行楷"/>
              </a:rPr>
              <a:t>如果要评选一些国家的文化代表人物，你认为哪些人应该上榜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9" descr="e2-1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669080" y="0"/>
            <a:ext cx="1473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"/>
          <p:cNvGraphicFramePr/>
          <p:nvPr/>
        </p:nvGraphicFramePr>
        <p:xfrm>
          <a:off x="152280" y="1268280"/>
          <a:ext cx="8580600" cy="5203800"/>
        </p:xfrm>
        <a:graphic>
          <a:graphicData uri="http://schemas.openxmlformats.org/drawingml/2006/table">
            <a:tbl>
              <a:tblPr/>
              <a:tblGrid>
                <a:gridCol w="1106640"/>
                <a:gridCol w="2125440"/>
                <a:gridCol w="53485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表人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理          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6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1" name="Picture 24" descr="zxin1010S24c6"/>
          <p:cNvPicPr/>
          <p:nvPr/>
        </p:nvPicPr>
        <p:blipFill>
          <a:blip r:embed="rId1"/>
          <a:stretch/>
        </p:blipFill>
        <p:spPr>
          <a:xfrm>
            <a:off x="7467480" y="-196920"/>
            <a:ext cx="1905120" cy="1403280"/>
          </a:xfrm>
          <a:prstGeom prst="rect">
            <a:avLst/>
          </a:prstGeom>
          <a:ln w="0">
            <a:noFill/>
          </a:ln>
        </p:spPr>
      </p:pic>
      <p:sp>
        <p:nvSpPr>
          <p:cNvPr id="902" name="WordArt 25"/>
          <p:cNvSpPr txBox="1"/>
          <p:nvPr/>
        </p:nvSpPr>
        <p:spPr>
          <a:xfrm>
            <a:off x="2438280" y="228600"/>
            <a:ext cx="388620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评一评</a:t>
            </a:r>
            <a:endParaRPr b="0" lang="en-US" sz="5400" spc="1" strike="noStrike">
              <a:ln w="9360">
                <a:solidFill>
                  <a:srgbClr val="ff9900"/>
                </a:solidFill>
                <a:round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903" name="Picture 26" descr="zxin10102W07n"/>
          <p:cNvPicPr/>
          <p:nvPr/>
        </p:nvPicPr>
        <p:blipFill>
          <a:blip r:embed="rId2"/>
          <a:stretch/>
        </p:blipFill>
        <p:spPr>
          <a:xfrm>
            <a:off x="0" y="-120600"/>
            <a:ext cx="1828800" cy="1339920"/>
          </a:xfrm>
          <a:prstGeom prst="rect">
            <a:avLst/>
          </a:prstGeom>
          <a:ln w="0">
            <a:noFill/>
          </a:ln>
        </p:spPr>
      </p:pic>
      <p:sp>
        <p:nvSpPr>
          <p:cNvPr id="904" name="Text Box 27"/>
          <p:cNvSpPr/>
          <p:nvPr/>
        </p:nvSpPr>
        <p:spPr>
          <a:xfrm>
            <a:off x="1676520" y="419112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28"/>
          <p:cNvSpPr/>
          <p:nvPr/>
        </p:nvSpPr>
        <p:spPr>
          <a:xfrm>
            <a:off x="1523880" y="5791320"/>
            <a:ext cx="152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9"/>
          <p:cNvSpPr/>
          <p:nvPr/>
        </p:nvSpPr>
        <p:spPr>
          <a:xfrm>
            <a:off x="1676520" y="5867280"/>
            <a:ext cx="121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30"/>
          <p:cNvSpPr/>
          <p:nvPr/>
        </p:nvSpPr>
        <p:spPr>
          <a:xfrm>
            <a:off x="1523880" y="3886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31"/>
          <p:cNvSpPr/>
          <p:nvPr/>
        </p:nvSpPr>
        <p:spPr>
          <a:xfrm>
            <a:off x="1547640" y="530064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2"/>
          <p:cNvSpPr/>
          <p:nvPr/>
        </p:nvSpPr>
        <p:spPr>
          <a:xfrm>
            <a:off x="1619280" y="5300640"/>
            <a:ext cx="14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华盛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3"/>
          <p:cNvSpPr/>
          <p:nvPr/>
        </p:nvSpPr>
        <p:spPr>
          <a:xfrm>
            <a:off x="3581280" y="5334120"/>
            <a:ext cx="144792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34"/>
          <p:cNvSpPr/>
          <p:nvPr/>
        </p:nvSpPr>
        <p:spPr>
          <a:xfrm>
            <a:off x="1908000" y="24210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35"/>
          <p:cNvSpPr/>
          <p:nvPr/>
        </p:nvSpPr>
        <p:spPr>
          <a:xfrm>
            <a:off x="380880" y="1981080"/>
            <a:ext cx="533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6"/>
          <p:cNvSpPr/>
          <p:nvPr/>
        </p:nvSpPr>
        <p:spPr>
          <a:xfrm>
            <a:off x="380880" y="3505320"/>
            <a:ext cx="762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37"/>
          <p:cNvSpPr/>
          <p:nvPr/>
        </p:nvSpPr>
        <p:spPr>
          <a:xfrm>
            <a:off x="380880" y="4952880"/>
            <a:ext cx="6098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38"/>
          <p:cNvSpPr/>
          <p:nvPr/>
        </p:nvSpPr>
        <p:spPr>
          <a:xfrm>
            <a:off x="2819520" y="327672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39"/>
          <p:cNvSpPr/>
          <p:nvPr/>
        </p:nvSpPr>
        <p:spPr>
          <a:xfrm>
            <a:off x="5181480" y="4038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40"/>
          <p:cNvSpPr/>
          <p:nvPr/>
        </p:nvSpPr>
        <p:spPr>
          <a:xfrm>
            <a:off x="5181480" y="5334120"/>
            <a:ext cx="3962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41"/>
          <p:cNvSpPr/>
          <p:nvPr/>
        </p:nvSpPr>
        <p:spPr>
          <a:xfrm>
            <a:off x="5257800" y="3429000"/>
            <a:ext cx="419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42"/>
          <p:cNvSpPr/>
          <p:nvPr/>
        </p:nvSpPr>
        <p:spPr>
          <a:xfrm>
            <a:off x="5257800" y="3429000"/>
            <a:ext cx="38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43"/>
          <p:cNvSpPr/>
          <p:nvPr/>
        </p:nvSpPr>
        <p:spPr>
          <a:xfrm>
            <a:off x="5257800" y="4876920"/>
            <a:ext cx="358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44"/>
          <p:cNvSpPr/>
          <p:nvPr/>
        </p:nvSpPr>
        <p:spPr>
          <a:xfrm>
            <a:off x="6742080" y="687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45"/>
          <p:cNvSpPr/>
          <p:nvPr/>
        </p:nvSpPr>
        <p:spPr>
          <a:xfrm>
            <a:off x="5845320" y="5072040"/>
            <a:ext cx="150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46"/>
          <p:cNvSpPr/>
          <p:nvPr/>
        </p:nvSpPr>
        <p:spPr>
          <a:xfrm>
            <a:off x="1835280" y="2421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47"/>
          <p:cNvSpPr/>
          <p:nvPr/>
        </p:nvSpPr>
        <p:spPr>
          <a:xfrm>
            <a:off x="3635280" y="2276640"/>
            <a:ext cx="49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儒家学派创始人，伟大的思想家、教育家。第一个创办私学，是世界文化名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48"/>
          <p:cNvSpPr/>
          <p:nvPr/>
        </p:nvSpPr>
        <p:spPr>
          <a:xfrm>
            <a:off x="3635280" y="3860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上最伟大的戏剧家，代表着英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文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49"/>
          <p:cNvSpPr/>
          <p:nvPr/>
        </p:nvSpPr>
        <p:spPr>
          <a:xfrm>
            <a:off x="3564000" y="522936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领导了美国的独立运动，最终建立了独立的美利坚合众国，是美国的“国父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250920" y="1988640"/>
            <a:ext cx="8089920" cy="41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世界上有多少个国家和民族，就会有多少种独特的文化习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化的多样性和丰富性通过各具特色的文化习俗表现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同国家和民族有着各自的标志和代表人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3"/>
          <p:cNvSpPr/>
          <p:nvPr/>
        </p:nvSpPr>
        <p:spPr>
          <a:xfrm>
            <a:off x="324000" y="260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99"/>
                </a:solidFill>
                <a:latin typeface="Arial"/>
              </a:rPr>
              <a:t>小 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4" descr="e2-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451640" y="5346720"/>
            <a:ext cx="1473120" cy="1511280"/>
          </a:xfrm>
          <a:prstGeom prst="rect">
            <a:avLst/>
          </a:prstGeom>
          <a:ln w="0">
            <a:noFill/>
          </a:ln>
        </p:spPr>
      </p:pic>
      <p:sp>
        <p:nvSpPr>
          <p:cNvPr id="930" name="Text Box 5"/>
          <p:cNvSpPr/>
          <p:nvPr/>
        </p:nvSpPr>
        <p:spPr>
          <a:xfrm>
            <a:off x="539640" y="1125360"/>
            <a:ext cx="61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丰富多彩的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9999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化之旅第二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谐的文化乐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Text Box 3"/>
          <p:cNvSpPr/>
          <p:nvPr/>
        </p:nvSpPr>
        <p:spPr>
          <a:xfrm>
            <a:off x="324000" y="333360"/>
            <a:ext cx="856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宋体"/>
              </a:rPr>
              <a:t>情景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英语课上，老师在黑板上写了一句著名的古诗－“欲穷千里目，更上一层楼”，让同学们把它译成英文。一名同学将其译成：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宋体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If you want to watch  more,please go upstairs”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老师笑着说：“把你的句子再译成中文，就是‘如果你想看的更多，请上楼’。”名诗变成这种味道，教室里笑声一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同学们试着用各种方法翻译，总感到有什么东西不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宋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1 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宋体"/>
              </a:rPr>
              <a:t>古诗翻译上的困难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2 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宋体"/>
              </a:rPr>
              <a:t>你能找出汉语中吸收外来语的例子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250920" y="2420640"/>
            <a:ext cx="854064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小结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文化存在差异，各有千秋。每一种文化都有自由生存发展的权利，不同的文化都蕴涵着人类文明的成果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250920" y="104292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是一种文化。语言存在差别，不分优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178920" y="1052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全球化是不是文化应该有一个统一的标准，走向单一？说说你的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WordArt 3"/>
          <p:cNvSpPr txBox="1"/>
          <p:nvPr/>
        </p:nvSpPr>
        <p:spPr>
          <a:xfrm>
            <a:off x="324000" y="189000"/>
            <a:ext cx="327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谈谈你的观点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0" name="Text Box 4"/>
          <p:cNvSpPr/>
          <p:nvPr/>
        </p:nvSpPr>
        <p:spPr>
          <a:xfrm>
            <a:off x="179280" y="335772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球化不是标准化，全球化不应导致文化的单一。在全球化过程中，各个国家和民族的文化，应相互融合、相互促进，呈现出多元和谐的发展局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了解文化的多样性和丰富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理解因文化不同而有不同的处事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知道在面对文化差异时应该持有的正确态度和应对方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455555"/>
          <p:cNvPicPr/>
          <p:nvPr/>
        </p:nvPicPr>
        <p:blipFill>
          <a:blip r:embed="rId1"/>
          <a:stretch/>
        </p:blipFill>
        <p:spPr>
          <a:xfrm>
            <a:off x="3708360" y="333360"/>
            <a:ext cx="5184720" cy="446400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3"/>
          <p:cNvSpPr/>
          <p:nvPr/>
        </p:nvSpPr>
        <p:spPr>
          <a:xfrm>
            <a:off x="0" y="981000"/>
            <a:ext cx="3740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个来华不久的意大利学生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看到她的中国同学穿得很漂亮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连连称赞．中国同学说：哪里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哪里，随便穿穿．“这种回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令意大利同学很纳闷：“衣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明明很漂亮，为什么不说好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中国同学是不是比较”虚伪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0" y="5084640"/>
            <a:ext cx="90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果是你更习惯于怎样回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导致中外沟通障碍的原因是什么？会对彼此交往产生什么影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应该怎样跨越这种障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24000" y="2421000"/>
            <a:ext cx="854064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世界的发展更趋于多元化，各民族的文化相互融合，相互促进呈现出多元和谐的发展局面 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  <a:ea typeface="Times New Roman"/>
              </a:rPr>
              <a:t>。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1222200" y="836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生活在不同文化背景中的人，待人处事的方式也不同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AutoShape 2"/>
          <p:cNvSpPr/>
          <p:nvPr/>
        </p:nvSpPr>
        <p:spPr>
          <a:xfrm>
            <a:off x="108000" y="1486080"/>
            <a:ext cx="8640720" cy="718920"/>
          </a:xfrm>
          <a:prstGeom prst="cloudCallout">
            <a:avLst>
              <a:gd name="adj1" fmla="val 36847"/>
              <a:gd name="adj2" fmla="val -119481"/>
            </a:avLst>
          </a:prstGeom>
          <a:gradFill rotWithShape="0">
            <a:gsLst>
              <a:gs pos="0">
                <a:srgbClr val="60fcde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隶书"/>
              </a:rPr>
              <a:t>说一说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  <a:ea typeface="隶书"/>
              </a:rPr>
              <a:t>:</a:t>
            </a: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隶书"/>
              </a:rPr>
              <a:t>对待文化差异的态度有几种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3" descr="112636"/>
          <p:cNvPicPr/>
          <p:nvPr/>
        </p:nvPicPr>
        <p:blipFill>
          <a:blip r:embed="rId1"/>
          <a:stretch/>
        </p:blipFill>
        <p:spPr>
          <a:xfrm>
            <a:off x="34920" y="33336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49" name="Text Box 4"/>
          <p:cNvSpPr/>
          <p:nvPr/>
        </p:nvSpPr>
        <p:spPr>
          <a:xfrm>
            <a:off x="468360" y="260280"/>
            <a:ext cx="75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(</a:t>
            </a: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三</a:t>
            </a:r>
            <a:r>
              <a:rPr b="1" i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) </a:t>
            </a: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正 确 对 待 文 化 差 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5"/>
          <p:cNvSpPr/>
          <p:nvPr/>
        </p:nvSpPr>
        <p:spPr>
          <a:xfrm>
            <a:off x="109440" y="3502080"/>
            <a:ext cx="8280360" cy="792000"/>
          </a:xfrm>
          <a:prstGeom prst="cloudCallout">
            <a:avLst>
              <a:gd name="adj1" fmla="val 36847"/>
              <a:gd name="adj2" fmla="val -119481"/>
            </a:avLst>
          </a:prstGeom>
          <a:gradFill rotWithShape="0">
            <a:gsLst>
              <a:gs pos="0">
                <a:srgbClr val="60fcde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隶书"/>
              </a:rPr>
              <a:t>想一想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  <a:ea typeface="隶书"/>
              </a:rPr>
              <a:t>:</a:t>
            </a: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隶书"/>
              </a:rPr>
              <a:t>该如何对待文化差异呢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6" descr="e2-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669080" y="5373720"/>
            <a:ext cx="1473480" cy="151128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7"/>
          <p:cNvSpPr/>
          <p:nvPr/>
        </p:nvSpPr>
        <p:spPr>
          <a:xfrm>
            <a:off x="-30240" y="4510080"/>
            <a:ext cx="877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我们要加强沟通，既尊重自己民族文化的价值，又尊重其他民族文化的价值，平等交流、互相学习。各国文化相互借鉴，求同存异，尊重多样性，共同繁荣进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8"/>
          <p:cNvGrpSpPr/>
          <p:nvPr/>
        </p:nvGrpSpPr>
        <p:grpSpPr>
          <a:xfrm>
            <a:off x="1260360" y="2276640"/>
            <a:ext cx="5067360" cy="936360"/>
            <a:chOff x="1260360" y="2276640"/>
            <a:chExt cx="5067360" cy="936360"/>
          </a:xfrm>
        </p:grpSpPr>
        <p:sp>
          <p:nvSpPr>
            <p:cNvPr id="954" name="WordArt 9"/>
            <p:cNvSpPr txBox="1"/>
            <p:nvPr/>
          </p:nvSpPr>
          <p:spPr>
            <a:xfrm>
              <a:off x="1260360" y="2420280"/>
              <a:ext cx="1657080" cy="79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447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00cc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行楷"/>
                </a:rPr>
                <a:t>排斥</a:t>
              </a:r>
              <a:endParaRPr b="0" i="1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955" name="WordArt 10"/>
            <p:cNvSpPr txBox="1"/>
            <p:nvPr/>
          </p:nvSpPr>
          <p:spPr>
            <a:xfrm>
              <a:off x="3420360" y="2780280"/>
              <a:ext cx="791640" cy="75600"/>
            </a:xfrm>
            <a:prstGeom prst="rect">
              <a:avLst/>
            </a:prstGeom>
          </p:spPr>
          <p:txBody>
            <a:bodyPr wrap="none" fromWordArt="1" lIns="90000" rIns="90000" tIns="29160" bIns="29160" anchor="t" anchorCtr="1">
              <a:prstTxWarp prst="textArchUp">
                <a:avLst>
                  <a:gd name="adj" fmla="val 1177035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隶书"/>
                </a:rPr>
                <a:t>或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  <p:sp>
          <p:nvSpPr>
            <p:cNvPr id="956" name="WordArt 11"/>
            <p:cNvSpPr txBox="1"/>
            <p:nvPr/>
          </p:nvSpPr>
          <p:spPr>
            <a:xfrm>
              <a:off x="4788720" y="2276640"/>
              <a:ext cx="153900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ff"/>
                    </a:solidFill>
                    <a:round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行楷"/>
                </a:rPr>
                <a:t>沟通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957" name="Text Box 12"/>
          <p:cNvSpPr/>
          <p:nvPr/>
        </p:nvSpPr>
        <p:spPr>
          <a:xfrm>
            <a:off x="324000" y="1052640"/>
            <a:ext cx="23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阅 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EC72-DEC9-4A93-B9D7-4553CDC7F8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24000" y="2637000"/>
            <a:ext cx="8540640" cy="39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化存在差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生活在不同文化背景中的人，会有不同的待人处事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正确对待文化差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"/>
          <p:cNvSpPr/>
          <p:nvPr/>
        </p:nvSpPr>
        <p:spPr>
          <a:xfrm>
            <a:off x="324000" y="54936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99"/>
                </a:solidFill>
                <a:latin typeface="Arial"/>
              </a:rPr>
              <a:t>小 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Picture 4" descr="e2-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308720" y="5086440"/>
            <a:ext cx="1473480" cy="151128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5"/>
          <p:cNvSpPr/>
          <p:nvPr/>
        </p:nvSpPr>
        <p:spPr>
          <a:xfrm>
            <a:off x="324000" y="162864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谐的文化乐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自学指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我国和外国分别有哪些传统节日？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不同国家和民族的文化都有哪些各自的标志？（包括本国建筑、代表人物）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全球化是不是文化应该有一个统一的标准，走向单一？说说你的理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对待不同文化的态度有几种？怎样看待文化差异？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"/>
          <p:cNvSpPr/>
          <p:nvPr/>
        </p:nvSpPr>
        <p:spPr>
          <a:xfrm>
            <a:off x="468360" y="126828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化之旅第一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4"/>
          <p:cNvSpPr/>
          <p:nvPr/>
        </p:nvSpPr>
        <p:spPr>
          <a:xfrm>
            <a:off x="3048120" y="2819520"/>
            <a:ext cx="581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环游世界  说文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2" descr="netease-163-sea-1024-wo"/>
          <p:cNvPicPr/>
          <p:nvPr/>
        </p:nvPicPr>
        <p:blipFill>
          <a:blip r:embed="rId1"/>
          <a:stretch/>
        </p:blipFill>
        <p:spPr>
          <a:xfrm>
            <a:off x="-57240" y="9360"/>
            <a:ext cx="9366480" cy="685800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3" descr="112636"/>
          <p:cNvPicPr/>
          <p:nvPr/>
        </p:nvPicPr>
        <p:blipFill>
          <a:blip r:embed="rId2"/>
          <a:stretch/>
        </p:blipFill>
        <p:spPr>
          <a:xfrm>
            <a:off x="0" y="369720"/>
            <a:ext cx="8763120" cy="990720"/>
          </a:xfrm>
          <a:prstGeom prst="rect">
            <a:avLst/>
          </a:prstGeom>
          <a:ln w="0">
            <a:noFill/>
          </a:ln>
        </p:spPr>
      </p:pic>
      <p:sp>
        <p:nvSpPr>
          <p:cNvPr id="851" name="Text Box 4"/>
          <p:cNvSpPr/>
          <p:nvPr/>
        </p:nvSpPr>
        <p:spPr>
          <a:xfrm>
            <a:off x="3048120" y="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108000" y="2060640"/>
            <a:ext cx="854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国有属于本民族的传统节日，同样外国也有自己的特色节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6"/>
          <p:cNvSpPr/>
          <p:nvPr/>
        </p:nvSpPr>
        <p:spPr>
          <a:xfrm>
            <a:off x="1673280" y="1089000"/>
            <a:ext cx="49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对 外 国 传 统 节 日 的 了 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971640" y="4292640"/>
            <a:ext cx="6933960" cy="2057400"/>
          </a:xfrm>
          <a:custGeom>
            <a:avLst/>
            <a:gdLst>
              <a:gd name="textAreaLeft" fmla="*/ 133200 w 6933960"/>
              <a:gd name="textAreaRight" fmla="*/ 6800760 w 693396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72789" h="21600">
                <a:moveTo>
                  <a:pt x="0" y="0"/>
                </a:moveTo>
                <a:lnTo>
                  <a:pt x="72789" y="0"/>
                </a:lnTo>
                <a:lnTo>
                  <a:pt x="72789" y="21600"/>
                </a:lnTo>
                <a:lnTo>
                  <a:pt x="0" y="21600"/>
                </a:lnTo>
                <a:close/>
              </a:path>
              <a:path fill="lightenLess" w="72789" h="21600">
                <a:moveTo>
                  <a:pt x="0" y="0"/>
                </a:moveTo>
                <a:lnTo>
                  <a:pt x="72789" y="0"/>
                </a:lnTo>
                <a:lnTo>
                  <a:pt x="71389" y="1400"/>
                </a:lnTo>
                <a:lnTo>
                  <a:pt x="1400" y="1400"/>
                </a:lnTo>
                <a:close/>
              </a:path>
              <a:path fill="darken" w="72789" h="21600">
                <a:moveTo>
                  <a:pt x="72789" y="0"/>
                </a:moveTo>
                <a:lnTo>
                  <a:pt x="72789" y="21600"/>
                </a:lnTo>
                <a:lnTo>
                  <a:pt x="71389" y="20200"/>
                </a:lnTo>
                <a:lnTo>
                  <a:pt x="71389" y="1400"/>
                </a:lnTo>
                <a:close/>
              </a:path>
              <a:path fill="darkenLess" w="72789" h="21600">
                <a:moveTo>
                  <a:pt x="72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389" y="20200"/>
                </a:lnTo>
                <a:close/>
              </a:path>
              <a:path fill="lighten" w="72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789" h="21600">
                <a:moveTo>
                  <a:pt x="36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72789" h="21600">
                <a:moveTo>
                  <a:pt x="37500" y="14281"/>
                </a:moveTo>
                <a:lnTo>
                  <a:pt x="37500" y="12323"/>
                </a:lnTo>
                <a:cubicBezTo>
                  <a:pt x="37500" y="11496"/>
                  <a:pt x="37830" y="10800"/>
                  <a:pt x="38431" y="10800"/>
                </a:cubicBezTo>
                <a:cubicBezTo>
                  <a:pt x="39562" y="10800"/>
                  <a:pt x="40459" y="9434"/>
                  <a:pt x="40459" y="7849"/>
                </a:cubicBezTo>
                <a:cubicBezTo>
                  <a:pt x="40459" y="5534"/>
                  <a:pt x="38605" y="3794"/>
                  <a:pt x="36394" y="3794"/>
                </a:cubicBezTo>
                <a:cubicBezTo>
                  <a:pt x="34184" y="3794"/>
                  <a:pt x="32512" y="5534"/>
                  <a:pt x="32512" y="7849"/>
                </a:cubicBezTo>
                <a:lnTo>
                  <a:pt x="34366" y="7849"/>
                </a:lnTo>
                <a:cubicBezTo>
                  <a:pt x="34366" y="6709"/>
                  <a:pt x="35289" y="5821"/>
                  <a:pt x="36394" y="5821"/>
                </a:cubicBezTo>
                <a:cubicBezTo>
                  <a:pt x="37500" y="5821"/>
                  <a:pt x="38431" y="6709"/>
                  <a:pt x="38431" y="7849"/>
                </a:cubicBezTo>
                <a:cubicBezTo>
                  <a:pt x="38431" y="8589"/>
                  <a:pt x="37961" y="9320"/>
                  <a:pt x="37500" y="9320"/>
                </a:cubicBezTo>
                <a:cubicBezTo>
                  <a:pt x="36394" y="9320"/>
                  <a:pt x="35289" y="10800"/>
                  <a:pt x="35289" y="12323"/>
                </a:cubicBezTo>
                <a:lnTo>
                  <a:pt x="35289" y="14281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1908000" y="43657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9" descr="e2-1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670880" y="5013360"/>
            <a:ext cx="1473120" cy="151128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10"/>
          <p:cNvSpPr/>
          <p:nvPr/>
        </p:nvSpPr>
        <p:spPr>
          <a:xfrm>
            <a:off x="839880" y="225360"/>
            <a:ext cx="44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（一）节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2"/>
          <p:cNvSpPr/>
          <p:nvPr/>
        </p:nvSpPr>
        <p:spPr>
          <a:xfrm>
            <a:off x="447840" y="44496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WordArt 3"/>
          <p:cNvSpPr txBox="1"/>
          <p:nvPr/>
        </p:nvSpPr>
        <p:spPr>
          <a:xfrm>
            <a:off x="3865680" y="9360"/>
            <a:ext cx="4365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99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 </a:t>
            </a:r>
            <a:endParaRPr b="1" lang="en-US" sz="5400" spc="1" strike="noStrike">
              <a:ln w="12600">
                <a:solidFill>
                  <a:srgbClr val="ff99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ff99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你说我说话风俗</a:t>
            </a:r>
            <a:endParaRPr b="1" lang="en-US" sz="5400" spc="1" strike="noStrike">
              <a:ln w="12600">
                <a:solidFill>
                  <a:srgbClr val="ff9900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3060720" y="1052640"/>
            <a:ext cx="597528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摆设“圣诞树”、圣诞老人给孩子们送礼物、互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圣诞贺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每年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3132000" y="2997360"/>
            <a:ext cx="59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孩子们不请客就捣乱、门口放南瓜灯笼、玩“咬苹果游戏”（每年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3203640" y="4870440"/>
            <a:ext cx="5618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家互相开玩笑，用假话捉弄对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每年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7" descr="br0"/>
          <p:cNvPicPr/>
          <p:nvPr/>
        </p:nvPicPr>
        <p:blipFill>
          <a:blip r:embed="rId5"/>
          <a:stretch/>
        </p:blipFill>
        <p:spPr>
          <a:xfrm>
            <a:off x="61920" y="4619520"/>
            <a:ext cx="2952720" cy="208764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8" descr="r_110295324136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000" y="9360"/>
            <a:ext cx="2970360" cy="23036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万圣节快乐2"/>
          <p:cNvPicPr/>
          <p:nvPr/>
        </p:nvPicPr>
        <p:blipFill>
          <a:blip r:embed="rId8"/>
          <a:stretch/>
        </p:blipFill>
        <p:spPr>
          <a:xfrm>
            <a:off x="27000" y="2313000"/>
            <a:ext cx="301140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FR_007"/>
          <p:cNvPicPr/>
          <p:nvPr/>
        </p:nvPicPr>
        <p:blipFill>
          <a:blip r:embed="rId1"/>
          <a:stretch/>
        </p:blipFill>
        <p:spPr>
          <a:xfrm>
            <a:off x="0" y="-3240"/>
            <a:ext cx="9448920" cy="6834240"/>
          </a:xfrm>
          <a:prstGeom prst="rect">
            <a:avLst/>
          </a:prstGeom>
          <a:ln w="0">
            <a:noFill/>
          </a:ln>
        </p:spPr>
      </p:pic>
      <p:sp>
        <p:nvSpPr>
          <p:cNvPr id="867" name="Rectangle 3"/>
          <p:cNvSpPr/>
          <p:nvPr/>
        </p:nvSpPr>
        <p:spPr>
          <a:xfrm>
            <a:off x="1619280" y="40766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以下图片代表哪些国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WordArt 4"/>
          <p:cNvSpPr txBox="1"/>
          <p:nvPr/>
        </p:nvSpPr>
        <p:spPr>
          <a:xfrm>
            <a:off x="1835280" y="2421000"/>
            <a:ext cx="532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 </a:t>
            </a:r>
            <a:endParaRPr b="1" lang="en-US" sz="5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你说我说</a:t>
            </a:r>
            <a:endParaRPr b="1" lang="en-US" sz="5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9" name="Picture 5" descr="e2-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-157320" y="4870440"/>
            <a:ext cx="1449720" cy="1511280"/>
          </a:xfrm>
          <a:prstGeom prst="rect">
            <a:avLst/>
          </a:prstGeom>
          <a:ln w="0">
            <a:noFill/>
          </a:ln>
        </p:spPr>
      </p:pic>
      <p:sp>
        <p:nvSpPr>
          <p:cNvPr id="870" name="Text Box 6"/>
          <p:cNvSpPr/>
          <p:nvPr/>
        </p:nvSpPr>
        <p:spPr>
          <a:xfrm>
            <a:off x="1734480" y="1270080"/>
            <a:ext cx="4844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</a:rPr>
              <a:t>不同国家和民族的文化有着各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的标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7"/>
          <p:cNvSpPr/>
          <p:nvPr/>
        </p:nvSpPr>
        <p:spPr>
          <a:xfrm>
            <a:off x="1005840" y="189000"/>
            <a:ext cx="200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（二）标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长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3"/>
          <p:cNvSpPr/>
          <p:nvPr/>
        </p:nvSpPr>
        <p:spPr>
          <a:xfrm>
            <a:off x="7238880" y="2286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中国长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4" descr="e2-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79280" y="5157720"/>
            <a:ext cx="1473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b_8381_041215222618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6" name="Rectangle 3"/>
          <p:cNvSpPr/>
          <p:nvPr/>
        </p:nvSpPr>
        <p:spPr>
          <a:xfrm>
            <a:off x="6863400" y="533520"/>
            <a:ext cx="109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自由女神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美 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4" descr="e2-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79280" y="5084640"/>
            <a:ext cx="1473480" cy="1511280"/>
          </a:xfrm>
          <a:prstGeom prst="rect">
            <a:avLst/>
          </a:prstGeom>
          <a:ln w="0">
            <a:noFill/>
          </a:ln>
        </p:spPr>
      </p:pic>
      <p:sp>
        <p:nvSpPr>
          <p:cNvPr id="878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1:23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00Z</dcterms:modified>
  <cp:revision>1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