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9EF-116A-4296-B204-7B7C2617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51E-05BF-4692-B7F1-7D4F5DE4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71A-CD12-4493-A4C9-E9042CC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61E-973F-468C-A8AA-F21B04F2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65D-6BE1-49E3-A437-EC4AFD2E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5CE-7B3B-4C2E-A1E6-19F200B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06A9-FC04-4745-A538-2B5F002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AE90-7A5E-452B-9B3B-547C030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223E-704B-4772-9FDB-CE0F1C93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C30A-AAFF-407C-AE6C-FA901DB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2B1E-5B48-42FE-B551-582A03A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659-11F9-4952-95C9-0DE65ACF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EF07-0A0C-47B3-B9B8-1A651D5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D849-85A4-411D-B643-D8FAE60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8C5-3F86-47A0-93CD-F392A2BD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A79D-A7F3-4AB3-A229-28991DA7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177-AB83-4F39-8CA7-BDDED9BE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32DF-E20D-4305-946E-128C1BDC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213E-4BA3-40A7-9637-40EFCAE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785B-747F-48AF-B96A-162B5B9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5BC1-5BAA-45CB-9B1C-9308C738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83E1-8FCF-4E43-8E55-6DD5B0E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E8F-8BCD-4884-A57D-9D0C19E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9DB0-31C7-4F5D-B0D2-28C47D7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1445-DC43-4479-BC67-64EDB2F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2D0E-E562-4DE8-9B37-484EC2A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8B60-DB91-415D-96A3-9B498C6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3687-68F1-4B27-9383-217D540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8936-F72C-40C8-96DA-3BA3B5A6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D693-C087-4B28-812C-DC681928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2CF0F-25DA-4AB8-A4DF-92884BAD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7F5B-94C5-4656-9B97-198288E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F91D-4E1E-4311-BE52-491D0B3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3EA-EAE4-4BE5-A871-7104AA73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2193-DC64-408C-8958-C57C39A0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C342-FD66-4B1C-8C80-979D19C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4869-AABE-44DB-9B2E-88406442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2122-1908-4BFD-83D3-676A71F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E8B2-E59D-4A8E-BD37-16C57A1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800F-0B94-4009-A32A-070C52C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A51C-D35E-4D4C-8569-2DE0E74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773D-B3E7-44C6-A06F-FB4FE365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FCFE-5E87-41FE-8749-5ABE3CCC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97E0-5B00-4660-9B57-4756E7B5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674-782B-40E4-8905-63E7833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266E-164A-4D31-8C8F-DA950CD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4125-749B-421C-9FED-0343E065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D620-02A9-4438-B301-D4C14D5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DDF7-2066-463B-ACCF-6519226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5113-9899-495B-A903-04D9B12F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8F6A-8887-4722-BCE8-E068795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B8EB-9BB8-4161-ABC1-C38F16D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9CD6-4FF8-48D4-8350-71DBE49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8B824-7ED5-429C-8A6E-FC71B17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4D89-7966-4440-BB3F-B4CA307A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5FC-51C6-49E2-85A5-6BE4C30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D79F1-A42E-4795-B1FD-36997F68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246-8414-4A63-9AEC-5FA3F89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CA2-F71F-40AC-B68B-43CDA64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980-2E45-4342-A553-2672041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65CA-9FDF-4A01-A5F6-BE986CCB20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2501-97B0-4DA0-A3B8-BC0B97519E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036-5024-414E-B66C-356F7616DD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132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714-DCDE-48A0-8002-6BC3B85465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153-4790-4EA7-A9CB-EA18346CE9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72,3,&#24187;&#28783;&#29255; 3" TargetMode="External"/><Relationship Id="rId2" Type="http://schemas.openxmlformats.org/officeDocument/2006/relationships/hyperlink" Target="275,4,&#24187;&#28783;&#29255; 4" TargetMode="External"/><Relationship Id="rId3" Type="http://schemas.openxmlformats.org/officeDocument/2006/relationships/hyperlink" Target="257,5,&#24187;&#28783;&#29255; 5" TargetMode="External"/><Relationship Id="rId4" Type="http://schemas.openxmlformats.org/officeDocument/2006/relationships/hyperlink" Target="257,5,&#24187;&#28783;&#29255; 5" TargetMode="External"/><Relationship Id="rId5" Type="http://schemas.openxmlformats.org/officeDocument/2006/relationships/hyperlink" Target="257,5,&#24187;&#28783;&#29255; 5" TargetMode="External"/><Relationship Id="rId6" Type="http://schemas.openxmlformats.org/officeDocument/2006/relationships/hyperlink" Target="257,5,&#24187;&#28783;&#29255; 5" TargetMode="External"/><Relationship Id="rId7" Type="http://schemas.openxmlformats.org/officeDocument/2006/relationships/hyperlink" Target="266,6,&#24187;&#28783;&#29255; 6" TargetMode="External"/><Relationship Id="rId8" Type="http://schemas.openxmlformats.org/officeDocument/2006/relationships/hyperlink" Target="266,6,&#24187;&#28783;&#29255; 6" TargetMode="External"/><Relationship Id="rId9" Type="http://schemas.openxmlformats.org/officeDocument/2006/relationships/hyperlink" Target="266,6,&#24187;&#28783;&#29255; 6" TargetMode="External"/><Relationship Id="rId10" Type="http://schemas.openxmlformats.org/officeDocument/2006/relationships/hyperlink" Target="259,7,&#24187;&#28783;&#29255; 7" TargetMode="External"/><Relationship Id="rId11" Type="http://schemas.openxmlformats.org/officeDocument/2006/relationships/hyperlink" Target="259,7,&#24187;&#28783;&#29255; 7" TargetMode="External"/><Relationship Id="rId12" Type="http://schemas.openxmlformats.org/officeDocument/2006/relationships/hyperlink" Target="259,7,&#24187;&#28783;&#29255; 7" TargetMode="External"/><Relationship Id="rId13" Type="http://schemas.openxmlformats.org/officeDocument/2006/relationships/hyperlink" Target="261,8,&#24187;&#28783;&#29255; 8" TargetMode="External"/><Relationship Id="rId14" Type="http://schemas.openxmlformats.org/officeDocument/2006/relationships/hyperlink" Target="261,8,&#24187;&#28783;&#29255; 8" TargetMode="External"/><Relationship Id="rId15" Type="http://schemas.openxmlformats.org/officeDocument/2006/relationships/hyperlink" Target="271,9,&#24187;&#28783;&#29255; 9" TargetMode="External"/><Relationship Id="rId16" Type="http://schemas.openxmlformats.org/officeDocument/2006/relationships/hyperlink" Target="271,9,&#24187;&#28783;&#29255; 9" TargetMode="External"/><Relationship Id="rId17" Type="http://schemas.openxmlformats.org/officeDocument/2006/relationships/hyperlink" Target="268,10,&#24187;&#28783;&#29255; 10" TargetMode="External"/><Relationship Id="rId18" Type="http://schemas.openxmlformats.org/officeDocument/2006/relationships/hyperlink" Target="268,10,&#24187;&#28783;&#29255; 10" TargetMode="External"/><Relationship Id="rId19" Type="http://schemas.openxmlformats.org/officeDocument/2006/relationships/hyperlink" Target="268,10,&#24187;&#28783;&#29255; 10" TargetMode="External"/><Relationship Id="rId20" Type="http://schemas.openxmlformats.org/officeDocument/2006/relationships/hyperlink" Target="268,10,&#24187;&#28783;&#29255; 10" TargetMode="External"/><Relationship Id="rId21" Type="http://schemas.openxmlformats.org/officeDocument/2006/relationships/hyperlink" Target="262,11,&#24187;&#28783;&#29255; 11" TargetMode="External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468360" y="11970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实际问题与反比例函数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3"/>
          <p:cNvSpPr/>
          <p:nvPr/>
        </p:nvSpPr>
        <p:spPr>
          <a:xfrm>
            <a:off x="788508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24"/>
          <p:cNvSpPr txBox="1"/>
          <p:nvPr/>
        </p:nvSpPr>
        <p:spPr>
          <a:xfrm>
            <a:off x="0" y="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超越自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0" y="33336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地上年度电价为每度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年用电量为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，本年度计划将电价调整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55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——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7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之间，经测算电价调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本年度新增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与（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-0.4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成反比例，且当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=0.6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=0.8.   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求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函数关系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若每度电成本价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3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电价调至多少元时，本年度电力部门的收益将比上年度增加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％？   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〔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收益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=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×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实际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-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成本价）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5E4-3806-425F-9BC5-1963746788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81080" y="135000"/>
            <a:ext cx="8712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本节课的学习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有哪些收获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16000" y="2421000"/>
            <a:ext cx="89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反比例函数解决实际问题的关键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立反比例函数模型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50920" y="4292640"/>
            <a:ext cx="82072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布置作业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课本 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T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 </a:t>
            </a:r>
            <a:r>
              <a:rPr b="1" lang="zh-CN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、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8172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95280" y="1628280"/>
            <a:ext cx="69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"/>
              </a:rPr>
              <a:t>挑战记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"/>
              </a:rPr>
              <a:t>创设情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3"/>
              </a:rPr>
              <a:t>合作探究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4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5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6"/>
              </a:rPr>
              <a:t>） 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7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8"/>
              </a:rPr>
              <a:t>2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9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0"/>
              </a:rPr>
              <a:t>自主尝试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1"/>
              </a:rPr>
              <a:t>1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2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3"/>
              </a:rPr>
              <a:t>2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4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5"/>
              </a:rPr>
              <a:t>3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6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7"/>
              </a:rPr>
              <a:t>超越自我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8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9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0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1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763640" y="549360"/>
            <a:ext cx="7029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际问题与反比例函数（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）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684360" y="692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挑战记忆</a:t>
            </a:r>
            <a:r>
              <a:rPr b="1" lang="en-US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4360" y="1484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反比例函数图象有哪些性质</a:t>
            </a: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95280" y="2133720"/>
            <a:ext cx="8317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比例函数             是由两支曲线组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、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，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减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、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ject 7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8"/>
          <p:cNvSpPr/>
          <p:nvPr/>
        </p:nvSpPr>
        <p:spPr>
          <a:xfrm>
            <a:off x="8101080" y="580536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5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u=3219906705,3401488516&amp;gp=0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9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u=806384528,3614370180&amp;gp=2"/>
          <p:cNvPicPr/>
          <p:nvPr/>
        </p:nvPicPr>
        <p:blipFill>
          <a:blip r:embed="rId2"/>
          <a:stretch/>
        </p:blipFill>
        <p:spPr>
          <a:xfrm>
            <a:off x="4500720" y="189000"/>
            <a:ext cx="4643280" cy="5976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10"/>
          <p:cNvSpPr txBox="1"/>
          <p:nvPr/>
        </p:nvSpPr>
        <p:spPr>
          <a:xfrm>
            <a:off x="2771640" y="260280"/>
            <a:ext cx="342900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繁忙的码头</a:t>
            </a:r>
            <a:endParaRPr b="0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780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  <a:ea typeface="华文彩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604360" y="566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3" descr="http://www.pep.com.cn/images/200503/pic_219043.jpg"/>
          <p:cNvPicPr/>
          <p:nvPr/>
        </p:nvPicPr>
        <p:blipFill>
          <a:blip r:embed="rId3"/>
          <a:srcRect l="12385" t="31776" r="65422" b="55939"/>
          <a:stretch/>
        </p:blipFill>
        <p:spPr>
          <a:xfrm>
            <a:off x="395280" y="328464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4"/>
          <p:cNvSpPr/>
          <p:nvPr/>
        </p:nvSpPr>
        <p:spPr>
          <a:xfrm>
            <a:off x="3851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803160" y="108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8172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68360" y="620640"/>
            <a:ext cx="86756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轮船到达目的地后开始卸货，卸货速度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υ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吨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）与卸货时间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天）之间的函数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在实际运送过程中，卸货速度、卸货时间可能有哪些变化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9"/>
          <p:cNvSpPr/>
          <p:nvPr/>
        </p:nvSpPr>
        <p:spPr>
          <a:xfrm>
            <a:off x="650880" y="240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03160" y="10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11280" y="342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0" y="260280"/>
            <a:ext cx="86756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如果码头工人先以每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速度卸载两天，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395280" y="0"/>
            <a:ext cx="1622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268360" y="333360"/>
            <a:ext cx="6553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课本  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1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L 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250920" y="170028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0" y="1484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某打印店要完成一批电脑打字任务，每天完成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7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页，需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，设每天完成的页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，所需的天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.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问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: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何种函数关系？若要求在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内完成任务，每天至少要完成几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0" y="620640"/>
            <a:ext cx="8893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蓄水池的容积是多少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68360" y="263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解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蓄水池的容积为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8×6=48(m</a:t>
            </a:r>
            <a:r>
              <a:rPr b="1" lang="en-US" sz="3200" spc="-1" strike="noStrike" baseline="30000">
                <a:solidFill>
                  <a:srgbClr val="3b812f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0" y="32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增加排水管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每时的排水量达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(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将满池水排空所需的时间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如何变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39640" y="43498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答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此时所需时间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将减少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79280" y="5084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的函数关系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6"/>
          <p:cNvGrpSpPr/>
          <p:nvPr/>
        </p:nvGrpSpPr>
        <p:grpSpPr>
          <a:xfrm>
            <a:off x="250920" y="5589720"/>
            <a:ext cx="6624720" cy="1370880"/>
            <a:chOff x="250920" y="5589720"/>
            <a:chExt cx="6624720" cy="1370880"/>
          </a:xfrm>
        </p:grpSpPr>
        <p:sp>
          <p:nvSpPr>
            <p:cNvPr id="253" name="Text Box 10"/>
            <p:cNvSpPr/>
            <p:nvPr/>
          </p:nvSpPr>
          <p:spPr>
            <a:xfrm>
              <a:off x="250920" y="579132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解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t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与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Q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之间的函数关系式为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Object 11" descr=""/>
            <p:cNvPicPr/>
            <p:nvPr/>
          </p:nvPicPr>
          <p:blipFill>
            <a:blip r:embed="rId1"/>
            <a:stretch/>
          </p:blipFill>
          <p:spPr>
            <a:xfrm>
              <a:off x="4930920" y="5589720"/>
              <a:ext cx="9302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13"/>
          <p:cNvSpPr/>
          <p:nvPr/>
        </p:nvSpPr>
        <p:spPr>
          <a:xfrm>
            <a:off x="802800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4"/>
          <p:cNvSpPr txBox="1"/>
          <p:nvPr/>
        </p:nvSpPr>
        <p:spPr>
          <a:xfrm>
            <a:off x="0" y="-171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7" name="文本框 8199"/>
          <p:cNvSpPr/>
          <p:nvPr/>
        </p:nvSpPr>
        <p:spPr>
          <a:xfrm>
            <a:off x="94284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0" y="549360"/>
            <a:ext cx="914400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75564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684360" y="378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55640" y="472428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84360" y="558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6"/>
          <p:cNvSpPr txBox="1"/>
          <p:nvPr/>
        </p:nvSpPr>
        <p:spPr>
          <a:xfrm>
            <a:off x="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33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