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y002.WAV" ContentType="audio/x-wav"/>
  <Override PartName="/ppt/media/image18.png" ContentType="image/png"/>
  <Override PartName="/ppt/media/image6.jpeg" ContentType="image/jpeg"/>
  <Override PartName="/ppt/media/image25.gif" ContentType="image/gif"/>
  <Override PartName="/ppt/media/D005.WAV" ContentType="audio/x-wav"/>
  <Override PartName="/ppt/media/image16.gif" ContentType="image/gif"/>
  <Override PartName="/ppt/media/image15.jpeg" ContentType="image/jpeg"/>
  <Override PartName="/ppt/media/image29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.png" ContentType="image/png"/>
  <Override PartName="/ppt/media/image22.gif" ContentType="image/gif"/>
  <Override PartName="/ppt/media/image2.png" ContentType="image/png"/>
  <Override PartName="/ppt/media/m018.WAV" ContentType="audio/x-wav"/>
  <Override PartName="/ppt/media/image26.png" ContentType="image/png"/>
  <Override PartName="/ppt/media/image5.png" ContentType="image/png"/>
  <Override PartName="/ppt/media/image7.gif" ContentType="image/gif"/>
  <Override PartName="/ppt/media/image32.gif" ContentType="image/gif"/>
  <Override PartName="/ppt/media/D004.WAV" ContentType="audio/x-wav"/>
  <Override PartName="/ppt/media/image39.png" ContentType="image/png"/>
  <Override PartName="/ppt/media/image27.wmf" ContentType="image/x-wmf"/>
  <Override PartName="/ppt/media/image28.gif" ContentType="image/gif"/>
  <Override PartName="/ppt/media/image8.png" ContentType="image/png"/>
  <Override PartName="/ppt/media/hammer.wav" ContentType="audio/x-wav"/>
  <Override PartName="/ppt/media/image36.gif" ContentType="image/gif"/>
  <Override PartName="/ppt/media/chimes.wav" ContentType="audio/x-wav"/>
  <Override PartName="/ppt/media/image34.jpeg" ContentType="image/jpeg"/>
  <Override PartName="/ppt/media/image37.png" ContentType="image/png"/>
  <Override PartName="/ppt/media/image38.gif" ContentType="image/gif"/>
  <Override PartName="/ppt/media/image35.gif" ContentType="image/gif"/>
  <Override PartName="/ppt/media/image9.jpeg" ContentType="image/jpeg"/>
  <Override PartName="/ppt/media/image11.jpeg" ContentType="image/jpeg"/>
  <Override PartName="/ppt/media/image31.gif" ContentType="image/gif"/>
  <Override PartName="/ppt/media/image40.jpeg" ContentType="image/jpeg"/>
  <Override PartName="/ppt/media/image13.jpeg" ContentType="image/jpeg"/>
  <Override PartName="/ppt/media/image20.gif" ContentType="image/gif"/>
  <Override PartName="/ppt/media/image30.gif" ContentType="image/gif"/>
  <Override PartName="/ppt/media/image23.png" ContentType="image/png"/>
  <Override PartName="/ppt/media/image12.jpeg" ContentType="image/jpeg"/>
  <Override PartName="/ppt/media/image4.png" ContentType="image/png"/>
  <Override PartName="/ppt/media/image24.gif" ContentType="image/gif"/>
  <Override PartName="/ppt/media/image33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660-7592-4296-9A77-DEA762E8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65C-D04C-4D1C-86A8-C26C3FCF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D6D-DF97-4A17-B52B-A140B0CB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9E3-A4C3-4ABF-8108-1126CA05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54BB-B620-4CCB-A52A-0BC399B7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28B7-CF3A-495C-9A60-A7B68D0B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49A9-A7DC-4F51-A065-2CA875F7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98C2-7C44-4453-BF5C-97218526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FE19-8336-481C-8608-DE410AB1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F604-914C-40CD-84FE-C1D2809D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12BF-E392-4885-9BD6-00117C5C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FAE-BB5D-4849-99FF-06D533E6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800E-9556-4F8B-AE83-B2D0655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FBD1-4E1E-4C0E-AA5C-8A980874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3623-068A-4CBC-8F8C-4F0C5319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860F-2CDA-4BDA-9494-9295FD91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8197-4907-411E-BBFA-E03C9A1E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01A7F-E274-4BF3-BBBC-5202E88A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390C-FE81-4B57-B23C-65AF69C6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D876-FF42-4BB7-A1E1-AA03BD10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E7B2-925C-43D0-A3C3-CDD796CF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40B1-5EBC-49DC-A1E4-B62A89BE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75D-377C-42D8-8CC8-C57F9DEE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5E49-22CD-49AB-A9C6-457DDAE0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912B-6E99-414C-AA2C-0093C9F6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0D154-24C0-4BB9-8DFD-E443D487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97CA-F73D-4D2C-B6F0-3C0CD1E6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60660-D8E6-4CA6-884A-825A2145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4BA5E-AA5B-40CB-8B2A-C2980176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C3F1-4F7F-4F71-A14E-29C5A8AD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F5E-3DBE-40FB-9D40-057EACBE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EA8-CB6B-4AC8-B2C3-14441C78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E02-30FF-411A-814A-B6A7BFF6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A1A-4FD9-41F4-B215-33C823D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4E7-2141-448B-972B-9188467D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26C-377A-4491-875A-0A1EC91C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80960" y="5308560"/>
            <a:ext cx="1076040" cy="1080720"/>
            <a:chOff x="480960" y="5308560"/>
            <a:chExt cx="1076040" cy="1080720"/>
          </a:xfrm>
        </p:grpSpPr>
        <p:sp>
          <p:nvSpPr>
            <p:cNvPr id="1" name="Freeform 3"/>
            <p:cNvSpPr/>
            <p:nvPr/>
          </p:nvSpPr>
          <p:spPr>
            <a:xfrm>
              <a:off x="480960" y="5308560"/>
              <a:ext cx="1076040" cy="108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864"/>
                  </a:lnTo>
                  <a:lnTo>
                    <a:pt x="21370" y="12929"/>
                  </a:lnTo>
                  <a:lnTo>
                    <a:pt x="21065" y="13918"/>
                  </a:lnTo>
                  <a:lnTo>
                    <a:pt x="20684" y="14982"/>
                  </a:lnTo>
                  <a:lnTo>
                    <a:pt x="20302" y="15895"/>
                  </a:lnTo>
                  <a:lnTo>
                    <a:pt x="19691" y="16732"/>
                  </a:lnTo>
                  <a:lnTo>
                    <a:pt x="19157" y="17644"/>
                  </a:lnTo>
                  <a:lnTo>
                    <a:pt x="18394" y="18405"/>
                  </a:lnTo>
                  <a:lnTo>
                    <a:pt x="17707" y="19089"/>
                  </a:lnTo>
                  <a:lnTo>
                    <a:pt x="16715" y="19698"/>
                  </a:lnTo>
                  <a:lnTo>
                    <a:pt x="15875" y="20307"/>
                  </a:lnTo>
                  <a:lnTo>
                    <a:pt x="15035" y="20687"/>
                  </a:lnTo>
                  <a:lnTo>
                    <a:pt x="13967" y="21067"/>
                  </a:lnTo>
                  <a:lnTo>
                    <a:pt x="12898" y="21371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71"/>
                  </a:lnTo>
                  <a:lnTo>
                    <a:pt x="7556" y="21067"/>
                  </a:lnTo>
                  <a:lnTo>
                    <a:pt x="6487" y="20687"/>
                  </a:lnTo>
                  <a:lnTo>
                    <a:pt x="5571" y="20307"/>
                  </a:lnTo>
                  <a:lnTo>
                    <a:pt x="4731" y="19698"/>
                  </a:lnTo>
                  <a:lnTo>
                    <a:pt x="3892" y="19089"/>
                  </a:lnTo>
                  <a:lnTo>
                    <a:pt x="3129" y="18405"/>
                  </a:lnTo>
                  <a:lnTo>
                    <a:pt x="2442" y="17644"/>
                  </a:lnTo>
                  <a:lnTo>
                    <a:pt x="1755" y="16732"/>
                  </a:lnTo>
                  <a:lnTo>
                    <a:pt x="1297" y="15895"/>
                  </a:lnTo>
                  <a:lnTo>
                    <a:pt x="839" y="14982"/>
                  </a:lnTo>
                  <a:lnTo>
                    <a:pt x="457" y="13918"/>
                  </a:lnTo>
                  <a:lnTo>
                    <a:pt x="152" y="12929"/>
                  </a:lnTo>
                  <a:lnTo>
                    <a:pt x="0" y="11864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82"/>
                  </a:lnTo>
                  <a:lnTo>
                    <a:pt x="152" y="8518"/>
                  </a:lnTo>
                  <a:lnTo>
                    <a:pt x="457" y="7529"/>
                  </a:lnTo>
                  <a:lnTo>
                    <a:pt x="839" y="6540"/>
                  </a:lnTo>
                  <a:lnTo>
                    <a:pt x="1297" y="5551"/>
                  </a:lnTo>
                  <a:lnTo>
                    <a:pt x="1755" y="4715"/>
                  </a:lnTo>
                  <a:lnTo>
                    <a:pt x="2442" y="3878"/>
                  </a:lnTo>
                  <a:lnTo>
                    <a:pt x="3129" y="3118"/>
                  </a:lnTo>
                  <a:lnTo>
                    <a:pt x="3892" y="2433"/>
                  </a:lnTo>
                  <a:lnTo>
                    <a:pt x="4731" y="1749"/>
                  </a:lnTo>
                  <a:lnTo>
                    <a:pt x="5571" y="1292"/>
                  </a:lnTo>
                  <a:lnTo>
                    <a:pt x="6487" y="836"/>
                  </a:lnTo>
                  <a:lnTo>
                    <a:pt x="7556" y="456"/>
                  </a:lnTo>
                  <a:lnTo>
                    <a:pt x="8548" y="151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151"/>
                  </a:lnTo>
                  <a:lnTo>
                    <a:pt x="13967" y="456"/>
                  </a:lnTo>
                  <a:lnTo>
                    <a:pt x="15035" y="836"/>
                  </a:lnTo>
                  <a:lnTo>
                    <a:pt x="15875" y="1292"/>
                  </a:lnTo>
                  <a:lnTo>
                    <a:pt x="16715" y="1749"/>
                  </a:lnTo>
                  <a:lnTo>
                    <a:pt x="17707" y="2433"/>
                  </a:lnTo>
                  <a:lnTo>
                    <a:pt x="18394" y="3118"/>
                  </a:lnTo>
                  <a:lnTo>
                    <a:pt x="19157" y="3878"/>
                  </a:lnTo>
                  <a:lnTo>
                    <a:pt x="19691" y="4715"/>
                  </a:lnTo>
                  <a:lnTo>
                    <a:pt x="20302" y="5551"/>
                  </a:lnTo>
                  <a:lnTo>
                    <a:pt x="20684" y="6540"/>
                  </a:lnTo>
                  <a:lnTo>
                    <a:pt x="21065" y="7529"/>
                  </a:lnTo>
                  <a:lnTo>
                    <a:pt x="21370" y="8518"/>
                  </a:lnTo>
                  <a:lnTo>
                    <a:pt x="21523" y="958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13440" y="5446080"/>
              <a:ext cx="807480" cy="80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497" y="12939"/>
                  </a:lnTo>
                  <a:lnTo>
                    <a:pt x="21192" y="14060"/>
                  </a:lnTo>
                  <a:lnTo>
                    <a:pt x="20784" y="15079"/>
                  </a:lnTo>
                  <a:lnTo>
                    <a:pt x="20275" y="15995"/>
                  </a:lnTo>
                  <a:lnTo>
                    <a:pt x="19765" y="16811"/>
                  </a:lnTo>
                  <a:lnTo>
                    <a:pt x="19154" y="17727"/>
                  </a:lnTo>
                  <a:lnTo>
                    <a:pt x="18441" y="18441"/>
                  </a:lnTo>
                  <a:lnTo>
                    <a:pt x="17727" y="19154"/>
                  </a:lnTo>
                  <a:lnTo>
                    <a:pt x="16811" y="19765"/>
                  </a:lnTo>
                  <a:lnTo>
                    <a:pt x="15995" y="20275"/>
                  </a:lnTo>
                  <a:lnTo>
                    <a:pt x="15079" y="20784"/>
                  </a:lnTo>
                  <a:lnTo>
                    <a:pt x="14060" y="21192"/>
                  </a:lnTo>
                  <a:lnTo>
                    <a:pt x="12939" y="21497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497"/>
                  </a:lnTo>
                  <a:lnTo>
                    <a:pt x="7641" y="21192"/>
                  </a:lnTo>
                  <a:lnTo>
                    <a:pt x="6622" y="20784"/>
                  </a:lnTo>
                  <a:lnTo>
                    <a:pt x="5705" y="20275"/>
                  </a:lnTo>
                  <a:lnTo>
                    <a:pt x="4788" y="19765"/>
                  </a:lnTo>
                  <a:lnTo>
                    <a:pt x="3871" y="19154"/>
                  </a:lnTo>
                  <a:lnTo>
                    <a:pt x="3158" y="18441"/>
                  </a:lnTo>
                  <a:lnTo>
                    <a:pt x="2445" y="17727"/>
                  </a:lnTo>
                  <a:lnTo>
                    <a:pt x="1833" y="16811"/>
                  </a:lnTo>
                  <a:lnTo>
                    <a:pt x="1426" y="15995"/>
                  </a:lnTo>
                  <a:lnTo>
                    <a:pt x="815" y="15079"/>
                  </a:lnTo>
                  <a:lnTo>
                    <a:pt x="509" y="14060"/>
                  </a:lnTo>
                  <a:lnTo>
                    <a:pt x="203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3" y="8660"/>
                  </a:lnTo>
                  <a:lnTo>
                    <a:pt x="509" y="7641"/>
                  </a:lnTo>
                  <a:lnTo>
                    <a:pt x="815" y="6622"/>
                  </a:lnTo>
                  <a:lnTo>
                    <a:pt x="1426" y="5705"/>
                  </a:lnTo>
                  <a:lnTo>
                    <a:pt x="1833" y="4788"/>
                  </a:lnTo>
                  <a:lnTo>
                    <a:pt x="2445" y="3871"/>
                  </a:lnTo>
                  <a:lnTo>
                    <a:pt x="3158" y="3158"/>
                  </a:lnTo>
                  <a:lnTo>
                    <a:pt x="3871" y="2445"/>
                  </a:lnTo>
                  <a:lnTo>
                    <a:pt x="4788" y="1833"/>
                  </a:lnTo>
                  <a:lnTo>
                    <a:pt x="5705" y="1426"/>
                  </a:lnTo>
                  <a:lnTo>
                    <a:pt x="6622" y="815"/>
                  </a:lnTo>
                  <a:lnTo>
                    <a:pt x="7641" y="509"/>
                  </a:lnTo>
                  <a:lnTo>
                    <a:pt x="8660" y="203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203"/>
                  </a:lnTo>
                  <a:lnTo>
                    <a:pt x="14060" y="509"/>
                  </a:lnTo>
                  <a:lnTo>
                    <a:pt x="15079" y="815"/>
                  </a:lnTo>
                  <a:lnTo>
                    <a:pt x="15995" y="1426"/>
                  </a:lnTo>
                  <a:lnTo>
                    <a:pt x="16811" y="1833"/>
                  </a:lnTo>
                  <a:lnTo>
                    <a:pt x="17727" y="2445"/>
                  </a:lnTo>
                  <a:lnTo>
                    <a:pt x="18441" y="3158"/>
                  </a:lnTo>
                  <a:lnTo>
                    <a:pt x="19154" y="3871"/>
                  </a:lnTo>
                  <a:lnTo>
                    <a:pt x="19765" y="4788"/>
                  </a:lnTo>
                  <a:lnTo>
                    <a:pt x="20275" y="5705"/>
                  </a:lnTo>
                  <a:lnTo>
                    <a:pt x="20784" y="6622"/>
                  </a:lnTo>
                  <a:lnTo>
                    <a:pt x="21192" y="7641"/>
                  </a:lnTo>
                  <a:lnTo>
                    <a:pt x="21497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54560" y="5585400"/>
              <a:ext cx="525240" cy="52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95"/>
                  </a:lnTo>
                  <a:lnTo>
                    <a:pt x="21443" y="12834"/>
                  </a:lnTo>
                  <a:lnTo>
                    <a:pt x="21286" y="13930"/>
                  </a:lnTo>
                  <a:lnTo>
                    <a:pt x="20817" y="15182"/>
                  </a:lnTo>
                  <a:lnTo>
                    <a:pt x="20347" y="15965"/>
                  </a:lnTo>
                  <a:lnTo>
                    <a:pt x="19721" y="16904"/>
                  </a:lnTo>
                  <a:lnTo>
                    <a:pt x="19095" y="17686"/>
                  </a:lnTo>
                  <a:lnTo>
                    <a:pt x="18469" y="18313"/>
                  </a:lnTo>
                  <a:lnTo>
                    <a:pt x="17686" y="19095"/>
                  </a:lnTo>
                  <a:lnTo>
                    <a:pt x="16904" y="19721"/>
                  </a:lnTo>
                  <a:lnTo>
                    <a:pt x="15965" y="20347"/>
                  </a:lnTo>
                  <a:lnTo>
                    <a:pt x="15182" y="20817"/>
                  </a:lnTo>
                  <a:lnTo>
                    <a:pt x="13930" y="21130"/>
                  </a:lnTo>
                  <a:lnTo>
                    <a:pt x="12991" y="21443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3"/>
                  </a:lnTo>
                  <a:lnTo>
                    <a:pt x="7669" y="21130"/>
                  </a:lnTo>
                  <a:lnTo>
                    <a:pt x="6573" y="20817"/>
                  </a:lnTo>
                  <a:lnTo>
                    <a:pt x="5634" y="20347"/>
                  </a:lnTo>
                  <a:lnTo>
                    <a:pt x="4851" y="19721"/>
                  </a:lnTo>
                  <a:lnTo>
                    <a:pt x="3912" y="19095"/>
                  </a:lnTo>
                  <a:lnTo>
                    <a:pt x="3130" y="18313"/>
                  </a:lnTo>
                  <a:lnTo>
                    <a:pt x="2347" y="17686"/>
                  </a:lnTo>
                  <a:lnTo>
                    <a:pt x="1878" y="16904"/>
                  </a:lnTo>
                  <a:lnTo>
                    <a:pt x="1252" y="15965"/>
                  </a:lnTo>
                  <a:lnTo>
                    <a:pt x="939" y="15182"/>
                  </a:lnTo>
                  <a:lnTo>
                    <a:pt x="469" y="13930"/>
                  </a:lnTo>
                  <a:lnTo>
                    <a:pt x="156" y="12834"/>
                  </a:lnTo>
                  <a:lnTo>
                    <a:pt x="0" y="11895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04"/>
                  </a:lnTo>
                  <a:lnTo>
                    <a:pt x="156" y="8608"/>
                  </a:lnTo>
                  <a:lnTo>
                    <a:pt x="469" y="7513"/>
                  </a:lnTo>
                  <a:lnTo>
                    <a:pt x="939" y="6573"/>
                  </a:lnTo>
                  <a:lnTo>
                    <a:pt x="1252" y="5634"/>
                  </a:lnTo>
                  <a:lnTo>
                    <a:pt x="1878" y="4695"/>
                  </a:lnTo>
                  <a:lnTo>
                    <a:pt x="2347" y="3912"/>
                  </a:lnTo>
                  <a:lnTo>
                    <a:pt x="3130" y="3130"/>
                  </a:lnTo>
                  <a:lnTo>
                    <a:pt x="3912" y="2347"/>
                  </a:lnTo>
                  <a:lnTo>
                    <a:pt x="4851" y="1878"/>
                  </a:lnTo>
                  <a:lnTo>
                    <a:pt x="5634" y="1252"/>
                  </a:lnTo>
                  <a:lnTo>
                    <a:pt x="6573" y="939"/>
                  </a:lnTo>
                  <a:lnTo>
                    <a:pt x="7669" y="469"/>
                  </a:lnTo>
                  <a:lnTo>
                    <a:pt x="8608" y="156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6"/>
                  </a:lnTo>
                  <a:lnTo>
                    <a:pt x="13930" y="469"/>
                  </a:lnTo>
                  <a:lnTo>
                    <a:pt x="15182" y="939"/>
                  </a:lnTo>
                  <a:lnTo>
                    <a:pt x="15965" y="1252"/>
                  </a:lnTo>
                  <a:lnTo>
                    <a:pt x="16904" y="1878"/>
                  </a:lnTo>
                  <a:lnTo>
                    <a:pt x="17686" y="2347"/>
                  </a:lnTo>
                  <a:lnTo>
                    <a:pt x="18469" y="3130"/>
                  </a:lnTo>
                  <a:lnTo>
                    <a:pt x="19095" y="3912"/>
                  </a:lnTo>
                  <a:lnTo>
                    <a:pt x="19721" y="4695"/>
                  </a:lnTo>
                  <a:lnTo>
                    <a:pt x="20347" y="5634"/>
                  </a:lnTo>
                  <a:lnTo>
                    <a:pt x="20817" y="6573"/>
                  </a:lnTo>
                  <a:lnTo>
                    <a:pt x="21286" y="7513"/>
                  </a:lnTo>
                  <a:lnTo>
                    <a:pt x="21443" y="8608"/>
                  </a:lnTo>
                  <a:lnTo>
                    <a:pt x="21600" y="9704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407880" y="2660760"/>
            <a:ext cx="1077840" cy="1072800"/>
            <a:chOff x="407880" y="2660760"/>
            <a:chExt cx="1077840" cy="1072800"/>
          </a:xfrm>
        </p:grpSpPr>
        <p:sp>
          <p:nvSpPr>
            <p:cNvPr id="5" name="Freeform 7"/>
            <p:cNvSpPr/>
            <p:nvPr/>
          </p:nvSpPr>
          <p:spPr>
            <a:xfrm>
              <a:off x="407880" y="2660760"/>
              <a:ext cx="1077840" cy="107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684" y="15012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631" y="19148"/>
                  </a:lnTo>
                  <a:lnTo>
                    <a:pt x="16715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063"/>
                  </a:lnTo>
                  <a:lnTo>
                    <a:pt x="12898" y="21369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69"/>
                  </a:lnTo>
                  <a:lnTo>
                    <a:pt x="7556" y="21063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12"/>
                  </a:lnTo>
                  <a:lnTo>
                    <a:pt x="457" y="14016"/>
                  </a:lnTo>
                  <a:lnTo>
                    <a:pt x="152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51"/>
                  </a:lnTo>
                  <a:lnTo>
                    <a:pt x="152" y="8578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672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842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229"/>
                  </a:lnTo>
                  <a:lnTo>
                    <a:pt x="13967" y="535"/>
                  </a:lnTo>
                  <a:lnTo>
                    <a:pt x="15035" y="842"/>
                  </a:lnTo>
                  <a:lnTo>
                    <a:pt x="15875" y="1301"/>
                  </a:lnTo>
                  <a:lnTo>
                    <a:pt x="16715" y="1838"/>
                  </a:lnTo>
                  <a:lnTo>
                    <a:pt x="17631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672"/>
                  </a:lnTo>
                  <a:lnTo>
                    <a:pt x="20302" y="5667"/>
                  </a:lnTo>
                  <a:lnTo>
                    <a:pt x="20684" y="6587"/>
                  </a:lnTo>
                  <a:lnTo>
                    <a:pt x="21065" y="7582"/>
                  </a:lnTo>
                  <a:lnTo>
                    <a:pt x="21370" y="8578"/>
                  </a:lnTo>
                  <a:lnTo>
                    <a:pt x="21523" y="9651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43960" y="2793240"/>
              <a:ext cx="805320" cy="80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4" y="12939"/>
                  </a:lnTo>
                  <a:lnTo>
                    <a:pt x="21088" y="13958"/>
                  </a:lnTo>
                  <a:lnTo>
                    <a:pt x="20678" y="15079"/>
                  </a:lnTo>
                  <a:lnTo>
                    <a:pt x="20166" y="15894"/>
                  </a:lnTo>
                  <a:lnTo>
                    <a:pt x="19757" y="16811"/>
                  </a:lnTo>
                  <a:lnTo>
                    <a:pt x="19040" y="17626"/>
                  </a:lnTo>
                  <a:lnTo>
                    <a:pt x="18323" y="18441"/>
                  </a:lnTo>
                  <a:lnTo>
                    <a:pt x="17607" y="19052"/>
                  </a:lnTo>
                  <a:lnTo>
                    <a:pt x="16686" y="19765"/>
                  </a:lnTo>
                  <a:lnTo>
                    <a:pt x="15867" y="20275"/>
                  </a:lnTo>
                  <a:lnTo>
                    <a:pt x="14945" y="20784"/>
                  </a:lnTo>
                  <a:lnTo>
                    <a:pt x="13922" y="21090"/>
                  </a:lnTo>
                  <a:lnTo>
                    <a:pt x="12898" y="21395"/>
                  </a:lnTo>
                  <a:lnTo>
                    <a:pt x="11772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496" y="21395"/>
                  </a:lnTo>
                  <a:lnTo>
                    <a:pt x="7575" y="21090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052"/>
                  </a:lnTo>
                  <a:lnTo>
                    <a:pt x="3070" y="18441"/>
                  </a:lnTo>
                  <a:lnTo>
                    <a:pt x="2354" y="17626"/>
                  </a:lnTo>
                  <a:lnTo>
                    <a:pt x="1740" y="16811"/>
                  </a:lnTo>
                  <a:lnTo>
                    <a:pt x="1330" y="15894"/>
                  </a:lnTo>
                  <a:lnTo>
                    <a:pt x="716" y="15079"/>
                  </a:lnTo>
                  <a:lnTo>
                    <a:pt x="409" y="13958"/>
                  </a:lnTo>
                  <a:lnTo>
                    <a:pt x="102" y="12939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102" y="8558"/>
                  </a:lnTo>
                  <a:lnTo>
                    <a:pt x="409" y="7641"/>
                  </a:lnTo>
                  <a:lnTo>
                    <a:pt x="716" y="6520"/>
                  </a:lnTo>
                  <a:lnTo>
                    <a:pt x="1330" y="5705"/>
                  </a:lnTo>
                  <a:lnTo>
                    <a:pt x="1740" y="4686"/>
                  </a:lnTo>
                  <a:lnTo>
                    <a:pt x="2354" y="3871"/>
                  </a:lnTo>
                  <a:lnTo>
                    <a:pt x="3070" y="3056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324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496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772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4945" y="815"/>
                  </a:lnTo>
                  <a:lnTo>
                    <a:pt x="15867" y="1324"/>
                  </a:lnTo>
                  <a:lnTo>
                    <a:pt x="16686" y="1833"/>
                  </a:lnTo>
                  <a:lnTo>
                    <a:pt x="17607" y="2445"/>
                  </a:lnTo>
                  <a:lnTo>
                    <a:pt x="18323" y="3056"/>
                  </a:lnTo>
                  <a:lnTo>
                    <a:pt x="19040" y="3871"/>
                  </a:lnTo>
                  <a:lnTo>
                    <a:pt x="19757" y="4686"/>
                  </a:lnTo>
                  <a:lnTo>
                    <a:pt x="20166" y="5705"/>
                  </a:lnTo>
                  <a:lnTo>
                    <a:pt x="20678" y="6520"/>
                  </a:lnTo>
                  <a:lnTo>
                    <a:pt x="21088" y="7641"/>
                  </a:lnTo>
                  <a:lnTo>
                    <a:pt x="21394" y="8558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81840" y="2931120"/>
              <a:ext cx="525960" cy="52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809"/>
                  </a:lnTo>
                  <a:lnTo>
                    <a:pt x="21443" y="12897"/>
                  </a:lnTo>
                  <a:lnTo>
                    <a:pt x="21286" y="13985"/>
                  </a:lnTo>
                  <a:lnTo>
                    <a:pt x="20817" y="14917"/>
                  </a:lnTo>
                  <a:lnTo>
                    <a:pt x="20347" y="15850"/>
                  </a:lnTo>
                  <a:lnTo>
                    <a:pt x="19721" y="16937"/>
                  </a:lnTo>
                  <a:lnTo>
                    <a:pt x="19095" y="17559"/>
                  </a:lnTo>
                  <a:lnTo>
                    <a:pt x="18469" y="18336"/>
                  </a:lnTo>
                  <a:lnTo>
                    <a:pt x="17686" y="19113"/>
                  </a:lnTo>
                  <a:lnTo>
                    <a:pt x="16904" y="19735"/>
                  </a:lnTo>
                  <a:lnTo>
                    <a:pt x="15965" y="20201"/>
                  </a:lnTo>
                  <a:lnTo>
                    <a:pt x="15182" y="20667"/>
                  </a:lnTo>
                  <a:lnTo>
                    <a:pt x="13930" y="21133"/>
                  </a:lnTo>
                  <a:lnTo>
                    <a:pt x="12991" y="21444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4"/>
                  </a:lnTo>
                  <a:lnTo>
                    <a:pt x="7669" y="21133"/>
                  </a:lnTo>
                  <a:lnTo>
                    <a:pt x="6573" y="20667"/>
                  </a:lnTo>
                  <a:lnTo>
                    <a:pt x="5634" y="20201"/>
                  </a:lnTo>
                  <a:lnTo>
                    <a:pt x="4851" y="19735"/>
                  </a:lnTo>
                  <a:lnTo>
                    <a:pt x="3912" y="19113"/>
                  </a:lnTo>
                  <a:lnTo>
                    <a:pt x="3130" y="18336"/>
                  </a:lnTo>
                  <a:lnTo>
                    <a:pt x="2504" y="17559"/>
                  </a:lnTo>
                  <a:lnTo>
                    <a:pt x="1878" y="16937"/>
                  </a:lnTo>
                  <a:lnTo>
                    <a:pt x="1252" y="15850"/>
                  </a:lnTo>
                  <a:lnTo>
                    <a:pt x="939" y="14917"/>
                  </a:lnTo>
                  <a:lnTo>
                    <a:pt x="469" y="13985"/>
                  </a:lnTo>
                  <a:lnTo>
                    <a:pt x="156" y="12897"/>
                  </a:lnTo>
                  <a:lnTo>
                    <a:pt x="0" y="11809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634"/>
                  </a:lnTo>
                  <a:lnTo>
                    <a:pt x="156" y="8701"/>
                  </a:lnTo>
                  <a:lnTo>
                    <a:pt x="469" y="7614"/>
                  </a:lnTo>
                  <a:lnTo>
                    <a:pt x="939" y="6526"/>
                  </a:lnTo>
                  <a:lnTo>
                    <a:pt x="1252" y="5594"/>
                  </a:lnTo>
                  <a:lnTo>
                    <a:pt x="1878" y="4661"/>
                  </a:lnTo>
                  <a:lnTo>
                    <a:pt x="2504" y="3729"/>
                  </a:lnTo>
                  <a:lnTo>
                    <a:pt x="3130" y="3263"/>
                  </a:lnTo>
                  <a:lnTo>
                    <a:pt x="3912" y="2330"/>
                  </a:lnTo>
                  <a:lnTo>
                    <a:pt x="4851" y="1709"/>
                  </a:lnTo>
                  <a:lnTo>
                    <a:pt x="5634" y="1087"/>
                  </a:lnTo>
                  <a:lnTo>
                    <a:pt x="6573" y="932"/>
                  </a:lnTo>
                  <a:lnTo>
                    <a:pt x="7669" y="466"/>
                  </a:lnTo>
                  <a:lnTo>
                    <a:pt x="8608" y="155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5"/>
                  </a:lnTo>
                  <a:lnTo>
                    <a:pt x="13930" y="466"/>
                  </a:lnTo>
                  <a:lnTo>
                    <a:pt x="15182" y="932"/>
                  </a:lnTo>
                  <a:lnTo>
                    <a:pt x="15965" y="1087"/>
                  </a:lnTo>
                  <a:lnTo>
                    <a:pt x="16904" y="1709"/>
                  </a:lnTo>
                  <a:lnTo>
                    <a:pt x="17686" y="2330"/>
                  </a:lnTo>
                  <a:lnTo>
                    <a:pt x="18469" y="3263"/>
                  </a:lnTo>
                  <a:lnTo>
                    <a:pt x="19095" y="3729"/>
                  </a:lnTo>
                  <a:lnTo>
                    <a:pt x="19721" y="4661"/>
                  </a:lnTo>
                  <a:lnTo>
                    <a:pt x="20347" y="5594"/>
                  </a:lnTo>
                  <a:lnTo>
                    <a:pt x="20817" y="6526"/>
                  </a:lnTo>
                  <a:lnTo>
                    <a:pt x="21286" y="7614"/>
                  </a:lnTo>
                  <a:lnTo>
                    <a:pt x="21443" y="8701"/>
                  </a:lnTo>
                  <a:lnTo>
                    <a:pt x="21600" y="9634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388800"/>
            <a:ext cx="1477440" cy="1477800"/>
            <a:chOff x="0" y="388800"/>
            <a:chExt cx="1477440" cy="1477800"/>
          </a:xfrm>
        </p:grpSpPr>
        <p:sp>
          <p:nvSpPr>
            <p:cNvPr id="9" name="Freeform 11"/>
            <p:cNvSpPr/>
            <p:nvPr/>
          </p:nvSpPr>
          <p:spPr>
            <a:xfrm>
              <a:off x="0" y="38880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56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154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64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64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56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71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96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55"/>
                  </a:lnTo>
                  <a:lnTo>
                    <a:pt x="1018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356" y="0"/>
                  </a:lnTo>
                  <a:lnTo>
                    <a:pt x="11857" y="55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96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154" y="7571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6120" y="574920"/>
              <a:ext cx="1108080" cy="110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5"/>
                  </a:moveTo>
                  <a:lnTo>
                    <a:pt x="21600" y="10725"/>
                  </a:lnTo>
                  <a:lnTo>
                    <a:pt x="21525" y="11768"/>
                  </a:lnTo>
                  <a:lnTo>
                    <a:pt x="21303" y="12810"/>
                  </a:lnTo>
                  <a:lnTo>
                    <a:pt x="21006" y="13928"/>
                  </a:lnTo>
                  <a:lnTo>
                    <a:pt x="20709" y="14896"/>
                  </a:lnTo>
                  <a:lnTo>
                    <a:pt x="20263" y="15864"/>
                  </a:lnTo>
                  <a:lnTo>
                    <a:pt x="19669" y="16758"/>
                  </a:lnTo>
                  <a:lnTo>
                    <a:pt x="19076" y="17577"/>
                  </a:lnTo>
                  <a:lnTo>
                    <a:pt x="18333" y="18397"/>
                  </a:lnTo>
                  <a:lnTo>
                    <a:pt x="17591" y="18992"/>
                  </a:lnTo>
                  <a:lnTo>
                    <a:pt x="16849" y="19663"/>
                  </a:lnTo>
                  <a:lnTo>
                    <a:pt x="15810" y="20259"/>
                  </a:lnTo>
                  <a:lnTo>
                    <a:pt x="14919" y="20631"/>
                  </a:lnTo>
                  <a:lnTo>
                    <a:pt x="13954" y="21004"/>
                  </a:lnTo>
                  <a:lnTo>
                    <a:pt x="12915" y="21302"/>
                  </a:lnTo>
                  <a:lnTo>
                    <a:pt x="11876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02"/>
                  </a:lnTo>
                  <a:lnTo>
                    <a:pt x="7571" y="21004"/>
                  </a:lnTo>
                  <a:lnTo>
                    <a:pt x="6605" y="20631"/>
                  </a:lnTo>
                  <a:lnTo>
                    <a:pt x="5566" y="20259"/>
                  </a:lnTo>
                  <a:lnTo>
                    <a:pt x="4676" y="19663"/>
                  </a:lnTo>
                  <a:lnTo>
                    <a:pt x="3933" y="18992"/>
                  </a:lnTo>
                  <a:lnTo>
                    <a:pt x="3117" y="18397"/>
                  </a:lnTo>
                  <a:lnTo>
                    <a:pt x="2449" y="17577"/>
                  </a:lnTo>
                  <a:lnTo>
                    <a:pt x="1781" y="16758"/>
                  </a:lnTo>
                  <a:lnTo>
                    <a:pt x="1261" y="15864"/>
                  </a:lnTo>
                  <a:lnTo>
                    <a:pt x="816" y="14896"/>
                  </a:lnTo>
                  <a:lnTo>
                    <a:pt x="445" y="13928"/>
                  </a:lnTo>
                  <a:lnTo>
                    <a:pt x="222" y="12810"/>
                  </a:lnTo>
                  <a:lnTo>
                    <a:pt x="0" y="11768"/>
                  </a:lnTo>
                  <a:lnTo>
                    <a:pt x="0" y="10725"/>
                  </a:lnTo>
                  <a:lnTo>
                    <a:pt x="0" y="10725"/>
                  </a:lnTo>
                  <a:lnTo>
                    <a:pt x="0" y="9682"/>
                  </a:lnTo>
                  <a:lnTo>
                    <a:pt x="222" y="8565"/>
                  </a:lnTo>
                  <a:lnTo>
                    <a:pt x="445" y="7597"/>
                  </a:lnTo>
                  <a:lnTo>
                    <a:pt x="816" y="6554"/>
                  </a:lnTo>
                  <a:lnTo>
                    <a:pt x="1261" y="5585"/>
                  </a:lnTo>
                  <a:lnTo>
                    <a:pt x="1781" y="4692"/>
                  </a:lnTo>
                  <a:lnTo>
                    <a:pt x="2449" y="3873"/>
                  </a:lnTo>
                  <a:lnTo>
                    <a:pt x="3117" y="3053"/>
                  </a:lnTo>
                  <a:lnTo>
                    <a:pt x="3933" y="2457"/>
                  </a:lnTo>
                  <a:lnTo>
                    <a:pt x="4676" y="1787"/>
                  </a:lnTo>
                  <a:lnTo>
                    <a:pt x="5566" y="1265"/>
                  </a:lnTo>
                  <a:lnTo>
                    <a:pt x="6605" y="819"/>
                  </a:lnTo>
                  <a:lnTo>
                    <a:pt x="7571" y="446"/>
                  </a:lnTo>
                  <a:lnTo>
                    <a:pt x="8536" y="148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76" y="0"/>
                  </a:lnTo>
                  <a:lnTo>
                    <a:pt x="12915" y="148"/>
                  </a:lnTo>
                  <a:lnTo>
                    <a:pt x="13954" y="446"/>
                  </a:lnTo>
                  <a:lnTo>
                    <a:pt x="14919" y="819"/>
                  </a:lnTo>
                  <a:lnTo>
                    <a:pt x="15810" y="1265"/>
                  </a:lnTo>
                  <a:lnTo>
                    <a:pt x="16849" y="1787"/>
                  </a:lnTo>
                  <a:lnTo>
                    <a:pt x="17591" y="2457"/>
                  </a:lnTo>
                  <a:lnTo>
                    <a:pt x="18333" y="3053"/>
                  </a:lnTo>
                  <a:lnTo>
                    <a:pt x="19076" y="3873"/>
                  </a:lnTo>
                  <a:lnTo>
                    <a:pt x="19669" y="4692"/>
                  </a:lnTo>
                  <a:lnTo>
                    <a:pt x="20263" y="5585"/>
                  </a:lnTo>
                  <a:lnTo>
                    <a:pt x="20709" y="6554"/>
                  </a:lnTo>
                  <a:lnTo>
                    <a:pt x="21006" y="7597"/>
                  </a:lnTo>
                  <a:lnTo>
                    <a:pt x="21303" y="8565"/>
                  </a:lnTo>
                  <a:lnTo>
                    <a:pt x="21525" y="9682"/>
                  </a:lnTo>
                  <a:lnTo>
                    <a:pt x="21600" y="10725"/>
                  </a:lnTo>
                  <a:lnTo>
                    <a:pt x="21600" y="1072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77640" y="766440"/>
              <a:ext cx="7218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2" y="12959"/>
                  </a:lnTo>
                  <a:lnTo>
                    <a:pt x="21031" y="13982"/>
                  </a:lnTo>
                  <a:lnTo>
                    <a:pt x="20690" y="15119"/>
                  </a:lnTo>
                  <a:lnTo>
                    <a:pt x="20235" y="15915"/>
                  </a:lnTo>
                  <a:lnTo>
                    <a:pt x="19780" y="16825"/>
                  </a:lnTo>
                  <a:lnTo>
                    <a:pt x="19098" y="17620"/>
                  </a:lnTo>
                  <a:lnTo>
                    <a:pt x="18303" y="18416"/>
                  </a:lnTo>
                  <a:lnTo>
                    <a:pt x="17620" y="19212"/>
                  </a:lnTo>
                  <a:lnTo>
                    <a:pt x="16711" y="19780"/>
                  </a:lnTo>
                  <a:lnTo>
                    <a:pt x="15915" y="20349"/>
                  </a:lnTo>
                  <a:lnTo>
                    <a:pt x="15006" y="20804"/>
                  </a:lnTo>
                  <a:lnTo>
                    <a:pt x="13982" y="21145"/>
                  </a:lnTo>
                  <a:lnTo>
                    <a:pt x="12846" y="21372"/>
                  </a:lnTo>
                  <a:lnTo>
                    <a:pt x="11936" y="21600"/>
                  </a:lnTo>
                  <a:lnTo>
                    <a:pt x="10686" y="21600"/>
                  </a:lnTo>
                  <a:lnTo>
                    <a:pt x="10686" y="21600"/>
                  </a:lnTo>
                  <a:lnTo>
                    <a:pt x="9662" y="21600"/>
                  </a:lnTo>
                  <a:lnTo>
                    <a:pt x="8526" y="21372"/>
                  </a:lnTo>
                  <a:lnTo>
                    <a:pt x="7503" y="21145"/>
                  </a:lnTo>
                  <a:lnTo>
                    <a:pt x="6479" y="20804"/>
                  </a:lnTo>
                  <a:lnTo>
                    <a:pt x="5570" y="20349"/>
                  </a:lnTo>
                  <a:lnTo>
                    <a:pt x="4660" y="19780"/>
                  </a:lnTo>
                  <a:lnTo>
                    <a:pt x="3978" y="19212"/>
                  </a:lnTo>
                  <a:lnTo>
                    <a:pt x="3069" y="18416"/>
                  </a:lnTo>
                  <a:lnTo>
                    <a:pt x="2273" y="17620"/>
                  </a:lnTo>
                  <a:lnTo>
                    <a:pt x="1818" y="16825"/>
                  </a:lnTo>
                  <a:lnTo>
                    <a:pt x="1250" y="15915"/>
                  </a:lnTo>
                  <a:lnTo>
                    <a:pt x="681" y="15119"/>
                  </a:lnTo>
                  <a:lnTo>
                    <a:pt x="454" y="13982"/>
                  </a:lnTo>
                  <a:lnTo>
                    <a:pt x="227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7" y="8639"/>
                  </a:lnTo>
                  <a:lnTo>
                    <a:pt x="454" y="7616"/>
                  </a:lnTo>
                  <a:lnTo>
                    <a:pt x="681" y="6593"/>
                  </a:lnTo>
                  <a:lnTo>
                    <a:pt x="1250" y="5570"/>
                  </a:lnTo>
                  <a:lnTo>
                    <a:pt x="1818" y="4774"/>
                  </a:lnTo>
                  <a:lnTo>
                    <a:pt x="2273" y="3978"/>
                  </a:lnTo>
                  <a:lnTo>
                    <a:pt x="3069" y="3182"/>
                  </a:lnTo>
                  <a:lnTo>
                    <a:pt x="3978" y="2387"/>
                  </a:lnTo>
                  <a:lnTo>
                    <a:pt x="4660" y="1818"/>
                  </a:lnTo>
                  <a:lnTo>
                    <a:pt x="5570" y="1364"/>
                  </a:lnTo>
                  <a:lnTo>
                    <a:pt x="6479" y="795"/>
                  </a:lnTo>
                  <a:lnTo>
                    <a:pt x="7503" y="568"/>
                  </a:lnTo>
                  <a:lnTo>
                    <a:pt x="8526" y="227"/>
                  </a:lnTo>
                  <a:lnTo>
                    <a:pt x="9662" y="0"/>
                  </a:lnTo>
                  <a:lnTo>
                    <a:pt x="10686" y="0"/>
                  </a:lnTo>
                  <a:lnTo>
                    <a:pt x="10686" y="0"/>
                  </a:lnTo>
                  <a:lnTo>
                    <a:pt x="11936" y="0"/>
                  </a:lnTo>
                  <a:lnTo>
                    <a:pt x="12846" y="227"/>
                  </a:lnTo>
                  <a:lnTo>
                    <a:pt x="13982" y="568"/>
                  </a:lnTo>
                  <a:lnTo>
                    <a:pt x="15006" y="795"/>
                  </a:lnTo>
                  <a:lnTo>
                    <a:pt x="15915" y="1364"/>
                  </a:lnTo>
                  <a:lnTo>
                    <a:pt x="16711" y="1818"/>
                  </a:lnTo>
                  <a:lnTo>
                    <a:pt x="17620" y="2387"/>
                  </a:lnTo>
                  <a:lnTo>
                    <a:pt x="18303" y="3182"/>
                  </a:lnTo>
                  <a:lnTo>
                    <a:pt x="19098" y="3978"/>
                  </a:lnTo>
                  <a:lnTo>
                    <a:pt x="19780" y="4774"/>
                  </a:lnTo>
                  <a:lnTo>
                    <a:pt x="20235" y="5570"/>
                  </a:lnTo>
                  <a:lnTo>
                    <a:pt x="20690" y="6593"/>
                  </a:lnTo>
                  <a:lnTo>
                    <a:pt x="21031" y="7616"/>
                  </a:lnTo>
                  <a:lnTo>
                    <a:pt x="21372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Freeform 14"/>
          <p:cNvSpPr/>
          <p:nvPr/>
        </p:nvSpPr>
        <p:spPr>
          <a:xfrm>
            <a:off x="0" y="4027320"/>
            <a:ext cx="682560" cy="69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40"/>
                </a:moveTo>
                <a:lnTo>
                  <a:pt x="21600" y="10740"/>
                </a:lnTo>
                <a:lnTo>
                  <a:pt x="21479" y="11921"/>
                </a:lnTo>
                <a:lnTo>
                  <a:pt x="21358" y="12865"/>
                </a:lnTo>
                <a:lnTo>
                  <a:pt x="21117" y="14045"/>
                </a:lnTo>
                <a:lnTo>
                  <a:pt x="20634" y="14990"/>
                </a:lnTo>
                <a:lnTo>
                  <a:pt x="20272" y="15934"/>
                </a:lnTo>
                <a:lnTo>
                  <a:pt x="19669" y="16760"/>
                </a:lnTo>
                <a:lnTo>
                  <a:pt x="19065" y="17586"/>
                </a:lnTo>
                <a:lnTo>
                  <a:pt x="18462" y="18412"/>
                </a:lnTo>
                <a:lnTo>
                  <a:pt x="17617" y="19121"/>
                </a:lnTo>
                <a:lnTo>
                  <a:pt x="16773" y="19711"/>
                </a:lnTo>
                <a:lnTo>
                  <a:pt x="15928" y="20183"/>
                </a:lnTo>
                <a:lnTo>
                  <a:pt x="14963" y="20655"/>
                </a:lnTo>
                <a:lnTo>
                  <a:pt x="13997" y="21127"/>
                </a:lnTo>
                <a:lnTo>
                  <a:pt x="12911" y="21363"/>
                </a:lnTo>
                <a:lnTo>
                  <a:pt x="11946" y="21481"/>
                </a:lnTo>
                <a:lnTo>
                  <a:pt x="10860" y="21600"/>
                </a:lnTo>
                <a:lnTo>
                  <a:pt x="10860" y="21600"/>
                </a:lnTo>
                <a:lnTo>
                  <a:pt x="9653" y="21481"/>
                </a:lnTo>
                <a:lnTo>
                  <a:pt x="8567" y="21363"/>
                </a:lnTo>
                <a:lnTo>
                  <a:pt x="7601" y="21127"/>
                </a:lnTo>
                <a:lnTo>
                  <a:pt x="6636" y="20655"/>
                </a:lnTo>
                <a:lnTo>
                  <a:pt x="5550" y="20183"/>
                </a:lnTo>
                <a:lnTo>
                  <a:pt x="4705" y="19711"/>
                </a:lnTo>
                <a:lnTo>
                  <a:pt x="3861" y="19121"/>
                </a:lnTo>
                <a:lnTo>
                  <a:pt x="3016" y="18412"/>
                </a:lnTo>
                <a:lnTo>
                  <a:pt x="2413" y="17586"/>
                </a:lnTo>
                <a:lnTo>
                  <a:pt x="1809" y="16760"/>
                </a:lnTo>
                <a:lnTo>
                  <a:pt x="1206" y="15934"/>
                </a:lnTo>
                <a:lnTo>
                  <a:pt x="844" y="14990"/>
                </a:lnTo>
                <a:lnTo>
                  <a:pt x="482" y="14045"/>
                </a:lnTo>
                <a:lnTo>
                  <a:pt x="241" y="12865"/>
                </a:lnTo>
                <a:lnTo>
                  <a:pt x="0" y="11921"/>
                </a:lnTo>
                <a:lnTo>
                  <a:pt x="0" y="10740"/>
                </a:lnTo>
                <a:lnTo>
                  <a:pt x="0" y="10740"/>
                </a:lnTo>
                <a:lnTo>
                  <a:pt x="0" y="9678"/>
                </a:lnTo>
                <a:lnTo>
                  <a:pt x="241" y="8498"/>
                </a:lnTo>
                <a:lnTo>
                  <a:pt x="482" y="7553"/>
                </a:lnTo>
                <a:lnTo>
                  <a:pt x="844" y="6491"/>
                </a:lnTo>
                <a:lnTo>
                  <a:pt x="1206" y="5547"/>
                </a:lnTo>
                <a:lnTo>
                  <a:pt x="1809" y="4603"/>
                </a:lnTo>
                <a:lnTo>
                  <a:pt x="2413" y="3894"/>
                </a:lnTo>
                <a:lnTo>
                  <a:pt x="3016" y="3068"/>
                </a:lnTo>
                <a:lnTo>
                  <a:pt x="3861" y="2360"/>
                </a:lnTo>
                <a:lnTo>
                  <a:pt x="4705" y="1770"/>
                </a:lnTo>
                <a:lnTo>
                  <a:pt x="5550" y="1180"/>
                </a:lnTo>
                <a:lnTo>
                  <a:pt x="6636" y="707"/>
                </a:lnTo>
                <a:lnTo>
                  <a:pt x="7601" y="353"/>
                </a:lnTo>
                <a:lnTo>
                  <a:pt x="8567" y="235"/>
                </a:lnTo>
                <a:lnTo>
                  <a:pt x="9653" y="0"/>
                </a:lnTo>
                <a:lnTo>
                  <a:pt x="10860" y="0"/>
                </a:lnTo>
                <a:lnTo>
                  <a:pt x="10860" y="0"/>
                </a:lnTo>
                <a:lnTo>
                  <a:pt x="11946" y="0"/>
                </a:lnTo>
                <a:lnTo>
                  <a:pt x="12911" y="235"/>
                </a:lnTo>
                <a:lnTo>
                  <a:pt x="13997" y="353"/>
                </a:lnTo>
                <a:lnTo>
                  <a:pt x="14963" y="707"/>
                </a:lnTo>
                <a:lnTo>
                  <a:pt x="15928" y="1180"/>
                </a:lnTo>
                <a:lnTo>
                  <a:pt x="16773" y="1770"/>
                </a:lnTo>
                <a:lnTo>
                  <a:pt x="17617" y="2360"/>
                </a:lnTo>
                <a:lnTo>
                  <a:pt x="18462" y="3068"/>
                </a:lnTo>
                <a:lnTo>
                  <a:pt x="19065" y="3894"/>
                </a:lnTo>
                <a:lnTo>
                  <a:pt x="19669" y="4603"/>
                </a:lnTo>
                <a:lnTo>
                  <a:pt x="20272" y="5547"/>
                </a:lnTo>
                <a:lnTo>
                  <a:pt x="20634" y="6491"/>
                </a:lnTo>
                <a:lnTo>
                  <a:pt x="21117" y="7553"/>
                </a:lnTo>
                <a:lnTo>
                  <a:pt x="21358" y="8498"/>
                </a:lnTo>
                <a:lnTo>
                  <a:pt x="21479" y="9678"/>
                </a:lnTo>
                <a:lnTo>
                  <a:pt x="21600" y="10740"/>
                </a:lnTo>
                <a:lnTo>
                  <a:pt x="21600" y="1074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15"/>
          <p:cNvGrpSpPr/>
          <p:nvPr/>
        </p:nvGrpSpPr>
        <p:grpSpPr>
          <a:xfrm>
            <a:off x="95400" y="4122720"/>
            <a:ext cx="513720" cy="522000"/>
            <a:chOff x="95400" y="4122720"/>
            <a:chExt cx="513720" cy="522000"/>
          </a:xfrm>
        </p:grpSpPr>
        <p:sp>
          <p:nvSpPr>
            <p:cNvPr id="14" name="Freeform 16"/>
            <p:cNvSpPr/>
            <p:nvPr/>
          </p:nvSpPr>
          <p:spPr>
            <a:xfrm>
              <a:off x="95400" y="4122720"/>
              <a:ext cx="513720" cy="52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0"/>
                  </a:moveTo>
                  <a:lnTo>
                    <a:pt x="21600" y="10720"/>
                  </a:lnTo>
                  <a:lnTo>
                    <a:pt x="21600" y="11667"/>
                  </a:lnTo>
                  <a:lnTo>
                    <a:pt x="21279" y="12928"/>
                  </a:lnTo>
                  <a:lnTo>
                    <a:pt x="21119" y="13874"/>
                  </a:lnTo>
                  <a:lnTo>
                    <a:pt x="20639" y="14977"/>
                  </a:lnTo>
                  <a:lnTo>
                    <a:pt x="20159" y="15923"/>
                  </a:lnTo>
                  <a:lnTo>
                    <a:pt x="19679" y="16712"/>
                  </a:lnTo>
                  <a:lnTo>
                    <a:pt x="19039" y="17500"/>
                  </a:lnTo>
                  <a:lnTo>
                    <a:pt x="18399" y="18288"/>
                  </a:lnTo>
                  <a:lnTo>
                    <a:pt x="17599" y="19077"/>
                  </a:lnTo>
                  <a:lnTo>
                    <a:pt x="16639" y="19707"/>
                  </a:lnTo>
                  <a:lnTo>
                    <a:pt x="15999" y="20180"/>
                  </a:lnTo>
                  <a:lnTo>
                    <a:pt x="14879" y="20653"/>
                  </a:lnTo>
                  <a:lnTo>
                    <a:pt x="13919" y="21126"/>
                  </a:lnTo>
                  <a:lnTo>
                    <a:pt x="12959" y="21284"/>
                  </a:lnTo>
                  <a:lnTo>
                    <a:pt x="11839" y="21600"/>
                  </a:lnTo>
                  <a:lnTo>
                    <a:pt x="10719" y="21600"/>
                  </a:lnTo>
                  <a:lnTo>
                    <a:pt x="10719" y="21600"/>
                  </a:lnTo>
                  <a:lnTo>
                    <a:pt x="9599" y="21600"/>
                  </a:lnTo>
                  <a:lnTo>
                    <a:pt x="8639" y="21284"/>
                  </a:lnTo>
                  <a:lnTo>
                    <a:pt x="7519" y="21126"/>
                  </a:lnTo>
                  <a:lnTo>
                    <a:pt x="6559" y="20653"/>
                  </a:lnTo>
                  <a:lnTo>
                    <a:pt x="5599" y="20180"/>
                  </a:lnTo>
                  <a:lnTo>
                    <a:pt x="4639" y="19707"/>
                  </a:lnTo>
                  <a:lnTo>
                    <a:pt x="3839" y="19077"/>
                  </a:lnTo>
                  <a:lnTo>
                    <a:pt x="3039" y="18288"/>
                  </a:lnTo>
                  <a:lnTo>
                    <a:pt x="2399" y="17500"/>
                  </a:lnTo>
                  <a:lnTo>
                    <a:pt x="1759" y="16712"/>
                  </a:lnTo>
                  <a:lnTo>
                    <a:pt x="1279" y="15923"/>
                  </a:lnTo>
                  <a:lnTo>
                    <a:pt x="799" y="14977"/>
                  </a:lnTo>
                  <a:lnTo>
                    <a:pt x="479" y="13874"/>
                  </a:lnTo>
                  <a:lnTo>
                    <a:pt x="159" y="12928"/>
                  </a:lnTo>
                  <a:lnTo>
                    <a:pt x="0" y="11667"/>
                  </a:lnTo>
                  <a:lnTo>
                    <a:pt x="0" y="10720"/>
                  </a:lnTo>
                  <a:lnTo>
                    <a:pt x="0" y="10720"/>
                  </a:lnTo>
                  <a:lnTo>
                    <a:pt x="0" y="9617"/>
                  </a:lnTo>
                  <a:lnTo>
                    <a:pt x="159" y="8513"/>
                  </a:lnTo>
                  <a:lnTo>
                    <a:pt x="479" y="7567"/>
                  </a:lnTo>
                  <a:lnTo>
                    <a:pt x="799" y="6463"/>
                  </a:lnTo>
                  <a:lnTo>
                    <a:pt x="1279" y="5675"/>
                  </a:lnTo>
                  <a:lnTo>
                    <a:pt x="1759" y="4572"/>
                  </a:lnTo>
                  <a:lnTo>
                    <a:pt x="2399" y="3783"/>
                  </a:lnTo>
                  <a:lnTo>
                    <a:pt x="3039" y="2995"/>
                  </a:lnTo>
                  <a:lnTo>
                    <a:pt x="3839" y="2364"/>
                  </a:lnTo>
                  <a:lnTo>
                    <a:pt x="4639" y="1734"/>
                  </a:lnTo>
                  <a:lnTo>
                    <a:pt x="5599" y="1261"/>
                  </a:lnTo>
                  <a:lnTo>
                    <a:pt x="6559" y="630"/>
                  </a:lnTo>
                  <a:lnTo>
                    <a:pt x="7519" y="315"/>
                  </a:lnTo>
                  <a:lnTo>
                    <a:pt x="8639" y="157"/>
                  </a:lnTo>
                  <a:lnTo>
                    <a:pt x="9599" y="0"/>
                  </a:lnTo>
                  <a:lnTo>
                    <a:pt x="10719" y="0"/>
                  </a:lnTo>
                  <a:lnTo>
                    <a:pt x="10719" y="0"/>
                  </a:lnTo>
                  <a:lnTo>
                    <a:pt x="11839" y="0"/>
                  </a:lnTo>
                  <a:lnTo>
                    <a:pt x="12959" y="157"/>
                  </a:lnTo>
                  <a:lnTo>
                    <a:pt x="13919" y="315"/>
                  </a:lnTo>
                  <a:lnTo>
                    <a:pt x="14879" y="630"/>
                  </a:lnTo>
                  <a:lnTo>
                    <a:pt x="15999" y="1261"/>
                  </a:lnTo>
                  <a:lnTo>
                    <a:pt x="16639" y="1734"/>
                  </a:lnTo>
                  <a:lnTo>
                    <a:pt x="17599" y="2364"/>
                  </a:lnTo>
                  <a:lnTo>
                    <a:pt x="18399" y="2995"/>
                  </a:lnTo>
                  <a:lnTo>
                    <a:pt x="19039" y="3783"/>
                  </a:lnTo>
                  <a:lnTo>
                    <a:pt x="19679" y="4572"/>
                  </a:lnTo>
                  <a:lnTo>
                    <a:pt x="20159" y="5675"/>
                  </a:lnTo>
                  <a:lnTo>
                    <a:pt x="20639" y="6463"/>
                  </a:lnTo>
                  <a:lnTo>
                    <a:pt x="21119" y="7567"/>
                  </a:lnTo>
                  <a:lnTo>
                    <a:pt x="21279" y="8513"/>
                  </a:lnTo>
                  <a:lnTo>
                    <a:pt x="21600" y="9617"/>
                  </a:lnTo>
                  <a:lnTo>
                    <a:pt x="21600" y="10720"/>
                  </a:lnTo>
                  <a:lnTo>
                    <a:pt x="21600" y="1072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97640" y="4224960"/>
              <a:ext cx="33084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2027"/>
                  </a:lnTo>
                  <a:lnTo>
                    <a:pt x="21351" y="12763"/>
                  </a:lnTo>
                  <a:lnTo>
                    <a:pt x="21103" y="13990"/>
                  </a:lnTo>
                  <a:lnTo>
                    <a:pt x="20606" y="14972"/>
                  </a:lnTo>
                  <a:lnTo>
                    <a:pt x="20110" y="15954"/>
                  </a:lnTo>
                  <a:lnTo>
                    <a:pt x="19613" y="16690"/>
                  </a:lnTo>
                  <a:lnTo>
                    <a:pt x="18868" y="17672"/>
                  </a:lnTo>
                  <a:lnTo>
                    <a:pt x="18372" y="18408"/>
                  </a:lnTo>
                  <a:lnTo>
                    <a:pt x="17627" y="19145"/>
                  </a:lnTo>
                  <a:lnTo>
                    <a:pt x="16882" y="19881"/>
                  </a:lnTo>
                  <a:lnTo>
                    <a:pt x="15889" y="20127"/>
                  </a:lnTo>
                  <a:lnTo>
                    <a:pt x="14896" y="20618"/>
                  </a:lnTo>
                  <a:lnTo>
                    <a:pt x="13903" y="21108"/>
                  </a:lnTo>
                  <a:lnTo>
                    <a:pt x="12910" y="21354"/>
                  </a:lnTo>
                  <a:lnTo>
                    <a:pt x="11668" y="21600"/>
                  </a:lnTo>
                  <a:lnTo>
                    <a:pt x="10675" y="21600"/>
                  </a:lnTo>
                  <a:lnTo>
                    <a:pt x="10675" y="21600"/>
                  </a:lnTo>
                  <a:lnTo>
                    <a:pt x="9682" y="21600"/>
                  </a:lnTo>
                  <a:lnTo>
                    <a:pt x="8689" y="21354"/>
                  </a:lnTo>
                  <a:lnTo>
                    <a:pt x="7448" y="21108"/>
                  </a:lnTo>
                  <a:lnTo>
                    <a:pt x="6455" y="20618"/>
                  </a:lnTo>
                  <a:lnTo>
                    <a:pt x="5710" y="20127"/>
                  </a:lnTo>
                  <a:lnTo>
                    <a:pt x="4717" y="19881"/>
                  </a:lnTo>
                  <a:lnTo>
                    <a:pt x="3724" y="19145"/>
                  </a:lnTo>
                  <a:lnTo>
                    <a:pt x="2979" y="18408"/>
                  </a:lnTo>
                  <a:lnTo>
                    <a:pt x="2234" y="17672"/>
                  </a:lnTo>
                  <a:lnTo>
                    <a:pt x="1489" y="16690"/>
                  </a:lnTo>
                  <a:lnTo>
                    <a:pt x="1241" y="15954"/>
                  </a:lnTo>
                  <a:lnTo>
                    <a:pt x="744" y="14972"/>
                  </a:lnTo>
                  <a:lnTo>
                    <a:pt x="496" y="13990"/>
                  </a:lnTo>
                  <a:lnTo>
                    <a:pt x="248" y="12763"/>
                  </a:lnTo>
                  <a:lnTo>
                    <a:pt x="0" y="12027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2"/>
                  </a:lnTo>
                  <a:lnTo>
                    <a:pt x="248" y="8590"/>
                  </a:lnTo>
                  <a:lnTo>
                    <a:pt x="496" y="7608"/>
                  </a:lnTo>
                  <a:lnTo>
                    <a:pt x="744" y="6381"/>
                  </a:lnTo>
                  <a:lnTo>
                    <a:pt x="1241" y="5645"/>
                  </a:lnTo>
                  <a:lnTo>
                    <a:pt x="1489" y="4663"/>
                  </a:lnTo>
                  <a:lnTo>
                    <a:pt x="2234" y="3681"/>
                  </a:lnTo>
                  <a:lnTo>
                    <a:pt x="2979" y="3190"/>
                  </a:lnTo>
                  <a:lnTo>
                    <a:pt x="3724" y="2208"/>
                  </a:lnTo>
                  <a:lnTo>
                    <a:pt x="4717" y="1718"/>
                  </a:lnTo>
                  <a:lnTo>
                    <a:pt x="5710" y="1227"/>
                  </a:lnTo>
                  <a:lnTo>
                    <a:pt x="6455" y="736"/>
                  </a:lnTo>
                  <a:lnTo>
                    <a:pt x="7448" y="490"/>
                  </a:lnTo>
                  <a:lnTo>
                    <a:pt x="8689" y="245"/>
                  </a:lnTo>
                  <a:lnTo>
                    <a:pt x="9682" y="0"/>
                  </a:lnTo>
                  <a:lnTo>
                    <a:pt x="10675" y="0"/>
                  </a:lnTo>
                  <a:lnTo>
                    <a:pt x="10675" y="0"/>
                  </a:lnTo>
                  <a:lnTo>
                    <a:pt x="11668" y="0"/>
                  </a:lnTo>
                  <a:lnTo>
                    <a:pt x="12910" y="245"/>
                  </a:lnTo>
                  <a:lnTo>
                    <a:pt x="13903" y="490"/>
                  </a:lnTo>
                  <a:lnTo>
                    <a:pt x="14896" y="736"/>
                  </a:lnTo>
                  <a:lnTo>
                    <a:pt x="15889" y="1227"/>
                  </a:lnTo>
                  <a:lnTo>
                    <a:pt x="16882" y="1718"/>
                  </a:lnTo>
                  <a:lnTo>
                    <a:pt x="17627" y="2208"/>
                  </a:lnTo>
                  <a:lnTo>
                    <a:pt x="18372" y="3190"/>
                  </a:lnTo>
                  <a:lnTo>
                    <a:pt x="18868" y="3681"/>
                  </a:lnTo>
                  <a:lnTo>
                    <a:pt x="19613" y="4663"/>
                  </a:lnTo>
                  <a:lnTo>
                    <a:pt x="20110" y="5645"/>
                  </a:lnTo>
                  <a:lnTo>
                    <a:pt x="20606" y="6381"/>
                  </a:lnTo>
                  <a:lnTo>
                    <a:pt x="21103" y="7608"/>
                  </a:lnTo>
                  <a:lnTo>
                    <a:pt x="21351" y="8590"/>
                  </a:lnTo>
                  <a:lnTo>
                    <a:pt x="21600" y="957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DA58-B3AB-474F-B939-E07DAE18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B508-42BD-49F3-BEF4-FBEFF5F586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2"/>
          <p:cNvSpPr/>
          <p:nvPr/>
        </p:nvSpPr>
        <p:spPr>
          <a:xfrm>
            <a:off x="282600" y="3254400"/>
            <a:ext cx="272880" cy="167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99" y="17819"/>
                </a:moveTo>
                <a:lnTo>
                  <a:pt x="12299" y="17819"/>
                </a:lnTo>
                <a:lnTo>
                  <a:pt x="21600" y="21600"/>
                </a:lnTo>
                <a:lnTo>
                  <a:pt x="21600" y="21600"/>
                </a:lnTo>
                <a:lnTo>
                  <a:pt x="19499" y="20176"/>
                </a:lnTo>
                <a:lnTo>
                  <a:pt x="17399" y="18752"/>
                </a:lnTo>
                <a:lnTo>
                  <a:pt x="14999" y="17181"/>
                </a:lnTo>
                <a:lnTo>
                  <a:pt x="13199" y="15512"/>
                </a:lnTo>
                <a:lnTo>
                  <a:pt x="11099" y="13696"/>
                </a:lnTo>
                <a:lnTo>
                  <a:pt x="10199" y="11732"/>
                </a:lnTo>
                <a:lnTo>
                  <a:pt x="8999" y="9769"/>
                </a:lnTo>
                <a:lnTo>
                  <a:pt x="8399" y="8639"/>
                </a:lnTo>
                <a:lnTo>
                  <a:pt x="7799" y="7510"/>
                </a:lnTo>
                <a:lnTo>
                  <a:pt x="7799" y="7510"/>
                </a:lnTo>
                <a:lnTo>
                  <a:pt x="7499" y="6479"/>
                </a:lnTo>
                <a:lnTo>
                  <a:pt x="7199" y="5400"/>
                </a:lnTo>
                <a:lnTo>
                  <a:pt x="6899" y="4418"/>
                </a:lnTo>
                <a:lnTo>
                  <a:pt x="6899" y="3436"/>
                </a:lnTo>
                <a:lnTo>
                  <a:pt x="6899" y="2503"/>
                </a:lnTo>
                <a:lnTo>
                  <a:pt x="7199" y="1619"/>
                </a:lnTo>
                <a:lnTo>
                  <a:pt x="7499" y="785"/>
                </a:lnTo>
                <a:lnTo>
                  <a:pt x="7799" y="0"/>
                </a:lnTo>
                <a:lnTo>
                  <a:pt x="7799" y="0"/>
                </a:lnTo>
                <a:lnTo>
                  <a:pt x="5999" y="1177"/>
                </a:lnTo>
                <a:lnTo>
                  <a:pt x="4199" y="2307"/>
                </a:lnTo>
                <a:lnTo>
                  <a:pt x="2999" y="3436"/>
                </a:lnTo>
                <a:lnTo>
                  <a:pt x="1799" y="4516"/>
                </a:lnTo>
                <a:lnTo>
                  <a:pt x="899" y="5645"/>
                </a:lnTo>
                <a:lnTo>
                  <a:pt x="299" y="6725"/>
                </a:lnTo>
                <a:lnTo>
                  <a:pt x="0" y="7756"/>
                </a:lnTo>
                <a:lnTo>
                  <a:pt x="0" y="8836"/>
                </a:lnTo>
                <a:lnTo>
                  <a:pt x="299" y="9867"/>
                </a:lnTo>
                <a:lnTo>
                  <a:pt x="899" y="10897"/>
                </a:lnTo>
                <a:lnTo>
                  <a:pt x="1799" y="12027"/>
                </a:lnTo>
                <a:lnTo>
                  <a:pt x="3299" y="13107"/>
                </a:lnTo>
                <a:lnTo>
                  <a:pt x="5099" y="14236"/>
                </a:lnTo>
                <a:lnTo>
                  <a:pt x="7199" y="15414"/>
                </a:lnTo>
                <a:lnTo>
                  <a:pt x="9899" y="16543"/>
                </a:lnTo>
                <a:lnTo>
                  <a:pt x="12299" y="17819"/>
                </a:lnTo>
                <a:lnTo>
                  <a:pt x="12299" y="17819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709560" y="4525920"/>
            <a:ext cx="1877760" cy="1877760"/>
            <a:chOff x="709560" y="4525920"/>
            <a:chExt cx="1877760" cy="1877760"/>
          </a:xfrm>
        </p:grpSpPr>
        <p:sp>
          <p:nvSpPr>
            <p:cNvPr id="100" name="Freeform 4"/>
            <p:cNvSpPr/>
            <p:nvPr/>
          </p:nvSpPr>
          <p:spPr>
            <a:xfrm>
              <a:off x="709560" y="4525920"/>
              <a:ext cx="1877760" cy="1877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21"/>
                  </a:moveTo>
                  <a:lnTo>
                    <a:pt x="21600" y="10821"/>
                  </a:lnTo>
                  <a:lnTo>
                    <a:pt x="21556" y="11391"/>
                  </a:lnTo>
                  <a:lnTo>
                    <a:pt x="21556" y="11916"/>
                  </a:lnTo>
                  <a:lnTo>
                    <a:pt x="21468" y="12399"/>
                  </a:lnTo>
                  <a:lnTo>
                    <a:pt x="21380" y="12968"/>
                  </a:lnTo>
                  <a:lnTo>
                    <a:pt x="21249" y="13494"/>
                  </a:lnTo>
                  <a:lnTo>
                    <a:pt x="21073" y="13976"/>
                  </a:lnTo>
                  <a:lnTo>
                    <a:pt x="20942" y="14501"/>
                  </a:lnTo>
                  <a:lnTo>
                    <a:pt x="20723" y="15027"/>
                  </a:lnTo>
                  <a:lnTo>
                    <a:pt x="20548" y="15466"/>
                  </a:lnTo>
                  <a:lnTo>
                    <a:pt x="20285" y="15947"/>
                  </a:lnTo>
                  <a:lnTo>
                    <a:pt x="20066" y="16385"/>
                  </a:lnTo>
                  <a:lnTo>
                    <a:pt x="19759" y="16824"/>
                  </a:lnTo>
                  <a:lnTo>
                    <a:pt x="19409" y="17262"/>
                  </a:lnTo>
                  <a:lnTo>
                    <a:pt x="19146" y="17656"/>
                  </a:lnTo>
                  <a:lnTo>
                    <a:pt x="18795" y="18050"/>
                  </a:lnTo>
                  <a:lnTo>
                    <a:pt x="18445" y="18445"/>
                  </a:lnTo>
                  <a:lnTo>
                    <a:pt x="18050" y="18795"/>
                  </a:lnTo>
                  <a:lnTo>
                    <a:pt x="17656" y="19102"/>
                  </a:lnTo>
                  <a:lnTo>
                    <a:pt x="17262" y="19453"/>
                  </a:lnTo>
                  <a:lnTo>
                    <a:pt x="16824" y="19759"/>
                  </a:lnTo>
                  <a:lnTo>
                    <a:pt x="16342" y="20022"/>
                  </a:lnTo>
                  <a:lnTo>
                    <a:pt x="15947" y="20329"/>
                  </a:lnTo>
                  <a:lnTo>
                    <a:pt x="15466" y="20548"/>
                  </a:lnTo>
                  <a:lnTo>
                    <a:pt x="14984" y="20723"/>
                  </a:lnTo>
                  <a:lnTo>
                    <a:pt x="14501" y="20942"/>
                  </a:lnTo>
                  <a:lnTo>
                    <a:pt x="14020" y="21117"/>
                  </a:lnTo>
                  <a:lnTo>
                    <a:pt x="13494" y="21293"/>
                  </a:lnTo>
                  <a:lnTo>
                    <a:pt x="12968" y="21336"/>
                  </a:lnTo>
                  <a:lnTo>
                    <a:pt x="12442" y="21468"/>
                  </a:lnTo>
                  <a:lnTo>
                    <a:pt x="11873" y="21556"/>
                  </a:lnTo>
                  <a:lnTo>
                    <a:pt x="11347" y="21600"/>
                  </a:lnTo>
                  <a:lnTo>
                    <a:pt x="10821" y="21600"/>
                  </a:lnTo>
                  <a:lnTo>
                    <a:pt x="10821" y="21600"/>
                  </a:lnTo>
                  <a:lnTo>
                    <a:pt x="10208" y="21600"/>
                  </a:lnTo>
                  <a:lnTo>
                    <a:pt x="9638" y="21556"/>
                  </a:lnTo>
                  <a:lnTo>
                    <a:pt x="9156" y="21468"/>
                  </a:lnTo>
                  <a:lnTo>
                    <a:pt x="8630" y="21336"/>
                  </a:lnTo>
                  <a:lnTo>
                    <a:pt x="8105" y="21293"/>
                  </a:lnTo>
                  <a:lnTo>
                    <a:pt x="7579" y="21117"/>
                  </a:lnTo>
                  <a:lnTo>
                    <a:pt x="7097" y="20942"/>
                  </a:lnTo>
                  <a:lnTo>
                    <a:pt x="6571" y="20723"/>
                  </a:lnTo>
                  <a:lnTo>
                    <a:pt x="6089" y="20548"/>
                  </a:lnTo>
                  <a:lnTo>
                    <a:pt x="5651" y="20329"/>
                  </a:lnTo>
                  <a:lnTo>
                    <a:pt x="5169" y="20022"/>
                  </a:lnTo>
                  <a:lnTo>
                    <a:pt x="4731" y="19759"/>
                  </a:lnTo>
                  <a:lnTo>
                    <a:pt x="4337" y="19453"/>
                  </a:lnTo>
                  <a:lnTo>
                    <a:pt x="3899" y="19102"/>
                  </a:lnTo>
                  <a:lnTo>
                    <a:pt x="3548" y="18795"/>
                  </a:lnTo>
                  <a:lnTo>
                    <a:pt x="3110" y="18445"/>
                  </a:lnTo>
                  <a:lnTo>
                    <a:pt x="2803" y="18050"/>
                  </a:lnTo>
                  <a:lnTo>
                    <a:pt x="2453" y="17656"/>
                  </a:lnTo>
                  <a:lnTo>
                    <a:pt x="2190" y="17262"/>
                  </a:lnTo>
                  <a:lnTo>
                    <a:pt x="1840" y="16824"/>
                  </a:lnTo>
                  <a:lnTo>
                    <a:pt x="1533" y="16385"/>
                  </a:lnTo>
                  <a:lnTo>
                    <a:pt x="1270" y="15947"/>
                  </a:lnTo>
                  <a:lnTo>
                    <a:pt x="1051" y="15466"/>
                  </a:lnTo>
                  <a:lnTo>
                    <a:pt x="832" y="15027"/>
                  </a:lnTo>
                  <a:lnTo>
                    <a:pt x="656" y="14501"/>
                  </a:lnTo>
                  <a:lnTo>
                    <a:pt x="481" y="13976"/>
                  </a:lnTo>
                  <a:lnTo>
                    <a:pt x="306" y="13494"/>
                  </a:lnTo>
                  <a:lnTo>
                    <a:pt x="218" y="12968"/>
                  </a:lnTo>
                  <a:lnTo>
                    <a:pt x="87" y="12399"/>
                  </a:lnTo>
                  <a:lnTo>
                    <a:pt x="0" y="11916"/>
                  </a:lnTo>
                  <a:lnTo>
                    <a:pt x="0" y="11391"/>
                  </a:lnTo>
                  <a:lnTo>
                    <a:pt x="0" y="10821"/>
                  </a:lnTo>
                  <a:lnTo>
                    <a:pt x="0" y="10821"/>
                  </a:lnTo>
                  <a:lnTo>
                    <a:pt x="0" y="10208"/>
                  </a:lnTo>
                  <a:lnTo>
                    <a:pt x="0" y="9682"/>
                  </a:lnTo>
                  <a:lnTo>
                    <a:pt x="87" y="9156"/>
                  </a:lnTo>
                  <a:lnTo>
                    <a:pt x="218" y="8630"/>
                  </a:lnTo>
                  <a:lnTo>
                    <a:pt x="306" y="8061"/>
                  </a:lnTo>
                  <a:lnTo>
                    <a:pt x="481" y="7579"/>
                  </a:lnTo>
                  <a:lnTo>
                    <a:pt x="656" y="7097"/>
                  </a:lnTo>
                  <a:lnTo>
                    <a:pt x="832" y="6571"/>
                  </a:lnTo>
                  <a:lnTo>
                    <a:pt x="1051" y="6133"/>
                  </a:lnTo>
                  <a:lnTo>
                    <a:pt x="1270" y="5651"/>
                  </a:lnTo>
                  <a:lnTo>
                    <a:pt x="1533" y="5213"/>
                  </a:lnTo>
                  <a:lnTo>
                    <a:pt x="1840" y="4775"/>
                  </a:lnTo>
                  <a:lnTo>
                    <a:pt x="2190" y="4293"/>
                  </a:lnTo>
                  <a:lnTo>
                    <a:pt x="2453" y="3942"/>
                  </a:lnTo>
                  <a:lnTo>
                    <a:pt x="2803" y="3504"/>
                  </a:lnTo>
                  <a:lnTo>
                    <a:pt x="3110" y="3154"/>
                  </a:lnTo>
                  <a:lnTo>
                    <a:pt x="3548" y="2759"/>
                  </a:lnTo>
                  <a:lnTo>
                    <a:pt x="3899" y="2453"/>
                  </a:lnTo>
                  <a:lnTo>
                    <a:pt x="4337" y="2146"/>
                  </a:lnTo>
                  <a:lnTo>
                    <a:pt x="4731" y="1840"/>
                  </a:lnTo>
                  <a:lnTo>
                    <a:pt x="5169" y="1533"/>
                  </a:lnTo>
                  <a:lnTo>
                    <a:pt x="5651" y="1270"/>
                  </a:lnTo>
                  <a:lnTo>
                    <a:pt x="6089" y="1095"/>
                  </a:lnTo>
                  <a:lnTo>
                    <a:pt x="6571" y="876"/>
                  </a:lnTo>
                  <a:lnTo>
                    <a:pt x="7097" y="613"/>
                  </a:lnTo>
                  <a:lnTo>
                    <a:pt x="7579" y="481"/>
                  </a:lnTo>
                  <a:lnTo>
                    <a:pt x="8105" y="350"/>
                  </a:lnTo>
                  <a:lnTo>
                    <a:pt x="8630" y="218"/>
                  </a:lnTo>
                  <a:lnTo>
                    <a:pt x="9156" y="131"/>
                  </a:lnTo>
                  <a:lnTo>
                    <a:pt x="9638" y="43"/>
                  </a:lnTo>
                  <a:lnTo>
                    <a:pt x="10208" y="0"/>
                  </a:lnTo>
                  <a:lnTo>
                    <a:pt x="10821" y="0"/>
                  </a:lnTo>
                  <a:lnTo>
                    <a:pt x="10821" y="0"/>
                  </a:lnTo>
                  <a:lnTo>
                    <a:pt x="11347" y="0"/>
                  </a:lnTo>
                  <a:lnTo>
                    <a:pt x="11873" y="43"/>
                  </a:lnTo>
                  <a:lnTo>
                    <a:pt x="12442" y="131"/>
                  </a:lnTo>
                  <a:lnTo>
                    <a:pt x="12968" y="218"/>
                  </a:lnTo>
                  <a:lnTo>
                    <a:pt x="13494" y="350"/>
                  </a:lnTo>
                  <a:lnTo>
                    <a:pt x="14020" y="481"/>
                  </a:lnTo>
                  <a:lnTo>
                    <a:pt x="14501" y="613"/>
                  </a:lnTo>
                  <a:lnTo>
                    <a:pt x="14984" y="876"/>
                  </a:lnTo>
                  <a:lnTo>
                    <a:pt x="15466" y="1095"/>
                  </a:lnTo>
                  <a:lnTo>
                    <a:pt x="15947" y="1270"/>
                  </a:lnTo>
                  <a:lnTo>
                    <a:pt x="16342" y="1533"/>
                  </a:lnTo>
                  <a:lnTo>
                    <a:pt x="16824" y="1840"/>
                  </a:lnTo>
                  <a:lnTo>
                    <a:pt x="17262" y="2146"/>
                  </a:lnTo>
                  <a:lnTo>
                    <a:pt x="17656" y="2453"/>
                  </a:lnTo>
                  <a:lnTo>
                    <a:pt x="18050" y="2759"/>
                  </a:lnTo>
                  <a:lnTo>
                    <a:pt x="18445" y="3154"/>
                  </a:lnTo>
                  <a:lnTo>
                    <a:pt x="18795" y="3504"/>
                  </a:lnTo>
                  <a:lnTo>
                    <a:pt x="19146" y="3942"/>
                  </a:lnTo>
                  <a:lnTo>
                    <a:pt x="19409" y="4293"/>
                  </a:lnTo>
                  <a:lnTo>
                    <a:pt x="19759" y="4775"/>
                  </a:lnTo>
                  <a:lnTo>
                    <a:pt x="20066" y="5213"/>
                  </a:lnTo>
                  <a:lnTo>
                    <a:pt x="20285" y="5651"/>
                  </a:lnTo>
                  <a:lnTo>
                    <a:pt x="20548" y="6133"/>
                  </a:lnTo>
                  <a:lnTo>
                    <a:pt x="20723" y="6571"/>
                  </a:lnTo>
                  <a:lnTo>
                    <a:pt x="20942" y="7097"/>
                  </a:lnTo>
                  <a:lnTo>
                    <a:pt x="21073" y="7579"/>
                  </a:lnTo>
                  <a:lnTo>
                    <a:pt x="21249" y="8061"/>
                  </a:lnTo>
                  <a:lnTo>
                    <a:pt x="21380" y="8630"/>
                  </a:lnTo>
                  <a:lnTo>
                    <a:pt x="21468" y="9156"/>
                  </a:lnTo>
                  <a:lnTo>
                    <a:pt x="21556" y="9682"/>
                  </a:lnTo>
                  <a:lnTo>
                    <a:pt x="21556" y="10208"/>
                  </a:lnTo>
                  <a:lnTo>
                    <a:pt x="21600" y="10821"/>
                  </a:lnTo>
                  <a:lnTo>
                    <a:pt x="21600" y="1082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941400" y="4766040"/>
              <a:ext cx="1402560" cy="139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70"/>
                  </a:moveTo>
                  <a:lnTo>
                    <a:pt x="21600" y="10770"/>
                  </a:lnTo>
                  <a:lnTo>
                    <a:pt x="21600" y="11888"/>
                  </a:lnTo>
                  <a:lnTo>
                    <a:pt x="21423" y="13006"/>
                  </a:lnTo>
                  <a:lnTo>
                    <a:pt x="21189" y="14007"/>
                  </a:lnTo>
                  <a:lnTo>
                    <a:pt x="20778" y="15007"/>
                  </a:lnTo>
                  <a:lnTo>
                    <a:pt x="20367" y="15949"/>
                  </a:lnTo>
                  <a:lnTo>
                    <a:pt x="19780" y="16832"/>
                  </a:lnTo>
                  <a:lnTo>
                    <a:pt x="19134" y="17656"/>
                  </a:lnTo>
                  <a:lnTo>
                    <a:pt x="18430" y="18421"/>
                  </a:lnTo>
                  <a:lnTo>
                    <a:pt x="17667" y="19127"/>
                  </a:lnTo>
                  <a:lnTo>
                    <a:pt x="16845" y="19775"/>
                  </a:lnTo>
                  <a:lnTo>
                    <a:pt x="15965" y="20305"/>
                  </a:lnTo>
                  <a:lnTo>
                    <a:pt x="15026" y="20775"/>
                  </a:lnTo>
                  <a:lnTo>
                    <a:pt x="14086" y="21129"/>
                  </a:lnTo>
                  <a:lnTo>
                    <a:pt x="12971" y="21364"/>
                  </a:lnTo>
                  <a:lnTo>
                    <a:pt x="1191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84" y="21600"/>
                  </a:lnTo>
                  <a:lnTo>
                    <a:pt x="8628" y="21364"/>
                  </a:lnTo>
                  <a:lnTo>
                    <a:pt x="7571" y="21129"/>
                  </a:lnTo>
                  <a:lnTo>
                    <a:pt x="6632" y="20775"/>
                  </a:lnTo>
                  <a:lnTo>
                    <a:pt x="5634" y="20305"/>
                  </a:lnTo>
                  <a:lnTo>
                    <a:pt x="4754" y="19775"/>
                  </a:lnTo>
                  <a:lnTo>
                    <a:pt x="3932" y="19127"/>
                  </a:lnTo>
                  <a:lnTo>
                    <a:pt x="3169" y="18421"/>
                  </a:lnTo>
                  <a:lnTo>
                    <a:pt x="2523" y="17656"/>
                  </a:lnTo>
                  <a:lnTo>
                    <a:pt x="1819" y="16832"/>
                  </a:lnTo>
                  <a:lnTo>
                    <a:pt x="1291" y="15949"/>
                  </a:lnTo>
                  <a:lnTo>
                    <a:pt x="821" y="15007"/>
                  </a:lnTo>
                  <a:lnTo>
                    <a:pt x="469" y="14007"/>
                  </a:lnTo>
                  <a:lnTo>
                    <a:pt x="234" y="13006"/>
                  </a:lnTo>
                  <a:lnTo>
                    <a:pt x="58" y="11888"/>
                  </a:lnTo>
                  <a:lnTo>
                    <a:pt x="0" y="10770"/>
                  </a:lnTo>
                  <a:lnTo>
                    <a:pt x="0" y="10770"/>
                  </a:lnTo>
                  <a:lnTo>
                    <a:pt x="58" y="9711"/>
                  </a:lnTo>
                  <a:lnTo>
                    <a:pt x="234" y="8592"/>
                  </a:lnTo>
                  <a:lnTo>
                    <a:pt x="469" y="7592"/>
                  </a:lnTo>
                  <a:lnTo>
                    <a:pt x="821" y="6532"/>
                  </a:lnTo>
                  <a:lnTo>
                    <a:pt x="1291" y="5649"/>
                  </a:lnTo>
                  <a:lnTo>
                    <a:pt x="1819" y="4767"/>
                  </a:lnTo>
                  <a:lnTo>
                    <a:pt x="2523" y="3943"/>
                  </a:lnTo>
                  <a:lnTo>
                    <a:pt x="3169" y="3177"/>
                  </a:lnTo>
                  <a:lnTo>
                    <a:pt x="3932" y="2412"/>
                  </a:lnTo>
                  <a:lnTo>
                    <a:pt x="4754" y="1824"/>
                  </a:lnTo>
                  <a:lnTo>
                    <a:pt x="5634" y="1294"/>
                  </a:lnTo>
                  <a:lnTo>
                    <a:pt x="6632" y="764"/>
                  </a:lnTo>
                  <a:lnTo>
                    <a:pt x="7571" y="411"/>
                  </a:lnTo>
                  <a:lnTo>
                    <a:pt x="8628" y="176"/>
                  </a:lnTo>
                  <a:lnTo>
                    <a:pt x="968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15" y="0"/>
                  </a:lnTo>
                  <a:lnTo>
                    <a:pt x="12971" y="176"/>
                  </a:lnTo>
                  <a:lnTo>
                    <a:pt x="14086" y="411"/>
                  </a:lnTo>
                  <a:lnTo>
                    <a:pt x="15026" y="764"/>
                  </a:lnTo>
                  <a:lnTo>
                    <a:pt x="15965" y="1294"/>
                  </a:lnTo>
                  <a:lnTo>
                    <a:pt x="16845" y="1824"/>
                  </a:lnTo>
                  <a:lnTo>
                    <a:pt x="17667" y="2412"/>
                  </a:lnTo>
                  <a:lnTo>
                    <a:pt x="18430" y="3177"/>
                  </a:lnTo>
                  <a:lnTo>
                    <a:pt x="19134" y="3943"/>
                  </a:lnTo>
                  <a:lnTo>
                    <a:pt x="19780" y="4767"/>
                  </a:lnTo>
                  <a:lnTo>
                    <a:pt x="20367" y="5649"/>
                  </a:lnTo>
                  <a:lnTo>
                    <a:pt x="20778" y="6532"/>
                  </a:lnTo>
                  <a:lnTo>
                    <a:pt x="21189" y="7592"/>
                  </a:lnTo>
                  <a:lnTo>
                    <a:pt x="21423" y="8592"/>
                  </a:lnTo>
                  <a:lnTo>
                    <a:pt x="21600" y="9711"/>
                  </a:lnTo>
                  <a:lnTo>
                    <a:pt x="21600" y="10770"/>
                  </a:lnTo>
                  <a:lnTo>
                    <a:pt x="21600" y="1077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1189800" y="5009400"/>
              <a:ext cx="913680" cy="91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09"/>
                  </a:moveTo>
                  <a:lnTo>
                    <a:pt x="21600" y="10709"/>
                  </a:lnTo>
                  <a:lnTo>
                    <a:pt x="21600" y="11789"/>
                  </a:lnTo>
                  <a:lnTo>
                    <a:pt x="21329" y="12869"/>
                  </a:lnTo>
                  <a:lnTo>
                    <a:pt x="21059" y="13949"/>
                  </a:lnTo>
                  <a:lnTo>
                    <a:pt x="20789" y="14939"/>
                  </a:lnTo>
                  <a:lnTo>
                    <a:pt x="20250" y="15839"/>
                  </a:lnTo>
                  <a:lnTo>
                    <a:pt x="19709" y="16739"/>
                  </a:lnTo>
                  <a:lnTo>
                    <a:pt x="19079" y="17550"/>
                  </a:lnTo>
                  <a:lnTo>
                    <a:pt x="18359" y="18449"/>
                  </a:lnTo>
                  <a:lnTo>
                    <a:pt x="17729" y="18989"/>
                  </a:lnTo>
                  <a:lnTo>
                    <a:pt x="16829" y="19709"/>
                  </a:lnTo>
                  <a:lnTo>
                    <a:pt x="15929" y="20339"/>
                  </a:lnTo>
                  <a:lnTo>
                    <a:pt x="15029" y="20699"/>
                  </a:lnTo>
                  <a:lnTo>
                    <a:pt x="13949" y="21059"/>
                  </a:lnTo>
                  <a:lnTo>
                    <a:pt x="12959" y="21329"/>
                  </a:lnTo>
                  <a:lnTo>
                    <a:pt x="11879" y="21509"/>
                  </a:lnTo>
                  <a:lnTo>
                    <a:pt x="10709" y="21600"/>
                  </a:lnTo>
                  <a:lnTo>
                    <a:pt x="10709" y="21600"/>
                  </a:lnTo>
                  <a:lnTo>
                    <a:pt x="9629" y="21509"/>
                  </a:lnTo>
                  <a:lnTo>
                    <a:pt x="8639" y="21329"/>
                  </a:lnTo>
                  <a:lnTo>
                    <a:pt x="7559" y="21059"/>
                  </a:lnTo>
                  <a:lnTo>
                    <a:pt x="6479" y="20699"/>
                  </a:lnTo>
                  <a:lnTo>
                    <a:pt x="5669" y="20339"/>
                  </a:lnTo>
                  <a:lnTo>
                    <a:pt x="4769" y="19709"/>
                  </a:lnTo>
                  <a:lnTo>
                    <a:pt x="3869" y="18989"/>
                  </a:lnTo>
                  <a:lnTo>
                    <a:pt x="3149" y="18449"/>
                  </a:lnTo>
                  <a:lnTo>
                    <a:pt x="2429" y="17550"/>
                  </a:lnTo>
                  <a:lnTo>
                    <a:pt x="1889" y="16739"/>
                  </a:lnTo>
                  <a:lnTo>
                    <a:pt x="1169" y="15839"/>
                  </a:lnTo>
                  <a:lnTo>
                    <a:pt x="719" y="14939"/>
                  </a:lnTo>
                  <a:lnTo>
                    <a:pt x="449" y="13949"/>
                  </a:lnTo>
                  <a:lnTo>
                    <a:pt x="179" y="12869"/>
                  </a:lnTo>
                  <a:lnTo>
                    <a:pt x="0" y="1178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9629"/>
                  </a:lnTo>
                  <a:lnTo>
                    <a:pt x="179" y="8549"/>
                  </a:lnTo>
                  <a:lnTo>
                    <a:pt x="449" y="7469"/>
                  </a:lnTo>
                  <a:lnTo>
                    <a:pt x="719" y="6479"/>
                  </a:lnTo>
                  <a:lnTo>
                    <a:pt x="1169" y="5489"/>
                  </a:lnTo>
                  <a:lnTo>
                    <a:pt x="1889" y="4679"/>
                  </a:lnTo>
                  <a:lnTo>
                    <a:pt x="2429" y="3779"/>
                  </a:lnTo>
                  <a:lnTo>
                    <a:pt x="3149" y="3059"/>
                  </a:lnTo>
                  <a:lnTo>
                    <a:pt x="3869" y="2429"/>
                  </a:lnTo>
                  <a:lnTo>
                    <a:pt x="4769" y="1799"/>
                  </a:lnTo>
                  <a:lnTo>
                    <a:pt x="5669" y="1169"/>
                  </a:lnTo>
                  <a:lnTo>
                    <a:pt x="6479" y="719"/>
                  </a:lnTo>
                  <a:lnTo>
                    <a:pt x="7559" y="359"/>
                  </a:lnTo>
                  <a:lnTo>
                    <a:pt x="8639" y="179"/>
                  </a:lnTo>
                  <a:lnTo>
                    <a:pt x="9629" y="0"/>
                  </a:lnTo>
                  <a:lnTo>
                    <a:pt x="10709" y="0"/>
                  </a:lnTo>
                  <a:lnTo>
                    <a:pt x="10709" y="0"/>
                  </a:lnTo>
                  <a:lnTo>
                    <a:pt x="11879" y="0"/>
                  </a:lnTo>
                  <a:lnTo>
                    <a:pt x="12959" y="179"/>
                  </a:lnTo>
                  <a:lnTo>
                    <a:pt x="13949" y="359"/>
                  </a:lnTo>
                  <a:lnTo>
                    <a:pt x="15029" y="719"/>
                  </a:lnTo>
                  <a:lnTo>
                    <a:pt x="15929" y="1169"/>
                  </a:lnTo>
                  <a:lnTo>
                    <a:pt x="16829" y="1799"/>
                  </a:lnTo>
                  <a:lnTo>
                    <a:pt x="17729" y="2429"/>
                  </a:lnTo>
                  <a:lnTo>
                    <a:pt x="18359" y="3059"/>
                  </a:lnTo>
                  <a:lnTo>
                    <a:pt x="19079" y="3779"/>
                  </a:lnTo>
                  <a:lnTo>
                    <a:pt x="19709" y="4679"/>
                  </a:lnTo>
                  <a:lnTo>
                    <a:pt x="20250" y="5489"/>
                  </a:lnTo>
                  <a:lnTo>
                    <a:pt x="20789" y="6479"/>
                  </a:lnTo>
                  <a:lnTo>
                    <a:pt x="21059" y="7469"/>
                  </a:lnTo>
                  <a:lnTo>
                    <a:pt x="21329" y="8549"/>
                  </a:lnTo>
                  <a:lnTo>
                    <a:pt x="21600" y="9629"/>
                  </a:lnTo>
                  <a:lnTo>
                    <a:pt x="21600" y="10709"/>
                  </a:lnTo>
                  <a:lnTo>
                    <a:pt x="21600" y="10709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0" y="3240"/>
            <a:ext cx="1267920" cy="6846480"/>
            <a:chOff x="0" y="3240"/>
            <a:chExt cx="1267920" cy="6846480"/>
          </a:xfrm>
        </p:grpSpPr>
        <p:sp>
          <p:nvSpPr>
            <p:cNvPr id="104" name="Freeform 8"/>
            <p:cNvSpPr/>
            <p:nvPr/>
          </p:nvSpPr>
          <p:spPr>
            <a:xfrm>
              <a:off x="4680" y="7920"/>
              <a:ext cx="962640" cy="684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086" y="11"/>
                  </a:moveTo>
                  <a:lnTo>
                    <a:pt x="14086" y="11"/>
                  </a:lnTo>
                  <a:lnTo>
                    <a:pt x="14599" y="95"/>
                  </a:lnTo>
                  <a:lnTo>
                    <a:pt x="15367" y="228"/>
                  </a:lnTo>
                  <a:lnTo>
                    <a:pt x="16050" y="408"/>
                  </a:lnTo>
                  <a:lnTo>
                    <a:pt x="16562" y="504"/>
                  </a:lnTo>
                  <a:lnTo>
                    <a:pt x="16989" y="625"/>
                  </a:lnTo>
                  <a:lnTo>
                    <a:pt x="17416" y="757"/>
                  </a:lnTo>
                  <a:lnTo>
                    <a:pt x="17928" y="889"/>
                  </a:lnTo>
                  <a:lnTo>
                    <a:pt x="18440" y="1058"/>
                  </a:lnTo>
                  <a:lnTo>
                    <a:pt x="18867" y="1238"/>
                  </a:lnTo>
                  <a:lnTo>
                    <a:pt x="19380" y="1407"/>
                  </a:lnTo>
                  <a:lnTo>
                    <a:pt x="19807" y="1599"/>
                  </a:lnTo>
                  <a:lnTo>
                    <a:pt x="20233" y="1803"/>
                  </a:lnTo>
                  <a:lnTo>
                    <a:pt x="20575" y="2020"/>
                  </a:lnTo>
                  <a:lnTo>
                    <a:pt x="20916" y="2248"/>
                  </a:lnTo>
                  <a:lnTo>
                    <a:pt x="21172" y="2477"/>
                  </a:lnTo>
                  <a:lnTo>
                    <a:pt x="21428" y="2729"/>
                  </a:lnTo>
                  <a:lnTo>
                    <a:pt x="21600" y="3006"/>
                  </a:lnTo>
                  <a:lnTo>
                    <a:pt x="21600" y="3271"/>
                  </a:lnTo>
                  <a:lnTo>
                    <a:pt x="21600" y="3559"/>
                  </a:lnTo>
                  <a:lnTo>
                    <a:pt x="21600" y="3860"/>
                  </a:lnTo>
                  <a:lnTo>
                    <a:pt x="21428" y="4173"/>
                  </a:lnTo>
                  <a:lnTo>
                    <a:pt x="21087" y="4485"/>
                  </a:lnTo>
                  <a:lnTo>
                    <a:pt x="20746" y="4822"/>
                  </a:lnTo>
                  <a:lnTo>
                    <a:pt x="20233" y="5159"/>
                  </a:lnTo>
                  <a:lnTo>
                    <a:pt x="19636" y="5519"/>
                  </a:lnTo>
                  <a:lnTo>
                    <a:pt x="18867" y="5880"/>
                  </a:lnTo>
                  <a:lnTo>
                    <a:pt x="18099" y="6265"/>
                  </a:lnTo>
                  <a:lnTo>
                    <a:pt x="18099" y="6265"/>
                  </a:lnTo>
                  <a:lnTo>
                    <a:pt x="16221" y="6999"/>
                  </a:lnTo>
                  <a:lnTo>
                    <a:pt x="14513" y="7696"/>
                  </a:lnTo>
                  <a:lnTo>
                    <a:pt x="12976" y="8310"/>
                  </a:lnTo>
                  <a:lnTo>
                    <a:pt x="11440" y="8911"/>
                  </a:lnTo>
                  <a:lnTo>
                    <a:pt x="10244" y="9452"/>
                  </a:lnTo>
                  <a:lnTo>
                    <a:pt x="9049" y="9981"/>
                  </a:lnTo>
                  <a:lnTo>
                    <a:pt x="8537" y="10234"/>
                  </a:lnTo>
                  <a:lnTo>
                    <a:pt x="8025" y="10475"/>
                  </a:lnTo>
                  <a:lnTo>
                    <a:pt x="7598" y="10715"/>
                  </a:lnTo>
                  <a:lnTo>
                    <a:pt x="7171" y="10932"/>
                  </a:lnTo>
                  <a:lnTo>
                    <a:pt x="6829" y="11160"/>
                  </a:lnTo>
                  <a:lnTo>
                    <a:pt x="6659" y="11389"/>
                  </a:lnTo>
                  <a:lnTo>
                    <a:pt x="6402" y="11617"/>
                  </a:lnTo>
                  <a:lnTo>
                    <a:pt x="6232" y="11846"/>
                  </a:lnTo>
                  <a:lnTo>
                    <a:pt x="6146" y="12062"/>
                  </a:lnTo>
                  <a:lnTo>
                    <a:pt x="6146" y="12279"/>
                  </a:lnTo>
                  <a:lnTo>
                    <a:pt x="6146" y="12507"/>
                  </a:lnTo>
                  <a:lnTo>
                    <a:pt x="6232" y="12711"/>
                  </a:lnTo>
                  <a:lnTo>
                    <a:pt x="6488" y="12940"/>
                  </a:lnTo>
                  <a:lnTo>
                    <a:pt x="6744" y="13169"/>
                  </a:lnTo>
                  <a:lnTo>
                    <a:pt x="7085" y="13397"/>
                  </a:lnTo>
                  <a:lnTo>
                    <a:pt x="7427" y="13626"/>
                  </a:lnTo>
                  <a:lnTo>
                    <a:pt x="7939" y="13866"/>
                  </a:lnTo>
                  <a:lnTo>
                    <a:pt x="8537" y="14107"/>
                  </a:lnTo>
                  <a:lnTo>
                    <a:pt x="9049" y="14347"/>
                  </a:lnTo>
                  <a:lnTo>
                    <a:pt x="9903" y="14600"/>
                  </a:lnTo>
                  <a:lnTo>
                    <a:pt x="9903" y="14600"/>
                  </a:lnTo>
                  <a:lnTo>
                    <a:pt x="12464" y="15550"/>
                  </a:lnTo>
                  <a:lnTo>
                    <a:pt x="13574" y="15935"/>
                  </a:lnTo>
                  <a:lnTo>
                    <a:pt x="14513" y="16295"/>
                  </a:lnTo>
                  <a:lnTo>
                    <a:pt x="15452" y="16620"/>
                  </a:lnTo>
                  <a:lnTo>
                    <a:pt x="16221" y="16933"/>
                  </a:lnTo>
                  <a:lnTo>
                    <a:pt x="16904" y="17210"/>
                  </a:lnTo>
                  <a:lnTo>
                    <a:pt x="17331" y="17462"/>
                  </a:lnTo>
                  <a:lnTo>
                    <a:pt x="17843" y="17703"/>
                  </a:lnTo>
                  <a:lnTo>
                    <a:pt x="18184" y="17931"/>
                  </a:lnTo>
                  <a:lnTo>
                    <a:pt x="18526" y="18148"/>
                  </a:lnTo>
                  <a:lnTo>
                    <a:pt x="18696" y="18364"/>
                  </a:lnTo>
                  <a:lnTo>
                    <a:pt x="18953" y="18581"/>
                  </a:lnTo>
                  <a:lnTo>
                    <a:pt x="19038" y="18809"/>
                  </a:lnTo>
                  <a:lnTo>
                    <a:pt x="19209" y="19038"/>
                  </a:lnTo>
                  <a:lnTo>
                    <a:pt x="19294" y="19290"/>
                  </a:lnTo>
                  <a:lnTo>
                    <a:pt x="19294" y="19290"/>
                  </a:lnTo>
                  <a:lnTo>
                    <a:pt x="19380" y="19543"/>
                  </a:lnTo>
                  <a:lnTo>
                    <a:pt x="19294" y="19783"/>
                  </a:lnTo>
                  <a:lnTo>
                    <a:pt x="19123" y="20000"/>
                  </a:lnTo>
                  <a:lnTo>
                    <a:pt x="18953" y="20216"/>
                  </a:lnTo>
                  <a:lnTo>
                    <a:pt x="18696" y="20433"/>
                  </a:lnTo>
                  <a:lnTo>
                    <a:pt x="18355" y="20613"/>
                  </a:lnTo>
                  <a:lnTo>
                    <a:pt x="17928" y="20794"/>
                  </a:lnTo>
                  <a:lnTo>
                    <a:pt x="17501" y="20950"/>
                  </a:lnTo>
                  <a:lnTo>
                    <a:pt x="17245" y="21094"/>
                  </a:lnTo>
                  <a:lnTo>
                    <a:pt x="16818" y="21215"/>
                  </a:lnTo>
                  <a:lnTo>
                    <a:pt x="16477" y="21335"/>
                  </a:lnTo>
                  <a:lnTo>
                    <a:pt x="16135" y="21407"/>
                  </a:lnTo>
                  <a:lnTo>
                    <a:pt x="15708" y="21551"/>
                  </a:lnTo>
                  <a:lnTo>
                    <a:pt x="15452" y="21600"/>
                  </a:lnTo>
                  <a:lnTo>
                    <a:pt x="0" y="21587"/>
                  </a:lnTo>
                  <a:lnTo>
                    <a:pt x="85" y="0"/>
                  </a:lnTo>
                  <a:lnTo>
                    <a:pt x="14086" y="1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0" y="3240"/>
              <a:ext cx="784800" cy="684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91" y="0"/>
                  </a:moveTo>
                  <a:lnTo>
                    <a:pt x="9391" y="0"/>
                  </a:lnTo>
                  <a:lnTo>
                    <a:pt x="10017" y="35"/>
                  </a:lnTo>
                  <a:lnTo>
                    <a:pt x="10852" y="108"/>
                  </a:lnTo>
                  <a:lnTo>
                    <a:pt x="11686" y="228"/>
                  </a:lnTo>
                  <a:lnTo>
                    <a:pt x="12730" y="360"/>
                  </a:lnTo>
                  <a:lnTo>
                    <a:pt x="13356" y="444"/>
                  </a:lnTo>
                  <a:lnTo>
                    <a:pt x="13982" y="528"/>
                  </a:lnTo>
                  <a:lnTo>
                    <a:pt x="14504" y="636"/>
                  </a:lnTo>
                  <a:lnTo>
                    <a:pt x="15130" y="745"/>
                  </a:lnTo>
                  <a:lnTo>
                    <a:pt x="15860" y="853"/>
                  </a:lnTo>
                  <a:lnTo>
                    <a:pt x="16486" y="985"/>
                  </a:lnTo>
                  <a:lnTo>
                    <a:pt x="17112" y="1117"/>
                  </a:lnTo>
                  <a:lnTo>
                    <a:pt x="17738" y="1273"/>
                  </a:lnTo>
                  <a:lnTo>
                    <a:pt x="18260" y="1442"/>
                  </a:lnTo>
                  <a:lnTo>
                    <a:pt x="18782" y="1610"/>
                  </a:lnTo>
                  <a:lnTo>
                    <a:pt x="19408" y="1790"/>
                  </a:lnTo>
                  <a:lnTo>
                    <a:pt x="19930" y="1983"/>
                  </a:lnTo>
                  <a:lnTo>
                    <a:pt x="20243" y="2187"/>
                  </a:lnTo>
                  <a:lnTo>
                    <a:pt x="20660" y="2403"/>
                  </a:lnTo>
                  <a:lnTo>
                    <a:pt x="20973" y="2632"/>
                  </a:lnTo>
                  <a:lnTo>
                    <a:pt x="21286" y="2872"/>
                  </a:lnTo>
                  <a:lnTo>
                    <a:pt x="21495" y="3112"/>
                  </a:lnTo>
                  <a:lnTo>
                    <a:pt x="21600" y="3389"/>
                  </a:lnTo>
                  <a:lnTo>
                    <a:pt x="21600" y="3666"/>
                  </a:lnTo>
                  <a:lnTo>
                    <a:pt x="21600" y="3954"/>
                  </a:lnTo>
                  <a:lnTo>
                    <a:pt x="21391" y="4266"/>
                  </a:lnTo>
                  <a:lnTo>
                    <a:pt x="21078" y="4579"/>
                  </a:lnTo>
                  <a:lnTo>
                    <a:pt x="21078" y="4579"/>
                  </a:lnTo>
                  <a:lnTo>
                    <a:pt x="20869" y="4903"/>
                  </a:lnTo>
                  <a:lnTo>
                    <a:pt x="20452" y="5204"/>
                  </a:lnTo>
                  <a:lnTo>
                    <a:pt x="20034" y="5492"/>
                  </a:lnTo>
                  <a:lnTo>
                    <a:pt x="19617" y="5745"/>
                  </a:lnTo>
                  <a:lnTo>
                    <a:pt x="19199" y="6009"/>
                  </a:lnTo>
                  <a:lnTo>
                    <a:pt x="18678" y="6262"/>
                  </a:lnTo>
                  <a:lnTo>
                    <a:pt x="18156" y="6490"/>
                  </a:lnTo>
                  <a:lnTo>
                    <a:pt x="17738" y="6719"/>
                  </a:lnTo>
                  <a:lnTo>
                    <a:pt x="16695" y="7139"/>
                  </a:lnTo>
                  <a:lnTo>
                    <a:pt x="15651" y="7524"/>
                  </a:lnTo>
                  <a:lnTo>
                    <a:pt x="13564" y="8281"/>
                  </a:lnTo>
                  <a:lnTo>
                    <a:pt x="12730" y="8654"/>
                  </a:lnTo>
                  <a:lnTo>
                    <a:pt x="12312" y="8846"/>
                  </a:lnTo>
                  <a:lnTo>
                    <a:pt x="11895" y="9026"/>
                  </a:lnTo>
                  <a:lnTo>
                    <a:pt x="11477" y="9231"/>
                  </a:lnTo>
                  <a:lnTo>
                    <a:pt x="11165" y="9435"/>
                  </a:lnTo>
                  <a:lnTo>
                    <a:pt x="10852" y="9639"/>
                  </a:lnTo>
                  <a:lnTo>
                    <a:pt x="10747" y="9856"/>
                  </a:lnTo>
                  <a:lnTo>
                    <a:pt x="10434" y="10096"/>
                  </a:lnTo>
                  <a:lnTo>
                    <a:pt x="10330" y="10336"/>
                  </a:lnTo>
                  <a:lnTo>
                    <a:pt x="10121" y="10601"/>
                  </a:lnTo>
                  <a:lnTo>
                    <a:pt x="9912" y="10841"/>
                  </a:lnTo>
                  <a:lnTo>
                    <a:pt x="9912" y="11130"/>
                  </a:lnTo>
                  <a:lnTo>
                    <a:pt x="9912" y="11430"/>
                  </a:lnTo>
                  <a:lnTo>
                    <a:pt x="10121" y="11743"/>
                  </a:lnTo>
                  <a:lnTo>
                    <a:pt x="10225" y="12080"/>
                  </a:lnTo>
                  <a:lnTo>
                    <a:pt x="10225" y="12080"/>
                  </a:lnTo>
                  <a:lnTo>
                    <a:pt x="10538" y="12416"/>
                  </a:lnTo>
                  <a:lnTo>
                    <a:pt x="10747" y="12729"/>
                  </a:lnTo>
                  <a:lnTo>
                    <a:pt x="10852" y="13053"/>
                  </a:lnTo>
                  <a:lnTo>
                    <a:pt x="11165" y="13329"/>
                  </a:lnTo>
                  <a:lnTo>
                    <a:pt x="11582" y="13618"/>
                  </a:lnTo>
                  <a:lnTo>
                    <a:pt x="11999" y="13871"/>
                  </a:lnTo>
                  <a:lnTo>
                    <a:pt x="12417" y="14123"/>
                  </a:lnTo>
                  <a:lnTo>
                    <a:pt x="12730" y="14363"/>
                  </a:lnTo>
                  <a:lnTo>
                    <a:pt x="13669" y="14820"/>
                  </a:lnTo>
                  <a:lnTo>
                    <a:pt x="14504" y="15241"/>
                  </a:lnTo>
                  <a:lnTo>
                    <a:pt x="15547" y="15625"/>
                  </a:lnTo>
                  <a:lnTo>
                    <a:pt x="16278" y="15986"/>
                  </a:lnTo>
                  <a:lnTo>
                    <a:pt x="17112" y="16346"/>
                  </a:lnTo>
                  <a:lnTo>
                    <a:pt x="17947" y="16695"/>
                  </a:lnTo>
                  <a:lnTo>
                    <a:pt x="18573" y="17032"/>
                  </a:lnTo>
                  <a:lnTo>
                    <a:pt x="18886" y="17200"/>
                  </a:lnTo>
                  <a:lnTo>
                    <a:pt x="19095" y="17368"/>
                  </a:lnTo>
                  <a:lnTo>
                    <a:pt x="19408" y="17549"/>
                  </a:lnTo>
                  <a:lnTo>
                    <a:pt x="19513" y="17729"/>
                  </a:lnTo>
                  <a:lnTo>
                    <a:pt x="19617" y="17909"/>
                  </a:lnTo>
                  <a:lnTo>
                    <a:pt x="19721" y="18102"/>
                  </a:lnTo>
                  <a:lnTo>
                    <a:pt x="19721" y="18294"/>
                  </a:lnTo>
                  <a:lnTo>
                    <a:pt x="19721" y="18486"/>
                  </a:lnTo>
                  <a:lnTo>
                    <a:pt x="19513" y="18691"/>
                  </a:lnTo>
                  <a:lnTo>
                    <a:pt x="19408" y="18907"/>
                  </a:lnTo>
                  <a:lnTo>
                    <a:pt x="19408" y="18907"/>
                  </a:lnTo>
                  <a:lnTo>
                    <a:pt x="18991" y="19220"/>
                  </a:lnTo>
                  <a:lnTo>
                    <a:pt x="18573" y="19532"/>
                  </a:lnTo>
                  <a:lnTo>
                    <a:pt x="18051" y="19796"/>
                  </a:lnTo>
                  <a:lnTo>
                    <a:pt x="17634" y="20061"/>
                  </a:lnTo>
                  <a:lnTo>
                    <a:pt x="17112" y="20301"/>
                  </a:lnTo>
                  <a:lnTo>
                    <a:pt x="16486" y="20517"/>
                  </a:lnTo>
                  <a:lnTo>
                    <a:pt x="15965" y="20722"/>
                  </a:lnTo>
                  <a:lnTo>
                    <a:pt x="15339" y="20902"/>
                  </a:lnTo>
                  <a:lnTo>
                    <a:pt x="14817" y="21058"/>
                  </a:lnTo>
                  <a:lnTo>
                    <a:pt x="14295" y="21215"/>
                  </a:lnTo>
                  <a:lnTo>
                    <a:pt x="13460" y="21419"/>
                  </a:lnTo>
                  <a:lnTo>
                    <a:pt x="12730" y="21551"/>
                  </a:lnTo>
                  <a:lnTo>
                    <a:pt x="12625" y="21600"/>
                  </a:lnTo>
                  <a:lnTo>
                    <a:pt x="0" y="21587"/>
                  </a:lnTo>
                  <a:lnTo>
                    <a:pt x="104" y="0"/>
                  </a:lnTo>
                  <a:lnTo>
                    <a:pt x="9391" y="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191160" y="631440"/>
              <a:ext cx="1076760" cy="107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760" y="15089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707" y="19148"/>
                  </a:lnTo>
                  <a:lnTo>
                    <a:pt x="16791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140"/>
                  </a:lnTo>
                  <a:lnTo>
                    <a:pt x="12974" y="21446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446"/>
                  </a:lnTo>
                  <a:lnTo>
                    <a:pt x="7556" y="21140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89"/>
                  </a:lnTo>
                  <a:lnTo>
                    <a:pt x="457" y="14016"/>
                  </a:lnTo>
                  <a:lnTo>
                    <a:pt x="228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27"/>
                  </a:lnTo>
                  <a:lnTo>
                    <a:pt x="228" y="8655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748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918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974" y="229"/>
                  </a:lnTo>
                  <a:lnTo>
                    <a:pt x="13967" y="535"/>
                  </a:lnTo>
                  <a:lnTo>
                    <a:pt x="15035" y="918"/>
                  </a:lnTo>
                  <a:lnTo>
                    <a:pt x="15875" y="1301"/>
                  </a:lnTo>
                  <a:lnTo>
                    <a:pt x="16791" y="1838"/>
                  </a:lnTo>
                  <a:lnTo>
                    <a:pt x="17707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748"/>
                  </a:lnTo>
                  <a:lnTo>
                    <a:pt x="20302" y="5667"/>
                  </a:lnTo>
                  <a:lnTo>
                    <a:pt x="20760" y="6587"/>
                  </a:lnTo>
                  <a:lnTo>
                    <a:pt x="21065" y="7582"/>
                  </a:lnTo>
                  <a:lnTo>
                    <a:pt x="21370" y="8655"/>
                  </a:lnTo>
                  <a:lnTo>
                    <a:pt x="21523" y="972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28320" y="765720"/>
              <a:ext cx="803520" cy="80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394" y="12939"/>
                  </a:lnTo>
                  <a:lnTo>
                    <a:pt x="21088" y="14060"/>
                  </a:lnTo>
                  <a:lnTo>
                    <a:pt x="20678" y="15079"/>
                  </a:lnTo>
                  <a:lnTo>
                    <a:pt x="20269" y="15995"/>
                  </a:lnTo>
                  <a:lnTo>
                    <a:pt x="19757" y="16811"/>
                  </a:lnTo>
                  <a:lnTo>
                    <a:pt x="19040" y="17727"/>
                  </a:lnTo>
                  <a:lnTo>
                    <a:pt x="18426" y="18441"/>
                  </a:lnTo>
                  <a:lnTo>
                    <a:pt x="17607" y="19154"/>
                  </a:lnTo>
                  <a:lnTo>
                    <a:pt x="16788" y="19765"/>
                  </a:lnTo>
                  <a:lnTo>
                    <a:pt x="15867" y="20275"/>
                  </a:lnTo>
                  <a:lnTo>
                    <a:pt x="15048" y="20784"/>
                  </a:lnTo>
                  <a:lnTo>
                    <a:pt x="13922" y="21192"/>
                  </a:lnTo>
                  <a:lnTo>
                    <a:pt x="12898" y="21395"/>
                  </a:lnTo>
                  <a:lnTo>
                    <a:pt x="11874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598" y="21395"/>
                  </a:lnTo>
                  <a:lnTo>
                    <a:pt x="7575" y="21192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154"/>
                  </a:lnTo>
                  <a:lnTo>
                    <a:pt x="3070" y="18441"/>
                  </a:lnTo>
                  <a:lnTo>
                    <a:pt x="2354" y="17727"/>
                  </a:lnTo>
                  <a:lnTo>
                    <a:pt x="1842" y="16811"/>
                  </a:lnTo>
                  <a:lnTo>
                    <a:pt x="1330" y="15995"/>
                  </a:lnTo>
                  <a:lnTo>
                    <a:pt x="716" y="15079"/>
                  </a:lnTo>
                  <a:lnTo>
                    <a:pt x="409" y="14060"/>
                  </a:lnTo>
                  <a:lnTo>
                    <a:pt x="204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4" y="8660"/>
                  </a:lnTo>
                  <a:lnTo>
                    <a:pt x="409" y="7641"/>
                  </a:lnTo>
                  <a:lnTo>
                    <a:pt x="716" y="6622"/>
                  </a:lnTo>
                  <a:lnTo>
                    <a:pt x="1330" y="5705"/>
                  </a:lnTo>
                  <a:lnTo>
                    <a:pt x="1842" y="4788"/>
                  </a:lnTo>
                  <a:lnTo>
                    <a:pt x="2354" y="3871"/>
                  </a:lnTo>
                  <a:lnTo>
                    <a:pt x="3070" y="3158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426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598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874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5048" y="815"/>
                  </a:lnTo>
                  <a:lnTo>
                    <a:pt x="15867" y="1426"/>
                  </a:lnTo>
                  <a:lnTo>
                    <a:pt x="16788" y="1833"/>
                  </a:lnTo>
                  <a:lnTo>
                    <a:pt x="17607" y="2445"/>
                  </a:lnTo>
                  <a:lnTo>
                    <a:pt x="18426" y="3158"/>
                  </a:lnTo>
                  <a:lnTo>
                    <a:pt x="19040" y="3871"/>
                  </a:lnTo>
                  <a:lnTo>
                    <a:pt x="19757" y="4788"/>
                  </a:lnTo>
                  <a:lnTo>
                    <a:pt x="20269" y="5705"/>
                  </a:lnTo>
                  <a:lnTo>
                    <a:pt x="20678" y="6622"/>
                  </a:lnTo>
                  <a:lnTo>
                    <a:pt x="21088" y="7641"/>
                  </a:lnTo>
                  <a:lnTo>
                    <a:pt x="21394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469440" y="906840"/>
              <a:ext cx="524880" cy="5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3" y="12897"/>
                  </a:lnTo>
                  <a:lnTo>
                    <a:pt x="21130" y="13985"/>
                  </a:lnTo>
                  <a:lnTo>
                    <a:pt x="20660" y="15073"/>
                  </a:lnTo>
                  <a:lnTo>
                    <a:pt x="20191" y="15850"/>
                  </a:lnTo>
                  <a:lnTo>
                    <a:pt x="19565" y="16937"/>
                  </a:lnTo>
                  <a:lnTo>
                    <a:pt x="19095" y="17714"/>
                  </a:lnTo>
                  <a:lnTo>
                    <a:pt x="18313" y="18336"/>
                  </a:lnTo>
                  <a:lnTo>
                    <a:pt x="17530" y="19113"/>
                  </a:lnTo>
                  <a:lnTo>
                    <a:pt x="16747" y="19735"/>
                  </a:lnTo>
                  <a:lnTo>
                    <a:pt x="15965" y="20356"/>
                  </a:lnTo>
                  <a:lnTo>
                    <a:pt x="15026" y="20822"/>
                  </a:lnTo>
                  <a:lnTo>
                    <a:pt x="13773" y="21133"/>
                  </a:lnTo>
                  <a:lnTo>
                    <a:pt x="12834" y="21444"/>
                  </a:lnTo>
                  <a:lnTo>
                    <a:pt x="11739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547" y="21600"/>
                  </a:lnTo>
                  <a:lnTo>
                    <a:pt x="8452" y="21444"/>
                  </a:lnTo>
                  <a:lnTo>
                    <a:pt x="7513" y="21133"/>
                  </a:lnTo>
                  <a:lnTo>
                    <a:pt x="6417" y="20822"/>
                  </a:lnTo>
                  <a:lnTo>
                    <a:pt x="5634" y="20356"/>
                  </a:lnTo>
                  <a:lnTo>
                    <a:pt x="4695" y="19735"/>
                  </a:lnTo>
                  <a:lnTo>
                    <a:pt x="3756" y="19113"/>
                  </a:lnTo>
                  <a:lnTo>
                    <a:pt x="2973" y="18336"/>
                  </a:lnTo>
                  <a:lnTo>
                    <a:pt x="2347" y="17714"/>
                  </a:lnTo>
                  <a:lnTo>
                    <a:pt x="1721" y="16937"/>
                  </a:lnTo>
                  <a:lnTo>
                    <a:pt x="1095" y="15850"/>
                  </a:lnTo>
                  <a:lnTo>
                    <a:pt x="782" y="15073"/>
                  </a:lnTo>
                  <a:lnTo>
                    <a:pt x="312" y="13985"/>
                  </a:lnTo>
                  <a:lnTo>
                    <a:pt x="156" y="12897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6" y="8701"/>
                  </a:lnTo>
                  <a:lnTo>
                    <a:pt x="312" y="7614"/>
                  </a:lnTo>
                  <a:lnTo>
                    <a:pt x="782" y="6681"/>
                  </a:lnTo>
                  <a:lnTo>
                    <a:pt x="1095" y="5594"/>
                  </a:lnTo>
                  <a:lnTo>
                    <a:pt x="1721" y="4661"/>
                  </a:lnTo>
                  <a:lnTo>
                    <a:pt x="2347" y="3884"/>
                  </a:lnTo>
                  <a:lnTo>
                    <a:pt x="2973" y="3263"/>
                  </a:lnTo>
                  <a:lnTo>
                    <a:pt x="3756" y="2330"/>
                  </a:lnTo>
                  <a:lnTo>
                    <a:pt x="4695" y="1864"/>
                  </a:lnTo>
                  <a:lnTo>
                    <a:pt x="5634" y="1242"/>
                  </a:lnTo>
                  <a:lnTo>
                    <a:pt x="6417" y="932"/>
                  </a:lnTo>
                  <a:lnTo>
                    <a:pt x="7513" y="466"/>
                  </a:lnTo>
                  <a:lnTo>
                    <a:pt x="8452" y="155"/>
                  </a:lnTo>
                  <a:lnTo>
                    <a:pt x="954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739" y="0"/>
                  </a:lnTo>
                  <a:lnTo>
                    <a:pt x="12834" y="155"/>
                  </a:lnTo>
                  <a:lnTo>
                    <a:pt x="13773" y="466"/>
                  </a:lnTo>
                  <a:lnTo>
                    <a:pt x="15026" y="932"/>
                  </a:lnTo>
                  <a:lnTo>
                    <a:pt x="15965" y="1242"/>
                  </a:lnTo>
                  <a:lnTo>
                    <a:pt x="16747" y="1864"/>
                  </a:lnTo>
                  <a:lnTo>
                    <a:pt x="17530" y="2330"/>
                  </a:lnTo>
                  <a:lnTo>
                    <a:pt x="18313" y="3263"/>
                  </a:lnTo>
                  <a:lnTo>
                    <a:pt x="19095" y="3884"/>
                  </a:lnTo>
                  <a:lnTo>
                    <a:pt x="19565" y="4661"/>
                  </a:lnTo>
                  <a:lnTo>
                    <a:pt x="20191" y="5594"/>
                  </a:lnTo>
                  <a:lnTo>
                    <a:pt x="20660" y="6681"/>
                  </a:lnTo>
                  <a:lnTo>
                    <a:pt x="21130" y="7614"/>
                  </a:lnTo>
                  <a:lnTo>
                    <a:pt x="21443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3"/>
          <p:cNvGrpSpPr/>
          <p:nvPr/>
        </p:nvGrpSpPr>
        <p:grpSpPr>
          <a:xfrm>
            <a:off x="5818320" y="503280"/>
            <a:ext cx="1922040" cy="2144160"/>
            <a:chOff x="5818320" y="503280"/>
            <a:chExt cx="1922040" cy="2144160"/>
          </a:xfrm>
        </p:grpSpPr>
        <p:sp>
          <p:nvSpPr>
            <p:cNvPr id="110" name="Freeform 14"/>
            <p:cNvSpPr/>
            <p:nvPr/>
          </p:nvSpPr>
          <p:spPr>
            <a:xfrm>
              <a:off x="6662520" y="1569600"/>
              <a:ext cx="1077840" cy="107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1"/>
                  </a:moveTo>
                  <a:lnTo>
                    <a:pt x="21600" y="10761"/>
                  </a:lnTo>
                  <a:lnTo>
                    <a:pt x="21523" y="11830"/>
                  </a:lnTo>
                  <a:lnTo>
                    <a:pt x="21370" y="12898"/>
                  </a:lnTo>
                  <a:lnTo>
                    <a:pt x="21141" y="13967"/>
                  </a:lnTo>
                  <a:lnTo>
                    <a:pt x="20760" y="15035"/>
                  </a:lnTo>
                  <a:lnTo>
                    <a:pt x="20302" y="15875"/>
                  </a:lnTo>
                  <a:lnTo>
                    <a:pt x="19768" y="16715"/>
                  </a:lnTo>
                  <a:lnTo>
                    <a:pt x="19157" y="17707"/>
                  </a:lnTo>
                  <a:lnTo>
                    <a:pt x="18470" y="18394"/>
                  </a:lnTo>
                  <a:lnTo>
                    <a:pt x="17631" y="19157"/>
                  </a:lnTo>
                  <a:lnTo>
                    <a:pt x="16791" y="19691"/>
                  </a:lnTo>
                  <a:lnTo>
                    <a:pt x="15951" y="20302"/>
                  </a:lnTo>
                  <a:lnTo>
                    <a:pt x="15035" y="20684"/>
                  </a:lnTo>
                  <a:lnTo>
                    <a:pt x="13967" y="21065"/>
                  </a:lnTo>
                  <a:lnTo>
                    <a:pt x="12974" y="21370"/>
                  </a:lnTo>
                  <a:lnTo>
                    <a:pt x="11906" y="21523"/>
                  </a:lnTo>
                  <a:lnTo>
                    <a:pt x="10837" y="21600"/>
                  </a:lnTo>
                  <a:lnTo>
                    <a:pt x="10837" y="21600"/>
                  </a:lnTo>
                  <a:lnTo>
                    <a:pt x="9693" y="21523"/>
                  </a:lnTo>
                  <a:lnTo>
                    <a:pt x="8548" y="21370"/>
                  </a:lnTo>
                  <a:lnTo>
                    <a:pt x="7556" y="21065"/>
                  </a:lnTo>
                  <a:lnTo>
                    <a:pt x="6563" y="20684"/>
                  </a:lnTo>
                  <a:lnTo>
                    <a:pt x="5647" y="20302"/>
                  </a:lnTo>
                  <a:lnTo>
                    <a:pt x="4731" y="19691"/>
                  </a:lnTo>
                  <a:lnTo>
                    <a:pt x="3892" y="19157"/>
                  </a:lnTo>
                  <a:lnTo>
                    <a:pt x="3205" y="18394"/>
                  </a:lnTo>
                  <a:lnTo>
                    <a:pt x="2442" y="17707"/>
                  </a:lnTo>
                  <a:lnTo>
                    <a:pt x="1831" y="16715"/>
                  </a:lnTo>
                  <a:lnTo>
                    <a:pt x="1297" y="15875"/>
                  </a:lnTo>
                  <a:lnTo>
                    <a:pt x="839" y="15035"/>
                  </a:lnTo>
                  <a:lnTo>
                    <a:pt x="534" y="13967"/>
                  </a:lnTo>
                  <a:lnTo>
                    <a:pt x="228" y="12898"/>
                  </a:lnTo>
                  <a:lnTo>
                    <a:pt x="0" y="11830"/>
                  </a:lnTo>
                  <a:lnTo>
                    <a:pt x="0" y="10761"/>
                  </a:lnTo>
                  <a:lnTo>
                    <a:pt x="0" y="10761"/>
                  </a:lnTo>
                  <a:lnTo>
                    <a:pt x="0" y="9616"/>
                  </a:lnTo>
                  <a:lnTo>
                    <a:pt x="228" y="8548"/>
                  </a:lnTo>
                  <a:lnTo>
                    <a:pt x="534" y="7556"/>
                  </a:lnTo>
                  <a:lnTo>
                    <a:pt x="839" y="6487"/>
                  </a:lnTo>
                  <a:lnTo>
                    <a:pt x="1297" y="5571"/>
                  </a:lnTo>
                  <a:lnTo>
                    <a:pt x="1831" y="4731"/>
                  </a:lnTo>
                  <a:lnTo>
                    <a:pt x="2442" y="3892"/>
                  </a:lnTo>
                  <a:lnTo>
                    <a:pt x="3205" y="3129"/>
                  </a:lnTo>
                  <a:lnTo>
                    <a:pt x="3892" y="2442"/>
                  </a:lnTo>
                  <a:lnTo>
                    <a:pt x="4731" y="1755"/>
                  </a:lnTo>
                  <a:lnTo>
                    <a:pt x="5647" y="1297"/>
                  </a:lnTo>
                  <a:lnTo>
                    <a:pt x="6563" y="839"/>
                  </a:lnTo>
                  <a:lnTo>
                    <a:pt x="7556" y="457"/>
                  </a:lnTo>
                  <a:lnTo>
                    <a:pt x="8548" y="152"/>
                  </a:lnTo>
                  <a:lnTo>
                    <a:pt x="9693" y="0"/>
                  </a:lnTo>
                  <a:lnTo>
                    <a:pt x="10837" y="0"/>
                  </a:lnTo>
                  <a:lnTo>
                    <a:pt x="10837" y="0"/>
                  </a:lnTo>
                  <a:lnTo>
                    <a:pt x="11906" y="0"/>
                  </a:lnTo>
                  <a:lnTo>
                    <a:pt x="12974" y="152"/>
                  </a:lnTo>
                  <a:lnTo>
                    <a:pt x="13967" y="457"/>
                  </a:lnTo>
                  <a:lnTo>
                    <a:pt x="15035" y="839"/>
                  </a:lnTo>
                  <a:lnTo>
                    <a:pt x="15951" y="1297"/>
                  </a:lnTo>
                  <a:lnTo>
                    <a:pt x="16791" y="1755"/>
                  </a:lnTo>
                  <a:lnTo>
                    <a:pt x="17631" y="2442"/>
                  </a:lnTo>
                  <a:lnTo>
                    <a:pt x="18470" y="3129"/>
                  </a:lnTo>
                  <a:lnTo>
                    <a:pt x="19157" y="3892"/>
                  </a:lnTo>
                  <a:lnTo>
                    <a:pt x="19768" y="4731"/>
                  </a:lnTo>
                  <a:lnTo>
                    <a:pt x="20302" y="5571"/>
                  </a:lnTo>
                  <a:lnTo>
                    <a:pt x="20760" y="6487"/>
                  </a:lnTo>
                  <a:lnTo>
                    <a:pt x="21141" y="7556"/>
                  </a:lnTo>
                  <a:lnTo>
                    <a:pt x="21370" y="8548"/>
                  </a:lnTo>
                  <a:lnTo>
                    <a:pt x="21523" y="9616"/>
                  </a:lnTo>
                  <a:lnTo>
                    <a:pt x="21600" y="10761"/>
                  </a:lnTo>
                  <a:lnTo>
                    <a:pt x="21600" y="1076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6800400" y="1703880"/>
              <a:ext cx="8074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5" y="12837"/>
                  </a:lnTo>
                  <a:lnTo>
                    <a:pt x="21192" y="13958"/>
                  </a:lnTo>
                  <a:lnTo>
                    <a:pt x="20784" y="14977"/>
                  </a:lnTo>
                  <a:lnTo>
                    <a:pt x="20275" y="15894"/>
                  </a:lnTo>
                  <a:lnTo>
                    <a:pt x="19765" y="16709"/>
                  </a:lnTo>
                  <a:lnTo>
                    <a:pt x="19154" y="17626"/>
                  </a:lnTo>
                  <a:lnTo>
                    <a:pt x="18441" y="18339"/>
                  </a:lnTo>
                  <a:lnTo>
                    <a:pt x="17727" y="19052"/>
                  </a:lnTo>
                  <a:lnTo>
                    <a:pt x="16811" y="19765"/>
                  </a:lnTo>
                  <a:lnTo>
                    <a:pt x="15894" y="20173"/>
                  </a:lnTo>
                  <a:lnTo>
                    <a:pt x="15079" y="20682"/>
                  </a:lnTo>
                  <a:lnTo>
                    <a:pt x="14060" y="21090"/>
                  </a:lnTo>
                  <a:lnTo>
                    <a:pt x="12939" y="21395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395"/>
                  </a:lnTo>
                  <a:lnTo>
                    <a:pt x="7641" y="21090"/>
                  </a:lnTo>
                  <a:lnTo>
                    <a:pt x="6622" y="20682"/>
                  </a:lnTo>
                  <a:lnTo>
                    <a:pt x="5705" y="20173"/>
                  </a:lnTo>
                  <a:lnTo>
                    <a:pt x="4788" y="19765"/>
                  </a:lnTo>
                  <a:lnTo>
                    <a:pt x="3871" y="19052"/>
                  </a:lnTo>
                  <a:lnTo>
                    <a:pt x="3158" y="18339"/>
                  </a:lnTo>
                  <a:lnTo>
                    <a:pt x="2445" y="17626"/>
                  </a:lnTo>
                  <a:lnTo>
                    <a:pt x="1833" y="16709"/>
                  </a:lnTo>
                  <a:lnTo>
                    <a:pt x="1426" y="15894"/>
                  </a:lnTo>
                  <a:lnTo>
                    <a:pt x="815" y="14977"/>
                  </a:lnTo>
                  <a:lnTo>
                    <a:pt x="509" y="13958"/>
                  </a:lnTo>
                  <a:lnTo>
                    <a:pt x="203" y="12837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7"/>
                  </a:lnTo>
                  <a:lnTo>
                    <a:pt x="203" y="8558"/>
                  </a:lnTo>
                  <a:lnTo>
                    <a:pt x="509" y="7539"/>
                  </a:lnTo>
                  <a:lnTo>
                    <a:pt x="815" y="6520"/>
                  </a:lnTo>
                  <a:lnTo>
                    <a:pt x="1426" y="5603"/>
                  </a:lnTo>
                  <a:lnTo>
                    <a:pt x="1833" y="4686"/>
                  </a:lnTo>
                  <a:lnTo>
                    <a:pt x="2445" y="3769"/>
                  </a:lnTo>
                  <a:lnTo>
                    <a:pt x="3158" y="3056"/>
                  </a:lnTo>
                  <a:lnTo>
                    <a:pt x="3871" y="2343"/>
                  </a:lnTo>
                  <a:lnTo>
                    <a:pt x="4788" y="1833"/>
                  </a:lnTo>
                  <a:lnTo>
                    <a:pt x="5705" y="1324"/>
                  </a:lnTo>
                  <a:lnTo>
                    <a:pt x="6622" y="712"/>
                  </a:lnTo>
                  <a:lnTo>
                    <a:pt x="7641" y="407"/>
                  </a:lnTo>
                  <a:lnTo>
                    <a:pt x="8660" y="101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101"/>
                  </a:lnTo>
                  <a:lnTo>
                    <a:pt x="14060" y="407"/>
                  </a:lnTo>
                  <a:lnTo>
                    <a:pt x="15079" y="712"/>
                  </a:lnTo>
                  <a:lnTo>
                    <a:pt x="15894" y="1324"/>
                  </a:lnTo>
                  <a:lnTo>
                    <a:pt x="16811" y="1833"/>
                  </a:lnTo>
                  <a:lnTo>
                    <a:pt x="17727" y="2343"/>
                  </a:lnTo>
                  <a:lnTo>
                    <a:pt x="18441" y="3056"/>
                  </a:lnTo>
                  <a:lnTo>
                    <a:pt x="19154" y="3769"/>
                  </a:lnTo>
                  <a:lnTo>
                    <a:pt x="19765" y="4686"/>
                  </a:lnTo>
                  <a:lnTo>
                    <a:pt x="20275" y="5603"/>
                  </a:lnTo>
                  <a:lnTo>
                    <a:pt x="20784" y="6520"/>
                  </a:lnTo>
                  <a:lnTo>
                    <a:pt x="21192" y="7539"/>
                  </a:lnTo>
                  <a:lnTo>
                    <a:pt x="21395" y="8558"/>
                  </a:lnTo>
                  <a:lnTo>
                    <a:pt x="21600" y="957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6941160" y="1839960"/>
              <a:ext cx="528840" cy="53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4" y="13053"/>
                  </a:lnTo>
                  <a:lnTo>
                    <a:pt x="21133" y="13985"/>
                  </a:lnTo>
                  <a:lnTo>
                    <a:pt x="20667" y="15073"/>
                  </a:lnTo>
                  <a:lnTo>
                    <a:pt x="20356" y="16005"/>
                  </a:lnTo>
                  <a:lnTo>
                    <a:pt x="19735" y="16937"/>
                  </a:lnTo>
                  <a:lnTo>
                    <a:pt x="19113" y="17714"/>
                  </a:lnTo>
                  <a:lnTo>
                    <a:pt x="18336" y="18491"/>
                  </a:lnTo>
                  <a:lnTo>
                    <a:pt x="17714" y="19113"/>
                  </a:lnTo>
                  <a:lnTo>
                    <a:pt x="16937" y="19735"/>
                  </a:lnTo>
                  <a:lnTo>
                    <a:pt x="15850" y="20356"/>
                  </a:lnTo>
                  <a:lnTo>
                    <a:pt x="15073" y="20822"/>
                  </a:lnTo>
                  <a:lnTo>
                    <a:pt x="13985" y="21289"/>
                  </a:lnTo>
                  <a:lnTo>
                    <a:pt x="12897" y="21444"/>
                  </a:lnTo>
                  <a:lnTo>
                    <a:pt x="11965" y="21600"/>
                  </a:lnTo>
                  <a:lnTo>
                    <a:pt x="10722" y="21600"/>
                  </a:lnTo>
                  <a:lnTo>
                    <a:pt x="10722" y="21600"/>
                  </a:lnTo>
                  <a:lnTo>
                    <a:pt x="9789" y="21600"/>
                  </a:lnTo>
                  <a:lnTo>
                    <a:pt x="8701" y="21444"/>
                  </a:lnTo>
                  <a:lnTo>
                    <a:pt x="7614" y="21289"/>
                  </a:lnTo>
                  <a:lnTo>
                    <a:pt x="6681" y="20822"/>
                  </a:lnTo>
                  <a:lnTo>
                    <a:pt x="5594" y="20356"/>
                  </a:lnTo>
                  <a:lnTo>
                    <a:pt x="4661" y="19735"/>
                  </a:lnTo>
                  <a:lnTo>
                    <a:pt x="3884" y="19113"/>
                  </a:lnTo>
                  <a:lnTo>
                    <a:pt x="3263" y="18491"/>
                  </a:lnTo>
                  <a:lnTo>
                    <a:pt x="2330" y="17714"/>
                  </a:lnTo>
                  <a:lnTo>
                    <a:pt x="1709" y="16937"/>
                  </a:lnTo>
                  <a:lnTo>
                    <a:pt x="1242" y="16005"/>
                  </a:lnTo>
                  <a:lnTo>
                    <a:pt x="932" y="15073"/>
                  </a:lnTo>
                  <a:lnTo>
                    <a:pt x="466" y="13985"/>
                  </a:lnTo>
                  <a:lnTo>
                    <a:pt x="155" y="13053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5" y="8701"/>
                  </a:lnTo>
                  <a:lnTo>
                    <a:pt x="466" y="7769"/>
                  </a:lnTo>
                  <a:lnTo>
                    <a:pt x="932" y="6681"/>
                  </a:lnTo>
                  <a:lnTo>
                    <a:pt x="1242" y="5594"/>
                  </a:lnTo>
                  <a:lnTo>
                    <a:pt x="1709" y="4816"/>
                  </a:lnTo>
                  <a:lnTo>
                    <a:pt x="2330" y="3884"/>
                  </a:lnTo>
                  <a:lnTo>
                    <a:pt x="3263" y="3263"/>
                  </a:lnTo>
                  <a:lnTo>
                    <a:pt x="3884" y="2486"/>
                  </a:lnTo>
                  <a:lnTo>
                    <a:pt x="4661" y="1864"/>
                  </a:lnTo>
                  <a:lnTo>
                    <a:pt x="5594" y="1242"/>
                  </a:lnTo>
                  <a:lnTo>
                    <a:pt x="6681" y="932"/>
                  </a:lnTo>
                  <a:lnTo>
                    <a:pt x="7614" y="466"/>
                  </a:lnTo>
                  <a:lnTo>
                    <a:pt x="8701" y="155"/>
                  </a:lnTo>
                  <a:lnTo>
                    <a:pt x="9789" y="0"/>
                  </a:lnTo>
                  <a:lnTo>
                    <a:pt x="10722" y="0"/>
                  </a:lnTo>
                  <a:lnTo>
                    <a:pt x="10722" y="0"/>
                  </a:lnTo>
                  <a:lnTo>
                    <a:pt x="11965" y="0"/>
                  </a:lnTo>
                  <a:lnTo>
                    <a:pt x="12897" y="155"/>
                  </a:lnTo>
                  <a:lnTo>
                    <a:pt x="13985" y="466"/>
                  </a:lnTo>
                  <a:lnTo>
                    <a:pt x="15073" y="932"/>
                  </a:lnTo>
                  <a:lnTo>
                    <a:pt x="15850" y="1242"/>
                  </a:lnTo>
                  <a:lnTo>
                    <a:pt x="16937" y="1864"/>
                  </a:lnTo>
                  <a:lnTo>
                    <a:pt x="17714" y="2486"/>
                  </a:lnTo>
                  <a:lnTo>
                    <a:pt x="18336" y="3263"/>
                  </a:lnTo>
                  <a:lnTo>
                    <a:pt x="19113" y="3884"/>
                  </a:lnTo>
                  <a:lnTo>
                    <a:pt x="19735" y="4816"/>
                  </a:lnTo>
                  <a:lnTo>
                    <a:pt x="20356" y="5594"/>
                  </a:lnTo>
                  <a:lnTo>
                    <a:pt x="20667" y="6681"/>
                  </a:lnTo>
                  <a:lnTo>
                    <a:pt x="21133" y="7769"/>
                  </a:lnTo>
                  <a:lnTo>
                    <a:pt x="21444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5818320" y="50328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00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098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09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744" y="21600"/>
                  </a:lnTo>
                  <a:lnTo>
                    <a:pt x="10744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09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00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15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41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0"/>
                  </a:lnTo>
                  <a:lnTo>
                    <a:pt x="10187" y="0"/>
                  </a:lnTo>
                  <a:lnTo>
                    <a:pt x="10744" y="0"/>
                  </a:lnTo>
                  <a:lnTo>
                    <a:pt x="10744" y="0"/>
                  </a:lnTo>
                  <a:lnTo>
                    <a:pt x="11356" y="0"/>
                  </a:lnTo>
                  <a:lnTo>
                    <a:pt x="11857" y="0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41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098" y="7515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8"/>
            <p:cNvSpPr/>
            <p:nvPr/>
          </p:nvSpPr>
          <p:spPr>
            <a:xfrm>
              <a:off x="6004440" y="689400"/>
              <a:ext cx="1108080" cy="110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2"/>
                  </a:moveTo>
                  <a:lnTo>
                    <a:pt x="21600" y="10762"/>
                  </a:lnTo>
                  <a:lnTo>
                    <a:pt x="21525" y="11876"/>
                  </a:lnTo>
                  <a:lnTo>
                    <a:pt x="21303" y="12915"/>
                  </a:lnTo>
                  <a:lnTo>
                    <a:pt x="21006" y="13954"/>
                  </a:lnTo>
                  <a:lnTo>
                    <a:pt x="20709" y="14993"/>
                  </a:lnTo>
                  <a:lnTo>
                    <a:pt x="20263" y="15884"/>
                  </a:lnTo>
                  <a:lnTo>
                    <a:pt x="19669" y="16849"/>
                  </a:lnTo>
                  <a:lnTo>
                    <a:pt x="19076" y="17665"/>
                  </a:lnTo>
                  <a:lnTo>
                    <a:pt x="18333" y="18407"/>
                  </a:lnTo>
                  <a:lnTo>
                    <a:pt x="17591" y="19076"/>
                  </a:lnTo>
                  <a:lnTo>
                    <a:pt x="16849" y="19744"/>
                  </a:lnTo>
                  <a:lnTo>
                    <a:pt x="15810" y="20263"/>
                  </a:lnTo>
                  <a:lnTo>
                    <a:pt x="14919" y="20709"/>
                  </a:lnTo>
                  <a:lnTo>
                    <a:pt x="13954" y="21080"/>
                  </a:lnTo>
                  <a:lnTo>
                    <a:pt x="12915" y="21377"/>
                  </a:lnTo>
                  <a:lnTo>
                    <a:pt x="11801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77"/>
                  </a:lnTo>
                  <a:lnTo>
                    <a:pt x="7571" y="21080"/>
                  </a:lnTo>
                  <a:lnTo>
                    <a:pt x="6605" y="20709"/>
                  </a:lnTo>
                  <a:lnTo>
                    <a:pt x="5566" y="20263"/>
                  </a:lnTo>
                  <a:lnTo>
                    <a:pt x="4676" y="19744"/>
                  </a:lnTo>
                  <a:lnTo>
                    <a:pt x="3933" y="19076"/>
                  </a:lnTo>
                  <a:lnTo>
                    <a:pt x="3117" y="18407"/>
                  </a:lnTo>
                  <a:lnTo>
                    <a:pt x="2449" y="17665"/>
                  </a:lnTo>
                  <a:lnTo>
                    <a:pt x="1781" y="16849"/>
                  </a:lnTo>
                  <a:lnTo>
                    <a:pt x="1261" y="15884"/>
                  </a:lnTo>
                  <a:lnTo>
                    <a:pt x="816" y="14993"/>
                  </a:lnTo>
                  <a:lnTo>
                    <a:pt x="445" y="13954"/>
                  </a:lnTo>
                  <a:lnTo>
                    <a:pt x="222" y="12915"/>
                  </a:lnTo>
                  <a:lnTo>
                    <a:pt x="0" y="11876"/>
                  </a:lnTo>
                  <a:lnTo>
                    <a:pt x="0" y="10762"/>
                  </a:lnTo>
                  <a:lnTo>
                    <a:pt x="0" y="10762"/>
                  </a:lnTo>
                  <a:lnTo>
                    <a:pt x="0" y="9723"/>
                  </a:lnTo>
                  <a:lnTo>
                    <a:pt x="222" y="8610"/>
                  </a:lnTo>
                  <a:lnTo>
                    <a:pt x="445" y="7571"/>
                  </a:lnTo>
                  <a:lnTo>
                    <a:pt x="816" y="6605"/>
                  </a:lnTo>
                  <a:lnTo>
                    <a:pt x="1261" y="5640"/>
                  </a:lnTo>
                  <a:lnTo>
                    <a:pt x="1781" y="4750"/>
                  </a:lnTo>
                  <a:lnTo>
                    <a:pt x="2449" y="3933"/>
                  </a:lnTo>
                  <a:lnTo>
                    <a:pt x="3117" y="3191"/>
                  </a:lnTo>
                  <a:lnTo>
                    <a:pt x="3933" y="2449"/>
                  </a:lnTo>
                  <a:lnTo>
                    <a:pt x="4676" y="1855"/>
                  </a:lnTo>
                  <a:lnTo>
                    <a:pt x="5566" y="1261"/>
                  </a:lnTo>
                  <a:lnTo>
                    <a:pt x="6605" y="890"/>
                  </a:lnTo>
                  <a:lnTo>
                    <a:pt x="7571" y="519"/>
                  </a:lnTo>
                  <a:lnTo>
                    <a:pt x="8536" y="222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01" y="0"/>
                  </a:lnTo>
                  <a:lnTo>
                    <a:pt x="12915" y="222"/>
                  </a:lnTo>
                  <a:lnTo>
                    <a:pt x="13954" y="519"/>
                  </a:lnTo>
                  <a:lnTo>
                    <a:pt x="14919" y="890"/>
                  </a:lnTo>
                  <a:lnTo>
                    <a:pt x="15810" y="1261"/>
                  </a:lnTo>
                  <a:lnTo>
                    <a:pt x="16849" y="1855"/>
                  </a:lnTo>
                  <a:lnTo>
                    <a:pt x="17591" y="2449"/>
                  </a:lnTo>
                  <a:lnTo>
                    <a:pt x="18333" y="3191"/>
                  </a:lnTo>
                  <a:lnTo>
                    <a:pt x="19076" y="3933"/>
                  </a:lnTo>
                  <a:lnTo>
                    <a:pt x="19669" y="4750"/>
                  </a:lnTo>
                  <a:lnTo>
                    <a:pt x="20263" y="5640"/>
                  </a:lnTo>
                  <a:lnTo>
                    <a:pt x="20709" y="6605"/>
                  </a:lnTo>
                  <a:lnTo>
                    <a:pt x="21006" y="7571"/>
                  </a:lnTo>
                  <a:lnTo>
                    <a:pt x="21303" y="8610"/>
                  </a:lnTo>
                  <a:lnTo>
                    <a:pt x="21525" y="9723"/>
                  </a:lnTo>
                  <a:lnTo>
                    <a:pt x="21600" y="10762"/>
                  </a:lnTo>
                  <a:lnTo>
                    <a:pt x="21600" y="10762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6199200" y="880920"/>
              <a:ext cx="7182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1" y="12959"/>
                  </a:lnTo>
                  <a:lnTo>
                    <a:pt x="21142" y="13982"/>
                  </a:lnTo>
                  <a:lnTo>
                    <a:pt x="20799" y="15119"/>
                  </a:lnTo>
                  <a:lnTo>
                    <a:pt x="20342" y="15915"/>
                  </a:lnTo>
                  <a:lnTo>
                    <a:pt x="19771" y="16825"/>
                  </a:lnTo>
                  <a:lnTo>
                    <a:pt x="19199" y="17620"/>
                  </a:lnTo>
                  <a:lnTo>
                    <a:pt x="18399" y="18416"/>
                  </a:lnTo>
                  <a:lnTo>
                    <a:pt x="17599" y="19098"/>
                  </a:lnTo>
                  <a:lnTo>
                    <a:pt x="16799" y="19780"/>
                  </a:lnTo>
                  <a:lnTo>
                    <a:pt x="15885" y="20349"/>
                  </a:lnTo>
                  <a:lnTo>
                    <a:pt x="15085" y="20804"/>
                  </a:lnTo>
                  <a:lnTo>
                    <a:pt x="14057" y="21145"/>
                  </a:lnTo>
                  <a:lnTo>
                    <a:pt x="12913" y="21372"/>
                  </a:lnTo>
                  <a:lnTo>
                    <a:pt x="11999" y="21600"/>
                  </a:lnTo>
                  <a:lnTo>
                    <a:pt x="10742" y="21600"/>
                  </a:lnTo>
                  <a:lnTo>
                    <a:pt x="10742" y="21600"/>
                  </a:lnTo>
                  <a:lnTo>
                    <a:pt x="9714" y="21600"/>
                  </a:lnTo>
                  <a:lnTo>
                    <a:pt x="8571" y="21372"/>
                  </a:lnTo>
                  <a:lnTo>
                    <a:pt x="7542" y="21145"/>
                  </a:lnTo>
                  <a:lnTo>
                    <a:pt x="6628" y="20804"/>
                  </a:lnTo>
                  <a:lnTo>
                    <a:pt x="5599" y="20349"/>
                  </a:lnTo>
                  <a:lnTo>
                    <a:pt x="4799" y="19780"/>
                  </a:lnTo>
                  <a:lnTo>
                    <a:pt x="3999" y="19098"/>
                  </a:lnTo>
                  <a:lnTo>
                    <a:pt x="3199" y="18416"/>
                  </a:lnTo>
                  <a:lnTo>
                    <a:pt x="2399" y="17620"/>
                  </a:lnTo>
                  <a:lnTo>
                    <a:pt x="1828" y="16825"/>
                  </a:lnTo>
                  <a:lnTo>
                    <a:pt x="1371" y="15915"/>
                  </a:lnTo>
                  <a:lnTo>
                    <a:pt x="799" y="15119"/>
                  </a:lnTo>
                  <a:lnTo>
                    <a:pt x="571" y="13982"/>
                  </a:lnTo>
                  <a:lnTo>
                    <a:pt x="228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8" y="8639"/>
                  </a:lnTo>
                  <a:lnTo>
                    <a:pt x="571" y="7616"/>
                  </a:lnTo>
                  <a:lnTo>
                    <a:pt x="799" y="6593"/>
                  </a:lnTo>
                  <a:lnTo>
                    <a:pt x="1371" y="5570"/>
                  </a:lnTo>
                  <a:lnTo>
                    <a:pt x="1828" y="4774"/>
                  </a:lnTo>
                  <a:lnTo>
                    <a:pt x="2399" y="3978"/>
                  </a:lnTo>
                  <a:lnTo>
                    <a:pt x="3199" y="3182"/>
                  </a:lnTo>
                  <a:lnTo>
                    <a:pt x="3999" y="2387"/>
                  </a:lnTo>
                  <a:lnTo>
                    <a:pt x="4799" y="1818"/>
                  </a:lnTo>
                  <a:lnTo>
                    <a:pt x="5599" y="1364"/>
                  </a:lnTo>
                  <a:lnTo>
                    <a:pt x="6628" y="795"/>
                  </a:lnTo>
                  <a:lnTo>
                    <a:pt x="7542" y="568"/>
                  </a:lnTo>
                  <a:lnTo>
                    <a:pt x="8571" y="227"/>
                  </a:lnTo>
                  <a:lnTo>
                    <a:pt x="9714" y="0"/>
                  </a:lnTo>
                  <a:lnTo>
                    <a:pt x="10742" y="0"/>
                  </a:lnTo>
                  <a:lnTo>
                    <a:pt x="10742" y="0"/>
                  </a:lnTo>
                  <a:lnTo>
                    <a:pt x="11999" y="0"/>
                  </a:lnTo>
                  <a:lnTo>
                    <a:pt x="12913" y="227"/>
                  </a:lnTo>
                  <a:lnTo>
                    <a:pt x="14057" y="568"/>
                  </a:lnTo>
                  <a:lnTo>
                    <a:pt x="15085" y="795"/>
                  </a:lnTo>
                  <a:lnTo>
                    <a:pt x="15885" y="1364"/>
                  </a:lnTo>
                  <a:lnTo>
                    <a:pt x="16799" y="1818"/>
                  </a:lnTo>
                  <a:lnTo>
                    <a:pt x="17599" y="2387"/>
                  </a:lnTo>
                  <a:lnTo>
                    <a:pt x="18399" y="3182"/>
                  </a:lnTo>
                  <a:lnTo>
                    <a:pt x="19199" y="3978"/>
                  </a:lnTo>
                  <a:lnTo>
                    <a:pt x="19771" y="4774"/>
                  </a:lnTo>
                  <a:lnTo>
                    <a:pt x="20342" y="5570"/>
                  </a:lnTo>
                  <a:lnTo>
                    <a:pt x="20799" y="6593"/>
                  </a:lnTo>
                  <a:lnTo>
                    <a:pt x="21142" y="7616"/>
                  </a:lnTo>
                  <a:lnTo>
                    <a:pt x="21371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7543800" y="4033800"/>
            <a:ext cx="766440" cy="766440"/>
            <a:chOff x="7543800" y="4033800"/>
            <a:chExt cx="766440" cy="766440"/>
          </a:xfrm>
        </p:grpSpPr>
        <p:sp>
          <p:nvSpPr>
            <p:cNvPr id="117" name="Freeform 21"/>
            <p:cNvSpPr/>
            <p:nvPr/>
          </p:nvSpPr>
          <p:spPr>
            <a:xfrm>
              <a:off x="7543800" y="4033800"/>
              <a:ext cx="76644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5"/>
                  </a:moveTo>
                  <a:lnTo>
                    <a:pt x="21600" y="10745"/>
                  </a:lnTo>
                  <a:lnTo>
                    <a:pt x="21492" y="11820"/>
                  </a:lnTo>
                  <a:lnTo>
                    <a:pt x="21384" y="12895"/>
                  </a:lnTo>
                  <a:lnTo>
                    <a:pt x="21062" y="13969"/>
                  </a:lnTo>
                  <a:lnTo>
                    <a:pt x="20632" y="14937"/>
                  </a:lnTo>
                  <a:lnTo>
                    <a:pt x="20310" y="15904"/>
                  </a:lnTo>
                  <a:lnTo>
                    <a:pt x="19665" y="16763"/>
                  </a:lnTo>
                  <a:lnTo>
                    <a:pt x="19128" y="17623"/>
                  </a:lnTo>
                  <a:lnTo>
                    <a:pt x="18483" y="18375"/>
                  </a:lnTo>
                  <a:lnTo>
                    <a:pt x="17623" y="19128"/>
                  </a:lnTo>
                  <a:lnTo>
                    <a:pt x="16871" y="19665"/>
                  </a:lnTo>
                  <a:lnTo>
                    <a:pt x="15904" y="20202"/>
                  </a:lnTo>
                  <a:lnTo>
                    <a:pt x="15044" y="20632"/>
                  </a:lnTo>
                  <a:lnTo>
                    <a:pt x="13969" y="21062"/>
                  </a:lnTo>
                  <a:lnTo>
                    <a:pt x="13002" y="21384"/>
                  </a:lnTo>
                  <a:lnTo>
                    <a:pt x="11820" y="21492"/>
                  </a:lnTo>
                  <a:lnTo>
                    <a:pt x="10745" y="21600"/>
                  </a:lnTo>
                  <a:lnTo>
                    <a:pt x="10745" y="21600"/>
                  </a:lnTo>
                  <a:lnTo>
                    <a:pt x="9671" y="21492"/>
                  </a:lnTo>
                  <a:lnTo>
                    <a:pt x="8596" y="21384"/>
                  </a:lnTo>
                  <a:lnTo>
                    <a:pt x="7629" y="21062"/>
                  </a:lnTo>
                  <a:lnTo>
                    <a:pt x="6555" y="20632"/>
                  </a:lnTo>
                  <a:lnTo>
                    <a:pt x="5587" y="20202"/>
                  </a:lnTo>
                  <a:lnTo>
                    <a:pt x="4620" y="19665"/>
                  </a:lnTo>
                  <a:lnTo>
                    <a:pt x="3868" y="19128"/>
                  </a:lnTo>
                  <a:lnTo>
                    <a:pt x="3116" y="18375"/>
                  </a:lnTo>
                  <a:lnTo>
                    <a:pt x="2471" y="17623"/>
                  </a:lnTo>
                  <a:lnTo>
                    <a:pt x="1826" y="16763"/>
                  </a:lnTo>
                  <a:lnTo>
                    <a:pt x="1289" y="15904"/>
                  </a:lnTo>
                  <a:lnTo>
                    <a:pt x="859" y="14937"/>
                  </a:lnTo>
                  <a:lnTo>
                    <a:pt x="537" y="13969"/>
                  </a:lnTo>
                  <a:lnTo>
                    <a:pt x="214" y="12895"/>
                  </a:lnTo>
                  <a:lnTo>
                    <a:pt x="0" y="11820"/>
                  </a:lnTo>
                  <a:lnTo>
                    <a:pt x="0" y="10745"/>
                  </a:lnTo>
                  <a:lnTo>
                    <a:pt x="0" y="10745"/>
                  </a:lnTo>
                  <a:lnTo>
                    <a:pt x="0" y="9564"/>
                  </a:lnTo>
                  <a:lnTo>
                    <a:pt x="214" y="8596"/>
                  </a:lnTo>
                  <a:lnTo>
                    <a:pt x="537" y="7522"/>
                  </a:lnTo>
                  <a:lnTo>
                    <a:pt x="859" y="6555"/>
                  </a:lnTo>
                  <a:lnTo>
                    <a:pt x="1289" y="5587"/>
                  </a:lnTo>
                  <a:lnTo>
                    <a:pt x="1826" y="4620"/>
                  </a:lnTo>
                  <a:lnTo>
                    <a:pt x="2471" y="3868"/>
                  </a:lnTo>
                  <a:lnTo>
                    <a:pt x="3116" y="3116"/>
                  </a:lnTo>
                  <a:lnTo>
                    <a:pt x="3868" y="2364"/>
                  </a:lnTo>
                  <a:lnTo>
                    <a:pt x="4620" y="1826"/>
                  </a:lnTo>
                  <a:lnTo>
                    <a:pt x="5587" y="1289"/>
                  </a:lnTo>
                  <a:lnTo>
                    <a:pt x="6555" y="752"/>
                  </a:lnTo>
                  <a:lnTo>
                    <a:pt x="7629" y="429"/>
                  </a:lnTo>
                  <a:lnTo>
                    <a:pt x="8596" y="214"/>
                  </a:lnTo>
                  <a:lnTo>
                    <a:pt x="9671" y="0"/>
                  </a:lnTo>
                  <a:lnTo>
                    <a:pt x="10745" y="0"/>
                  </a:lnTo>
                  <a:lnTo>
                    <a:pt x="10745" y="0"/>
                  </a:lnTo>
                  <a:lnTo>
                    <a:pt x="11820" y="0"/>
                  </a:lnTo>
                  <a:lnTo>
                    <a:pt x="13002" y="214"/>
                  </a:lnTo>
                  <a:lnTo>
                    <a:pt x="13969" y="429"/>
                  </a:lnTo>
                  <a:lnTo>
                    <a:pt x="15044" y="752"/>
                  </a:lnTo>
                  <a:lnTo>
                    <a:pt x="15904" y="1289"/>
                  </a:lnTo>
                  <a:lnTo>
                    <a:pt x="16871" y="1826"/>
                  </a:lnTo>
                  <a:lnTo>
                    <a:pt x="17623" y="2364"/>
                  </a:lnTo>
                  <a:lnTo>
                    <a:pt x="18483" y="3116"/>
                  </a:lnTo>
                  <a:lnTo>
                    <a:pt x="19128" y="3868"/>
                  </a:lnTo>
                  <a:lnTo>
                    <a:pt x="19665" y="4620"/>
                  </a:lnTo>
                  <a:lnTo>
                    <a:pt x="20310" y="5587"/>
                  </a:lnTo>
                  <a:lnTo>
                    <a:pt x="20632" y="6555"/>
                  </a:lnTo>
                  <a:lnTo>
                    <a:pt x="21062" y="7522"/>
                  </a:lnTo>
                  <a:lnTo>
                    <a:pt x="21384" y="8596"/>
                  </a:lnTo>
                  <a:lnTo>
                    <a:pt x="21492" y="9564"/>
                  </a:lnTo>
                  <a:lnTo>
                    <a:pt x="21600" y="10745"/>
                  </a:lnTo>
                  <a:lnTo>
                    <a:pt x="21600" y="10745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7636320" y="4129200"/>
              <a:ext cx="574920" cy="57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55"/>
                  </a:moveTo>
                  <a:lnTo>
                    <a:pt x="21600" y="10655"/>
                  </a:lnTo>
                  <a:lnTo>
                    <a:pt x="21600" y="11807"/>
                  </a:lnTo>
                  <a:lnTo>
                    <a:pt x="21313" y="12815"/>
                  </a:lnTo>
                  <a:lnTo>
                    <a:pt x="21027" y="13967"/>
                  </a:lnTo>
                  <a:lnTo>
                    <a:pt x="20598" y="14831"/>
                  </a:lnTo>
                  <a:lnTo>
                    <a:pt x="20169" y="15839"/>
                  </a:lnTo>
                  <a:lnTo>
                    <a:pt x="19740" y="16703"/>
                  </a:lnTo>
                  <a:lnTo>
                    <a:pt x="19024" y="17567"/>
                  </a:lnTo>
                  <a:lnTo>
                    <a:pt x="18309" y="18287"/>
                  </a:lnTo>
                  <a:lnTo>
                    <a:pt x="17737" y="19007"/>
                  </a:lnTo>
                  <a:lnTo>
                    <a:pt x="16736" y="19583"/>
                  </a:lnTo>
                  <a:lnTo>
                    <a:pt x="15877" y="20159"/>
                  </a:lnTo>
                  <a:lnTo>
                    <a:pt x="15019" y="20591"/>
                  </a:lnTo>
                  <a:lnTo>
                    <a:pt x="13875" y="21023"/>
                  </a:lnTo>
                  <a:lnTo>
                    <a:pt x="12874" y="21311"/>
                  </a:lnTo>
                  <a:lnTo>
                    <a:pt x="11872" y="21600"/>
                  </a:lnTo>
                  <a:lnTo>
                    <a:pt x="10728" y="21600"/>
                  </a:lnTo>
                  <a:lnTo>
                    <a:pt x="10728" y="21600"/>
                  </a:lnTo>
                  <a:lnTo>
                    <a:pt x="9583" y="21600"/>
                  </a:lnTo>
                  <a:lnTo>
                    <a:pt x="8582" y="21311"/>
                  </a:lnTo>
                  <a:lnTo>
                    <a:pt x="7581" y="21023"/>
                  </a:lnTo>
                  <a:lnTo>
                    <a:pt x="6579" y="20591"/>
                  </a:lnTo>
                  <a:lnTo>
                    <a:pt x="5721" y="20159"/>
                  </a:lnTo>
                  <a:lnTo>
                    <a:pt x="4720" y="19583"/>
                  </a:lnTo>
                  <a:lnTo>
                    <a:pt x="3719" y="19007"/>
                  </a:lnTo>
                  <a:lnTo>
                    <a:pt x="3146" y="18287"/>
                  </a:lnTo>
                  <a:lnTo>
                    <a:pt x="2431" y="17567"/>
                  </a:lnTo>
                  <a:lnTo>
                    <a:pt x="1716" y="16703"/>
                  </a:lnTo>
                  <a:lnTo>
                    <a:pt x="1287" y="15839"/>
                  </a:lnTo>
                  <a:lnTo>
                    <a:pt x="858" y="14831"/>
                  </a:lnTo>
                  <a:lnTo>
                    <a:pt x="429" y="13967"/>
                  </a:lnTo>
                  <a:lnTo>
                    <a:pt x="143" y="12815"/>
                  </a:lnTo>
                  <a:lnTo>
                    <a:pt x="0" y="11807"/>
                  </a:lnTo>
                  <a:lnTo>
                    <a:pt x="0" y="10655"/>
                  </a:lnTo>
                  <a:lnTo>
                    <a:pt x="0" y="10655"/>
                  </a:lnTo>
                  <a:lnTo>
                    <a:pt x="0" y="9647"/>
                  </a:lnTo>
                  <a:lnTo>
                    <a:pt x="143" y="8495"/>
                  </a:lnTo>
                  <a:lnTo>
                    <a:pt x="429" y="7487"/>
                  </a:lnTo>
                  <a:lnTo>
                    <a:pt x="858" y="6479"/>
                  </a:lnTo>
                  <a:lnTo>
                    <a:pt x="1287" y="5471"/>
                  </a:lnTo>
                  <a:lnTo>
                    <a:pt x="1716" y="4751"/>
                  </a:lnTo>
                  <a:lnTo>
                    <a:pt x="2431" y="3743"/>
                  </a:lnTo>
                  <a:lnTo>
                    <a:pt x="3146" y="3023"/>
                  </a:lnTo>
                  <a:lnTo>
                    <a:pt x="3719" y="2447"/>
                  </a:lnTo>
                  <a:lnTo>
                    <a:pt x="4720" y="1727"/>
                  </a:lnTo>
                  <a:lnTo>
                    <a:pt x="5721" y="1295"/>
                  </a:lnTo>
                  <a:lnTo>
                    <a:pt x="6579" y="719"/>
                  </a:lnTo>
                  <a:lnTo>
                    <a:pt x="7581" y="287"/>
                  </a:lnTo>
                  <a:lnTo>
                    <a:pt x="8582" y="0"/>
                  </a:lnTo>
                  <a:lnTo>
                    <a:pt x="9583" y="0"/>
                  </a:lnTo>
                  <a:lnTo>
                    <a:pt x="10728" y="0"/>
                  </a:lnTo>
                  <a:lnTo>
                    <a:pt x="10728" y="0"/>
                  </a:lnTo>
                  <a:lnTo>
                    <a:pt x="11872" y="0"/>
                  </a:lnTo>
                  <a:lnTo>
                    <a:pt x="12874" y="0"/>
                  </a:lnTo>
                  <a:lnTo>
                    <a:pt x="13875" y="287"/>
                  </a:lnTo>
                  <a:lnTo>
                    <a:pt x="15019" y="719"/>
                  </a:lnTo>
                  <a:lnTo>
                    <a:pt x="15877" y="1295"/>
                  </a:lnTo>
                  <a:lnTo>
                    <a:pt x="16736" y="1727"/>
                  </a:lnTo>
                  <a:lnTo>
                    <a:pt x="17737" y="2447"/>
                  </a:lnTo>
                  <a:lnTo>
                    <a:pt x="18309" y="3023"/>
                  </a:lnTo>
                  <a:lnTo>
                    <a:pt x="19024" y="3743"/>
                  </a:lnTo>
                  <a:lnTo>
                    <a:pt x="19740" y="4751"/>
                  </a:lnTo>
                  <a:lnTo>
                    <a:pt x="20169" y="5471"/>
                  </a:lnTo>
                  <a:lnTo>
                    <a:pt x="20598" y="6479"/>
                  </a:lnTo>
                  <a:lnTo>
                    <a:pt x="21027" y="7487"/>
                  </a:lnTo>
                  <a:lnTo>
                    <a:pt x="21313" y="8495"/>
                  </a:lnTo>
                  <a:lnTo>
                    <a:pt x="21600" y="9647"/>
                  </a:lnTo>
                  <a:lnTo>
                    <a:pt x="21600" y="10655"/>
                  </a:lnTo>
                  <a:lnTo>
                    <a:pt x="21600" y="1065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7738920" y="4231800"/>
              <a:ext cx="372600" cy="37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01"/>
                  </a:lnTo>
                  <a:lnTo>
                    <a:pt x="21379" y="13003"/>
                  </a:lnTo>
                  <a:lnTo>
                    <a:pt x="21159" y="14106"/>
                  </a:lnTo>
                  <a:lnTo>
                    <a:pt x="20718" y="14987"/>
                  </a:lnTo>
                  <a:lnTo>
                    <a:pt x="20056" y="16089"/>
                  </a:lnTo>
                  <a:lnTo>
                    <a:pt x="19616" y="16971"/>
                  </a:lnTo>
                  <a:lnTo>
                    <a:pt x="18955" y="17852"/>
                  </a:lnTo>
                  <a:lnTo>
                    <a:pt x="18293" y="18293"/>
                  </a:lnTo>
                  <a:lnTo>
                    <a:pt x="17632" y="19175"/>
                  </a:lnTo>
                  <a:lnTo>
                    <a:pt x="16750" y="19836"/>
                  </a:lnTo>
                  <a:lnTo>
                    <a:pt x="15869" y="20277"/>
                  </a:lnTo>
                  <a:lnTo>
                    <a:pt x="14987" y="20938"/>
                  </a:lnTo>
                  <a:lnTo>
                    <a:pt x="13885" y="21379"/>
                  </a:lnTo>
                  <a:lnTo>
                    <a:pt x="12783" y="21379"/>
                  </a:lnTo>
                  <a:lnTo>
                    <a:pt x="11681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477" y="21600"/>
                  </a:lnTo>
                  <a:lnTo>
                    <a:pt x="8375" y="21379"/>
                  </a:lnTo>
                  <a:lnTo>
                    <a:pt x="7493" y="21379"/>
                  </a:lnTo>
                  <a:lnTo>
                    <a:pt x="6391" y="20938"/>
                  </a:lnTo>
                  <a:lnTo>
                    <a:pt x="5510" y="20277"/>
                  </a:lnTo>
                  <a:lnTo>
                    <a:pt x="4628" y="19836"/>
                  </a:lnTo>
                  <a:lnTo>
                    <a:pt x="3746" y="19175"/>
                  </a:lnTo>
                  <a:lnTo>
                    <a:pt x="3085" y="18293"/>
                  </a:lnTo>
                  <a:lnTo>
                    <a:pt x="2203" y="17852"/>
                  </a:lnTo>
                  <a:lnTo>
                    <a:pt x="1542" y="16971"/>
                  </a:lnTo>
                  <a:lnTo>
                    <a:pt x="1101" y="16089"/>
                  </a:lnTo>
                  <a:lnTo>
                    <a:pt x="661" y="14987"/>
                  </a:lnTo>
                  <a:lnTo>
                    <a:pt x="440" y="14106"/>
                  </a:lnTo>
                  <a:lnTo>
                    <a:pt x="220" y="13003"/>
                  </a:lnTo>
                  <a:lnTo>
                    <a:pt x="0" y="11901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97"/>
                  </a:lnTo>
                  <a:lnTo>
                    <a:pt x="220" y="8595"/>
                  </a:lnTo>
                  <a:lnTo>
                    <a:pt x="440" y="7493"/>
                  </a:lnTo>
                  <a:lnTo>
                    <a:pt x="661" y="6612"/>
                  </a:lnTo>
                  <a:lnTo>
                    <a:pt x="1101" y="5730"/>
                  </a:lnTo>
                  <a:lnTo>
                    <a:pt x="1542" y="4848"/>
                  </a:lnTo>
                  <a:lnTo>
                    <a:pt x="2203" y="3746"/>
                  </a:lnTo>
                  <a:lnTo>
                    <a:pt x="3085" y="3306"/>
                  </a:lnTo>
                  <a:lnTo>
                    <a:pt x="3746" y="2424"/>
                  </a:lnTo>
                  <a:lnTo>
                    <a:pt x="4628" y="1762"/>
                  </a:lnTo>
                  <a:lnTo>
                    <a:pt x="5510" y="1322"/>
                  </a:lnTo>
                  <a:lnTo>
                    <a:pt x="6391" y="881"/>
                  </a:lnTo>
                  <a:lnTo>
                    <a:pt x="7493" y="440"/>
                  </a:lnTo>
                  <a:lnTo>
                    <a:pt x="8375" y="220"/>
                  </a:lnTo>
                  <a:lnTo>
                    <a:pt x="947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681" y="0"/>
                  </a:lnTo>
                  <a:lnTo>
                    <a:pt x="12783" y="220"/>
                  </a:lnTo>
                  <a:lnTo>
                    <a:pt x="13885" y="440"/>
                  </a:lnTo>
                  <a:lnTo>
                    <a:pt x="14987" y="881"/>
                  </a:lnTo>
                  <a:lnTo>
                    <a:pt x="15869" y="1322"/>
                  </a:lnTo>
                  <a:lnTo>
                    <a:pt x="16750" y="1762"/>
                  </a:lnTo>
                  <a:lnTo>
                    <a:pt x="17632" y="2424"/>
                  </a:lnTo>
                  <a:lnTo>
                    <a:pt x="18293" y="3306"/>
                  </a:lnTo>
                  <a:lnTo>
                    <a:pt x="18955" y="3746"/>
                  </a:lnTo>
                  <a:lnTo>
                    <a:pt x="19616" y="4848"/>
                  </a:lnTo>
                  <a:lnTo>
                    <a:pt x="20056" y="5730"/>
                  </a:lnTo>
                  <a:lnTo>
                    <a:pt x="20718" y="6612"/>
                  </a:lnTo>
                  <a:lnTo>
                    <a:pt x="21159" y="7493"/>
                  </a:lnTo>
                  <a:lnTo>
                    <a:pt x="21379" y="8595"/>
                  </a:lnTo>
                  <a:lnTo>
                    <a:pt x="21600" y="969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2054-838C-452F-8B89-0DEFB066D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jpeg"/><Relationship Id="rId5" Type="http://schemas.openxmlformats.org/officeDocument/2006/relationships/audio" Target="../media/D004.WAV"/><Relationship Id="rId6" Type="http://schemas.openxmlformats.org/officeDocument/2006/relationships/audio" Target="../media/D005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audio" Target="../media/y002.WAV"/><Relationship Id="rId11" Type="http://schemas.openxmlformats.org/officeDocument/2006/relationships/audio" Target="../media/D004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audio" Target="../media/chimes.wav"/><Relationship Id="rId10" Type="http://schemas.openxmlformats.org/officeDocument/2006/relationships/audio" Target="../media/m018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hyperlink" Target="http://www.eeppt.com" TargetMode="External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595760" y="241200"/>
            <a:ext cx="8380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9360">
                  <a:solidFill>
                    <a:srgbClr val="800080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数</a:t>
            </a:r>
            <a:endParaRPr b="0" lang="en-US" sz="5400" spc="1" strike="noStrike">
              <a:ln cap="sq" w="9360">
                <a:solidFill>
                  <a:srgbClr val="800080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508720" y="241200"/>
            <a:ext cx="533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800080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学</a:t>
            </a:r>
            <a:endParaRPr b="0" lang="en-US" sz="1800" spc="1" strike="noStrike">
              <a:ln cap="sq" w="9360">
                <a:solidFill>
                  <a:srgbClr val="800080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63" name="Picture 6" descr="标志"/>
          <p:cNvPicPr/>
          <p:nvPr/>
        </p:nvPicPr>
        <p:blipFill>
          <a:blip r:embed="rId2"/>
          <a:stretch/>
        </p:blipFill>
        <p:spPr>
          <a:xfrm>
            <a:off x="7448400" y="241200"/>
            <a:ext cx="631800" cy="608040"/>
          </a:xfrm>
          <a:prstGeom prst="rect">
            <a:avLst/>
          </a:prstGeom>
          <a:ln w="0">
            <a:noFill/>
          </a:ln>
        </p:spPr>
      </p:pic>
      <p:sp>
        <p:nvSpPr>
          <p:cNvPr id="164" name="WordArt 8"/>
          <p:cNvSpPr txBox="1"/>
          <p:nvPr/>
        </p:nvSpPr>
        <p:spPr>
          <a:xfrm>
            <a:off x="6227640" y="32544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648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latin typeface="华文新魏"/>
              </a:rPr>
              <a:t>七年级     下册</a:t>
            </a:r>
            <a:endParaRPr b="1" lang="en-US" sz="2000" spc="1" strike="noStrike">
              <a:ln w="6480">
                <a:solidFill>
                  <a:srgbClr val="ff0000"/>
                </a:solidFill>
                <a:round/>
              </a:ln>
              <a:solidFill>
                <a:srgbClr val="ffff00"/>
              </a:solidFill>
              <a:latin typeface="华文新魏"/>
              <a:ea typeface="华文新魏"/>
            </a:endParaRPr>
          </a:p>
        </p:txBody>
      </p:sp>
      <p:pic>
        <p:nvPicPr>
          <p:cNvPr id="165" name="我的中国心.mp3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3"/>
          <p:cNvSpPr txBox="1"/>
          <p:nvPr/>
        </p:nvSpPr>
        <p:spPr>
          <a:xfrm>
            <a:off x="287280" y="2198520"/>
            <a:ext cx="8531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5840">
                  <a:solidFill>
                    <a:srgbClr val="ffff99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实际问题与一元一次不等式课件</a:t>
            </a:r>
            <a:r>
              <a:rPr b="0" lang="en-US" sz="4000" spc="1" strike="noStrike">
                <a:ln w="15840">
                  <a:solidFill>
                    <a:srgbClr val="ffff99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PPT</a:t>
            </a:r>
            <a:r>
              <a:rPr b="0" lang="zh-CN" sz="4000" spc="1" strike="noStrike">
                <a:ln w="15840">
                  <a:solidFill>
                    <a:srgbClr val="ffff99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模板下载</a:t>
            </a:r>
            <a:endParaRPr b="0" lang="en-US" sz="4000" spc="1" strike="noStrike">
              <a:ln w="15840">
                <a:solidFill>
                  <a:srgbClr val="ffff99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16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50920" y="793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99"/>
                </a:solidFill>
                <a:latin typeface="华文中宋"/>
                <a:ea typeface="华文中宋"/>
              </a:rPr>
              <a:t>解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设组团人数为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，选择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方式所需费用为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 ×0.8x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选择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方式所需费用为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 ×0.85(x-1)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324000" y="0"/>
            <a:ext cx="3024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A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全体八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3348000" y="0"/>
            <a:ext cx="5796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B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人免费、其余八五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826920" y="2781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 ×0.8x= 60 ×0.85(x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755640" y="3573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 ×0.8x &lt;60 ×0.85(x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755640" y="4581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 ×0.8x &gt;60 ×0.85(x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395280" y="2276640"/>
            <a:ext cx="8229600" cy="2379600"/>
            <a:chOff x="395280" y="2276640"/>
            <a:chExt cx="8229600" cy="2379600"/>
          </a:xfrm>
        </p:grpSpPr>
        <p:sp>
          <p:nvSpPr>
            <p:cNvPr id="332" name="Text Box 9"/>
            <p:cNvSpPr/>
            <p:nvPr/>
          </p:nvSpPr>
          <p:spPr>
            <a:xfrm>
              <a:off x="395280" y="3139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 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A</a:t>
              </a: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方式较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B</a:t>
              </a: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方式优惠时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395280" y="407484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 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B</a:t>
              </a: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方式较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A</a:t>
              </a: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方式优惠时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2476800" y="2276640"/>
              <a:ext cx="180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B</a:t>
              </a: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两种方式所需费用一样时</a:t>
              </a:r>
              <a:r>
                <a:rPr b="0" lang="zh-CN" sz="2400" spc="-1" strike="noStrike">
                  <a:solidFill>
                    <a:srgbClr val="ffffcc"/>
                  </a:solidFill>
                  <a:latin typeface="华文行楷"/>
                  <a:ea typeface="华文行楷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12"/>
          <p:cNvSpPr/>
          <p:nvPr/>
        </p:nvSpPr>
        <p:spPr>
          <a:xfrm>
            <a:off x="6746760" y="2781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得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x=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6761160" y="3605040"/>
            <a:ext cx="17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得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x&gt;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6732720" y="457524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得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x&lt;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179280" y="51577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人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A,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式任选一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人数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式合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人数少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而不少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式合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news_200421014377"/>
          <p:cNvPicPr/>
          <p:nvPr/>
        </p:nvPicPr>
        <p:blipFill>
          <a:blip r:embed="rId1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2514600" y="7621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甲、乙两家商店出售同样的茶壶和茶杯，茶壶每只定价都是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，茶杯每只定价都是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。两家店优惠办法不同：甲商店是购买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只茶壶赠送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只茶杯；乙商店是按售价的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90%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收款。某顾客需购买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只茶壶、若干只（超过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只）茶杯。去哪家商店购买优惠更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4"/>
          <p:cNvSpPr txBox="1"/>
          <p:nvPr/>
        </p:nvSpPr>
        <p:spPr>
          <a:xfrm rot="5400000">
            <a:off x="191880" y="2093760"/>
            <a:ext cx="2361960" cy="1069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探究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米老鼠"/>
          <p:cNvPicPr/>
          <p:nvPr/>
        </p:nvPicPr>
        <p:blipFill>
          <a:blip r:embed="rId1"/>
          <a:stretch/>
        </p:blipFill>
        <p:spPr>
          <a:xfrm>
            <a:off x="181080" y="4653000"/>
            <a:ext cx="2190600" cy="2147760"/>
          </a:xfrm>
          <a:prstGeom prst="rect">
            <a:avLst/>
          </a:prstGeom>
          <a:ln w="0">
            <a:noFill/>
          </a:ln>
        </p:spPr>
      </p:pic>
      <p:sp>
        <p:nvSpPr>
          <p:cNvPr id="343" name="WordArt 3"/>
          <p:cNvSpPr txBox="1"/>
          <p:nvPr/>
        </p:nvSpPr>
        <p:spPr>
          <a:xfrm>
            <a:off x="1335240" y="345456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d80090"/>
                  </a:solidFill>
                  <a:round/>
                </a:ln>
                <a:solidFill>
                  <a:srgbClr val="d8009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请你说给大家听听</a:t>
            </a:r>
            <a:endParaRPr b="0" lang="en-US" sz="1800" spc="1" strike="noStrike">
              <a:ln w="9360">
                <a:solidFill>
                  <a:srgbClr val="d80090"/>
                </a:solidFill>
                <a:round/>
              </a:ln>
              <a:solidFill>
                <a:srgbClr val="d8009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284120" y="217188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琥珀"/>
              </a:rPr>
              <a:t>这节课你有哪些收获</a:t>
            </a:r>
            <a:r>
              <a:rPr b="1" lang="en-US" sz="4800" spc="-1" strike="noStrike">
                <a:solidFill>
                  <a:srgbClr val="cc0099"/>
                </a:solidFill>
                <a:latin typeface="Arial"/>
                <a:ea typeface="华文琥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2965320" y="198360"/>
            <a:ext cx="5927760" cy="1143000"/>
            <a:chOff x="2965320" y="198360"/>
            <a:chExt cx="5927760" cy="1143000"/>
          </a:xfrm>
        </p:grpSpPr>
        <p:sp>
          <p:nvSpPr>
            <p:cNvPr id="346" name="Rectangle 6"/>
            <p:cNvSpPr/>
            <p:nvPr/>
          </p:nvSpPr>
          <p:spPr>
            <a:xfrm>
              <a:off x="2965320" y="198360"/>
              <a:ext cx="592776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黑体"/>
                  <a:ea typeface="楷体_GB2312"/>
                </a:rPr>
                <a:t>不要忘了  </a:t>
              </a:r>
              <a:r>
                <a:rPr b="1" lang="zh-CN" sz="4000" spc="-1" strike="noStrike">
                  <a:solidFill>
                    <a:srgbClr val="cc3300"/>
                  </a:solidFill>
                  <a:latin typeface="黑体"/>
                  <a:ea typeface="楷体_GB2312"/>
                </a:rPr>
                <a:t>悟</a:t>
              </a:r>
              <a:r>
                <a:rPr b="1" lang="zh-CN" sz="4000" spc="-1" strike="noStrike">
                  <a:solidFill>
                    <a:srgbClr val="000066"/>
                  </a:solidFill>
                  <a:latin typeface="黑体"/>
                  <a:ea typeface="楷体_GB2312"/>
                </a:rPr>
                <a:t>  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7" descr="JM64NZ0020"/>
            <p:cNvPicPr/>
            <p:nvPr/>
          </p:nvPicPr>
          <p:blipFill>
            <a:blip r:embed="rId2"/>
            <a:stretch/>
          </p:blipFill>
          <p:spPr>
            <a:xfrm>
              <a:off x="6300720" y="387360"/>
              <a:ext cx="809640" cy="80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8"/>
          <p:cNvGrpSpPr/>
          <p:nvPr/>
        </p:nvGrpSpPr>
        <p:grpSpPr>
          <a:xfrm>
            <a:off x="-3960" y="430560"/>
            <a:ext cx="2891160" cy="873360"/>
            <a:chOff x="-3960" y="430560"/>
            <a:chExt cx="2891160" cy="873360"/>
          </a:xfrm>
        </p:grpSpPr>
        <p:grpSp>
          <p:nvGrpSpPr>
            <p:cNvPr id="349" name="Group 9"/>
            <p:cNvGrpSpPr/>
            <p:nvPr/>
          </p:nvGrpSpPr>
          <p:grpSpPr>
            <a:xfrm>
              <a:off x="-3960" y="430560"/>
              <a:ext cx="2891160" cy="873360"/>
              <a:chOff x="-3960" y="430560"/>
              <a:chExt cx="2891160" cy="873360"/>
            </a:xfrm>
          </p:grpSpPr>
          <p:sp>
            <p:nvSpPr>
              <p:cNvPr id="350" name="AutoShape 10"/>
              <p:cNvSpPr/>
              <p:nvPr/>
            </p:nvSpPr>
            <p:spPr>
              <a:xfrm>
                <a:off x="165240" y="934920"/>
                <a:ext cx="2721960" cy="294120"/>
              </a:xfrm>
              <a:custGeom>
                <a:avLst/>
                <a:gdLst/>
                <a:ahLst/>
                <a:rect l="l" t="t" r="r" b="b"/>
                <a:pathLst>
                  <a:path w="1000" h="1000">
                    <a:moveTo>
                      <a:pt x="0" y="0"/>
                    </a:moveTo>
                    <a:lnTo>
                      <a:pt x="499" y="0"/>
                    </a:lnTo>
                    <a:cubicBezTo>
                      <a:pt x="776" y="0"/>
                      <a:pt x="1000" y="223"/>
                      <a:pt x="1000" y="500"/>
                    </a:cubicBezTo>
                    <a:cubicBezTo>
                      <a:pt x="1000" y="776"/>
                      <a:pt x="776" y="999"/>
                      <a:pt x="500" y="1000"/>
                    </a:cubicBezTo>
                    <a:lnTo>
                      <a:pt x="0" y="100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1"/>
              <p:cNvSpPr/>
              <p:nvPr/>
            </p:nvSpPr>
            <p:spPr>
              <a:xfrm rot="2323800">
                <a:off x="106920" y="816480"/>
                <a:ext cx="272880" cy="451440"/>
              </a:xfrm>
              <a:custGeom>
                <a:avLst/>
                <a:gdLst/>
                <a:ahLst/>
                <a:rect l="l" t="t" r="r" b="b"/>
                <a:pathLst>
                  <a:path w="862" h="1407">
                    <a:moveTo>
                      <a:pt x="227" y="1407"/>
                    </a:moveTo>
                    <a:lnTo>
                      <a:pt x="635" y="1401"/>
                    </a:lnTo>
                    <a:lnTo>
                      <a:pt x="862" y="0"/>
                    </a:lnTo>
                    <a:lnTo>
                      <a:pt x="0" y="0"/>
                    </a:lnTo>
                    <a:lnTo>
                      <a:pt x="227" y="1407"/>
                    </a:lnTo>
                    <a:close/>
                  </a:path>
                </a:pathLst>
              </a:custGeom>
              <a:solidFill>
                <a:srgbClr val="cc66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2"/>
              <p:cNvSpPr/>
              <p:nvPr/>
            </p:nvSpPr>
            <p:spPr>
              <a:xfrm rot="2323800">
                <a:off x="214560" y="933120"/>
                <a:ext cx="231840" cy="56880"/>
              </a:xfrm>
              <a:custGeom>
                <a:avLst/>
                <a:gdLst/>
                <a:ahLst/>
                <a:rect l="l" t="t" r="r" b="b"/>
                <a:pathLst>
                  <a:path w="589" h="159">
                    <a:moveTo>
                      <a:pt x="0" y="159"/>
                    </a:moveTo>
                    <a:cubicBezTo>
                      <a:pt x="30" y="102"/>
                      <a:pt x="61" y="46"/>
                      <a:pt x="136" y="23"/>
                    </a:cubicBezTo>
                    <a:cubicBezTo>
                      <a:pt x="211" y="0"/>
                      <a:pt x="378" y="8"/>
                      <a:pt x="453" y="23"/>
                    </a:cubicBezTo>
                    <a:cubicBezTo>
                      <a:pt x="528" y="38"/>
                      <a:pt x="574" y="91"/>
                      <a:pt x="589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13"/>
              <p:cNvSpPr/>
              <p:nvPr/>
            </p:nvSpPr>
            <p:spPr>
              <a:xfrm rot="2323800">
                <a:off x="295200" y="736200"/>
                <a:ext cx="96840" cy="75960"/>
              </a:xfrm>
              <a:prstGeom prst="ellipse">
                <a:avLst/>
              </a:prstGeom>
              <a:solidFill>
                <a:srgbClr val="b1d8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"/>
              <p:cNvSpPr/>
              <p:nvPr/>
            </p:nvSpPr>
            <p:spPr>
              <a:xfrm rot="2323800">
                <a:off x="123480" y="1051560"/>
                <a:ext cx="190440" cy="36720"/>
              </a:xfrm>
              <a:custGeom>
                <a:avLst/>
                <a:gdLst/>
                <a:ahLst/>
                <a:rect l="l" t="t" r="r" b="b"/>
                <a:pathLst>
                  <a:path w="589" h="159">
                    <a:moveTo>
                      <a:pt x="0" y="159"/>
                    </a:moveTo>
                    <a:cubicBezTo>
                      <a:pt x="30" y="102"/>
                      <a:pt x="61" y="46"/>
                      <a:pt x="136" y="23"/>
                    </a:cubicBezTo>
                    <a:cubicBezTo>
                      <a:pt x="211" y="0"/>
                      <a:pt x="378" y="8"/>
                      <a:pt x="453" y="23"/>
                    </a:cubicBezTo>
                    <a:cubicBezTo>
                      <a:pt x="528" y="38"/>
                      <a:pt x="574" y="91"/>
                      <a:pt x="589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5"/>
              <p:cNvSpPr/>
              <p:nvPr/>
            </p:nvSpPr>
            <p:spPr>
              <a:xfrm rot="2323800">
                <a:off x="102960" y="1064520"/>
                <a:ext cx="190440" cy="56880"/>
              </a:xfrm>
              <a:custGeom>
                <a:avLst/>
                <a:gdLst/>
                <a:ahLst/>
                <a:rect l="l" t="t" r="r" b="b"/>
                <a:pathLst>
                  <a:path w="589" h="159">
                    <a:moveTo>
                      <a:pt x="0" y="159"/>
                    </a:moveTo>
                    <a:cubicBezTo>
                      <a:pt x="30" y="102"/>
                      <a:pt x="61" y="46"/>
                      <a:pt x="136" y="23"/>
                    </a:cubicBezTo>
                    <a:cubicBezTo>
                      <a:pt x="211" y="0"/>
                      <a:pt x="378" y="8"/>
                      <a:pt x="453" y="23"/>
                    </a:cubicBezTo>
                    <a:cubicBezTo>
                      <a:pt x="528" y="38"/>
                      <a:pt x="574" y="91"/>
                      <a:pt x="589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6"/>
              <p:cNvSpPr/>
              <p:nvPr/>
            </p:nvSpPr>
            <p:spPr>
              <a:xfrm rot="2323800">
                <a:off x="196200" y="912240"/>
                <a:ext cx="273600" cy="62640"/>
              </a:xfrm>
              <a:custGeom>
                <a:avLst/>
                <a:gdLst/>
                <a:ahLst/>
                <a:rect l="l" t="t" r="r" b="b"/>
                <a:pathLst>
                  <a:path w="665" h="212">
                    <a:moveTo>
                      <a:pt x="91" y="197"/>
                    </a:moveTo>
                    <a:cubicBezTo>
                      <a:pt x="45" y="185"/>
                      <a:pt x="0" y="174"/>
                      <a:pt x="0" y="151"/>
                    </a:cubicBezTo>
                    <a:cubicBezTo>
                      <a:pt x="0" y="128"/>
                      <a:pt x="53" y="84"/>
                      <a:pt x="91" y="61"/>
                    </a:cubicBezTo>
                    <a:cubicBezTo>
                      <a:pt x="129" y="38"/>
                      <a:pt x="182" y="23"/>
                      <a:pt x="227" y="15"/>
                    </a:cubicBezTo>
                    <a:cubicBezTo>
                      <a:pt x="272" y="7"/>
                      <a:pt x="325" y="15"/>
                      <a:pt x="363" y="15"/>
                    </a:cubicBezTo>
                    <a:cubicBezTo>
                      <a:pt x="401" y="15"/>
                      <a:pt x="409" y="0"/>
                      <a:pt x="454" y="15"/>
                    </a:cubicBezTo>
                    <a:cubicBezTo>
                      <a:pt x="499" y="30"/>
                      <a:pt x="605" y="76"/>
                      <a:pt x="635" y="106"/>
                    </a:cubicBezTo>
                    <a:cubicBezTo>
                      <a:pt x="665" y="136"/>
                      <a:pt x="650" y="182"/>
                      <a:pt x="635" y="197"/>
                    </a:cubicBezTo>
                    <a:cubicBezTo>
                      <a:pt x="620" y="212"/>
                      <a:pt x="582" y="204"/>
                      <a:pt x="545" y="19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7"/>
              <p:cNvSpPr/>
              <p:nvPr/>
            </p:nvSpPr>
            <p:spPr>
              <a:xfrm rot="2323800">
                <a:off x="558000" y="507240"/>
                <a:ext cx="61920" cy="299880"/>
              </a:xfrm>
              <a:custGeom>
                <a:avLst/>
                <a:gdLst/>
                <a:ahLst/>
                <a:rect l="l" t="t" r="r" b="b"/>
                <a:pathLst>
                  <a:path w="136" h="726">
                    <a:moveTo>
                      <a:pt x="0" y="726"/>
                    </a:moveTo>
                    <a:lnTo>
                      <a:pt x="136" y="726"/>
                    </a:lnTo>
                    <a:lnTo>
                      <a:pt x="91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9900"/>
              </a:solidFill>
              <a:ln w="284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8"/>
              <p:cNvSpPr/>
              <p:nvPr/>
            </p:nvSpPr>
            <p:spPr>
              <a:xfrm rot="823200">
                <a:off x="353880" y="433440"/>
                <a:ext cx="61920" cy="301680"/>
              </a:xfrm>
              <a:custGeom>
                <a:avLst/>
                <a:gdLst/>
                <a:ahLst/>
                <a:rect l="l" t="t" r="r" b="b"/>
                <a:pathLst>
                  <a:path w="136" h="726">
                    <a:moveTo>
                      <a:pt x="0" y="726"/>
                    </a:moveTo>
                    <a:lnTo>
                      <a:pt x="136" y="726"/>
                    </a:lnTo>
                    <a:lnTo>
                      <a:pt x="91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9900"/>
              </a:solidFill>
              <a:ln w="284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9"/>
              <p:cNvSpPr/>
              <p:nvPr/>
            </p:nvSpPr>
            <p:spPr>
              <a:xfrm rot="3823800">
                <a:off x="678600" y="643680"/>
                <a:ext cx="55080" cy="337320"/>
              </a:xfrm>
              <a:custGeom>
                <a:avLst/>
                <a:gdLst/>
                <a:ahLst/>
                <a:rect l="l" t="t" r="r" b="b"/>
                <a:pathLst>
                  <a:path w="136" h="726">
                    <a:moveTo>
                      <a:pt x="0" y="726"/>
                    </a:moveTo>
                    <a:lnTo>
                      <a:pt x="136" y="726"/>
                    </a:lnTo>
                    <a:lnTo>
                      <a:pt x="91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9900"/>
              </a:solidFill>
              <a:ln w="284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0"/>
              <p:cNvSpPr/>
              <p:nvPr/>
            </p:nvSpPr>
            <p:spPr>
              <a:xfrm rot="3103800">
                <a:off x="622800" y="556560"/>
                <a:ext cx="55080" cy="337320"/>
              </a:xfrm>
              <a:custGeom>
                <a:avLst/>
                <a:gdLst/>
                <a:ahLst/>
                <a:rect l="l" t="t" r="r" b="b"/>
                <a:pathLst>
                  <a:path w="136" h="726">
                    <a:moveTo>
                      <a:pt x="0" y="726"/>
                    </a:moveTo>
                    <a:lnTo>
                      <a:pt x="136" y="726"/>
                    </a:lnTo>
                    <a:lnTo>
                      <a:pt x="91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9900"/>
              </a:solidFill>
              <a:ln w="284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1"/>
              <p:cNvSpPr/>
              <p:nvPr/>
            </p:nvSpPr>
            <p:spPr>
              <a:xfrm rot="1561800">
                <a:off x="460800" y="462960"/>
                <a:ext cx="61920" cy="301320"/>
              </a:xfrm>
              <a:custGeom>
                <a:avLst/>
                <a:gdLst/>
                <a:ahLst/>
                <a:rect l="l" t="t" r="r" b="b"/>
                <a:pathLst>
                  <a:path w="136" h="726">
                    <a:moveTo>
                      <a:pt x="0" y="726"/>
                    </a:moveTo>
                    <a:lnTo>
                      <a:pt x="136" y="726"/>
                    </a:lnTo>
                    <a:lnTo>
                      <a:pt x="91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9900"/>
              </a:solidFill>
              <a:ln w="284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22"/>
              <p:cNvSpPr/>
              <p:nvPr/>
            </p:nvSpPr>
            <p:spPr>
              <a:xfrm rot="2323800">
                <a:off x="465120" y="856800"/>
                <a:ext cx="96840" cy="75960"/>
              </a:xfrm>
              <a:prstGeom prst="ellipse">
                <a:avLst/>
              </a:prstGeom>
              <a:solidFill>
                <a:srgbClr val="b1d8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WordArt 23"/>
            <p:cNvSpPr txBox="1"/>
            <p:nvPr/>
          </p:nvSpPr>
          <p:spPr>
            <a:xfrm>
              <a:off x="798120" y="507600"/>
              <a:ext cx="2089080" cy="57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8440">
                    <a:solidFill>
                      <a:srgbClr val="800000"/>
                    </a:solidFill>
                    <a:round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楷体_GB2312"/>
                </a:rPr>
                <a:t>感悟点滴</a:t>
              </a:r>
              <a:endParaRPr b="1" lang="en-US" sz="1800" spc="1" strike="noStrike">
                <a:ln w="28440">
                  <a:solidFill>
                    <a:srgbClr val="800000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pic>
        <p:nvPicPr>
          <p:cNvPr id="364" name="Picture 24" descr="BD21318_"/>
          <p:cNvPicPr/>
          <p:nvPr/>
        </p:nvPicPr>
        <p:blipFill>
          <a:blip r:embed="rId5"/>
          <a:stretch/>
        </p:blipFill>
        <p:spPr>
          <a:xfrm>
            <a:off x="2886120" y="1125360"/>
            <a:ext cx="5933880" cy="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WordArt 2"/>
          <p:cNvSpPr txBox="1"/>
          <p:nvPr/>
        </p:nvSpPr>
        <p:spPr>
          <a:xfrm>
            <a:off x="228600" y="266760"/>
            <a:ext cx="215892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小结</a:t>
            </a:r>
            <a:endParaRPr b="1" lang="en-US" sz="66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55520" y="901800"/>
            <a:ext cx="88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用一元一次不等式解实际问题的一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355680" y="1549440"/>
            <a:ext cx="2539800" cy="1523880"/>
          </a:xfrm>
          <a:custGeom>
            <a:avLst/>
            <a:gdLst>
              <a:gd name="textAreaLeft" fmla="*/ 98640 w 2539800"/>
              <a:gd name="textAreaRight" fmla="*/ 2441160 w 25398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5997" h="21600">
                <a:moveTo>
                  <a:pt x="0" y="0"/>
                </a:moveTo>
                <a:lnTo>
                  <a:pt x="35997" y="0"/>
                </a:lnTo>
                <a:lnTo>
                  <a:pt x="35997" y="21600"/>
                </a:lnTo>
                <a:lnTo>
                  <a:pt x="0" y="21600"/>
                </a:lnTo>
                <a:close/>
              </a:path>
              <a:path fill="lightenLess" w="35997" h="21600">
                <a:moveTo>
                  <a:pt x="0" y="0"/>
                </a:moveTo>
                <a:lnTo>
                  <a:pt x="35997" y="0"/>
                </a:lnTo>
                <a:lnTo>
                  <a:pt x="34597" y="1400"/>
                </a:lnTo>
                <a:lnTo>
                  <a:pt x="1400" y="1400"/>
                </a:lnTo>
                <a:close/>
              </a:path>
              <a:path fill="darken" w="35997" h="21600">
                <a:moveTo>
                  <a:pt x="35997" y="0"/>
                </a:moveTo>
                <a:lnTo>
                  <a:pt x="35997" y="21600"/>
                </a:lnTo>
                <a:lnTo>
                  <a:pt x="34597" y="20200"/>
                </a:lnTo>
                <a:lnTo>
                  <a:pt x="34597" y="1400"/>
                </a:lnTo>
                <a:close/>
              </a:path>
              <a:path fill="darkenLess" w="35997" h="21600">
                <a:moveTo>
                  <a:pt x="35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7" y="20200"/>
                </a:lnTo>
                <a:close/>
              </a:path>
              <a:path fill="lighten" w="35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实际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包含不等关系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6251400" y="1574640"/>
            <a:ext cx="2438640" cy="1524240"/>
          </a:xfrm>
          <a:custGeom>
            <a:avLst/>
            <a:gdLst>
              <a:gd name="textAreaLeft" fmla="*/ 98640 w 2438640"/>
              <a:gd name="textAreaRight" fmla="*/ 2340000 w 243864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34555" h="21600">
                <a:moveTo>
                  <a:pt x="0" y="0"/>
                </a:moveTo>
                <a:lnTo>
                  <a:pt x="34555" y="0"/>
                </a:lnTo>
                <a:lnTo>
                  <a:pt x="34555" y="21600"/>
                </a:lnTo>
                <a:lnTo>
                  <a:pt x="0" y="21600"/>
                </a:lnTo>
                <a:close/>
              </a:path>
              <a:path fill="lightenLess" w="34555" h="21600">
                <a:moveTo>
                  <a:pt x="0" y="0"/>
                </a:moveTo>
                <a:lnTo>
                  <a:pt x="34555" y="0"/>
                </a:lnTo>
                <a:lnTo>
                  <a:pt x="33155" y="1400"/>
                </a:lnTo>
                <a:lnTo>
                  <a:pt x="1400" y="1400"/>
                </a:lnTo>
                <a:close/>
              </a:path>
              <a:path fill="darken" w="34555" h="21600">
                <a:moveTo>
                  <a:pt x="34555" y="0"/>
                </a:moveTo>
                <a:lnTo>
                  <a:pt x="34555" y="21600"/>
                </a:lnTo>
                <a:lnTo>
                  <a:pt x="33155" y="20200"/>
                </a:lnTo>
                <a:lnTo>
                  <a:pt x="33155" y="1400"/>
                </a:lnTo>
                <a:close/>
              </a:path>
              <a:path fill="darkenLess" w="34555" h="21600">
                <a:moveTo>
                  <a:pt x="3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5" y="20200"/>
                </a:lnTo>
                <a:close/>
              </a:path>
              <a:path fill="lighten" w="3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学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一元一次不等式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6093000" y="4813200"/>
            <a:ext cx="2936880" cy="1600200"/>
          </a:xfrm>
          <a:custGeom>
            <a:avLst/>
            <a:gdLst>
              <a:gd name="textAreaLeft" fmla="*/ 103680 w 2936880"/>
              <a:gd name="textAreaRight" fmla="*/ 2833200 w 29368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9639" h="21600">
                <a:moveTo>
                  <a:pt x="0" y="0"/>
                </a:moveTo>
                <a:lnTo>
                  <a:pt x="39639" y="0"/>
                </a:lnTo>
                <a:lnTo>
                  <a:pt x="39639" y="21600"/>
                </a:lnTo>
                <a:lnTo>
                  <a:pt x="0" y="21600"/>
                </a:lnTo>
                <a:close/>
              </a:path>
              <a:path fill="lightenLess" w="39639" h="21600">
                <a:moveTo>
                  <a:pt x="0" y="0"/>
                </a:moveTo>
                <a:lnTo>
                  <a:pt x="39639" y="0"/>
                </a:lnTo>
                <a:lnTo>
                  <a:pt x="38239" y="1400"/>
                </a:lnTo>
                <a:lnTo>
                  <a:pt x="1400" y="1400"/>
                </a:lnTo>
                <a:close/>
              </a:path>
              <a:path fill="darken" w="39639" h="21600">
                <a:moveTo>
                  <a:pt x="39639" y="0"/>
                </a:moveTo>
                <a:lnTo>
                  <a:pt x="39639" y="21600"/>
                </a:lnTo>
                <a:lnTo>
                  <a:pt x="38239" y="20200"/>
                </a:lnTo>
                <a:lnTo>
                  <a:pt x="38239" y="1400"/>
                </a:lnTo>
                <a:close/>
              </a:path>
              <a:path fill="darkenLess" w="39639" h="21600">
                <a:moveTo>
                  <a:pt x="39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9" y="20200"/>
                </a:lnTo>
                <a:close/>
              </a:path>
              <a:path fill="lighten" w="39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学问题的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不等式的解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355680" y="4788000"/>
            <a:ext cx="2539800" cy="1625400"/>
          </a:xfrm>
          <a:custGeom>
            <a:avLst/>
            <a:gdLst>
              <a:gd name="textAreaLeft" fmla="*/ 105120 w 2539800"/>
              <a:gd name="textAreaRight" fmla="*/ 2434680 w 2539800"/>
              <a:gd name="textAreaTop" fmla="*/ 105120 h 1625400"/>
              <a:gd name="textAreaBottom" fmla="*/ 1520280 h 16254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实际问题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解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2895480" y="2031840"/>
            <a:ext cx="3353040" cy="457200"/>
          </a:xfrm>
          <a:prstGeom prst="rightArrow">
            <a:avLst>
              <a:gd name="adj1" fmla="val 50000"/>
              <a:gd name="adj2" fmla="val 183244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7261200" y="3111480"/>
            <a:ext cx="380880" cy="1676520"/>
          </a:xfrm>
          <a:prstGeom prst="downArrow">
            <a:avLst>
              <a:gd name="adj1" fmla="val 50000"/>
              <a:gd name="adj2" fmla="val 110043"/>
            </a:avLst>
          </a:prstGeom>
          <a:solidFill>
            <a:srgbClr val="f808d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2895480" y="5397480"/>
            <a:ext cx="3197520" cy="457200"/>
          </a:xfrm>
          <a:prstGeom prst="leftArrow">
            <a:avLst>
              <a:gd name="adj1" fmla="val 50000"/>
              <a:gd name="adj2" fmla="val 174745"/>
            </a:avLst>
          </a:prstGeom>
          <a:solidFill>
            <a:srgbClr val="f808d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3426480" y="2489040"/>
            <a:ext cx="18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未知数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不等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4606560" y="507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7694640" y="3679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解不等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3051000" y="1574640"/>
            <a:ext cx="2448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3271680" y="1727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抓关键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5905440" y="338940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去括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5986440" y="366876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移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5986440" y="396396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合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5719680" y="4421160"/>
            <a:ext cx="20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系数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6120000" y="310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去分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179280" y="2133720"/>
            <a:ext cx="87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移动双城分公司开设有两种业务：“全球通”月租费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每分钟通话费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；“神州行”没有月租费，每分钟通话费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（两种通话均指市内通话），如果一个月内通话ｘ分钟，选择哪种通讯业务比较合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图片思考"/>
          <p:cNvPicPr/>
          <p:nvPr/>
        </p:nvPicPr>
        <p:blipFill>
          <a:blip r:embed="rId1"/>
          <a:stretch/>
        </p:blipFill>
        <p:spPr>
          <a:xfrm>
            <a:off x="6694560" y="0"/>
            <a:ext cx="2449440" cy="206064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4"/>
          <p:cNvGrpSpPr/>
          <p:nvPr/>
        </p:nvGrpSpPr>
        <p:grpSpPr>
          <a:xfrm>
            <a:off x="2052720" y="1125360"/>
            <a:ext cx="3960720" cy="824040"/>
            <a:chOff x="2052720" y="1125360"/>
            <a:chExt cx="3960720" cy="824040"/>
          </a:xfrm>
        </p:grpSpPr>
        <p:sp>
          <p:nvSpPr>
            <p:cNvPr id="387" name="Text Box 5"/>
            <p:cNvSpPr/>
            <p:nvPr/>
          </p:nvSpPr>
          <p:spPr>
            <a:xfrm>
              <a:off x="2052720" y="1125360"/>
              <a:ext cx="39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Book Antiqua"/>
                  <a:ea typeface="黑体"/>
                </a:rPr>
                <a:t>熟，才能生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6" descr="line04"/>
            <p:cNvPicPr/>
            <p:nvPr/>
          </p:nvPicPr>
          <p:blipFill>
            <a:blip r:embed="rId2"/>
            <a:stretch/>
          </p:blipFill>
          <p:spPr>
            <a:xfrm>
              <a:off x="2197080" y="1773000"/>
              <a:ext cx="1428840" cy="1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line04"/>
            <p:cNvPicPr/>
            <p:nvPr/>
          </p:nvPicPr>
          <p:blipFill>
            <a:blip r:embed="rId3"/>
            <a:stretch/>
          </p:blipFill>
          <p:spPr>
            <a:xfrm>
              <a:off x="3764160" y="1773000"/>
              <a:ext cx="1428480" cy="17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8"/>
          <p:cNvGrpSpPr/>
          <p:nvPr/>
        </p:nvGrpSpPr>
        <p:grpSpPr>
          <a:xfrm>
            <a:off x="34920" y="-25560"/>
            <a:ext cx="2533680" cy="735120"/>
            <a:chOff x="34920" y="-25560"/>
            <a:chExt cx="2533680" cy="735120"/>
          </a:xfrm>
        </p:grpSpPr>
        <p:pic>
          <p:nvPicPr>
            <p:cNvPr id="391" name="Picture 9" descr="钥匙"/>
            <p:cNvPicPr/>
            <p:nvPr/>
          </p:nvPicPr>
          <p:blipFill>
            <a:blip r:embed="rId4"/>
            <a:stretch/>
          </p:blipFill>
          <p:spPr>
            <a:xfrm>
              <a:off x="34920" y="-25560"/>
              <a:ext cx="253368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WordArt 10"/>
            <p:cNvSpPr txBox="1"/>
            <p:nvPr/>
          </p:nvSpPr>
          <p:spPr>
            <a:xfrm>
              <a:off x="76320" y="16920"/>
              <a:ext cx="2433600" cy="60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ffcc"/>
                    </a:solidFill>
                    <a:round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黑体"/>
                </a:rPr>
                <a:t>拓展应用</a:t>
              </a:r>
              <a:endParaRPr b="1" lang="en-US" sz="1800" spc="1" strike="noStrike">
                <a:ln w="12600">
                  <a:solidFill>
                    <a:srgbClr val="ffffcc"/>
                  </a:solidFill>
                  <a:round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393" name="文本框 8200"/>
          <p:cNvSpPr/>
          <p:nvPr/>
        </p:nvSpPr>
        <p:spPr>
          <a:xfrm>
            <a:off x="1579680" y="790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171db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2411280" y="333360"/>
            <a:ext cx="5715000" cy="773280"/>
            <a:chOff x="2411280" y="333360"/>
            <a:chExt cx="5715000" cy="773280"/>
          </a:xfrm>
        </p:grpSpPr>
        <p:pic>
          <p:nvPicPr>
            <p:cNvPr id="395" name="Picture 3" descr="BD21527_"/>
            <p:cNvPicPr/>
            <p:nvPr/>
          </p:nvPicPr>
          <p:blipFill>
            <a:blip r:embed="rId1"/>
            <a:stretch/>
          </p:blipFill>
          <p:spPr>
            <a:xfrm>
              <a:off x="2411280" y="1011240"/>
              <a:ext cx="571500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4"/>
            <p:cNvSpPr/>
            <p:nvPr/>
          </p:nvSpPr>
          <p:spPr>
            <a:xfrm>
              <a:off x="3765240" y="333360"/>
              <a:ext cx="295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a50021"/>
                  </a:solidFill>
                  <a:latin typeface="Book Antiqua"/>
                  <a:ea typeface="黑体"/>
                </a:rPr>
                <a:t>试金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WordArt 5"/>
          <p:cNvSpPr txBox="1"/>
          <p:nvPr/>
        </p:nvSpPr>
        <p:spPr>
          <a:xfrm>
            <a:off x="493560" y="479520"/>
            <a:ext cx="1702080" cy="7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0033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华文新魏"/>
              </a:rPr>
              <a:t>作业</a:t>
            </a:r>
            <a:endParaRPr b="1" lang="en-US" sz="1800" spc="1" strike="noStrike">
              <a:ln w="19080">
                <a:solidFill>
                  <a:srgbClr val="990033"/>
                </a:solidFill>
                <a:round/>
              </a:ln>
              <a:blipFill rotWithShape="0">
                <a:blip r:embed="rId3"/>
                <a:srcRect/>
                <a:stretch/>
              </a:blipFill>
              <a:latin typeface="华文新魏"/>
              <a:ea typeface="华文新魏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50920" y="1701720"/>
            <a:ext cx="871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必做题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选做题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家帮父母算算手机应该选择哪种消费方式更省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个人上网的两种收费方式：第一种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种：不超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；超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部分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　　请你为消费者设计一套最佳消费方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7" descr="BD14868_"/>
          <p:cNvPicPr/>
          <p:nvPr/>
        </p:nvPicPr>
        <p:blipFill>
          <a:blip r:embed="rId4"/>
          <a:stretch/>
        </p:blipFill>
        <p:spPr>
          <a:xfrm>
            <a:off x="633240" y="17510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BD14868_"/>
          <p:cNvPicPr/>
          <p:nvPr/>
        </p:nvPicPr>
        <p:blipFill>
          <a:blip r:embed="rId5"/>
          <a:stretch/>
        </p:blipFill>
        <p:spPr>
          <a:xfrm>
            <a:off x="633240" y="24210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230F-D46A-4A2E-9E49-39D6977F85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3"/>
          <p:cNvSpPr txBox="1"/>
          <p:nvPr/>
        </p:nvSpPr>
        <p:spPr>
          <a:xfrm>
            <a:off x="1476360" y="549360"/>
            <a:ext cx="5257800" cy="22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99"/>
                  </a:solidFill>
                  <a:round/>
                </a:ln>
                <a:gradFill rotWithShape="0">
                  <a:gsLst>
                    <a:gs pos="0">
                      <a:srgbClr val="762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数学来源于生活</a:t>
            </a:r>
            <a:endParaRPr b="0" lang="en-US" sz="1800" spc="1" strike="noStrike">
              <a:ln w="9360">
                <a:solidFill>
                  <a:srgbClr val="ffff99"/>
                </a:solidFill>
                <a:round/>
              </a:ln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06" name="WordArt 4"/>
          <p:cNvSpPr txBox="1"/>
          <p:nvPr/>
        </p:nvSpPr>
        <p:spPr>
          <a:xfrm>
            <a:off x="2556000" y="3500280"/>
            <a:ext cx="56163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又服务于生活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07" name="相逢是首歌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7" dur="249076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57200" y="1371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隶书"/>
                <a:ea typeface="隶书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能将实际问题转化为一元一次不等式；会根据具体问题中的数量关系列一元一次不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80880" y="3200400"/>
            <a:ext cx="81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归纳列一元一次不等式解实际问题的基本步骤，培养学生的数学建模能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33520" y="4495680"/>
            <a:ext cx="81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71db"/>
                </a:solidFill>
                <a:latin typeface="隶书"/>
                <a:ea typeface="隶书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通过解决实际问题，体会一元一次不等式在生活中的应用价值，培养学生学习数学的兴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5"/>
          <p:cNvSpPr txBox="1"/>
          <p:nvPr/>
        </p:nvSpPr>
        <p:spPr>
          <a:xfrm>
            <a:off x="838080" y="115920"/>
            <a:ext cx="373392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232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学习目标</a:t>
            </a:r>
            <a:endParaRPr b="0" lang="en-US" sz="1800" spc="1" strike="noStrike">
              <a:ln w="2232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026" descr="IMAG0008"/>
          <p:cNvPicPr/>
          <p:nvPr/>
        </p:nvPicPr>
        <p:blipFill>
          <a:blip r:embed="rId1"/>
          <a:stretch/>
        </p:blipFill>
        <p:spPr>
          <a:xfrm>
            <a:off x="-762120" y="-457200"/>
            <a:ext cx="10820520" cy="8115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27" descr="IMAG0002"/>
          <p:cNvPicPr/>
          <p:nvPr/>
        </p:nvPicPr>
        <p:blipFill>
          <a:blip r:embed="rId2"/>
          <a:stretch/>
        </p:blipFill>
        <p:spPr>
          <a:xfrm>
            <a:off x="-762120" y="-457200"/>
            <a:ext cx="10820520" cy="8115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28" descr="16"/>
          <p:cNvPicPr/>
          <p:nvPr/>
        </p:nvPicPr>
        <p:blipFill>
          <a:blip r:embed="rId3"/>
          <a:stretch/>
        </p:blipFill>
        <p:spPr>
          <a:xfrm>
            <a:off x="-457200" y="-380880"/>
            <a:ext cx="10287000" cy="715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29" descr="20040729094223"/>
          <p:cNvPicPr/>
          <p:nvPr/>
        </p:nvPicPr>
        <p:blipFill>
          <a:blip r:embed="rId4"/>
          <a:stretch/>
        </p:blipFill>
        <p:spPr>
          <a:xfrm>
            <a:off x="-838080" y="304920"/>
            <a:ext cx="10896480" cy="8420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30" descr="14"/>
          <p:cNvPicPr/>
          <p:nvPr/>
        </p:nvPicPr>
        <p:blipFill>
          <a:blip r:embed="rId5"/>
          <a:stretch/>
        </p:blipFill>
        <p:spPr>
          <a:xfrm>
            <a:off x="-762120" y="380880"/>
            <a:ext cx="10744200" cy="80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5549760" y="2984400"/>
            <a:ext cx="3594240" cy="3873600"/>
            <a:chOff x="5549760" y="2984400"/>
            <a:chExt cx="3594240" cy="3873600"/>
          </a:xfrm>
        </p:grpSpPr>
        <p:pic>
          <p:nvPicPr>
            <p:cNvPr id="178" name="Picture 3" descr="hornbachers"/>
            <p:cNvPicPr/>
            <p:nvPr/>
          </p:nvPicPr>
          <p:blipFill>
            <a:blip r:embed="rId1"/>
            <a:stretch/>
          </p:blipFill>
          <p:spPr>
            <a:xfrm>
              <a:off x="5549760" y="2984400"/>
              <a:ext cx="3594240" cy="387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4" descr="cub-pineapple"/>
            <p:cNvPicPr/>
            <p:nvPr/>
          </p:nvPicPr>
          <p:blipFill>
            <a:blip r:embed="rId2"/>
            <a:stretch/>
          </p:blipFill>
          <p:spPr>
            <a:xfrm>
              <a:off x="5562360" y="2984400"/>
              <a:ext cx="1854360" cy="255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5"/>
          <p:cNvGrpSpPr/>
          <p:nvPr/>
        </p:nvGrpSpPr>
        <p:grpSpPr>
          <a:xfrm>
            <a:off x="-455760" y="0"/>
            <a:ext cx="3884400" cy="4495320"/>
            <a:chOff x="-455760" y="0"/>
            <a:chExt cx="3884400" cy="4495320"/>
          </a:xfrm>
        </p:grpSpPr>
        <p:pic>
          <p:nvPicPr>
            <p:cNvPr id="181" name="Picture 6" descr="01-11-001-02"/>
            <p:cNvPicPr/>
            <p:nvPr/>
          </p:nvPicPr>
          <p:blipFill>
            <a:blip r:embed="rId3"/>
            <a:stretch/>
          </p:blipFill>
          <p:spPr>
            <a:xfrm>
              <a:off x="-455760" y="0"/>
              <a:ext cx="388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7" descr="scotts-w-peppers"/>
            <p:cNvPicPr/>
            <p:nvPr/>
          </p:nvPicPr>
          <p:blipFill>
            <a:blip r:embed="rId4"/>
            <a:stretch/>
          </p:blipFill>
          <p:spPr>
            <a:xfrm>
              <a:off x="10080" y="674280"/>
              <a:ext cx="3340800" cy="38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8"/>
          <p:cNvGrpSpPr/>
          <p:nvPr/>
        </p:nvGrpSpPr>
        <p:grpSpPr>
          <a:xfrm>
            <a:off x="3132000" y="0"/>
            <a:ext cx="5791320" cy="1600200"/>
            <a:chOff x="3132000" y="0"/>
            <a:chExt cx="5791320" cy="1600200"/>
          </a:xfrm>
        </p:grpSpPr>
        <p:sp>
          <p:nvSpPr>
            <p:cNvPr id="184" name="AutoShape 9"/>
            <p:cNvSpPr/>
            <p:nvPr/>
          </p:nvSpPr>
          <p:spPr>
            <a:xfrm>
              <a:off x="3132000" y="0"/>
              <a:ext cx="5791320" cy="1600200"/>
            </a:xfrm>
            <a:prstGeom prst="cloudCallout">
              <a:avLst>
                <a:gd name="adj1" fmla="val -62527"/>
                <a:gd name="adj2" fmla="val 33731"/>
              </a:avLst>
            </a:prstGeom>
            <a:solidFill>
              <a:srgbClr val="ff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我店累计购买</a:t>
              </a: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100</a:t>
              </a: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元商品后，再购买的商品按原价的</a:t>
              </a: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90%</a:t>
              </a: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收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0"/>
            <p:cNvSpPr/>
            <p:nvPr/>
          </p:nvSpPr>
          <p:spPr>
            <a:xfrm>
              <a:off x="3132000" y="533520"/>
              <a:ext cx="9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1"/>
          <p:cNvGrpSpPr/>
          <p:nvPr/>
        </p:nvGrpSpPr>
        <p:grpSpPr>
          <a:xfrm>
            <a:off x="3579840" y="1628640"/>
            <a:ext cx="4952880" cy="1864080"/>
            <a:chOff x="3579840" y="1628640"/>
            <a:chExt cx="4952880" cy="1864080"/>
          </a:xfrm>
        </p:grpSpPr>
        <p:sp>
          <p:nvSpPr>
            <p:cNvPr id="187" name="AutoShape 12"/>
            <p:cNvSpPr/>
            <p:nvPr/>
          </p:nvSpPr>
          <p:spPr>
            <a:xfrm>
              <a:off x="3579840" y="1628640"/>
              <a:ext cx="4952880" cy="1119600"/>
            </a:xfrm>
            <a:prstGeom prst="wedgeRoundRectCallout">
              <a:avLst>
                <a:gd name="adj1" fmla="val 10898"/>
                <a:gd name="adj2" fmla="val 126282"/>
                <a:gd name="adj3" fmla="val 16667"/>
              </a:avLst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我店累计购买</a:t>
              </a:r>
              <a:r>
                <a:rPr b="1" lang="en-US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50</a:t>
              </a:r>
              <a:r>
                <a:rPr b="1" lang="zh-CN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元商品后，再购买的商品按原价的</a:t>
              </a:r>
              <a:r>
                <a:rPr b="1" lang="en-US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95%</a:t>
              </a:r>
              <a:r>
                <a:rPr b="1" lang="zh-CN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收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246720" y="2575800"/>
              <a:ext cx="121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乙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4"/>
          <p:cNvSpPr/>
          <p:nvPr/>
        </p:nvSpPr>
        <p:spPr>
          <a:xfrm>
            <a:off x="3352680" y="358128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539640" y="5213520"/>
            <a:ext cx="3276720" cy="1600200"/>
          </a:xfrm>
          <a:prstGeom prst="wedgeEllipseCallout">
            <a:avLst>
              <a:gd name="adj1" fmla="val 11046"/>
              <a:gd name="adj2" fmla="val -123013"/>
            </a:avLst>
          </a:prstGeom>
          <a:solidFill>
            <a:srgbClr val="a78b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商店购物款达多少元后可以优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6"/>
          <p:cNvSpPr/>
          <p:nvPr/>
        </p:nvSpPr>
        <p:spPr>
          <a:xfrm>
            <a:off x="3454560" y="2895480"/>
            <a:ext cx="1981080" cy="3353040"/>
          </a:xfrm>
          <a:prstGeom prst="wedgeEllipseCallout">
            <a:avLst>
              <a:gd name="adj1" fmla="val 76041"/>
              <a:gd name="adj2" fmla="val 38587"/>
            </a:avLst>
          </a:prstGeom>
          <a:solidFill>
            <a:srgbClr val="7171d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购物款达多少元后可以优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6026040" y="2271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867280" y="1666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19"/>
          <p:cNvSpPr txBox="1"/>
          <p:nvPr/>
        </p:nvSpPr>
        <p:spPr>
          <a:xfrm>
            <a:off x="0" y="4508640"/>
            <a:ext cx="176364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0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0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Object 2" descr=""/>
          <p:cNvPicPr/>
          <p:nvPr/>
        </p:nvPicPr>
        <p:blipFill>
          <a:blip r:embed="rId1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3"/>
          <p:cNvGrpSpPr/>
          <p:nvPr/>
        </p:nvGrpSpPr>
        <p:grpSpPr>
          <a:xfrm>
            <a:off x="5796000" y="2924280"/>
            <a:ext cx="3200400" cy="3504960"/>
            <a:chOff x="5796000" y="2924280"/>
            <a:chExt cx="3200400" cy="3504960"/>
          </a:xfrm>
        </p:grpSpPr>
        <p:pic>
          <p:nvPicPr>
            <p:cNvPr id="197" name="Picture 4" descr="hornbachers"/>
            <p:cNvPicPr/>
            <p:nvPr/>
          </p:nvPicPr>
          <p:blipFill>
            <a:blip r:embed="rId2"/>
            <a:stretch/>
          </p:blipFill>
          <p:spPr>
            <a:xfrm>
              <a:off x="5796000" y="2924280"/>
              <a:ext cx="320040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5" descr="cub-pineapple"/>
            <p:cNvPicPr/>
            <p:nvPr/>
          </p:nvPicPr>
          <p:blipFill>
            <a:blip r:embed="rId3"/>
            <a:stretch/>
          </p:blipFill>
          <p:spPr>
            <a:xfrm>
              <a:off x="5807160" y="2924280"/>
              <a:ext cx="1650960" cy="230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6"/>
          <p:cNvGrpSpPr/>
          <p:nvPr/>
        </p:nvGrpSpPr>
        <p:grpSpPr>
          <a:xfrm>
            <a:off x="-379440" y="0"/>
            <a:ext cx="3351240" cy="3276360"/>
            <a:chOff x="-379440" y="0"/>
            <a:chExt cx="3351240" cy="3276360"/>
          </a:xfrm>
        </p:grpSpPr>
        <p:pic>
          <p:nvPicPr>
            <p:cNvPr id="200" name="Picture 7" descr="01-11-001-02"/>
            <p:cNvPicPr/>
            <p:nvPr/>
          </p:nvPicPr>
          <p:blipFill>
            <a:blip r:embed="rId4"/>
            <a:stretch/>
          </p:blipFill>
          <p:spPr>
            <a:xfrm>
              <a:off x="-379440" y="0"/>
              <a:ext cx="335124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8" descr="scotts-w-peppers"/>
            <p:cNvPicPr/>
            <p:nvPr/>
          </p:nvPicPr>
          <p:blipFill>
            <a:blip r:embed="rId5"/>
            <a:stretch/>
          </p:blipFill>
          <p:spPr>
            <a:xfrm>
              <a:off x="22680" y="491400"/>
              <a:ext cx="2882160" cy="278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AutoShape 9"/>
          <p:cNvSpPr/>
          <p:nvPr/>
        </p:nvSpPr>
        <p:spPr>
          <a:xfrm>
            <a:off x="3048120" y="0"/>
            <a:ext cx="5790960" cy="1600200"/>
          </a:xfrm>
          <a:prstGeom prst="cloudCallout">
            <a:avLst>
              <a:gd name="adj1" fmla="val -62527"/>
              <a:gd name="adj2" fmla="val 33731"/>
            </a:avLst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我店累计购买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元商品后，再购买的商品按原价的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90%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收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5562720" y="1523880"/>
            <a:ext cx="3581280" cy="1295640"/>
          </a:xfrm>
          <a:prstGeom prst="wedgeRoundRectCallout">
            <a:avLst>
              <a:gd name="adj1" fmla="val -4078"/>
              <a:gd name="adj2" fmla="val 108333"/>
              <a:gd name="adj3" fmla="val 16667"/>
            </a:avLst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我店累计购买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元商品后，再购买的商品按原价的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95%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收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048120" y="5335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7529400" y="27306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3" descr="r020"/>
          <p:cNvPicPr/>
          <p:nvPr/>
        </p:nvPicPr>
        <p:blipFill>
          <a:blip r:embed="rId6"/>
          <a:stretch/>
        </p:blipFill>
        <p:spPr>
          <a:xfrm>
            <a:off x="4800600" y="4495680"/>
            <a:ext cx="1130400" cy="1981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r027"/>
          <p:cNvPicPr/>
          <p:nvPr/>
        </p:nvPicPr>
        <p:blipFill>
          <a:blip r:embed="rId7"/>
          <a:stretch/>
        </p:blipFill>
        <p:spPr>
          <a:xfrm>
            <a:off x="2057400" y="4267080"/>
            <a:ext cx="1019160" cy="22100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5"/>
          <p:cNvSpPr/>
          <p:nvPr/>
        </p:nvSpPr>
        <p:spPr>
          <a:xfrm>
            <a:off x="3201840" y="5638680"/>
            <a:ext cx="2235240" cy="885960"/>
          </a:xfrm>
          <a:prstGeom prst="wedgeEllipseCallout">
            <a:avLst>
              <a:gd name="adj1" fmla="val -25361"/>
              <a:gd name="adj2" fmla="val -88888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80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4648320" y="3657600"/>
            <a:ext cx="1752480" cy="914400"/>
          </a:xfrm>
          <a:prstGeom prst="wedgeEllipseCallout">
            <a:avLst>
              <a:gd name="adj1" fmla="val -10055"/>
              <a:gd name="adj2" fmla="val 68402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40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7"/>
          <p:cNvSpPr/>
          <p:nvPr/>
        </p:nvSpPr>
        <p:spPr>
          <a:xfrm>
            <a:off x="1676520" y="5943600"/>
            <a:ext cx="2174760" cy="914400"/>
          </a:xfrm>
          <a:prstGeom prst="wedgeEllipseCallout">
            <a:avLst>
              <a:gd name="adj1" fmla="val 13407"/>
              <a:gd name="adj2" fmla="val -64930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140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8"/>
          <p:cNvSpPr/>
          <p:nvPr/>
        </p:nvSpPr>
        <p:spPr>
          <a:xfrm>
            <a:off x="0" y="3048120"/>
            <a:ext cx="1752480" cy="914400"/>
          </a:xfrm>
          <a:prstGeom prst="wedgeEllipseCallout">
            <a:avLst>
              <a:gd name="adj1" fmla="val -21740"/>
              <a:gd name="adj2" fmla="val 65453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160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4648320" y="5667480"/>
            <a:ext cx="5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行楷"/>
                <a:ea typeface="华文行楷"/>
              </a:rPr>
              <a:t>小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2971800" y="60199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小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1523880" y="50292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华文行楷"/>
                <a:ea typeface="华文行楷"/>
              </a:rPr>
              <a:t>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0" y="53020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小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3"/>
          <p:cNvSpPr/>
          <p:nvPr/>
        </p:nvSpPr>
        <p:spPr>
          <a:xfrm>
            <a:off x="2514600" y="1752480"/>
            <a:ext cx="2666880" cy="1447920"/>
          </a:xfrm>
          <a:prstGeom prst="cloudCallout">
            <a:avLst>
              <a:gd name="adj1" fmla="val 5537"/>
              <a:gd name="adj2" fmla="val 92324"/>
            </a:avLst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去哪家更合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4"/>
          <p:cNvSpPr/>
          <p:nvPr/>
        </p:nvSpPr>
        <p:spPr>
          <a:xfrm>
            <a:off x="4724280" y="2895480"/>
            <a:ext cx="2743200" cy="1219320"/>
          </a:xfrm>
          <a:prstGeom prst="cloudCallout">
            <a:avLst>
              <a:gd name="adj1" fmla="val -30324"/>
              <a:gd name="adj2" fmla="val 7799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随便去哪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5"/>
          <p:cNvSpPr/>
          <p:nvPr/>
        </p:nvSpPr>
        <p:spPr>
          <a:xfrm>
            <a:off x="2340000" y="1557360"/>
            <a:ext cx="3352680" cy="1447920"/>
          </a:xfrm>
          <a:prstGeom prst="cloudCallout">
            <a:avLst>
              <a:gd name="adj1" fmla="val -18560"/>
              <a:gd name="adj2" fmla="val 93750"/>
            </a:avLst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还是去乙这家更合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6"/>
          <p:cNvSpPr/>
          <p:nvPr/>
        </p:nvSpPr>
        <p:spPr>
          <a:xfrm>
            <a:off x="1219320" y="3124080"/>
            <a:ext cx="2286000" cy="1295640"/>
          </a:xfrm>
          <a:prstGeom prst="cloudCallout">
            <a:avLst>
              <a:gd name="adj1" fmla="val 22291"/>
              <a:gd name="adj2" fmla="val 61398"/>
            </a:avLst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我去哪家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7"/>
          <p:cNvSpPr/>
          <p:nvPr/>
        </p:nvSpPr>
        <p:spPr>
          <a:xfrm>
            <a:off x="2882880" y="1773360"/>
            <a:ext cx="3200400" cy="1295280"/>
          </a:xfrm>
          <a:prstGeom prst="cloudCallout">
            <a:avLst>
              <a:gd name="adj1" fmla="val -13291"/>
              <a:gd name="adj2" fmla="val 99879"/>
            </a:avLst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和我一样，去乙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1828800" y="2971800"/>
            <a:ext cx="2743200" cy="914400"/>
          </a:xfrm>
          <a:prstGeom prst="cloudCallout">
            <a:avLst>
              <a:gd name="adj1" fmla="val -21462"/>
              <a:gd name="adj2" fmla="val 112328"/>
            </a:avLst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为什么</a:t>
            </a:r>
            <a:r>
              <a:rPr b="0" lang="zh-CN" sz="2400" spc="-1" strike="noStrike">
                <a:solidFill>
                  <a:srgbClr val="ffff00"/>
                </a:solidFill>
                <a:latin typeface="华文行楷"/>
                <a:ea typeface="华文行楷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9" descr="gif_60"/>
          <p:cNvPicPr/>
          <p:nvPr/>
        </p:nvPicPr>
        <p:blipFill>
          <a:blip r:embed="rId8"/>
          <a:stretch/>
        </p:blipFill>
        <p:spPr>
          <a:xfrm>
            <a:off x="395280" y="4005360"/>
            <a:ext cx="1249200" cy="237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0" descr="01-09-022-22"/>
          <p:cNvPicPr/>
          <p:nvPr/>
        </p:nvPicPr>
        <p:blipFill>
          <a:blip r:embed="rId9"/>
          <a:stretch/>
        </p:blipFill>
        <p:spPr>
          <a:xfrm>
            <a:off x="3492360" y="4187880"/>
            <a:ext cx="1087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y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0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gifmb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Object 3" descr=""/>
          <p:cNvPicPr/>
          <p:nvPr/>
        </p:nvPicPr>
        <p:blipFill>
          <a:blip r:embed="rId2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r020"/>
          <p:cNvPicPr/>
          <p:nvPr/>
        </p:nvPicPr>
        <p:blipFill>
          <a:blip r:embed="rId3"/>
          <a:stretch/>
        </p:blipFill>
        <p:spPr>
          <a:xfrm>
            <a:off x="5638680" y="3505320"/>
            <a:ext cx="1130400" cy="19810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5638680" y="54100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ccff"/>
                </a:solidFill>
                <a:latin typeface="华文行楷"/>
                <a:ea typeface="华文行楷"/>
              </a:rPr>
              <a:t>小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r027"/>
          <p:cNvPicPr/>
          <p:nvPr/>
        </p:nvPicPr>
        <p:blipFill>
          <a:blip r:embed="rId4"/>
          <a:stretch/>
        </p:blipFill>
        <p:spPr>
          <a:xfrm>
            <a:off x="2743200" y="3505320"/>
            <a:ext cx="1019160" cy="2209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3d_rw10"/>
          <p:cNvPicPr/>
          <p:nvPr/>
        </p:nvPicPr>
        <p:blipFill>
          <a:blip r:embed="rId5"/>
          <a:stretch/>
        </p:blipFill>
        <p:spPr>
          <a:xfrm>
            <a:off x="762120" y="2819520"/>
            <a:ext cx="1784160" cy="31240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8"/>
          <p:cNvSpPr/>
          <p:nvPr/>
        </p:nvSpPr>
        <p:spPr>
          <a:xfrm>
            <a:off x="304920" y="0"/>
            <a:ext cx="8839080" cy="2819520"/>
          </a:xfrm>
          <a:prstGeom prst="cloudCallout">
            <a:avLst>
              <a:gd name="adj1" fmla="val 10310"/>
              <a:gd name="adj2" fmla="val 7015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如果累计购物超过</a:t>
            </a:r>
            <a:r>
              <a:rPr b="0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100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，那么在甲店购物花费小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9"/>
          <p:cNvGrpSpPr/>
          <p:nvPr/>
        </p:nvGrpSpPr>
        <p:grpSpPr>
          <a:xfrm>
            <a:off x="3809880" y="3657600"/>
            <a:ext cx="1676520" cy="2730240"/>
            <a:chOff x="3809880" y="3657600"/>
            <a:chExt cx="1676520" cy="2730240"/>
          </a:xfrm>
        </p:grpSpPr>
        <p:pic>
          <p:nvPicPr>
            <p:cNvPr id="232" name="Picture 10" descr="r043"/>
            <p:cNvPicPr/>
            <p:nvPr/>
          </p:nvPicPr>
          <p:blipFill>
            <a:blip r:embed="rId6"/>
            <a:stretch/>
          </p:blipFill>
          <p:spPr>
            <a:xfrm>
              <a:off x="3809880" y="3657600"/>
              <a:ext cx="14479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4038480" y="55627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ccccff"/>
                  </a:solidFill>
                  <a:latin typeface="华文行楷"/>
                  <a:ea typeface="华文行楷"/>
                </a:rPr>
                <a:t>小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2"/>
          <p:cNvSpPr/>
          <p:nvPr/>
        </p:nvSpPr>
        <p:spPr>
          <a:xfrm>
            <a:off x="2362320" y="556272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ccff"/>
                </a:solidFill>
                <a:latin typeface="华文行楷"/>
                <a:ea typeface="华文行楷"/>
              </a:rPr>
              <a:t>小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62120" y="54864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ccff"/>
                </a:solidFill>
                <a:latin typeface="华文行楷"/>
                <a:ea typeface="华文行楷"/>
              </a:rPr>
              <a:t>小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1905120" y="2438280"/>
            <a:ext cx="2895480" cy="914400"/>
          </a:xfrm>
          <a:prstGeom prst="wedgeEllipseCallout">
            <a:avLst>
              <a:gd name="adj1" fmla="val 36291"/>
              <a:gd name="adj2" fmla="val 86634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ccff"/>
                </a:solidFill>
                <a:latin typeface="华文行楷"/>
                <a:ea typeface="华文行楷"/>
              </a:rPr>
              <a:t>我知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15"/>
          <p:cNvSpPr txBox="1"/>
          <p:nvPr/>
        </p:nvSpPr>
        <p:spPr>
          <a:xfrm rot="5400000">
            <a:off x="5752800" y="3162240"/>
            <a:ext cx="426708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宋体"/>
              </a:rPr>
              <a:t>你会做了吗？</a:t>
            </a:r>
            <a:endParaRPr b="0" lang="en-US" sz="18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0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714240" y="5875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981080" y="623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乙店消费＞甲店消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488880" y="1538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解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314360" y="155736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设累计购物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元（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＞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00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，如果在甲店购物花费小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332000" y="25606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50+0.95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（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x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-50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4788000" y="2565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华文行楷"/>
              </a:rPr>
              <a:t>100+0.9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华文行楷"/>
              </a:rPr>
              <a:t>x-100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282920" y="25653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888840" y="3209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去括号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111480" y="31622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50+0.95x-47.5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912960" y="3862440"/>
            <a:ext cx="31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移项且合并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967200" y="3825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0.05x&gt;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682560" y="44337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系数化为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3882960" y="4438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X &gt;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0" y="6248520"/>
            <a:ext cx="8763120" cy="609480"/>
          </a:xfrm>
          <a:custGeom>
            <a:avLst/>
            <a:gdLst>
              <a:gd name="textAreaLeft" fmla="*/ 39240 w 8763120"/>
              <a:gd name="textAreaRight" fmla="*/ 8723880 w 8763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10395" h="21600">
                <a:moveTo>
                  <a:pt x="0" y="0"/>
                </a:moveTo>
                <a:lnTo>
                  <a:pt x="310395" y="0"/>
                </a:lnTo>
                <a:lnTo>
                  <a:pt x="310395" y="21600"/>
                </a:lnTo>
                <a:lnTo>
                  <a:pt x="0" y="21600"/>
                </a:lnTo>
                <a:close/>
              </a:path>
              <a:path fill="lightenLess" w="310395" h="21600">
                <a:moveTo>
                  <a:pt x="0" y="0"/>
                </a:moveTo>
                <a:lnTo>
                  <a:pt x="310395" y="0"/>
                </a:lnTo>
                <a:lnTo>
                  <a:pt x="308995" y="1400"/>
                </a:lnTo>
                <a:lnTo>
                  <a:pt x="1400" y="1400"/>
                </a:lnTo>
                <a:close/>
              </a:path>
              <a:path fill="darken" w="310395" h="21600">
                <a:moveTo>
                  <a:pt x="310395" y="0"/>
                </a:moveTo>
                <a:lnTo>
                  <a:pt x="310395" y="21600"/>
                </a:lnTo>
                <a:lnTo>
                  <a:pt x="308995" y="20200"/>
                </a:lnTo>
                <a:lnTo>
                  <a:pt x="308995" y="1400"/>
                </a:lnTo>
                <a:close/>
              </a:path>
              <a:path fill="darkenLess" w="310395" h="21600">
                <a:moveTo>
                  <a:pt x="310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95" y="20200"/>
                </a:lnTo>
                <a:close/>
              </a:path>
              <a:path fill="lighten" w="310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6"/>
          <p:cNvGrpSpPr/>
          <p:nvPr/>
        </p:nvGrpSpPr>
        <p:grpSpPr>
          <a:xfrm>
            <a:off x="900000" y="5086440"/>
            <a:ext cx="6426000" cy="1037520"/>
            <a:chOff x="900000" y="5086440"/>
            <a:chExt cx="6426000" cy="1037520"/>
          </a:xfrm>
        </p:grpSpPr>
        <p:sp>
          <p:nvSpPr>
            <p:cNvPr id="253" name="Text Box 17"/>
            <p:cNvSpPr/>
            <p:nvPr/>
          </p:nvSpPr>
          <p:spPr>
            <a:xfrm>
              <a:off x="900000" y="5086440"/>
              <a:ext cx="642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∴</a:t>
              </a: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累计购物超过</a:t>
              </a:r>
              <a:r>
                <a:rPr b="0" lang="en-US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150</a:t>
              </a: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元时在甲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1339920" y="554256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购物花费小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19"/>
          <p:cNvSpPr/>
          <p:nvPr/>
        </p:nvSpPr>
        <p:spPr>
          <a:xfrm>
            <a:off x="5928480" y="3166920"/>
            <a:ext cx="24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00+0.9x-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ject 20" descr=""/>
          <p:cNvPicPr/>
          <p:nvPr/>
        </p:nvPicPr>
        <p:blipFill>
          <a:blip r:embed="rId1"/>
          <a:stretch/>
        </p:blipFill>
        <p:spPr>
          <a:xfrm>
            <a:off x="120600" y="0"/>
            <a:ext cx="9023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21"/>
          <p:cNvGrpSpPr/>
          <p:nvPr/>
        </p:nvGrpSpPr>
        <p:grpSpPr>
          <a:xfrm>
            <a:off x="0" y="6164280"/>
            <a:ext cx="9143280" cy="685800"/>
            <a:chOff x="0" y="6164280"/>
            <a:chExt cx="9143280" cy="685800"/>
          </a:xfrm>
        </p:grpSpPr>
        <p:grpSp>
          <p:nvGrpSpPr>
            <p:cNvPr id="258" name="Group 22"/>
            <p:cNvGrpSpPr/>
            <p:nvPr/>
          </p:nvGrpSpPr>
          <p:grpSpPr>
            <a:xfrm>
              <a:off x="0" y="6164280"/>
              <a:ext cx="7505640" cy="685800"/>
              <a:chOff x="0" y="6164280"/>
              <a:chExt cx="7505640" cy="685800"/>
            </a:xfrm>
          </p:grpSpPr>
          <p:grpSp>
            <p:nvGrpSpPr>
              <p:cNvPr id="259" name="Group 23"/>
              <p:cNvGrpSpPr/>
              <p:nvPr/>
            </p:nvGrpSpPr>
            <p:grpSpPr>
              <a:xfrm>
                <a:off x="0" y="6164280"/>
                <a:ext cx="2075760" cy="685800"/>
                <a:chOff x="0" y="6164280"/>
                <a:chExt cx="2075760" cy="685800"/>
              </a:xfrm>
            </p:grpSpPr>
            <p:pic>
              <p:nvPicPr>
                <p:cNvPr id="260" name="Picture 24" descr="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5" descr="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9292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26" descr="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8620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3" name="Group 27"/>
              <p:cNvGrpSpPr/>
              <p:nvPr/>
            </p:nvGrpSpPr>
            <p:grpSpPr>
              <a:xfrm>
                <a:off x="1785600" y="6164280"/>
                <a:ext cx="2075760" cy="685800"/>
                <a:chOff x="1785600" y="6164280"/>
                <a:chExt cx="2075760" cy="685800"/>
              </a:xfrm>
            </p:grpSpPr>
            <p:pic>
              <p:nvPicPr>
                <p:cNvPr id="264" name="Picture 28" descr="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8560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9" descr="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7852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0" descr="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97180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7" name="Group 31"/>
              <p:cNvGrpSpPr/>
              <p:nvPr/>
            </p:nvGrpSpPr>
            <p:grpSpPr>
              <a:xfrm>
                <a:off x="5429880" y="6164280"/>
                <a:ext cx="2075760" cy="685800"/>
                <a:chOff x="5429880" y="6164280"/>
                <a:chExt cx="2075760" cy="685800"/>
              </a:xfrm>
            </p:grpSpPr>
            <p:pic>
              <p:nvPicPr>
                <p:cNvPr id="268" name="Picture 32" descr="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42988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3" descr="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02280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4" descr="1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61608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Group 35"/>
              <p:cNvGrpSpPr/>
              <p:nvPr/>
            </p:nvGrpSpPr>
            <p:grpSpPr>
              <a:xfrm>
                <a:off x="3608640" y="6164280"/>
                <a:ext cx="2075760" cy="685800"/>
                <a:chOff x="3608640" y="6164280"/>
                <a:chExt cx="2075760" cy="685800"/>
              </a:xfrm>
            </p:grpSpPr>
            <p:pic>
              <p:nvPicPr>
                <p:cNvPr id="272" name="Picture 36" descr="1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60864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37" descr="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20156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38" descr="1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79484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75" name="Group 39"/>
            <p:cNvGrpSpPr/>
            <p:nvPr/>
          </p:nvGrpSpPr>
          <p:grpSpPr>
            <a:xfrm>
              <a:off x="7067520" y="6164280"/>
              <a:ext cx="2075760" cy="685800"/>
              <a:chOff x="7067520" y="6164280"/>
              <a:chExt cx="2075760" cy="685800"/>
            </a:xfrm>
          </p:grpSpPr>
          <p:pic>
            <p:nvPicPr>
              <p:cNvPr id="276" name="Picture 40" descr="1"/>
              <p:cNvPicPr/>
              <p:nvPr/>
            </p:nvPicPr>
            <p:blipFill>
              <a:blip r:embed="rId14"/>
              <a:stretch/>
            </p:blipFill>
            <p:spPr>
              <a:xfrm>
                <a:off x="7067520" y="6164280"/>
                <a:ext cx="88956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41" descr="1"/>
              <p:cNvPicPr/>
              <p:nvPr/>
            </p:nvPicPr>
            <p:blipFill>
              <a:blip r:embed="rId15"/>
              <a:stretch/>
            </p:blipFill>
            <p:spPr>
              <a:xfrm>
                <a:off x="7660440" y="6164280"/>
                <a:ext cx="88956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42" descr="1"/>
              <p:cNvPicPr/>
              <p:nvPr/>
            </p:nvPicPr>
            <p:blipFill>
              <a:blip r:embed="rId16"/>
              <a:stretch/>
            </p:blipFill>
            <p:spPr>
              <a:xfrm>
                <a:off x="8253720" y="6164280"/>
                <a:ext cx="889560" cy="685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9" name="文本框 8200"/>
          <p:cNvSpPr/>
          <p:nvPr/>
        </p:nvSpPr>
        <p:spPr>
          <a:xfrm>
            <a:off x="2379600" y="13176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171db"/>
                </a:solidFill>
                <a:uFillTx/>
                <a:latin typeface="Arial"/>
                <a:ea typeface="宋体"/>
                <a:hlinkClick r:id="rId1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设累计购物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4920" y="53352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≤5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在甲、乙两店是一样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440" y="981000"/>
            <a:ext cx="73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0&lt;x≤10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在乙店购买花费少些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0" y="1484280"/>
            <a:ext cx="766764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设在甲店应付款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乙店付款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100+0.9(x-100)=0.9x+1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50+0.95(x-50)=0.95x+2.5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0" y="2838600"/>
            <a:ext cx="75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＜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5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 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在乙店购买花费少些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80" y="3270240"/>
            <a:ext cx="780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 =15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 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在甲乙两店是一样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0" y="3701880"/>
            <a:ext cx="781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5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 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＜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在甲店购买花费少些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4920" y="413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通过以上探究，你能对不同的消费者设计出不同方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4920" y="4713120"/>
            <a:ext cx="698508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假设累计购物为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当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___________________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，任选一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___________________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，选乙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___________________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，选甲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900000" y="5084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x≤50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x=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1332000" y="558972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1763640" y="6162840"/>
            <a:ext cx="14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＞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7007400" y="5281560"/>
            <a:ext cx="2124000" cy="1800360"/>
            <a:chOff x="7007400" y="5281560"/>
            <a:chExt cx="2124000" cy="1800360"/>
          </a:xfrm>
        </p:grpSpPr>
        <p:sp>
          <p:nvSpPr>
            <p:cNvPr id="293" name="AutoShape 15"/>
            <p:cNvSpPr/>
            <p:nvPr/>
          </p:nvSpPr>
          <p:spPr>
            <a:xfrm>
              <a:off x="7007400" y="5281560"/>
              <a:ext cx="2124000" cy="1800360"/>
            </a:xfrm>
            <a:prstGeom prst="irregularSeal1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6"/>
            <p:cNvSpPr/>
            <p:nvPr/>
          </p:nvSpPr>
          <p:spPr>
            <a:xfrm>
              <a:off x="7296480" y="5857920"/>
              <a:ext cx="1726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实际问题的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7"/>
          <p:cNvGrpSpPr/>
          <p:nvPr/>
        </p:nvGrpSpPr>
        <p:grpSpPr>
          <a:xfrm>
            <a:off x="6935760" y="1897200"/>
            <a:ext cx="2016000" cy="1150920"/>
            <a:chOff x="6935760" y="1897200"/>
            <a:chExt cx="2016000" cy="1150920"/>
          </a:xfrm>
        </p:grpSpPr>
        <p:sp>
          <p:nvSpPr>
            <p:cNvPr id="296" name="AutoShape 18"/>
            <p:cNvSpPr/>
            <p:nvPr/>
          </p:nvSpPr>
          <p:spPr>
            <a:xfrm>
              <a:off x="6935760" y="1897200"/>
              <a:ext cx="2016000" cy="1150920"/>
            </a:xfrm>
            <a:prstGeom prst="flowChartPunchedTape">
              <a:avLst/>
            </a:prstGeom>
            <a:solidFill>
              <a:srgbClr val="00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9"/>
            <p:cNvSpPr/>
            <p:nvPr/>
          </p:nvSpPr>
          <p:spPr>
            <a:xfrm>
              <a:off x="7080120" y="2184480"/>
              <a:ext cx="181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数学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943760" y="1249200"/>
            <a:ext cx="360" cy="719280"/>
            <a:chOff x="7943760" y="1249200"/>
            <a:chExt cx="360" cy="719280"/>
          </a:xfrm>
        </p:grpSpPr>
        <p:sp>
          <p:nvSpPr>
            <p:cNvPr id="299" name="Line 20"/>
            <p:cNvSpPr/>
            <p:nvPr/>
          </p:nvSpPr>
          <p:spPr>
            <a:xfrm>
              <a:off x="7943760" y="1249200"/>
              <a:ext cx="0" cy="71928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7943760" y="1249200"/>
              <a:ext cx="360" cy="7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1"/>
          <p:cNvGrpSpPr/>
          <p:nvPr/>
        </p:nvGrpSpPr>
        <p:grpSpPr>
          <a:xfrm>
            <a:off x="6791400" y="3913200"/>
            <a:ext cx="2340000" cy="1020240"/>
            <a:chOff x="6791400" y="3913200"/>
            <a:chExt cx="2340000" cy="1020240"/>
          </a:xfrm>
        </p:grpSpPr>
        <p:sp>
          <p:nvSpPr>
            <p:cNvPr id="302" name="Oval 22"/>
            <p:cNvSpPr/>
            <p:nvPr/>
          </p:nvSpPr>
          <p:spPr>
            <a:xfrm>
              <a:off x="6791400" y="3913200"/>
              <a:ext cx="2340000" cy="1008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3"/>
            <p:cNvSpPr/>
            <p:nvPr/>
          </p:nvSpPr>
          <p:spPr>
            <a:xfrm>
              <a:off x="7512480" y="39862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数学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题的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4"/>
          <p:cNvGrpSpPr/>
          <p:nvPr/>
        </p:nvGrpSpPr>
        <p:grpSpPr>
          <a:xfrm>
            <a:off x="7007400" y="-404640"/>
            <a:ext cx="2124000" cy="1798560"/>
            <a:chOff x="7007400" y="-404640"/>
            <a:chExt cx="2124000" cy="1798560"/>
          </a:xfrm>
        </p:grpSpPr>
        <p:sp>
          <p:nvSpPr>
            <p:cNvPr id="305" name="AutoShape 25"/>
            <p:cNvSpPr/>
            <p:nvPr/>
          </p:nvSpPr>
          <p:spPr>
            <a:xfrm>
              <a:off x="7007400" y="-404640"/>
              <a:ext cx="2124000" cy="179856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6"/>
            <p:cNvSpPr/>
            <p:nvPr/>
          </p:nvSpPr>
          <p:spPr>
            <a:xfrm>
              <a:off x="7240680" y="304200"/>
              <a:ext cx="17269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实际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943760" y="3049560"/>
            <a:ext cx="360" cy="719280"/>
            <a:chOff x="7943760" y="3049560"/>
            <a:chExt cx="360" cy="719280"/>
          </a:xfrm>
        </p:grpSpPr>
        <p:sp>
          <p:nvSpPr>
            <p:cNvPr id="308" name="Line 27"/>
            <p:cNvSpPr/>
            <p:nvPr/>
          </p:nvSpPr>
          <p:spPr>
            <a:xfrm>
              <a:off x="7943760" y="3049560"/>
              <a:ext cx="0" cy="71928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7943760" y="3049560"/>
              <a:ext cx="360" cy="7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943760" y="4849920"/>
            <a:ext cx="360" cy="718920"/>
            <a:chOff x="7943760" y="4849920"/>
            <a:chExt cx="360" cy="718920"/>
          </a:xfrm>
        </p:grpSpPr>
        <p:sp>
          <p:nvSpPr>
            <p:cNvPr id="311" name="Line 28"/>
            <p:cNvSpPr/>
            <p:nvPr/>
          </p:nvSpPr>
          <p:spPr>
            <a:xfrm>
              <a:off x="7943760" y="4849920"/>
              <a:ext cx="0" cy="71892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7943760" y="4849920"/>
              <a:ext cx="360" cy="7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-536400" y="0"/>
            <a:ext cx="2586960" cy="6857640"/>
            <a:chOff x="-536400" y="0"/>
            <a:chExt cx="2586960" cy="6857640"/>
          </a:xfrm>
        </p:grpSpPr>
        <p:sp>
          <p:nvSpPr>
            <p:cNvPr id="314" name="AutoShape 3"/>
            <p:cNvSpPr/>
            <p:nvPr/>
          </p:nvSpPr>
          <p:spPr>
            <a:xfrm>
              <a:off x="-536400" y="0"/>
              <a:ext cx="2586960" cy="6857640"/>
            </a:xfrm>
            <a:prstGeom prst="verticalScroll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363240" y="870480"/>
              <a:ext cx="1012320" cy="25318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33"/>
                  </a:solidFill>
                  <a:latin typeface="Times New Roman"/>
                  <a:ea typeface="华文行楷"/>
                </a:rPr>
                <a:t>A</a:t>
              </a: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 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全体八折优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5"/>
          <p:cNvGrpSpPr/>
          <p:nvPr/>
        </p:nvGrpSpPr>
        <p:grpSpPr>
          <a:xfrm>
            <a:off x="6372360" y="0"/>
            <a:ext cx="3095280" cy="6857640"/>
            <a:chOff x="6372360" y="0"/>
            <a:chExt cx="3095280" cy="6857640"/>
          </a:xfrm>
        </p:grpSpPr>
        <p:sp>
          <p:nvSpPr>
            <p:cNvPr id="317" name="AutoShape 6"/>
            <p:cNvSpPr/>
            <p:nvPr/>
          </p:nvSpPr>
          <p:spPr>
            <a:xfrm rot="5400000">
              <a:off x="4491000" y="1881000"/>
              <a:ext cx="6857640" cy="3095280"/>
            </a:xfrm>
            <a:prstGeom prst="horizontalScroll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7903440" y="1726560"/>
              <a:ext cx="789840" cy="41360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一人免费其余八五折优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7532640" y="811800"/>
              <a:ext cx="645120" cy="7642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9"/>
          <p:cNvSpPr/>
          <p:nvPr/>
        </p:nvSpPr>
        <p:spPr>
          <a:xfrm>
            <a:off x="1692360" y="0"/>
            <a:ext cx="5184720" cy="1752120"/>
          </a:xfrm>
          <a:prstGeom prst="rect">
            <a:avLst/>
          </a:prstGeom>
          <a:solidFill>
            <a:srgbClr val="66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团  购  优  惠 方 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(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人以下不予优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1332000" y="1700280"/>
            <a:ext cx="5832000" cy="2197800"/>
            <a:chOff x="1332000" y="1700280"/>
            <a:chExt cx="5832000" cy="2197800"/>
          </a:xfrm>
        </p:grpSpPr>
        <p:sp>
          <p:nvSpPr>
            <p:cNvPr id="322" name="Text Box 11"/>
            <p:cNvSpPr/>
            <p:nvPr/>
          </p:nvSpPr>
          <p:spPr>
            <a:xfrm>
              <a:off x="2479680" y="2706840"/>
              <a:ext cx="4684320" cy="1191240"/>
            </a:xfrm>
            <a:prstGeom prst="rect">
              <a:avLst/>
            </a:prstGeom>
            <a:noFill/>
            <a:ln w="9360">
              <a:solidFill>
                <a:srgbClr val="7171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假如我们要组团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不少于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人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去旅游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利用我们学过的知识分析一下，你们会选择那种方式购票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2"/>
            <p:cNvSpPr/>
            <p:nvPr/>
          </p:nvSpPr>
          <p:spPr>
            <a:xfrm>
              <a:off x="1332000" y="1700280"/>
              <a:ext cx="1532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   </a:t>
              </a:r>
              <a:r>
                <a:rPr b="1" lang="zh-CN" sz="4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探究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13"/>
          <p:cNvSpPr/>
          <p:nvPr/>
        </p:nvSpPr>
        <p:spPr>
          <a:xfrm>
            <a:off x="1619280" y="5899320"/>
            <a:ext cx="5400720" cy="916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名山通票</a:t>
            </a:r>
            <a:r>
              <a:rPr b="1" lang="en-US" sz="5400" spc="-1" strike="noStrike">
                <a:solidFill>
                  <a:srgbClr val="0000ff"/>
                </a:solidFill>
                <a:latin typeface="华文楷体"/>
                <a:ea typeface="华文楷体"/>
              </a:rPr>
              <a:t>60</a:t>
            </a:r>
            <a:r>
              <a:rPr b="1" lang="zh-CN" sz="5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元</a:t>
            </a:r>
            <a:r>
              <a:rPr b="1" lang="en-US" sz="5400" spc="-1" strike="noStrike">
                <a:solidFill>
                  <a:srgbClr val="0000ff"/>
                </a:solidFill>
                <a:latin typeface="华文楷体"/>
                <a:ea typeface="华文楷体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2:3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1900-01-01T05:08:00Z</cp:lastPrinted>
  <dcterms:modified xsi:type="dcterms:W3CDTF">2016-06-30T08:48:31Z</dcterms:modified>
  <cp:revision>7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