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9.png" ContentType="image/png"/>
  <Override PartName="/ppt/media/image6.gif" ContentType="image/gif"/>
  <Override PartName="/ppt/media/image7.jpeg" ContentType="image/jpeg"/>
  <Override PartName="/ppt/media/image13.jpeg" ContentType="image/jpeg"/>
  <Override PartName="/ppt/media/image3.wmf" ContentType="image/x-wmf"/>
  <Override PartName="/ppt/media/image14.gif" ContentType="image/gif"/>
  <Override PartName="/ppt/media/type.wav" ContentType="audio/x-wav"/>
  <Override PartName="/ppt/media/image12.jpeg" ContentType="image/jpeg"/>
  <Override PartName="/ppt/media/image1.png" ContentType="image/png"/>
  <Override PartName="/ppt/media/image2.jpeg" ContentType="image/jpeg"/>
  <Override PartName="/ppt/media/chimes.wav" ContentType="audio/x-wav"/>
  <Override PartName="/ppt/media/image11.jpeg" ContentType="image/jpeg"/>
  <Override PartName="/ppt/media/image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768-A75A-4C9F-8E06-0862A93B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381-7FE4-4EC7-B24E-C878E6CD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0972D-FF58-4ACC-8069-112E6CD9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E43D6-0A62-4A6A-8A59-C48D6F32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590BD-680B-49B2-B029-D46EB06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9C9A4-79EE-4CCF-917A-5EECA3C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9D59B-ADDD-4CD0-AB5E-7DBC67E6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8E9CA-86E6-44E2-96D6-C6D5358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B689F-7596-4CCA-8649-23D6542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C27FD-79E9-45DB-88E1-EA464F92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8DE9E-0350-4895-88D0-0B28DA52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5E959-D862-45FB-9B96-181B28AC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4C5-A3E0-4A2D-8944-9D2AA7F3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E5918-B768-4EBF-9409-0449C353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4088F-A438-4729-851E-E928CC41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33774-CE5A-48E3-8E54-A9DB1CD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130A9-AC60-4B7E-9BF6-427D23CE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57539-C5A9-4D1D-A86C-D9CCBF30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7271A-2D4A-4F8B-B2F6-B1A1144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84262-C985-4E1A-8062-D1E2CF8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EEC54-6D84-4DE3-A9DC-4DD802AE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C3E31-51BE-47F8-A035-9A11D59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1720-6FEA-4FBC-A62F-C00F8267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441-A86D-4B2B-AF1D-5BE308EE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7A48-C812-4895-B007-9333EC8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A2572-3A4E-4ED3-BDAB-D98D96B9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FC1A4-B8F0-446D-A9DB-7C92A1E7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60A11-42D1-4CF7-A63E-27DD405F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8D95-A60D-486A-A24C-03A66F6F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DA9F-366E-4573-A5C4-4C97FAC6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F216A-6CE8-49BF-A835-C36652A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E4F4-5B59-4B16-837A-E9D31454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F0D35-190A-4B84-8318-4147E95B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4F70F-A8C2-4F6F-AB25-9248913F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0265-90D0-46FE-81DA-8CC73822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619D2-B1C6-4437-A13D-1C3786E1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3E324-2D09-4093-AF3F-8C17E27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40F7E-5E79-4D0A-A56C-67244F54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35701-370F-464D-B3F7-835A5CBE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962A5-8270-4074-A697-B618BFD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A5526-6FEF-4BA6-9013-5800480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42C8-A94A-467A-99F8-A43993F7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F4428-53EE-4414-8FFF-0B1BBFEA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6565-1FA2-47FB-A8FB-38180300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6C864-9155-47C5-8947-A5AA76DA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79C-0543-4897-86FB-CA712B2C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E9017-599A-4939-BAF8-1E1C885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766CF-58F1-4E30-821A-20D184E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46F6-20CC-4AC8-A8AB-F9BD79B0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0F53E-AC5E-4F82-A9CD-40FC79BE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E648B-B7B4-4478-931A-C2FDD6AC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3A0E4-174C-4D89-9373-80BA54F4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D915D-5A06-4D48-A270-B1C4602D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C7818-E3CE-4236-82E5-CE2EB702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8426-8E81-4930-843A-D0EF77F4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F75D5-9B0D-4B4B-B0F6-F49E6403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B786-C24D-4840-A8F8-DEAB39E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7F3A6-6384-4C89-B75C-5DD8106B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AB53B-622D-450A-B0CE-735949DE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DB506-EC81-401E-8847-53308C19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203B3-33A1-48FF-804E-3F7782C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07E5F-6EBC-4067-A65F-780CDD8A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D1488-0DE2-4B20-A1E0-F28E61F6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48855-1D14-43C2-8267-160D15F7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94BB7-EDBF-46CC-8B6B-A2213381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D2C2D-EBA6-4EA8-85F9-FE987FBD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DFB66-79D8-45AB-94E4-4B29A6DB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DF1A-0E1A-45CF-B8AE-C3F01D52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FC802-386A-47D8-AED0-1C9076C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7B38A-A322-41ED-BEF8-9C0EFDC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8D07A-7971-4A1D-8FA0-774BDF3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1608C-650F-4EB5-B717-0D1BA42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7D634-A1B2-4369-95EC-3DE000A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04E97-043A-4A73-B71B-0A427300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4CFA6-F055-45A6-A63A-15DA1CAC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B2168-6F24-4195-B7F7-7CA7B5B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54DAC-631C-401A-AEF7-A64C2653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393-A5E0-4D60-8917-BC93225E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2BD3-D438-43A9-8FD1-46463AA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F73-EE5F-4AF5-9E29-F9E1481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71C-7D3A-4AB5-B4DE-406EC0BD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5A79-A854-4807-97E3-E941BCE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35E2-ED08-47A6-9687-3345E25D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E82E-CBA4-4E50-8957-C934A71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9693-3BD3-42ED-B448-615AF4A0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E3DC-40A6-4926-AB0A-56919683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90CB-6712-41CB-9873-BE623C31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7971-DFBB-43D4-AFBD-6D16DB1D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4FBC-BD1C-45D2-AEDD-FB5D947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5F53-FBEB-487B-A927-58E2B165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C4A0-AD92-4D8F-BB1F-F58C4098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E0A-A627-4683-AFE1-E81D0B5C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1B083-9C88-42A2-9FC9-4D2075C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B562-ED60-426D-99E2-B9B6011B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0A59-CD15-48F5-AEFE-038C56A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0B02-2402-43FA-91AE-C6D5045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E34C-6DC1-4DA3-9CE0-30BCB9F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79DA-07EE-4F1F-A3F7-C9B450EC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43C5-E5EC-46C6-965E-D539965B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F9B1-A305-4AFE-9DAF-886EC38D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574B-CFB1-4484-8201-8DCF7136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EF63-2804-42CD-AAB9-C3C95856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7BA-6D71-4364-9877-58422BE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5959-1142-4CA9-9C69-AA097620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0D78-AC8F-4A92-B49C-B7465D0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17A2-DB38-4FC1-8113-9AF69F36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1BBE-067B-4E53-9F15-211D750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AAEE-7574-487C-857D-045A7F12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7D44-0207-48D7-9D95-FC8933D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8BEB-0B4A-43D5-A148-9565F09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D6E4-8DF9-405D-B4BF-124A67E5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5E5B-8642-4243-9D8A-72135FC2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5178-5121-4E02-9E64-4CD44785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2C5-2799-457A-BC0F-95822016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4400C-B2D5-4501-924B-080B9A57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6705-AD7A-471D-9258-273DF340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9400-7E42-49E0-9FCE-EA5F5D0B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F8CED-2E5E-4AAD-9E27-07516C62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65CA-FD9F-4BF3-9FBD-5689C97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9387-4D96-4633-A777-F74C8E1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05A22-FAE6-4137-8B38-49A7DFB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84A0A-C53B-457D-9739-450FF4A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B249-C52E-43C1-B460-2910C17E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169B-8239-43D7-B477-87389ABF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BF7-9770-4729-9F38-871AAEAF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1A63E-8067-492C-BDA1-A92EA224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6321-1B39-4498-8BC7-40AAFC12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260B-2742-48A3-937C-976958EE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FB00-BB6F-4546-AF64-2CA745A0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EF7CF-7EF4-4CD0-B287-7D8B9880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40E80-3B72-459D-92C6-AA3E2F94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2BE8-3610-48B5-84CB-498892B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D6569-0236-42B7-83DF-818EC77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DF8E-8CE2-4357-8B09-40B9A24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3A00-87FA-4D95-B352-3C86B58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E0A-BC40-4C1A-BF8F-57200B0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E964-5C12-457A-9FEF-A7023336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4D62A-27A7-4C9A-B5F0-26E4EB8F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62502-919B-4E75-BEFF-42F54992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C497-0FCC-4C41-8612-6FC06CF8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5392-FDF0-4B86-8F0F-F21BDCA4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D29CF-5AEA-4823-8994-3A995766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1412-25A0-4968-839E-A60AD4A6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650B7-65FC-4A9A-9B82-C373A315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85007-66C9-44B1-9126-A7E7142E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36E4-85B7-4A95-9C0D-190365D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DD8-3693-442D-8673-D9EFF6B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CE3EA-A73D-4BA3-A119-249B726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49998-E2FE-4844-8C2D-E4F5E4D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4A3BB-B649-44DF-BBDD-8EBA25D5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6B1FF-D75F-4354-A69E-B52B31FE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34E02-8229-4341-9235-4D3F7EFB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09B30-D8CF-49AA-9CB2-605E35EC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BE1A9-EC49-49D3-89CB-CD8D9D4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C212C-F801-40F3-8474-31DEE7C9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D1F97-81CC-4678-917C-02350B6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6A589-CAF2-4188-9B78-66501CC5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04E-799B-4B3B-9DC7-3CEDF00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90DB-3AA8-4B53-8C4D-A32C35BD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C6165-9BB3-4A54-B1C8-02E56EF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4372-2D2C-4AEE-8733-678B09FC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EA44-68B0-4BFF-9E68-954EF55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D3741-418E-4249-912B-F2EAEB90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0038-C2BB-45E7-8232-49C6B643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B5B7-CAA3-4556-AA46-870802CE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3E876-3BEF-4878-9A43-7096F9E4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B9FBB-E3BE-450C-997D-2FC4AB3D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EA78F-78B9-44B2-9B66-AEEF245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653-94A7-41DB-B536-C204D9714B56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42D1-A100-43BE-A58C-29188FEDD2D8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E401-058E-4ADB-93D8-767A706892B3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6784-7728-4020-821C-4117C7249210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92D-9562-4352-9934-879C0FC2AD04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40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41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42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1A40-CA24-43D4-B8E8-E43EE19FAC56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5D93-267F-4279-BBA4-61538D9746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89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95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sp>
          <p:nvSpPr>
            <p:cNvPr id="96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8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22440" y="3394080"/>
              <a:ext cx="7840440" cy="360"/>
              <a:chOff x="622440" y="3394080"/>
              <a:chExt cx="7840440" cy="360"/>
            </a:xfrm>
          </p:grpSpPr>
          <p:sp>
            <p:nvSpPr>
              <p:cNvPr id="98" name="Line 16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22440" y="339408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2440" y="3470400"/>
              <a:ext cx="7840440" cy="360"/>
              <a:chOff x="622440" y="3470400"/>
              <a:chExt cx="7840440" cy="360"/>
            </a:xfrm>
          </p:grpSpPr>
          <p:sp>
            <p:nvSpPr>
              <p:cNvPr id="101" name="Line 17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22440" y="347040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22440" y="3546360"/>
              <a:ext cx="7840440" cy="360"/>
              <a:chOff x="622440" y="3546360"/>
              <a:chExt cx="7840440" cy="360"/>
            </a:xfrm>
          </p:grpSpPr>
          <p:sp>
            <p:nvSpPr>
              <p:cNvPr id="104" name="Line 18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622440" y="354636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22440" y="3379680"/>
              <a:ext cx="7840440" cy="360"/>
              <a:chOff x="622440" y="3379680"/>
              <a:chExt cx="7840440" cy="360"/>
            </a:xfrm>
          </p:grpSpPr>
          <p:sp>
            <p:nvSpPr>
              <p:cNvPr id="107" name="Line 19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622440" y="337968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22440" y="3456000"/>
              <a:ext cx="7840440" cy="360"/>
              <a:chOff x="622440" y="3456000"/>
              <a:chExt cx="7840440" cy="360"/>
            </a:xfrm>
          </p:grpSpPr>
          <p:sp>
            <p:nvSpPr>
              <p:cNvPr id="110" name="Line 20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622440" y="345600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22440" y="3532320"/>
              <a:ext cx="7840440" cy="360"/>
              <a:chOff x="622440" y="3532320"/>
              <a:chExt cx="7840440" cy="360"/>
            </a:xfrm>
          </p:grpSpPr>
          <p:sp>
            <p:nvSpPr>
              <p:cNvPr id="113" name="Line 21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622440" y="3532320"/>
                <a:ext cx="7840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8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5E4-D95D-4E9B-A918-FE7D1CF255B3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76EC-3849-4E9A-9A94-BCDC8415E2F6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6011-5256-4FB3-9E06-6AB15D5B0DCC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A1E-59EB-4912-84E7-7252EE244510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E814-E06F-4A0B-848B-78FFA63E94F7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381-5093-4FEE-AD4A-5AD80020B016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11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D43C-E669-48AF-A2E6-840462C304DE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5,10,&#24187;&#28783;&#29255; 10" TargetMode="External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436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十六年前的回忆</a:t>
            </a:r>
            <a:r>
              <a:rPr b="0" lang="zh-CN" sz="4000" spc="-1" strike="noStrike">
                <a:solidFill>
                  <a:srgbClr val="141414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141414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141414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8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380880" y="266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Times New Roman"/>
                <a:ea typeface="宋体"/>
              </a:rPr>
              <a:t>十六年前的回忆</a:t>
            </a: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48" name="AutoShape 3"/>
          <p:cNvSpPr/>
          <p:nvPr/>
        </p:nvSpPr>
        <p:spPr>
          <a:xfrm>
            <a:off x="2209680" y="1790640"/>
            <a:ext cx="838440" cy="3276720"/>
          </a:xfrm>
          <a:custGeom>
            <a:avLst/>
            <a:gdLst>
              <a:gd name="textAreaLeft" fmla="*/ 535680 w 838440"/>
              <a:gd name="textAreaRight" fmla="*/ 838800 w 83844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200400" y="1295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被捕前：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烧文件和书籍</a:t>
            </a:r>
            <a:endParaRPr b="1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3200400" y="2362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被捕时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1" name="AutoShape 7"/>
          <p:cNvSpPr/>
          <p:nvPr/>
        </p:nvSpPr>
        <p:spPr>
          <a:xfrm>
            <a:off x="4572000" y="22860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5105520" y="2057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父亲：处变不惊</a:t>
            </a:r>
            <a:endParaRPr b="1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5181480" y="29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敌人：心虚、残暴</a:t>
            </a:r>
            <a:endParaRPr b="1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3352680" y="3657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法庭上：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安定、沉着</a:t>
            </a:r>
            <a:endParaRPr b="1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3276720" y="4800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被害后：</a:t>
            </a:r>
            <a:r>
              <a:rPr b="0" lang="zh-CN" sz="2800" spc="-1" strike="noStrike">
                <a:solidFill>
                  <a:srgbClr val="002060"/>
                </a:solidFill>
                <a:latin typeface="Times New Roman"/>
                <a:ea typeface="宋体"/>
              </a:rPr>
              <a:t>全家沉痛</a:t>
            </a:r>
            <a:endParaRPr b="1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6" name="AutoShape 14"/>
          <p:cNvSpPr/>
          <p:nvPr/>
        </p:nvSpPr>
        <p:spPr>
          <a:xfrm>
            <a:off x="76960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8" name="Text Box 2"/>
          <p:cNvSpPr/>
          <p:nvPr/>
        </p:nvSpPr>
        <p:spPr>
          <a:xfrm>
            <a:off x="1187280" y="47242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  <a:ea typeface="宋体"/>
              </a:rPr>
              <a:t>胖   刑   押   舅  绞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371600" y="16002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fá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2743200" y="15238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yú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41911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pì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541008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bù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67057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xiàn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1066680" y="37339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pàng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2819520" y="3733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xíng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6" name="Text Box 10"/>
          <p:cNvSpPr/>
          <p:nvPr/>
        </p:nvSpPr>
        <p:spPr>
          <a:xfrm>
            <a:off x="457200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yá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586728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jiù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8" name="Text Box 12"/>
          <p:cNvSpPr/>
          <p:nvPr/>
        </p:nvSpPr>
        <p:spPr>
          <a:xfrm>
            <a:off x="7010280" y="3657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宋体"/>
                <a:ea typeface="宋体"/>
              </a:rPr>
              <a:t>jiăo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9" name="AutoShape 13"/>
          <p:cNvSpPr/>
          <p:nvPr/>
        </p:nvSpPr>
        <p:spPr>
          <a:xfrm>
            <a:off x="74674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1258920" y="2492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  <a:ea typeface="宋体"/>
              </a:rPr>
              <a:t>阀  娱   僻  怖   宪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1" name="文本框 8197"/>
          <p:cNvSpPr/>
          <p:nvPr/>
        </p:nvSpPr>
        <p:spPr>
          <a:xfrm>
            <a:off x="684360" y="5589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8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4"/>
          <p:cNvSpPr/>
          <p:nvPr/>
        </p:nvSpPr>
        <p:spPr>
          <a:xfrm>
            <a:off x="1523880" y="22860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Times New Roman"/>
                <a:ea typeface="宋体"/>
              </a:rPr>
              <a:t>前                           后</a:t>
            </a:r>
            <a:endParaRPr b="1" lang="en-US" sz="5400" spc="-1" strike="noStrike">
              <a:solidFill>
                <a:srgbClr val="800000"/>
              </a:solidFill>
              <a:latin typeface="Times New Roman"/>
            </a:endParaRPr>
          </a:p>
        </p:txBody>
      </p:sp>
      <p:cxnSp>
        <p:nvCxnSpPr>
          <p:cNvPr id="673" name="AutoShape 5"/>
          <p:cNvCxnSpPr>
            <a:stCxn id="672" idx="1"/>
            <a:endCxn id="672" idx="3"/>
          </p:cNvCxnSpPr>
          <p:nvPr/>
        </p:nvCxnSpPr>
        <p:spPr>
          <a:xfrm>
            <a:off x="1523880" y="2743200"/>
            <a:ext cx="6477840" cy="2160"/>
          </a:xfrm>
          <a:prstGeom prst="straightConnector1">
            <a:avLst/>
          </a:prstGeom>
          <a:ln w="9360">
            <a:solidFill>
              <a:srgbClr val="eaeaea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74" name="Text Box 6"/>
          <p:cNvSpPr/>
          <p:nvPr/>
        </p:nvSpPr>
        <p:spPr>
          <a:xfrm>
            <a:off x="3048120" y="1295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照                   应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1600200" y="45720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2060"/>
                </a:solidFill>
                <a:latin typeface="Times New Roman"/>
                <a:ea typeface="宋体"/>
              </a:rPr>
              <a:t>首                           尾</a:t>
            </a:r>
            <a:endParaRPr b="1" lang="en-US" sz="5400" spc="-1" strike="noStrike">
              <a:solidFill>
                <a:srgbClr val="800000"/>
              </a:solidFill>
              <a:latin typeface="Times New Roman"/>
            </a:endParaRPr>
          </a:p>
        </p:txBody>
      </p:sp>
      <p:cxnSp>
        <p:nvCxnSpPr>
          <p:cNvPr id="676" name="AutoShape 14"/>
          <p:cNvCxnSpPr/>
          <p:nvPr/>
        </p:nvCxnSpPr>
        <p:spPr>
          <a:xfrm>
            <a:off x="1295280" y="4951800"/>
            <a:ext cx="7011360" cy="2520"/>
          </a:xfrm>
          <a:prstGeom prst="straightConnector1">
            <a:avLst/>
          </a:prstGeom>
          <a:ln w="9360">
            <a:solidFill>
              <a:srgbClr val="eaeaea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677" name="Text Box 15"/>
          <p:cNvSpPr/>
          <p:nvPr/>
        </p:nvSpPr>
        <p:spPr>
          <a:xfrm>
            <a:off x="2514600" y="59436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连                   贯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78" name="AutoShape 16"/>
          <p:cNvSpPr/>
          <p:nvPr/>
        </p:nvSpPr>
        <p:spPr>
          <a:xfrm>
            <a:off x="76960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77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770" fill="hold"/>
                                        <p:tgtEl>
                                          <p:spTgt spid="6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D12-FF59-4CB5-9808-160397D07A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1908000" y="223344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对李大钊的评价</a:t>
            </a:r>
            <a:endParaRPr b="1" lang="en-US" sz="4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84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1258920" y="414972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临危不惧       将 生死置之度外</a:t>
            </a: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革命利益高于一切 </a:t>
            </a: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86" name="Picture 6" descr="girl9"/>
          <p:cNvPicPr/>
          <p:nvPr/>
        </p:nvPicPr>
        <p:blipFill>
          <a:blip r:embed="rId1"/>
          <a:stretch/>
        </p:blipFill>
        <p:spPr>
          <a:xfrm>
            <a:off x="179280" y="295200"/>
            <a:ext cx="2590920" cy="193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2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7"/>
          <p:cNvSpPr/>
          <p:nvPr/>
        </p:nvSpPr>
        <p:spPr>
          <a:xfrm>
            <a:off x="5580000" y="414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Times New Roman"/>
              </a:rPr>
              <a:t>学会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十个生字</a:t>
            </a:r>
            <a:r>
              <a:rPr b="0" lang="zh-CN" sz="2400" spc="-1" strike="noStrike">
                <a:solidFill>
                  <a:srgbClr val="002060"/>
                </a:solidFill>
                <a:latin typeface="Times New Roman"/>
              </a:rPr>
              <a:t>，并能正确的读写相应词语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Times New Roman"/>
              </a:rPr>
              <a:t>正确、流利、有感情地朗读课文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Times New Roman"/>
              </a:rPr>
              <a:t>了解李大钊在被捕前、被 捕时和敌人作斗争的事迹，受到生动的革命传统教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Times New Roman"/>
              </a:rPr>
              <a:t>领悟课文前后照应的表达方法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2" name="Picture 6" descr="BD06517_"/>
          <p:cNvPicPr/>
          <p:nvPr/>
        </p:nvPicPr>
        <p:blipFill>
          <a:blip r:embed="rId2"/>
          <a:stretch/>
        </p:blipFill>
        <p:spPr>
          <a:xfrm>
            <a:off x="4876920" y="2743200"/>
            <a:ext cx="3809880" cy="281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4572000" y="52578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宋体"/>
              </a:rPr>
              <a:t>思考题</a:t>
            </a:r>
            <a:endParaRPr b="1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15" name="AutoShape 3"/>
          <p:cNvSpPr/>
          <p:nvPr/>
        </p:nvSpPr>
        <p:spPr>
          <a:xfrm>
            <a:off x="990720" y="0"/>
            <a:ext cx="9144000" cy="5029200"/>
          </a:xfrm>
          <a:prstGeom prst="irregularSeal1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16" name="Picture 5" descr="money"/>
          <p:cNvPicPr/>
          <p:nvPr/>
        </p:nvPicPr>
        <p:blipFill>
          <a:blip r:embed="rId1"/>
          <a:stretch/>
        </p:blipFill>
        <p:spPr>
          <a:xfrm>
            <a:off x="1295280" y="3827520"/>
            <a:ext cx="2514600" cy="226692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667920" y="1600200"/>
            <a:ext cx="140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、课文讲了哪几件事？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、课文 哪些地方使你最受感动？把你的感受和大家谈一谈。</a:t>
            </a:r>
            <a:endParaRPr b="1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19" name="Picture 3" descr="MH43"/>
          <p:cNvPicPr/>
          <p:nvPr/>
        </p:nvPicPr>
        <p:blipFill>
          <a:blip r:embed="rId1"/>
          <a:stretch/>
        </p:blipFill>
        <p:spPr>
          <a:xfrm>
            <a:off x="-26676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4"/>
          <p:cNvSpPr/>
          <p:nvPr/>
        </p:nvSpPr>
        <p:spPr>
          <a:xfrm>
            <a:off x="-76320" y="380880"/>
            <a:ext cx="929664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十六年前的回忆</a:t>
            </a:r>
            <a:endParaRPr b="1" lang="en-US" sz="36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1927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年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28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日，我永远忘不了那一天。那是父亲的被难日，离现在已经十六年了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那年春天，父亲每天夜里回来得很晚。每天早晨，不知道什么时候他又出去了。有时候他留在家里，埋头整理书籍和文件。我蹲在旁边，看他把书和有字的纸片投到火炉里去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我奇怪地问他：“爹，为什么要烧掉呢？怪可惜的。”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待了一会儿，父亲才回答：“不要了就烧掉。你小孩子家知道什么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！”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父亲是很慈祥的，从来没骂过我们，更没打过我们。我总爱向父亲问许多幼稚可笑的问题。他不论多忙，对我的问题总是很感兴趣，总是耐心地讲给我听。这一次不知道为什么，父亲竟这样含糊地回答我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746748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22" name="Picture 7" descr="anniu18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4572000" y="61722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24" name="Picture 3" descr="MH47"/>
          <p:cNvPicPr/>
          <p:nvPr/>
        </p:nvPicPr>
        <p:blipFill>
          <a:blip r:embed="rId1"/>
          <a:stretch/>
        </p:blipFill>
        <p:spPr>
          <a:xfrm>
            <a:off x="-1371600" y="0"/>
            <a:ext cx="10934640" cy="71136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-138240" y="333360"/>
            <a:ext cx="9372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后来听母亲说，军阀张作霖要派人来检查。为了避免党组织被破坏，父亲只好把一些书籍和文件烧掉。才过了两天，果然出事了。工友阎振三一早上街买东西，直到夜里还不见回来。第二天，父亲才知道他被抓到警察厅里去 了。我们心里都很 不安，为这位工友着急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局势越来越严重，父亲的工作也越来越紧张。他的朋友劝他离开北京，母亲也几次劝他。父亲 坚决地对母亲 说：“不是常对你说吗？我是不能轻易离开北京的。你要知道现在是什么时候，这里的工作多么重要。我哪能离开呢？”母亲只好不再说什么了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可怕的一天果然来了。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日的早晨，妹妹换上了新夹衣，母亲带她到儿童娱乐场去散步了。父亲 在里间屋里写字，我坐 在外间的长木椅 上看报。短短的一段新闻还没看完，就听见啪，啪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几声尖锐的枪声，接着是一阵纷乱的喊叫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什么？爹！”我瞪着眼睛问父亲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26" name="Picture 6" descr="anniu18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400800" y="66294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8197"/>
          <p:cNvSpPr/>
          <p:nvPr/>
        </p:nvSpPr>
        <p:spPr>
          <a:xfrm>
            <a:off x="755640" y="609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800000"/>
                </a:solidFill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ff0033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1" lang="en-US" sz="1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29" name="Picture 3" descr="MH48"/>
          <p:cNvPicPr/>
          <p:nvPr/>
        </p:nvPicPr>
        <p:blipFill>
          <a:blip r:embed="rId1"/>
          <a:stretch/>
        </p:blipFill>
        <p:spPr>
          <a:xfrm>
            <a:off x="0" y="0"/>
            <a:ext cx="9601200" cy="7086600"/>
          </a:xfrm>
          <a:prstGeom prst="rect">
            <a:avLst/>
          </a:prstGeom>
          <a:ln w="0">
            <a:noFill/>
          </a:ln>
        </p:spPr>
      </p:pic>
      <p:pic>
        <p:nvPicPr>
          <p:cNvPr id="630" name="Rectangle 4" descr=""/>
          <p:cNvPicPr/>
          <p:nvPr/>
        </p:nvPicPr>
        <p:blipFill>
          <a:blip r:embed="rId2"/>
          <a:stretch/>
        </p:blipFill>
        <p:spPr>
          <a:xfrm>
            <a:off x="9360" y="836640"/>
            <a:ext cx="9068040" cy="56325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anniu18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72680" y="662940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4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33" name="Picture 2" descr="19"/>
          <p:cNvPicPr/>
          <p:nvPr/>
        </p:nvPicPr>
        <p:blipFill>
          <a:blip r:embed="rId1"/>
          <a:stretch/>
        </p:blipFill>
        <p:spPr>
          <a:xfrm>
            <a:off x="-1143000" y="0"/>
            <a:ext cx="10972800" cy="725004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0" y="0"/>
            <a:ext cx="94870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他们夺下了父亲的手枪，把父亲全身搜了一遍。父亲保持着他那惯有的严峻态度，没有向他们讲任何道理。因为他明白，对他们是没有道理可讲的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残暴的匪徒把父亲绑起来，拖走了。我也被他们带走了。在高高的砖墙围起来的警察厅的院子里，我看见母亲和妹妹也都 被带来了。我们被关在女拘留所里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十几天过去了，我们始终没看见父亲。有一天，我们正在吃中饭，手里的窝窝头还没啃完，听见警察喊我们母女的名字，说是提审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在法庭上，我们跟父亲见了面。父亲仍旧穿着他那件灰布旧棉袍，可是没戴眼镜。我看到了他那乱蓬蓬的长头发下面平静而慈祥的脸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爹！”我忍不住喊出声来。母亲哭了，妹妹也跟着哭起来了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       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不许乱喊！”法官拿起惊堂木重重地在桌子上拍了一下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52280" y="5670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父亲瞅了瞅我们，没对我们说一句话。他脸上的表情非常安定，非常沉着。他的心被一种伟大的力量占据着。这个力量就是他平日对我们讲的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他对于革命事业的信心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36" name="Picture 6" descr="anniu18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858160" y="6400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3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285840" y="457200"/>
            <a:ext cx="8572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        “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这是我的妻子。”他指着母亲说。接着他又指了一下我和妹妹，“这是我的两个女孩子。”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“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她是你最大的孩子吗？”法官指着我问父亲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“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是的，我 是最大的。”我怕父亲说出哥哥来，就这样抢着说了。我不知道当时哪里来的机智和勇敢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不要多嘴！”法官怒气冲冲的，又拿 起他面前那块木板狠狠地拍了几下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父亲立刻就会意了，接着说：“是的，她是我最大的孩子。我的妻子是个乡下人，我的孩子年纪都还小，她们什么也不懂。一切都跟他们没有关系。”父亲说完了这段话，又望了望我们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法官命令把我们押下去。我们就这样跟父亲见了一面，匆匆分别了。想不到这竟是我们最后的一次见面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3614400" y="5943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28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日黄昏，警察叫我们收拾行李出拘留所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41" name="Picture 6" descr="anniu18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67480" y="609588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页脚占位符 2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43" name="Picture 7" descr="Fj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8"/>
          <p:cNvSpPr/>
          <p:nvPr/>
        </p:nvSpPr>
        <p:spPr>
          <a:xfrm>
            <a:off x="135000" y="40464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我们回到家里，天已经全黑了。第二天，舅老爷到街上买报。他是哭着从街上回来的，手里无力地握着一份报。我看到报上用头号字登着“李大钊等昨已执行绞刑”，立刻感到眼前蒙了一团云雾，昏倒在床上了。母亲伤心过度，昏过去三次，每次都是刚刚叫醒又昏过去了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过了好半天，母亲醒过来了，她低声问我：“昨天是几号？记住，昨天是你爹被害的日子。”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我又哭了，从地上捡起那张报纸，咬紧牙，又勉强看了一遍。我低声对母亲说：“妈，昨天是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月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28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。”母亲微微点了一下头。</a:t>
            </a:r>
            <a:endParaRPr b="1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45" name="AutoShape 10"/>
          <p:cNvSpPr/>
          <p:nvPr/>
        </p:nvSpPr>
        <p:spPr>
          <a:xfrm>
            <a:off x="77724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46" name="Picture 12" descr="anniu18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095880" y="6400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2:42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43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