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gif" ContentType="image/gif"/>
  <Override PartName="/ppt/media/chimes.wav" ContentType="audio/x-wav"/>
  <Override PartName="/ppt/media/image4.jpeg" ContentType="image/jpeg"/>
  <Override PartName="/ppt/media/image22.gif" ContentType="image/gif"/>
  <Override PartName="/ppt/media/image25.png" ContentType="image/png"/>
  <Override PartName="/ppt/media/image3.jpeg" ContentType="image/jpeg"/>
  <Override PartName="/ppt/media/image15.png" ContentType="image/png"/>
  <Override PartName="/ppt/media/image26.jpeg" ContentType="image/jpeg"/>
  <Override PartName="/ppt/media/image24.gif" ContentType="image/gif"/>
  <Override PartName="/ppt/media/image21.jpeg" ContentType="image/jpeg"/>
  <Override PartName="/ppt/media/image20.jpeg" ContentType="image/jpeg"/>
  <Override PartName="/ppt/media/type.wav" ContentType="audio/x-wav"/>
  <Override PartName="/ppt/media/image23.png" ContentType="image/png"/>
  <Override PartName="/ppt/media/image18.gif" ContentType="image/gif"/>
  <Override PartName="/ppt/media/image17.jpeg" ContentType="image/jpeg"/>
  <Override PartName="/ppt/media/projctor.wav" ContentType="audio/x-wav"/>
  <Override PartName="/ppt/media/image14.png" ContentType="image/png"/>
  <Override PartName="/ppt/media/image16.wmf" ContentType="image/x-wmf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250-B17E-439C-8D36-9708CDFC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EB3-835F-4771-AB4E-6569BA5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8A9-C155-45E8-AC60-0C5C6981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2BE-B411-4E6C-A68E-7D907249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26DB-A212-4423-8021-045D7C2C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1B57-2D96-4610-8699-1AA07408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F2CC-A0F0-49DF-BC41-038DC825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A559-EDBF-4EC5-9041-1D95E5C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A8E5-C9EF-4DE2-B201-29079DE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F52D-625E-41D0-8BF8-725AEFF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FF00-FC82-4637-9714-66C83B5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2F0-759F-4495-823F-F2CFA0C4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980-4C24-4D04-9132-83EA05D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B96-8FFF-4656-8AB5-DC0F3F6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E506-BCE3-490F-A8E9-CDDD5C1D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C1AE-DEBB-455D-89C9-C4B67E05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B1EA-4595-41EB-B1CA-13E181B8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6A4-5088-4454-9F09-5A2592B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CB9-4187-4BCB-A813-EA51A75D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201-2EF4-441F-A5C3-B277853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6FB-12D6-4757-9788-3E270BE6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49C-F814-4260-820D-11C0BA1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735-CA3E-40BB-BB68-FC0D44DF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883-A191-4CD8-84EC-4D387C5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A5A2-B491-455B-B8D9-0C64B94E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4C3E-8975-4AAC-8C58-E7FAC2DDCA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pn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95280" y="890640"/>
            <a:ext cx="83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课  生命健康权与我同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0000000"/>
          <p:cNvPicPr/>
          <p:nvPr/>
        </p:nvPicPr>
        <p:blipFill>
          <a:blip r:embed="rId1"/>
          <a:stretch/>
        </p:blipFill>
        <p:spPr>
          <a:xfrm>
            <a:off x="1835280" y="3201840"/>
            <a:ext cx="2160360" cy="302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99999"/>
          <p:cNvPicPr/>
          <p:nvPr/>
        </p:nvPicPr>
        <p:blipFill>
          <a:blip r:embed="rId2"/>
          <a:stretch/>
        </p:blipFill>
        <p:spPr>
          <a:xfrm>
            <a:off x="4923000" y="3243240"/>
            <a:ext cx="2130120" cy="29829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28560" y="2144880"/>
            <a:ext cx="813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生命和健康的权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083680" y="1341360"/>
            <a:ext cx="4874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命健康权，是指公民对自己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命安全、身体组织、器官的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、生理机能以及心理状态的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康所享有的权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611280" y="76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什么是生命健康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20080621033847552"/>
          <p:cNvPicPr/>
          <p:nvPr/>
        </p:nvPicPr>
        <p:blipFill>
          <a:blip r:embed="rId1"/>
          <a:stretch/>
        </p:blipFill>
        <p:spPr>
          <a:xfrm>
            <a:off x="0" y="189000"/>
            <a:ext cx="410544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WordArt 3" descr=""/>
          <p:cNvPicPr/>
          <p:nvPr/>
        </p:nvPicPr>
        <p:blipFill>
          <a:blip r:embed="rId2"/>
          <a:stretch/>
        </p:blipFill>
        <p:spPr>
          <a:xfrm>
            <a:off x="4572000" y="-9360"/>
            <a:ext cx="3706920" cy="2249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572000" y="3357720"/>
            <a:ext cx="42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健康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公民参加一切社会活动，享有其他一切权利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基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生命健康权是公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最根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人身权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572000" y="3429000"/>
            <a:ext cx="208908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4500720" y="2637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命健康权的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Imag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220680"/>
            <a:ext cx="8912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上述案例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本案例中刘大妈的什么权利受到了侵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是谁导致了这起侵害行为的发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王某的拒绝赔偿的行为，刘大妈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儿又是如何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484360" y="141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生命健康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24000" y="2852640"/>
            <a:ext cx="79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表面上是小狗造成的，但实际上是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狗的饲养者王某因管理不善造成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042920" y="551664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向法院提起诉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8194"/>
          <p:cNvSpPr/>
          <p:nvPr/>
        </p:nvSpPr>
        <p:spPr>
          <a:xfrm>
            <a:off x="1549440" y="6095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170028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方正姚体"/>
              </a:rPr>
              <a:t> </a:t>
            </a: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方正姚体"/>
              </a:rPr>
              <a:t>你还能列举哪些侵犯公民生命健康权的行为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2421000"/>
            <a:ext cx="78487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杀人、殴打他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5"/>
          <p:cNvSpPr txBox="1"/>
          <p:nvPr/>
        </p:nvSpPr>
        <p:spPr>
          <a:xfrm>
            <a:off x="2627280" y="333360"/>
            <a:ext cx="424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侵害大搜索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917440" y="3789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排污使他人中毒致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76360" y="4365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吓他人使之精神衰弱、精神分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258920" y="4941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筑物上的搁置物坠落砸死、砸伤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700720" y="5516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饲养的动物咬伤他人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erate02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58000" y="4952880"/>
            <a:ext cx="1752480" cy="1590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457200" y="41148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68360" y="1711440"/>
            <a:ext cx="8283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拥有健康才可能拥有一切。若将健康与其他利益相比，健康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名誉、金钱、友情、爱情、地位等都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有了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这个数可以是十、百、千、万乃至无穷大；若没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即失去了健康，后面的名誉、金钱等再多也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6"/>
          <p:cNvSpPr txBox="1"/>
          <p:nvPr/>
        </p:nvSpPr>
        <p:spPr>
          <a:xfrm rot="21159000">
            <a:off x="250920" y="475920"/>
            <a:ext cx="3403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华文新魏"/>
              </a:rPr>
              <a:t>感悟：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11280" y="1197000"/>
            <a:ext cx="82087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别企业实行“严格管理”，工人下班被搜身后方可出厂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选商场的保安拘禁偷窃嫌疑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1692360" y="5013360"/>
            <a:ext cx="547200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人身自由权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378936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上述行为侵害了公民的什么权利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470960" y="476280"/>
            <a:ext cx="17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P25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思考、议论</a:t>
            </a: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0" y="-241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12503"/>
                </a:solidFill>
                <a:latin typeface="Arial"/>
              </a:rPr>
              <a:t>人身自由权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54900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侵害人身自由权的行为有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作用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人身自由的重要意义</a:t>
            </a:r>
            <a:r>
              <a:rPr b="1" lang="zh-CN" sz="3200" spc="-1" strike="noStrike">
                <a:solidFill>
                  <a:srgbClr val="ff7c8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79280" y="5300640"/>
            <a:ext cx="882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身自由是我们参加各种活动，充分享受其他各种权利的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基本保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没有人身自由，其他自由也难以享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0" y="112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人身自由是一项重要的人身权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在法律允许的范围内，公民的人身和意志完全由自己支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12503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0" y="40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Arial"/>
              </a:rPr>
              <a:t>禁止非法搜身、非法禁闭、非法拘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剥夺或者限制公民的人身自由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-104760" y="2133720"/>
            <a:ext cx="92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503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a12503"/>
                </a:solidFill>
                <a:latin typeface="Arial"/>
              </a:rPr>
              <a:t>我国宪法第三十七条规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中华人民共和国公民的人身自由不受侵犯。 任何公民，非经人民检察院批准或决定或者人民法院决定，并由公安机关执行，不受逮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"/>
                            </p:stCondLst>
                            <p:childTnLst>
                              <p:par>
                                <p:cTn id="48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BJ1017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7616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314316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ject 2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514600" cy="31687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>
            <a:off x="1042920" y="907920"/>
            <a:ext cx="2016360" cy="1584360"/>
          </a:xfrm>
          <a:prstGeom prst="wedgeEllipseCallout">
            <a:avLst>
              <a:gd name="adj1" fmla="val -550"/>
              <a:gd name="adj2" fmla="val 8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87280" y="1197000"/>
            <a:ext cx="223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寻人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妈妈：你在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276720" y="11970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真情告白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是一个不幸的孩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出生不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的时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妈妈嫌弃我是一个女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我扔在了车站附近一个花坛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饥寒交迫中我渐渐失去了知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203640" y="350208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6600ff"/>
                </a:solidFill>
                <a:latin typeface="方正姚体"/>
                <a:ea typeface="方正姚体"/>
              </a:rPr>
              <a:t>妈妈的做法侵害了她的什么权利</a:t>
            </a:r>
            <a:r>
              <a:rPr b="1" lang="zh-CN" sz="2800" spc="-1" strike="noStrike">
                <a:solidFill>
                  <a:srgbClr val="6600ff"/>
                </a:solidFill>
                <a:latin typeface="方正姚体"/>
                <a:ea typeface="方正姚体"/>
              </a:rPr>
              <a:t>?</a:t>
            </a:r>
            <a:r>
              <a:rPr b="1" lang="zh-CN" sz="2800" spc="-1" strike="noStrike">
                <a:solidFill>
                  <a:srgbClr val="6600ff"/>
                </a:solidFill>
                <a:latin typeface="方正姚体"/>
                <a:ea typeface="方正姚体"/>
              </a:rPr>
              <a:t>请拿出相关的法律依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39640" y="5157720"/>
            <a:ext cx="80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中华人民共和国未成年人保护法》规定：保护未成年人的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生命健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不得虐待、遗弃未成年人，禁止溺婴、弃婴；不得歧视女性未成年人或有残疾的未成年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SCALES"/>
          <p:cNvPicPr/>
          <p:nvPr/>
        </p:nvPicPr>
        <p:blipFill>
          <a:blip r:embed="rId3"/>
          <a:stretch/>
        </p:blipFill>
        <p:spPr>
          <a:xfrm>
            <a:off x="7380360" y="5799240"/>
            <a:ext cx="1439640" cy="1058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6588000" y="477720"/>
            <a:ext cx="1800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cccc00"/>
                </a:solidFill>
                <a:latin typeface="隶书"/>
              </a:rPr>
              <a:t>案件追踪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cccc00"/>
              </a:solidFill>
              <a:latin typeface="隶书"/>
              <a:ea typeface="隶书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9184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7928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二、法律捍卫我们的生命健康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222080" y="458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命健康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"/>
                            </p:stCondLst>
                            <p:childTnLst>
                              <p:par>
                                <p:cTn id="5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 flipH="1" rot="21152400">
            <a:off x="901440" y="1914840"/>
            <a:ext cx="5410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09480" y="38386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11280" y="404640"/>
            <a:ext cx="8305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后来我被一对夫妇收养了。然而天有不测风云，我的父亲在一次煤矿瓦斯爆炸中失去了宝贵的生命，家里一下子没有了经济来源。妈妈说：“我看见一家服装厂在招工，你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了，要不就跟妈妈一起上班吧。” 服装厂的老板娘非常同情我们娘俩的遭遇就收下了我们。从此我开始了打工的生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24000" y="4869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是如何看待老板娘的行为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2700360" y="5661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虽然她很有善心，但是这样做是违法的，因为招用童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8000" y="126828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中国国务院新闻办公室发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美国的人权纪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以回应美国国务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发表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国别人权报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包括中国在内的世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个国家和地区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状况的指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08000" y="2649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国国新办发表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美国的人权纪录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8000" y="371628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国宪法庄严宣布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国家尊重和保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人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395280" y="1052640"/>
            <a:ext cx="8316720" cy="5545080"/>
            <a:chOff x="395280" y="1052640"/>
            <a:chExt cx="8316720" cy="5545080"/>
          </a:xfrm>
        </p:grpSpPr>
        <p:pic>
          <p:nvPicPr>
            <p:cNvPr id="229" name="Picture 3" descr=""/>
            <p:cNvPicPr/>
            <p:nvPr/>
          </p:nvPicPr>
          <p:blipFill>
            <a:blip r:embed="rId1"/>
            <a:srcRect l="0" t="0" r="-25" b="0"/>
            <a:stretch/>
          </p:blipFill>
          <p:spPr>
            <a:xfrm>
              <a:off x="395280" y="1052640"/>
              <a:ext cx="831672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4"/>
            <p:cNvSpPr/>
            <p:nvPr/>
          </p:nvSpPr>
          <p:spPr>
            <a:xfrm>
              <a:off x="550800" y="1197000"/>
              <a:ext cx="8082360" cy="31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国法律规定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.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禁止用工单位非法招用童工：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未满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6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周岁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(</a:t>
              </a:r>
              <a:r>
                <a:rPr b="0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与单位或者个人发生劳动关系从事有经济收入的劳动）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未成年人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禁止安排未成年工（已满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周岁未满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周岁的劳动者）从事矿山井下、有毒有害、劳动强度大的劳动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5" descr="20061230032223735"/>
          <p:cNvPicPr/>
          <p:nvPr/>
        </p:nvPicPr>
        <p:blipFill>
          <a:blip r:embed="rId2"/>
          <a:stretch/>
        </p:blipFill>
        <p:spPr>
          <a:xfrm flipH="1">
            <a:off x="0" y="0"/>
            <a:ext cx="1332000" cy="1109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1333440" y="338040"/>
            <a:ext cx="7415280" cy="609840"/>
          </a:xfrm>
          <a:prstGeom prst="rect">
            <a:avLst/>
          </a:prstGeom>
          <a:solidFill>
            <a:srgbClr val="e9fca2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法律捍卫我们的生命健康权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877080" y="5661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628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利于保护未成年人生命健康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利于保护未成人的受教育权，促进义务教育的实施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利于提升未成年人的素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84360" y="40464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探讨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国家禁止使用童工的意义？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P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5"/>
          <p:cNvSpPr/>
          <p:nvPr/>
        </p:nvSpPr>
        <p:spPr>
          <a:xfrm>
            <a:off x="1116000" y="76500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我国法律对未成年人的生命健康权给予特殊保护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84360" y="22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未成年人是祖国的未来和希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由于年幼、能力欠缺和经验不足，生命健康较容易受到侵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保护未成年人的生命健康是全社会的共同责任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BJ1017"/>
          <p:cNvPicPr/>
          <p:nvPr/>
        </p:nvPicPr>
        <p:blipFill>
          <a:blip r:embed="rId1"/>
          <a:stretch/>
        </p:blipFill>
        <p:spPr>
          <a:xfrm>
            <a:off x="34920" y="-25560"/>
            <a:ext cx="9144000" cy="76186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900000" y="119268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第七课    感受法律的尊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7－2中华人民共和国刑法"/>
          <p:cNvPicPr/>
          <p:nvPr/>
        </p:nvPicPr>
        <p:blipFill>
          <a:blip r:embed="rId2"/>
          <a:stretch/>
        </p:blipFill>
        <p:spPr>
          <a:xfrm>
            <a:off x="3421080" y="2133720"/>
            <a:ext cx="2346480" cy="287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0000000"/>
          <p:cNvPicPr/>
          <p:nvPr/>
        </p:nvPicPr>
        <p:blipFill>
          <a:blip r:embed="rId3"/>
          <a:stretch/>
        </p:blipFill>
        <p:spPr>
          <a:xfrm>
            <a:off x="6084720" y="1989000"/>
            <a:ext cx="2303640" cy="3162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99999"/>
          <p:cNvPicPr/>
          <p:nvPr/>
        </p:nvPicPr>
        <p:blipFill>
          <a:blip r:embed="rId4"/>
          <a:stretch/>
        </p:blipFill>
        <p:spPr>
          <a:xfrm>
            <a:off x="468360" y="1773360"/>
            <a:ext cx="2295360" cy="3166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469800" y="148608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保护未成年人生命健康权的法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P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193609"/>
          <p:cNvPicPr/>
          <p:nvPr/>
        </p:nvPicPr>
        <p:blipFill>
          <a:blip r:embed="rId5"/>
          <a:stretch/>
        </p:blipFill>
        <p:spPr>
          <a:xfrm>
            <a:off x="7505640" y="5219640"/>
            <a:ext cx="1638360" cy="1638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250920" y="502920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《婚姻法》 、《未成年人保护法》、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《禁止使用童工规定》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539640" y="5589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5065560" y="189000"/>
            <a:ext cx="362124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9" name="Rectangle 5"/>
          <p:cNvSpPr/>
          <p:nvPr/>
        </p:nvSpPr>
        <p:spPr>
          <a:xfrm>
            <a:off x="684360" y="126828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偷在工地上偷了工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钱，被逮住后，工地上的工人用皮带和竹板把他打成了这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68360" y="4292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市民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说：“他被打是活该！谁叫他偷东西，这样的人就应该让他吃点苦头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851920" y="6093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讨论：你赞同谁的观点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8"/>
          <p:cNvSpPr txBox="1"/>
          <p:nvPr/>
        </p:nvSpPr>
        <p:spPr>
          <a:xfrm>
            <a:off x="324000" y="189000"/>
            <a:ext cx="4319280" cy="95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60093"/>
                  </a:solidFill>
                  <a:round/>
                </a:ln>
                <a:solidFill>
                  <a:srgbClr val="cccc00"/>
                </a:solidFill>
                <a:latin typeface="宋体"/>
              </a:rPr>
              <a:t>案件分析：</a:t>
            </a:r>
            <a:endParaRPr b="0" lang="en-US" sz="1800" spc="1" strike="noStrike">
              <a:ln w="9360">
                <a:solidFill>
                  <a:srgbClr val="d60093"/>
                </a:solidFill>
                <a:round/>
              </a:ln>
              <a:solidFill>
                <a:srgbClr val="cccc00"/>
              </a:solidFill>
              <a:latin typeface="宋体"/>
              <a:ea typeface="宋体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39640" y="5229360"/>
            <a:ext cx="84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方正姚体"/>
                <a:ea typeface="方正姚体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也有市民认为，抓住小偷后应马上送公安部门处理，而不应动手打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8194"/>
          <p:cNvSpPr/>
          <p:nvPr/>
        </p:nvSpPr>
        <p:spPr>
          <a:xfrm>
            <a:off x="2727360" y="4952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2400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偷虽然是犯罪嫌疑人，但也有自己的</a:t>
            </a:r>
            <a:r>
              <a:rPr b="1" lang="zh-CN" sz="3600" spc="-1" strike="noStrike" u="sng">
                <a:solidFill>
                  <a:srgbClr val="d60093"/>
                </a:solidFill>
                <a:uFillTx/>
                <a:latin typeface="Arial"/>
              </a:rPr>
              <a:t>人身权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市民仇恨小偷的心态可以理解，但殴打等暴力行为，如果不是正当防卫，都是法律不容许的，情节严重的会</a:t>
            </a:r>
            <a:r>
              <a:rPr b="1" lang="zh-CN" sz="3600" spc="-1" strike="noStrike" u="sng">
                <a:solidFill>
                  <a:srgbClr val="d60093"/>
                </a:solidFill>
                <a:uFillTx/>
                <a:latin typeface="Arial"/>
              </a:rPr>
              <a:t>构成犯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小偷要为自己的偷窃行为</a:t>
            </a:r>
            <a:r>
              <a:rPr b="1" lang="zh-CN" sz="3600" spc="-1" strike="noStrike" u="sng">
                <a:solidFill>
                  <a:srgbClr val="d60093"/>
                </a:solidFill>
                <a:uFillTx/>
                <a:latin typeface="Arial"/>
              </a:rPr>
              <a:t>承担法律责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212226"/>
          <p:cNvPicPr/>
          <p:nvPr/>
        </p:nvPicPr>
        <p:blipFill>
          <a:blip r:embed="rId1"/>
          <a:stretch/>
        </p:blipFill>
        <p:spPr>
          <a:xfrm>
            <a:off x="6012000" y="5229360"/>
            <a:ext cx="2590560" cy="1218960"/>
          </a:xfrm>
          <a:prstGeom prst="rect">
            <a:avLst/>
          </a:prstGeom>
          <a:ln w="0">
            <a:noFill/>
          </a:ln>
        </p:spPr>
      </p:pic>
      <p:sp>
        <p:nvSpPr>
          <p:cNvPr id="257" name="WordArt 4"/>
          <p:cNvSpPr txBox="1"/>
          <p:nvPr/>
        </p:nvSpPr>
        <p:spPr>
          <a:xfrm>
            <a:off x="324000" y="333360"/>
            <a:ext cx="26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cc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解析：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cc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4"/>
          <p:cNvSpPr/>
          <p:nvPr/>
        </p:nvSpPr>
        <p:spPr>
          <a:xfrm>
            <a:off x="190800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FR6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67327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当生命健康权受到侵犯，我们该怎么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2060640"/>
            <a:ext cx="687708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当公民的生命健康权受到非法侵害时，受害人有权请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国家保护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任何非法侵害他人生命和健康的行为都要受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的制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6271-09C9-457C-940B-94039C6966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2000" y="5086080"/>
            <a:ext cx="9288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公民的生命健康权受到侵害时，我们可以怎么做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56592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复习知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08000" y="112536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人身权是公民最基本、最重要的权利，包括人格权和身份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什么是人身自由权？它有什么作用？侵犯公民人身自由权的表现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生命健康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公民最根本的人身权利、是首要的人身权利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2360" y="3789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国法律为什么对未成年人的生命健康权给予了特殊的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涉及保护未成年人生命健康权的法律有哪些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8360" y="1125360"/>
            <a:ext cx="828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谓人权，就其完整的意义而言，就是人人自由、平等地生存和发展的权利，或者说，就是人的生存和发展权利。 而公民的人身权利是最基本的人权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24000" y="3789360"/>
            <a:ext cx="82087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人身权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指法律所规定的与公民的人身不可分离的权利；这种权利不具有经济内容，与人身紧密联系在一起，只有权利人本人才享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Q200"/>
          <p:cNvPicPr/>
          <p:nvPr/>
        </p:nvPicPr>
        <p:blipFill>
          <a:blip r:embed="rId1"/>
          <a:stretch/>
        </p:blipFill>
        <p:spPr>
          <a:xfrm>
            <a:off x="-36360" y="0"/>
            <a:ext cx="1728720" cy="981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324000" y="476280"/>
            <a:ext cx="1060200" cy="49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969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知识窗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826920" y="5516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是公民最基本、最重要的权利（地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82840" y="285264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名誉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82840" y="180036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肖像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82840" y="12682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姓名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482840" y="76500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人身自由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482840" y="18900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命健康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482840" y="234936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私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419640" y="4797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人身权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0"/>
          <p:cNvGrpSpPr/>
          <p:nvPr/>
        </p:nvGrpSpPr>
        <p:grpSpPr>
          <a:xfrm>
            <a:off x="1338120" y="189000"/>
            <a:ext cx="2448000" cy="4032000"/>
            <a:chOff x="1338120" y="189000"/>
            <a:chExt cx="2448000" cy="4032000"/>
          </a:xfrm>
        </p:grpSpPr>
        <p:sp>
          <p:nvSpPr>
            <p:cNvPr id="103" name="Rectangle 11"/>
            <p:cNvSpPr/>
            <p:nvPr/>
          </p:nvSpPr>
          <p:spPr>
            <a:xfrm>
              <a:off x="1338120" y="189000"/>
              <a:ext cx="2448000" cy="40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338120" y="3500280"/>
              <a:ext cx="2448000" cy="360"/>
              <a:chOff x="1338120" y="3500280"/>
              <a:chExt cx="2448000" cy="360"/>
            </a:xfrm>
          </p:grpSpPr>
          <p:sp>
            <p:nvSpPr>
              <p:cNvPr id="105" name="Line 12"/>
              <p:cNvSpPr/>
              <p:nvPr/>
            </p:nvSpPr>
            <p:spPr>
              <a:xfrm>
                <a:off x="1338120" y="3500280"/>
                <a:ext cx="24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338120" y="3500280"/>
                <a:ext cx="244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3"/>
          <p:cNvGrpSpPr/>
          <p:nvPr/>
        </p:nvGrpSpPr>
        <p:grpSpPr>
          <a:xfrm>
            <a:off x="5003640" y="189000"/>
            <a:ext cx="2448000" cy="4032000"/>
            <a:chOff x="5003640" y="189000"/>
            <a:chExt cx="2448000" cy="4032000"/>
          </a:xfrm>
        </p:grpSpPr>
        <p:sp>
          <p:nvSpPr>
            <p:cNvPr id="108" name="Rectangle 14"/>
            <p:cNvSpPr/>
            <p:nvPr/>
          </p:nvSpPr>
          <p:spPr>
            <a:xfrm>
              <a:off x="5003640" y="189000"/>
              <a:ext cx="2448000" cy="40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003640" y="3500280"/>
              <a:ext cx="2448000" cy="360"/>
              <a:chOff x="5003640" y="3500280"/>
              <a:chExt cx="2448000" cy="360"/>
            </a:xfrm>
          </p:grpSpPr>
          <p:sp>
            <p:nvSpPr>
              <p:cNvPr id="110" name="Line 15"/>
              <p:cNvSpPr/>
              <p:nvPr/>
            </p:nvSpPr>
            <p:spPr>
              <a:xfrm>
                <a:off x="5003640" y="3500280"/>
                <a:ext cx="24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5003640" y="3500280"/>
                <a:ext cx="244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16"/>
          <p:cNvSpPr/>
          <p:nvPr/>
        </p:nvSpPr>
        <p:spPr>
          <a:xfrm>
            <a:off x="5226120" y="285264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著作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226120" y="180036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专利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226120" y="12682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监护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226120" y="76500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配偶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5226120" y="18900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亲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5226120" y="234936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商标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5219640" y="35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身份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1619280" y="35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人格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 flipV="1">
            <a:off x="2843280" y="4221000"/>
            <a:ext cx="3025800" cy="4320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95280" y="1197000"/>
            <a:ext cx="8636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492360" y="299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誉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076720" y="292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荣誉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588000" y="29242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姓名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932360" y="342900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隐私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1547640" y="2997360"/>
            <a:ext cx="1584360" cy="596880"/>
          </a:xfrm>
          <a:prstGeom prst="rightArrow">
            <a:avLst>
              <a:gd name="adj1" fmla="val 50000"/>
              <a:gd name="adj2" fmla="val 66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92360" y="2637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403280" y="5013360"/>
            <a:ext cx="1511280" cy="762120"/>
          </a:xfrm>
          <a:prstGeom prst="rightArrow">
            <a:avLst>
              <a:gd name="adj1" fmla="val 50000"/>
              <a:gd name="adj2" fmla="val 49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419640" y="3500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肖像权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564000" y="2349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命健康权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物质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3505320" y="12952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352680" y="121932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3352680" y="1295280"/>
            <a:ext cx="685800" cy="2362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61200 h 2362320"/>
              <a:gd name="textAreaBottom" fmla="*/ 23011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3132000" y="24922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1770840" y="450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性质（特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132000" y="4869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生俱来，由每个人单独享有，不得转让、抛弃、继承，也不受他人的非法限制，不与我们的人身相分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516720" y="34290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自由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42920" y="26028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人格权的含义及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619280" y="1413000"/>
            <a:ext cx="1584360" cy="596880"/>
          </a:xfrm>
          <a:prstGeom prst="rightArrow">
            <a:avLst>
              <a:gd name="adj1" fmla="val 50000"/>
              <a:gd name="adj2" fmla="val 66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692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含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7"/>
          <p:cNvSpPr/>
          <p:nvPr/>
        </p:nvSpPr>
        <p:spPr>
          <a:xfrm>
            <a:off x="3348000" y="134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人们与生俱来的做人的基本权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大括号 29"/>
          <p:cNvSpPr/>
          <p:nvPr/>
        </p:nvSpPr>
        <p:spPr>
          <a:xfrm>
            <a:off x="8101080" y="2997360"/>
            <a:ext cx="71280" cy="936360"/>
          </a:xfrm>
          <a:custGeom>
            <a:avLst/>
            <a:gdLst>
              <a:gd name="textAreaLeft" fmla="*/ 0 w 71280"/>
              <a:gd name="textAreaRight" fmla="*/ 25560 w 71280"/>
              <a:gd name="textAreaTop" fmla="*/ 1800 h 936360"/>
              <a:gd name="textAreaBottom" fmla="*/ 9345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"/>
                  <a:pt x="10800" y="137"/>
                </a:cubicBezTo>
                <a:lnTo>
                  <a:pt x="10800" y="10663"/>
                </a:lnTo>
                <a:cubicBezTo>
                  <a:pt x="10800" y="10732"/>
                  <a:pt x="16200" y="10800"/>
                  <a:pt x="21600" y="10800"/>
                </a:cubicBezTo>
                <a:cubicBezTo>
                  <a:pt x="16200" y="10800"/>
                  <a:pt x="10800" y="10869"/>
                  <a:pt x="10800" y="10937"/>
                </a:cubicBezTo>
                <a:lnTo>
                  <a:pt x="10800" y="21463"/>
                </a:lnTo>
                <a:cubicBezTo>
                  <a:pt x="10800" y="2153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8317080" y="2852640"/>
            <a:ext cx="2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精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AL2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7740720" y="404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260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下列案例各侵犯了公民的什么权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08000" y="99072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吴某在动物园门囗被保安强行搜身，带来极大的心理伤害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067280" y="15238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名誉权、自由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8000" y="213372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神医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胡万林非法行医，治死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余人，后被检察院批准逮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981680" y="25909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生命健康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08000" y="33526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某摄影中心未经顾客同意，擅自将顾客照片剪成多块，供人们作为有奖拼图游戏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732720" y="3959280"/>
            <a:ext cx="241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肖像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08000" y="46483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某校初二学生叶某写作文时，用了邻居的真实姓名，虚构了邻居重男轻女、家庭不和的情节，被校刊选登，造成了恶劣的影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364000" y="5638680"/>
            <a:ext cx="37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姓名权、名誉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79280" y="1484280"/>
            <a:ext cx="86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权利关系图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403280" y="836640"/>
            <a:ext cx="6480360" cy="561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2700360" y="1557360"/>
            <a:ext cx="3816360" cy="4897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3419640" y="2852640"/>
            <a:ext cx="2303280" cy="3600720"/>
          </a:xfrm>
          <a:prstGeom prst="ellipse">
            <a:avLst/>
          </a:prstGeom>
          <a:solidFill>
            <a:srgbClr val="ff33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3924360" y="4221000"/>
            <a:ext cx="1368360" cy="223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635280" y="98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权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348000" y="2133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权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564000" y="35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身权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356000" y="4149720"/>
            <a:ext cx="57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健康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6877080" y="981000"/>
            <a:ext cx="1942920" cy="936720"/>
          </a:xfrm>
          <a:prstGeom prst="borderCallout1">
            <a:avLst>
              <a:gd name="adj1" fmla="val 18750"/>
              <a:gd name="adj2" fmla="val -8333"/>
              <a:gd name="adj3" fmla="val 282861"/>
              <a:gd name="adj4" fmla="val -12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6661080" y="4365720"/>
            <a:ext cx="2374920" cy="865080"/>
          </a:xfrm>
          <a:prstGeom prst="borderCallout1">
            <a:avLst>
              <a:gd name="adj1" fmla="val 18750"/>
              <a:gd name="adj2" fmla="val -8333"/>
              <a:gd name="adj3" fmla="val 43097"/>
              <a:gd name="adj4" fmla="val -94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804000" y="1054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民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最基本、最重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权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6732720" y="4365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民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最根本的、首要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身权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169" name="矩形 2"/>
          <p:cNvSpPr/>
          <p:nvPr/>
        </p:nvSpPr>
        <p:spPr>
          <a:xfrm>
            <a:off x="179280" y="6308640"/>
            <a:ext cx="662472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我想说"/>
          <p:cNvPicPr/>
          <p:nvPr/>
        </p:nvPicPr>
        <p:blipFill>
          <a:blip r:embed="rId1"/>
          <a:stretch/>
        </p:blipFill>
        <p:spPr>
          <a:xfrm>
            <a:off x="-246240" y="44280"/>
            <a:ext cx="942192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132000" y="1125360"/>
            <a:ext cx="4321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以上行为会产生什么后果？侵害了人的什么权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635280" y="4653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0908"/>
                </a:solidFill>
                <a:latin typeface="Arial"/>
                <a:ea typeface="黑体"/>
              </a:rPr>
              <a:t>生命健康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4:17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50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