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5.png" ContentType="image/png"/>
  <Override PartName="/ppt/media/image10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D06-9E80-4FF1-818A-7E739E69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A56-6738-48D5-AF3D-3FFBA40F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C20-D551-4F65-9FD3-E30397A6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756-0AD0-4D58-B1F3-CF066B59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B916-12E3-464C-B82F-644CFCFD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6369-AE7E-433D-B214-5A5A91D9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DAA6-0507-49EC-96ED-0E0C8DF7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D2CE-861A-43F0-9411-94B01BF3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8616-138F-4A61-A243-C6660437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9477-299F-4334-9BA6-6E428589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6489-C282-4C5C-BBB1-72DE47F5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68A-F389-4F39-9BFE-C7BDD29C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B8A0-F2AD-412A-87A2-B1E74ABB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BA6C-5CF5-45A3-AF96-DDEEC5BE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FF89-A41D-492D-B521-3771F550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8BFE-0E1D-4BE7-9643-F3AE8DE8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C1F7-5F3C-4F92-A6ED-DDD78B4B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EF7-75C5-41F7-8266-15A5C38F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F45-2D50-4A4A-9EB1-8DA57AE5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BC1-B05C-4083-9F86-6BE54738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545-17A7-410F-BE8E-D3C6CBA1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22A-C6EB-4458-BD26-27C959BC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636-08DD-40FF-95D4-CD8E40DF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6108-2B5B-407B-B831-F2B95CC5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C972-79E7-4272-82AC-73B7C8094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56EC-1343-4177-9E74-2B608649B3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647720" y="198900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孙权劝学语文</a:t>
            </a:r>
            <a:r>
              <a:rPr b="0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PPT</a:t>
            </a:r>
            <a:r>
              <a:rPr b="0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课件模板下载</a:t>
            </a:r>
            <a:endParaRPr b="0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8360" y="33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</a:rPr>
              <a:t>课堂思考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990099"/>
                </a:solidFill>
                <a:latin typeface="Times New Roman"/>
              </a:rPr>
              <a:t>孙权劝学”是孙权劝谁学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Times New Roman"/>
              </a:rPr>
              <a:t>吕蒙是什么人？为什么劝他学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Times New Roman"/>
              </a:rPr>
              <a:t>吕蒙又是什么态度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Times New Roman"/>
              </a:rPr>
              <a:t>孙权又是怎样劝学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Times New Roman"/>
              </a:rPr>
              <a:t>文中是怎样写吕蒙学习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Times New Roman"/>
              </a:rPr>
              <a:t>为什么说鲁肃称赞并与之结友就证明吕蒙变化大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530064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</a:rPr>
              <a:t>课外思考题：就本文来说，读书除了增长知识外，还有什么作用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F3AE-C529-4668-99CE-331F741332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岛屿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3"/>
          <p:cNvSpPr txBox="1"/>
          <p:nvPr/>
        </p:nvSpPr>
        <p:spPr>
          <a:xfrm>
            <a:off x="2057400" y="1905120"/>
            <a:ext cx="59342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-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欢迎指正！</a:t>
            </a:r>
            <a:endParaRPr b="0" lang="en-US" sz="8000" spc="1" strike="noStrike">
              <a:ln w="12600">
                <a:solidFill>
                  <a:srgbClr val="ffff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2556000" y="4653000"/>
            <a:ext cx="3959280" cy="15843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开卷有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140360" y="2492280"/>
            <a:ext cx="718920" cy="1800360"/>
          </a:xfrm>
          <a:prstGeom prst="downArrow">
            <a:avLst>
              <a:gd name="adj1" fmla="val 50000"/>
              <a:gd name="adj2" fmla="val 625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1116000" y="907920"/>
            <a:ext cx="6912000" cy="1008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读书好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多读书    读好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5"/>
          <p:cNvSpPr/>
          <p:nvPr/>
        </p:nvSpPr>
        <p:spPr>
          <a:xfrm>
            <a:off x="2484360" y="126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kjy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开卷有益"/>
          <p:cNvPicPr/>
          <p:nvPr/>
        </p:nvPicPr>
        <p:blipFill>
          <a:blip r:embed="rId1"/>
          <a:stretch/>
        </p:blipFill>
        <p:spPr>
          <a:xfrm>
            <a:off x="0" y="7920"/>
            <a:ext cx="94489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14400" y="609480"/>
            <a:ext cx="71629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en-US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【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司马光</a:t>
            </a:r>
            <a:r>
              <a:rPr b="1" lang="en-US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】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1019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～</a:t>
            </a:r>
            <a:r>
              <a:rPr b="1" lang="en-US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1086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）北宋政治家、史学家。字君实，北宋陕州夏县（今山西夏县）人。</a:t>
            </a:r>
            <a:r>
              <a:rPr b="1" lang="en-US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19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岁中进士，神宗熙宁（</a:t>
            </a:r>
            <a:r>
              <a:rPr b="1" lang="en-US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1068~1077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）初，官至翰林学士、御史中丞。他父亲司马池，官任天章阁（皇帝藏书阁）待制（皇帝顾问）。司马池为人正直、清廉，这对司马光有深刻的影响，时人赞誉司马光是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脚踏实地的人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。司马光在政治上是保守的，曾竭力反对王安石变法。宋哲宗即位后，司马光任宰相，废除新法，恢复旧制。为相</a:t>
            </a:r>
            <a:r>
              <a:rPr b="1" lang="en-US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8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个月病逝，追封温国公，谥号文正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司马光在学术上的不朽贡献是，他花费</a:t>
            </a:r>
            <a:r>
              <a:rPr b="1" lang="en-US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19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年时间主持编纂的历史巨著</a:t>
            </a:r>
            <a:r>
              <a:rPr b="1" lang="en-US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资治通鉴</a:t>
            </a:r>
            <a:r>
              <a:rPr b="1" lang="en-US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。其他著作有</a:t>
            </a:r>
            <a:r>
              <a:rPr b="1" lang="en-US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温国文正司马公集</a:t>
            </a:r>
            <a:r>
              <a:rPr b="1" lang="en-US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和</a:t>
            </a:r>
            <a:r>
              <a:rPr b="1" lang="en-US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稽古录</a:t>
            </a:r>
            <a:r>
              <a:rPr b="1" lang="en-US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8200"/>
          <p:cNvSpPr/>
          <p:nvPr/>
        </p:nvSpPr>
        <p:spPr>
          <a:xfrm>
            <a:off x="2124000" y="189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huihua"/>
          <p:cNvPicPr/>
          <p:nvPr/>
        </p:nvPicPr>
        <p:blipFill>
          <a:blip r:embed="rId2"/>
          <a:stretch/>
        </p:blipFill>
        <p:spPr>
          <a:xfrm>
            <a:off x="228600" y="304920"/>
            <a:ext cx="1901880" cy="6095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2556000" y="1209600"/>
            <a:ext cx="626400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《</a:t>
            </a:r>
            <a:r>
              <a:rPr b="1" lang="zh-CN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资治通鉴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》</a:t>
            </a:r>
            <a:r>
              <a:rPr b="1" lang="zh-CN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是继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《</a:t>
            </a:r>
            <a:r>
              <a:rPr b="1" lang="zh-CN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春秋左传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》</a:t>
            </a:r>
            <a:r>
              <a:rPr b="1" lang="zh-CN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之后我国又一部编年体通史。全书共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294</a:t>
            </a:r>
            <a:r>
              <a:rPr b="1" lang="zh-CN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卷，记载了从战国到五代间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1362</a:t>
            </a:r>
            <a:r>
              <a:rPr b="1" lang="zh-CN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年的历史。参加编写的还有史学家</a:t>
            </a:r>
            <a:r>
              <a:rPr b="1" lang="zh-CN" sz="2600" spc="-1" strike="noStrike">
                <a:solidFill>
                  <a:srgbClr val="009900"/>
                </a:solidFill>
                <a:latin typeface="宋体"/>
                <a:ea typeface="幼圆"/>
              </a:rPr>
              <a:t>刘恕、刘攽、范祖禹</a:t>
            </a:r>
            <a:r>
              <a:rPr b="1" lang="zh-CN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等人，所有文稿由司马光整理、删削、润色而成。 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《</a:t>
            </a:r>
            <a:r>
              <a:rPr b="1" lang="zh-CN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资治通鉴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》</a:t>
            </a:r>
            <a:r>
              <a:rPr b="1" lang="zh-CN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体例严整，网罗宏富，文笔简洁流畅，博约得宜，是一部博大精深的史学名著。人们可以从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《</a:t>
            </a:r>
            <a:r>
              <a:rPr b="1" lang="zh-CN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资治通鉴</a:t>
            </a:r>
            <a:r>
              <a:rPr b="1" lang="en-US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》</a:t>
            </a:r>
            <a:r>
              <a:rPr b="1" lang="zh-CN" sz="2600" spc="-1" strike="noStrike">
                <a:solidFill>
                  <a:srgbClr val="009900"/>
                </a:solidFill>
                <a:latin typeface="Times New Roman"/>
                <a:ea typeface="幼圆"/>
              </a:rPr>
              <a:t>所记载的丰富史料中，了解封建社会的政治、经济等方面的状况，得到宝贵的历史经验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95280" y="141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隶书"/>
              </a:rPr>
              <a:t>重点字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771640" y="1484280"/>
            <a:ext cx="5977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仿宋_GB2312"/>
              </a:rPr>
              <a:t>卿（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仿宋_GB2312"/>
              </a:rPr>
              <a:t>qīng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仿宋_GB2312"/>
              </a:rPr>
              <a:t>）：古代君对臣、上司对下属、长辈对晚辈及朋友间表示亲切的第二人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仿宋_GB2312"/>
              </a:rPr>
              <a:t>当涂：执政、掌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仿宋_GB2312"/>
              </a:rPr>
              <a:t>辞：推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仿宋_GB2312"/>
              </a:rPr>
              <a:t>就学：指从师学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仿宋_GB2312"/>
              </a:rPr>
              <a:t>过：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仿宋_GB2312"/>
              </a:rPr>
              <a:t>更（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仿宋_GB2312"/>
              </a:rPr>
              <a:t>gēng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仿宋_GB2312"/>
              </a:rPr>
              <a:t>）：重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905120" y="99072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04920" y="380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当初，孙权对吕蒙说：“你如今执掌大权，管理政事，不可以不学习</a:t>
            </a:r>
            <a:r>
              <a:rPr b="0" lang="zh-CN" sz="3000" spc="-1" strike="noStrike">
                <a:solidFill>
                  <a:srgbClr val="003399"/>
                </a:solidFill>
                <a:latin typeface="Times New Roman"/>
              </a:rPr>
              <a:t>！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971800" y="14479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572000" y="83808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吕蒙以军中事务太多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04920" y="1371600"/>
            <a:ext cx="217944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借口推辞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133720" y="1371600"/>
            <a:ext cx="65530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孙权说：“我哪里是要你研究儒家经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04920" y="1905120"/>
            <a:ext cx="225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做博士呀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133720" y="190512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不过是要你广泛浏览群书，了解往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04920" y="2438280"/>
            <a:ext cx="145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罢了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19320" y="2438280"/>
            <a:ext cx="74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你说事务多，谁能像我（有那么多事务）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33520" y="35053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04920" y="29718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我经常读书，自认为（读书对我）大有教益。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04920" y="342900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吕蒙这才开始从师学习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304920" y="5486400"/>
            <a:ext cx="2666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4" descr="zb_r22_c22"/>
          <p:cNvPicPr/>
          <p:nvPr/>
        </p:nvPicPr>
        <p:blipFill>
          <a:blip r:embed="rId1"/>
          <a:stretch/>
        </p:blipFill>
        <p:spPr>
          <a:xfrm>
            <a:off x="4648320" y="4343400"/>
            <a:ext cx="3657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90720" y="68580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（后来）等到鲁肃来寻阳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486400" y="685800"/>
            <a:ext cx="312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跟吕蒙交谈讨论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8600" y="12952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（鲁肃）大吃一惊说： “（从）你如今的才干和谋略（看）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33520" y="29718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286000" y="1752480"/>
            <a:ext cx="60199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（你）不再是（当初）的吴下阿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28600" y="228600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了！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295280" y="2286000"/>
            <a:ext cx="693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吕蒙说：“士别三日，就该重新刮目相待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28600" y="2819520"/>
            <a:ext cx="533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兄长怎么认识事物这么晚呢？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228600" y="3276720"/>
            <a:ext cx="83818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了吕蒙的母亲，（并与吕蒙）结为朋友，随后告别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486400" y="274320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鲁肃于是就拜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3" descr="0085"/>
          <p:cNvPicPr/>
          <p:nvPr/>
        </p:nvPicPr>
        <p:blipFill>
          <a:blip r:embed="rId1"/>
          <a:stretch/>
        </p:blipFill>
        <p:spPr>
          <a:xfrm>
            <a:off x="4800600" y="4267080"/>
            <a:ext cx="2895480" cy="200340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8200"/>
          <p:cNvSpPr/>
          <p:nvPr/>
        </p:nvSpPr>
        <p:spPr>
          <a:xfrm>
            <a:off x="1116000" y="3933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01:31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00Z</dcterms:modified>
  <cp:revision>4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