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chimes.wav" ContentType="audio/x-wav"/>
  <Override PartName="/ppt/media/image5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154B-B5C2-4542-A8DB-60F1B1DE9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4526-4EE5-4490-A482-FDB0D236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5921-FA85-4E25-8AED-8B2A81579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0963-CB0E-49C2-A12D-F6AEA7C25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E35D3-C21D-4EB6-B52F-3B13DDC2E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E7C44-426F-4072-B859-8ACE6F862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CE4C-96C6-422C-84BD-5F8C98AF3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7F06E-8379-48BC-9C54-23DF3EBF2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192BF-819D-4CAB-B072-E26B1E9F4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A96F8-F6CE-498A-A06A-5E78DCF1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F9717-A1DF-4387-8623-03396330F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0FE92-5DC4-42A0-99D3-9982CAF4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189D2-59E6-4A91-9C77-E45937CC5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B666-3D43-47EB-977D-5BB076823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8487B-3765-4057-A7E4-6BB0CA59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F5F00-93ED-4D85-9D01-3D0C63F36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537BF-1E23-4B1C-92D1-2576080AD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294C-8833-4070-A2B5-B80FE578C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AAB6-395C-47C2-B1E6-B2441370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0381-EF15-4405-9153-153E385F8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0DDA-3804-4CA4-BDBF-543468BB7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69F3-1E45-4654-92A1-E7ADBC23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F5B1-4A7F-4897-B49C-1221B200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2599-1F74-4BBD-A2C6-5B2879289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A0FB4-87C6-4120-8D13-6EDA94E24C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892F1-BF74-4558-9A19-CCCB309731E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4"/>
          <p:cNvSpPr/>
          <p:nvPr/>
        </p:nvSpPr>
        <p:spPr>
          <a:xfrm>
            <a:off x="2542680" y="90792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人教新课标三年级品德与社会下册课件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83" name="WordArt 5"/>
          <p:cNvSpPr txBox="1"/>
          <p:nvPr/>
        </p:nvSpPr>
        <p:spPr>
          <a:xfrm>
            <a:off x="1346040" y="2276640"/>
            <a:ext cx="6337440" cy="158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说声谢谢</a:t>
            </a:r>
            <a:r>
              <a:rPr b="1" lang="en-US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课件打包下载</a:t>
            </a:r>
            <a:endParaRPr b="1" lang="en-US" sz="40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文本框 6155"/>
          <p:cNvSpPr/>
          <p:nvPr/>
        </p:nvSpPr>
        <p:spPr>
          <a:xfrm>
            <a:off x="23760" y="6464160"/>
            <a:ext cx="508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c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c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360" y="914040"/>
            <a:ext cx="33526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我来评一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295280" y="2514600"/>
            <a:ext cx="6400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向别人表示谢意是大人们的事，我们小孩子即使不说谢谢，大人们也不介意。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761760"/>
            <a:ext cx="3200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我来评一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1440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清洁工人身上真脏，还有一股难闻的气味，我真讨厌他们。 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4"/>
          <p:cNvSpPr/>
          <p:nvPr/>
        </p:nvSpPr>
        <p:spPr>
          <a:xfrm>
            <a:off x="2261880" y="91440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  <a:ea typeface="方正舒体"/>
              </a:rPr>
              <a:t>我来评一评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1889280" y="2230560"/>
            <a:ext cx="5959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1" name="Text Box 6"/>
          <p:cNvSpPr/>
          <p:nvPr/>
        </p:nvSpPr>
        <p:spPr>
          <a:xfrm>
            <a:off x="1523880" y="24382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Times New Roman"/>
              </a:rPr>
              <a:t>我到商场去买东西后，售货员阿姨对我说“谢谢惠顾”是应该的，不需要我表示谢谢。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5" descr="2006829140424253"/>
          <p:cNvPicPr/>
          <p:nvPr/>
        </p:nvPicPr>
        <p:blipFill>
          <a:blip r:embed="rId1"/>
          <a:srcRect l="0" t="0" r="-355" b="0"/>
          <a:stretch/>
        </p:blipFill>
        <p:spPr>
          <a:xfrm>
            <a:off x="1706400" y="914400"/>
            <a:ext cx="5081760" cy="5257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小组合作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看了他的行为，听了他说的谢谢，你们有什么想说的吗？四人小组讨论一下。</a:t>
            </a:r>
            <a:endParaRPr b="0" lang="en-US" sz="40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15" name="文本框 8199"/>
          <p:cNvSpPr/>
          <p:nvPr/>
        </p:nvSpPr>
        <p:spPr>
          <a:xfrm>
            <a:off x="1174680" y="198108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配乐诗歌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感谢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0" y="1267920"/>
            <a:ext cx="9144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感谢父母给了我们生命，让我们享受人世间的亲情和幸福；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感谢老师的谆谆教诲，让我们在知识的海洋里遨游；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感谢清洁工的默默付出，让我们在美好的环境中成长；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感谢农民伯伯的辛勤汗水，让我们吃上香喷喷的米饭；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感谢所有关心我们、帮助我们、为我们服务的人。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pic>
        <p:nvPicPr>
          <p:cNvPr id="118" name="老歌 感恩的心 原唱.mp3" descr=""/>
          <p:cNvPicPr/>
          <p:nvPr/>
        </p:nvPicPr>
        <p:blipFill>
          <a:blip r:embed="rId1"/>
          <a:stretch/>
        </p:blipFill>
        <p:spPr>
          <a:xfrm>
            <a:off x="8244000" y="333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5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6" dur="255143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13" descr=""/>
          <p:cNvPicPr/>
          <p:nvPr/>
        </p:nvPicPr>
        <p:blipFill>
          <a:blip r:embed="rId1"/>
          <a:stretch/>
        </p:blipFill>
        <p:spPr>
          <a:xfrm>
            <a:off x="1547640" y="620640"/>
            <a:ext cx="6553440" cy="579456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14"/>
          <p:cNvSpPr/>
          <p:nvPr/>
        </p:nvSpPr>
        <p:spPr>
          <a:xfrm>
            <a:off x="3419640" y="2133720"/>
            <a:ext cx="2734920" cy="520560"/>
          </a:xfrm>
          <a:prstGeom prst="rect">
            <a:avLst/>
          </a:prstGeom>
          <a:solidFill>
            <a:srgbClr val="41b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dc3400"/>
                </a:solidFill>
                <a:latin typeface="Times New Roman"/>
              </a:rPr>
              <a:t>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敬爱的老师：每当我遇到不顺心的事时，您总会帮助我，安慰我。谢谢您！</a:t>
            </a:r>
            <a:endParaRPr b="0" lang="en-US" sz="2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2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EEC1B-E596-4EB3-AFAC-AE06A95938B7}" type="slidenum">
              <a:rPr b="0" lang="zh-CN" sz="1400" spc="-1" strike="noStrike">
                <a:solidFill>
                  <a:srgbClr val="0000cc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" descr="图片9"/>
          <p:cNvPicPr/>
          <p:nvPr/>
        </p:nvPicPr>
        <p:blipFill>
          <a:blip r:embed="rId1"/>
          <a:stretch/>
        </p:blipFill>
        <p:spPr>
          <a:xfrm>
            <a:off x="1979640" y="11970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dc3400"/>
                </a:solidFill>
                <a:latin typeface="Times New Roman"/>
                <a:ea typeface="楷体_GB2312"/>
              </a:rPr>
              <a:t>一首好听的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在这首歌中，你们听到最多的是哪个词？</a:t>
            </a:r>
            <a:endParaRPr b="0" lang="en-US" sz="48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029" descr="2006829133823545"/>
          <p:cNvPicPr/>
          <p:nvPr/>
        </p:nvPicPr>
        <p:blipFill>
          <a:blip r:embed="rId1"/>
          <a:stretch/>
        </p:blipFill>
        <p:spPr>
          <a:xfrm>
            <a:off x="2556000" y="1268280"/>
            <a:ext cx="4775040" cy="4621320"/>
          </a:xfrm>
          <a:prstGeom prst="rect">
            <a:avLst/>
          </a:prstGeom>
          <a:ln w="0">
            <a:noFill/>
          </a:ln>
        </p:spPr>
      </p:pic>
      <p:sp>
        <p:nvSpPr>
          <p:cNvPr id="88" name="WordArt 1031"/>
          <p:cNvSpPr txBox="1"/>
          <p:nvPr/>
        </p:nvSpPr>
        <p:spPr>
          <a:xfrm>
            <a:off x="395280" y="476280"/>
            <a:ext cx="337176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说声“谢谢”</a:t>
            </a:r>
            <a:endParaRPr b="0" lang="en-US" sz="4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028" descr="2006829133823545"/>
          <p:cNvPicPr/>
          <p:nvPr/>
        </p:nvPicPr>
        <p:blipFill>
          <a:blip r:embed="rId1"/>
          <a:stretch/>
        </p:blipFill>
        <p:spPr>
          <a:xfrm>
            <a:off x="4067280" y="1197000"/>
            <a:ext cx="4802040" cy="4765680"/>
          </a:xfrm>
          <a:prstGeom prst="rect">
            <a:avLst/>
          </a:prstGeom>
          <a:ln w="0">
            <a:noFill/>
          </a:ln>
        </p:spPr>
      </p:pic>
      <p:sp>
        <p:nvSpPr>
          <p:cNvPr id="90" name="WordArt 1030"/>
          <p:cNvSpPr txBox="1"/>
          <p:nvPr/>
        </p:nvSpPr>
        <p:spPr>
          <a:xfrm>
            <a:off x="250920" y="907920"/>
            <a:ext cx="3371760" cy="1263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说声“谢谢”</a:t>
            </a:r>
            <a:endParaRPr b="0" lang="en-US" sz="4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2006829133823545"/>
          <p:cNvPicPr/>
          <p:nvPr/>
        </p:nvPicPr>
        <p:blipFill>
          <a:blip r:embed="rId1"/>
          <a:stretch/>
        </p:blipFill>
        <p:spPr>
          <a:xfrm>
            <a:off x="3492360" y="1628640"/>
            <a:ext cx="5203800" cy="4597560"/>
          </a:xfrm>
          <a:prstGeom prst="rect">
            <a:avLst/>
          </a:prstGeom>
          <a:ln w="0">
            <a:noFill/>
          </a:ln>
        </p:spPr>
      </p:pic>
      <p:sp>
        <p:nvSpPr>
          <p:cNvPr id="92" name="WordArt 6"/>
          <p:cNvSpPr txBox="1"/>
          <p:nvPr/>
        </p:nvSpPr>
        <p:spPr>
          <a:xfrm>
            <a:off x="395280" y="549360"/>
            <a:ext cx="337176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说声“谢谢”</a:t>
            </a:r>
            <a:endParaRPr b="0" lang="en-US" sz="4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2006829133823545"/>
          <p:cNvPicPr/>
          <p:nvPr/>
        </p:nvPicPr>
        <p:blipFill>
          <a:blip r:embed="rId1"/>
          <a:stretch/>
        </p:blipFill>
        <p:spPr>
          <a:xfrm>
            <a:off x="1979640" y="1268280"/>
            <a:ext cx="2971800" cy="28767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5" descr="2006829133823545"/>
          <p:cNvPicPr/>
          <p:nvPr/>
        </p:nvPicPr>
        <p:blipFill>
          <a:blip r:embed="rId2"/>
          <a:stretch/>
        </p:blipFill>
        <p:spPr>
          <a:xfrm>
            <a:off x="5292720" y="1268280"/>
            <a:ext cx="2938320" cy="2916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2006829133823545"/>
          <p:cNvPicPr/>
          <p:nvPr/>
        </p:nvPicPr>
        <p:blipFill>
          <a:blip r:embed="rId3"/>
          <a:stretch/>
        </p:blipFill>
        <p:spPr>
          <a:xfrm>
            <a:off x="3924360" y="4232160"/>
            <a:ext cx="2971800" cy="262584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250920" y="692280"/>
            <a:ext cx="337176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说声“谢谢”</a:t>
            </a:r>
            <a:endParaRPr b="0" lang="en-US" sz="4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-252360" y="40428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dc3400"/>
                </a:solidFill>
                <a:latin typeface="Times New Roman"/>
                <a:ea typeface="楷体_GB2312"/>
              </a:rPr>
              <a:t>说一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Times New Roman"/>
              </a:rPr>
              <a:t>            </a:t>
            </a:r>
            <a:r>
              <a:rPr b="0" lang="zh-CN" sz="4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我们的生活离不开谁，还有哪些认识或不认识的人在帮助我们，为我们服务，我们该对他说声谢谢？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dc3400"/>
                </a:solidFill>
                <a:latin typeface="楷体_GB2312"/>
                <a:ea typeface="楷体_GB2312"/>
              </a:rPr>
              <a:t>实话实说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0720"/>
            <a:ext cx="7772400" cy="15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有人对你说过谢谢吗？聊聊别人对你说过谢谢的事。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826920" y="4005360"/>
            <a:ext cx="7561440" cy="16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当别人对你说谢谢时，你有   什么感受？</a:t>
            </a: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dc3400"/>
                </a:solidFill>
                <a:latin typeface="Times New Roman"/>
                <a:ea typeface="楷体_GB2312"/>
              </a:rPr>
              <a:t>小故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0" y="119664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一个尿毒症患者因没钱治病准备放弃治疗时，一位素不相识的外地人，给他无私的援助。在这位好心人的帮助下，他的病有了转机。他想当面致谢，可由于种种原因，一直没能实现这个心愿。两年后，他专程按照汇款地址找到恩人家，没想到恩人已在几个月前去世了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……</a:t>
            </a:r>
            <a:r>
              <a:rPr b="0" lang="zh-CN" sz="3600" spc="-1" strike="noStrike">
                <a:solidFill>
                  <a:srgbClr val="0000cc"/>
                </a:solidFill>
                <a:latin typeface="Times New Roman"/>
              </a:rPr>
              <a:t>他后悔万分，悔不该一拖再拖，使这句没有说出口的“谢谢”成了自己精神上永远的负担。他含着眼泪在白纸上写下一万个谢谢，点燃在恩人的坟前</a:t>
            </a:r>
            <a:r>
              <a:rPr b="0" lang="en-US" sz="3600" spc="-1" strike="noStrike">
                <a:solidFill>
                  <a:srgbClr val="0000cc"/>
                </a:solidFill>
                <a:latin typeface="Times New Roman"/>
              </a:rPr>
              <a:t>……</a:t>
            </a:r>
            <a:endParaRPr b="0" lang="en-US" sz="3600" spc="-1" strike="noStrike">
              <a:solidFill>
                <a:srgbClr val="0000cc"/>
              </a:solidFill>
              <a:latin typeface="Times New Roman"/>
            </a:endParaRPr>
          </a:p>
        </p:txBody>
      </p:sp>
      <p:sp>
        <p:nvSpPr>
          <p:cNvPr id="104" name="文本框 8199"/>
          <p:cNvSpPr/>
          <p:nvPr/>
        </p:nvSpPr>
        <p:spPr>
          <a:xfrm>
            <a:off x="2540160" y="536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dc3400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3:52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1:30Z</dcterms:modified>
  <cp:revision>11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