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D50-EE54-46EA-9AAE-D9DB72BE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3B7-32A9-426C-8B58-E568EEFA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5B6-C0A2-4190-B3FC-DC1D8CDD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2F6-8C0A-4E01-B9D6-FDE5FB3B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BE77-6AC9-4815-B67F-624DE701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19F9-ED4E-401C-8C08-17463003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DA33-E9C4-4370-8838-01DA64C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7B26-A272-4789-BE96-106B7969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1662-91DF-43E5-8D2B-CB434D83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144-1AEA-42EC-A782-9B2ACA38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F75C-36DB-4D0A-A3E4-DA67C76C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314-2501-4723-92C4-28F60544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09B8-A419-4493-AF4E-CDCECB0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D90-F215-4CD1-9EFE-CAF32FF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9450-2B7E-4B6B-A0E3-1F4AA6BF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CDD-82CE-4103-97F2-76CCA163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E5C7-DBDB-44A3-8B8E-779D8106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524-0A03-4F19-9455-AD8F8DE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D49-A511-424D-A813-F699A6C4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24A-FA4C-4A42-B2E1-E9CC5B4C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E38-A187-4FBF-B1DA-D56D90D2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BBA-BD11-48DB-B3C1-92AA9519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E87-E115-4710-9CC2-9422E16A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487-EFB1-4ECB-9060-FD0D4A6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D987-0AFA-4A06-84E2-7845DFB979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BDA2-5642-4F32-BA35-5C8D485D2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:\&#24120;&#35782;\&#31185;&#23398;\&#39135;&#29289;&#21253;&#35013;&#19978;&#30340;&#20449;&#24687;\&#20844;&#24320;&#35838;\&#21345;&#38376;high.mp3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:\&#24120;&#35782;\&#31185;&#23398;\&#39135;&#29289;&#21253;&#35013;&#19978;&#30340;&#20449;&#24687;\&#20844;&#24320;&#35838;\&#21345;&#38376;high.mp3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8120" y="1196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食物包装上的信息</a:t>
            </a:r>
            <a:r>
              <a:rPr b="0" lang="en-US" sz="4000" spc="-1" strike="noStrike">
                <a:solidFill>
                  <a:srgbClr val="3333cc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海苔"/>
          <p:cNvPicPr/>
          <p:nvPr/>
        </p:nvPicPr>
        <p:blipFill>
          <a:blip r:embed="rId1"/>
          <a:stretch/>
        </p:blipFill>
        <p:spPr>
          <a:xfrm>
            <a:off x="1258920" y="2852640"/>
            <a:ext cx="1944720" cy="288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开心果"/>
          <p:cNvPicPr/>
          <p:nvPr/>
        </p:nvPicPr>
        <p:blipFill>
          <a:blip r:embed="rId2"/>
          <a:stretch/>
        </p:blipFill>
        <p:spPr>
          <a:xfrm>
            <a:off x="6084720" y="2852640"/>
            <a:ext cx="2159280" cy="279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水泡饼"/>
          <p:cNvPicPr/>
          <p:nvPr/>
        </p:nvPicPr>
        <p:blipFill>
          <a:blip r:embed="rId3"/>
          <a:stretch/>
        </p:blipFill>
        <p:spPr>
          <a:xfrm>
            <a:off x="3492360" y="2781360"/>
            <a:ext cx="2203560" cy="2881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3589200" y="758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教科版四年级科学下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MG_0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IMG_0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G_0802"/>
          <p:cNvPicPr/>
          <p:nvPr/>
        </p:nvPicPr>
        <p:blipFill>
          <a:blip r:embed="rId1"/>
          <a:stretch/>
        </p:blipFill>
        <p:spPr>
          <a:xfrm>
            <a:off x="-71280" y="-54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932360" y="2133720"/>
            <a:ext cx="705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987640" y="3068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食用香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651640" y="3141720"/>
            <a:ext cx="27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膨松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03640" y="393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77240" y="134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麦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77240" y="306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白砂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777240" y="22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植物油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35120" y="386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全脂奶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6578640" y="220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牛奶饼干的配料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6536520" y="3933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920160" y="465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碳酸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801240" y="14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鸡蛋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3815640" y="22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食用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5724360" y="1413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氧化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2916360" y="4724280"/>
            <a:ext cx="52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乙二胺四乙酸铁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11280" y="2541960"/>
            <a:ext cx="82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食品添加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指为改善食品品质和色、香、味，以及为防腐和加工工艺的需要而加入食品中的化学合成或天然物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9640" y="1195920"/>
            <a:ext cx="79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牛奶的含脂率可分为全脂、部分脱脂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脱脂牛奶。脱脂奶与全脂奶的营养成份相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而脂肪含量要低得多，全脂牛奶的脂肪含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78/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左右，而脱脂牛奶的脂肪含量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10/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左右。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文本框 8199"/>
          <p:cNvSpPr/>
          <p:nvPr/>
        </p:nvSpPr>
        <p:spPr>
          <a:xfrm>
            <a:off x="1860480" y="4432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31525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转化糖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淡黄色透明液体，具有粘度小、溶解度与吸水性高、甜味好的特点。甜味为砂糖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539640" y="1166760"/>
            <a:ext cx="842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膨松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膨松剂可以是一些食物的体积增大，使食物又松又脆，包括酵母、苏打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00000" y="765000"/>
            <a:ext cx="770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食用香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食用香精有的是从动植物中提取的，也有人工合成的，目的就是提供香气等风味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二胺四乙酸铁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营养增补剂。容易被人体吸收，是国家卫生部指定的铁营养强化剂。用于谷类、食品、饮料、酱油的铁强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3964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食物的包装有什么不同？为什么要用这些不同的包装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罐头桔子"/>
          <p:cNvPicPr/>
          <p:nvPr/>
        </p:nvPicPr>
        <p:blipFill>
          <a:blip r:embed="rId1"/>
          <a:stretch/>
        </p:blipFill>
        <p:spPr>
          <a:xfrm>
            <a:off x="6443640" y="292428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1123920" cy="1963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070420110250"/>
          <p:cNvPicPr/>
          <p:nvPr/>
        </p:nvPicPr>
        <p:blipFill>
          <a:blip r:embed="rId3"/>
          <a:stretch/>
        </p:blipFill>
        <p:spPr>
          <a:xfrm>
            <a:off x="826920" y="476280"/>
            <a:ext cx="2416320" cy="266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茶"/>
          <p:cNvPicPr/>
          <p:nvPr/>
        </p:nvPicPr>
        <p:blipFill>
          <a:blip r:embed="rId4"/>
          <a:stretch/>
        </p:blipFill>
        <p:spPr>
          <a:xfrm>
            <a:off x="3708360" y="765000"/>
            <a:ext cx="2664000" cy="176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童子鸡"/>
          <p:cNvPicPr/>
          <p:nvPr/>
        </p:nvPicPr>
        <p:blipFill>
          <a:blip r:embed="rId5"/>
          <a:stretch/>
        </p:blipFill>
        <p:spPr>
          <a:xfrm>
            <a:off x="3419640" y="2781360"/>
            <a:ext cx="2808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207108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乳化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需要量较大的一种食品添加剂，世界食用乳化剂允许使用的品种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余种，我国已批准使用的品种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种。主要品种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卵磷脂，属于从动植物提取的天然乳化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营养强化剂。主要品种是大豆卵磷脂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蔗糖脂肪酸酯。可以代替食用油，又不产生热量，不至使人发胖，还有降血清胆固醇等作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甘油脂肪酸酯等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11280" y="191628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的食品添加剂还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转化糖浆、乳化剂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色素、抗氧剂、防腐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，过量的使用食品添加剂对人的健康造成较大的损害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资料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3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种。许多食品都含有防腐剂，过多或长期食用还有可能产生病变，形成有强烈致癌作用的物质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“山梨酸钾”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433440"/>
            <a:ext cx="889308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的食品包装上都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生产日期 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保质期或有限期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产品配料 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条形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净含量     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商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厂家信息 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识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产品标准号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标签认可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生产许可证号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贮藏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版权声明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营养成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图案       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食品广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环保标志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口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注意事项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食品图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商品名称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吸管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\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撕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68360" y="30805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按照《食品标签通用标准》，食品标签必须标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产品名称、配料表、净含量、厂名、厂址、生产日期、保质期和产品标号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。具备这些信息的才是正规厂家生产出来的合格产品，安全的食品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文本框 8199"/>
          <p:cNvSpPr/>
          <p:nvPr/>
        </p:nvSpPr>
        <p:spPr>
          <a:xfrm>
            <a:off x="2303640" y="53640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79280" y="272628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三无食品”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是指：生产企业无生产许可证、无营业执照、无卫生许可证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     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另外，无厂名厂址无生产日期的商品也应是防范之列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95280" y="2133720"/>
          <a:ext cx="8424720" cy="411156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4720"/>
                <a:gridCol w="1403640"/>
                <a:gridCol w="1404720"/>
                <a:gridCol w="1403280"/>
              </a:tblGrid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八宝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牛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饼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原味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原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酸牛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旺仔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牛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质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条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AutoShape 39">
            <a:hlinkClick r:id="rId1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8406"/>
                </a:moveTo>
                <a:lnTo>
                  <a:pt x="11283" y="8406"/>
                </a:lnTo>
                <a:lnTo>
                  <a:pt x="15704" y="3794"/>
                </a:lnTo>
                <a:lnTo>
                  <a:pt x="15704" y="17806"/>
                </a:lnTo>
                <a:lnTo>
                  <a:pt x="11283" y="13194"/>
                </a:lnTo>
                <a:lnTo>
                  <a:pt x="6852" y="13194"/>
                </a:lnTo>
                <a:close/>
              </a:path>
              <a:path fill="darken" w="27718" h="21600">
                <a:moveTo>
                  <a:pt x="17358" y="10800"/>
                </a:moveTo>
                <a:lnTo>
                  <a:pt x="20865" y="10800"/>
                </a:lnTo>
              </a:path>
              <a:path fill="darken" w="27718" h="21600">
                <a:moveTo>
                  <a:pt x="17358" y="8406"/>
                </a:moveTo>
                <a:lnTo>
                  <a:pt x="20865" y="5639"/>
                </a:lnTo>
              </a:path>
              <a:path fill="darken" w="27718" h="21600">
                <a:moveTo>
                  <a:pt x="17358" y="13194"/>
                </a:moveTo>
                <a:lnTo>
                  <a:pt x="20865" y="159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0"/>
          <p:cNvSpPr/>
          <p:nvPr/>
        </p:nvSpPr>
        <p:spPr>
          <a:xfrm>
            <a:off x="826920" y="692280"/>
            <a:ext cx="741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食物包装上的信息》观察记录表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     小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F39-029A-4421-9BE7-02F1D89D8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00000" y="1923120"/>
            <a:ext cx="69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讨论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各种保质期不相同的食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保质期的长短与哪些因素有关？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16000" y="2349360"/>
            <a:ext cx="360" cy="360"/>
            <a:chOff x="1116000" y="2349360"/>
            <a:chExt cx="360" cy="360"/>
          </a:xfrm>
        </p:grpSpPr>
        <p:sp>
          <p:nvSpPr>
            <p:cNvPr id="95" name="Line 8"/>
            <p:cNvSpPr/>
            <p:nvPr/>
          </p:nvSpPr>
          <p:spPr>
            <a:xfrm>
              <a:off x="1116000" y="2349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116000" y="2349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258920" y="2422440"/>
            <a:ext cx="2736720" cy="360"/>
            <a:chOff x="1258920" y="2422440"/>
            <a:chExt cx="2736720" cy="360"/>
          </a:xfrm>
        </p:grpSpPr>
        <p:sp>
          <p:nvSpPr>
            <p:cNvPr id="98" name="Line 9"/>
            <p:cNvSpPr/>
            <p:nvPr/>
          </p:nvSpPr>
          <p:spPr>
            <a:xfrm>
              <a:off x="1258920" y="24224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258920" y="242244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859280" y="2422440"/>
            <a:ext cx="2737080" cy="360"/>
            <a:chOff x="4859280" y="2422440"/>
            <a:chExt cx="2737080" cy="360"/>
          </a:xfrm>
        </p:grpSpPr>
        <p:sp>
          <p:nvSpPr>
            <p:cNvPr id="101" name="Line 10"/>
            <p:cNvSpPr/>
            <p:nvPr/>
          </p:nvSpPr>
          <p:spPr>
            <a:xfrm>
              <a:off x="4859280" y="242244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4859280" y="2422440"/>
              <a:ext cx="273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258920" y="2854440"/>
            <a:ext cx="2736720" cy="360"/>
            <a:chOff x="1258920" y="2854440"/>
            <a:chExt cx="2736720" cy="360"/>
          </a:xfrm>
        </p:grpSpPr>
        <p:sp>
          <p:nvSpPr>
            <p:cNvPr id="104" name="Line 11"/>
            <p:cNvSpPr/>
            <p:nvPr/>
          </p:nvSpPr>
          <p:spPr>
            <a:xfrm>
              <a:off x="1258920" y="28544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258920" y="285444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58920" y="3357720"/>
            <a:ext cx="2736720" cy="360"/>
            <a:chOff x="1258920" y="3357720"/>
            <a:chExt cx="2736720" cy="360"/>
          </a:xfrm>
        </p:grpSpPr>
        <p:sp>
          <p:nvSpPr>
            <p:cNvPr id="107" name="Line 12"/>
            <p:cNvSpPr/>
            <p:nvPr/>
          </p:nvSpPr>
          <p:spPr>
            <a:xfrm>
              <a:off x="1258920" y="335772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258920" y="335772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58920" y="3862440"/>
            <a:ext cx="2736720" cy="360"/>
            <a:chOff x="1258920" y="3862440"/>
            <a:chExt cx="2736720" cy="360"/>
          </a:xfrm>
        </p:grpSpPr>
        <p:sp>
          <p:nvSpPr>
            <p:cNvPr id="110" name="Line 13"/>
            <p:cNvSpPr/>
            <p:nvPr/>
          </p:nvSpPr>
          <p:spPr>
            <a:xfrm>
              <a:off x="1258920" y="38624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258920" y="386244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258920" y="4365720"/>
            <a:ext cx="2736720" cy="360"/>
            <a:chOff x="1258920" y="4365720"/>
            <a:chExt cx="2736720" cy="360"/>
          </a:xfrm>
        </p:grpSpPr>
        <p:sp>
          <p:nvSpPr>
            <p:cNvPr id="113" name="Line 14"/>
            <p:cNvSpPr/>
            <p:nvPr/>
          </p:nvSpPr>
          <p:spPr>
            <a:xfrm>
              <a:off x="1258920" y="436572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258920" y="436572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932360" y="3862440"/>
            <a:ext cx="2736720" cy="360"/>
            <a:chOff x="4932360" y="3862440"/>
            <a:chExt cx="2736720" cy="360"/>
          </a:xfrm>
        </p:grpSpPr>
        <p:sp>
          <p:nvSpPr>
            <p:cNvPr id="116" name="Line 15"/>
            <p:cNvSpPr/>
            <p:nvPr/>
          </p:nvSpPr>
          <p:spPr>
            <a:xfrm>
              <a:off x="4932360" y="38624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932360" y="386244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32360" y="3357720"/>
            <a:ext cx="2736720" cy="360"/>
            <a:chOff x="4932360" y="3357720"/>
            <a:chExt cx="2736720" cy="360"/>
          </a:xfrm>
        </p:grpSpPr>
        <p:sp>
          <p:nvSpPr>
            <p:cNvPr id="119" name="Line 16"/>
            <p:cNvSpPr/>
            <p:nvPr/>
          </p:nvSpPr>
          <p:spPr>
            <a:xfrm>
              <a:off x="4932360" y="335772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4932360" y="335772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859280" y="2854440"/>
            <a:ext cx="2737080" cy="360"/>
            <a:chOff x="4859280" y="2854440"/>
            <a:chExt cx="2737080" cy="360"/>
          </a:xfrm>
        </p:grpSpPr>
        <p:sp>
          <p:nvSpPr>
            <p:cNvPr id="122" name="Line 17"/>
            <p:cNvSpPr/>
            <p:nvPr/>
          </p:nvSpPr>
          <p:spPr>
            <a:xfrm>
              <a:off x="4859280" y="285444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859280" y="2854440"/>
              <a:ext cx="273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30920" y="4365720"/>
            <a:ext cx="2736720" cy="360"/>
            <a:chOff x="4930920" y="4365720"/>
            <a:chExt cx="2736720" cy="360"/>
          </a:xfrm>
        </p:grpSpPr>
        <p:sp>
          <p:nvSpPr>
            <p:cNvPr id="125" name="Line 18"/>
            <p:cNvSpPr/>
            <p:nvPr/>
          </p:nvSpPr>
          <p:spPr>
            <a:xfrm>
              <a:off x="4930920" y="436572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930920" y="436572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AutoShape 19">
            <a:hlinkClick r:id="rId1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8406"/>
                </a:moveTo>
                <a:lnTo>
                  <a:pt x="11283" y="8406"/>
                </a:lnTo>
                <a:lnTo>
                  <a:pt x="15704" y="3794"/>
                </a:lnTo>
                <a:lnTo>
                  <a:pt x="15704" y="17806"/>
                </a:lnTo>
                <a:lnTo>
                  <a:pt x="11283" y="13194"/>
                </a:lnTo>
                <a:lnTo>
                  <a:pt x="6852" y="13194"/>
                </a:lnTo>
                <a:close/>
              </a:path>
              <a:path fill="darken" w="27718" h="21600">
                <a:moveTo>
                  <a:pt x="17358" y="10800"/>
                </a:moveTo>
                <a:lnTo>
                  <a:pt x="20865" y="10800"/>
                </a:lnTo>
              </a:path>
              <a:path fill="darken" w="27718" h="21600">
                <a:moveTo>
                  <a:pt x="17358" y="8406"/>
                </a:moveTo>
                <a:lnTo>
                  <a:pt x="20865" y="5639"/>
                </a:lnTo>
              </a:path>
              <a:path fill="darken" w="27718" h="21600">
                <a:moveTo>
                  <a:pt x="17358" y="13194"/>
                </a:moveTo>
                <a:lnTo>
                  <a:pt x="20865" y="159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611280" y="260280"/>
            <a:ext cx="74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食物包装上的信息》观察记录表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     小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4360" y="5084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提醒：只要求摘录一些关键词，动作快的组有机会上台展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684360" y="155088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发现了食物包装上有这样几类信息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                               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                                4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                               6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                                8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                                 10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395280" y="1557360"/>
            <a:ext cx="403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质量安全标志</a:t>
            </a:r>
            <a:endParaRPr b="1" lang="en-US" sz="4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280980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11280" y="42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个标志告诉让我们这种食物的质量是安全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以放心食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IMG_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8199"/>
          <p:cNvSpPr/>
          <p:nvPr/>
        </p:nvSpPr>
        <p:spPr>
          <a:xfrm>
            <a:off x="2644920" y="27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370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u=2605863124,2750250095&amp;fm=0&amp;gp=8"/>
          <p:cNvPicPr/>
          <p:nvPr/>
        </p:nvPicPr>
        <p:blipFill>
          <a:blip r:embed="rId1"/>
          <a:stretch/>
        </p:blipFill>
        <p:spPr>
          <a:xfrm>
            <a:off x="3062160" y="1197000"/>
            <a:ext cx="2802240" cy="2751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611280" y="4508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标志说明该食品的营养配方符合中国营养学会的营养配方标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370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34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25Z</dcterms:modified>
  <cp:revision>50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