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19.wmf" ContentType="image/x-wmf"/>
  <Override PartName="/ppt/media/image21.png" ContentType="image/png"/>
  <Override PartName="/ppt/media/image17.wmf" ContentType="image/x-wmf"/>
  <Override PartName="/ppt/media/image16.gif" ContentType="image/gif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18.wmf" ContentType="image/x-wmf"/>
  <Override PartName="/ppt/media/image20.png" ContentType="image/png"/>
  <Override PartName="/ppt/media/image36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3.jpeg" ContentType="image/jpeg"/>
  <Override PartName="/ppt/media/applause.wav" ContentType="audio/x-wav"/>
  <Override PartName="/ppt/media/image6.jpeg" ContentType="image/jpeg"/>
  <Override PartName="/ppt/media/image27.jpeg" ContentType="image/jpeg"/>
  <Override PartName="/ppt/media/image34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30.jpeg" ContentType="image/jpeg"/>
  <Override PartName="/ppt/media/image15.png" ContentType="image/png"/>
  <Override PartName="/ppt/media/image43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5.png" ContentType="image/png"/>
  <Override PartName="/ppt/media/image4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E14-7098-45B0-BA41-E37B75C7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545-2F4B-4B1F-B443-0C25C60F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1F4-453F-4F39-9C8E-961C561A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E62-4A37-41F3-994D-091B631D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8705-FFE2-41EA-ABF5-029FC006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8BF-91F3-4418-B2D6-CD419CD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8168-7AA1-4EB1-B567-34D8999C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E42C-4C37-4D3C-8759-D76E9016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34D7-DC69-405E-827C-90C27FAC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70C2-0DA1-4E61-B4EC-111EF058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F45E-2FC2-4CAC-A4A5-12B07E3F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810-F5AE-4CC8-8D05-037F30C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F202-4C1F-405E-921C-E3014B7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FC49-E552-4F5F-847D-1CA4CA72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5180-622F-408C-B0FD-D26501E8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7DDB-32B0-435A-9825-2C46EC07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AEA9-603D-4270-B38A-8E38E523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A0E-6539-475B-85D9-A965263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63D-48B7-4469-96E4-E6E0436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2E3-09EA-42F8-A7CB-3614F187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1F8-EA03-4A72-930A-9C972C73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11D-0A78-4D91-AAD0-2F8FC8AD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FB7-203B-4E74-B467-E33CAB3E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403-C28F-4F37-9578-A54508FD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209-5F01-41F5-9959-0CF4D20C1E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6E88-DA4A-4E6B-AC51-45B40AA81F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1.qzedu.gov.cn:8000/tbfd/gzpdx/tbfd/g2sw/g2sw08/zdjj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285920" y="1676520"/>
            <a:ext cx="6324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第五节 生物的变异</a:t>
            </a:r>
            <a:r>
              <a:rPr b="1" lang="en-US" sz="4000" spc="1" strike="noStrike">
                <a:ln w="324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324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324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2815920" y="838080"/>
            <a:ext cx="32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章    生物的遗传和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3" descr=""/>
          <p:cNvPicPr/>
          <p:nvPr/>
        </p:nvPicPr>
        <p:blipFill>
          <a:blip r:embed="rId1"/>
          <a:stretch/>
        </p:blipFill>
        <p:spPr>
          <a:xfrm>
            <a:off x="2233440" y="2813040"/>
            <a:ext cx="4448520" cy="33289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那么这些差别都是从哪里来的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4152960" y="2263680"/>
            <a:ext cx="83808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1" strike="noStrike">
                <a:ln w="9360">
                  <a:solidFill>
                    <a:srgbClr val="3333cc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i="1" lang="en-US" sz="6600" spc="1" strike="noStrike">
              <a:ln w="9360">
                <a:solidFill>
                  <a:srgbClr val="3333cc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567240" y="4800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来自变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254960" y="457200"/>
            <a:ext cx="692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的变异现象在生物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普遍存在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a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380880" y="35053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各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相对性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就是通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产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152280" y="228600"/>
            <a:ext cx="3584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探究一种变异现象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069920"/>
            <a:ext cx="7848360" cy="5788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5400" y="4723920"/>
            <a:ext cx="8461080" cy="2133720"/>
          </a:xfrm>
          <a:prstGeom prst="rect">
            <a:avLst/>
          </a:prstGeom>
          <a:solidFill>
            <a:srgbClr val="ccffff">
              <a:alpha val="8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探究的问题：花生果实大小的变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材料：两个品种的花生、纸、笔、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采用的方法：通过观察两种不同花生的特点</a:t>
            </a:r>
            <a:r>
              <a:rPr b="1" lang="zh-CN" sz="2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测量两种不同花生果实的数据得出结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90720" y="1371600"/>
            <a:ext cx="708660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随机抽样，样品要有足够数量，不少于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测量果实的长轴长短，以毫米记，四舍五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选择适当的测量工具和测量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用坐标纸绘制曲线图，水平轴为果实的长度，纵轴为样品的个数，依据两数的相交点，连成曲线（测量结果也可以用直方图表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23840" y="609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华文琥珀"/>
              </a:rPr>
              <a:t>提　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欢迎4"/>
          <p:cNvPicPr/>
          <p:nvPr/>
        </p:nvPicPr>
        <p:blipFill>
          <a:blip r:embed="rId1"/>
          <a:stretch/>
        </p:blipFill>
        <p:spPr>
          <a:xfrm>
            <a:off x="5334120" y="5715000"/>
            <a:ext cx="19047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一种花生的数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Object 3" descr=""/>
          <p:cNvPicPr/>
          <p:nvPr/>
        </p:nvPicPr>
        <p:blipFill>
          <a:blip r:embed="rId1"/>
          <a:stretch/>
        </p:blipFill>
        <p:spPr>
          <a:xfrm>
            <a:off x="700200" y="1981080"/>
            <a:ext cx="7743600" cy="4078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8800" y="331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二种花生的数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两种花生的比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Object 2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9067680" cy="6172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9144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看所测量的两种花生的长度范围，大花生中最小的长度，小花生中最大的长度，以及大小花生长度的平均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8600" y="1252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探究结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28600" y="152388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花生里面有比较小的花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花生中有较大的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12760" y="273384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90520" y="255888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06720" y="37339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28600" y="3581280"/>
            <a:ext cx="89154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花生果实长度的平均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花生果实长度的平均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066680" y="533520"/>
            <a:ext cx="6019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如何解释这种现象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1600200"/>
            <a:ext cx="80010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花生果实长度差异主要是遗传物质的差异引起的；同一种花生果实之间长度的变异有的是环境引起的，有的是遗传物质的变化引起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news_LL_2003-08-06_12"/>
          <p:cNvPicPr/>
          <p:nvPr/>
        </p:nvPicPr>
        <p:blipFill>
          <a:blip r:embed="rId1"/>
          <a:stretch/>
        </p:blipFill>
        <p:spPr>
          <a:xfrm>
            <a:off x="2133720" y="152280"/>
            <a:ext cx="46418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28600" y="493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讨论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7621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１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大花生的种子种在贫瘠的土壤中，结出的果实小，把小花生种在肥沃的土壤中，结出的果实大，这种差异是什么引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828800" y="46483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环境引起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752480" y="12952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04920" y="3808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２）如果把结出的这两个果实再种到相同的土壤中，它们结出的果实又会怎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900800" y="495288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基因控制性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62120" y="3200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花生的果实总体上仍然比较大，小花生的果实总体上仍然比较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8199"/>
          <p:cNvSpPr/>
          <p:nvPr/>
        </p:nvSpPr>
        <p:spPr>
          <a:xfrm>
            <a:off x="304920" y="4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人类应用</a:t>
            </a:r>
            <a:r>
              <a:rPr b="1" lang="zh-CN" sz="4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遗传变异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原理培养新品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71240"/>
            <a:ext cx="6896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培养优良的动物品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4543560" y="3414600"/>
            <a:ext cx="56880" cy="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4543560" y="3414600"/>
            <a:ext cx="56880" cy="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4543560" y="3414600"/>
            <a:ext cx="56880" cy="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4"/>
          <a:stretch/>
        </p:blipFill>
        <p:spPr>
          <a:xfrm>
            <a:off x="380880" y="2057400"/>
            <a:ext cx="4672080" cy="480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5029200" y="1981080"/>
            <a:ext cx="4114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由于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遗传物质的变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不同品种或同一品种的奶牛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楷体_GB2312"/>
              </a:rPr>
              <a:t>控制产奶量的基因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组成可以不同，通过</a:t>
            </a:r>
            <a:r>
              <a:rPr b="1" lang="zh-CN" sz="2600" spc="-1" strike="noStrike">
                <a:solidFill>
                  <a:srgbClr val="3333cc"/>
                </a:solidFill>
                <a:latin typeface="Arial"/>
                <a:ea typeface="楷体_GB2312"/>
              </a:rPr>
              <a:t>人工选择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可以将产奶量高的奶牛选择出来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（含有控制高产奶量的遗传物质），通过繁育，后代还会出现各种变异，再从中选择、繁育，数代后奶牛不但能够保持高产奶量，甚至会有不断增加的趋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选育优良的植物品种，如杂交水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562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09480" y="4800600"/>
            <a:ext cx="830592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过杂交，低产抗倒伏小麦的基因和高产不抗倒伏小麦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基因重新组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产生了高产抗倒伏的小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ylp"/>
          <p:cNvPicPr/>
          <p:nvPr/>
        </p:nvPicPr>
        <p:blipFill>
          <a:blip r:embed="rId2"/>
          <a:stretch/>
        </p:blipFill>
        <p:spPr>
          <a:xfrm>
            <a:off x="0" y="609480"/>
            <a:ext cx="4032360" cy="5715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114800" y="152280"/>
            <a:ext cx="502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袁隆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19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生，中国工程院院士，现任国家杂交水稻工作技术中心暨湖南杂交水稻研究中心主任、湖南省政协副主席。中国研究杂交水稻的创始人，世界上成功利用水稻杂交优势的第一人。他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开始从事杂交水稻研究，用九年时间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实现了三系配套，并选育了第一个在生产上大面积应用的强优高产杂交水稻组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南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。亩产达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斤，单产一般比常规稻增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左右。被国际上誉为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杂交水稻之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017720" y="2590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基因的重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无籽西瓜培育"/>
          <p:cNvPicPr/>
          <p:nvPr/>
        </p:nvPicPr>
        <p:blipFill>
          <a:blip r:embed="rId2"/>
          <a:stretch/>
        </p:blipFill>
        <p:spPr>
          <a:xfrm>
            <a:off x="914400" y="609480"/>
            <a:ext cx="5562720" cy="5791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6481080" y="1371600"/>
            <a:ext cx="1399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Times New Roman"/>
              </a:rPr>
              <a:t>无籽西瓜的培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724280" y="5562720"/>
            <a:ext cx="3962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染色体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419920" y="380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类应用遗传变异培育新品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2772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457200" y="457200"/>
            <a:ext cx="8458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体综合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又称先天性愚型或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唐氏综合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由于患者细胞内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多了一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号染色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造成的。患者眼间宽、外眼角上斜、口常半张，舌常伸出口外，身体发育缓慢、智力极度低下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患儿有先天性心脏病，部分患儿在发育过程中夭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先天愚型"/>
          <p:cNvPicPr/>
          <p:nvPr/>
        </p:nvPicPr>
        <p:blipFill>
          <a:blip r:embed="rId2"/>
          <a:stretch/>
        </p:blipFill>
        <p:spPr>
          <a:xfrm>
            <a:off x="380880" y="2895480"/>
            <a:ext cx="4038840" cy="358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先天愚型3"/>
          <p:cNvPicPr/>
          <p:nvPr/>
        </p:nvPicPr>
        <p:blipFill>
          <a:blip r:embed="rId3"/>
          <a:stretch/>
        </p:blipFill>
        <p:spPr>
          <a:xfrm>
            <a:off x="4572000" y="28954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类应用遗传变异培育新品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P44-2"/>
          <p:cNvPicPr/>
          <p:nvPr/>
        </p:nvPicPr>
        <p:blipFill>
          <a:blip r:embed="rId1"/>
          <a:stretch/>
        </p:blipFill>
        <p:spPr>
          <a:xfrm>
            <a:off x="-71280" y="-147600"/>
            <a:ext cx="9215280" cy="57132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547640" y="3997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通甜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794200" y="43578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太空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826920" y="5084640"/>
            <a:ext cx="7936200" cy="13687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>
                  <a:alpha val="53333"/>
                </a:srgbClr>
              </a:gs>
              <a:gs pos="100000">
                <a:srgbClr val="003b00"/>
              </a:gs>
            </a:gsLst>
            <a:lin ang="27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  <a:ea typeface="宋体"/>
              </a:rPr>
              <a:t>太空椒是在太空的条件下，引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基因发生改变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  <a:ea typeface="宋体"/>
              </a:rPr>
              <a:t>而培育成的新品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4572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那些方法可以引起遗传物质改变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1828800" y="2743200"/>
            <a:ext cx="457200" cy="2514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65160 h 2514600"/>
              <a:gd name="textAreaBottom" fmla="*/ 24494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925720" y="3552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基因重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925720" y="4648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基因突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514600" y="2514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染色体变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20032248483zzz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08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SW00800046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4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矮牵牛太空变异"/>
          <p:cNvPicPr/>
          <p:nvPr/>
        </p:nvPicPr>
        <p:blipFill>
          <a:blip r:embed="rId3"/>
          <a:stretch/>
        </p:blipFill>
        <p:spPr>
          <a:xfrm>
            <a:off x="0" y="380880"/>
            <a:ext cx="9144000" cy="5989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太空五色椒"/>
          <p:cNvPicPr/>
          <p:nvPr/>
        </p:nvPicPr>
        <p:blipFill>
          <a:blip r:embed="rId4"/>
          <a:stretch/>
        </p:blipFill>
        <p:spPr>
          <a:xfrm>
            <a:off x="0" y="990720"/>
            <a:ext cx="9144000" cy="44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图7-18 千姿百态的菊花"/>
          <p:cNvPicPr/>
          <p:nvPr/>
        </p:nvPicPr>
        <p:blipFill>
          <a:blip r:embed="rId1"/>
          <a:stretch/>
        </p:blipFill>
        <p:spPr>
          <a:xfrm>
            <a:off x="152280" y="473040"/>
            <a:ext cx="8839440" cy="585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图7-19 不同品种的玉米果穗"/>
          <p:cNvPicPr/>
          <p:nvPr/>
        </p:nvPicPr>
        <p:blipFill>
          <a:blip r:embed="rId2"/>
          <a:stretch/>
        </p:blipFill>
        <p:spPr>
          <a:xfrm>
            <a:off x="152280" y="372960"/>
            <a:ext cx="8915400" cy="6104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图7-20 达尔文记载的安康羊（中）"/>
          <p:cNvPicPr/>
          <p:nvPr/>
        </p:nvPicPr>
        <p:blipFill>
          <a:blip r:embed="rId3"/>
          <a:stretch/>
        </p:blipFill>
        <p:spPr>
          <a:xfrm>
            <a:off x="0" y="838080"/>
            <a:ext cx="9144000" cy="4983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图7-21 红眼果蝇和白眼果蝇的头部"/>
          <p:cNvPicPr/>
          <p:nvPr/>
        </p:nvPicPr>
        <p:blipFill>
          <a:blip r:embed="rId4"/>
          <a:stretch/>
        </p:blipFill>
        <p:spPr>
          <a:xfrm>
            <a:off x="1523880" y="228600"/>
            <a:ext cx="597564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正常红细胞"/>
          <p:cNvPicPr/>
          <p:nvPr/>
        </p:nvPicPr>
        <p:blipFill>
          <a:blip r:embed="rId1"/>
          <a:srcRect l="0" t="8338" r="0" b="2355"/>
          <a:stretch/>
        </p:blipFill>
        <p:spPr>
          <a:xfrm>
            <a:off x="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镰刀型红细胞"/>
          <p:cNvPicPr/>
          <p:nvPr/>
        </p:nvPicPr>
        <p:blipFill>
          <a:blip r:embed="rId2"/>
          <a:srcRect l="0" t="4147" r="0" b="0"/>
          <a:stretch/>
        </p:blipFill>
        <p:spPr>
          <a:xfrm>
            <a:off x="4343400" y="0"/>
            <a:ext cx="4800600" cy="3519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41911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常红细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5797440" y="41148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镰刀型红细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593640" y="139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380880" y="1523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生物变异的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447920" y="228600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952880" y="21574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Times New Roman"/>
              </a:rPr>
              <a:t>遗传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400800" y="1403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322720" y="22096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遗传的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遗传的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304920" y="33066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遗传物质改变的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380880" y="411480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2133720" y="3809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1"/>
          <p:cNvSpPr txBox="1"/>
          <p:nvPr/>
        </p:nvSpPr>
        <p:spPr>
          <a:xfrm>
            <a:off x="228600" y="76320"/>
            <a:ext cx="1981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小结：</a:t>
            </a:r>
            <a:endParaRPr b="1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762120" y="377820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3440" indent="-277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基因突变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太空椒、镰刀型细胞贫血症、玉米白化苗、六指、白化病、安康羊、高产奶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人工选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3440" indent="-277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基因重组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杂交水稻、高产抗倒伏小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3440" indent="-277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染色体变异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无籽西瓜、唐氏综合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405880" y="9144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变异是普遍存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609480" y="2514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南橘北枳”是说南方的橘子移栽到北方之后其味道、色泽等品质都发生变化，不能称为橘，只能称为枳的现象。原因：二者基因型虽然相同，但环境条件的改变可使性状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13716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你知道“南橘北枳”的说法吗？试加以解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2133720" y="380880"/>
            <a:ext cx="20667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练习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57200" y="228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zh-CN" sz="6000" spc="-1" strike="noStrike" baseline="-8000">
                <a:solidFill>
                  <a:srgbClr val="ffcc66"/>
                </a:solidFill>
                <a:latin typeface="Arial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04920" y="990720"/>
            <a:ext cx="86533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一种化学药剂处理甜菜的幼苗，能够使细胞内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染色体数加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这样的甜菜含糖量高，你认为这种变异能遗传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7339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遗传物质的改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173200" y="3733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能够遗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66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12408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方正舒体"/>
              </a:rPr>
              <a:t>练 一 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04920" y="914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某自花传粉植物连续几年只开红花，一次开出一朵白花，该白花植株的后代全开白花。其变异原因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基因分离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基因重组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基因突变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环境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cuts127"/>
          <p:cNvPicPr/>
          <p:nvPr/>
        </p:nvPicPr>
        <p:blipFill>
          <a:blip r:embed="rId1"/>
          <a:stretch/>
        </p:blipFill>
        <p:spPr>
          <a:xfrm>
            <a:off x="7164360" y="260280"/>
            <a:ext cx="1440000" cy="62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uts101"/>
          <p:cNvPicPr/>
          <p:nvPr/>
        </p:nvPicPr>
        <p:blipFill>
          <a:blip r:embed="rId2"/>
          <a:stretch/>
        </p:blipFill>
        <p:spPr>
          <a:xfrm>
            <a:off x="179280" y="1890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457200" y="2590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进行有性生殖的动物，亲代和子代之间总存在着多多少少的差异。形成这种差异的主要原因是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基因分离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基因重组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基因突变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环境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685800" y="434340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基因突变（      ）；基因重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新基因，不形成新基因型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新基因，形成新基因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产生新基因，形成新基因型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产生新基因，不形成新基因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8305920" y="1295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7696080" y="29718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429000" y="41911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7010280" y="434340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228600" y="380880"/>
            <a:ext cx="8650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性生殖后代具有更大的变异性，最根本的原因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因突变频率提高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染色体结构变异机会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生新的基因组合机会多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易受环境影响而发生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8423280" y="30492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457200" y="274320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高科技成果中，根据基因重组原理进行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①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科学家袁隆平利用杂交技术培育出超级水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②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科学家将苏云金杆菌的某些基因移植到棉花体内，培育出抗虫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③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科学家通过返回式卫星搭载种子培育出太空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④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科学家通过体细胞克隆技术培养出克隆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 ①        B  ①②        C  ①②③        D  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8381880" y="25909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04920" y="0"/>
            <a:ext cx="94485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下列变异不可以遗传给后代的是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一对夫妇中，丈夫对红绿色不能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某人常在野外工作，皮肤变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一对夫妇正常，但小孩长到几岁后被诊断有先天愚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父母都是双眼皮，而女儿是单眼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095880" y="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3520" y="2286000"/>
            <a:ext cx="78483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、有关变异形成的叙述有误的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、有些变异是由于环境变化而引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、变异可由遗传物质的变化引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、变异在亲子代之间才能发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、子代的个体间可能会发生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601992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95280" y="4630680"/>
            <a:ext cx="87487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下列方法中，不能得到可遗传变异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加强水肥管理，使农作物健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进行品种杂交，之后进行选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用射线和药物处理种子后进行选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挑选牛群中的肉质较佳的进行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7467480" y="4495680"/>
            <a:ext cx="587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33520" y="152280"/>
            <a:ext cx="8820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同卵双生的兄弟俩胖瘦相差很大，其原因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显性基因发生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隐性基因发生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染色体数目发生了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生活环境和条件有所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153280" y="152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09480" y="2590920"/>
            <a:ext cx="8839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1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能够遗传的变异是由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____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引起的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个体生长很快    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个体发育很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遗传物质发生了变化  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生存环境发生了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7315200" y="2514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838080" y="4267080"/>
            <a:ext cx="66294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下列哪种性状是可以遗传的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营养性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色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高山缺氧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、运动员强健的肌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172200" y="4191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27160" y="116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99320" y="106668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哪一项有利于生物的进化和发展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有利变异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利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可遗传变异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可遗传的变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621560" y="106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8199"/>
          <p:cNvSpPr/>
          <p:nvPr/>
        </p:nvSpPr>
        <p:spPr>
          <a:xfrm>
            <a:off x="162000" y="290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57200" y="990720"/>
            <a:ext cx="86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业上用射线或药物处理农作物种子，获得新品种的原理是射线或药物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直接改变了农作物的某些性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改变了农作物种子中的营养成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淘汰了农作物的某些不良性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使种子里的遗传物质发生了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几项中队变异在生物学和实践上有重要意义的说法不正确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够使生物更好的适应不断变化的环境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变异对生物的生存都是有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会产生新的生物类型，使生物不断进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可以利用对人类有益的变异选育新品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57200" y="228600"/>
            <a:ext cx="214776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动动脑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267080" y="13716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5053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225160" y="6164640"/>
            <a:ext cx="52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神州五号太空育种 巨人南瓜亮相哈尔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巨人南瓜亮相香坊公园(图)"/>
          <p:cNvPicPr/>
          <p:nvPr/>
        </p:nvPicPr>
        <p:blipFill>
          <a:blip r:embed="rId1"/>
          <a:stretch/>
        </p:blipFill>
        <p:spPr>
          <a:xfrm>
            <a:off x="0" y="-117360"/>
            <a:ext cx="914400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0"/>
            <a:ext cx="868680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几种变异中，不能遗传的变异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类的皮肤的黑黄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米粒的黄白红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在遮阴处的小麦杆细穗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探究花生果实大小变异的过程中，制定和实施计划时不应该（  　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随机取样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样品要少于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要选择和设计适当的测量工具和测量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测量结果用曲线图或直方图表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育种实例中，应用了遗传原理（而非变异原理）的是（  　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产奶量低的奶牛中选择、繁育出高产奶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通甜椒种子卫星搭载后播下，经选择培育成太空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产倒伏小麦与低产抗倒伏小麦杂交培育出高产抗倒伏小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小花生种到肥沃的土壤中结出大花生果实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781680" y="-1476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362320" y="19810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90720" y="35053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E8C-BC5E-40C9-B7BC-DA6DEDD6EB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FR_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WordArt 3"/>
          <p:cNvSpPr txBox="1"/>
          <p:nvPr/>
        </p:nvSpPr>
        <p:spPr>
          <a:xfrm>
            <a:off x="2124000" y="3500280"/>
            <a:ext cx="344340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重庆太空育种荷花冬日绽放(组图)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5732640"/>
            <a:ext cx="95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在重庆大足荷花山庄太空肓种室，我国首批太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育种的太空荷花开出鲜艳的花朵，从此结束了冬季无荷花的历史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61514444630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666960" y="59490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重庆太空育种荷花冬日绽放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0060920084454368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392880" y="0"/>
            <a:ext cx="1033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夜晚睡觉白天绽放，太空紫蝴蝶落户龙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20031114338371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wzx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908000" y="595008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59280" y="5877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籽西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24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05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