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961-4422-4C36-8E23-86FA5584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AAF-2225-4626-9083-731E672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0E8-24E5-4986-96CB-7AF814A7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03E-AD38-44E2-8F8C-DAC18AEC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9EB-D06D-4BB9-9660-38A7AD7D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D1FE-3D21-4E1A-889E-6F9A8D5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ECE-9E92-4DEF-AD43-D435EC8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385B-B661-402F-84B4-C6959C9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645-8759-4E6D-818B-8CA043FA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093-C12D-4E4F-90CE-510AE04C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5D0-BF68-4EB7-A8FE-AB90659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061-301B-4151-B331-304362A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2FD-5861-46E1-83EA-8766EEF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6C34-FE4F-4F59-A50B-6F645604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A75D-02E2-4239-B0A6-CA2A0B2F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1AE9-C7FE-46D2-823E-DF483E4B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4C3-3E51-4B12-9366-EF0B37E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91D-A127-48BD-88E8-242A7DE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1B0-935A-45BE-A007-1E76ED3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B45-7EC8-405D-B083-26DBFA6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95E-D6F9-4D4B-9641-C1F3AE9B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40C-90F3-4D66-9AE7-2174B0E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CED-A660-420D-B1E8-3939C80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62A-5079-46B4-81DB-AB764D2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3AA7-A422-4D64-BA10-F81D503E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403-E384-4975-B790-278BCCDEAC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odmate.net/4images/7/7841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202.121.7.7/person/zhaigj/bigclass.asp?typeid=12&amp;bigclassid=26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odmate.net/4images/7/778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edriver.gxtc.edu.cn/tongxun/yangguang/wuweihualang/200512/6676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csxsyzx.com/jiaoxuetupian/shengwu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bigchina.com/ebcps/2/pd/20698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6" descr=""/>
          <p:cNvPicPr/>
          <p:nvPr/>
        </p:nvPicPr>
        <p:blipFill>
          <a:blip r:embed="rId1"/>
          <a:stretch/>
        </p:blipFill>
        <p:spPr>
          <a:xfrm>
            <a:off x="0" y="1220760"/>
            <a:ext cx="9144000" cy="700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1878120" y="2438280"/>
            <a:ext cx="5394240" cy="367668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3248640" y="6015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章  生物的进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通过对不同地层化石的比较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你得出了对生物进化历程的怎样的推测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2280" y="1676520"/>
            <a:ext cx="8991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早形成的地层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晚形成的地层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91120" y="1676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化石越简单、越低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19112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化石越复杂、越高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57200" y="3276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8600" y="3276720"/>
            <a:ext cx="75438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生物进化的顺序</a:t>
            </a:r>
            <a:r>
              <a:rPr b="1" i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简单到复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水生到陆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低等到高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04920" y="3808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始祖鸟、鸟及爬行动物的比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10-1"/>
          <p:cNvPicPr/>
          <p:nvPr/>
        </p:nvPicPr>
        <p:blipFill>
          <a:blip r:embed="rId1"/>
          <a:stretch/>
        </p:blipFill>
        <p:spPr>
          <a:xfrm>
            <a:off x="228600" y="1295280"/>
            <a:ext cx="4021200" cy="533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194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c_71304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199"/>
          <p:cNvSpPr/>
          <p:nvPr/>
        </p:nvSpPr>
        <p:spPr>
          <a:xfrm>
            <a:off x="1512720" y="525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lb105_01pic"/>
          <p:cNvPicPr/>
          <p:nvPr/>
        </p:nvPicPr>
        <p:blipFill>
          <a:blip r:embed="rId1"/>
          <a:stretch/>
        </p:blipFill>
        <p:spPr>
          <a:xfrm>
            <a:off x="1295280" y="0"/>
            <a:ext cx="653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28600" y="914400"/>
            <a:ext cx="631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牙齿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由尾椎骨组成的长尾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掌骨未完全愈合，指端有爪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骨骼内无气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324480" y="1143000"/>
            <a:ext cx="358920" cy="2286000"/>
          </a:xfrm>
          <a:custGeom>
            <a:avLst/>
            <a:gdLst>
              <a:gd name="textAreaLeft" fmla="*/ 0 w 358920"/>
              <a:gd name="textAreaRight" fmla="*/ 129600 w 358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696000" y="167652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爬行动物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57200" y="41911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具有羽毛且分化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部分骨骼愈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724280" y="4343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814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鸟类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57200" y="152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通过比较可知</a:t>
            </a:r>
            <a:r>
              <a:rPr b="1" i="1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28600" y="838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通过以上的比较，我们发现，始祖鸟是爬行动物与鸟类之间的过度类型，所以，鸟类起源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438280" y="32004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38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原始的爬行动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28600" y="990720"/>
          <a:ext cx="8686800" cy="5638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生物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与人细胞色素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的氨基酸序列的差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黑猩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猕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金枪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果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向日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链孢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螺旋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08"/>
          <p:cNvSpPr/>
          <p:nvPr/>
        </p:nvSpPr>
        <p:spPr>
          <a:xfrm>
            <a:off x="838080" y="2286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同生物细胞色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57200" y="8380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通过比较可知，与人亲缘关系由近至远的顺序依次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2590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2666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黑猩猩、猕猴、狗、鸡、金枪鱼、果蝇、向日葵、链孢菌、螺旋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040316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312811322598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比较不同生物的胚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380880" y="4572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对不同生物的胚胎进行比较可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1600200"/>
            <a:ext cx="7467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陆生动物起源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人是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00600" y="15238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水生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666880" y="2590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有尾动物进化发展而来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1600200"/>
          <a:ext cx="8381880" cy="4497480"/>
        </p:xfrm>
        <a:graphic>
          <a:graphicData uri="http://schemas.openxmlformats.org/drawingml/2006/table">
            <a:tbl>
              <a:tblPr/>
              <a:tblGrid>
                <a:gridCol w="1044720"/>
                <a:gridCol w="1698480"/>
                <a:gridCol w="1450800"/>
                <a:gridCol w="1162080"/>
                <a:gridCol w="1578240"/>
                <a:gridCol w="14475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37"/>
          <p:cNvSpPr/>
          <p:nvPr/>
        </p:nvSpPr>
        <p:spPr>
          <a:xfrm>
            <a:off x="1371600" y="2895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没有根、茎、叶的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3048120" y="28954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茎、叶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643280" y="29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根、茎、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86728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根、茎、叶、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7315200" y="2666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根、茎、叶、花、果实、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1547640" y="47401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大部分生活在水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3276720" y="4876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潮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4643280" y="4876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潮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6012000" y="4876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7380360" y="4876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1909080" y="184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藻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334944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苔藓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4861800" y="186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蕨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5940360" y="17002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裸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7308720" y="1700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被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2"/>
          <p:cNvSpPr/>
          <p:nvPr/>
        </p:nvSpPr>
        <p:spPr>
          <a:xfrm>
            <a:off x="1719360" y="5475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进化的趋势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1905120"/>
          <a:ext cx="8210520" cy="3789360"/>
        </p:xfrm>
        <a:graphic>
          <a:graphicData uri="http://schemas.openxmlformats.org/drawingml/2006/table">
            <a:tbl>
              <a:tblPr/>
              <a:tblGrid>
                <a:gridCol w="1752480"/>
                <a:gridCol w="1357560"/>
                <a:gridCol w="1195200"/>
                <a:gridCol w="1581120"/>
                <a:gridCol w="23241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细胞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腔肠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哺乳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态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" name="AutoShape 24"/>
          <p:cNvSpPr/>
          <p:nvPr/>
        </p:nvSpPr>
        <p:spPr>
          <a:xfrm>
            <a:off x="3668760" y="3444840"/>
            <a:ext cx="3570120" cy="289080"/>
          </a:xfrm>
          <a:prstGeom prst="rightArrow">
            <a:avLst>
              <a:gd name="adj1" fmla="val 50000"/>
              <a:gd name="adj2" fmla="val 30863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3657600" y="4745160"/>
            <a:ext cx="3581280" cy="360360"/>
          </a:xfrm>
          <a:prstGeom prst="rightArrow">
            <a:avLst>
              <a:gd name="adj1" fmla="val 36565"/>
              <a:gd name="adj2" fmla="val 25190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2514600" y="3306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7543800" y="3306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复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2514600" y="4540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水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7620120" y="4540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陆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1719360" y="5475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进化的趋势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pic_71330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Cj02307370000[1]"/>
          <p:cNvPicPr/>
          <p:nvPr/>
        </p:nvPicPr>
        <p:blipFill>
          <a:blip r:embed="rId1"/>
          <a:stretch/>
        </p:blipFill>
        <p:spPr>
          <a:xfrm>
            <a:off x="-152280" y="489888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905120" y="2971800"/>
            <a:ext cx="6134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构：由简单到复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位：由低等到高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环境：由水生到陆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295280" y="1828800"/>
            <a:ext cx="64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物进化的总体趋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90720" y="22860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论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260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进化的直接证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进化的历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简单到复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低等到高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水生到陆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809640" y="212760"/>
            <a:ext cx="18381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总结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8694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技能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请阅读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56</a:t>
            </a:r>
            <a:r>
              <a:rPr b="1" i="1" lang="en-US" sz="4400" spc="-1" strike="noStrike">
                <a:solidFill>
                  <a:srgbClr val="3333ff"/>
                </a:solidFill>
                <a:latin typeface="Arial"/>
                <a:ea typeface="华文新魏"/>
              </a:rPr>
              <a:t>—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57</a:t>
            </a: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页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回答课后问题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持假说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证据有：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其中证据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支持力度最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持假说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证据有：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其中证据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支持力度最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0"/>
            <a:ext cx="9144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一、选择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生物进化问题的研究方法中，最重要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比较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想像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猜测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幻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列关于比较方法的说法中，不正确的是（　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较是指根据一定的标准，把彼此有某种联系的事物加以对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各个事物特征的比较，可以把握事物之间的内在联系，认识事物的本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不同生物种类的形态结构进行比较，可以推断它们之间的亲缘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比较可以确定任何事物的相同点和不同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9072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3520" y="259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228600" y="380880"/>
            <a:ext cx="891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科学家发现一些生物的细胞色素Ｃ有差异：人与黑猩猩的差异最小，与马的差异大一些，与果蝇、向日葵的差异则更大。这说明与人亲缘关系最近的是（  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马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果蝇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向日葵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黑猩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始祖鸟身体结构跟爬行类、鸟类动物都有相同之处，经逻辑推理可得出如下结论（　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爬行类进化成鸟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鸟类进化成爬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爬行类与鸟类有亲缘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生命起源于无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812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3886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-366840" y="-503280"/>
          <a:ext cx="9144000" cy="50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8" descr="20323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-366840" y="-503280"/>
          <a:ext cx="9144000" cy="50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0880" y="152280"/>
            <a:ext cx="85345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青岛巿某座小山上有许多含有贝类化石的珊瑚礁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现象最合理的解释为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是现在已灭绝的陆生种珊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是被海浪冲上来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离水登陆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小山是由海底上升所形成的 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研究地球上生物进化的最主要的证据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现在生存的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动物的胚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细胞色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化石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629400" y="685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28600" y="533520"/>
            <a:ext cx="8686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下列植物中，最简单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藻类植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裸子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苔藓植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被子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781680" y="457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871560" y="3008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838080" y="1783080"/>
            <a:ext cx="7772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课后练习</a:t>
            </a:r>
            <a:r>
              <a:rPr b="1" lang="en-US" sz="60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的化石人类还未发现；有的生物没有留下化石；地壳或环境的变化导致一些化石的毁灭等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50920" y="297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有鸡还是先有蛋，我们不能简单地回答，因为任何生物都是不断进化发展的，进化的历程是漫长的，而且遗传和变异是进化的基础。在由爬行动物进化到鸟类的过程中，不断地发生变异，并经自然选择将这种变异保存和遗传下来。从进化的角度看，鸡这一物种形成时，鸡和鸡蛋同时形成。从基因水平看，鸡和鸡蛋具有同样的遗传物质基础，二者在地球上的出现也是无所谓先后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221F-A77D-4763-B0E6-CB6F6F63FC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28600" y="12344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些非常简单、低等的生物由于能够适应环境的不断变化，所以没有灭绝，而且分布还非常广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00512170026472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W01300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523880" y="7621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地球上的生物千姿百态，地球上的生命是如何来的呢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4792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化学起源说指出，地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上的生命可以通过漫长的化学途径，逐步从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非生命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演化成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原始生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71600" y="4572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那么，原始生命又是如何演化成形形色色的生物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没有人能够亲自经历这样的演化过程，但是，科学家却能通过不同的有效的方法来揭示生物进化的奥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1981080"/>
            <a:ext cx="761976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研究生物进化的方法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-----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比较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42670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行楷"/>
              </a:rPr>
              <a:t>比较法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根据一定的标准，把彼此有联系的事物的特征进行比较，以把握事物之间的内在联系，认识事物的本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14400" y="5335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比较不同地层中的化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0360579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905120"/>
            <a:ext cx="363672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191120" y="2362320"/>
            <a:ext cx="4724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化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埋藏在地层中的古代生物的遗体、遗迹和遗物，石化后形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是研究生物进化最直接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_71328"/>
          <p:cNvPicPr/>
          <p:nvPr/>
        </p:nvPicPr>
        <p:blipFill>
          <a:blip r:embed="rId1"/>
          <a:stretch/>
        </p:blipFill>
        <p:spPr>
          <a:xfrm>
            <a:off x="304920" y="0"/>
            <a:ext cx="7486560" cy="698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153280" y="0"/>
            <a:ext cx="99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不同地层化石模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07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