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camera.wav" ContentType="audio/x-wav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D0C-ADBB-4436-A12F-0009970C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91A-603F-42F3-B10A-A8B5081E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2F8-E540-4A91-9269-B8813711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8DB-3C34-4C3E-9D5D-BAF9CEA5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7284-F11B-42CB-B81B-DE00E11B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F9B9-E1BF-4C26-9BD5-9C6A741C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7B35-A34C-4907-9D9A-41C7971D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741F-D350-44B6-94B2-2C79D06D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4F0B-15FF-46F5-BFD9-BCDB91A2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994C-849A-41E0-88E6-54AC7B39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A04F-B933-48CA-81FD-40058DD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B10-66E3-4CDB-B935-506AA290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1F3B-C995-4C4C-B821-E67D97E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DF0A-48E0-48AF-8417-A1F9C59D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1D09-2445-492C-8E55-8F0C2F20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51F1-4B88-481E-A294-31390B4C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CD40-6C95-47AA-97E0-9A64F99D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046-2531-4CEA-BEAA-9E3D6DBA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775-E167-4589-B16A-40C4E4F8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B37-9541-4485-B1BE-BCECCB57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7CF-2BE7-49CA-AE9B-65650BCE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5D8-9392-4747-B162-1D52F42B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E21-92B9-40DC-ACC7-BCB2671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015-CB00-4A1D-BF49-9FFE7997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5D2C-54CF-418C-845F-3E89A0E80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F724-5C10-4EEC-848A-42BF93C33D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E&#1403;%A8&amp;in=26372&amp;cl=2&amp;cm=1&amp;sc=0&amp;lm=-1&amp;pn=6&amp;rn=1&amp;di=1235152648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.baidu.com/i?ct=503316480&amp;z=0&amp;tn=baiduimagedetail&amp;word=%BE&#1403;%A8&amp;in=28159&amp;cl=2&amp;cm=1&amp;sc=0&amp;lm=-1&amp;pn=7&amp;rn=1&amp;di=2443930896&amp;ln=2000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.baidu.com/i?ct=503316480&amp;z=0&amp;tn=baiduimagedetail&amp;word=%BE&#1403;%A8&amp;in=5043&amp;cl=2&amp;cm=1&amp;sc=0&amp;lm=-1&amp;pn=8&amp;rn=1&amp;di=2303135180&amp;ln=2000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.baidu.com/i?ct=503316480&amp;z=0&amp;tn=baiduimagedetail&amp;word=%BE&#1403;%A8&amp;in=31886&amp;cl=2&amp;cm=1&amp;sc=0&amp;lm=-1&amp;pn=9&amp;rn=1&amp;di=229845684&amp;ln=2000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image.baidu.com/i?ct=503316480&amp;z=0&amp;tn=baiduimagedetail&amp;word=%BE&#1403;%A8&amp;in=24106&amp;cl=2&amp;cm=1&amp;sc=0&amp;lm=-1&amp;pn=5&amp;rn=1&amp;di=671773300&amp;ln=2000" TargetMode="External"/><Relationship Id="rId10" Type="http://schemas.openxmlformats.org/officeDocument/2006/relationships/image" Target="../media/image17.jpeg"/><Relationship Id="rId11" Type="http://schemas.openxmlformats.org/officeDocument/2006/relationships/hyperlink" Target="http://image.baidu.com/i?ct=503316480&amp;z=0&amp;tn=baiduimagedetail&amp;word=%BE&#1403;%A8&amp;in=18862&amp;cl=2&amp;cm=1&amp;sc=0&amp;lm=-1&amp;pn=10&amp;rn=1&amp;di=198254940&amp;ln=2000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image.baidu.com/i?ct=503316480&amp;z=0&amp;tn=baiduimagedetail&amp;word=%BE&#1403;%A8&amp;in=8445&amp;cl=2&amp;cm=1&amp;sc=0&amp;lm=-1&amp;pn=12&amp;rn=1&amp;di=683164800&amp;ln=2000" TargetMode="External"/><Relationship Id="rId14" Type="http://schemas.openxmlformats.org/officeDocument/2006/relationships/image" Target="../media/image19.jpeg"/><Relationship Id="rId15" Type="http://schemas.openxmlformats.org/officeDocument/2006/relationships/hyperlink" Target="http://image.baidu.com/i?ct=503316480&amp;z=0&amp;tn=baiduimagedetail&amp;word=%BE&#1403;%A8&amp;in=27419&amp;cl=2&amp;cm=1&amp;sc=0&amp;lm=-1&amp;pn=13&amp;rn=1&amp;di=393511656&amp;ln=2000" TargetMode="External"/><Relationship Id="rId16" Type="http://schemas.openxmlformats.org/officeDocument/2006/relationships/image" Target="../media/image20.jpeg"/><Relationship Id="rId17" Type="http://schemas.openxmlformats.org/officeDocument/2006/relationships/hyperlink" Target="http://image.baidu.com/i?ct=503316480&amp;z=0&amp;tn=baiduimagedetail&amp;word=%BE&#1403;%A8&amp;in=26281&amp;cl=2&amp;cm=1&amp;sc=0&amp;lm=-1&amp;pn=14&amp;rn=1&amp;di=767883600&amp;ln=2000" TargetMode="External"/><Relationship Id="rId18" Type="http://schemas.openxmlformats.org/officeDocument/2006/relationships/image" Target="../media/image21.jpeg"/><Relationship Id="rId19" Type="http://schemas.openxmlformats.org/officeDocument/2006/relationships/hyperlink" Target="http://www.eeppt.com" TargetMode="External"/><Relationship Id="rId20" Type="http://schemas.openxmlformats.org/officeDocument/2006/relationships/hyperlink" Target="http://www.eeppt.com" TargetMode="External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F0%D3%E3&amp;in=20242&amp;cl=2&amp;cm=1&amp;sc=0&amp;lm=-1&amp;pn=11&amp;rn=1&amp;di=2931549932&amp;ln=2000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.baidu.com/i?ct=503316480&amp;z=0&amp;tn=baiduimagedetail&amp;word=%BD%F0%D3%E3&amp;in=9838&amp;cl=2&amp;cm=1&amp;sc=0&amp;lm=-1&amp;pn=6&amp;rn=1&amp;di=2958504812&amp;ln=2000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.baidu.com/i?ct=503316480&amp;z=0&amp;tn=baiduimagedetail&amp;word=%BD%F0%D3%E3&amp;in=12537&amp;cl=2&amp;cm=1&amp;sc=0&amp;lm=-1&amp;pn=18&amp;rn=1&amp;di=3049973252&amp;ln=2000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.baidu.com/i?ct=503316480&amp;z=0&amp;tn=baiduimagedetail&amp;word=%BD%F0%D3%E3&amp;in=14470&amp;cl=2&amp;cm=1&amp;sc=0&amp;lm=-1&amp;pn=5&amp;rn=1&amp;di=2940810852&amp;ln=2000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.baidu.com/i?ct=503316480&amp;z=0&amp;tn=baiduimagedetail&amp;word=%BD%F0%D3%E3&amp;in=25806&amp;cl=2&amp;cm=1&amp;sc=0&amp;lm=-1&amp;pn=0&amp;rn=1&amp;di=3136019572&amp;ln=2000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.baidu.com/i?ct=503316480&amp;z=0&amp;tn=baiduimagedetail&amp;word=%BD%F0%D3%E3&amp;in=4574&amp;cl=2&amp;cm=1&amp;sc=0&amp;lm=-1&amp;pn=3&amp;rn=1&amp;di=114318968&amp;ln=2000" TargetMode="External"/><Relationship Id="rId12" Type="http://schemas.openxmlformats.org/officeDocument/2006/relationships/image" Target="../media/image27.jpe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hyperlink" Target="-1,-1,NEXT" TargetMode="External"/><Relationship Id="rId3" Type="http://schemas.openxmlformats.org/officeDocument/2006/relationships/hyperlink" Target="265,7,&#24187;&#28783;&#29255; 7" TargetMode="External"/><Relationship Id="rId4" Type="http://schemas.openxmlformats.org/officeDocument/2006/relationships/hyperlink" Target="266,8,&#24187;&#28783;&#29255; 8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冰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1554120" y="2060640"/>
            <a:ext cx="626436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生物进化原因</a:t>
            </a:r>
            <a:r>
              <a:rPr b="1" lang="en-US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3178440" y="90792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章   生物的进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340000" y="333360"/>
            <a:ext cx="551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、遗传和变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62120" y="1371600"/>
            <a:ext cx="79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变异有的对生物生存有利，有的则不利，</a:t>
            </a:r>
            <a:r>
              <a:rPr b="1" lang="zh-CN" sz="4000" spc="-1" strike="noStrike" u="sng">
                <a:solidFill>
                  <a:srgbClr val="33cc33"/>
                </a:solidFill>
                <a:uFillTx/>
                <a:latin typeface="Times New Roman"/>
              </a:rPr>
              <a:t>变异具有不定向性。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但具有有利变异的个体（即其性状适应环境的），易在生存斗争中获胜而生存下去，并留下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11280" y="4581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有利变异可以传给下一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771640" y="115920"/>
            <a:ext cx="42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适者生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9144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）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40000" y="836640"/>
            <a:ext cx="61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生存斗争中生存下来的生物都是对环境能适应的，被淘汰的生物是对环境不适应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5050"/>
              </a:solidFill>
              <a:latin typeface="Arial"/>
              <a:ea typeface="创艺简楷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0" t="0" r="0" b="-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700160" y="762120"/>
            <a:ext cx="146088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异是不定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800600" y="1805040"/>
            <a:ext cx="182880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体差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648320" y="3276720"/>
            <a:ext cx="2057400" cy="947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适者生存，不适者淘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135760" y="5791320"/>
            <a:ext cx="167436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适应环境新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781680" y="762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内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162920" y="2454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动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562720" y="249084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存斗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800600" y="4648320"/>
            <a:ext cx="259092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逐代遗传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7238880" y="4572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内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80880" y="762120"/>
            <a:ext cx="3657600" cy="5205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长颈鹿祖先发生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380880" y="1752480"/>
            <a:ext cx="3886200" cy="5205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个体有长颈长前肢的也有短颈短前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304920" y="3352680"/>
            <a:ext cx="3047760" cy="5205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长颈长前肢生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066680" y="4572000"/>
            <a:ext cx="1752840" cy="5205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逐代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822240" y="5683320"/>
            <a:ext cx="2073240" cy="5205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现代长颈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89440" y="2819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缺乏青草的环境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4120" y="1295280"/>
            <a:ext cx="360" cy="457200"/>
            <a:chOff x="5334120" y="1295280"/>
            <a:chExt cx="360" cy="457200"/>
          </a:xfrm>
        </p:grpSpPr>
        <p:sp>
          <p:nvSpPr>
            <p:cNvPr id="151" name="Line 18"/>
            <p:cNvSpPr/>
            <p:nvPr/>
          </p:nvSpPr>
          <p:spPr>
            <a:xfrm>
              <a:off x="5334120" y="129528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5334120" y="1295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410080" y="2438280"/>
            <a:ext cx="360" cy="862200"/>
            <a:chOff x="5410080" y="2438280"/>
            <a:chExt cx="360" cy="862200"/>
          </a:xfrm>
        </p:grpSpPr>
        <p:sp>
          <p:nvSpPr>
            <p:cNvPr id="154" name="Line 19"/>
            <p:cNvSpPr/>
            <p:nvPr/>
          </p:nvSpPr>
          <p:spPr>
            <a:xfrm>
              <a:off x="5410080" y="2438280"/>
              <a:ext cx="0" cy="86220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410080" y="2438280"/>
              <a:ext cx="360" cy="86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791320" y="4267080"/>
            <a:ext cx="360" cy="381240"/>
            <a:chOff x="5791320" y="4267080"/>
            <a:chExt cx="360" cy="381240"/>
          </a:xfrm>
        </p:grpSpPr>
        <p:sp>
          <p:nvSpPr>
            <p:cNvPr id="157" name="Line 20"/>
            <p:cNvSpPr/>
            <p:nvPr/>
          </p:nvSpPr>
          <p:spPr>
            <a:xfrm>
              <a:off x="5791320" y="4267080"/>
              <a:ext cx="0" cy="38124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5791320" y="42670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91320" y="5257800"/>
            <a:ext cx="360" cy="533520"/>
            <a:chOff x="5791320" y="5257800"/>
            <a:chExt cx="360" cy="533520"/>
          </a:xfrm>
        </p:grpSpPr>
        <p:sp>
          <p:nvSpPr>
            <p:cNvPr id="160" name="Line 21"/>
            <p:cNvSpPr/>
            <p:nvPr/>
          </p:nvSpPr>
          <p:spPr>
            <a:xfrm>
              <a:off x="5791320" y="5257800"/>
              <a:ext cx="0" cy="53352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5791320" y="5257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828800" y="1295280"/>
            <a:ext cx="360" cy="457200"/>
            <a:chOff x="1828800" y="1295280"/>
            <a:chExt cx="360" cy="457200"/>
          </a:xfrm>
        </p:grpSpPr>
        <p:sp>
          <p:nvSpPr>
            <p:cNvPr id="163" name="Line 22"/>
            <p:cNvSpPr/>
            <p:nvPr/>
          </p:nvSpPr>
          <p:spPr>
            <a:xfrm>
              <a:off x="1828800" y="1295280"/>
              <a:ext cx="0" cy="45720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828800" y="1295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76520" y="2743200"/>
            <a:ext cx="360" cy="609480"/>
            <a:chOff x="1676520" y="2743200"/>
            <a:chExt cx="360" cy="609480"/>
          </a:xfrm>
        </p:grpSpPr>
        <p:sp>
          <p:nvSpPr>
            <p:cNvPr id="166" name="Line 23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1676520" y="27432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52480" y="3962520"/>
            <a:ext cx="360" cy="609480"/>
            <a:chOff x="1752480" y="3962520"/>
            <a:chExt cx="360" cy="609480"/>
          </a:xfrm>
        </p:grpSpPr>
        <p:sp>
          <p:nvSpPr>
            <p:cNvPr id="169" name="Line 24"/>
            <p:cNvSpPr/>
            <p:nvPr/>
          </p:nvSpPr>
          <p:spPr>
            <a:xfrm>
              <a:off x="1752480" y="3962520"/>
              <a:ext cx="0" cy="60948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752480" y="39625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5181480"/>
            <a:ext cx="360" cy="609840"/>
            <a:chOff x="1752480" y="5181480"/>
            <a:chExt cx="360" cy="609840"/>
          </a:xfrm>
        </p:grpSpPr>
        <p:sp>
          <p:nvSpPr>
            <p:cNvPr id="172" name="Line 25"/>
            <p:cNvSpPr/>
            <p:nvPr/>
          </p:nvSpPr>
          <p:spPr>
            <a:xfrm>
              <a:off x="1752480" y="5181480"/>
              <a:ext cx="0" cy="60984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752480" y="51814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AutoShape 26"/>
          <p:cNvSpPr/>
          <p:nvPr/>
        </p:nvSpPr>
        <p:spPr>
          <a:xfrm>
            <a:off x="8001000" y="914400"/>
            <a:ext cx="380880" cy="5334120"/>
          </a:xfrm>
          <a:custGeom>
            <a:avLst/>
            <a:gdLst>
              <a:gd name="textAreaLeft" fmla="*/ 0 w 380880"/>
              <a:gd name="textAreaRight" fmla="*/ 137520 w 380880"/>
              <a:gd name="textAreaTop" fmla="*/ 138960 h 5334120"/>
              <a:gd name="textAreaBottom" fmla="*/ 519516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8381880" y="2286000"/>
            <a:ext cx="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自然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121932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4267080" y="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生物进化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067280" y="2708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外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258920" y="83664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结论：对生物进化的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990720" y="18684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、选择材料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724280" y="18684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由变异提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990720" y="270684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、内在因素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24280" y="2637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遗传和变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3697200"/>
            <a:ext cx="40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、进化方向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716360" y="3645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由自然选择决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209680" y="4916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971640" y="47181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、进化动力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724280" y="4687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生存斗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590920" y="765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自然选择学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838080" y="17082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过度繁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343400" y="1708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生存斗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838080" y="23940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cc33"/>
                </a:solidFill>
                <a:latin typeface="Times New Roman"/>
              </a:rPr>
              <a:t>、遗传和变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343400" y="23940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、适者生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33520" y="3384720"/>
            <a:ext cx="1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1447920" y="34606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说明物种是可变的，是进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447920" y="4029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正确解释了生物的适应性和多样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380880" y="475632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752480" y="4832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对遗传和变异未能做出本质的阐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22T02_06"/>
          <p:cNvPicPr/>
          <p:nvPr/>
        </p:nvPicPr>
        <p:blipFill>
          <a:blip r:embed="rId1"/>
          <a:stretch/>
        </p:blipFill>
        <p:spPr>
          <a:xfrm>
            <a:off x="0" y="0"/>
            <a:ext cx="9144000" cy="6615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721520" y="870120"/>
            <a:ext cx="52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几个品种的鸡与原鸡相比，它们分别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755640" y="1811160"/>
            <a:ext cx="6697800" cy="3471840"/>
            <a:chOff x="755640" y="1811160"/>
            <a:chExt cx="6697800" cy="3471840"/>
          </a:xfrm>
        </p:grpSpPr>
        <p:sp>
          <p:nvSpPr>
            <p:cNvPr id="202" name="Text Box 3"/>
            <p:cNvSpPr/>
            <p:nvPr/>
          </p:nvSpPr>
          <p:spPr>
            <a:xfrm>
              <a:off x="755640" y="1811160"/>
              <a:ext cx="669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狼山鸡（肉用）的个体较大，肉质鲜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755640" y="2530440"/>
              <a:ext cx="66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来亨鸡产卵率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755640" y="3251160"/>
              <a:ext cx="640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斗鸡体形优美，颜色鲜丽，攻击性较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826920" y="4043520"/>
              <a:ext cx="626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乌骨鸡药用价值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900000" y="4762440"/>
              <a:ext cx="576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芦花鸡体形较大，产卵率较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82692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些品种的鸡是怎样产生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826920" y="155736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人们根据不同的需要和爱好，对生物发生的变异进行不断选择，从而形成了各种生物新品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6920" y="3995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举例说出用人工选择方法培育成的植物或动物品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1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211" name="Picture 2" descr="u=9338330,1687455853&amp;gp=48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511000" cy="252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3" descr="u=3996976269,477134591&amp;gp=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078720" y="2581560"/>
              <a:ext cx="2983680" cy="21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4" descr="u=2350512080,418199842&amp;gp=-16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078720" y="87840"/>
              <a:ext cx="3545280" cy="25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5" descr="u=3814619400,1633516208&amp;gp=34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157440" y="2581560"/>
              <a:ext cx="298620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6" descr="u=1298888163,3186662666&amp;gp=0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986200" y="4721400"/>
              <a:ext cx="3171240" cy="21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" descr="u=1022992930,2698906256&amp;gp=40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0" y="4719600"/>
              <a:ext cx="2986200" cy="21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8" descr="u=709524533,1707579753&amp;gp=0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6157440" y="4719600"/>
              <a:ext cx="298620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9" descr="u=4088320837,2997541302&amp;gp=6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7091280" y="0"/>
              <a:ext cx="1994400" cy="25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0" descr="u=791750149,1647429274&amp;gp=0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0" y="2571840"/>
              <a:ext cx="2986200" cy="213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文本框 8199"/>
          <p:cNvSpPr/>
          <p:nvPr/>
        </p:nvSpPr>
        <p:spPr>
          <a:xfrm>
            <a:off x="2301840" y="6122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22T02_07"/>
          <p:cNvPicPr/>
          <p:nvPr/>
        </p:nvPicPr>
        <p:blipFill>
          <a:blip r:embed="rId1"/>
          <a:stretch/>
        </p:blipFill>
        <p:spPr>
          <a:xfrm>
            <a:off x="0" y="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8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22" name="Picture 2" descr="u=552600420,9619380&amp;gp=-14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15960" y="3384720"/>
              <a:ext cx="3048480" cy="33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" descr="u=4225448916,521724184&amp;gp=-34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089160" cy="34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" descr="u=829018411,574900097&amp;gp=-44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096960" y="65520"/>
              <a:ext cx="3046680" cy="336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u=2960557665,619832060&amp;gp=-44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0" y="3458880"/>
              <a:ext cx="3048480" cy="33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6" descr="u=4271427351,1198348798&amp;gp=-24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8480" y="3474360"/>
              <a:ext cx="2967480" cy="33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7" descr="u=761321054,599297309&amp;gp=18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3048480" y="46800"/>
              <a:ext cx="3048480" cy="3398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6"/>
          <p:cNvSpPr/>
          <p:nvPr/>
        </p:nvSpPr>
        <p:spPr>
          <a:xfrm>
            <a:off x="5397480" y="4672080"/>
            <a:ext cx="374652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速度较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3151080" y="4672080"/>
            <a:ext cx="22464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成一个新物种需要漫长的岁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5397480" y="2489040"/>
            <a:ext cx="3746520" cy="21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满足人类的各种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3151080" y="2489040"/>
            <a:ext cx="2246400" cy="21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对生物自身有利的各种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5397480" y="825480"/>
            <a:ext cx="37465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151080" y="825480"/>
            <a:ext cx="2246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界的各种环境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77"/>
          <p:cNvGrpSpPr/>
          <p:nvPr/>
        </p:nvGrpSpPr>
        <p:grpSpPr>
          <a:xfrm>
            <a:off x="-36360" y="825480"/>
            <a:ext cx="3187440" cy="6032520"/>
            <a:chOff x="-36360" y="825480"/>
            <a:chExt cx="3187440" cy="6032520"/>
          </a:xfrm>
        </p:grpSpPr>
        <p:sp>
          <p:nvSpPr>
            <p:cNvPr id="235" name="Rectangle 14"/>
            <p:cNvSpPr/>
            <p:nvPr/>
          </p:nvSpPr>
          <p:spPr>
            <a:xfrm>
              <a:off x="-36360" y="4672080"/>
              <a:ext cx="318744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时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"/>
            <p:cNvSpPr/>
            <p:nvPr/>
          </p:nvSpPr>
          <p:spPr>
            <a:xfrm>
              <a:off x="-36360" y="2489040"/>
              <a:ext cx="318744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选择的结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-36360" y="825480"/>
              <a:ext cx="318744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选择因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6"/>
          <p:cNvGrpSpPr/>
          <p:nvPr/>
        </p:nvGrpSpPr>
        <p:grpSpPr>
          <a:xfrm>
            <a:off x="3151080" y="0"/>
            <a:ext cx="5992920" cy="825480"/>
            <a:chOff x="3151080" y="0"/>
            <a:chExt cx="5992920" cy="825480"/>
          </a:xfrm>
        </p:grpSpPr>
        <p:sp>
          <p:nvSpPr>
            <p:cNvPr id="239" name="Rectangle 7"/>
            <p:cNvSpPr/>
            <p:nvPr/>
          </p:nvSpPr>
          <p:spPr>
            <a:xfrm>
              <a:off x="5397480" y="0"/>
              <a:ext cx="374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人工选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3151080" y="0"/>
              <a:ext cx="224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自然选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5"/>
          <p:cNvSpPr/>
          <p:nvPr/>
        </p:nvSpPr>
        <p:spPr>
          <a:xfrm>
            <a:off x="-36360" y="0"/>
            <a:ext cx="31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-36360" y="0"/>
            <a:ext cx="9180360" cy="360"/>
            <a:chOff x="-36360" y="0"/>
            <a:chExt cx="9180360" cy="360"/>
          </a:xfrm>
        </p:grpSpPr>
        <p:sp>
          <p:nvSpPr>
            <p:cNvPr id="243" name="Line 23"/>
            <p:cNvSpPr/>
            <p:nvPr/>
          </p:nvSpPr>
          <p:spPr>
            <a:xfrm>
              <a:off x="-36360" y="0"/>
              <a:ext cx="9180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-36360" y="0"/>
              <a:ext cx="91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-36360" y="825480"/>
            <a:ext cx="9180360" cy="360"/>
            <a:chOff x="-36360" y="825480"/>
            <a:chExt cx="9180360" cy="360"/>
          </a:xfrm>
        </p:grpSpPr>
        <p:sp>
          <p:nvSpPr>
            <p:cNvPr id="246" name="Line 24"/>
            <p:cNvSpPr/>
            <p:nvPr/>
          </p:nvSpPr>
          <p:spPr>
            <a:xfrm>
              <a:off x="-36360" y="825480"/>
              <a:ext cx="918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-36360" y="825480"/>
              <a:ext cx="91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-36360" y="2489040"/>
            <a:ext cx="9180360" cy="360"/>
            <a:chOff x="-36360" y="2489040"/>
            <a:chExt cx="9180360" cy="360"/>
          </a:xfrm>
        </p:grpSpPr>
        <p:sp>
          <p:nvSpPr>
            <p:cNvPr id="249" name="Line 25"/>
            <p:cNvSpPr/>
            <p:nvPr/>
          </p:nvSpPr>
          <p:spPr>
            <a:xfrm>
              <a:off x="-36360" y="2489040"/>
              <a:ext cx="918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-36360" y="2489040"/>
              <a:ext cx="91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36360" y="4672080"/>
            <a:ext cx="9180360" cy="360"/>
            <a:chOff x="-36360" y="4672080"/>
            <a:chExt cx="9180360" cy="360"/>
          </a:xfrm>
        </p:grpSpPr>
        <p:sp>
          <p:nvSpPr>
            <p:cNvPr id="252" name="Line 26"/>
            <p:cNvSpPr/>
            <p:nvPr/>
          </p:nvSpPr>
          <p:spPr>
            <a:xfrm>
              <a:off x="-36360" y="4672080"/>
              <a:ext cx="918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-36360" y="4672080"/>
              <a:ext cx="91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-36360" y="6858000"/>
            <a:ext cx="9180360" cy="360"/>
            <a:chOff x="-36360" y="6858000"/>
            <a:chExt cx="9180360" cy="360"/>
          </a:xfrm>
        </p:grpSpPr>
        <p:sp>
          <p:nvSpPr>
            <p:cNvPr id="255" name="Line 29"/>
            <p:cNvSpPr/>
            <p:nvPr/>
          </p:nvSpPr>
          <p:spPr>
            <a:xfrm>
              <a:off x="-36360" y="6858000"/>
              <a:ext cx="9180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-36360" y="6858000"/>
              <a:ext cx="91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-36360" y="0"/>
            <a:ext cx="360" cy="6858000"/>
            <a:chOff x="-36360" y="0"/>
            <a:chExt cx="360" cy="6858000"/>
          </a:xfrm>
        </p:grpSpPr>
        <p:sp>
          <p:nvSpPr>
            <p:cNvPr id="258" name="Line 30"/>
            <p:cNvSpPr/>
            <p:nvPr/>
          </p:nvSpPr>
          <p:spPr>
            <a:xfrm>
              <a:off x="-36360" y="0"/>
              <a:ext cx="0" cy="6858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-3636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411280" y="0"/>
            <a:ext cx="360" cy="6858000"/>
            <a:chOff x="2411280" y="0"/>
            <a:chExt cx="360" cy="6858000"/>
          </a:xfrm>
        </p:grpSpPr>
        <p:sp>
          <p:nvSpPr>
            <p:cNvPr id="261" name="Line 31"/>
            <p:cNvSpPr/>
            <p:nvPr/>
          </p:nvSpPr>
          <p:spPr>
            <a:xfrm>
              <a:off x="2411280" y="0"/>
              <a:ext cx="0" cy="685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2411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397480" y="0"/>
            <a:ext cx="360" cy="6858000"/>
            <a:chOff x="5397480" y="0"/>
            <a:chExt cx="360" cy="6858000"/>
          </a:xfrm>
        </p:grpSpPr>
        <p:sp>
          <p:nvSpPr>
            <p:cNvPr id="264" name="Line 32"/>
            <p:cNvSpPr/>
            <p:nvPr/>
          </p:nvSpPr>
          <p:spPr>
            <a:xfrm>
              <a:off x="5397480" y="0"/>
              <a:ext cx="0" cy="685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53974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9144000" y="0"/>
            <a:ext cx="360" cy="6858000"/>
            <a:chOff x="9144000" y="0"/>
            <a:chExt cx="360" cy="6858000"/>
          </a:xfrm>
        </p:grpSpPr>
        <p:sp>
          <p:nvSpPr>
            <p:cNvPr id="267" name="Line 33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91440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C114-5F32-4346-872B-E54F4C0C12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9"/>
          <p:cNvGrpSpPr/>
          <p:nvPr/>
        </p:nvGrpSpPr>
        <p:grpSpPr>
          <a:xfrm>
            <a:off x="-7920" y="0"/>
            <a:ext cx="9151920" cy="6597720"/>
            <a:chOff x="-7920" y="0"/>
            <a:chExt cx="9151920" cy="6597720"/>
          </a:xfrm>
        </p:grpSpPr>
        <p:pic>
          <p:nvPicPr>
            <p:cNvPr id="274" name="Picture 4" descr="965894_5"/>
            <p:cNvPicPr/>
            <p:nvPr/>
          </p:nvPicPr>
          <p:blipFill>
            <a:blip r:embed="rId1"/>
            <a:stretch/>
          </p:blipFill>
          <p:spPr>
            <a:xfrm>
              <a:off x="-7920" y="1190520"/>
              <a:ext cx="9151920" cy="540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5" name="Group 8"/>
            <p:cNvGrpSpPr/>
            <p:nvPr/>
          </p:nvGrpSpPr>
          <p:grpSpPr>
            <a:xfrm>
              <a:off x="174960" y="0"/>
              <a:ext cx="3057840" cy="4579920"/>
              <a:chOff x="174960" y="0"/>
              <a:chExt cx="3057840" cy="4579920"/>
            </a:xfrm>
          </p:grpSpPr>
          <p:sp>
            <p:nvSpPr>
              <p:cNvPr id="276" name="AutoShape 6"/>
              <p:cNvSpPr/>
              <p:nvPr/>
            </p:nvSpPr>
            <p:spPr>
              <a:xfrm flipH="1">
                <a:off x="174960" y="0"/>
                <a:ext cx="3057840" cy="4579920"/>
              </a:xfrm>
              <a:prstGeom prst="cloudCallout">
                <a:avLst>
                  <a:gd name="adj1" fmla="val -60550"/>
                  <a:gd name="adj2" fmla="val 63412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"/>
              <p:cNvSpPr/>
              <p:nvPr/>
            </p:nvSpPr>
            <p:spPr>
              <a:xfrm>
                <a:off x="690480" y="907920"/>
                <a:ext cx="1703880" cy="316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9900cc"/>
                    </a:solidFill>
                    <a:latin typeface="Times New Roman"/>
                    <a:ea typeface="方正魏碑简体"/>
                  </a:rPr>
                  <a:t>我学会了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9900cc"/>
                    </a:solidFill>
                    <a:latin typeface="Times New Roman"/>
                    <a:ea typeface="方正魏碑简体"/>
                  </a:rPr>
                  <a:t>我正在思考呢！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horz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0d8b34d614"/>
          <p:cNvPicPr/>
          <p:nvPr/>
        </p:nvPicPr>
        <p:blipFill>
          <a:blip r:embed="rId1"/>
          <a:stretch/>
        </p:blipFill>
        <p:spPr>
          <a:xfrm>
            <a:off x="0" y="0"/>
            <a:ext cx="16040160" cy="858348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1981080" y="549360"/>
            <a:ext cx="5257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事例分析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~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讨论交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76520"/>
            <a:ext cx="685800" cy="4952880"/>
          </a:xfrm>
          <a:prstGeom prst="rect">
            <a:avLst/>
          </a:prstGeom>
          <a:solidFill>
            <a:srgbClr val="ff99cc">
              <a:alpha val="62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隶书"/>
              </a:rPr>
              <a:t>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隶书"/>
              </a:rPr>
              <a:t>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隶书"/>
              </a:rPr>
              <a:t>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隶书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9480" y="15238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纪的英国曼彻斯特地区，山清水秀绿树成荫。那的树林里生活着一种桦尺蠖，其成虫是一种飞蛾，它们夜间活动，白天栖息在长满地衣的树干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23880" y="40384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85800" y="297180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5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，生物学家来这里考察，发现大多数桦尺蠖成虫的体色是浅色的，只有少数是深色的。深色的桦尺蠖是浅色桦尺蠖在自然条件下的变异类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685800" y="4419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年后，这里变成了工业城市，工厂林立烟雾弥漫，煤烟杀死了地衣，使树皮裸露，并被熏成黑褐色。这时又有一些生物学家来考察，令他们惊讶的是，这里的深色桦尺蠖变成了常见类型，而浅色桦尺蠖却成了少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P58-1"/>
          <p:cNvPicPr/>
          <p:nvPr/>
        </p:nvPicPr>
        <p:blipFill>
          <a:blip r:embed="rId2"/>
          <a:stretch/>
        </p:blipFill>
        <p:spPr>
          <a:xfrm>
            <a:off x="838080" y="8534520"/>
            <a:ext cx="4114800" cy="388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P58-2"/>
          <p:cNvPicPr/>
          <p:nvPr/>
        </p:nvPicPr>
        <p:blipFill>
          <a:blip r:embed="rId3"/>
          <a:stretch/>
        </p:blipFill>
        <p:spPr>
          <a:xfrm>
            <a:off x="5867280" y="8610480"/>
            <a:ext cx="4343400" cy="3733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21040" y="260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数据图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照片1 001"/>
          <p:cNvPicPr/>
          <p:nvPr/>
        </p:nvPicPr>
        <p:blipFill>
          <a:blip r:embed="rId1"/>
          <a:srcRect l="0" t="0" r="-47" b="0"/>
          <a:stretch/>
        </p:blipFill>
        <p:spPr>
          <a:xfrm>
            <a:off x="0" y="885960"/>
            <a:ext cx="9144000" cy="5972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L22T02_13"/>
          <p:cNvPicPr/>
          <p:nvPr/>
        </p:nvPicPr>
        <p:blipFill>
          <a:blip r:embed="rId1"/>
          <a:stretch/>
        </p:blipFill>
        <p:spPr>
          <a:xfrm>
            <a:off x="611280" y="981000"/>
            <a:ext cx="2735280" cy="388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0240"/>
          <p:cNvPicPr/>
          <p:nvPr/>
        </p:nvPicPr>
        <p:blipFill>
          <a:blip r:embed="rId2"/>
          <a:stretch/>
        </p:blipFill>
        <p:spPr>
          <a:xfrm>
            <a:off x="4071960" y="1515960"/>
            <a:ext cx="5076720" cy="5085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5564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达尔文的生物进化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框2"/>
          <p:cNvPicPr/>
          <p:nvPr/>
        </p:nvPicPr>
        <p:blipFill>
          <a:blip r:embed="rId1"/>
          <a:stretch/>
        </p:blipFill>
        <p:spPr>
          <a:xfrm>
            <a:off x="0" y="2349360"/>
            <a:ext cx="8893080" cy="3600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95280" y="2492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黑体"/>
              </a:rPr>
              <a:t>自然界中生物的物种是不断进化的，是不断从低级向高级发展的。自然界进化的规则是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黑体"/>
              </a:rPr>
              <a:t>物竞天择，适者生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黑体"/>
              </a:rPr>
              <a:t>；进化论给神创论以致命的一击，它证明了整个有机界都是长期发展进化过程的产物，并提出人类起源于古猿的观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197000"/>
            <a:ext cx="9144000" cy="360"/>
            <a:chOff x="0" y="1197000"/>
            <a:chExt cx="9144000" cy="360"/>
          </a:xfrm>
        </p:grpSpPr>
        <p:sp>
          <p:nvSpPr>
            <p:cNvPr id="104" name="Line 5"/>
            <p:cNvSpPr/>
            <p:nvPr/>
          </p:nvSpPr>
          <p:spPr>
            <a:xfrm>
              <a:off x="0" y="1197000"/>
              <a:ext cx="9144000" cy="0"/>
            </a:xfrm>
            <a:prstGeom prst="line">
              <a:avLst/>
            </a:prstGeom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0" y="1197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6"/>
          <p:cNvSpPr/>
          <p:nvPr/>
        </p:nvSpPr>
        <p:spPr>
          <a:xfrm>
            <a:off x="539640" y="1413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12016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种起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什么观点震撼了世界？有何历史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611280" y="6174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达尔文的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进化论的中心内容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55640" y="2421000"/>
            <a:ext cx="79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自然选择学说的</a:t>
            </a:r>
            <a:r>
              <a:rPr b="1" lang="zh-CN" sz="4800" spc="-1" strike="noStrike">
                <a:solidFill>
                  <a:srgbClr val="003300"/>
                </a:solidFill>
                <a:latin typeface="Times New Roman"/>
              </a:rPr>
              <a:t>主要内容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838080" y="38926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Times New Roman"/>
              </a:rPr>
              <a:t>过度繁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648320" y="3816360"/>
            <a:ext cx="3047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2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、生存斗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62120" y="4959360"/>
            <a:ext cx="3962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cc33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遗传和变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800600" y="4938840"/>
            <a:ext cx="350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适者生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308720" y="595008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371600" y="1268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自然选择学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199"/>
          <p:cNvSpPr/>
          <p:nvPr/>
        </p:nvSpPr>
        <p:spPr>
          <a:xfrm>
            <a:off x="1233360" y="1969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692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例：大象是一种繁殖很慢的动物，但是如果每一头雌象一生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）产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头，每头活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，而且都能进行繁殖的话，那么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以后，一对象的后代就可达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万头。因此，按照理论上的计算，就是繁殖不是很快的动物、植物，也会在不太长的时期内产生大量的后代而占满整个地球。可见，生物普遍具有很强的生殖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743200" y="228600"/>
            <a:ext cx="47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、生存斗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-108000" y="981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42920" y="142704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生物个体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种或异种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）之间的相互斗争，以及生物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无机自然条件（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如干旱、寒冷）之间的斗争，赖以维持个体生存并繁衍种族的自然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-108000" y="3724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627280" y="36511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生物的过度繁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63640" y="42544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生物赖以生存的生活条件（如食物和空间）有一定的限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9280" y="53802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3)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结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484360" y="5373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大量生物个体死亡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少量生物个体生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5T13:55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06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440b000000000001024120</vt:lpwstr>
  </property>
</Properties>
</file>