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12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433-7511-4430-ADD4-E4CBA7D7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04C-DDCE-4D4B-82E5-94076FFA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B88-7B0D-41F1-8ED3-85316A51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D35-DFEB-4F87-9A76-27E43D4B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CCBD-8269-44A8-B57C-2FAE2B22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CCA6-BDC3-432A-9E82-92E7E34B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50B6-F8EA-4C85-B774-F3B7BE6A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7821-1399-44DC-A1D7-4E26C787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5D51-D952-4D57-B89F-A2F58576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6FDF-EB54-4395-A066-A1B476CF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392-D03B-4CC2-8D54-50DAAC5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449-CBB4-4209-BC06-1476942B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FC18-5141-4C53-9D08-1DF1C045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3B1E-DF06-477D-86E1-608F22E9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5110-8F61-4FA9-8966-FE9AA87E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2F55-5A41-404C-86CB-056AC701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BB43-72EE-4C72-9436-7AAE1751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31A3-93CF-441D-80EC-F0BCB7CE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E5BB-5084-49D3-9D97-BFFC5FAC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DD13-0A9F-43FF-9148-64A12288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A594-4374-4B8F-9420-3BC139A2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B76F-3CC9-4A92-B399-BDE95F26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C0E-26C6-4AA7-93DB-994755F8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B4E9-0067-4F05-9B8A-52BAC1FC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E449-6536-4A0B-86AB-0D1C6C4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FAF1-103B-4EE4-87FC-1DEB76F5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0553-AFDD-4CB5-A658-E21789A4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0CB2-BA8A-4C57-A7A8-EECC17D3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2380-973B-4667-A93F-EB35DFC4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4EF1-0DC9-4BD2-A3A2-1D9CDDBD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6981A-90DF-435E-9511-2740F00D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88E5-4DBC-46CC-8460-7554B670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07CD-181A-423C-90E2-25606563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E32-BBDA-4C5C-9FEA-08C6E673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5E033-A9EF-42C1-B876-F7C8B564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703F-9A2A-4512-8358-E84EC7A7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DE9A-79C9-4D25-8E4B-66FE3AA5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11BE-165C-4D55-A8FD-9022430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C387-D07B-4E22-A73D-275B91B6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106B-45B2-4B80-A15B-59E29246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E325-F51E-4FBD-AD72-A678D365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FC21F-F584-4D1A-A466-C62F7E43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DA85-FE9E-492F-A562-D341CC13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C51-504B-4E3A-B558-C87726AF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5EA-2698-41B0-AC47-8552C210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B8E-3042-4F73-8CB4-5807212D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1F5-C762-434B-9828-4865D8A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A71-D306-49C5-AA38-5F559238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9FF1-2100-4CEC-B6E0-D30FDCEFC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881-62FB-41AA-9D18-4F2C0C7D9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4B68-31BC-41F0-8F43-9D594B6DA2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7434-BBB6-4FAE-A794-BE2745EA9F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主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652320" y="6012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文本框 1" descr=""/>
          <p:cNvPicPr/>
          <p:nvPr/>
        </p:nvPicPr>
        <p:blipFill>
          <a:blip r:embed="rId2"/>
          <a:stretch/>
        </p:blipFill>
        <p:spPr>
          <a:xfrm>
            <a:off x="965160" y="127080"/>
            <a:ext cx="737388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395280" y="1557360"/>
            <a:ext cx="81374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维生素也称维他命，是人体不可缺少的一种营养素，是人体维持正常代谢和机能所必须的一类低分子化合物。它是人体六大营养要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糖、脂肪、蛋白质、盐类、维生素和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之一，大多数必须从食物中获得，仅少数可在人体内合成或由肠道细菌产生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人体每日对维生素的需要量甚微，但如果缺乏，则可引起一类特殊的疾病，称为“维生素缺乏症”。因为维生素跟酶类一起参与肌体的新陈代谢，能使肌体的机能得到有效的调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各种蔬菜、水果中含有丰富的维生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矿物质又称无机盐，有调节身体机能的作用。人体其实是由各种元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量元素和微量元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成的。其中很多矿物质元素为酶的必需组分，可调节多种生理功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维持渗透压、氧气转运、肌肉收缩、神经系统完整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也是身体组织和骨骼生长及维持所必需的。有些矿物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钙、磷、钠、镁、硫、氯化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含量较大，有些则仅含微量。人类必需的微量元素有铜、氟、碘、铁、锌、铬、硒、锰、钥。大多数矿物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锌除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广泛分布于各种食品中，可以在平衡和多样化的膳食中得到充分补充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食盐、各种蔬菜、水果中含有丰富的矿物质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332000" y="83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e4a8"/>
                </a:solidFill>
                <a:latin typeface="Arial"/>
                <a:ea typeface="宋体"/>
              </a:rPr>
              <a:t>小资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33240" y="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几种维生素缺乏时的症状和食物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79280" y="1484280"/>
          <a:ext cx="8712360" cy="5118120"/>
        </p:xfrm>
        <a:graphic>
          <a:graphicData uri="http://schemas.openxmlformats.org/drawingml/2006/table">
            <a:tbl>
              <a:tblPr/>
              <a:tblGrid>
                <a:gridCol w="2846520"/>
                <a:gridCol w="2589120"/>
                <a:gridCol w="3276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的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缺乏时的症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食物来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皮肤干燥、夜盲症、干眼症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神经炎、脚气病、消化不良、食欲不振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坏血病、抵抗力下降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维生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佝偻病、骨质疏松症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Rectangle 29"/>
          <p:cNvSpPr/>
          <p:nvPr/>
        </p:nvSpPr>
        <p:spPr>
          <a:xfrm>
            <a:off x="5651640" y="4867200"/>
            <a:ext cx="324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柑橘类和番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清椒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菠菜、马铃薯中亦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5651640" y="3716280"/>
            <a:ext cx="31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豆类、糙米、牛奶、家禽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5580000" y="5805360"/>
            <a:ext cx="33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牛奶、蛋黄、沙丁鱼、肝脏、鱼子酱、鱼肝油、乳油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6227640" y="1987560"/>
            <a:ext cx="313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5653080" y="2060640"/>
            <a:ext cx="3095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牛肝、鸡肝、黄油及奶制品、鱼卵和蛋；胡萝卜、菠菜、小白菜、香菜、西红柿、芦笋、花菜、柿子、桃、杏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6634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几种无机盐的缺乏症状和食物来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692280"/>
          <a:ext cx="8821800" cy="5956200"/>
        </p:xfrm>
        <a:graphic>
          <a:graphicData uri="http://schemas.openxmlformats.org/drawingml/2006/table">
            <a:tbl>
              <a:tblPr/>
              <a:tblGrid>
                <a:gridCol w="2087640"/>
                <a:gridCol w="2160360"/>
                <a:gridCol w="4573800"/>
              </a:tblGrid>
              <a:tr h="50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无机盐的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缺乏时的症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食物来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钙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佝偻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鸡胸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形或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形腿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；特别是中老年妇女缺钙易骨质疏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磷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厌食、贫血、肌无力、骨痛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铁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缺铁性贫血（乏力、头晕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碘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微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地方性甲状腺肿，儿童智力和体格发育障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含锌的无机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微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生长发育不良、味觉发生障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33"/>
          <p:cNvSpPr/>
          <p:nvPr/>
        </p:nvSpPr>
        <p:spPr>
          <a:xfrm>
            <a:off x="6372360" y="1773360"/>
            <a:ext cx="2008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4"/>
          <p:cNvSpPr/>
          <p:nvPr/>
        </p:nvSpPr>
        <p:spPr>
          <a:xfrm>
            <a:off x="6372360" y="3141720"/>
            <a:ext cx="2008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4932360" y="1484280"/>
            <a:ext cx="3313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奶和奶制品、牡蛎、胰腺、肝、谷、粗粮、干豆、坚果、蛋、肉、鱼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4427640" y="3645000"/>
            <a:ext cx="45720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海带、黑木耳、紫菜、香菇和芝麻酱；其次是动物的内脏、血、瘦肉；黄豆、蚕豆、豇豆等；干鲜果品中桃、红枣、杨梅、葡萄干、桂圆、松子仁、南瓜子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7"/>
          <p:cNvSpPr/>
          <p:nvPr/>
        </p:nvSpPr>
        <p:spPr>
          <a:xfrm>
            <a:off x="4572000" y="2637000"/>
            <a:ext cx="457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含蛋白质多的食物如鱼、虾、蛋、瘦肉、内脏、干豆类、杏仁、核桃、南瓜子等，磷的含量都很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8"/>
          <p:cNvSpPr/>
          <p:nvPr/>
        </p:nvSpPr>
        <p:spPr>
          <a:xfrm>
            <a:off x="4572000" y="4941720"/>
            <a:ext cx="45720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动物食品、海产品；蛋、奶次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4572000" y="5950080"/>
            <a:ext cx="457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海盐和海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826920" y="4869000"/>
            <a:ext cx="3399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宋体"/>
              </a:rPr>
              <a:t>佝偻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10178192411"/>
          <p:cNvPicPr/>
          <p:nvPr/>
        </p:nvPicPr>
        <p:blipFill>
          <a:blip r:embed="rId1"/>
          <a:stretch/>
        </p:blipFill>
        <p:spPr>
          <a:xfrm>
            <a:off x="2916360" y="1916280"/>
            <a:ext cx="1655640" cy="2330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jzxjj"/>
          <p:cNvPicPr/>
          <p:nvPr/>
        </p:nvPicPr>
        <p:blipFill>
          <a:blip r:embed="rId2"/>
          <a:stretch/>
        </p:blipFill>
        <p:spPr>
          <a:xfrm>
            <a:off x="5724360" y="1933560"/>
            <a:ext cx="2448000" cy="192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9[1]"/>
          <p:cNvPicPr/>
          <p:nvPr/>
        </p:nvPicPr>
        <p:blipFill>
          <a:blip r:embed="rId3"/>
          <a:stretch/>
        </p:blipFill>
        <p:spPr>
          <a:xfrm>
            <a:off x="250920" y="1444680"/>
            <a:ext cx="2278080" cy="32083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5292720" y="4869000"/>
            <a:ext cx="3398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ahoma"/>
                <a:ea typeface="宋体"/>
              </a:rPr>
              <a:t>甲状腺肿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Tahoma"/>
                <a:ea typeface="宋体"/>
              </a:rPr>
              <a:t>大脖子病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042920" y="3230640"/>
            <a:ext cx="7056360" cy="11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水，也是构成人体的主要成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的血液里、肌肉里都有水，占体重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0%-70%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水是人体不可缺少的重要物质，是细胞的主要组成部分。人体的各种生理活动都不能离开水。例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营养成分经过消化后分解成的各种物质，都需要溶解在水里才能够被吸收；大部分废物都要溶解在水里，才能够被排出体外。水一方面不断地随着食物和饮料进人人体，一方面又不断地随着废物排出体外，身体里的水常常要保持一定的平衡，如果失去平衡，各种生理活动就会发生障碍，甚至危及生命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早餐：鸡蛋 面包 牛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午餐：青椒炒肉丝 鱼 青菜汤 米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晚餐：玉米粥 包子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1844640"/>
          <a:ext cx="8964720" cy="5013360"/>
        </p:xfrm>
        <a:graphic>
          <a:graphicData uri="http://schemas.openxmlformats.org/drawingml/2006/table">
            <a:tbl>
              <a:tblPr/>
              <a:tblGrid>
                <a:gridCol w="1158840"/>
                <a:gridCol w="1322280"/>
                <a:gridCol w="1351080"/>
                <a:gridCol w="1338120"/>
                <a:gridCol w="1339920"/>
                <a:gridCol w="1335240"/>
                <a:gridCol w="1119240"/>
              </a:tblGrid>
              <a:tr h="1292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蛋白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糖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脂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维生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矿物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早餐：鸡蛋 面包 牛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午餐：青椒炒肉丝 鱼 青菜汤 米饭                   晚餐：米粥 包子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700280"/>
          <a:ext cx="8964720" cy="4809960"/>
        </p:xfrm>
        <a:graphic>
          <a:graphicData uri="http://schemas.openxmlformats.org/drawingml/2006/table">
            <a:tbl>
              <a:tblPr/>
              <a:tblGrid>
                <a:gridCol w="1158840"/>
                <a:gridCol w="1322280"/>
                <a:gridCol w="1227240"/>
                <a:gridCol w="1440000"/>
                <a:gridCol w="1361880"/>
                <a:gridCol w="1335240"/>
                <a:gridCol w="1119240"/>
              </a:tblGrid>
              <a:tr h="133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蛋白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糖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脂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维生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矿物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鸡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牛奶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面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牛奶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肉丝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米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肉丝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青椒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青菜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青椒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青菜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汤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黑体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米粥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包子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米粥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3204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1908000" y="4292640"/>
            <a:ext cx="53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馨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注意挤压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注意区分每种食物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实验完毕，材料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340000" y="306864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3206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3206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3206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"/>
          <p:cNvSpPr/>
          <p:nvPr/>
        </p:nvSpPr>
        <p:spPr>
          <a:xfrm>
            <a:off x="3564000" y="189000"/>
            <a:ext cx="51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馨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使用试管时注意轻拿轻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滴液时试管头部与食物不能相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199"/>
          <p:cNvSpPr/>
          <p:nvPr/>
        </p:nvSpPr>
        <p:spPr>
          <a:xfrm>
            <a:off x="2014560" y="5878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179280" y="0"/>
            <a:ext cx="6840360" cy="849240"/>
            <a:chOff x="179280" y="0"/>
            <a:chExt cx="6840360" cy="849240"/>
          </a:xfrm>
        </p:grpSpPr>
        <p:sp>
          <p:nvSpPr>
            <p:cNvPr id="239" name="AutoShape 3"/>
            <p:cNvSpPr/>
            <p:nvPr/>
          </p:nvSpPr>
          <p:spPr>
            <a:xfrm>
              <a:off x="179280" y="87480"/>
              <a:ext cx="584424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dd712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392760" y="0"/>
              <a:ext cx="662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辨别食物中的营养成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5" descr="15098_more3"/>
          <p:cNvPicPr/>
          <p:nvPr/>
        </p:nvPicPr>
        <p:blipFill>
          <a:blip r:embed="rId1"/>
          <a:stretch/>
        </p:blipFill>
        <p:spPr>
          <a:xfrm>
            <a:off x="1476360" y="907920"/>
            <a:ext cx="583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5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想一想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16000" y="1773000"/>
            <a:ext cx="77724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食物中含有哪些营养成分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含有这些营养成分的食物有哪些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这些营养成分对我们人体有哪些作用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Oval 2"/>
          <p:cNvSpPr/>
          <p:nvPr/>
        </p:nvSpPr>
        <p:spPr>
          <a:xfrm>
            <a:off x="685800" y="380880"/>
            <a:ext cx="3657600" cy="83844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68360" y="2514600"/>
            <a:ext cx="8001000" cy="1434600"/>
            <a:chOff x="468360" y="2514600"/>
            <a:chExt cx="8001000" cy="1434600"/>
          </a:xfrm>
        </p:grpSpPr>
        <p:pic>
          <p:nvPicPr>
            <p:cNvPr id="244" name="Picture 4" descr="BD14565_"/>
            <p:cNvPicPr/>
            <p:nvPr/>
          </p:nvPicPr>
          <p:blipFill>
            <a:blip r:embed="rId1"/>
            <a:stretch/>
          </p:blipFill>
          <p:spPr>
            <a:xfrm>
              <a:off x="468360" y="2666880"/>
              <a:ext cx="457200" cy="456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245" name="Text Box 5"/>
            <p:cNvSpPr/>
            <p:nvPr/>
          </p:nvSpPr>
          <p:spPr>
            <a:xfrm>
              <a:off x="1230480" y="2514600"/>
              <a:ext cx="723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们小学生正处在生长发育时期，为使自己身体健康，我们吃饭时应注意什么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6" descr="BD14578_"/>
          <p:cNvPicPr/>
          <p:nvPr/>
        </p:nvPicPr>
        <p:blipFill>
          <a:blip r:embed="rId2"/>
          <a:stretch/>
        </p:blipFill>
        <p:spPr>
          <a:xfrm>
            <a:off x="6781680" y="4876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思考　"/>
          <p:cNvPicPr/>
          <p:nvPr/>
        </p:nvPicPr>
        <p:blipFill>
          <a:blip r:embed="rId3"/>
          <a:stretch/>
        </p:blipFill>
        <p:spPr>
          <a:xfrm>
            <a:off x="46483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草莓"/>
          <p:cNvPicPr/>
          <p:nvPr/>
        </p:nvPicPr>
        <p:blipFill>
          <a:blip r:embed="rId4"/>
          <a:stretch/>
        </p:blipFill>
        <p:spPr>
          <a:xfrm>
            <a:off x="609480" y="5562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苹果"/>
          <p:cNvPicPr/>
          <p:nvPr/>
        </p:nvPicPr>
        <p:blipFill>
          <a:blip r:embed="rId5"/>
          <a:stretch/>
        </p:blipFill>
        <p:spPr>
          <a:xfrm>
            <a:off x="7620120" y="5791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红蘑菇"/>
          <p:cNvPicPr/>
          <p:nvPr/>
        </p:nvPicPr>
        <p:blipFill>
          <a:blip r:embed="rId6"/>
          <a:stretch/>
        </p:blipFill>
        <p:spPr>
          <a:xfrm>
            <a:off x="4343400" y="5329080"/>
            <a:ext cx="1219320" cy="1094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草莓"/>
          <p:cNvPicPr/>
          <p:nvPr/>
        </p:nvPicPr>
        <p:blipFill>
          <a:blip r:embed="rId7"/>
          <a:stretch/>
        </p:blipFill>
        <p:spPr>
          <a:xfrm>
            <a:off x="144792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草莓"/>
          <p:cNvPicPr/>
          <p:nvPr/>
        </p:nvPicPr>
        <p:blipFill>
          <a:blip r:embed="rId8"/>
          <a:stretch/>
        </p:blipFill>
        <p:spPr>
          <a:xfrm>
            <a:off x="198108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55E1-D08E-419A-8F2A-0FE74BA317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900000" y="333360"/>
            <a:ext cx="7239240" cy="60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注意讲究营养卫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合理饮食很重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蔬菜水果少不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大豆牛奶天天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鱼肉禽蛋要适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少吃肥肉和荤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合理饮食儿歌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新鲜洁净要记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3205D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3205D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539640" y="907920"/>
            <a:ext cx="807732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是人体肌肉、皮肤、内脏、头发、指甲和血液的主要成分；它是构成身体细胞的基本材料，用于机体生长发育、衰老组织更新、损伤组织修补，以及各种生理功能的需要。生命的产生、存在与消亡，无一不与蛋白质有关。所以说，蛋白质是生命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含有丰富蛋白质的食物举例：瘦肉、奶、蛋、鱼、豆制品、坚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1187280" y="765000"/>
            <a:ext cx="2514600" cy="609840"/>
          </a:xfrm>
          <a:prstGeom prst="ellipse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小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姑娘1"/>
          <p:cNvPicPr/>
          <p:nvPr/>
        </p:nvPicPr>
        <p:blipFill>
          <a:blip r:embed="rId1"/>
          <a:stretch/>
        </p:blipFill>
        <p:spPr>
          <a:xfrm>
            <a:off x="7238880" y="304920"/>
            <a:ext cx="1027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32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11280" y="1628640"/>
            <a:ext cx="8076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糖类的主要功能是供给生命活动所需要的能量。一般来说，人体所需要的能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是由糖类氧化分解提供的。在我们每天吃的食物中，糖类常常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，其中主要是淀粉。糖类也是细胞的组成部分，例如细胞核中染色体的重要组成部分是核糖和脱氧核糖。淀粉也是糖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吃的粮食，如米、麦、玉米、高粱、甘薯等，其主要成分都是淀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1187280" y="765000"/>
            <a:ext cx="2514600" cy="609840"/>
          </a:xfrm>
          <a:prstGeom prst="ellipse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小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姑娘1"/>
          <p:cNvPicPr/>
          <p:nvPr/>
        </p:nvPicPr>
        <p:blipFill>
          <a:blip r:embed="rId1"/>
          <a:stretch/>
        </p:blipFill>
        <p:spPr>
          <a:xfrm>
            <a:off x="7238880" y="304920"/>
            <a:ext cx="1027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3203D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84360" y="944640"/>
            <a:ext cx="807696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脂肪俗称油脂。按来源可分动物油脂和植物油脂两大类。脂肪是人体的重要组成部分，又是含热量最高的营养物质。脂肪是由碳、氢、氧元素所组成的一种很重要的化合物。有的脂肪中还含有磷和氮元素，是机体细胞建成、转化和生长必不可少的物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脂肪的主要功能是供给热量，其提供的热量较相同质量的蛋白质和碳水化合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糖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一倍。此外，脂肪还提供人体所需的“必需脂肪酸”。脂肪酸的种类很多，可分为饱和、单不饱和与多不饱和脂肪酸三大类。脂肪在人体营养中具有重要地位，人体所需总能量是由脂肪所提供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富含脂肪的食物有植物油、动物油、肥肉、巧克力、花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1042920" y="549360"/>
            <a:ext cx="2514600" cy="609480"/>
          </a:xfrm>
          <a:prstGeom prst="ellipse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小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姑娘1"/>
          <p:cNvPicPr/>
          <p:nvPr/>
        </p:nvPicPr>
        <p:blipFill>
          <a:blip r:embed="rId1"/>
          <a:stretch/>
        </p:blipFill>
        <p:spPr>
          <a:xfrm>
            <a:off x="7238880" y="304920"/>
            <a:ext cx="102708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8199"/>
          <p:cNvSpPr/>
          <p:nvPr/>
        </p:nvSpPr>
        <p:spPr>
          <a:xfrm>
            <a:off x="1817640" y="1434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3202D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23:11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23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