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8.png" ContentType="image/png"/>
  <Override PartName="/ppt/media/type.wav" ContentType="audio/x-wav"/>
  <Override PartName="/ppt/media/image6.jpeg" ContentType="image/jpeg"/>
  <Override PartName="/ppt/media/image27.jpeg" ContentType="image/jpeg"/>
  <Override PartName="/ppt/media/image7.jpeg" ContentType="image/jpeg"/>
  <Override PartName="/ppt/media/applause.wav" ContentType="audio/x-wav"/>
  <Override PartName="/ppt/media/image5.png" ContentType="image/png"/>
  <Override PartName="/ppt/media/image10.jpeg" ContentType="image/jpeg"/>
  <Override PartName="/ppt/media/image21.jpeg" ContentType="image/jpeg"/>
  <Override PartName="/ppt/media/chimes.wav" ContentType="audio/x-wav"/>
  <Override PartName="/ppt/media/drumroll.wav" ContentType="audio/x-wav"/>
  <Override PartName="/ppt/media/image26.wmf" ContentType="image/x-wmf"/>
  <Override PartName="/ppt/media/image15.jpeg" ContentType="image/jpeg"/>
  <Override PartName="/ppt/media/image16.jpeg" ContentType="image/jpeg"/>
  <Override PartName="/ppt/media/laser.wav" ContentType="audio/x-wav"/>
  <Override PartName="/ppt/media/image3.png" ContentType="image/png"/>
  <Override PartName="/ppt/media/carbrake.wav" ContentType="audio/x-wav"/>
  <Override PartName="/ppt/media/image17.jpeg" ContentType="image/jpeg"/>
  <Override PartName="/ppt/media/image9.jpeg" ContentType="image/jpeg"/>
  <Override PartName="/ppt/media/image11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18.jpeg" ContentType="image/jpeg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3D8-6B4F-4247-806A-94FD810E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ADE-601F-4DDE-8FD2-30795B45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A5C30-6CD7-40FB-A052-F18BBD9E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2F277-2F19-4D0D-8178-D04D6D05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B4BFB-CAD4-4BCD-8B29-58DA1C31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8C515-B1E0-4120-88F8-537A14AC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67EC5-7373-4896-95EE-DB06268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8B262-6BD2-42A3-A38C-2531248E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EBCB0-3605-492F-A82A-9A54CD5C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B8CA5-813C-4FC7-9E7C-5E7F592F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2941E-2F80-421F-8D29-DCD18869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23792-3E24-4D1A-B81F-5A331E8F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A6E-354B-491E-99E5-0EE12FE6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E2E55-8536-4216-A982-FC4A851B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CC8FD-907E-4826-83F5-075D56B6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588B7-10D5-456A-850B-8C078778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62888-E0DA-4E3B-8902-2F58053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4B0C1-5A4C-4DE9-BB10-54390A16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9B386-2A52-4C9A-942D-E641731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5BE9B-0856-4324-9079-5817EFD3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CC1DA-834E-4C0D-87DB-ACFFB98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5962E-9F9B-4FE9-9978-671957B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13835-2FAE-4B5D-AE01-09255939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207-F736-41A3-B6A5-408059E3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84BA2-D2D3-4191-89DA-502B59AD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2E7EF-0205-405A-9A2A-F46F3ECB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18179-E7AF-4EE5-B7D7-2650DC1F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CD234-9319-4306-BA89-640438E2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DF56E-844E-4629-9709-16B1B220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4B160-0755-418F-A175-77D0E95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396D0-E803-4AB0-903D-FD99790C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7F96D-E684-4A09-AA9B-9D7B7306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C4814-A4E9-4E8E-BB19-C871DAE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1AF76-C452-47EC-80A7-F532F540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1EB1-EF81-4831-A05D-D1B13E76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542A3-BD0B-4E8E-8CA5-E224DA8F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CBA9F-2923-4F2F-958F-87E1DE2C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05AAA-F544-45EE-9F7E-F06D6009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ABC14-521B-4E2D-A82D-DD49FA62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E0546-3F46-456F-BE67-C61C7D91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22B7D-01C9-4B51-A189-FC69F93D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9EF1B-6F57-4393-A7A6-668953FB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0A4CB-E106-4744-B2E3-2E54DD2F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40DB2-88BD-4054-BC5C-AA793A3D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65869-036E-4E5A-BA91-A7C564A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9DB3-F020-4361-B50C-B82415C0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02FF2-47B9-4BD8-96EA-CCD9CCA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359BE-9DC1-4255-884A-D70F384C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6EE77-C7F8-40AA-BF65-E4901784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D94A8-5149-40E5-A6A3-83960FC3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62849-DE51-4BAB-8444-2F077A5C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3CBA7-EF5E-4A3D-B676-90BE6CF2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53B57-E617-4A7B-8D09-A35FB813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052CB-28C8-4D98-BA27-A5052BBF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E6BBA-8B8D-41C1-83DD-B3EF835B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3BD2C-1529-430D-AF7B-A315ECF8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135A-CBE5-47B9-8F5F-91B31EFD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7A0E2-8C67-44D4-B98C-2355E344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D9C45-E16F-40D2-9C5D-5F51EA7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FC536-370C-4EDF-8BEC-95D4E99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9B88F-9EDE-4D54-9C49-D6B5EFBE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C13F5-56FC-4543-910A-187BC2D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810D5-9AAA-4C5B-9EF2-C6899265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25C29-1ED8-4A4D-B99B-3EF041B5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28B65-DF22-4874-B8B0-B9ED7930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1938C-06AE-4801-AEE7-A7E21264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066E5-B8D5-4F9D-BCFA-F095A392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4B52-E543-4EE2-BCDB-A42C553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0EFC8-EEAD-49BE-9729-BB242108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28A07-8CA9-4351-8E59-1EC30C03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F2EDA-3BAA-4BCA-A970-3BADDAFB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C59DF-E3CC-44F8-AC93-E6417739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A47FC-5F15-4357-A68D-55A474AA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D94969-9BBF-4363-B47B-9D8ADAD8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876827-4357-4564-AF84-0E7242EE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CD5EE-6544-4933-A730-7EF728CE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A96E6-A357-493F-9BE6-A9348E47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2870F-17E7-470C-8225-AF3508A4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82D7-049F-456B-852E-41AC950A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18B60-86A3-4C13-A2E5-76A0E46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A185F-3CC7-49B1-9C71-4BA47B1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D1113-78D1-42CD-8AC8-133D1CE6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2AE1F-8997-468F-B63F-0DFEFB35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C7EA5-AC70-4249-A2EB-E949416E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C57BD-F76F-43C3-879B-5B19FD62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8F288-D934-469D-9842-5529AC17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0F506-2407-452D-9AAE-1F5F922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62215-4724-4E75-98D5-079D76FA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50C4D-CE59-486D-955D-9B7FC8B4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B18-C295-42FC-8DA3-FF8F4A21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ACE23-F98D-4DB7-9C5E-451A44D8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29C33-71B5-494B-AF47-100156C5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CD690-D6FA-4E78-BEE2-7FB768F6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0F8E1-7FE5-4AAF-AFD4-7857D106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B6CEC-5285-486D-BF30-DD3F12F9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9DA55-CE8B-4641-975E-E00AE699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A083C-695F-4E61-9B7C-B53112DE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9DE16-C04E-4642-AE3F-DECFBBE5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8EAD6-BCF8-4C06-B09B-9F2AA79F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DFB0F-F2D1-4227-A042-8E75B2CD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9BD1-2872-4576-91DE-7E00590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D7879-8F51-4AC7-9378-F07D38CA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99B07-3CFA-4E3D-BDC8-7007209F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C3898-B2F0-4C47-8D0E-39BC32CF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60F-00F3-4CF3-9F7E-C28EB779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6E33-08E5-4AD4-A15A-0D42769F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2402-DBDF-4599-A75D-BA96732C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64A9-38B4-422E-9002-8438DF29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2189-1B23-401C-868D-56B530BB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60F8-AA2A-43AE-8496-B76C8856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656F3-6C8F-4C19-86BC-D1B00582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ED12-6BD7-4149-9676-F94CCD11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B78B-8F20-48ED-B864-4518717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8314B-220A-431F-977B-829ED870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8432-0FDC-4290-B50C-E85AD46C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4BC-7AB9-48E7-BE2A-6DAAC10C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4CBE-4A9B-4399-869C-E73B9AF2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7D34-4F2A-436A-8170-82FD221C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C05D-BB21-4544-B362-FBB43420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4FFD-D00B-4C42-ABD3-79826284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7DC8-A35F-47A9-906E-8F4FE2F0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66C8-C3BC-4D9B-AE69-D492DB73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AFD7D-AD79-437B-9603-8507381C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CF60-AD9F-4861-9B62-C3C9FF3E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ABE67-4BDD-404D-B125-38FAA62D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4B0A-8606-4ACE-A05D-CCF4A7AE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9E9-C1DF-407D-98A6-B256058B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03F4-07DC-4580-94C9-6ED68E12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93FA-A746-4BF1-A341-308474B1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D8EE-244C-4E5C-93BB-4FC8AB4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D313-74B8-4F72-B9FF-EA80A707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E246-5D38-44DD-A7C6-0E690A6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D02B-4084-4FA3-9ED6-F67ED521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0C3F-D4A6-4648-BE96-9D3E285B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B5415-49EB-4935-A53F-1657786B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B52CB-7E42-4C1A-B245-94197D92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51D1-D12A-4E57-A7A2-0A843537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DC2-2FD4-4E40-BEB3-34E4645B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8CBB0-5285-4685-AD28-6A95A6A6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D726-A842-491E-AD0A-ADCF981C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D71E-8151-4C9D-9BB4-0B21D581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F0E8F-D34B-4361-A3C5-12072B7C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B5D6-1902-4864-933A-A3CB8BE1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F30A-3CAC-4735-A4B9-838E229E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0BE53-D8FA-4E05-96BD-CB90AF00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B44AF-2C98-4185-9509-122E210A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20186-B81A-42CB-8DD3-C0D26C66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18720-97E1-43D5-AF0C-1D124B8C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974-7EDE-4E46-A4DA-DA1D95EC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A051-B0BF-440E-A1BD-8A8F7D02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8CB58-89DF-4D66-A6D5-56F6484A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166B-3B44-44B2-B77C-D4F6636B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B192B-D9E4-4305-B8ED-581CF7CC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0D452-8AC6-4B60-8C00-7FF78CFB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D0BC-CF27-4E42-99E4-DC7FAAB2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6150D-4F14-4047-BC6B-50611C9B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1482-971F-47DC-ABF7-362C00A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9F606-D1C7-4901-B3A6-5A699AD9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FEAD9-F990-4EBA-9CAC-D16FE73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1AD-55B4-48DC-AB80-141C8CC5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55AA-C8F3-4349-B097-A680F94B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70404-F20C-4E45-9F12-3A1AF5BB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AEADC-12E0-4A3E-A960-D2DEE0B8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091B4-2B6E-4D9B-9D26-C5198A96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A91C-FBC8-4383-AD8F-771254AA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77AA1-6B82-4B0B-8D77-2DD8CBF9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94E0E-177B-41A0-A283-4E418D50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D66A-06B5-45BE-A098-BFAB360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CBC4-1A0B-4D46-8082-E272025B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59925-E0E1-4F6F-BE25-6023786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07F-89C4-4005-BCF4-0A6320B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A28A-EAC4-44A4-9428-16FC6D5D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C6BF1-3B13-436D-823C-8EA2D5E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3C28-97B6-4EFD-8FE9-24473A85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DAF1F-FC6F-4F4A-ADF9-7C8CA926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14D8A-F455-464D-A7F5-ECD4C83F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E4409-F112-4A86-8ADA-D647034B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3D6D6-423A-4FB0-9C23-DBF6D253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F26EE-32C0-4011-9517-4FE3A9D0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A4B26-BC02-4C1F-8B99-BF359E5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AF12A-71D6-4706-B907-637E0BCD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C5B-88B6-4C12-ACB2-A07129D1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A3FB3-8735-4516-AA86-C2DAE1E6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F0CE4-84A3-4352-B20C-71C8CF3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33C6-CF9A-4664-88B8-591379E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68197-06AC-4690-86C1-0AE961B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449C0-A8CA-4E4A-8D9A-CF0C4DB9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17283-9906-4D3A-B152-2B560B59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A7C1A-FFB8-491F-BFDE-6FD791D9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1D89F-64D2-43E8-9598-2F49A176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643A6-831C-43F0-A06D-627D5CF3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E362E-6FEA-4CB1-BD85-38D3D041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42C0-4D20-423E-9ABD-E7BEA2A6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EA8E-89D0-481B-A74A-AFB6594B6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3B4B-AB45-4696-AFA9-D4D991940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DB3C-3951-4B90-BAEE-1D503CDC9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D657-24D8-43A2-A85D-44B236421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F487-1B10-4A03-9244-BE8341AF9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D2EB-FC23-4C76-AF6A-8EAC0AA0E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68F4-2A78-46E6-BFBA-6AEF39C0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09A-9280-44D3-9468-705D23D922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08B4-9C09-45C4-9A94-E1EE3781E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FA21-0883-452D-88CD-E8F76D141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5474-A911-456A-B67D-E88FF4D1E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C7B5-C925-41F4-913B-4B029656D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E5E0-0F9A-4474-976C-13936ABD1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3CFD-BFC3-4401-AE0A-745FA3192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26B7-2659-4AFA-BC8C-AC04CDEEA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300,25,&#24187;&#28783;&#29255; 25" TargetMode="External"/><Relationship Id="rId3" Type="http://schemas.openxmlformats.org/officeDocument/2006/relationships/hyperlink" Target="300,25,&#24187;&#28783;&#29255; 25" TargetMode="External"/><Relationship Id="rId4" Type="http://schemas.openxmlformats.org/officeDocument/2006/relationships/hyperlink" Target="299,26,&#24187;&#28783;&#29255; 26" TargetMode="External"/><Relationship Id="rId5" Type="http://schemas.openxmlformats.org/officeDocument/2006/relationships/hyperlink" Target="299,26,&#24187;&#28783;&#29255; 26" TargetMode="External"/><Relationship Id="rId6" Type="http://schemas.openxmlformats.org/officeDocument/2006/relationships/hyperlink" Target="275,27,&#24187;&#28783;&#29255; 27" TargetMode="External"/><Relationship Id="rId7" Type="http://schemas.openxmlformats.org/officeDocument/2006/relationships/hyperlink" Target="275,27,&#24187;&#28783;&#29255; 27" TargetMode="External"/><Relationship Id="rId8" Type="http://schemas.openxmlformats.org/officeDocument/2006/relationships/hyperlink" Target="301,32,&#24187;&#28783;&#29255; 32" TargetMode="External"/><Relationship Id="rId9" Type="http://schemas.openxmlformats.org/officeDocument/2006/relationships/hyperlink" Target="301,32,&#24187;&#28783;&#29255; 32" TargetMode="External"/><Relationship Id="rId10" Type="http://schemas.openxmlformats.org/officeDocument/2006/relationships/hyperlink" Target="274,28,&#24187;&#28783;&#29255; 28" TargetMode="External"/><Relationship Id="rId11" Type="http://schemas.openxmlformats.org/officeDocument/2006/relationships/hyperlink" Target="274,28,&#24187;&#28783;&#29255; 28" TargetMode="External"/><Relationship Id="rId12" Type="http://schemas.openxmlformats.org/officeDocument/2006/relationships/hyperlink" Target="288,29,&#24187;&#28783;&#29255; 29" TargetMode="External"/><Relationship Id="rId13" Type="http://schemas.openxmlformats.org/officeDocument/2006/relationships/hyperlink" Target="288,29,&#24187;&#28783;&#29255; 29" TargetMode="External"/><Relationship Id="rId14" Type="http://schemas.openxmlformats.org/officeDocument/2006/relationships/hyperlink" Target="289,30,&#24187;&#28783;&#29255; 30" TargetMode="External"/><Relationship Id="rId15" Type="http://schemas.openxmlformats.org/officeDocument/2006/relationships/hyperlink" Target="289,30,&#24187;&#28783;&#29255; 30" TargetMode="External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81,8,&#24187;&#28783;&#29255; 8" TargetMode="External"/><Relationship Id="rId2" Type="http://schemas.openxmlformats.org/officeDocument/2006/relationships/hyperlink" Target="278,9,&#24187;&#28783;&#29255; 9" TargetMode="External"/><Relationship Id="rId3" Type="http://schemas.openxmlformats.org/officeDocument/2006/relationships/hyperlink" Target="279,15,&#24187;&#28783;&#29255; 15" TargetMode="External"/><Relationship Id="rId4" Type="http://schemas.openxmlformats.org/officeDocument/2006/relationships/hyperlink" Target="282,11,&#24187;&#28783;&#29255; 11" TargetMode="External"/><Relationship Id="rId5" Type="http://schemas.openxmlformats.org/officeDocument/2006/relationships/hyperlink" Target="280,12,&#24187;&#28783;&#29255; 12" TargetMode="External"/><Relationship Id="rId6" Type="http://schemas.openxmlformats.org/officeDocument/2006/relationships/hyperlink" Target="285,13,&#24187;&#28783;&#29255; 13" TargetMode="External"/><Relationship Id="rId7" Type="http://schemas.openxmlformats.org/officeDocument/2006/relationships/hyperlink" Target="284,14,&#24187;&#28783;&#29255; 14" TargetMode="External"/><Relationship Id="rId8" Type="http://schemas.openxmlformats.org/officeDocument/2006/relationships/hyperlink" Target="286,10,&#24187;&#28783;&#29255; 10" TargetMode="External"/><Relationship Id="rId9" Type="http://schemas.openxmlformats.org/officeDocument/2006/relationships/hyperlink" Target="283,16,&#24187;&#28783;&#29255; 16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图片 2" descr=""/>
          <p:cNvPicPr/>
          <p:nvPr/>
        </p:nvPicPr>
        <p:blipFill>
          <a:blip r:embed="rId2"/>
          <a:stretch/>
        </p:blipFill>
        <p:spPr>
          <a:xfrm>
            <a:off x="879480" y="355680"/>
            <a:ext cx="8175600" cy="8786880"/>
          </a:xfrm>
          <a:prstGeom prst="rect">
            <a:avLst/>
          </a:prstGeom>
          <a:ln w="0">
            <a:noFill/>
          </a:ln>
        </p:spPr>
      </p:pic>
      <p:pic>
        <p:nvPicPr>
          <p:cNvPr id="657" name="Text Box 2" descr=""/>
          <p:cNvPicPr/>
          <p:nvPr/>
        </p:nvPicPr>
        <p:blipFill>
          <a:blip r:embed="rId3"/>
          <a:stretch/>
        </p:blipFill>
        <p:spPr>
          <a:xfrm>
            <a:off x="888840" y="2874960"/>
            <a:ext cx="7921800" cy="701640"/>
          </a:xfrm>
          <a:prstGeom prst="rect">
            <a:avLst/>
          </a:prstGeom>
          <a:ln w="0">
            <a:noFill/>
          </a:ln>
        </p:spPr>
      </p:pic>
      <p:pic>
        <p:nvPicPr>
          <p:cNvPr id="658" name="矩形 1" descr=""/>
          <p:cNvPicPr/>
          <p:nvPr/>
        </p:nvPicPr>
        <p:blipFill>
          <a:blip r:embed="rId4"/>
          <a:stretch/>
        </p:blipFill>
        <p:spPr>
          <a:xfrm>
            <a:off x="2406600" y="1052640"/>
            <a:ext cx="4202280" cy="645840"/>
          </a:xfrm>
          <a:prstGeom prst="rect">
            <a:avLst/>
          </a:prstGeom>
          <a:ln w="0">
            <a:noFill/>
          </a:ln>
        </p:spPr>
      </p:pic>
      <p:sp>
        <p:nvSpPr>
          <p:cNvPr id="659" name="文本框 6155"/>
          <p:cNvSpPr/>
          <p:nvPr/>
        </p:nvSpPr>
        <p:spPr>
          <a:xfrm>
            <a:off x="139680" y="624348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9771-13E8-4D86-B4A6-D328CC23E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imes New Roman"/>
                <a:ea typeface="黑体"/>
              </a:rPr>
              <a:t>无机盐的作用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占体重约为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作用很大：其中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构成血红蛋白的一种成分，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构成牙齿和骨骼的重要成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4114800" y="18288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2438280" y="25290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4114800" y="32767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钙、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8"/>
          <p:cNvSpPr/>
          <p:nvPr/>
        </p:nvSpPr>
        <p:spPr>
          <a:xfrm>
            <a:off x="85345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FDCB-471E-4568-9BE1-EAFB02519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哪种维生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038480" y="129528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要功能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症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---------  ,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欲不振、消化不良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5"/>
          <p:cNvSpPr/>
          <p:nvPr/>
        </p:nvSpPr>
        <p:spPr>
          <a:xfrm flipV="1">
            <a:off x="8381880" y="632376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7" descr="P41VB1"/>
          <p:cNvPicPr/>
          <p:nvPr/>
        </p:nvPicPr>
        <p:blipFill>
          <a:blip r:embed="rId1"/>
          <a:stretch/>
        </p:blipFill>
        <p:spPr>
          <a:xfrm>
            <a:off x="0" y="1295280"/>
            <a:ext cx="3962520" cy="495324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3962520" y="19051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人体正常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正常生理功能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4724280" y="502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脚气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6477120" y="120600"/>
            <a:ext cx="205740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66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6600" spc="-1" strike="noStrike" baseline="-45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1"/>
          <p:cNvSpPr/>
          <p:nvPr/>
        </p:nvSpPr>
        <p:spPr>
          <a:xfrm>
            <a:off x="3962520" y="23302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新陈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2"/>
          <p:cNvSpPr/>
          <p:nvPr/>
        </p:nvSpPr>
        <p:spPr>
          <a:xfrm>
            <a:off x="6477120" y="22860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神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6019920" y="3778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神经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2D45-A96F-4F19-AE4C-7C596F6C2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52880" y="609120"/>
            <a:ext cx="19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脂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114800" y="19051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其作用是：    提供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重要物质，但常作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物质贮存在体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4"/>
          <p:cNvSpPr/>
          <p:nvPr/>
        </p:nvSpPr>
        <p:spPr>
          <a:xfrm>
            <a:off x="5791320" y="1447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5"/>
          <p:cNvSpPr/>
          <p:nvPr/>
        </p:nvSpPr>
        <p:spPr>
          <a:xfrm>
            <a:off x="5943600" y="26049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量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6"/>
          <p:cNvSpPr/>
          <p:nvPr/>
        </p:nvSpPr>
        <p:spPr>
          <a:xfrm>
            <a:off x="5181480" y="3976560"/>
            <a:ext cx="2133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备用能源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37"/>
          <p:cNvSpPr/>
          <p:nvPr/>
        </p:nvSpPr>
        <p:spPr>
          <a:xfrm>
            <a:off x="8381880" y="57150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39" descr="P4133"/>
          <p:cNvPicPr/>
          <p:nvPr/>
        </p:nvPicPr>
        <p:blipFill>
          <a:blip r:embed="rId1"/>
          <a:stretch/>
        </p:blipFill>
        <p:spPr>
          <a:xfrm>
            <a:off x="152280" y="1676520"/>
            <a:ext cx="3886200" cy="434340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0"/>
          <p:cNvSpPr/>
          <p:nvPr/>
        </p:nvSpPr>
        <p:spPr>
          <a:xfrm>
            <a:off x="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的主要物质是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0D1-5227-4843-9CD3-48551154D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000000"/>
                </a:solidFill>
                <a:latin typeface="Times New Roman"/>
              </a:rPr>
              <a:t>水的作用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各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都离不开水，是构成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重要物质，占体重约为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2133720" y="1828800"/>
            <a:ext cx="2438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生理活动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3200400" y="251460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细胞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4419720" y="33526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5%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8"/>
          <p:cNvSpPr/>
          <p:nvPr/>
        </p:nvSpPr>
        <p:spPr>
          <a:xfrm>
            <a:off x="81532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AC49-ED4B-4770-9B08-48559B34F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哪种维生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91120" y="114300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缺乏症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AutoShape 5"/>
          <p:cNvSpPr/>
          <p:nvPr/>
        </p:nvSpPr>
        <p:spPr>
          <a:xfrm>
            <a:off x="8610480" y="5715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7" descr="P42"/>
          <p:cNvPicPr/>
          <p:nvPr/>
        </p:nvPicPr>
        <p:blipFill>
          <a:blip r:embed="rId1"/>
          <a:stretch/>
        </p:blipFill>
        <p:spPr>
          <a:xfrm>
            <a:off x="0" y="1295280"/>
            <a:ext cx="4267080" cy="502920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8"/>
          <p:cNvSpPr/>
          <p:nvPr/>
        </p:nvSpPr>
        <p:spPr>
          <a:xfrm>
            <a:off x="4267080" y="1996920"/>
            <a:ext cx="4876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吸收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                                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育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4267080" y="478476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（如鸡胸、 </a:t>
            </a:r>
            <a:r>
              <a:rPr b="1" i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或</a:t>
            </a:r>
            <a:r>
              <a:rPr b="1" i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腿等）、</a:t>
            </a:r>
            <a:r>
              <a:rPr b="1" i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-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症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6781680" y="228600"/>
            <a:ext cx="14479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1"/>
          <p:cNvSpPr/>
          <p:nvPr/>
        </p:nvSpPr>
        <p:spPr>
          <a:xfrm>
            <a:off x="6705720" y="1797120"/>
            <a:ext cx="1676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钙、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12"/>
          <p:cNvSpPr/>
          <p:nvPr/>
        </p:nvSpPr>
        <p:spPr>
          <a:xfrm>
            <a:off x="4648320" y="24382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骨骼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13"/>
          <p:cNvSpPr/>
          <p:nvPr/>
        </p:nvSpPr>
        <p:spPr>
          <a:xfrm>
            <a:off x="4343400" y="45561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佝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4419720" y="5775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骨质疏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96E7-A37F-4ECC-B3DD-65852A1F2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4120" y="1142640"/>
            <a:ext cx="2590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糖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038480" y="182844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是：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人体最重要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；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也是构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成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7848720" y="21337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供能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6934320" y="321480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细胞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8"/>
          <p:cNvSpPr/>
          <p:nvPr/>
        </p:nvSpPr>
        <p:spPr>
          <a:xfrm>
            <a:off x="8381880" y="57150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Picture 10" descr="P4032"/>
          <p:cNvPicPr/>
          <p:nvPr/>
        </p:nvPicPr>
        <p:blipFill>
          <a:blip r:embed="rId1"/>
          <a:stretch/>
        </p:blipFill>
        <p:spPr>
          <a:xfrm>
            <a:off x="0" y="1523880"/>
            <a:ext cx="4191120" cy="480060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11"/>
          <p:cNvSpPr/>
          <p:nvPr/>
        </p:nvSpPr>
        <p:spPr>
          <a:xfrm>
            <a:off x="76320" y="30492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食物中含有的主要物质是什么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3EC0-3DFF-403F-BDEC-84E9C7268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哪种维生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1148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症：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-------------------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5"/>
          <p:cNvSpPr/>
          <p:nvPr/>
        </p:nvSpPr>
        <p:spPr>
          <a:xfrm>
            <a:off x="8534520" y="5791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7" descr="P41VC"/>
          <p:cNvPicPr/>
          <p:nvPr/>
        </p:nvPicPr>
        <p:blipFill>
          <a:blip r:embed="rId1"/>
          <a:stretch/>
        </p:blipFill>
        <p:spPr>
          <a:xfrm>
            <a:off x="228600" y="12193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8"/>
          <p:cNvSpPr/>
          <p:nvPr/>
        </p:nvSpPr>
        <p:spPr>
          <a:xfrm>
            <a:off x="4343400" y="1905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正常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维持骨骼、肌肉和血管的正常生理作用，增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4191120" y="50292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4191120" y="478476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坏血病、抵抗力下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6705720" y="60480"/>
            <a:ext cx="16002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7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6629400" y="1676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新陈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4343400" y="3352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抵抗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0674-F4C7-4346-9011-519AC50F5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7"/>
          <p:cNvSpPr/>
          <p:nvPr/>
        </p:nvSpPr>
        <p:spPr>
          <a:xfrm>
            <a:off x="2286000" y="1557360"/>
            <a:ext cx="2895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夜盲</a:t>
            </a: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脚气</a:t>
            </a: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B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坏血</a:t>
            </a: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C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00ff"/>
                </a:solidFill>
                <a:latin typeface="黑体"/>
                <a:ea typeface="黑体"/>
              </a:rPr>
              <a:t>佝偻</a:t>
            </a:r>
            <a:r>
              <a:rPr b="0" lang="en-US" sz="5400" spc="-1" strike="noStrike">
                <a:solidFill>
                  <a:srgbClr val="ff00ff"/>
                </a:solidFill>
                <a:latin typeface="黑体"/>
                <a:ea typeface="黑体"/>
              </a:rPr>
              <a:t>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76320" y="763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简记歌谣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B47C-8D85-4FAD-985F-2346906BD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WordArt 19"/>
          <p:cNvSpPr txBox="1"/>
          <p:nvPr/>
        </p:nvSpPr>
        <p:spPr>
          <a:xfrm>
            <a:off x="2514600" y="-152280"/>
            <a:ext cx="2819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开拓创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94" name="Picture 33" descr="3YI"/>
          <p:cNvPicPr/>
          <p:nvPr/>
        </p:nvPicPr>
        <p:blipFill>
          <a:blip r:embed="rId1"/>
          <a:stretch/>
        </p:blipFill>
        <p:spPr>
          <a:xfrm>
            <a:off x="2971800" y="2438280"/>
            <a:ext cx="2895480" cy="441972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34" descr="3JIA"/>
          <p:cNvPicPr/>
          <p:nvPr/>
        </p:nvPicPr>
        <p:blipFill>
          <a:blip r:embed="rId2"/>
          <a:stretch/>
        </p:blipFill>
        <p:spPr>
          <a:xfrm>
            <a:off x="0" y="2438280"/>
            <a:ext cx="2971800" cy="441972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35" descr="3BING"/>
          <p:cNvPicPr/>
          <p:nvPr/>
        </p:nvPicPr>
        <p:blipFill>
          <a:blip r:embed="rId3"/>
          <a:stretch/>
        </p:blipFill>
        <p:spPr>
          <a:xfrm>
            <a:off x="5867280" y="2438280"/>
            <a:ext cx="3276720" cy="4419720"/>
          </a:xfrm>
          <a:prstGeom prst="rect">
            <a:avLst/>
          </a:prstGeom>
          <a:ln w="0">
            <a:noFill/>
          </a:ln>
        </p:spPr>
      </p:pic>
      <p:sp>
        <p:nvSpPr>
          <p:cNvPr id="797" name="Text Box 42"/>
          <p:cNvSpPr/>
          <p:nvPr/>
        </p:nvSpPr>
        <p:spPr>
          <a:xfrm>
            <a:off x="0" y="990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分析下面的一组插图，每幅插图中的做法是否正确？并说出道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0" y="2438280"/>
          <a:ext cx="2971800" cy="449568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4495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5943600" y="2514600"/>
          <a:ext cx="3352680" cy="441972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4419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0" name="AutoShape 67">
            <a:hlinkClick r:id="" action="ppaction://hlinkshowjump?jump=nextslide"/>
          </p:cNvPr>
          <p:cNvSpPr/>
          <p:nvPr/>
        </p:nvSpPr>
        <p:spPr>
          <a:xfrm>
            <a:off x="243828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68"/>
          <p:cNvSpPr/>
          <p:nvPr/>
        </p:nvSpPr>
        <p:spPr>
          <a:xfrm>
            <a:off x="304812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69"/>
          <p:cNvSpPr/>
          <p:nvPr/>
        </p:nvSpPr>
        <p:spPr>
          <a:xfrm>
            <a:off x="5943600" y="59436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72"/>
          <p:cNvSpPr/>
          <p:nvPr/>
        </p:nvSpPr>
        <p:spPr>
          <a:xfrm>
            <a:off x="8458200" y="533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48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975">
                <a:moveTo>
                  <a:pt x="10800" y="685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975">
                <a:moveTo>
                  <a:pt x="8224" y="10911"/>
                </a:moveTo>
                <a:lnTo>
                  <a:pt x="12088" y="10911"/>
                </a:lnTo>
                <a:lnTo>
                  <a:pt x="12088" y="17909"/>
                </a:lnTo>
                <a:lnTo>
                  <a:pt x="13376" y="17909"/>
                </a:lnTo>
                <a:lnTo>
                  <a:pt x="13376" y="18831"/>
                </a:lnTo>
                <a:lnTo>
                  <a:pt x="8224" y="18831"/>
                </a:lnTo>
                <a:lnTo>
                  <a:pt x="8224" y="17909"/>
                </a:lnTo>
                <a:lnTo>
                  <a:pt x="9512" y="17909"/>
                </a:lnTo>
                <a:lnTo>
                  <a:pt x="9512" y="11816"/>
                </a:lnTo>
                <a:lnTo>
                  <a:pt x="8224" y="1181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0C36-2ABB-408A-9051-672098052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533520" y="1523520"/>
            <a:ext cx="81532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图反应出这位同学挑食，时间长了会使人体缺乏某些营养物质，导致营养不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9242-A3B8-455C-9B4E-3ECB1F0E6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84320" y="14158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了解食物中含有的主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隶书"/>
              </a:rPr>
              <a:t>营养物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识记维生素的缺乏症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理解各种营养物质的来源及其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人体的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08000" y="458136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：蛋白质、糖类和脂肪的作用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难点：维生素的作用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9AA-460B-4B14-B8E6-185EFD0FB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0456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乙图反应出这位同学不吃早餐就去上学，上午学习任务很重，往往两节课后就处于半饥饿状态，出现头晕、心慌、注意力不集中等现象，影响学习效果。如果长期不吃早餐，还会影响健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6"/>
          <p:cNvSpPr/>
          <p:nvPr/>
        </p:nvSpPr>
        <p:spPr>
          <a:xfrm>
            <a:off x="83059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文本框 8199"/>
          <p:cNvSpPr/>
          <p:nvPr/>
        </p:nvSpPr>
        <p:spPr>
          <a:xfrm>
            <a:off x="1770120" y="5400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AF45-AFA3-454E-8721-28373DEC3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0520" y="19810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丙图反应出这位同学偏食，而偏食会造成某些营养过剩和某些营养缺乏而导致营养不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4"/>
          <p:cNvSpPr/>
          <p:nvPr/>
        </p:nvSpPr>
        <p:spPr>
          <a:xfrm>
            <a:off x="83818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88C2-DBC7-4D80-A4F2-C20DD4180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看了之后我们应该怎样做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22093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偏食、不挑食、不暴饮暴食、一定要吃早餐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3E83-CCE2-4A63-8337-822FDEE25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几点建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好的饮料是白开水，因为许多饮料中含有防腐剂、香精或人造色素等，并且糖分含量多，常饮不利于身体健康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吃的瓜果蔬菜要洗净，避免农药中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尽量少吃时间过长的剩饭、剩菜。若吃，一定要彻底加热，防止细菌性食物中毒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街头贩卖的、没有卫生许可证的食物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尽量少吃油炸、烟熏和烧烤等食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养成良好的卫生习惯，常剪指甲、饭前便后洗手，能预防传染病的传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1552-378C-486F-974D-E26DDED1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124080" y="1522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Times New Roman"/>
              </a:rPr>
              <a:t>考一考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34" descr="P65"/>
          <p:cNvPicPr/>
          <p:nvPr/>
        </p:nvPicPr>
        <p:blipFill>
          <a:blip r:embed="rId1"/>
          <a:stretch/>
        </p:blipFill>
        <p:spPr>
          <a:xfrm>
            <a:off x="0" y="-19080"/>
            <a:ext cx="2895480" cy="22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6" name=""/>
          <p:cNvGraphicFramePr/>
          <p:nvPr/>
        </p:nvGraphicFramePr>
        <p:xfrm>
          <a:off x="228600" y="2260440"/>
          <a:ext cx="8839080" cy="4206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752480"/>
                <a:gridCol w="3429000"/>
              </a:tblGrid>
              <a:tr h="2235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1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2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3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r>
                        <a:rPr b="1" lang="zh-CN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风险题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隶书"/>
                        </a:rPr>
                        <a:t>（答对得分，答错倒扣分）</a:t>
                      </a: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隶书"/>
                          <a:hlinkClick r:id="rId8"/>
                        </a:rPr>
                        <a:t>10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隶书"/>
                          <a:hlinkClick r:id="rId9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/>
                        </a:rPr>
                        <a:t>4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/>
                        </a:rPr>
                        <a:t>6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4"/>
                        </a:rPr>
                        <a:t>80</a:t>
                      </a:r>
                      <a:r>
                        <a:rPr b="0" lang="zh-CN" sz="6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5"/>
                        </a:rPr>
                        <a:t>分</a:t>
                      </a:r>
                      <a:endParaRPr b="1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7" name="AutoShape 156"/>
          <p:cNvSpPr/>
          <p:nvPr/>
        </p:nvSpPr>
        <p:spPr>
          <a:xfrm rot="5202600">
            <a:off x="7637040" y="912600"/>
            <a:ext cx="1828800" cy="60948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26B1-1F2B-4C47-B81C-F0C381529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隶书"/>
                <a:ea typeface="隶书"/>
              </a:rPr>
              <a:t>食物中含有哪些营养物质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蛋白质、脂肪、糖类、维生素、无机盐、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7467480" y="4876920"/>
            <a:ext cx="1143000" cy="10666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C64F-1F3B-489C-9BCA-F61AC8157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0" y="8380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为细胞组成、组织更新必须的基本原料是（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作为体内储备物质，氧化时供能最高的是（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1295280" y="1981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蛋白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5"/>
          <p:cNvSpPr/>
          <p:nvPr/>
        </p:nvSpPr>
        <p:spPr>
          <a:xfrm>
            <a:off x="1219320" y="32004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脂肪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9"/>
          <p:cNvSpPr/>
          <p:nvPr/>
        </p:nvSpPr>
        <p:spPr>
          <a:xfrm>
            <a:off x="7467480" y="4876920"/>
            <a:ext cx="1143000" cy="10666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26EC-9615-4A9B-92AC-AD11222FA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0" y="1142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在人体内含量最多的物质是（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在人体内含量约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物质是（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既不是细胞组成成分，又不是机体的能源物质，但对生命活动和生长发育起调节作用的物质是（   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6705720" y="228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7772400" y="11271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水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9"/>
          <p:cNvSpPr/>
          <p:nvPr/>
        </p:nvSpPr>
        <p:spPr>
          <a:xfrm>
            <a:off x="762120" y="25146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无机盐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0"/>
          <p:cNvSpPr/>
          <p:nvPr/>
        </p:nvSpPr>
        <p:spPr>
          <a:xfrm>
            <a:off x="5486400" y="43434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维生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1"/>
          <p:cNvSpPr/>
          <p:nvPr/>
        </p:nvSpPr>
        <p:spPr>
          <a:xfrm>
            <a:off x="7467480" y="5410080"/>
            <a:ext cx="1143000" cy="106704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、人体生命活动和维持体温恒定的能源物质是（      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蛋白质 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糖类  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脂肪    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、人体缺乏∨</a:t>
            </a:r>
            <a:r>
              <a:rPr b="1" lang="en-US" sz="3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时，容易患（       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夜盲症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脚气病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佝偻病  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坏血病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构成血红蛋白必需的元素是（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钙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磷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碘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能促进人体正常发育，增强抵抗力，维持人体正常视觉的是（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∨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C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∨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D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C.∨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D.∨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25B-B31D-49E7-BF41-7321C123C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6461640" y="1676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7772400" y="30481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5791320" y="4952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11"/>
          <p:cNvSpPr/>
          <p:nvPr/>
        </p:nvSpPr>
        <p:spPr>
          <a:xfrm>
            <a:off x="7696080" y="4952880"/>
            <a:ext cx="1143000" cy="106704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1752480" y="3808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4697-0B1D-4ABC-9E42-CA6AF3D29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下列等量物质中 ，含糖类 最多的是（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芝麻、花生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鲤鱼、黄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、面粉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马铃薯、玉米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脚气病患者应该多吃的食物是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羊肝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标准粉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鸡蛋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西红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在长期饥饿状态下，重量减轻明显的是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脑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骨骼肌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下脂肪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肾脏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8458200" y="990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5"/>
          <p:cNvSpPr/>
          <p:nvPr/>
        </p:nvSpPr>
        <p:spPr>
          <a:xfrm>
            <a:off x="7467480" y="2971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6"/>
          <p:cNvSpPr/>
          <p:nvPr/>
        </p:nvSpPr>
        <p:spPr>
          <a:xfrm>
            <a:off x="1066680" y="48769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7315200" y="76320"/>
            <a:ext cx="1143000" cy="10666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183F-B24E-4F25-A2F2-17695D517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检查预习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食物中含有哪些营养物质？哪些是有机物？哪些是无机物？　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228600" y="28954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蛋白质、脂肪、糖类、维生素、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2438280" y="457200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无机盐、水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"/>
          <p:cNvSpPr/>
          <p:nvPr/>
        </p:nvSpPr>
        <p:spPr>
          <a:xfrm rot="5339400">
            <a:off x="3773160" y="493560"/>
            <a:ext cx="380880" cy="6403680"/>
          </a:xfrm>
          <a:custGeom>
            <a:avLst/>
            <a:gdLst>
              <a:gd name="textAreaLeft" fmla="*/ 0 w 380880"/>
              <a:gd name="textAreaRight" fmla="*/ 137520 w 380880"/>
              <a:gd name="textAreaTop" fmla="*/ 166680 h 6403680"/>
              <a:gd name="textAreaBottom" fmla="*/ 6237000 h 640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3048120" y="38862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有机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0"/>
          <p:cNvSpPr/>
          <p:nvPr/>
        </p:nvSpPr>
        <p:spPr>
          <a:xfrm rot="5453400">
            <a:off x="3694680" y="4151880"/>
            <a:ext cx="228600" cy="228456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4560"/>
              <a:gd name="textAreaBottom" fmla="*/ 2225160 h 228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1"/>
          <p:cNvSpPr/>
          <p:nvPr/>
        </p:nvSpPr>
        <p:spPr>
          <a:xfrm>
            <a:off x="3048120" y="5334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无机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D714-040A-4785-A51C-8F5E3923E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综合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下表列出了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五种食物（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克）中除水和无机盐以外的主要成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Object 5" descr=""/>
          <p:cNvPicPr/>
          <p:nvPr/>
        </p:nvPicPr>
        <p:blipFill>
          <a:blip r:embed="rId1"/>
          <a:stretch/>
        </p:blipFill>
        <p:spPr>
          <a:xfrm>
            <a:off x="0" y="1523880"/>
            <a:ext cx="8771040" cy="3756240"/>
          </a:xfrm>
          <a:prstGeom prst="rect">
            <a:avLst/>
          </a:prstGeom>
          <a:ln w="0">
            <a:noFill/>
          </a:ln>
        </p:spPr>
      </p:pic>
      <p:sp>
        <p:nvSpPr>
          <p:cNvPr id="862" name="Text Box 13"/>
          <p:cNvSpPr/>
          <p:nvPr/>
        </p:nvSpPr>
        <p:spPr>
          <a:xfrm>
            <a:off x="0" y="4876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食物（ ）有助于预防夜盲症；（ ）能提供较多的能量；（ ）适合坏血病患者食用。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长期以食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为主要食物有那些缺陷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2057400" y="4876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7315200" y="4921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6"/>
          <p:cNvSpPr/>
          <p:nvPr/>
        </p:nvSpPr>
        <p:spPr>
          <a:xfrm flipH="1">
            <a:off x="365688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7"/>
          <p:cNvSpPr/>
          <p:nvPr/>
        </p:nvSpPr>
        <p:spPr>
          <a:xfrm>
            <a:off x="8153280" y="1143000"/>
            <a:ext cx="1143000" cy="10666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8613720" y="1523880"/>
          <a:ext cx="208080" cy="342900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429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文本框 8199"/>
          <p:cNvSpPr/>
          <p:nvPr/>
        </p:nvSpPr>
        <p:spPr>
          <a:xfrm>
            <a:off x="2692440" y="122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E74C-82F7-4842-A99D-01C89A618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0" y="112536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将食物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食物，缺陷是除糖类以外，脂肪、蛋白质和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含量太少，并且缺乏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不利于健康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0" y="-7632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91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，俄罗斯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圣虎克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船载着北极探险队的队员们在北冰洋的冰块间越冬。没过多久，队员们就得了一种可怕的病。他们的牙床一块块裂开，充血肿胀，牙齿都松了，脸也浮肿，皮下青一块紫一块。后来医生将这些病人分成六组，分别给吃果酒、矾类制剂（一种晶体盐类）、醋、海水、柠檬和肉豆，发现每天吃两个柠檬的人很快恢复了健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请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船上的队员到底得了什么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为什么柠檬能治疗这种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海员最容易得这种病的原因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4C8F-C676-4824-B8D5-17CC14C1E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6760080" y="441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坏血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5"/>
          <p:cNvSpPr/>
          <p:nvPr/>
        </p:nvSpPr>
        <p:spPr>
          <a:xfrm>
            <a:off x="6324480" y="5029200"/>
            <a:ext cx="2667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柠檬含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V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0" y="6248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海员长期生活在远离大陆的船上，吃不到新鲜的蔬菜和水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2DB0-2E55-49A8-9DB8-1E72E48E93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4977-862B-4135-A026-69E5C0AB8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自选一道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28600" y="26665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查找资料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什么叫绿色食品？有标志吗？有等级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根据教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2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附表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部分食物一般营养成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自己制定一份一日三餐的食谱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84CD-8A70-48FD-8E57-FA2B44EA6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自学方法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阅读教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42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钟，完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蛋白质、糖类、脂肪的作用，并结合图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理解其来源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合下表学习维生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52280" y="3352680"/>
          <a:ext cx="8763120" cy="3197160"/>
        </p:xfrm>
        <a:graphic>
          <a:graphicData uri="http://schemas.openxmlformats.org/drawingml/2006/table">
            <a:tbl>
              <a:tblPr/>
              <a:tblGrid>
                <a:gridCol w="2514600"/>
                <a:gridCol w="1754280"/>
                <a:gridCol w="2247840"/>
                <a:gridCol w="22464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维生素种类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来源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功能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缺乏症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C3B-A497-4B84-BD15-C3E0D58B8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 选 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28600" y="1523880"/>
          <a:ext cx="8686800" cy="49528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711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1"/>
                        </a:rPr>
                        <a:t>三分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2"/>
                        </a:rPr>
                        <a:t>天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3"/>
                        </a:rPr>
                        <a:t>注定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4"/>
                        </a:rPr>
                        <a:t>七分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5"/>
                        </a:rPr>
                        <a:t>靠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6"/>
                        </a:rPr>
                        <a:t>打拼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7"/>
                        </a:rPr>
                        <a:t>爱拼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8"/>
                        </a:rPr>
                        <a:t>才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楷体_GB2312"/>
                          <a:hlinkClick r:id="rId9"/>
                        </a:rPr>
                        <a:t>会赢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0" name="Picture 1126" descr="PE01832_1"/>
          <p:cNvPicPr/>
          <p:nvPr/>
        </p:nvPicPr>
        <p:blipFill>
          <a:blip r:embed="rId10"/>
          <a:stretch/>
        </p:blipFill>
        <p:spPr>
          <a:xfrm>
            <a:off x="7162920" y="0"/>
            <a:ext cx="1904760" cy="173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5E82-BFB0-478F-85BB-0C93C4868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要含维生素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缺乏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4495680" y="18288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人体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常发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增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抵抗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维持人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常视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6781680" y="1660680"/>
            <a:ext cx="2362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5486400" y="4784760"/>
            <a:ext cx="2666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皮肤粗糙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夜盲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7" descr="胡萝卜3个"/>
          <p:cNvPicPr/>
          <p:nvPr/>
        </p:nvPicPr>
        <p:blipFill>
          <a:blip r:embed="rId1"/>
          <a:stretch/>
        </p:blipFill>
        <p:spPr>
          <a:xfrm>
            <a:off x="2438280" y="40384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8"/>
          <p:cNvSpPr/>
          <p:nvPr/>
        </p:nvSpPr>
        <p:spPr>
          <a:xfrm>
            <a:off x="8305920" y="62485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Picture 9" descr="玉米"/>
          <p:cNvPicPr/>
          <p:nvPr/>
        </p:nvPicPr>
        <p:blipFill>
          <a:blip r:embed="rId2"/>
          <a:stretch/>
        </p:blipFill>
        <p:spPr>
          <a:xfrm>
            <a:off x="457200" y="1170000"/>
            <a:ext cx="2971800" cy="2868480"/>
          </a:xfrm>
          <a:prstGeom prst="rect">
            <a:avLst/>
          </a:prstGeom>
          <a:ln w="0">
            <a:noFill/>
          </a:ln>
        </p:spPr>
      </p:pic>
      <p:pic>
        <p:nvPicPr>
          <p:cNvPr id="690" name="Object 10" descr=""/>
          <p:cNvPicPr/>
          <p:nvPr/>
        </p:nvPicPr>
        <p:blipFill>
          <a:blip r:embed="rId3"/>
          <a:stretch/>
        </p:blipFill>
        <p:spPr>
          <a:xfrm>
            <a:off x="0" y="42670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EF79-327A-4C20-B3F6-8A9EF0DED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维生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114800" y="11430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4343400" y="229716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正常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新陈代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维持骨骼、肌肉和血管的正常生理作用，增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抵抗力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5" descr="油菜"/>
          <p:cNvPicPr/>
          <p:nvPr/>
        </p:nvPicPr>
        <p:blipFill>
          <a:blip r:embed="rId1"/>
          <a:stretch/>
        </p:blipFill>
        <p:spPr>
          <a:xfrm>
            <a:off x="1981080" y="2895480"/>
            <a:ext cx="1657440" cy="16002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" descr="草霉"/>
          <p:cNvPicPr/>
          <p:nvPr/>
        </p:nvPicPr>
        <p:blipFill>
          <a:blip r:embed="rId2"/>
          <a:stretch/>
        </p:blipFill>
        <p:spPr>
          <a:xfrm>
            <a:off x="2209680" y="4572000"/>
            <a:ext cx="1733760" cy="1523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" descr="橙子"/>
          <p:cNvPicPr/>
          <p:nvPr/>
        </p:nvPicPr>
        <p:blipFill>
          <a:blip r:embed="rId3"/>
          <a:stretch/>
        </p:blipFill>
        <p:spPr>
          <a:xfrm>
            <a:off x="0" y="434340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8" descr="番茄"/>
          <p:cNvPicPr/>
          <p:nvPr/>
        </p:nvPicPr>
        <p:blipFill>
          <a:blip r:embed="rId4"/>
          <a:stretch/>
        </p:blipFill>
        <p:spPr>
          <a:xfrm>
            <a:off x="0" y="28954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9" descr="青椒(好)3个"/>
          <p:cNvPicPr/>
          <p:nvPr/>
        </p:nvPicPr>
        <p:blipFill>
          <a:blip r:embed="rId5"/>
          <a:stretch/>
        </p:blipFill>
        <p:spPr>
          <a:xfrm>
            <a:off x="2590920" y="1600200"/>
            <a:ext cx="1676160" cy="14479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0" descr="萝卜"/>
          <p:cNvPicPr/>
          <p:nvPr/>
        </p:nvPicPr>
        <p:blipFill>
          <a:blip r:embed="rId6"/>
          <a:stretch/>
        </p:blipFill>
        <p:spPr>
          <a:xfrm>
            <a:off x="685800" y="12952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701" name="AutoShape 11"/>
          <p:cNvSpPr/>
          <p:nvPr/>
        </p:nvSpPr>
        <p:spPr>
          <a:xfrm>
            <a:off x="8458200" y="5867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2"/>
          <p:cNvSpPr/>
          <p:nvPr/>
        </p:nvSpPr>
        <p:spPr>
          <a:xfrm>
            <a:off x="6400800" y="3049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8873-97C6-4A26-8F4A-1BABC0783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哪种维生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038480" y="106668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主要功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缺乏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-----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6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8" descr="P41VA"/>
          <p:cNvPicPr/>
          <p:nvPr/>
        </p:nvPicPr>
        <p:blipFill>
          <a:blip r:embed="rId1"/>
          <a:stretch/>
        </p:blipFill>
        <p:spPr>
          <a:xfrm>
            <a:off x="108000" y="968400"/>
            <a:ext cx="3962520" cy="556272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9"/>
          <p:cNvSpPr/>
          <p:nvPr/>
        </p:nvSpPr>
        <p:spPr>
          <a:xfrm>
            <a:off x="4495680" y="182880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人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增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维持人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----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7010280" y="432756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夜盲症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6781680" y="-76320"/>
            <a:ext cx="236232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∨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2"/>
          <p:cNvSpPr/>
          <p:nvPr/>
        </p:nvSpPr>
        <p:spPr>
          <a:xfrm>
            <a:off x="6781680" y="1600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常发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13"/>
          <p:cNvSpPr/>
          <p:nvPr/>
        </p:nvSpPr>
        <p:spPr>
          <a:xfrm>
            <a:off x="55627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抵抗力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5638680" y="287964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常视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42670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皮肤粗糙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EAD3-68B9-4A62-A5D6-1CAB6CA66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934320" y="763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蛋白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用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是构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-----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基本物质；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其次，能提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--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7010280" y="161460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细胞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4876920" y="329076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Times New Roman"/>
              </a:rPr>
              <a:t>能量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1"/>
          <p:cNvSpPr/>
          <p:nvPr/>
        </p:nvSpPr>
        <p:spPr>
          <a:xfrm>
            <a:off x="845820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13" descr="P4031"/>
          <p:cNvPicPr/>
          <p:nvPr/>
        </p:nvPicPr>
        <p:blipFill>
          <a:blip r:embed="rId1"/>
          <a:stretch/>
        </p:blipFill>
        <p:spPr>
          <a:xfrm>
            <a:off x="-152280" y="114300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14"/>
          <p:cNvSpPr/>
          <p:nvPr/>
        </p:nvSpPr>
        <p:spPr>
          <a:xfrm>
            <a:off x="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食物中含有的主要物质是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文本框 8199"/>
          <p:cNvSpPr/>
          <p:nvPr/>
        </p:nvSpPr>
        <p:spPr>
          <a:xfrm>
            <a:off x="3041640" y="6370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3T16:31:09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9:03:21Z</dcterms:modified>
  <cp:revision>175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