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B1B-B2D0-4D77-98B4-F98151C7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B19-4163-41CD-A5DE-DE0FB877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69F-D43B-4330-B7E5-F05AB2BF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072-7D2C-4870-9F98-D3C3E756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62A7-4047-4A08-92D9-5CBE836A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FE95-24A6-479A-8486-204B1CC9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1F1F-B445-49EB-B4BD-CCB0D1F6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754A-8053-46B1-A86C-6F284591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24D7-23A8-44A3-9A45-685E9094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546A-4BD3-4FB4-A2AA-FBB21D85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63D3-6B3D-46A1-B164-4066796E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E1D-1CA5-48FC-885D-B8230AB7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13F3-CF19-4531-BA5A-51474F1C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D93A-BAB4-4085-82ED-64F7E58A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87CE-A7DF-4AA4-871C-22DDF937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FA98-45AD-44D4-A934-E57B0332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9616-0E56-4A67-BE7D-AD5D73C6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4CE-DE93-4860-B79C-1C84D92E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8CD-94D7-47D7-89C0-F7A74797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E18-7DE7-43D2-96EE-33E87879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877-0D42-42E7-B427-7CF28083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642-21F7-4960-85AD-DA88EF04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4BE-805F-4222-9E55-FEEC01BF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05F-3768-494C-A1EB-8B126237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170D-9664-4EEB-901E-3C31AA3DC6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FD30-1C7A-4EEE-A51A-6AAC9EB702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212840" y="1251000"/>
            <a:ext cx="66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四单元   我们的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511200" y="2781360"/>
            <a:ext cx="81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宋体"/>
                <a:ea typeface="宋体"/>
              </a:rPr>
              <a:t>食物在体内的旅行</a:t>
            </a:r>
            <a:r>
              <a:rPr b="1" lang="en-US" sz="4000" spc="-1" strike="noStrike">
                <a:solidFill>
                  <a:srgbClr val="cc3399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c3399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图片2"/>
          <p:cNvPicPr/>
          <p:nvPr/>
        </p:nvPicPr>
        <p:blipFill>
          <a:blip r:embed="rId1"/>
          <a:stretch/>
        </p:blipFill>
        <p:spPr>
          <a:xfrm>
            <a:off x="-36360" y="0"/>
            <a:ext cx="6522840" cy="7245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5508720" y="5734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</a:rPr>
              <a:t>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9520" y="333360"/>
            <a:ext cx="38361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95623"/>
                </a:solidFill>
                <a:latin typeface="Arial"/>
              </a:rPr>
              <a:t>这么短暂的学习后谁已经知道，吃下去的食物到哪里去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8199"/>
          <p:cNvSpPr/>
          <p:nvPr/>
        </p:nvSpPr>
        <p:spPr>
          <a:xfrm>
            <a:off x="1174680" y="8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30" descr="44paint0040.jpg"/>
          <p:cNvPicPr/>
          <p:nvPr/>
        </p:nvPicPr>
        <p:blipFill>
          <a:blip r:embed="rId1"/>
          <a:stretch/>
        </p:blipFill>
        <p:spPr>
          <a:xfrm>
            <a:off x="250920" y="260280"/>
            <a:ext cx="1571400" cy="27147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7"/>
          <p:cNvSpPr/>
          <p:nvPr/>
        </p:nvSpPr>
        <p:spPr>
          <a:xfrm>
            <a:off x="1979640" y="26028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bfc"/>
                </a:solidFill>
                <a:latin typeface="Chiller"/>
                <a:ea typeface="宋体"/>
              </a:rPr>
              <a:t>MY </a:t>
            </a:r>
            <a:r>
              <a:rPr b="0" lang="en-US" sz="8800" spc="-1" strike="noStrike">
                <a:solidFill>
                  <a:srgbClr val="f8fbfc"/>
                </a:solidFill>
                <a:latin typeface="Chiller"/>
                <a:ea typeface="宋体"/>
              </a:rPr>
              <a:t>RESU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384800" y="3141720"/>
            <a:ext cx="10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906120" y="3141720"/>
            <a:ext cx="142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口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706480" y="3141720"/>
            <a:ext cx="142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食道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409880" y="3141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大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659200" y="3141720"/>
            <a:ext cx="142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小肠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图片2"/>
          <p:cNvPicPr/>
          <p:nvPr/>
        </p:nvPicPr>
        <p:blipFill>
          <a:blip r:embed="rId1"/>
          <a:stretch/>
        </p:blipFill>
        <p:spPr>
          <a:xfrm>
            <a:off x="-396720" y="0"/>
            <a:ext cx="6522840" cy="72453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5148360" y="5734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</a:rPr>
              <a:t>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47800" y="620640"/>
            <a:ext cx="34722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对照图片，你知道这些器官有什么作用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2" descr="10paint0006.jpg"/>
          <p:cNvPicPr/>
          <p:nvPr/>
        </p:nvPicPr>
        <p:blipFill>
          <a:blip r:embed="rId1"/>
          <a:stretch/>
        </p:blipFill>
        <p:spPr>
          <a:xfrm>
            <a:off x="7429680" y="4286160"/>
            <a:ext cx="1714320" cy="25718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1116000" y="476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hiller"/>
              </a:rPr>
              <a:t>我们是不是可以这样整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344240" y="1816200"/>
            <a:ext cx="23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口腔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586520" y="26938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滑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食道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658160" y="34862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蠕动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729440" y="429264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长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729440" y="508464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粗短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827600" y="177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咬碎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827600" y="263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输送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5721120" y="3500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进一步磨碎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071320" y="4365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吸收食物的营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071320" y="508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存放食物的残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7277400" y="1760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图片3"/>
          <p:cNvPicPr/>
          <p:nvPr/>
        </p:nvPicPr>
        <p:blipFill>
          <a:blip r:embed="rId1"/>
          <a:stretch/>
        </p:blipFill>
        <p:spPr>
          <a:xfrm>
            <a:off x="1763640" y="180828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979280" y="1916280"/>
            <a:ext cx="381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猜一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食物捉迷藏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4638331_112522636143_2"/>
          <p:cNvPicPr/>
          <p:nvPr/>
        </p:nvPicPr>
        <p:blipFill>
          <a:blip r:embed="rId2"/>
          <a:stretch/>
        </p:blipFill>
        <p:spPr>
          <a:xfrm>
            <a:off x="6084720" y="1773360"/>
            <a:ext cx="1440000" cy="14191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4753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图片3"/>
          <p:cNvPicPr/>
          <p:nvPr/>
        </p:nvPicPr>
        <p:blipFill>
          <a:blip r:embed="rId1"/>
          <a:stretch/>
        </p:blipFill>
        <p:spPr>
          <a:xfrm>
            <a:off x="1763640" y="180828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979280" y="2060640"/>
            <a:ext cx="381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提示小锦囊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638331_112522636143_2"/>
          <p:cNvPicPr/>
          <p:nvPr/>
        </p:nvPicPr>
        <p:blipFill>
          <a:blip r:embed="rId2"/>
          <a:stretch/>
        </p:blipFill>
        <p:spPr>
          <a:xfrm>
            <a:off x="6084720" y="1773360"/>
            <a:ext cx="1440000" cy="14191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4753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食物捉迷藏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835280" y="3068640"/>
            <a:ext cx="403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有很多唾液，会把我磨成小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4244400" y="42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口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图片3"/>
          <p:cNvPicPr/>
          <p:nvPr/>
        </p:nvPicPr>
        <p:blipFill>
          <a:blip r:embed="rId1"/>
          <a:stretch/>
        </p:blipFill>
        <p:spPr>
          <a:xfrm>
            <a:off x="1763640" y="180828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907640" y="1844640"/>
            <a:ext cx="381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提示小锦囊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4638331_112522636143_2"/>
          <p:cNvPicPr/>
          <p:nvPr/>
        </p:nvPicPr>
        <p:blipFill>
          <a:blip r:embed="rId2"/>
          <a:stretch/>
        </p:blipFill>
        <p:spPr>
          <a:xfrm>
            <a:off x="6084720" y="1773360"/>
            <a:ext cx="1440000" cy="1419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475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食物捉迷藏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908000" y="2708280"/>
            <a:ext cx="3880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是停留食物残渣的地方，并能吸收大部分水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888800" y="429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大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图片3"/>
          <p:cNvPicPr/>
          <p:nvPr/>
        </p:nvPicPr>
        <p:blipFill>
          <a:blip r:embed="rId1"/>
          <a:stretch/>
        </p:blipFill>
        <p:spPr>
          <a:xfrm>
            <a:off x="1692360" y="1844640"/>
            <a:ext cx="5545080" cy="4159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979280" y="2060640"/>
            <a:ext cx="381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提示小锦囊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4638331_112522636143_2"/>
          <p:cNvPicPr/>
          <p:nvPr/>
        </p:nvPicPr>
        <p:blipFill>
          <a:blip r:embed="rId2"/>
          <a:stretch/>
        </p:blipFill>
        <p:spPr>
          <a:xfrm>
            <a:off x="6084720" y="1773360"/>
            <a:ext cx="1440000" cy="14191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4753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食物捉迷藏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908000" y="2852640"/>
            <a:ext cx="3959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里不停的蠕动，又会分泌出酸酸的液体，把我消化成粥一样的食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758840" y="429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图片3"/>
          <p:cNvPicPr/>
          <p:nvPr/>
        </p:nvPicPr>
        <p:blipFill>
          <a:blip r:embed="rId1"/>
          <a:stretch/>
        </p:blipFill>
        <p:spPr>
          <a:xfrm>
            <a:off x="1763640" y="180828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834920" y="1700280"/>
            <a:ext cx="381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提示小锦囊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4638331_112522636143_2"/>
          <p:cNvPicPr/>
          <p:nvPr/>
        </p:nvPicPr>
        <p:blipFill>
          <a:blip r:embed="rId2"/>
          <a:stretch/>
        </p:blipFill>
        <p:spPr>
          <a:xfrm>
            <a:off x="6084720" y="1773360"/>
            <a:ext cx="1440000" cy="14191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4753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食物捉迷藏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908000" y="2492280"/>
            <a:ext cx="3959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是一道又长又直的管子，陆续把我送到胃里面去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312800" y="42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食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图片3"/>
          <p:cNvPicPr/>
          <p:nvPr/>
        </p:nvPicPr>
        <p:blipFill>
          <a:blip r:embed="rId1"/>
          <a:stretch/>
        </p:blipFill>
        <p:spPr>
          <a:xfrm>
            <a:off x="1763640" y="180828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979280" y="1773360"/>
            <a:ext cx="381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提示小锦囊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4638331_112522636143_2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19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4753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食物捉迷藏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835280" y="2637000"/>
            <a:ext cx="4319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里有多种液体，我在这里停留的时间最长，大部分在这里被吸收和消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025520" y="4287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小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53360" cy="732456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10"/>
          <p:cNvGrpSpPr/>
          <p:nvPr/>
        </p:nvGrpSpPr>
        <p:grpSpPr>
          <a:xfrm>
            <a:off x="1187280" y="476280"/>
            <a:ext cx="6481800" cy="5977080"/>
            <a:chOff x="1187280" y="476280"/>
            <a:chExt cx="6481800" cy="5977080"/>
          </a:xfrm>
        </p:grpSpPr>
        <p:pic>
          <p:nvPicPr>
            <p:cNvPr id="88" name="Picture 6" descr="食物图片"/>
            <p:cNvPicPr/>
            <p:nvPr/>
          </p:nvPicPr>
          <p:blipFill>
            <a:blip r:embed="rId2"/>
            <a:stretch/>
          </p:blipFill>
          <p:spPr>
            <a:xfrm>
              <a:off x="1187280" y="476280"/>
              <a:ext cx="6481800" cy="59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7" descr="米饭"/>
            <p:cNvPicPr/>
            <p:nvPr/>
          </p:nvPicPr>
          <p:blipFill>
            <a:blip r:embed="rId3"/>
            <a:stretch/>
          </p:blipFill>
          <p:spPr>
            <a:xfrm>
              <a:off x="3769920" y="4691880"/>
              <a:ext cx="1866960" cy="132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面条"/>
            <p:cNvPicPr/>
            <p:nvPr/>
          </p:nvPicPr>
          <p:blipFill>
            <a:blip r:embed="rId4"/>
            <a:srcRect l="0" t="0" r="-12304" b="-13080"/>
            <a:stretch/>
          </p:blipFill>
          <p:spPr>
            <a:xfrm>
              <a:off x="5649480" y="4662720"/>
              <a:ext cx="2009880" cy="151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57E7-6B5A-4F4B-800B-0545603E11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53360" cy="73245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11448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1042920" y="1125360"/>
            <a:ext cx="6171840" cy="3664080"/>
            <a:chOff x="1042920" y="1125360"/>
            <a:chExt cx="6171840" cy="3664080"/>
          </a:xfrm>
        </p:grpSpPr>
        <p:pic>
          <p:nvPicPr>
            <p:cNvPr id="220" name="Object 5" descr=""/>
            <p:cNvPicPr/>
            <p:nvPr/>
          </p:nvPicPr>
          <p:blipFill>
            <a:blip r:embed="rId2"/>
            <a:stretch/>
          </p:blipFill>
          <p:spPr>
            <a:xfrm>
              <a:off x="1042920" y="1224360"/>
              <a:ext cx="2285640" cy="336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Group 6"/>
            <p:cNvGrpSpPr/>
            <p:nvPr/>
          </p:nvGrpSpPr>
          <p:grpSpPr>
            <a:xfrm>
              <a:off x="3671280" y="1125360"/>
              <a:ext cx="3542760" cy="460800"/>
              <a:chOff x="3671280" y="1125360"/>
              <a:chExt cx="3542760" cy="460800"/>
            </a:xfrm>
          </p:grpSpPr>
          <p:sp>
            <p:nvSpPr>
              <p:cNvPr id="222" name="Text Box 7"/>
              <p:cNvSpPr/>
              <p:nvPr/>
            </p:nvSpPr>
            <p:spPr>
              <a:xfrm>
                <a:off x="3671280" y="1125360"/>
                <a:ext cx="687600" cy="460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小肠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8"/>
              <p:cNvSpPr/>
              <p:nvPr/>
            </p:nvSpPr>
            <p:spPr>
              <a:xfrm>
                <a:off x="5385600" y="1125360"/>
                <a:ext cx="1828440" cy="460800"/>
              </a:xfrm>
              <a:prstGeom prst="rect">
                <a:avLst/>
              </a:prstGeom>
              <a:solidFill>
                <a:srgbClr val="ccffff"/>
              </a:solidFill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锋利的牙齿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9"/>
            <p:cNvGrpSpPr/>
            <p:nvPr/>
          </p:nvGrpSpPr>
          <p:grpSpPr>
            <a:xfrm>
              <a:off x="3670920" y="1917360"/>
              <a:ext cx="3543480" cy="460800"/>
              <a:chOff x="3670920" y="1917360"/>
              <a:chExt cx="3543480" cy="460800"/>
            </a:xfrm>
          </p:grpSpPr>
          <p:sp>
            <p:nvSpPr>
              <p:cNvPr id="225" name="Text Box 10"/>
              <p:cNvSpPr/>
              <p:nvPr/>
            </p:nvSpPr>
            <p:spPr>
              <a:xfrm>
                <a:off x="3670920" y="1917360"/>
                <a:ext cx="687240" cy="460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胃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1"/>
              <p:cNvSpPr/>
              <p:nvPr/>
            </p:nvSpPr>
            <p:spPr>
              <a:xfrm>
                <a:off x="5385240" y="1917360"/>
                <a:ext cx="1829160" cy="460800"/>
              </a:xfrm>
              <a:prstGeom prst="rect">
                <a:avLst/>
              </a:prstGeom>
              <a:solidFill>
                <a:srgbClr val="ccffff"/>
              </a:solidFill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吸收水分 存放残渣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2"/>
            <p:cNvGrpSpPr/>
            <p:nvPr/>
          </p:nvGrpSpPr>
          <p:grpSpPr>
            <a:xfrm>
              <a:off x="3670920" y="2743920"/>
              <a:ext cx="3543480" cy="460800"/>
              <a:chOff x="3670920" y="2743920"/>
              <a:chExt cx="3543480" cy="460800"/>
            </a:xfrm>
          </p:grpSpPr>
          <p:sp>
            <p:nvSpPr>
              <p:cNvPr id="228" name="Text Box 13"/>
              <p:cNvSpPr/>
              <p:nvPr/>
            </p:nvSpPr>
            <p:spPr>
              <a:xfrm>
                <a:off x="3670920" y="2743920"/>
                <a:ext cx="687240" cy="460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食管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4"/>
              <p:cNvSpPr/>
              <p:nvPr/>
            </p:nvSpPr>
            <p:spPr>
              <a:xfrm>
                <a:off x="5385240" y="2743920"/>
                <a:ext cx="1829160" cy="460800"/>
              </a:xfrm>
              <a:prstGeom prst="rect">
                <a:avLst/>
              </a:prstGeom>
              <a:solidFill>
                <a:srgbClr val="ccffff"/>
              </a:solidFill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细细长长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5"/>
            <p:cNvGrpSpPr/>
            <p:nvPr/>
          </p:nvGrpSpPr>
          <p:grpSpPr>
            <a:xfrm>
              <a:off x="3671280" y="3536280"/>
              <a:ext cx="3543480" cy="460800"/>
              <a:chOff x="3671280" y="3536280"/>
              <a:chExt cx="3543480" cy="460800"/>
            </a:xfrm>
          </p:grpSpPr>
          <p:sp>
            <p:nvSpPr>
              <p:cNvPr id="231" name="Text Box 16"/>
              <p:cNvSpPr/>
              <p:nvPr/>
            </p:nvSpPr>
            <p:spPr>
              <a:xfrm>
                <a:off x="3671280" y="3536280"/>
                <a:ext cx="687240" cy="460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大肠</a:t>
                </a:r>
                <a:r>
                  <a:rPr b="0" lang="zh-CN" sz="15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	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7"/>
              <p:cNvSpPr/>
              <p:nvPr/>
            </p:nvSpPr>
            <p:spPr>
              <a:xfrm>
                <a:off x="5385600" y="3536280"/>
                <a:ext cx="1829160" cy="460800"/>
              </a:xfrm>
              <a:prstGeom prst="rect">
                <a:avLst/>
              </a:prstGeom>
              <a:solidFill>
                <a:srgbClr val="ccffff"/>
              </a:solidFill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大口袋 磨碎食物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8"/>
            <p:cNvGrpSpPr/>
            <p:nvPr/>
          </p:nvGrpSpPr>
          <p:grpSpPr>
            <a:xfrm>
              <a:off x="3671280" y="4328640"/>
              <a:ext cx="3543480" cy="460800"/>
              <a:chOff x="3671280" y="4328640"/>
              <a:chExt cx="3543480" cy="460800"/>
            </a:xfrm>
          </p:grpSpPr>
          <p:sp>
            <p:nvSpPr>
              <p:cNvPr id="234" name="Text Box 19"/>
              <p:cNvSpPr/>
              <p:nvPr/>
            </p:nvSpPr>
            <p:spPr>
              <a:xfrm>
                <a:off x="3671280" y="4328640"/>
                <a:ext cx="687240" cy="460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口腔</a:t>
                </a:r>
                <a:r>
                  <a:rPr b="0" lang="zh-CN" sz="15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	</a:t>
                </a:r>
                <a:r>
                  <a:rPr b="0" lang="zh-CN" sz="15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	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20"/>
              <p:cNvSpPr/>
              <p:nvPr/>
            </p:nvSpPr>
            <p:spPr>
              <a:xfrm>
                <a:off x="5385600" y="4328640"/>
                <a:ext cx="1829160" cy="460800"/>
              </a:xfrm>
              <a:prstGeom prst="rect">
                <a:avLst/>
              </a:prstGeom>
              <a:solidFill>
                <a:srgbClr val="ccffff"/>
              </a:solidFill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弯弯曲曲 吸收营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Text Box 21"/>
          <p:cNvSpPr/>
          <p:nvPr/>
        </p:nvSpPr>
        <p:spPr>
          <a:xfrm>
            <a:off x="1460880" y="150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会连线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图片3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402920" y="1341000"/>
            <a:ext cx="4535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吃下去的食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依次去哪里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问号"/>
          <p:cNvPicPr/>
          <p:nvPr/>
        </p:nvPicPr>
        <p:blipFill>
          <a:blip r:embed="rId2"/>
          <a:stretch/>
        </p:blipFill>
        <p:spPr>
          <a:xfrm>
            <a:off x="5435640" y="2637000"/>
            <a:ext cx="743040" cy="129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4638331_112522636143_2"/>
          <p:cNvPicPr/>
          <p:nvPr/>
        </p:nvPicPr>
        <p:blipFill>
          <a:blip r:embed="rId3"/>
          <a:stretch/>
        </p:blipFill>
        <p:spPr>
          <a:xfrm>
            <a:off x="6659640" y="692280"/>
            <a:ext cx="165744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口腔"/>
          <p:cNvPicPr/>
          <p:nvPr/>
        </p:nvPicPr>
        <p:blipFill>
          <a:blip r:embed="rId1"/>
          <a:stretch/>
        </p:blipFill>
        <p:spPr>
          <a:xfrm>
            <a:off x="3635280" y="0"/>
            <a:ext cx="44848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324000" y="1844640"/>
            <a:ext cx="3384360" cy="1971360"/>
          </a:xfrm>
          <a:prstGeom prst="rect">
            <a:avLst/>
          </a:prstGeom>
          <a:solidFill>
            <a:srgbClr val="bbe0e3">
              <a:alpha val="50000"/>
            </a:srgbClr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嗨！大家好！我是一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豆子，含有丰富的营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一天，淘淘的妈妈把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和我的伙伴做成了香喷喷的菜。淘淘的</a:t>
            </a:r>
            <a:r>
              <a:rPr b="1" lang="zh-CN" sz="2400" spc="-1" strike="noStrike">
                <a:solidFill>
                  <a:srgbClr val="f95623"/>
                </a:solidFill>
                <a:latin typeface="Arial"/>
              </a:rPr>
              <a:t>牙齿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可真锋利，我的朋友们一下子都被切磨成了碎片。瞧，他们都往下走了，一会儿，我也会变成碎片往下走的。哎！我怎么整个就被挤下去了。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4638331_112522636143_2"/>
          <p:cNvPicPr/>
          <p:nvPr/>
        </p:nvPicPr>
        <p:blipFill>
          <a:blip r:embed="rId2"/>
          <a:stretch/>
        </p:blipFill>
        <p:spPr>
          <a:xfrm>
            <a:off x="826920" y="333360"/>
            <a:ext cx="1403640" cy="1382760"/>
          </a:xfrm>
          <a:prstGeom prst="rect">
            <a:avLst/>
          </a:prstGeom>
          <a:ln w="0">
            <a:noFill/>
          </a:ln>
        </p:spPr>
      </p:pic>
      <p:sp>
        <p:nvSpPr>
          <p:cNvPr id="98" name="Oval 11"/>
          <p:cNvSpPr/>
          <p:nvPr/>
        </p:nvSpPr>
        <p:spPr>
          <a:xfrm flipH="1">
            <a:off x="4858560" y="1125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85185E-006 C 0.0026 -0.00232 0.00711 -0.00116 0.01041 -0.00208 C 0.01249 0.00231 0.0151 0.00092 0.01926 0.00139 C 0.02152 0.00231 0.0236 0.00116 0.02603 0.00069 C 0.02708 -0.00023 0.02829 -0.00046 0.02916 -0.00139 C 0.02968 -0.00185 0.02968 -0.00301 0.0302 -0.00347 C 0.03107 -0.00417 0.03246 -0.00394 0.03333 -0.00486 C 0.03385 -0.00533 0.03437 -0.00579 0.03489 -0.00625 C 0.03871 -0.00556 0.0427 -0.00278 0.04635 -0.00278 E">
                                      <p:cBhvr>
                                        <p:cTn id="12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4"/>
          <p:cNvGrpSpPr/>
          <p:nvPr/>
        </p:nvGrpSpPr>
        <p:grpSpPr>
          <a:xfrm>
            <a:off x="4140360" y="0"/>
            <a:ext cx="4483080" cy="6858000"/>
            <a:chOff x="4140360" y="0"/>
            <a:chExt cx="4483080" cy="6858000"/>
          </a:xfrm>
        </p:grpSpPr>
        <p:pic>
          <p:nvPicPr>
            <p:cNvPr id="100" name="Picture 2" descr="食道"/>
            <p:cNvPicPr/>
            <p:nvPr/>
          </p:nvPicPr>
          <p:blipFill>
            <a:blip r:embed="rId1"/>
            <a:stretch/>
          </p:blipFill>
          <p:spPr>
            <a:xfrm>
              <a:off x="4140360" y="0"/>
              <a:ext cx="4483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3"/>
            <p:cNvSpPr/>
            <p:nvPr/>
          </p:nvSpPr>
          <p:spPr>
            <a:xfrm>
              <a:off x="4140360" y="2311560"/>
              <a:ext cx="719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食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"/>
          <p:cNvSpPr/>
          <p:nvPr/>
        </p:nvSpPr>
        <p:spPr>
          <a:xfrm>
            <a:off x="324000" y="1916280"/>
            <a:ext cx="3240000" cy="1717560"/>
          </a:xfrm>
          <a:prstGeom prst="rect">
            <a:avLst/>
          </a:prstGeom>
          <a:solidFill>
            <a:srgbClr val="bbe0e3">
              <a:alpha val="60000"/>
            </a:srgbClr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刚离开口腔，我就被挤入了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细长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通道，这就是食道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食道壁很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在食道中我被一点一点地往下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5867280" y="981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4638331_112522636143_2"/>
          <p:cNvPicPr/>
          <p:nvPr/>
        </p:nvPicPr>
        <p:blipFill>
          <a:blip r:embed="rId2"/>
          <a:stretch/>
        </p:blipFill>
        <p:spPr>
          <a:xfrm>
            <a:off x="684360" y="404640"/>
            <a:ext cx="1331640" cy="1312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417 C 0.00209 0.00324 0.00538 0.00023 0.00747 0.00278 C 0.00868 0.00463 0.01111 0.0081 0.01111 0.00856 C 0.01181 0.01227 0.01129 0.01805 0.01302 0.02014 C 0.01424 0.02199 0.01667 0.02546 0.01667 0.02592 C 0.01927 0.03449 0.02604 0.04074 0.03073 0.04421 C 0.03108 0.05764 0.03056 0.06921 0.03386 0.08055 C 0.03281 0.09699 0.02761 0.11528 0.03629 0.11875 C 0.03542 0.12153 0.03733 0.1243 0.03681 0.12731 C 0.03646 0.13009 0.03559 0.13542 0.03559 0.13588 C 0.03525 0.14352 0.03611 0.15023 0.03264 0.15278 C 0.03334 0.15995 0.03455 0.1662 0.03559 0.17292 C 0.03542 0.17917 0.03438 0.18542 0.03438 0.19167 C 0.03438 0.19653 0.0375 0.20509 0.0375 0.20555 C 0.03507 0.21296 0.03577 0.22199 0.03507 0.23171 C 0.0349 0.23449 0.03681 0.23912 0.03681 0.23958 C 0.0375 0.24491 0.03611 0.25023 0.03681 0.25602 C 0.03646 0.28009 0.04254 0.30069 0.04254 0.325 E">
                                      <p:cBhvr>
                                        <p:cTn id="18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3851280" y="0"/>
            <a:ext cx="4176720" cy="6524640"/>
            <a:chOff x="3851280" y="0"/>
            <a:chExt cx="4176720" cy="6524640"/>
          </a:xfrm>
        </p:grpSpPr>
        <p:pic>
          <p:nvPicPr>
            <p:cNvPr id="106" name="Picture 2" descr="胃"/>
            <p:cNvPicPr/>
            <p:nvPr/>
          </p:nvPicPr>
          <p:blipFill>
            <a:blip r:embed="rId1"/>
            <a:stretch/>
          </p:blipFill>
          <p:spPr>
            <a:xfrm>
              <a:off x="3851280" y="0"/>
              <a:ext cx="4176720" cy="65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3"/>
            <p:cNvSpPr/>
            <p:nvPr/>
          </p:nvSpPr>
          <p:spPr>
            <a:xfrm>
              <a:off x="3919320" y="219888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食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5"/>
          <p:cNvSpPr/>
          <p:nvPr/>
        </p:nvSpPr>
        <p:spPr>
          <a:xfrm>
            <a:off x="250920" y="1628640"/>
            <a:ext cx="3313080" cy="1629360"/>
          </a:xfrm>
          <a:prstGeom prst="rect">
            <a:avLst/>
          </a:prstGeom>
          <a:solidFill>
            <a:srgbClr val="bbe0e3">
              <a:alpha val="60000"/>
            </a:srgbClr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接着我就来到了一个大口袋里，这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口袋就是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它不停地蠕动，还下起了“酸雨”。我的朋友在这里不停地转呀转，磨呀磨，变得象浆糊一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6156360" y="357336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4638331_112522636143_2"/>
          <p:cNvPicPr/>
          <p:nvPr/>
        </p:nvPicPr>
        <p:blipFill>
          <a:blip r:embed="rId2"/>
          <a:stretch/>
        </p:blipFill>
        <p:spPr>
          <a:xfrm>
            <a:off x="1116000" y="0"/>
            <a:ext cx="1511280" cy="1488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6 -0.03564 C -0.01285 -0.04189 -0.0125 -0.04467 -0.00781 -0.04675 C -0.00313 -0.04467 0.00104 -0.04143 0.00573 -0.03981 C 0.01007 -0.03101 0.00469 -0.02592 -0.00156 -0.02314 C -0.00885 -0.02638 -0.00851 -0.02314 -0.00677 -0.03009 C 0.00278 -0.02893 0.00885 -0.03148 0.01198 -0.01898 C 0.0099 -0.01064 8.33333000000401E-007 -0.01157 -0.00573 -0.01064 C -0.00677 -0.01111 -0.00938 -0.01087 -0.00885 -0.01203 C -0.00712 -0.01597 -0.0026 -0.01759 0.00052 -0.01898 C 0.00503 -0.01504 0.0092 -0.01018 0.01302 -0.00509 C 0.01267 -0.00138 0.01302 0.00255 0.01198 0.00602 C 0.01128 0.00811 0.00017 0.01366 -0.00156 0.01436 C -0.00504 0.00741 -0.0033 0.00024 0.0026 -0.00231 C 0.00903 0.00209 0.01094 0.01065 0.00365 0.01713 C -0.0007 0.02107 -0.00799 0.02269 -0.01302 0.02408 C -0.01684 0.02338 -0.02778 0.02338 -0.01927 0.01575 C -0.01181 0.01899 -0.01632 0.02639 -0.01927 0.03241 C -0.02274 0.03195 -0.02656 0.03288 -0.02969 0.03102 C -0.03073 0.03033 -0.02969 0.02732 -0.02865 0.02686 C -0.02656 0.02616 -0.02448 0.02778 -0.0224 0.02825 C -0.02431 0.03195 -0.02448 0.03426 -0.02865 0.0338 C -0.03142 0.03357 -0.03698 0.03102 -0.03698 0.03102 C -0.03316 0.02362 -0.03229 0.02732 -0.03073 0.0338 C -0.03368 0.03519 -0.04826 0.03658 -0.03906 0.03241 C -0.02917 0.0338 -0.02066 0.03866 -0.01094 0.04075 C -0.00382 0.04723 -0.00712 0.04514 -0.00156 0.04769 C -0.0007 0.03936 -0.00017 0.03542 0.0026 0.02825 C 0.00174 0.02454 0.00208 0.02269 -0.00156 0.02269 C -0.0026 0.02269 -0.00573 0.02408 -0.00469 0.02408 C -0.00087 0.02408 0.00295 0.02315 0.00677 0.02269 C 0.00399 0.01181 0.0059 0.00834 0.00781 -0.00231 C 0.00538 -0.0118 -0.0007 -0.0074 -0.00781 -0.00648 C -0.00885 -0.00555 -0.01007 -0.00486 -0.01094 -0.0037 C -0.0125 -0.00115 -0.0151 0.00463 -0.0151 0.00463 C -0.01389 0.01389 -0.01406 0.01019 -0.01406 0.01575 E">
                                      <p:cBhvr>
                                        <p:cTn id="24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4"/>
          <p:cNvGrpSpPr/>
          <p:nvPr/>
        </p:nvGrpSpPr>
        <p:grpSpPr>
          <a:xfrm>
            <a:off x="1332000" y="0"/>
            <a:ext cx="4483080" cy="6858000"/>
            <a:chOff x="1332000" y="0"/>
            <a:chExt cx="4483080" cy="6858000"/>
          </a:xfrm>
        </p:grpSpPr>
        <p:pic>
          <p:nvPicPr>
            <p:cNvPr id="112" name="Picture 2" descr="小肠"/>
            <p:cNvPicPr/>
            <p:nvPr/>
          </p:nvPicPr>
          <p:blipFill>
            <a:blip r:embed="rId1"/>
            <a:stretch/>
          </p:blipFill>
          <p:spPr>
            <a:xfrm>
              <a:off x="1332000" y="0"/>
              <a:ext cx="4483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3"/>
            <p:cNvSpPr/>
            <p:nvPr/>
          </p:nvSpPr>
          <p:spPr>
            <a:xfrm>
              <a:off x="1351080" y="2311560"/>
              <a:ext cx="719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食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5"/>
          <p:cNvSpPr/>
          <p:nvPr/>
        </p:nvSpPr>
        <p:spPr>
          <a:xfrm>
            <a:off x="5724360" y="1341360"/>
            <a:ext cx="3168720" cy="1283040"/>
          </a:xfrm>
          <a:prstGeom prst="rect">
            <a:avLst/>
          </a:prstGeom>
          <a:solidFill>
            <a:srgbClr val="bbe0e3">
              <a:alpha val="60000"/>
            </a:srgbClr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我们又来到了小肠妹妹家，它的家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弯弯曲曲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-7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米长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，边上有许多绒毛，还有一扇扇小门。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大部分营养在小肠这里被吸收。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小肠妹妹说：“欢迎你们食物朋友。被我吸收的营养从我的小门出去就可到达淘淘的全身，使小淘淘长高，长胖，给淘淘力量。”“我也要出去，为淘淘做点事。哎，怎么出不去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4638331_112522636143_2"/>
          <p:cNvPicPr/>
          <p:nvPr/>
        </p:nvPicPr>
        <p:blipFill>
          <a:blip r:embed="rId2"/>
          <a:stretch/>
        </p:blipFill>
        <p:spPr>
          <a:xfrm>
            <a:off x="6516720" y="0"/>
            <a:ext cx="1511280" cy="1341360"/>
          </a:xfrm>
          <a:prstGeom prst="rect">
            <a:avLst/>
          </a:prstGeom>
          <a:ln w="0">
            <a:noFill/>
          </a:ln>
        </p:spPr>
      </p:pic>
      <p:sp>
        <p:nvSpPr>
          <p:cNvPr id="116" name="Oval 7"/>
          <p:cNvSpPr/>
          <p:nvPr/>
        </p:nvSpPr>
        <p:spPr>
          <a:xfrm>
            <a:off x="3203640" y="4149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5.18519E-006 C 0.00121 0.00254 0.0033 0.00532 0.00521 0.00694 C 0.00868 0.01388 0.01215 0.01527 0.01875 0.01597 C 0.02048 0.01666 0.02396 0.01805 0.02396 0.01805 C 0.02673 0.01689 0.02587 0.01689 0.03021 0.01805 C 0.03125 0.01828 0.03333 0.01944 0.03333 0.01944 C 0.03611 0.01874 0.03732 0.01851 0.03958 0.01666 C 0.0434 0.01921 0.04635 0.02245 0.05052 0.0243 C 0.05399 0.02384 0.05607 0.02268 0.05937 0.02361 C 0.06094 0.02499 0.06215 0.028 0.06354 0.02916 C 0.06441 0.02986 0.06666 0.03055 0.06666 0.03055 C 0.06857 0.0331 0.06962 0.03611 0.07187 0.03819 C 0.07309 0.04305 0.07326 0.04097 0.07239 0.04444 C 0.07274 0.04791 0.0743 0.05023 0.07187 0.05138 C 0.06927 0.05115 0.06649 0.05185 0.06406 0.05069 C 0.06284 0.05023 0.06267 0.04791 0.06198 0.04652 C 0.06198 0.04629 0.0526 0.03888 0.05104 0.03819 C 0.05 0.03611 0.04687 0.03333 0.04687 0.03333 C 0.04566 0.03587 0.04236 0.03703 0.04635 0.03888 C 0.04687 0.0412 0.04791 0.04722 0.04948 0.0493 C 0.05034 0.05046 0.05156 0.05115 0.0526 0.05208 C 0.05347 0.053 0.05573 0.05347 0.05573 0.05347 C 0.05625 0.05555 0.05937 0.05833 0.05937 0.05833 C 0.06024 0.06203 0.06163 0.06666 0.06458 0.06805 C 0.06562 0.07199 0.06684 0.07222 0.06927 0.0743 C 0.07083 0.07731 0.06962 0.08055 0.07135 0.08402 C 0.07066 0.0868 0.07031 0.08796 0.06823 0.08888 C 0.0618 0.08726 0.06753 0.08587 0.06406 0.08124 C 0.06302 0.07986 0.06094 0.07708 0.06094 0.07708 C 0.05972 0.07222 0.06076 0.07384 0.05833 0.07152 C 0.05798 0.0699 0.05347 0.06157 0.05208 0.06041 C 0.05104 0.05833 0.05069 0.05578 0.04948 0.05416 C 0.04653 0.05023 0.04201 0.04861 0.03802 0.04722 C 0.03715 0.04699 0.03489 0.04652 0.03385 0.04583 C 0.03281 0.0449 0.03073 0.04305 0.03073 0.04305 C 0.03021 0.04097 0.03055 0.03796 0.02916 0.0368 C 0.02205 0.03055 0.01441 0.03009 0.00625 0.02777 C 0.00382 0.02708 0.00139 0.02615 -0.00104 0.02499 C -0.00278 0.0243 -0.00625 0.02291 -0.00625 0.02291 C -0.01198 0.02361 -0.0158 0.02569 -0.01771 0.03333 C -0.01684 0.03865 -0.01597 0.03842 -0.01302 0.04097 C -0.0092 0.03935 -0.00591 0.03981 -0.00209 0.04027 C 0.00208 0.04166 0.01094 0.04236 0.01094 0.04236 C 0.01389 0.0449 0.0158 0.04745 0.01927 0.04861 C 0.02222 0.05115 0.02569 0.05161 0.02864 0.05416 C 0.03021 0.0574 0.03316 0.05856 0.03594 0.05972 C 0.03715 0.06018 0.03802 0.06157 0.03906 0.06249 C 0.03958 0.06296 0.04062 0.06388 0.04062 0.06388 C 0.04201 0.06689 0.04444 0.06736 0.04583 0.07083 C 0.04653 0.07245 0.04583 0.07499 0.04687 0.07638 C 0.04757 0.07731 0.04861 0.07685 0.04948 0.07708 C 0.05052 0.07916 0.05156 0.08124 0.0526 0.08333 C 0.05295 0.08402 0.05364 0.08541 0.05364 0.08541 C 0.05382 0.08634 0.05416 0.08726 0.05416 0.08819 C 0.05416 0.09861 0.05312 0.09606 0.04739 0.09861 C 0.04809 0.09513 0.04844 0.09166 0.04896 0.08819 C 0.04618 0.08703 0.04791 0.08796 0.04427 0.08472 C 0.04375 0.08425 0.04271 0.08333 0.04271 0.08333 C 0.04236 0.08263 0.04219 0.08171 0.04166 0.08124 C 0.04132 0.08078 0.04045 0.08101 0.0401 0.08055 C 0.03975 0.08009 0.03993 0.07893 0.03958 0.07847 C 0.03923 0.07777 0.03854 0.07754 0.03802 0.07708 C 0.03628 0.07361 0.03437 0.06967 0.03177 0.06736 C 0.03055 0.06481 0.02864 0.06203 0.02656 0.06111 C 0.02413 0.05624 0.02153 0.05115 0.01719 0.0493 C 0.01458 0.04953 0.00416 0.05092 -0.00052 0.0493 C -0.00226 0.04884 -0.00365 0.04722 -0.00521 0.04652 C -0.00625 0.04606 -0.00834 0.04513 -0.00834 0.04513 C -0.01233 0.04583 -0.01667 0.04907 -0.01094 0.05416 C -0.00799 0.06226 -0.00261 0.05902 0.0026 0.06249 C 0.00798 0.0662 0.01493 0.07407 0.02031 0.07638 C 0.02257 0.07939 0.02465 0.07986 0.0276 0.08055 C 0.02951 0.08217 0.02916 0.08379 0.03125 0.08472 C 0.03142 0.08564 0.03125 0.0868 0.03177 0.08749 C 0.03212 0.08796 0.03298 0.08749 0.03333 0.08819 C 0.03732 0.0956 0.03194 0.09027 0.03594 0.09374 C 0.03819 0.09837 0.03871 0.09999 0.03489 0.10347 C 0.03142 0.09884 0.03333 0.09629 0.0276 0.09374 C 0.025 0.09027 0.021 0.09004 0.01823 0.0868 C 0.01371 0.08171 0.01198 0.07708 0.00573 0.07499 C 0.0026 0.07407 0.00034 0.07199 -0.00261 0.07083 C -0.00417 0.07013 -0.00729 0.06874 -0.00729 0.06874 C -0.00972 0.06898 -0.01233 0.06851 -0.01459 0.06944 C -0.01511 0.06967 -0.01441 0.07083 -0.01406 0.07152 C -0.01337 0.07291 -0.01268 0.0743 -0.01198 0.07569 C -0.0099 0.07962 -0.0092 0.08124 -0.00521 0.08263 C -0.00243 0.08518 -0.00156 0.08564 0.00156 0.0868 C 0.0026 0.08773 0.00382 0.08796 0.00469 0.08888 C 0.00521 0.08935 0.00521 0.09027 0.00573 0.09097 C 0.00625 0.09166 0.00677 0.09189 0.00729 0.09236 C 0.00816 0.0956 0.00989 0.09768 0.01198 0.0993 C 0.01302 0.10023 0.0151 0.10208 0.0151 0.10208 C 0.01597 0.10532 0.01875 0.10509 0.02083 0.10694 C 0.02135 0.10925 0.02239 0.11087 0.02291 0.11319 C 0.02048 0.11805 0.02205 0.11689 0.01927 0.11805 C 0.01892 0.11874 0.01875 0.11967 0.01823 0.12013 C 0.01788 0.1206 0.01701 0.12036 0.01666 0.12083 C 0.01632 0.12129 0.01649 0.12245 0.01614 0.12291 C 0.01423 0.12546 0.00955 0.12592 0.00729 0.12638 C 0.00399 0.12777 0.00521 0.12777 0.00364 0.12777 E">
                                      <p:cBhvr>
                                        <p:cTn id="30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1332000" y="0"/>
            <a:ext cx="4481280" cy="6858000"/>
            <a:chOff x="1332000" y="0"/>
            <a:chExt cx="4481280" cy="6858000"/>
          </a:xfrm>
        </p:grpSpPr>
        <p:pic>
          <p:nvPicPr>
            <p:cNvPr id="118" name="Picture 2" descr="大肠"/>
            <p:cNvPicPr/>
            <p:nvPr/>
          </p:nvPicPr>
          <p:blipFill>
            <a:blip r:embed="rId1"/>
            <a:stretch/>
          </p:blipFill>
          <p:spPr>
            <a:xfrm>
              <a:off x="1332000" y="0"/>
              <a:ext cx="4481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3"/>
            <p:cNvSpPr/>
            <p:nvPr/>
          </p:nvSpPr>
          <p:spPr>
            <a:xfrm>
              <a:off x="1332000" y="2311560"/>
              <a:ext cx="7189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食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5"/>
          <p:cNvSpPr/>
          <p:nvPr/>
        </p:nvSpPr>
        <p:spPr>
          <a:xfrm>
            <a:off x="5724360" y="1916280"/>
            <a:ext cx="3168720" cy="1994760"/>
          </a:xfrm>
          <a:prstGeom prst="rect">
            <a:avLst/>
          </a:prstGeom>
          <a:solidFill>
            <a:srgbClr val="bbe0e3">
              <a:alpha val="60000"/>
            </a:srgbClr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最后我们进入大肠，它短粗短粗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，负责吸收水分， 存放食物残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4638331_112522636143_2"/>
          <p:cNvPicPr/>
          <p:nvPr/>
        </p:nvPicPr>
        <p:blipFill>
          <a:blip r:embed="rId2"/>
          <a:stretch/>
        </p:blipFill>
        <p:spPr>
          <a:xfrm>
            <a:off x="6659640" y="404640"/>
            <a:ext cx="1511280" cy="1489320"/>
          </a:xfrm>
          <a:prstGeom prst="rect">
            <a:avLst/>
          </a:prstGeom>
          <a:ln w="0">
            <a:noFill/>
          </a:ln>
        </p:spPr>
      </p:pic>
      <p:sp>
        <p:nvSpPr>
          <p:cNvPr id="122" name="Oval 7"/>
          <p:cNvSpPr/>
          <p:nvPr/>
        </p:nvSpPr>
        <p:spPr>
          <a:xfrm>
            <a:off x="3276720" y="5013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C -0.00278 0.00185 -0.00469 0.00625 -0.00781 0.00764 C -0.01337 0.01018 -0.01945 0.01412 -0.025 0.01597 C -0.02778 0.01527 -0.02882 0.01435 -0.03125 0.01319 C -0.03316 0.01064 -0.03438 0.0081 -0.03542 0.00486 C -0.03594 0.00347 -0.03646 0.00069 -0.03646 0.00069 C -0.03681 -0.00787 -0.03767 -0.01042 -0.03854 -0.01736 C -0.03889 -0.02014 -0.0401 -0.0257 -0.0401 -0.0257 C -0.04063 -0.03264 -0.04201 -0.03704 -0.04427 -0.04306 C -0.04549 -0.04607 -0.04549 -0.04908 -0.04688 -0.05209 C -0.04757 -0.05579 -0.04844 -0.05949 -0.04896 -0.0632 C -0.04913 -0.07361 -0.04948 -0.08403 -0.04948 -0.09445 C -0.04948 -0.10186 -0.04931 -0.10926 -0.04896 -0.11667 C -0.04844 -0.13125 -0.03681 -0.13426 -0.02813 -0.1382 C -0.02708 -0.13797 -0.02604 -0.13797 -0.025 -0.1375 C -0.02379 -0.13681 -0.02188 -0.13473 -0.02188 -0.13473 C -0.02066 -0.1301 -0.01754 -0.12662 -0.01406 -0.125 C -0.00677 -0.12593 0.00052 -0.12686 0.00781 -0.12778 C 0.01944 -0.12732 0.02708 -0.12639 0.03802 -0.12709 C 0.04531 -0.13033 0.05121 -0.13681 0.05885 -0.13889 C 0.06649 -0.14398 0.07031 -0.1426 0.07552 -0.15278 C 0.07656 -0.15486 0.07812 -0.15718 0.07969 -0.15834 C 0.08073 -0.15903 0.08281 -0.15973 0.08281 -0.15973 C 0.08628 -0.15857 0.08542 -0.1551 0.08802 -0.15278 C 0.09045 -0.14815 0.08542 -0.1382 0.08437 -0.13264 C 0.08403 -0.13079 0.0842 -0.12871 0.08333 -0.12709 C 0.0816 -0.12385 0.08246 -0.1257 0.08125 -0.12084 C 0.08108 -0.12014 0.08073 -0.11875 0.08073 -0.11875 C 0.08021 -0.11343 0.07969 -0.10811 0.07917 -0.10278 C 0.07986 -0.09144 0.08299 -0.08079 0.08385 -0.06945 C 0.08368 -0.06621 0.08333 -0.06297 0.08333 -0.05973 C 0.08299 -0.04236 0.0849 -0.02593 0.07969 -0.01042 C 0.0783 -0.00625 0.07812 -0.00139 0.075 0.00139 C 0.07361 0.00717 0.06701 0.01875 0.0625 0.02083 C 0.06024 0.02546 0.05312 0.02708 0.04896 0.02847 C 0.04375 0.02801 0.03889 0.02708 0.03385 0.02569 C 0.03003 0.02615 0.02656 0.02615 0.02292 0.02777 C 0.02135 0.03078 0.02101 0.03426 0.01979 0.0375 C 0.0184 0.05509 0.01771 0.06782 0.01771 0.0868 E">
                                      <p:cBhvr>
                                        <p:cTn id="36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410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Oval 3"/>
          <p:cNvSpPr/>
          <p:nvPr/>
        </p:nvSpPr>
        <p:spPr>
          <a:xfrm>
            <a:off x="5364000" y="1557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493236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59280" y="1557000"/>
            <a:ext cx="2017440" cy="360"/>
            <a:chOff x="3059280" y="1557000"/>
            <a:chExt cx="2017440" cy="360"/>
          </a:xfrm>
        </p:grpSpPr>
        <p:sp>
          <p:nvSpPr>
            <p:cNvPr id="127" name="Line 5"/>
            <p:cNvSpPr/>
            <p:nvPr/>
          </p:nvSpPr>
          <p:spPr>
            <a:xfrm>
              <a:off x="3059280" y="1557360"/>
              <a:ext cx="2017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10800000">
              <a:off x="3059280" y="1557000"/>
              <a:ext cx="201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6"/>
          <p:cNvSpPr/>
          <p:nvPr/>
        </p:nvSpPr>
        <p:spPr>
          <a:xfrm>
            <a:off x="1979640" y="1268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5623"/>
                </a:solidFill>
                <a:latin typeface="Arial"/>
              </a:rPr>
              <a:t>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16360" y="2349360"/>
            <a:ext cx="1584360" cy="360"/>
            <a:chOff x="2916360" y="2349360"/>
            <a:chExt cx="1584360" cy="360"/>
          </a:xfrm>
        </p:grpSpPr>
        <p:sp>
          <p:nvSpPr>
            <p:cNvPr id="131" name="Line 7"/>
            <p:cNvSpPr/>
            <p:nvPr/>
          </p:nvSpPr>
          <p:spPr>
            <a:xfrm>
              <a:off x="2916360" y="23493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2916360" y="234936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8"/>
          <p:cNvSpPr/>
          <p:nvPr/>
        </p:nvSpPr>
        <p:spPr>
          <a:xfrm>
            <a:off x="1908000" y="2060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5623"/>
                </a:solidFill>
                <a:latin typeface="Arial"/>
              </a:rPr>
              <a:t>食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219640" y="3429000"/>
            <a:ext cx="936720" cy="360"/>
            <a:chOff x="5219640" y="3429000"/>
            <a:chExt cx="936720" cy="360"/>
          </a:xfrm>
        </p:grpSpPr>
        <p:sp>
          <p:nvSpPr>
            <p:cNvPr id="135" name="Line 9"/>
            <p:cNvSpPr/>
            <p:nvPr/>
          </p:nvSpPr>
          <p:spPr>
            <a:xfrm>
              <a:off x="5219640" y="3429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5219640" y="342900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0"/>
          <p:cNvSpPr/>
          <p:nvPr/>
        </p:nvSpPr>
        <p:spPr>
          <a:xfrm>
            <a:off x="6372360" y="321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5623"/>
                </a:solidFill>
                <a:latin typeface="Arial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16360" y="4797360"/>
            <a:ext cx="1440000" cy="360"/>
            <a:chOff x="4716360" y="4797360"/>
            <a:chExt cx="1440000" cy="360"/>
          </a:xfrm>
        </p:grpSpPr>
        <p:sp>
          <p:nvSpPr>
            <p:cNvPr id="139" name="Line 11"/>
            <p:cNvSpPr/>
            <p:nvPr/>
          </p:nvSpPr>
          <p:spPr>
            <a:xfrm>
              <a:off x="4716360" y="479736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716360" y="479736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2"/>
          <p:cNvSpPr/>
          <p:nvPr/>
        </p:nvSpPr>
        <p:spPr>
          <a:xfrm>
            <a:off x="6227640" y="450864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5623"/>
                </a:solidFill>
                <a:latin typeface="Arial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916360" y="5084640"/>
            <a:ext cx="1079280" cy="360"/>
            <a:chOff x="2916360" y="5084640"/>
            <a:chExt cx="1079280" cy="360"/>
          </a:xfrm>
        </p:grpSpPr>
        <p:sp>
          <p:nvSpPr>
            <p:cNvPr id="143" name="Line 13"/>
            <p:cNvSpPr/>
            <p:nvPr/>
          </p:nvSpPr>
          <p:spPr>
            <a:xfrm>
              <a:off x="2916360" y="5084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2916360" y="5084640"/>
              <a:ext cx="107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1908000" y="486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5623"/>
                </a:solidFill>
                <a:latin typeface="Arial"/>
              </a:rPr>
              <a:t>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771280" y="3357720"/>
            <a:ext cx="1080000" cy="360"/>
            <a:chOff x="2771280" y="3357720"/>
            <a:chExt cx="1080000" cy="360"/>
          </a:xfrm>
        </p:grpSpPr>
        <p:sp>
          <p:nvSpPr>
            <p:cNvPr id="147" name="Line 15"/>
            <p:cNvSpPr/>
            <p:nvPr/>
          </p:nvSpPr>
          <p:spPr>
            <a:xfrm flipH="1">
              <a:off x="2771280" y="33577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771640" y="3357720"/>
              <a:ext cx="10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6"/>
          <p:cNvSpPr/>
          <p:nvPr/>
        </p:nvSpPr>
        <p:spPr>
          <a:xfrm>
            <a:off x="2124000" y="306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5623"/>
                </a:solidFill>
                <a:latin typeface="Arial"/>
              </a:rPr>
              <a:t>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6372360" y="765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请大家完整的看一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0232 C -0.02066 -0.0044 -0.0243 -0.01088 -0.02968 -0.01157 C -0.0375 -0.0125 -0.04548 -0.01273 -0.05329 -0.01319 C -0.05989 -0.01273 -0.06666 -0.01296 -0.07326 -0.01157 C -0.08072 -0.01018 -0.08697 0.00763 -0.09097 0.01503 C -0.09427 0.02891 -0.09756 0.04117 -0.09913 0.05574 C -0.09826 0.13717 -0.10364 0.13902 -0.09444 0.18598 C -0.09357 0.19639 -0.09427 0.20818 -0.08732 0.2142 C -0.08211 0.22507 -0.07187 0.22576 -0.06388 0.23132 C -0.06006 0.23363 -0.06093 0.23525 -0.05677 0.23571 C -0.05208 0.23664 -0.04739 0.2371 -0.0427 0.23756 C -0.03628 0.24358 -0.03072 0.25098 -0.02621 0.25954 C -0.02482 0.26694 -0.02361 0.27365 -0.02031 0.27989 C -0.01944 0.28359 -0.01701 0.28706 -0.01684 0.291 C -0.01545 0.32662 -0.02395 0.31621 -0.05086 0.3176 C -0.071 0.32662 -0.09392 0.31089 -0.11215 0.32708 C -0.1184 0.34004 -0.10989 0.32384 -0.11805 0.33472 C -0.12013 0.33749 -0.12118 0.34119 -0.12274 0.3442 C -0.12239 0.34744 -0.12187 0.35045 -0.12152 0.35368 C -0.11892 0.38167 -0.12222 0.37543 -0.09687 0.37705 C -0.0934 0.37867 -0.08993 0.38167 -0.08628 0.38191 C -0.06701 0.38329 -0.06111 0.38329 -0.06857 0.38329 E">
                                      <p:cBhvr>
                                        <p:cTn id="67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6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1"/>
                            </p:stCondLst>
                            <p:childTnLst>
                              <p:par>
                                <p:cTn id="7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2082 C 0.01216 0.03747 0.01129 0.07009 -0.00243 0.08189 C -0.0059 0.08837 -0.00989 0.09207 -0.01545 0.09438 C -0.02413 0.09392 -0.03264 0.09392 -0.04132 0.09299 C -0.04583 0.09253 -0.05434 0.08813 -0.05434 0.08813 C -0.05729 0.08513 -0.06094 0.08351 -0.06371 0.08027 C -0.06475 0.07911 -0.06493 0.07703 -0.06597 0.07564 C -0.06701 0.07425 -0.0684 0.07356 -0.06962 0.0724 C -0.07291 0.0657 -0.07465 0.06014 -0.07778 0.05367 C -0.07552 0.034 -0.06875 0.0266 -0.05434 0.02244 C -0.04809 0.0229 -0.04166 0.02267 -0.03541 0.02383 C -0.03298 0.02429 -0.02847 0.02707 -0.02847 0.02707 C -0.02725 0.02868 -0.02604 0.0303 -0.02482 0.03169 C -0.02378 0.03285 -0.02239 0.03377 -0.02135 0.03493 C -0.01892 0.03794 -0.01423 0.04441 -0.01423 0.04441 C -0.01545 0.06708 -0.01232 0.06385 -0.02257 0.0724 C -0.03021 0.07194 -0.04653 0.07657 -0.04722 0.06616 C -0.04809 0.05274 -0.04236 0.04719 -0.0342 0.04279 C -0.03194 0.04164 -0.02951 0.04071 -0.02725 0.03956 C -0.02604 0.03909 -0.02361 0.03794 -0.02361 0.03794 C -0.01337 0.0384 -0.00312 0.03817 0.00695 0.03956 C 0.01285 0.04048 0.01354 0.05737 0.01511 0.06315 C 0.01406 0.08351 0.01476 0.10271 0.00104 0.11474 C -0.00191 0.12052 -0.00347 0.12075 -0.00833 0.1226 C -0.02673 0.12214 -0.04531 0.12306 -0.06371 0.12121 C -0.06562 0.12098 -0.0684 0.11312 -0.06962 0.11173 C -0.07465 0.10571 -0.07517 0.10618 -0.08021 0.10386 C -0.0875 0.10502 -0.09132 0.10595 -0.09774 0.10849 C -0.10729 0.10618 -0.10677 0.10386 -0.10955 0.09299 C -0.10989 0.06847 -0.11007 0.04372 -0.11076 0.0192 C -0.11094 0.01411 -0.11441 0.00463 -0.11545 0.00046 C -0.1158 -0.00116 -0.11666 -0.00439 -0.11666 -0.00439 C -0.11371 -0.01573 -0.1125 -0.01758 -0.10364 -0.02151 C -0.06771 -0.01735 -0.06684 -0.01874 -0.01198 -0.01989 C -0.00399 -0.02267 0.00486 -0.02706 0.01042 -0.03562 C 0.01129 -0.03701 0.01181 -0.03909 0.01285 -0.04025 C 0.01493 -0.04279 0.01979 -0.04673 0.01979 -0.04673 C 0.04653 -0.0229 0.02674 0.06963 0.02691 0.07888 C 0.02622 0.0997 0.02847 0.13047 0.01163 0.14296 C 0.00851 0.14527 0.00573 0.1492 0.00226 0.14943 C -0.00989 0.1499 -0.02205 0.15036 -0.0342 0.15082 C -0.03871 0.15475 -0.03871 0.15684 -0.0401 0.16354 C -0.03871 0.18159 -0.04132 0.19917 -0.04132 0.21675 E">
                                      <p:cBhvr>
                                        <p:cTn id="74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22:29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26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