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5.gif" ContentType="image/gif"/>
  <Override PartName="/ppt/media/image28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27.gif" ContentType="image/gif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A86-810C-4913-96F2-68F592AA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DE4-87A6-4852-B833-073A97FC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9A32-71CD-4423-8256-9C6FEC3B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ED70-673E-40DB-9725-D131FFF4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F541-6062-48F9-8E32-2D2C9DE2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4004-16E5-4F59-8BF3-BAA4C084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D8D9-ED9F-413D-9486-7DF4013F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BC0F-8912-4ED9-AB0F-7CA300E4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ED48-1C89-4230-895C-C7C130B5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B3E2-27CA-42C1-B651-702CCEBA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7689-B906-49D9-8B41-68678885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7CF-E7C3-49D4-BE81-0CE838AE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8389-0E61-4394-869B-DB01B510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BB2D-2AC7-47B7-9C71-2D3CA466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7A6D-1C21-4373-A829-C43CB788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6594-B309-4FC0-9DD7-722DC1FF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77CA-F1AD-4845-88AE-AE08DCCA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C2CBE-7F1E-4A5E-8E04-0CD57C54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5EB1F-6816-4FB5-8BA6-3444E84E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F344C-AD30-456D-AA97-30671076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3E940-6639-4689-9A30-8E0223A4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0F93B-EC34-49A4-8C14-211D92FC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18AB-A8F1-4E29-9E19-4A16B0D4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5AB96-EDEE-49CC-8599-06E22211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65E7E-B50D-40B2-AA01-2ECDBB7F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E6F31-48EA-46D2-980E-7FE47FEF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49BF3-0CBF-48ED-B90E-4389E53E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C4971-56B0-4192-A35A-C4203A99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45C32-6B72-464C-8480-94368550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223CF-44BE-4932-9C4F-764955A1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1389-4D5A-4138-AFBE-07E535FA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FF85-FDBD-476A-ABB7-82D46F3B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B6EF-20B1-40C6-B2A0-C04B7F89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09FC-971B-41DA-B4A5-D04FE53C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E65-BC0B-42D8-A448-FE5BAAC3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4448-7509-433E-92E8-93D2B9F2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25C9-11BB-4217-81B4-920105AD41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AA9B-129D-450C-81AD-F3C2B93079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F245-1C18-4CB3-B432-2146DF4FD23D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79280" y="692280"/>
            <a:ext cx="88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华文中宋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3399ff"/>
                </a:solidFill>
                <a:latin typeface="华文中宋"/>
                <a:ea typeface="华文中宋"/>
              </a:rPr>
              <a:t>人教版七年级生物下第四单元第四章人体内物质的运输第四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403280" y="174960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宋体"/>
              </a:rPr>
              <a:t>输血与血型</a:t>
            </a:r>
            <a:r>
              <a:rPr b="1" i="1" lang="en-US" sz="4000" spc="-1" strike="noStrike">
                <a:solidFill>
                  <a:srgbClr val="ff0000"/>
                </a:solidFill>
                <a:latin typeface="宋体"/>
              </a:rPr>
              <a:t>PPT</a:t>
            </a:r>
            <a:r>
              <a:rPr b="1" i="1" lang="zh-CN" sz="4000" spc="-1" strike="noStrike">
                <a:solidFill>
                  <a:srgbClr val="ff0000"/>
                </a:solidFill>
                <a:latin typeface="宋体"/>
              </a:rPr>
              <a:t>课件免费下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23760" y="64533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66" name="Picture 4" descr="large_ZjCh_3937k2000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250920" y="1052640"/>
            <a:ext cx="889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阅读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7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第一、二段，回答下列问题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输血的时候，应以输入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为原则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输血关系表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50920" y="256536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24000" y="2924280"/>
          <a:ext cx="8540640" cy="3529080"/>
        </p:xfrm>
        <a:graphic>
          <a:graphicData uri="http://schemas.openxmlformats.org/drawingml/2006/table">
            <a:tbl>
              <a:tblPr/>
              <a:tblGrid>
                <a:gridCol w="2454120"/>
                <a:gridCol w="3141720"/>
                <a:gridCol w="294480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某人的血型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可接受的血型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可输给的血型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B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AB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35"/>
          <p:cNvSpPr/>
          <p:nvPr/>
        </p:nvSpPr>
        <p:spPr>
          <a:xfrm>
            <a:off x="3564000" y="3789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37"/>
          <p:cNvSpPr/>
          <p:nvPr/>
        </p:nvSpPr>
        <p:spPr>
          <a:xfrm>
            <a:off x="17928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自主学习三：安全输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38"/>
          <p:cNvSpPr/>
          <p:nvPr/>
        </p:nvSpPr>
        <p:spPr>
          <a:xfrm>
            <a:off x="6696000" y="3860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 Box 40"/>
          <p:cNvSpPr/>
          <p:nvPr/>
        </p:nvSpPr>
        <p:spPr>
          <a:xfrm>
            <a:off x="3564000" y="4581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Text Box 41"/>
          <p:cNvSpPr/>
          <p:nvPr/>
        </p:nvSpPr>
        <p:spPr>
          <a:xfrm>
            <a:off x="6732720" y="4581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42"/>
          <p:cNvSpPr/>
          <p:nvPr/>
        </p:nvSpPr>
        <p:spPr>
          <a:xfrm>
            <a:off x="2987640" y="530064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B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43"/>
          <p:cNvSpPr/>
          <p:nvPr/>
        </p:nvSpPr>
        <p:spPr>
          <a:xfrm>
            <a:off x="6985080" y="522936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Text Box 44"/>
          <p:cNvSpPr/>
          <p:nvPr/>
        </p:nvSpPr>
        <p:spPr>
          <a:xfrm>
            <a:off x="3851280" y="5877000"/>
            <a:ext cx="146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Text Box 46"/>
          <p:cNvSpPr/>
          <p:nvPr/>
        </p:nvSpPr>
        <p:spPr>
          <a:xfrm>
            <a:off x="6084720" y="5950080"/>
            <a:ext cx="27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B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Text Box 47"/>
          <p:cNvSpPr/>
          <p:nvPr/>
        </p:nvSpPr>
        <p:spPr>
          <a:xfrm>
            <a:off x="4500720" y="141300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同型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文本框 8199"/>
          <p:cNvSpPr/>
          <p:nvPr/>
        </p:nvSpPr>
        <p:spPr>
          <a:xfrm>
            <a:off x="1619280" y="2565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3" name="Picture 4" descr="large_7eeL_4345h1320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00000" y="98100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思考：有人说：“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型血的人是万能输血者”，你认为有道理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042920" y="2421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这种说法是不科学的。在没有同型血可输而且情况紧急时，任何血型的人都可以缓慢地输入少量的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型血，但大量输血时，需实行同型输血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87" name="WordArt 3"/>
          <p:cNvSpPr txBox="1"/>
          <p:nvPr/>
        </p:nvSpPr>
        <p:spPr>
          <a:xfrm>
            <a:off x="457200" y="684360"/>
            <a:ext cx="3959280" cy="734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c0c0c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思维拓展</a:t>
            </a:r>
            <a:endParaRPr b="1" lang="en-US" sz="4000" spc="1" strike="noStrike">
              <a:ln w="19080">
                <a:solidFill>
                  <a:srgbClr val="c0c0c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79280" y="14191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  <a:ea typeface="方正舒体"/>
              </a:rPr>
              <a:t>成分输血技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79280" y="2060640"/>
            <a:ext cx="881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输血可以挽救患者的生命，但有些患者只是缺少血液中的某些成分，并不需要输全血（含全部血液成分）。现代医学已经发展出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成分输血，即有针对性地为患者补充血液中缺少的成分 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250920" y="4084560"/>
            <a:ext cx="8208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分析下列患者应该输入什么血液成分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大面积烧伤患者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非缺铁性贫血患者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血流不止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4788000" y="4653000"/>
            <a:ext cx="47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应输入大量血浆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输入红细胞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输入血小板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6" descr="20066281619579062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395280" y="549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倡导无偿献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395280" y="1125360"/>
            <a:ext cx="8207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阅读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7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三段回答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无偿献血制度倡导多少岁的健康公民自愿献血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健康成年人每次献血多少不会影响健康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619280" y="242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900000" y="371628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00m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324000" y="4437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课堂讨论：等你将来长大了，你会参加无偿献血吗？请说出理由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4" descr="2007118173643612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云形标注 6"/>
          <p:cNvSpPr/>
          <p:nvPr/>
        </p:nvSpPr>
        <p:spPr>
          <a:xfrm>
            <a:off x="1143000" y="642960"/>
            <a:ext cx="4143240" cy="1143000"/>
          </a:xfrm>
          <a:prstGeom prst="cloudCallout">
            <a:avLst>
              <a:gd name="adj1" fmla="val -12990"/>
              <a:gd name="adj2" fmla="val 18291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428840" y="730080"/>
            <a:ext cx="46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说说你的看法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42960" y="2197800"/>
            <a:ext cx="5657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材料一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儿子想献血，母亲不让，认为会伤元气，而且会造成贫血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材料二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献血狂人杨主银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年无偿献血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41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次，累计达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万毫升已属违法超常献血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3" name="Picture 3" descr="点击查看下一张"/>
            <p:cNvPicPr/>
            <p:nvPr/>
          </p:nvPicPr>
          <p:blipFill>
            <a:blip r:embed="rId1"/>
            <a:stretch/>
          </p:blipFill>
          <p:spPr>
            <a:xfrm>
              <a:off x="4859280" y="3429000"/>
              <a:ext cx="428472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4" descr="点击查看下一张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762440" cy="32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5" descr="20080512222654242"/>
            <p:cNvPicPr/>
            <p:nvPr/>
          </p:nvPicPr>
          <p:blipFill>
            <a:blip r:embed="rId3"/>
            <a:stretch/>
          </p:blipFill>
          <p:spPr>
            <a:xfrm>
              <a:off x="4859280" y="0"/>
              <a:ext cx="4284720" cy="32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6" descr="点击查看下一张"/>
            <p:cNvPicPr/>
            <p:nvPr/>
          </p:nvPicPr>
          <p:blipFill>
            <a:blip r:embed="rId4"/>
            <a:stretch/>
          </p:blipFill>
          <p:spPr>
            <a:xfrm>
              <a:off x="0" y="3429000"/>
              <a:ext cx="476244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Text Box 7"/>
          <p:cNvSpPr/>
          <p:nvPr/>
        </p:nvSpPr>
        <p:spPr>
          <a:xfrm>
            <a:off x="395280" y="1989000"/>
            <a:ext cx="8424720" cy="2068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日，中国四川汶川发生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级特大地震！人员伤亡惨重，许多人由于失血过多挣扎在死亡线上，全国人民纷纷伸出了援助之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1210737058931_1210737058931_r"/>
          <p:cNvPicPr/>
          <p:nvPr/>
        </p:nvPicPr>
        <p:blipFill>
          <a:blip r:embed="rId1"/>
          <a:stretch/>
        </p:blipFill>
        <p:spPr>
          <a:xfrm>
            <a:off x="0" y="2276640"/>
            <a:ext cx="4762440" cy="393372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0" y="51444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08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日上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时，重庆第三军医大学全体教职员工涌跃为汶川地震灾区无偿献血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0" name="Picture 4" descr="20080515_a42472a093a2c87cf4b56uu23Y0JMfik"/>
          <p:cNvPicPr/>
          <p:nvPr/>
        </p:nvPicPr>
        <p:blipFill>
          <a:blip r:embed="rId2"/>
          <a:stretch/>
        </p:blipFill>
        <p:spPr>
          <a:xfrm>
            <a:off x="4743360" y="0"/>
            <a:ext cx="4400640" cy="3429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谭维维成都亲历地震瞬间半夜赶到医院献血(图)"/>
          <p:cNvPicPr/>
          <p:nvPr/>
        </p:nvPicPr>
        <p:blipFill>
          <a:blip r:embed="rId3"/>
          <a:stretch/>
        </p:blipFill>
        <p:spPr>
          <a:xfrm>
            <a:off x="5003640" y="3429000"/>
            <a:ext cx="3527640" cy="3240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6"/>
          <p:cNvSpPr/>
          <p:nvPr/>
        </p:nvSpPr>
        <p:spPr>
          <a:xfrm>
            <a:off x="4067280" y="6217200"/>
            <a:ext cx="50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谭维维半夜赶到了血液中心献血！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395280" y="422100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作为一个健康公民，应当积极参加无偿献血，为挽救他人的生命奉献爱心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4" name="Picture 3" descr="Img213555099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443640" y="2843280"/>
            <a:ext cx="2700360" cy="4014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b"/>
          <p:cNvPicPr/>
          <p:nvPr/>
        </p:nvPicPr>
        <p:blipFill>
          <a:blip r:embed="rId2"/>
          <a:stretch/>
        </p:blipFill>
        <p:spPr>
          <a:xfrm>
            <a:off x="3348000" y="333360"/>
            <a:ext cx="3954600" cy="2965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images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179280" y="189000"/>
            <a:ext cx="2662200" cy="344016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8199"/>
          <p:cNvSpPr/>
          <p:nvPr/>
        </p:nvSpPr>
        <p:spPr>
          <a:xfrm>
            <a:off x="988920" y="3757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4" descr="200662816165625704.gif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"/>
          <p:cNvSpPr/>
          <p:nvPr/>
        </p:nvSpPr>
        <p:spPr>
          <a:xfrm>
            <a:off x="684360" y="1519560"/>
            <a:ext cx="792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某人因大量出血危及生命，必须输血，此人血型为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型，他应输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    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.O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型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.A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型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.A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型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.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某一健康的人一次失血为多少才能引发生命危险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    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.1200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500 mL     B.800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000 m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.600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700 mL         D.400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500 m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我国提倡多大年龄的人可以无偿献血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    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.2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周岁　　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.18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周岁　　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.18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5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周岁　　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.2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5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周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给严重贫血者输血，既有效又经济的方式是（    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全血    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浓缩的红细胞悬液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血浆    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浓缩的血小板悬液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979640" y="260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达标检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340000" y="1700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7488360" y="2421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5940360" y="3500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7093080" y="4581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95280" y="1196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判断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.AB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血型的人，除可以输同型血以外，还可以输入少量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型、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型、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型血。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可以给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型输血的只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型、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型。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( 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成年人的血量约为体重的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7%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8%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( 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健康成年人每次献血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00 mL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是不会影响健康的。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(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516720" y="2060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6084720" y="476280"/>
            <a:ext cx="16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7343640" y="2565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7380360" y="31417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1692360" y="4076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情景：一天，在某道路上发生了一起的士与大客车相撞的事故。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0" y="1989000"/>
            <a:ext cx="8675640" cy="3274920"/>
            <a:chOff x="0" y="1989000"/>
            <a:chExt cx="8675640" cy="3274920"/>
          </a:xfrm>
        </p:grpSpPr>
        <p:pic>
          <p:nvPicPr>
            <p:cNvPr id="129" name="Picture 5" descr="xin_052100212131659519811"/>
            <p:cNvPicPr/>
            <p:nvPr/>
          </p:nvPicPr>
          <p:blipFill>
            <a:blip r:embed="rId1"/>
            <a:stretch/>
          </p:blipFill>
          <p:spPr>
            <a:xfrm>
              <a:off x="3743280" y="1989000"/>
              <a:ext cx="4932360" cy="327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" name="Group 6"/>
            <p:cNvGrpSpPr/>
            <p:nvPr/>
          </p:nvGrpSpPr>
          <p:grpSpPr>
            <a:xfrm>
              <a:off x="0" y="2465280"/>
              <a:ext cx="3600000" cy="1942560"/>
              <a:chOff x="0" y="2465280"/>
              <a:chExt cx="3600000" cy="1942560"/>
            </a:xfrm>
          </p:grpSpPr>
          <p:sp>
            <p:nvSpPr>
              <p:cNvPr id="131" name="AutoShape 7"/>
              <p:cNvSpPr/>
              <p:nvPr/>
            </p:nvSpPr>
            <p:spPr>
              <a:xfrm>
                <a:off x="0" y="2465280"/>
                <a:ext cx="3600000" cy="1942560"/>
              </a:xfrm>
              <a:prstGeom prst="irregularSeal2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2" name="Text Box 8"/>
              <p:cNvSpPr/>
              <p:nvPr/>
            </p:nvSpPr>
            <p:spPr>
              <a:xfrm>
                <a:off x="500400" y="3063240"/>
                <a:ext cx="26827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0000"/>
                    </a:solidFill>
                    <a:latin typeface="Arial"/>
                  </a:rPr>
                  <a:t>车祸！</a:t>
                </a:r>
                <a:endParaRPr b="0" lang="en-US" sz="4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Group 9"/>
          <p:cNvGrpSpPr/>
          <p:nvPr/>
        </p:nvGrpSpPr>
        <p:grpSpPr>
          <a:xfrm>
            <a:off x="0" y="4005360"/>
            <a:ext cx="8243280" cy="3165480"/>
            <a:chOff x="0" y="4005360"/>
            <a:chExt cx="8243280" cy="3165480"/>
          </a:xfrm>
        </p:grpSpPr>
        <p:pic>
          <p:nvPicPr>
            <p:cNvPr id="134" name="Picture 10" descr="20062280316523"/>
            <p:cNvPicPr/>
            <p:nvPr/>
          </p:nvPicPr>
          <p:blipFill>
            <a:blip r:embed="rId2"/>
            <a:stretch/>
          </p:blipFill>
          <p:spPr>
            <a:xfrm>
              <a:off x="0" y="4005360"/>
              <a:ext cx="4213080" cy="316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" name="Group 11"/>
            <p:cNvGrpSpPr/>
            <p:nvPr/>
          </p:nvGrpSpPr>
          <p:grpSpPr>
            <a:xfrm>
              <a:off x="4608360" y="4221000"/>
              <a:ext cx="3634920" cy="2448000"/>
              <a:chOff x="4608360" y="4221000"/>
              <a:chExt cx="3634920" cy="2448000"/>
            </a:xfrm>
          </p:grpSpPr>
          <p:sp>
            <p:nvSpPr>
              <p:cNvPr id="136" name="PubOvalCallout"/>
              <p:cNvSpPr/>
              <p:nvPr/>
            </p:nvSpPr>
            <p:spPr>
              <a:xfrm>
                <a:off x="4608360" y="4221000"/>
                <a:ext cx="3634920" cy="2448000"/>
              </a:xfrm>
              <a:prstGeom prst="pi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400" spc="-1" strike="noStrike">
                    <a:solidFill>
                      <a:srgbClr val="007572"/>
                    </a:solidFill>
                    <a:latin typeface="Arial"/>
                  </a:rPr>
                  <a:t>快打</a:t>
                </a:r>
                <a:r>
                  <a:rPr b="0" lang="en-US" sz="4400" spc="-1" strike="noStrike">
                    <a:solidFill>
                      <a:srgbClr val="ff0066"/>
                    </a:solidFill>
                    <a:latin typeface="Arial"/>
                  </a:rPr>
                  <a:t>120</a:t>
                </a:r>
                <a:r>
                  <a:rPr b="0" lang="en-US" sz="4400" spc="-1" strike="noStrike">
                    <a:solidFill>
                      <a:srgbClr val="007572"/>
                    </a:solidFill>
                    <a:latin typeface="Arial"/>
                  </a:rPr>
                  <a:t> </a:t>
                </a:r>
                <a:endParaRPr b="0" lang="en-US" sz="4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pic>
            <p:nvPicPr>
              <p:cNvPr id="137" name="Picture 13" descr="无标题"/>
              <p:cNvPicPr/>
              <p:nvPr/>
            </p:nvPicPr>
            <p:blipFill>
              <a:blip r:embed="rId3"/>
              <a:stretch/>
            </p:blipFill>
            <p:spPr>
              <a:xfrm rot="21099000">
                <a:off x="5967720" y="5211360"/>
                <a:ext cx="799560" cy="632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9FE1-9385-4F0D-99A1-B51267A914FB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7" name="Picture 4" descr="698a8361fd442c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250920" y="549360"/>
            <a:ext cx="8713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课堂小结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本节课主要学习了血型的发现和分类以及安全输血原则，同时倡导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18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～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55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岁的健康公民自愿献血，为社会贡献一份爱心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324000" y="3645000"/>
            <a:ext cx="835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作业布置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完成配套练习本节的内容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预习下节内容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这时候医生及时赶到现场，发现的士的司机和乘客受伤，严重失血。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0" name="Picture 4" descr="W020080715563211073883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large_7622i66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427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26560" y="177336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知道人体的血量，初步认识输血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掌握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BO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血型的类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概述安全输血的原则和无偿献血的意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能结合生活中的输血实例，认识血液的功能和血型的相关知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树立健康的成年公民应当积极参加无偿献血的观念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D:\课件大师\课件图片素材\画框造型\FR_033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"/>
          <p:cNvSpPr/>
          <p:nvPr/>
        </p:nvSpPr>
        <p:spPr>
          <a:xfrm>
            <a:off x="539640" y="54936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华文隶书"/>
              </a:rPr>
              <a:t>预习检测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39640" y="1358280"/>
            <a:ext cx="8431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、对待大出血病人，医生采取的措施是什么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、输血前应注意些什么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ABO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血型分几种血型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、无偿献血每次献多少不影响健康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116000" y="177336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输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042920" y="263700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鉴定患者的血型，应以输同型血为原则，但在没有同型血而又情况紧急时，可缓慢地输入少量的异型血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187280" y="429264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型四种类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187280" y="5229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0~300m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53" name="Picture 5" descr="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539640" y="549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自主学习一：血量与输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826920" y="1557360"/>
            <a:ext cx="74901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一个正常人的血量约占体重的多少</a:t>
            </a:r>
            <a:r>
              <a:rPr b="1" lang="en-US" sz="3200" spc="-1" strike="noStrike">
                <a:solidFill>
                  <a:srgbClr val="00808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是不是每个失血的人都需要输血？什么情况下需要</a:t>
            </a:r>
            <a:r>
              <a:rPr b="1" lang="en-US" sz="3200" spc="-1" strike="noStrike">
                <a:solidFill>
                  <a:srgbClr val="00808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900000" y="242100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正常成年人的血量相对恒定，约为体重的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7%~8%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900000" y="4221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不是。如果一次失血超过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200~1500ml,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就会发生生命危险，须及时输血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79280" y="692280"/>
            <a:ext cx="86868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型的发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世纪  哈维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发现血液循环以后，人类就开始进行输血的尝试。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667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  法国哲学家丹尼斯和外科医生埃默雷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5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毫升羊血输给了一个病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这是人类历史上有文字记载的第一次输血，结果当然没有成功，出现了病人死亡的悲剧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82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    英国医生布伦德尔 </a:t>
            </a:r>
            <a:r>
              <a:rPr b="0" lang="zh-CN" sz="3200" spc="-1" strike="noStrike">
                <a:solidFill>
                  <a:srgbClr val="333300"/>
                </a:solidFill>
                <a:latin typeface="Times New Roman"/>
              </a:rPr>
              <a:t>第一次完成了人与人之间的输血试验。但以后的试验结果还是令人失望，大多数病人死亡，只有少数病人得到康复，到底是什么原因在作怪呢？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250920" y="189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自主学习二：血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k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5486400" y="1066680"/>
            <a:ext cx="32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1900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年，奥地利医学家兰德斯坦纳发现了人类的血型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隶书"/>
              </a:rPr>
              <a:t> 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692360" y="278136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BO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血型的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凝集原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凝集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24000" y="3357720"/>
          <a:ext cx="8229600" cy="3201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血型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9e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凝集原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红细胞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9e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凝集素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血清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9e7a5"/>
                    </a:solidFill>
                  </a:tcPr>
                </a:tc>
              </a:tr>
              <a:tr h="55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9e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9e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抗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B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9e7a5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B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9e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B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9e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抗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9e7a5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AB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9e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A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B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9e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无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9e7a5"/>
                    </a:solidFill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9e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无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9e7a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抗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A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、抗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B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9e7a5"/>
                    </a:solidFill>
                  </a:tcPr>
                </a:tc>
              </a:tr>
            </a:tbl>
          </a:graphicData>
        </a:graphic>
      </p:graphicFrame>
      <p:sp>
        <p:nvSpPr>
          <p:cNvPr id="164" name="Text Box 33"/>
          <p:cNvSpPr/>
          <p:nvPr/>
        </p:nvSpPr>
        <p:spPr>
          <a:xfrm>
            <a:off x="324000" y="765000"/>
            <a:ext cx="8280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经过他进一步的研究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人类的红细胞含有两种凝集原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分别叫做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凝集原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凝集原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人类血清中则含有与它们相对抗的两种凝集素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分别叫做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抗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凝集素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抗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凝集素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按照红细胞所含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,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凝集原的不同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把人类血液分成四种类型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:A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型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型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型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型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02:39:15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9:01:55Z</dcterms:modified>
  <cp:revision>56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