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19.jpeg" ContentType="image/jpeg"/>
  <Override PartName="/ppt/media/explode.wav" ContentType="audio/x-wav"/>
  <Override PartName="/ppt/media/image18.jpeg" ContentType="image/jpeg"/>
  <Override PartName="/ppt/media/image17.jpeg" ContentType="image/jpeg"/>
  <Override PartName="/ppt/media/image15.jpeg" ContentType="image/jpeg"/>
  <Override PartName="/ppt/media/image21.jpeg" ContentType="image/jpeg"/>
  <Override PartName="/ppt/media/image29.png" ContentType="image/png"/>
  <Override PartName="/ppt/media/camera.wav" ContentType="audio/x-wav"/>
  <Override PartName="/ppt/media/image16.png" ContentType="image/png"/>
  <Override PartName="/ppt/media/image13.gif" ContentType="image/gif"/>
  <Override PartName="/ppt/media/image23.jpeg" ContentType="image/jpeg"/>
  <Override PartName="/ppt/media/image12.png" ContentType="image/png"/>
  <Override PartName="/ppt/media/image20.jpeg" ContentType="image/jpeg"/>
  <Override PartName="/ppt/media/image11.jpeg" ContentType="image/jpeg"/>
  <Override PartName="/ppt/media/image5.png" ContentType="image/png"/>
  <Override PartName="/ppt/media/image10.jpeg" ContentType="image/jpeg"/>
  <Override PartName="/ppt/media/image27.jpeg" ContentType="image/jpeg"/>
  <Override PartName="/ppt/media/image33.jpeg" ContentType="image/jpeg"/>
  <Override PartName="/ppt/media/image28.png" ContentType="image/png"/>
  <Override PartName="/ppt/media/image38.jpeg" ContentType="image/jpeg"/>
  <Override PartName="/ppt/media/image31.png" ContentType="image/png"/>
  <Override PartName="/ppt/media/image6.png" ContentType="image/png"/>
  <Override PartName="/ppt/media/image14.wmf" ContentType="image/x-wmf"/>
  <Override PartName="/ppt/media/image8.png" ContentType="image/png"/>
  <Override PartName="/ppt/media/image39.jpeg" ContentType="image/jpeg"/>
  <Override PartName="/ppt/media/image26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cashreg.wav" ContentType="audio/x-wav"/>
  <Override PartName="/ppt/media/image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hammer.wav" ContentType="audio/x-wav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283A-F78D-49C6-855E-8A8B33B0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750B-65B0-4A5F-BBE9-2641ADDD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B0B5-B39E-40EF-A421-2D4B4ABB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5F67-2E19-4408-A06E-88A19487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BC76-56A9-4CE8-A502-81ABF0A9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F3F6-3A00-490E-93A2-9C696335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840E-055A-4B47-95FA-A0BF0C93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A19B-8984-444E-8354-10A06937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CA6B-B23C-4F16-B8CF-045DE12D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E619-725D-4952-8242-0A8264CD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7EEA-B0B9-401E-8811-8EBE797E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5C45-175D-4EE1-BA69-46337239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8A42-1370-40B8-B290-B2BA0060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935D-2C04-482C-A6AE-336C8662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7181-D5E5-4258-A85E-DA0DED3D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B87F-D152-4C8B-B1EE-CA652216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1471-2A83-457D-A393-80D209D4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F7AE-A9E9-4ABA-AA20-68DB3A35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73C6-5401-4846-B432-D811DA8B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D410-9F80-4A1E-A225-BE5FDC2B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494C-6222-498F-A57C-1BEF19B0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4707-3CF5-46F4-99CE-296A7A4D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3287-727B-4759-B515-904485E0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A6AB-AB1A-4979-A77F-5B7E28A5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7B20-8986-4733-97C7-A388898406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F2D7-1820-428A-AB94-34C179E8A1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../&#35270;&#39057;&#23454;&#39564;&#32032;&#26448;&#24211;/&#24590;&#26679;&#20351;&#40723;&#22768;&#26356;&#21709;.mpg" TargetMode="Externa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2008.sina.com.cn/bk/p/2008-08-19/0504228962.shtml" TargetMode="External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hyperlink" Target="http://image.baidu.com/i?ct=503316480&amp;z=0&amp;tn=baiduimagedetail&amp;word=%CC%FD%D5%EF%C6%F7&amp;in=24752&amp;cl=2&amp;cm=1&amp;sc=0&amp;lm=-1&amp;pn=17&amp;rn=1&amp;di=360196321&amp;ln=2000&amp;fr=" TargetMode="External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news.jschina.com.cn/gb/jschina/2003/24/node11176/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home.xjtu.edu.cn/student/tonghui/page/jingdianduibai/1.files/1_20.jpg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col.com.cn/ent/gjylkb/20070906/200796130819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3"/>
          <p:cNvSpPr txBox="1"/>
          <p:nvPr/>
        </p:nvSpPr>
        <p:spPr>
          <a:xfrm>
            <a:off x="1042920" y="2205000"/>
            <a:ext cx="72741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声音的特性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模板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2929320" y="836640"/>
            <a:ext cx="275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二章　声现象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5648400" y="2205000"/>
            <a:ext cx="3495600" cy="1809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0" y="3492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 Black"/>
                <a:ea typeface="宋体"/>
              </a:rPr>
              <a:t>活动二</a:t>
            </a:r>
            <a:r>
              <a:rPr b="1" lang="zh-CN" sz="4000" spc="-1" strike="noStrike">
                <a:solidFill>
                  <a:srgbClr val="ffff00"/>
                </a:solidFill>
                <a:latin typeface="Arial Black"/>
                <a:ea typeface="宋体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宋体"/>
              </a:rPr>
              <a:t>将硬纸片从梳子齿上划过，第一次较慢的划过，第二次较快的划过，注意听它两次振动发出的声音的音调的不同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0" y="263700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 Black"/>
                <a:ea typeface="宋体"/>
              </a:rPr>
              <a:t>思考：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楷体_GB2312"/>
              </a:rPr>
              <a:t>哪一次发出的声音的音调高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4920" y="4292640"/>
            <a:ext cx="91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 Black"/>
                <a:ea typeface="宋体"/>
              </a:rPr>
              <a:t>实验结论：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宋体"/>
              </a:rPr>
              <a:t>较快划过时，即硬纸片振动快时，发出的音调高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9"/>
          <p:cNvGrpSpPr/>
          <p:nvPr/>
        </p:nvGrpSpPr>
        <p:grpSpPr>
          <a:xfrm>
            <a:off x="0" y="765000"/>
            <a:ext cx="2413080" cy="935280"/>
            <a:chOff x="0" y="765000"/>
            <a:chExt cx="2413080" cy="935280"/>
          </a:xfrm>
        </p:grpSpPr>
        <p:sp>
          <p:nvSpPr>
            <p:cNvPr id="122" name="Oval 3"/>
            <p:cNvSpPr/>
            <p:nvPr/>
          </p:nvSpPr>
          <p:spPr>
            <a:xfrm>
              <a:off x="0" y="765000"/>
              <a:ext cx="2232000" cy="935280"/>
            </a:xfrm>
            <a:prstGeom prst="ellipse">
              <a:avLst/>
            </a:prstGeom>
            <a:solidFill>
              <a:srgbClr val="ffcc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4"/>
            <p:cNvSpPr/>
            <p:nvPr/>
          </p:nvSpPr>
          <p:spPr>
            <a:xfrm>
              <a:off x="324000" y="907920"/>
              <a:ext cx="208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实验结论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5"/>
          <p:cNvSpPr/>
          <p:nvPr/>
        </p:nvSpPr>
        <p:spPr>
          <a:xfrm>
            <a:off x="250920" y="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</a:rPr>
              <a:t>音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42920" y="2852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音调的高低与发声物体的振动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</a:rPr>
              <a:t>频率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有关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振动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</a:rPr>
              <a:t>频率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越大，发出的声音音调越高；振动频率越小，音调越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 flipH="1">
            <a:off x="2194920" y="260280"/>
            <a:ext cx="7489800" cy="1368360"/>
          </a:xfrm>
          <a:prstGeom prst="wedgeEllipseCallout">
            <a:avLst>
              <a:gd name="adj1" fmla="val -19967"/>
              <a:gd name="adj2" fmla="val 14593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定义：物理学上将发声体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秒振动的次数叫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频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物理意义：频率是描述发声体振动快慢的物理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250920" y="4869000"/>
            <a:ext cx="8713800" cy="1728720"/>
          </a:xfrm>
          <a:prstGeom prst="wedgeRoundRectCallout">
            <a:avLst>
              <a:gd name="adj1" fmla="val -11268"/>
              <a:gd name="adj2" fmla="val -99587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频率的单位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赫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简称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赫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符号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HZ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物体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秒种内若振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次，频率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00HZ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71280" y="0"/>
            <a:ext cx="5292720" cy="2205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120600" y="2205000"/>
            <a:ext cx="5172120" cy="2303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3"/>
          <a:stretch/>
        </p:blipFill>
        <p:spPr>
          <a:xfrm>
            <a:off x="179280" y="4581360"/>
            <a:ext cx="5096160" cy="20876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5796000" y="836640"/>
            <a:ext cx="302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宋体"/>
              </a:rPr>
              <a:t>500H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651640" y="2852640"/>
            <a:ext cx="302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宋体"/>
              </a:rPr>
              <a:t>1000H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651640" y="5084640"/>
            <a:ext cx="302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宋体"/>
              </a:rPr>
              <a:t>1500H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468360" y="0"/>
            <a:ext cx="460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想一想</a:t>
            </a:r>
            <a:endParaRPr b="1" i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68360" y="112536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</a:rPr>
              <a:t>一只蚊子从你耳旁飞过，你能听到它翅膀振动所发出的声音。可是一只蝴蝶飞过你的耳旁时，你却听不见，这是为什么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蝴蝶之三十五"/>
          <p:cNvPicPr/>
          <p:nvPr/>
        </p:nvPicPr>
        <p:blipFill>
          <a:blip r:embed="rId1"/>
          <a:stretch/>
        </p:blipFill>
        <p:spPr>
          <a:xfrm>
            <a:off x="5472000" y="3141720"/>
            <a:ext cx="3672000" cy="3566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242DD4~1"/>
          <p:cNvPicPr/>
          <p:nvPr/>
        </p:nvPicPr>
        <p:blipFill>
          <a:blip r:embed="rId2"/>
          <a:stretch/>
        </p:blipFill>
        <p:spPr>
          <a:xfrm>
            <a:off x="684360" y="3716280"/>
            <a:ext cx="417492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Object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6934320" cy="42624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457200" y="4876920"/>
            <a:ext cx="814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人能听到的频率范围是多少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什么叫超声波？什么叫次声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次声波有什么危害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超声波和次声波有什么应用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ashreg.wav"/>
      </p:stSnd>
    </p:sndAc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米老鼠"/>
          <p:cNvPicPr/>
          <p:nvPr/>
        </p:nvPicPr>
        <p:blipFill>
          <a:blip r:embed="rId1"/>
          <a:stretch/>
        </p:blipFill>
        <p:spPr>
          <a:xfrm>
            <a:off x="6840360" y="3500280"/>
            <a:ext cx="2303640" cy="2063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bs00554_"/>
          <p:cNvPicPr/>
          <p:nvPr/>
        </p:nvPicPr>
        <p:blipFill>
          <a:blip r:embed="rId2"/>
          <a:stretch/>
        </p:blipFill>
        <p:spPr>
          <a:xfrm>
            <a:off x="7596360" y="5661000"/>
            <a:ext cx="1371600" cy="1197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250920" y="227664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人耳听到声音的频率范围：</a:t>
            </a:r>
            <a:r>
              <a:rPr b="1" lang="en-US" sz="5400" spc="-1" strike="noStrike">
                <a:solidFill>
                  <a:srgbClr val="3333ff"/>
                </a:solidFill>
                <a:latin typeface="Times New Roman"/>
                <a:ea typeface="宋体"/>
              </a:rPr>
              <a:t>20 </a:t>
            </a:r>
            <a:r>
              <a:rPr b="1" lang="zh-CN" sz="5400" spc="-1" strike="noStrike">
                <a:solidFill>
                  <a:srgbClr val="3333ff"/>
                </a:solidFill>
                <a:latin typeface="Times New Roman"/>
                <a:ea typeface="宋体"/>
              </a:rPr>
              <a:t>～</a:t>
            </a:r>
            <a:r>
              <a:rPr b="1" lang="en-US" sz="5400" spc="-1" strike="noStrike">
                <a:solidFill>
                  <a:srgbClr val="3333ff"/>
                </a:solidFill>
                <a:latin typeface="Times New Roman"/>
                <a:ea typeface="宋体"/>
              </a:rPr>
              <a:t>20000Hz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3" name="camera.wav"/>
      </p:stSnd>
    </p:sndAc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971640" y="26028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</a:rPr>
              <a:t>、超声波和次声波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879480" y="836640"/>
            <a:ext cx="7580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大多数人能够听到的频率范围从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20HZ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到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20000HZ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。人们把高于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20000HZ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的声音叫做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</a:rPr>
              <a:t>超声波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，把低于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20Hz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的声音叫做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</a:rPr>
              <a:t>次声波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755640" y="3357720"/>
            <a:ext cx="786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黑体"/>
              </a:rPr>
              <a:t>思考：为什么有时我们认为很静、没有任何的声音，而猫却突然表现非常警觉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077840" y="533088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提示：猫的听觉范围是：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6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65000H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pic048"/>
          <p:cNvPicPr/>
          <p:nvPr/>
        </p:nvPicPr>
        <p:blipFill>
          <a:blip r:embed="rId1"/>
          <a:stretch/>
        </p:blipFill>
        <p:spPr>
          <a:xfrm>
            <a:off x="0" y="0"/>
            <a:ext cx="39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4"/>
          <p:cNvSpPr/>
          <p:nvPr/>
        </p:nvSpPr>
        <p:spPr>
          <a:xfrm>
            <a:off x="539640" y="907920"/>
            <a:ext cx="8604360" cy="5113440"/>
          </a:xfrm>
          <a:custGeom>
            <a:avLst/>
            <a:gdLst>
              <a:gd name="textAreaLeft" fmla="*/ 2151000 w 8604360"/>
              <a:gd name="textAreaRight" fmla="*/ 6453360 w 8604360"/>
              <a:gd name="textAreaTop" fmla="*/ 151200 h 5113440"/>
              <a:gd name="textAreaBottom" fmla="*/ 3835080 h 5113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2843280" y="1341360"/>
            <a:ext cx="468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隶书"/>
              </a:rPr>
              <a:t>次声的现象及危害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9"/>
          <p:cNvGrpSpPr/>
          <p:nvPr/>
        </p:nvGrpSpPr>
        <p:grpSpPr>
          <a:xfrm>
            <a:off x="4427640" y="0"/>
            <a:ext cx="4716360" cy="6858000"/>
            <a:chOff x="4427640" y="0"/>
            <a:chExt cx="4716360" cy="6858000"/>
          </a:xfrm>
        </p:grpSpPr>
        <p:pic>
          <p:nvPicPr>
            <p:cNvPr id="152" name="Picture 6" descr="Img222146402"/>
            <p:cNvPicPr/>
            <p:nvPr/>
          </p:nvPicPr>
          <p:blipFill>
            <a:blip r:embed="rId2"/>
            <a:stretch/>
          </p:blipFill>
          <p:spPr>
            <a:xfrm>
              <a:off x="4427640" y="0"/>
              <a:ext cx="4716360" cy="32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8" descr="Img224167233"/>
            <p:cNvPicPr/>
            <p:nvPr/>
          </p:nvPicPr>
          <p:blipFill>
            <a:blip r:embed="rId3"/>
            <a:stretch/>
          </p:blipFill>
          <p:spPr>
            <a:xfrm>
              <a:off x="4427640" y="3284640"/>
              <a:ext cx="4716360" cy="357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Text Box 10"/>
          <p:cNvSpPr/>
          <p:nvPr/>
        </p:nvSpPr>
        <p:spPr>
          <a:xfrm>
            <a:off x="539640" y="2852640"/>
            <a:ext cx="259236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b2919"/>
                </a:solidFill>
                <a:latin typeface="Times New Roman"/>
              </a:rPr>
              <a:t>核爆炸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5867280" y="3068640"/>
            <a:ext cx="288144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b2919"/>
                </a:solidFill>
                <a:latin typeface="Times New Roman"/>
              </a:rPr>
              <a:t>导弹发射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2"/>
          <p:cNvSpPr/>
          <p:nvPr/>
        </p:nvSpPr>
        <p:spPr>
          <a:xfrm>
            <a:off x="2843280" y="1628640"/>
            <a:ext cx="3313080" cy="36007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</a:rPr>
              <a:t>次声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19"/>
          <p:cNvGrpSpPr/>
          <p:nvPr/>
        </p:nvGrpSpPr>
        <p:grpSpPr>
          <a:xfrm>
            <a:off x="0" y="0"/>
            <a:ext cx="3241800" cy="6858000"/>
            <a:chOff x="0" y="0"/>
            <a:chExt cx="3241800" cy="6858000"/>
          </a:xfrm>
        </p:grpSpPr>
        <p:pic>
          <p:nvPicPr>
            <p:cNvPr id="158" name="Picture 5" descr="image006"/>
            <p:cNvPicPr/>
            <p:nvPr/>
          </p:nvPicPr>
          <p:blipFill>
            <a:blip r:embed="rId1"/>
            <a:stretch/>
          </p:blipFill>
          <p:spPr>
            <a:xfrm>
              <a:off x="0" y="3357720"/>
              <a:ext cx="3203640" cy="35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7" descr="F2005052610430200000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41800" cy="335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Group 21"/>
          <p:cNvGrpSpPr/>
          <p:nvPr/>
        </p:nvGrpSpPr>
        <p:grpSpPr>
          <a:xfrm>
            <a:off x="3203640" y="0"/>
            <a:ext cx="5940360" cy="6858000"/>
            <a:chOff x="3203640" y="0"/>
            <a:chExt cx="5940360" cy="6858000"/>
          </a:xfrm>
        </p:grpSpPr>
        <p:pic>
          <p:nvPicPr>
            <p:cNvPr id="161" name="Picture 9" descr="U662P1T1D5817471F21DT20050208140234"/>
            <p:cNvPicPr/>
            <p:nvPr/>
          </p:nvPicPr>
          <p:blipFill>
            <a:blip r:embed="rId3"/>
            <a:stretch/>
          </p:blipFill>
          <p:spPr>
            <a:xfrm>
              <a:off x="6126120" y="4594320"/>
              <a:ext cx="3017880" cy="22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15" descr="wm04122602_17"/>
            <p:cNvPicPr/>
            <p:nvPr/>
          </p:nvPicPr>
          <p:blipFill>
            <a:blip r:embed="rId4"/>
            <a:stretch/>
          </p:blipFill>
          <p:spPr>
            <a:xfrm>
              <a:off x="6012000" y="2852640"/>
              <a:ext cx="3132000" cy="181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" name="Group 20"/>
            <p:cNvGrpSpPr/>
            <p:nvPr/>
          </p:nvGrpSpPr>
          <p:grpSpPr>
            <a:xfrm>
              <a:off x="3203640" y="0"/>
              <a:ext cx="2952720" cy="6858000"/>
              <a:chOff x="3203640" y="0"/>
              <a:chExt cx="2952720" cy="6858000"/>
            </a:xfrm>
          </p:grpSpPr>
          <p:pic>
            <p:nvPicPr>
              <p:cNvPr id="164" name="Picture 16" descr="200451191327797"/>
              <p:cNvPicPr/>
              <p:nvPr/>
            </p:nvPicPr>
            <p:blipFill>
              <a:blip r:embed="rId5"/>
              <a:stretch/>
            </p:blipFill>
            <p:spPr>
              <a:xfrm>
                <a:off x="3203640" y="0"/>
                <a:ext cx="2930400" cy="335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17" descr="01"/>
              <p:cNvPicPr/>
              <p:nvPr/>
            </p:nvPicPr>
            <p:blipFill>
              <a:blip r:embed="rId6"/>
              <a:stretch/>
            </p:blipFill>
            <p:spPr>
              <a:xfrm>
                <a:off x="3203640" y="3357720"/>
                <a:ext cx="2952720" cy="3500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6" name="Picture 18" descr="u=2582042394,970928615&amp;gp=3"/>
            <p:cNvPicPr/>
            <p:nvPr/>
          </p:nvPicPr>
          <p:blipFill>
            <a:blip r:embed="rId7"/>
            <a:stretch/>
          </p:blipFill>
          <p:spPr>
            <a:xfrm>
              <a:off x="6156360" y="0"/>
              <a:ext cx="2987640" cy="278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Text Box 22"/>
          <p:cNvSpPr/>
          <p:nvPr/>
        </p:nvSpPr>
        <p:spPr>
          <a:xfrm>
            <a:off x="324000" y="2852640"/>
            <a:ext cx="216036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b2919"/>
                </a:solidFill>
                <a:latin typeface="Times New Roman"/>
              </a:rPr>
              <a:t>火山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3635280" y="4508640"/>
            <a:ext cx="216072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b2919"/>
                </a:solidFill>
                <a:latin typeface="Times New Roman"/>
              </a:rPr>
              <a:t>地震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6581520" y="1844640"/>
            <a:ext cx="1521000" cy="309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b2919"/>
                </a:solidFill>
                <a:latin typeface="Times New Roman"/>
              </a:rPr>
              <a:t>风暴与海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5"/>
          <p:cNvSpPr/>
          <p:nvPr/>
        </p:nvSpPr>
        <p:spPr>
          <a:xfrm>
            <a:off x="3059280" y="1628640"/>
            <a:ext cx="3744720" cy="36007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</a:rPr>
              <a:t>次声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50920" y="54936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复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39640" y="141300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、声音是如何产生的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187280" y="220500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声音是由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</a:rPr>
              <a:t>物体的振动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产生的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95280" y="3068640"/>
            <a:ext cx="817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、传播声音的介质包括哪三类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5280" y="429264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、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15 ℃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时空气中的声速是多少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788360" y="3716280"/>
            <a:ext cx="6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固体、液体、气体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3268080" y="5084640"/>
            <a:ext cx="201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</a:rPr>
              <a:t>340m/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4248000" y="0"/>
            <a:ext cx="5004000" cy="37162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0" y="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 Black"/>
                <a:ea typeface="楷体_GB2312"/>
              </a:rPr>
              <a:t>大象的活动是在无声无息中进行的，实际上它们是在用一种我们听不到的声音在进行交流，这就是次声波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0" y="4005360"/>
            <a:ext cx="93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楷体_GB2312"/>
              </a:rPr>
              <a:t>大自然的一些活动，像地震、火山喷发、台风、海啸等都会发出次声波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0" y="5516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Arial Black"/>
                <a:ea typeface="楷体_GB2312"/>
              </a:rPr>
              <a:t>一些机器工作时，也会产生次声波。有些次声波对人体是有害的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900000" y="3118320"/>
            <a:ext cx="7559640" cy="1548360"/>
          </a:xfrm>
          <a:prstGeom prst="rect">
            <a:avLst/>
          </a:prstGeom>
          <a:solidFill>
            <a:srgbClr val="f1f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85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声波具有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极强的穿透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不仅可以穿透大气、海水、土壤，而且还能穿透坚固的钢筋水泥构成的建筑物，甚至连坦克、军舰、潜艇和飞机都不在话下．次声穿透人体时，不仅能使人产生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头晕、烦燥、耳鸣、恶心、心悸、视物模糊，吞咽困难、胃痛、肝功能失调、四肢麻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而且还可能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破坏大脑神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系统，造成大脑组织的重大损伤．次声波对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心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影响最为严重，最终可导致死亡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2006830111150"/>
          <p:cNvPicPr/>
          <p:nvPr/>
        </p:nvPicPr>
        <p:blipFill>
          <a:blip r:embed="rId1"/>
          <a:stretch/>
        </p:blipFill>
        <p:spPr>
          <a:xfrm>
            <a:off x="5364000" y="2133720"/>
            <a:ext cx="3097440" cy="25192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900000" y="1844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想一想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971640" y="25653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一次表演中，一名训兽师向他带来的狗提问：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+1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于几？”狗立即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声，观众立刻为这条聪明的狗热烈鼓掌。它真有那么聪明吗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1042920" y="515772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  <a:ea typeface="宋体"/>
              </a:rPr>
              <a:t>嘿嘿！原来是训兽师的助手用特殊的仪器在台下发出了四下哨声，这种哨声属于超声波，不在人的听觉频率范围内，但狗是可以听见的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  <a:ea typeface="黑体"/>
              </a:rPr>
              <a:t>4</a:t>
            </a:r>
            <a:r>
              <a:rPr b="0" lang="zh-CN" sz="4400" spc="-1" strike="noStrike">
                <a:solidFill>
                  <a:srgbClr val="3333ff"/>
                </a:solidFill>
                <a:latin typeface="Arial"/>
                <a:ea typeface="黑体"/>
              </a:rPr>
              <a:t>、超声波和次声波的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超声波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超声检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超声成像技术已在医疗检查方面获得普遍应用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超声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超声焊接、钻孔、固体的粉碎、乳化 、脱气、除尘、去锅垢、清洗、灭菌、促进化学反应和进行生物学研究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超声除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螨虫的听觉神经系统很脆弱，对特定频率的超声非常敏感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基础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通过物质对超声的吸收规律可探索物质的特性和结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次声波的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250920" y="2846880"/>
            <a:ext cx="8496360" cy="1548360"/>
          </a:xfrm>
          <a:prstGeom prst="rect">
            <a:avLst/>
          </a:prstGeom>
          <a:solidFill>
            <a:srgbClr val="f1f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85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近年来，一些国家利用次声能够“杀人”这一特性，致力次声武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次声炸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研制尽管眼下尚处于研制阶段，但科学家们预言：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只要次声炸弹一声爆炸，瞬息之间，在方圆十几公里的地面上，所有的人都将被杀死，且无一能幸免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声武器能够穿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厘米的混凝土和坦克钢板．人即使躲到防空洞或钻进坦克的“肚子”里，也还是一样地难逃残废的厄运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042920" y="76500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生活处处有物理，细心观察皆学问。如图是某学校楼梯中的一部分，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长短不同的铁护栏。在不损坏公物的前提下，一个同学用一根木棒迅速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逐一敲过铁护栏栏杆，此过程中，一定发生改变的是声音的（    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音调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音色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响度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音色和响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5724360" y="3645000"/>
            <a:ext cx="2448000" cy="2305080"/>
            <a:chOff x="5724360" y="3645000"/>
            <a:chExt cx="2448000" cy="2305080"/>
          </a:xfrm>
        </p:grpSpPr>
        <p:pic>
          <p:nvPicPr>
            <p:cNvPr id="188" name="Picture 4" descr=""/>
            <p:cNvPicPr/>
            <p:nvPr/>
          </p:nvPicPr>
          <p:blipFill>
            <a:blip r:embed="rId1"/>
            <a:stretch/>
          </p:blipFill>
          <p:spPr>
            <a:xfrm>
              <a:off x="5724360" y="3645000"/>
              <a:ext cx="24480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5"/>
            <p:cNvSpPr/>
            <p:nvPr/>
          </p:nvSpPr>
          <p:spPr>
            <a:xfrm>
              <a:off x="7472880" y="4596120"/>
              <a:ext cx="52452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6"/>
            <p:cNvSpPr/>
            <p:nvPr/>
          </p:nvSpPr>
          <p:spPr>
            <a:xfrm>
              <a:off x="5724360" y="4786200"/>
              <a:ext cx="52452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7"/>
          <p:cNvSpPr/>
          <p:nvPr/>
        </p:nvSpPr>
        <p:spPr>
          <a:xfrm>
            <a:off x="1042920" y="45813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护栏的长短不同，其振动频率不同，音调也就不同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1403280" y="3573360"/>
            <a:ext cx="2232000" cy="792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温馨提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3492360" y="2205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5508720" y="2421000"/>
            <a:ext cx="31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测一测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0" y="0"/>
            <a:ext cx="93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  <a:ea typeface="华文行楷"/>
              </a:rPr>
              <a:t>课堂检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0" y="9079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、声音的高低叫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宋体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，它跟物体振动的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宋体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有关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0" y="1916280"/>
            <a:ext cx="914400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、男同学说话声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低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，是指男同学声音的 ＿＿＿低，这是因为男同学说话时，声带振动比较＿＿＿的缘故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、小明在表演二胡时，用弓拉动琴弦，使琴弦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宋体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而发声；小明不断用手指去控制琴弦的长度，是为了改变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宋体"/>
              </a:rPr>
              <a:t>__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916360" y="836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音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877080" y="907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频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0" y="4797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音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7451640" y="40053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振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7020000" y="2349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7596360" y="1844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音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684000" y="1123920"/>
            <a:ext cx="7885080" cy="573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、将一把钢尺紧按在桌面上，一端伸出桌面适当的长度，拨动钢尺，就可听到钢尺振动发出的声音。逐渐增加钢尺伸出桌面的长度，钢尺振动发出声音的音调会逐渐变</a:t>
            </a: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。当钢尺伸出桌面超过一定长度时，虽然用同样的力拨动钢尺振动，却听不到声音，这是由于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___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547640" y="31417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4932360" y="41497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频率低于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</a:rPr>
              <a:t>20Hz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042560" y="620640"/>
            <a:ext cx="72010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下列的实验和实例，能说明声音的产生或传播条件的一组是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       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在鼓面上放些碎纸屑，敲鼓时可观察到纸屑在不停地跳动；②放在真空罩里的手机当来电时，只见指示灯闪烁，听不见铃声；③拿一张硬纸片，让它在木梳齿上划过，一次快些，一次慢些，比较两次的不同；④锣发声时用手按住锣，锣声就消失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①②③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②③④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①③④            D. ①②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6443640" y="1052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黑体"/>
              </a:rPr>
              <a:t>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627280" y="-1717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Arial"/>
              </a:rPr>
              <a:t>复习提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0" y="162864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宋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宋体"/>
              </a:rPr>
              <a:t>、吹奏笛子时，空气柱越短，振动的频率越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宋体"/>
              </a:rPr>
              <a:t>______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宋体"/>
              </a:rPr>
              <a:t>，音调越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宋体"/>
              </a:rPr>
              <a:t>_______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宋体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0" y="436572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宋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宋体"/>
              </a:rPr>
              <a:t>、蝙蝠靠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宋体"/>
              </a:rPr>
              <a:t>_____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宋体"/>
              </a:rPr>
              <a:t>声波确定位置，大象之间靠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宋体"/>
              </a:rPr>
              <a:t>______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宋体"/>
              </a:rPr>
              <a:t>声波交流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2124000" y="2205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5435640" y="2276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2484360" y="43657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1403280" y="50133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们的感觉和感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71640" y="2122560"/>
            <a:ext cx="77724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我们听到的声音可以说是千差万别的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小号声嘹亮挺拔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小提琴声柔和纤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大提琴声稳重舒展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它们有强有弱，有高有低，有的浑厚，有的清脆。听了这些音乐，我们会沉浸在美的享受之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468360" y="2421000"/>
            <a:ext cx="7924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</a:rPr>
              <a:t>声音的强弱与什么因素有关呢</a:t>
            </a:r>
            <a:r>
              <a:rPr b="1" lang="en-US" sz="4000" spc="-1" strike="noStrike">
                <a:solidFill>
                  <a:srgbClr val="333399"/>
                </a:solidFill>
                <a:latin typeface="黑体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3780000" y="3429000"/>
            <a:ext cx="4800600" cy="642600"/>
          </a:xfrm>
          <a:prstGeom prst="rect">
            <a:avLst/>
          </a:prstGeom>
          <a:solidFill>
            <a:srgbClr val="ccecff">
              <a:alpha val="50000"/>
            </a:srgbClr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引入概念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6156360" y="3429000"/>
            <a:ext cx="18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振幅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669240" y="1628640"/>
            <a:ext cx="105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</a:rPr>
              <a:t>讨论</a:t>
            </a:r>
            <a:r>
              <a:rPr b="1" lang="en-US" sz="4000" spc="-1" strike="noStrike">
                <a:solidFill>
                  <a:srgbClr val="333399"/>
                </a:solidFill>
                <a:latin typeface="黑体"/>
              </a:rPr>
              <a:t>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3832200" y="4363920"/>
            <a:ext cx="23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重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5508720" y="436392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鼓声大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4353480" y="53722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鼓面下凹幅度大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0" y="189000"/>
            <a:ext cx="27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响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2556000" y="260280"/>
            <a:ext cx="69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声音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强弱（大小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叫响度。单位为分贝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dB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24"/>
          <p:cNvGrpSpPr/>
          <p:nvPr/>
        </p:nvGrpSpPr>
        <p:grpSpPr>
          <a:xfrm>
            <a:off x="0" y="3429000"/>
            <a:ext cx="3635280" cy="3698640"/>
            <a:chOff x="0" y="3429000"/>
            <a:chExt cx="3635280" cy="3698640"/>
          </a:xfrm>
        </p:grpSpPr>
        <p:pic>
          <p:nvPicPr>
            <p:cNvPr id="226" name="怎样使鼓声更响.mpg" descr=""/>
            <p:cNvPicPr/>
            <p:nvPr/>
          </p:nvPicPr>
          <p:blipFill>
            <a:blip r:embed="rId1"/>
            <a:stretch/>
          </p:blipFill>
          <p:spPr>
            <a:xfrm>
              <a:off x="0" y="3429000"/>
              <a:ext cx="3635280" cy="312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26">
              <a:hlinkClick r:id="rId2"/>
            </p:cNvPr>
            <p:cNvSpPr/>
            <p:nvPr/>
          </p:nvSpPr>
          <p:spPr>
            <a:xfrm>
              <a:off x="1473120" y="6670080"/>
              <a:ext cx="9921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8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9"/>
          <p:cNvGrpSpPr/>
          <p:nvPr/>
        </p:nvGrpSpPr>
        <p:grpSpPr>
          <a:xfrm>
            <a:off x="684360" y="1197000"/>
            <a:ext cx="3239640" cy="934920"/>
            <a:chOff x="684360" y="1197000"/>
            <a:chExt cx="3239640" cy="934920"/>
          </a:xfrm>
        </p:grpSpPr>
        <p:sp>
          <p:nvSpPr>
            <p:cNvPr id="229" name="Oval 3"/>
            <p:cNvSpPr/>
            <p:nvPr/>
          </p:nvSpPr>
          <p:spPr>
            <a:xfrm>
              <a:off x="684360" y="1197000"/>
              <a:ext cx="2952720" cy="934920"/>
            </a:xfrm>
            <a:prstGeom prst="ellipse">
              <a:avLst/>
            </a:prstGeom>
            <a:solidFill>
              <a:srgbClr val="ffcc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4"/>
            <p:cNvSpPr/>
            <p:nvPr/>
          </p:nvSpPr>
          <p:spPr>
            <a:xfrm>
              <a:off x="973080" y="1270080"/>
              <a:ext cx="295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</a:rPr>
                <a:t>实验结论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5"/>
          <p:cNvSpPr/>
          <p:nvPr/>
        </p:nvSpPr>
        <p:spPr>
          <a:xfrm>
            <a:off x="900000" y="189000"/>
            <a:ext cx="31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响度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395280" y="213372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物理学中用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</a:rPr>
              <a:t>振幅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来描述物体振动的幅度。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物体在振动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偏离 原来位置的最大距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叫振幅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755640" y="429264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响度跟物体的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</a:rPr>
              <a:t>振幅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有关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物体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振幅越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产生声音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响度越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55640" y="404280"/>
            <a:ext cx="7632720" cy="25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想一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黑体"/>
              </a:rPr>
              <a:t>如果你要喊住你前面的同学，是他离你近的时候他容易听到的你的喊声，还是他离你远的时候？这说明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971640" y="3357720"/>
            <a:ext cx="7200720" cy="256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说明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听到声音的响度除了跟发声体的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振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有关以外，还跟人距发声体的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距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有关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6"/>
          <p:cNvSpPr/>
          <p:nvPr/>
        </p:nvSpPr>
        <p:spPr>
          <a:xfrm>
            <a:off x="539640" y="404640"/>
            <a:ext cx="79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下面两个图，哪个图中的小球振动的幅度大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1952640" y="46594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球的振幅大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7"/>
          <p:cNvGrpSpPr/>
          <p:nvPr/>
        </p:nvGrpSpPr>
        <p:grpSpPr>
          <a:xfrm>
            <a:off x="1258920" y="1773360"/>
            <a:ext cx="3114720" cy="3018960"/>
            <a:chOff x="1258920" y="1773360"/>
            <a:chExt cx="3114720" cy="3018960"/>
          </a:xfrm>
        </p:grpSpPr>
        <p:pic>
          <p:nvPicPr>
            <p:cNvPr id="239" name="Object 7" descr=""/>
            <p:cNvPicPr/>
            <p:nvPr/>
          </p:nvPicPr>
          <p:blipFill>
            <a:blip r:embed="rId1"/>
            <a:stretch/>
          </p:blipFill>
          <p:spPr>
            <a:xfrm>
              <a:off x="1258920" y="1773360"/>
              <a:ext cx="3114720" cy="19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9"/>
            <p:cNvSpPr/>
            <p:nvPr/>
          </p:nvSpPr>
          <p:spPr>
            <a:xfrm>
              <a:off x="2433960" y="414972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甲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2770200" y="2062080"/>
              <a:ext cx="360" cy="1727280"/>
              <a:chOff x="2770200" y="2062080"/>
              <a:chExt cx="360" cy="1727280"/>
            </a:xfrm>
          </p:grpSpPr>
          <p:sp>
            <p:nvSpPr>
              <p:cNvPr id="242" name="Line 14"/>
              <p:cNvSpPr/>
              <p:nvPr/>
            </p:nvSpPr>
            <p:spPr>
              <a:xfrm>
                <a:off x="2770200" y="2062080"/>
                <a:ext cx="0" cy="172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 txBox="1"/>
              <p:nvPr/>
            </p:nvSpPr>
            <p:spPr>
              <a:xfrm>
                <a:off x="2770200" y="2062080"/>
                <a:ext cx="360" cy="172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Oval 15"/>
            <p:cNvSpPr/>
            <p:nvPr/>
          </p:nvSpPr>
          <p:spPr>
            <a:xfrm>
              <a:off x="2700360" y="3789360"/>
              <a:ext cx="21600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20"/>
          <p:cNvGrpSpPr/>
          <p:nvPr/>
        </p:nvGrpSpPr>
        <p:grpSpPr>
          <a:xfrm>
            <a:off x="5003640" y="1700280"/>
            <a:ext cx="3095640" cy="2947680"/>
            <a:chOff x="5003640" y="1700280"/>
            <a:chExt cx="3095640" cy="2947680"/>
          </a:xfrm>
        </p:grpSpPr>
        <p:pic>
          <p:nvPicPr>
            <p:cNvPr id="246" name="Object 8" descr=""/>
            <p:cNvPicPr/>
            <p:nvPr/>
          </p:nvPicPr>
          <p:blipFill>
            <a:blip r:embed="rId2"/>
            <a:stretch/>
          </p:blipFill>
          <p:spPr>
            <a:xfrm>
              <a:off x="5003640" y="1700280"/>
              <a:ext cx="3095640" cy="19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0"/>
            <p:cNvSpPr/>
            <p:nvPr/>
          </p:nvSpPr>
          <p:spPr>
            <a:xfrm>
              <a:off x="6755040" y="40053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乙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6516720" y="1916280"/>
              <a:ext cx="360" cy="1800000"/>
              <a:chOff x="6516720" y="1916280"/>
              <a:chExt cx="360" cy="1800000"/>
            </a:xfrm>
          </p:grpSpPr>
          <p:sp>
            <p:nvSpPr>
              <p:cNvPr id="249" name="Line 18"/>
              <p:cNvSpPr/>
              <p:nvPr/>
            </p:nvSpPr>
            <p:spPr>
              <a:xfrm>
                <a:off x="6516720" y="1916280"/>
                <a:ext cx="0" cy="180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 txBox="1"/>
              <p:nvPr/>
            </p:nvSpPr>
            <p:spPr>
              <a:xfrm>
                <a:off x="6516720" y="1916280"/>
                <a:ext cx="360" cy="1800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Oval 19"/>
            <p:cNvSpPr/>
            <p:nvPr/>
          </p:nvSpPr>
          <p:spPr>
            <a:xfrm>
              <a:off x="6445080" y="3716280"/>
              <a:ext cx="142920" cy="216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1963800" y="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示波器上不同响度的声音波形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决定声音能量的是？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1042920" y="1916280"/>
            <a:ext cx="71294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振幅决定声音的能量！！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图文-马拉多纳助战阿根廷男篮 情不自禁大声呼喊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1341360"/>
            <a:ext cx="2376720" cy="1943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258" name="Picture 3" descr="喇叭喊话的女孩预览图 点击看大图"/>
          <p:cNvPicPr/>
          <p:nvPr/>
        </p:nvPicPr>
        <p:blipFill>
          <a:blip r:embed="rId3"/>
          <a:stretch/>
        </p:blipFill>
        <p:spPr>
          <a:xfrm>
            <a:off x="4643280" y="1268280"/>
            <a:ext cx="1944720" cy="201636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259" name="Text Box 4"/>
          <p:cNvSpPr/>
          <p:nvPr/>
        </p:nvSpPr>
        <p:spPr>
          <a:xfrm>
            <a:off x="755640" y="260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议一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900000" y="76500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图中的两个情景有什么共同点呢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403280" y="350028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减少声音的分散，增大声音的响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1403280" y="414972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你能举个生活中利用这个原理的工具吗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2700360" y="4653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听诊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9" descr="u=462266274,4287259696&amp;fm=3&amp;gp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4724280"/>
            <a:ext cx="116208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684360" y="1989000"/>
            <a:ext cx="69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千百年来，不论是在两军对垒的战场上，还是在艺术表演的舞台上，都离不开鼓。甚至在人们的日常生活中也离不开鼓。鼓，能振奋人的精神，激发人的斗志，鼓舞人们奋勇前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!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你认为图中的鼓手们要提高击鼓声音的响度，应该采用的方法是（    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用更大的力击鼓，使鼓面振动振幅大些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改变频率高一些的鼓来敲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离击鼓处远一些，听到的声音就会强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击鼓击得快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http://news.jschina.com.cn/gb/jschina/2003/24/node11176/node11177/node11290/images/0016717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4221000"/>
            <a:ext cx="1584360" cy="208764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4"/>
          <p:cNvSpPr/>
          <p:nvPr/>
        </p:nvSpPr>
        <p:spPr>
          <a:xfrm>
            <a:off x="7093080" y="35020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611280" y="981000"/>
            <a:ext cx="31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答一答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120680" y="263664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因为不同乐器发出声音的品质不一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WordArt 3"/>
          <p:cNvSpPr txBox="1"/>
          <p:nvPr/>
        </p:nvSpPr>
        <p:spPr>
          <a:xfrm>
            <a:off x="1547640" y="1052640"/>
            <a:ext cx="669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为什么我们能分辨出不同乐器发出的声音？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8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684360" y="47628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音色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826920" y="1268280"/>
            <a:ext cx="7345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指声音的品质与特征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音色与声源的材料和结构有关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音色是一般是不同的听声辩人、辩动物、辩乐器等就是主要是根据音色不同来判断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1476360" y="3789360"/>
            <a:ext cx="561672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 Black"/>
                <a:ea typeface="楷体_GB2312"/>
              </a:rPr>
              <a:t>我们能听出熟人的说话声音，就是不同的人说话的声音的</a:t>
            </a: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楷体_GB2312"/>
              </a:rPr>
              <a:t>音色</a:t>
            </a:r>
            <a:r>
              <a:rPr b="1" lang="zh-CN" sz="4400" spc="-1" strike="noStrike">
                <a:solidFill>
                  <a:srgbClr val="000000"/>
                </a:solidFill>
                <a:latin typeface="Arial Black"/>
                <a:ea typeface="楷体_GB2312"/>
              </a:rPr>
              <a:t>不同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97776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</a:rPr>
              <a:t>乐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611280" y="1700280"/>
            <a:ext cx="806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人的听觉感到和谐悦耳的声音叫乐音．乐音是由物体做规则的周期性振动产生的声波．不同的乐音要由它们的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</a:rPr>
              <a:t>音调，响度，音色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三个特性来区分．所以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</a:rPr>
              <a:t>音调、响度和音色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</a:rPr>
              <a:t>又叫做</a:t>
            </a:r>
            <a:r>
              <a:rPr b="1" lang="zh-CN" sz="4000" spc="-1" strike="noStrike">
                <a:solidFill>
                  <a:srgbClr val="009999"/>
                </a:solidFill>
                <a:latin typeface="黑体"/>
              </a:rPr>
              <a:t>乐音的三要素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旋转 imag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611280" y="33336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楼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林黛玉进贾府时，有一段对王熙凤的描写：“只听后院中有人笑声，说：我不曾迎接远客！”黛玉只见得一听此声音，仆人们个个敛声屏气，恭肃严整，原们人们都知道这是人称“凤辣子”的王熙凤要进来了。“不见其人，先闻其声”也能判断谁在说话，依据是（    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说话的响度不同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说话的音调不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说话的音色不同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说话的语气不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1_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3213000"/>
            <a:ext cx="3809880" cy="31147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5003640" y="1773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611280" y="4005360"/>
            <a:ext cx="31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红楼之声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0" y="0"/>
            <a:ext cx="39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  <a:ea typeface="宋体"/>
              </a:rPr>
              <a:t>归纳总结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250920" y="407664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宋体"/>
              </a:rPr>
              <a:t>声音的特性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3060720" y="2782800"/>
            <a:ext cx="287280" cy="3440160"/>
          </a:xfrm>
          <a:custGeom>
            <a:avLst/>
            <a:gdLst>
              <a:gd name="textAreaLeft" fmla="*/ 183600 w 287280"/>
              <a:gd name="textAreaRight" fmla="*/ 287640 w 287280"/>
              <a:gd name="textAreaTop" fmla="*/ 89280 h 3440160"/>
              <a:gd name="textAreaBottom" fmla="*/ 3350880 h 344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3492360" y="406224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宋体"/>
              </a:rPr>
              <a:t>响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3419640" y="586260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宋体"/>
              </a:rPr>
              <a:t>音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4788000" y="3557520"/>
            <a:ext cx="4356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Arial Black"/>
                <a:ea typeface="楷体_GB2312"/>
              </a:rPr>
              <a:t>响度的大小跟振幅和距发声体的距离有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4788000" y="5573880"/>
            <a:ext cx="4356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 Black"/>
                <a:ea typeface="楷体_GB2312"/>
              </a:rPr>
              <a:t>音色跟发声体的材料和结构有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0" y="62064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宋体"/>
              </a:rPr>
              <a:t>我们平时所听的声音大多数都是悦耳动听的，这样的声音我们叫乐音；它有三个特征（特性）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3492360" y="251136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宋体"/>
              </a:rPr>
              <a:t>音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4788000" y="2262240"/>
            <a:ext cx="4356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 Black"/>
                <a:ea typeface="楷体_GB2312"/>
              </a:rPr>
              <a:t>音调的高低跟振动频率有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FB7E-CDD3-4108-AAA9-BF8765467D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0" y="1077840"/>
          <a:ext cx="9144000" cy="5788080"/>
        </p:xfrm>
        <a:graphic>
          <a:graphicData uri="http://schemas.openxmlformats.org/drawingml/2006/table">
            <a:tbl>
              <a:tblPr/>
              <a:tblGrid>
                <a:gridCol w="550800"/>
                <a:gridCol w="1284480"/>
                <a:gridCol w="2066760"/>
                <a:gridCol w="5241960"/>
              </a:tblGrid>
              <a:tr h="579240">
                <a:tc>
                  <a:txBody>
                    <a:bodyPr anchor="t" vert="eaVer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7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Text Box 31"/>
          <p:cNvSpPr/>
          <p:nvPr/>
        </p:nvSpPr>
        <p:spPr>
          <a:xfrm>
            <a:off x="3600" y="2301840"/>
            <a:ext cx="667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音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2"/>
          <p:cNvSpPr/>
          <p:nvPr/>
        </p:nvSpPr>
        <p:spPr>
          <a:xfrm>
            <a:off x="3600" y="4029120"/>
            <a:ext cx="667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响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3"/>
          <p:cNvSpPr/>
          <p:nvPr/>
        </p:nvSpPr>
        <p:spPr>
          <a:xfrm>
            <a:off x="3600" y="5470560"/>
            <a:ext cx="667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音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4"/>
          <p:cNvSpPr/>
          <p:nvPr/>
        </p:nvSpPr>
        <p:spPr>
          <a:xfrm>
            <a:off x="539640" y="1077840"/>
            <a:ext cx="13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含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5"/>
          <p:cNvSpPr/>
          <p:nvPr/>
        </p:nvSpPr>
        <p:spPr>
          <a:xfrm>
            <a:off x="1979640" y="1077840"/>
            <a:ext cx="19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决定因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6"/>
          <p:cNvSpPr/>
          <p:nvPr/>
        </p:nvSpPr>
        <p:spPr>
          <a:xfrm>
            <a:off x="4788000" y="1149480"/>
            <a:ext cx="19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相关问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7"/>
          <p:cNvSpPr/>
          <p:nvPr/>
        </p:nvSpPr>
        <p:spPr>
          <a:xfrm>
            <a:off x="611280" y="1916280"/>
            <a:ext cx="10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声音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高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8"/>
          <p:cNvSpPr/>
          <p:nvPr/>
        </p:nvSpPr>
        <p:spPr>
          <a:xfrm>
            <a:off x="2124000" y="1941480"/>
            <a:ext cx="169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发声体振动的频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9"/>
          <p:cNvSpPr/>
          <p:nvPr/>
        </p:nvSpPr>
        <p:spPr>
          <a:xfrm>
            <a:off x="3924360" y="1700280"/>
            <a:ext cx="55450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频率：物体每秒内振动的次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位：赫兹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z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人听觉频率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0 Hz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0000 Hz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超声波与次声波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0"/>
          <p:cNvSpPr/>
          <p:nvPr/>
        </p:nvSpPr>
        <p:spPr>
          <a:xfrm>
            <a:off x="468360" y="40291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声音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大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1"/>
          <p:cNvSpPr/>
          <p:nvPr/>
        </p:nvSpPr>
        <p:spPr>
          <a:xfrm>
            <a:off x="1835280" y="4029120"/>
            <a:ext cx="208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发声体振动的幅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2"/>
          <p:cNvSpPr/>
          <p:nvPr/>
        </p:nvSpPr>
        <p:spPr>
          <a:xfrm>
            <a:off x="4140360" y="417348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振幅：物体振动的幅度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3"/>
          <p:cNvSpPr/>
          <p:nvPr/>
        </p:nvSpPr>
        <p:spPr>
          <a:xfrm>
            <a:off x="468360" y="532620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声音的品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4"/>
          <p:cNvSpPr/>
          <p:nvPr/>
        </p:nvSpPr>
        <p:spPr>
          <a:xfrm>
            <a:off x="1908000" y="5181480"/>
            <a:ext cx="18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发声体本身的材料、结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5"/>
          <p:cNvSpPr/>
          <p:nvPr/>
        </p:nvSpPr>
        <p:spPr>
          <a:xfrm>
            <a:off x="4032360" y="5373720"/>
            <a:ext cx="47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音色是辨别不同发声体的依据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0"/>
          <p:cNvSpPr/>
          <p:nvPr/>
        </p:nvSpPr>
        <p:spPr>
          <a:xfrm>
            <a:off x="1403280" y="40464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声音的三要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1"/>
          <p:cNvSpPr/>
          <p:nvPr/>
        </p:nvSpPr>
        <p:spPr>
          <a:xfrm>
            <a:off x="4211640" y="40464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音调、响度和音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987640" y="981000"/>
            <a:ext cx="446400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</a:rPr>
              <a:t>、音调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258920" y="321300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音调是指声音的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高低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10"/>
          <p:cNvSpPr/>
          <p:nvPr/>
        </p:nvSpPr>
        <p:spPr>
          <a:xfrm>
            <a:off x="2556000" y="24210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785600" y="765000"/>
            <a:ext cx="529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、简谱中的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1.2.3.4.5.6.7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等表示的就是音调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宋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065680" y="1341360"/>
            <a:ext cx="43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、女高音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男中音也表示的是音调的高低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宋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20079613081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0" y="2060640"/>
            <a:ext cx="4103640" cy="319248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102" name="Rectangle 5"/>
          <p:cNvSpPr/>
          <p:nvPr/>
        </p:nvSpPr>
        <p:spPr>
          <a:xfrm>
            <a:off x="564480" y="5474520"/>
            <a:ext cx="272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高音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之王帕瓦罗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xin_54311050909026871244718"/>
          <p:cNvPicPr/>
          <p:nvPr/>
        </p:nvPicPr>
        <p:blipFill>
          <a:blip r:embed="rId3"/>
          <a:stretch/>
        </p:blipFill>
        <p:spPr>
          <a:xfrm>
            <a:off x="4346640" y="2133720"/>
            <a:ext cx="4762440" cy="385740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sp>
        <p:nvSpPr>
          <p:cNvPr id="104" name="Rectangle 7"/>
          <p:cNvSpPr/>
          <p:nvPr/>
        </p:nvSpPr>
        <p:spPr>
          <a:xfrm>
            <a:off x="4175280" y="61621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国男中音歌唱家廖昌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男人声474.WAV" descr=""/>
          <p:cNvPicPr/>
          <p:nvPr/>
        </p:nvPicPr>
        <p:blipFill>
          <a:blip r:embed="rId1"/>
          <a:stretch/>
        </p:blipFill>
        <p:spPr>
          <a:xfrm>
            <a:off x="6168960" y="20448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女人声474.WAV" descr=""/>
          <p:cNvPicPr/>
          <p:nvPr/>
        </p:nvPicPr>
        <p:blipFill>
          <a:blip r:embed="rId2"/>
          <a:stretch/>
        </p:blipFill>
        <p:spPr>
          <a:xfrm>
            <a:off x="6168960" y="265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3"/>
          <p:cNvSpPr/>
          <p:nvPr/>
        </p:nvSpPr>
        <p:spPr>
          <a:xfrm>
            <a:off x="1763640" y="1989000"/>
            <a:ext cx="40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什么有的声音听起来音调高，有的听起来音调低呢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2361600" y="12700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思考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564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135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250920" y="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</a:rPr>
              <a:t>音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0" y="836640"/>
            <a:ext cx="2232000" cy="934920"/>
          </a:xfrm>
          <a:prstGeom prst="ellipse">
            <a:avLst/>
          </a:prstGeom>
          <a:solidFill>
            <a:srgbClr val="ffcc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50920" y="98100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活动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尺子"/>
          <p:cNvPicPr/>
          <p:nvPr/>
        </p:nvPicPr>
        <p:blipFill>
          <a:blip r:embed="rId1"/>
          <a:stretch/>
        </p:blipFill>
        <p:spPr>
          <a:xfrm>
            <a:off x="2484360" y="0"/>
            <a:ext cx="6659640" cy="31417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13" name="Text Box 7"/>
          <p:cNvSpPr/>
          <p:nvPr/>
        </p:nvSpPr>
        <p:spPr>
          <a:xfrm>
            <a:off x="395280" y="321300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什么因素决定音调的高低？将一把钢尺紧按在桌面上，一端伸出桌边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拨动钢尺，听它振动发出的声音，同时注意钢尺振动的快慢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改变钢尺伸出桌边的长度，再次拨动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注意使钢尺两次振动幅度大致相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比较两种情况下钢尺振动的快慢和发声的音调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000" y="191628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当逐渐增加钢尺伸出桌面的长度，钢尺振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填“变快” 、“变慢”或“不变”），钢尺振动发出的声音音调会逐渐变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330640" y="2347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变慢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156760" y="3429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01:16:5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7:40Z</dcterms:modified>
  <cp:revision>12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