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E859-F442-428E-A5CB-6BA58C3B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D6D-8B7D-4083-9D36-4342D8B9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8488-6CA2-4E12-8950-82836D73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BB2A-7B96-42C9-9C0D-F4D656EE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0A83-03A4-415D-8E8C-F8C29848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4E35-8222-4B5B-A424-27B12D2A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D196-59B2-4480-94D3-27D3B074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B22C-BC7A-4DC8-B364-7824CB99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EE4D-87D8-45E4-ADCA-7CF312F6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2AB0-8560-47D4-91CF-9BAD2C03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78B2-B266-4510-AC01-8EA9D9F6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F03A-A7B5-439D-B904-DADB2B07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1A72-EC0D-49C5-A929-0DFC06AC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4251-770C-4974-A3BE-14BC2910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5626-82BF-423B-B213-D42AE1B4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048A-9657-4202-A06F-D230411C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1910-4929-4E8D-A784-69E30939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6FEE-4923-42BE-BDEA-61EFF5A0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7E6-6330-4E46-A2D1-E2D115B4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9C06-4D1F-470F-BB8A-6B58FCCA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747A-424D-4ADE-B8CA-E162472E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7A4-E7DF-4C62-B1BB-A5BC3352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F1B-CE96-4B9A-9451-67BFF107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8330-A52F-4F1D-B2B4-DB65FBE6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A0A3-5175-4BAE-A025-D91EF434FC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6465-6C19-44EC-BF8B-074699BF08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E:\教学\普教室\生于忧患死于安乐\1.jpg"/>
          <p:cNvPicPr/>
          <p:nvPr/>
        </p:nvPicPr>
        <p:blipFill>
          <a:blip r:embed="rId2"/>
          <a:stretch/>
        </p:blipFill>
        <p:spPr>
          <a:xfrm>
            <a:off x="228600" y="304920"/>
            <a:ext cx="4114800" cy="6172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2157840" y="404640"/>
            <a:ext cx="51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6600"/>
                </a:solidFill>
                <a:latin typeface="宋体"/>
              </a:rPr>
              <a:t>生于忧患死于安乐课件</a:t>
            </a:r>
            <a:r>
              <a:rPr b="1" i="1" lang="en-US" sz="4000" spc="-1" strike="noStrike">
                <a:solidFill>
                  <a:srgbClr val="336600"/>
                </a:solidFill>
                <a:latin typeface="宋体"/>
              </a:rPr>
              <a:t>PPT</a:t>
            </a:r>
            <a:r>
              <a:rPr b="1" i="1" lang="zh-CN" sz="4000" spc="-1" strike="noStrike">
                <a:solidFill>
                  <a:srgbClr val="336600"/>
                </a:solidFill>
                <a:latin typeface="宋体"/>
              </a:rPr>
              <a:t>模板</a:t>
            </a:r>
            <a:r>
              <a:rPr b="0" lang="zh-CN" sz="4000" spc="-1" strike="noStrike">
                <a:solidFill>
                  <a:srgbClr val="3366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858000" y="380988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华文新魏"/>
              </a:rPr>
              <a:t>孟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05160" y="4568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管夷吾举于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486400" y="2689200"/>
            <a:ext cx="2743200" cy="642600"/>
          </a:xfrm>
          <a:prstGeom prst="rect">
            <a:avLst/>
          </a:prstGeom>
          <a:solidFill>
            <a:srgbClr val="ccffcc">
              <a:alpha val="50000"/>
            </a:srgbClr>
          </a:solidFill>
          <a:ln w="50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管夷吾从狱官手里释放后被举用为相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E:\教学\普教室\生于忧患死于安乐\管仲2.jpg"/>
          <p:cNvPicPr/>
          <p:nvPr/>
        </p:nvPicPr>
        <p:blipFill>
          <a:blip r:embed="rId2"/>
          <a:stretch/>
        </p:blipFill>
        <p:spPr>
          <a:xfrm>
            <a:off x="380880" y="457200"/>
            <a:ext cx="46483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孙叔敖举于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孙叔敖除掉两头蛇"/>
          <p:cNvPicPr/>
          <p:nvPr/>
        </p:nvPicPr>
        <p:blipFill>
          <a:blip r:embed="rId2">
            <a:lum contrast="26000"/>
          </a:blip>
          <a:stretch/>
        </p:blipFill>
        <p:spPr>
          <a:xfrm>
            <a:off x="1828800" y="2079720"/>
            <a:ext cx="6095880" cy="45496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110880" y="1752480"/>
            <a:ext cx="1033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图为孙叔敖除去两头蛇的传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219320" y="984240"/>
            <a:ext cx="7561080" cy="642600"/>
          </a:xfrm>
          <a:prstGeom prst="rect">
            <a:avLst/>
          </a:prstGeom>
          <a:solidFill>
            <a:srgbClr val="99ccff">
              <a:alpha val="50000"/>
            </a:srgbClr>
          </a:solidFill>
          <a:ln w="507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隶书"/>
                <a:ea typeface="隶书"/>
              </a:rPr>
              <a:t>孙叔敖从海滨</a:t>
            </a:r>
            <a:r>
              <a:rPr b="0" lang="zh-CN" sz="3600" spc="-1" strike="noStrike">
                <a:solidFill>
                  <a:srgbClr val="993300"/>
                </a:solidFill>
                <a:latin typeface="隶书"/>
                <a:ea typeface="隶书"/>
              </a:rPr>
              <a:t>(</a:t>
            </a:r>
            <a:r>
              <a:rPr b="0" lang="zh-CN" sz="3600" spc="-1" strike="noStrike">
                <a:solidFill>
                  <a:srgbClr val="993300"/>
                </a:solidFill>
                <a:latin typeface="隶书"/>
                <a:ea typeface="隶书"/>
              </a:rPr>
              <a:t>隐居的地方</a:t>
            </a:r>
            <a:r>
              <a:rPr b="0" lang="zh-CN" sz="3600" spc="-1" strike="noStrike">
                <a:solidFill>
                  <a:srgbClr val="993300"/>
                </a:solidFill>
                <a:latin typeface="隶书"/>
                <a:ea typeface="隶书"/>
              </a:rPr>
              <a:t>)</a:t>
            </a:r>
            <a:r>
              <a:rPr b="0" lang="zh-CN" sz="3600" spc="-1" strike="noStrike">
                <a:solidFill>
                  <a:srgbClr val="993300"/>
                </a:solidFill>
                <a:latin typeface="隶书"/>
                <a:ea typeface="隶书"/>
              </a:rPr>
              <a:t>被起用。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ffe7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E:\教学\普教室\生于忧患死于安乐\bailixi.jpg"/>
          <p:cNvPicPr/>
          <p:nvPr/>
        </p:nvPicPr>
        <p:blipFill>
          <a:blip r:embed="rId1"/>
          <a:stretch/>
        </p:blipFill>
        <p:spPr>
          <a:xfrm>
            <a:off x="15228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638680" y="2742840"/>
            <a:ext cx="91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百里奚举于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822360" y="533520"/>
            <a:ext cx="1826280" cy="5638680"/>
          </a:xfrm>
          <a:prstGeom prst="rect">
            <a:avLst/>
          </a:prstGeom>
          <a:solidFill>
            <a:srgbClr val="ccccff">
              <a:alpha val="50000"/>
            </a:srgbClr>
          </a:solidFill>
          <a:ln w="507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0" lang="zh-CN" sz="3600" spc="-1" strike="noStrike">
                <a:solidFill>
                  <a:srgbClr val="ff9900"/>
                </a:solidFill>
                <a:latin typeface="Times New Roman"/>
                <a:ea typeface="隶书"/>
              </a:rPr>
              <a:t>百里奚被从奴隶市场里赎买回来并被起用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文本框 8198"/>
          <p:cNvSpPr/>
          <p:nvPr/>
        </p:nvSpPr>
        <p:spPr>
          <a:xfrm>
            <a:off x="2124000" y="765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66"/>
              </a:solidFill>
              <a:latin typeface="Times New Roman"/>
              <a:ea typeface="华文新魏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363760" y="3492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隶书"/>
              </a:rPr>
              <a:t>第一自然段问题设计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711320" y="1549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、文章开头列举了哪些事例，运用什么样的句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990720" y="3902040"/>
            <a:ext cx="77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、这几位古代贤能的人所处的时代不同，但是他们的经历什么共同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523880" y="2514600"/>
            <a:ext cx="64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运用了排比句式，列举了历史上这六位名人的事例：舜、傅说、胶鬲、管仲、孙叔敖、百里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1600200" y="51814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他们虽然出身卑微，历经了苦难的磨练，但都被提拔任用，做出了一番作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304920" y="304920"/>
            <a:ext cx="84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         </a:t>
            </a:r>
            <a:r>
              <a:rPr b="0" lang="zh-CN" sz="36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故天将降大任于是人也，必先苦其心志，劳起筋骨，饿其体肤，空乏其身，行拂乱其所为，所以动心忍性，曾益其所不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412920" y="2514600"/>
            <a:ext cx="8578800" cy="4267080"/>
          </a:xfrm>
          <a:custGeom>
            <a:avLst/>
            <a:gdLst>
              <a:gd name="textAreaLeft" fmla="*/ 0 w 8578800"/>
              <a:gd name="textAreaRight" fmla="*/ 8579160 w 8578800"/>
              <a:gd name="textAreaTop" fmla="*/ 501480 h 4267080"/>
              <a:gd name="textAreaBottom" fmla="*/ 376560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270"/>
                </a:moveTo>
                <a:cubicBezTo>
                  <a:pt x="7200" y="-3229"/>
                  <a:pt x="14400" y="5769"/>
                  <a:pt x="21600" y="1270"/>
                </a:cubicBezTo>
                <a:lnTo>
                  <a:pt x="21600" y="20330"/>
                </a:lnTo>
                <a:cubicBezTo>
                  <a:pt x="14400" y="24829"/>
                  <a:pt x="7200" y="15831"/>
                  <a:pt x="0" y="20330"/>
                </a:cubicBezTo>
                <a:close/>
              </a:path>
            </a:pathLst>
          </a:custGeom>
          <a:solidFill>
            <a:srgbClr val="008080">
              <a:alpha val="50000"/>
            </a:srgbClr>
          </a:solidFill>
          <a:ln w="507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所以上天要把重任降临在这个人身上，一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先要使他的心意痛苦，使他的筋骨劳累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使他忍饥挨饿身体空虚乏力，使他做事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到阻挠干扰，用这些来激励他的心志，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他的性情坚忍。增加他不具备的才能 。</a:t>
            </a: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457200" y="2514600"/>
            <a:ext cx="8578800" cy="4267080"/>
          </a:xfrm>
          <a:custGeom>
            <a:avLst/>
            <a:gdLst>
              <a:gd name="textAreaLeft" fmla="*/ 0 w 8578800"/>
              <a:gd name="textAreaRight" fmla="*/ 8579160 w 8578800"/>
              <a:gd name="textAreaTop" fmla="*/ 501480 h 4267080"/>
              <a:gd name="textAreaBottom" fmla="*/ 376560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270"/>
                </a:moveTo>
                <a:cubicBezTo>
                  <a:pt x="7200" y="-3229"/>
                  <a:pt x="14400" y="5769"/>
                  <a:pt x="21600" y="1270"/>
                </a:cubicBezTo>
                <a:lnTo>
                  <a:pt x="21600" y="20330"/>
                </a:lnTo>
                <a:cubicBezTo>
                  <a:pt x="14400" y="24829"/>
                  <a:pt x="7200" y="15831"/>
                  <a:pt x="0" y="20330"/>
                </a:cubicBezTo>
                <a:close/>
              </a:path>
            </a:pathLst>
          </a:custGeom>
          <a:solidFill>
            <a:srgbClr val="ccffcc"/>
          </a:solidFill>
          <a:ln w="507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09480" y="350532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第二自然段归纳出了第一段的结论：人要担负重任，有所作为，成就大事，必须现在思想生活和行为等方面经受一番艰苦的磨练。并指明了磨练的益处：一、是培养坚定的意志和毅力。二、是能够发展个人的才能，即治理天下的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029"/>
          <p:cNvSpPr/>
          <p:nvPr/>
        </p:nvSpPr>
        <p:spPr>
          <a:xfrm>
            <a:off x="450720" y="380880"/>
            <a:ext cx="83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新魏"/>
              </a:rPr>
              <a:t>人恒过，然后能改；困于心，衡于虑，而后作；征于色，发于声，而后喻。入则无法家拂士，出则无敌国外患者，国恒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30"/>
          <p:cNvSpPr/>
          <p:nvPr/>
        </p:nvSpPr>
        <p:spPr>
          <a:xfrm>
            <a:off x="611280" y="2922480"/>
            <a:ext cx="8076960" cy="1068840"/>
          </a:xfrm>
          <a:prstGeom prst="rect">
            <a:avLst/>
          </a:prstGeom>
          <a:noFill/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一个人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常常犯错误，然后才能改正；心意困苦，思虑阻塞，然后才能奋发创造；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别人愤怒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表现在脸色上，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怨恨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吐发在言语中，然后你就会知道。一个国家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如果在国内没有坚守法度的大臣和足以辅佐君王的贤士，在国外如果没有足以与之抗衡的邻国和来自外国的祸患，便常常会被消灭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32"/>
          <p:cNvSpPr/>
          <p:nvPr/>
        </p:nvSpPr>
        <p:spPr>
          <a:xfrm>
            <a:off x="533520" y="2895480"/>
            <a:ext cx="8229600" cy="22874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ff9900"/>
                </a:solidFill>
                <a:latin typeface="Times New Roman"/>
              </a:rPr>
              <a:t>本段论述了人处于困境才能够奋发，国无忧虑则往往遭到灭亡的道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4557600" y="60948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然后知生于忧患，而死于安乐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0" y="1776240"/>
            <a:ext cx="9144000" cy="9501480"/>
          </a:xfrm>
          <a:prstGeom prst="pie">
            <a:avLst/>
          </a:prstGeom>
          <a:solidFill>
            <a:srgbClr val="3333cc">
              <a:alpha val="50000"/>
            </a:srgbClr>
          </a:solidFill>
          <a:ln w="507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幼圆"/>
                <a:ea typeface="幼圆"/>
              </a:rPr>
              <a:t>中心论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幼圆"/>
                <a:ea typeface="幼圆"/>
              </a:rPr>
              <a:t>这样</a:t>
            </a:r>
            <a:r>
              <a:rPr b="1" lang="zh-CN" sz="3600" spc="-1" strike="noStrike">
                <a:solidFill>
                  <a:srgbClr val="ffff00"/>
                </a:solidFill>
                <a:latin typeface="幼圆"/>
                <a:ea typeface="幼圆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幼圆"/>
                <a:ea typeface="幼圆"/>
              </a:rPr>
              <a:t>就知道忧愁患害足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幼圆"/>
                <a:ea typeface="幼圆"/>
              </a:rPr>
              <a:t>使人生存，而安逸享乐足以使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幼圆"/>
                <a:ea typeface="幼圆"/>
              </a:rPr>
              <a:t>灭亡的道理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3657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Times New Roman"/>
                <a:ea typeface="华文隶书"/>
              </a:rPr>
              <a:t>文章思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01680" y="1393920"/>
            <a:ext cx="854064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《生于忧患，死于安乐》全文共四段，分三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第一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段：列举古代六位圣君贤臣起于微贱的事例。       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（举例论证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这些事例暗示：逆境对造就人才的重大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段：归纳概括第一段的事例。说明困境能造就人才的道理。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（道理论证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第二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段：从个人和国家的角度进一步阐发上述结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Times New Roman"/>
              </a:rPr>
              <a:t>第三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段：点明中心论点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生于忧患，死于安乐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。论点独成一段，鲜明突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620120" y="6172200"/>
            <a:ext cx="976320" cy="485640"/>
          </a:xfrm>
          <a:prstGeom prst="rightArrow">
            <a:avLst>
              <a:gd name="adj1" fmla="val 50000"/>
              <a:gd name="adj2" fmla="val 502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文本框 8198"/>
          <p:cNvSpPr/>
          <p:nvPr/>
        </p:nvSpPr>
        <p:spPr>
          <a:xfrm>
            <a:off x="169236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647712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指出下列各句中的通假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62520" y="1930320"/>
            <a:ext cx="50292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曾 通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增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，增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衡 通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横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，梗塞，不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拂 通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弼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，辅弼，辅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457200" y="1905120"/>
            <a:ext cx="35053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曾益其所不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困于心衡于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入则无法家拂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048120" cy="83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一词多义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523880" y="1371600"/>
            <a:ext cx="4572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舜发于畎亩之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野芳发而幽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征于色，发于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发闾左谪戍渔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800600" y="1371600"/>
            <a:ext cx="312408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兴起，被任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（花）开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表露，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征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914400" y="2133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1600200" y="1523880"/>
            <a:ext cx="152280" cy="20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1905120" y="4191120"/>
            <a:ext cx="3429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国恒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则有去国怀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固国不以山溪之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876920" y="4191120"/>
            <a:ext cx="14475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c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国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国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----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国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1143000" y="4952880"/>
            <a:ext cx="1219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1066680" y="45720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1752480" y="441972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14"/>
          <p:cNvSpPr/>
          <p:nvPr/>
        </p:nvSpPr>
        <p:spPr>
          <a:xfrm>
            <a:off x="7481880" y="6095880"/>
            <a:ext cx="976320" cy="486000"/>
          </a:xfrm>
          <a:prstGeom prst="rightArrow">
            <a:avLst>
              <a:gd name="adj1" fmla="val 50000"/>
              <a:gd name="adj2" fmla="val 501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3"/>
          <p:cNvSpPr/>
          <p:nvPr/>
        </p:nvSpPr>
        <p:spPr>
          <a:xfrm>
            <a:off x="7020000" y="1844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8"/>
          <p:cNvSpPr/>
          <p:nvPr/>
        </p:nvSpPr>
        <p:spPr>
          <a:xfrm>
            <a:off x="762120" y="304920"/>
            <a:ext cx="259056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作家简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762120" y="1371600"/>
            <a:ext cx="25905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掌握生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762120" y="2362320"/>
            <a:ext cx="259056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3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聆听朗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62120" y="3429000"/>
            <a:ext cx="25905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4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学习课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762120" y="4495680"/>
            <a:ext cx="25905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5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思考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762120" y="5562720"/>
            <a:ext cx="259056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6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课外拓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4" descr="E:\教学\普教室\生于忧患死于安乐\3.jpg"/>
          <p:cNvPicPr/>
          <p:nvPr/>
        </p:nvPicPr>
        <p:blipFill>
          <a:blip r:embed="rId2"/>
          <a:stretch/>
        </p:blipFill>
        <p:spPr>
          <a:xfrm>
            <a:off x="3809880" y="380880"/>
            <a:ext cx="51055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09480" y="504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     </a:t>
            </a:r>
            <a:r>
              <a:rPr b="0" lang="zh-CN" sz="4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文中提出担当大任的人必须经过艰苦生活的磨练。请查找相关资料，补充一些例子，说说你的看法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E:\教学\普教室\生于忧患死于安乐\5.jpg"/>
          <p:cNvPicPr/>
          <p:nvPr/>
        </p:nvPicPr>
        <p:blipFill>
          <a:blip r:embed="rId2"/>
          <a:stretch/>
        </p:blipFill>
        <p:spPr>
          <a:xfrm>
            <a:off x="1143000" y="3581280"/>
            <a:ext cx="71629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3933360"/>
            <a:ext cx="2880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仲尼厄而作</a:t>
            </a:r>
            <a:br>
              <a:rPr sz="3600"/>
            </a:br>
            <a:r>
              <a:rPr b="0" lang="zh-CN" sz="3600" spc="-1" strike="noStrike">
                <a:solidFill>
                  <a:srgbClr val="008080"/>
                </a:solidFill>
                <a:latin typeface="Times New Roman"/>
                <a:ea typeface="楷体_GB2312"/>
              </a:rPr>
              <a:t>《春秋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3" descr="孔子"/>
          <p:cNvPicPr/>
          <p:nvPr/>
        </p:nvPicPr>
        <p:blipFill>
          <a:blip r:embed="rId2"/>
          <a:stretch/>
        </p:blipFill>
        <p:spPr>
          <a:xfrm>
            <a:off x="0" y="0"/>
            <a:ext cx="3086280" cy="38098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6083280" y="866880"/>
            <a:ext cx="267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屈原放逐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乃赋《离骚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6" descr="韩非"/>
          <p:cNvPicPr/>
          <p:nvPr/>
        </p:nvPicPr>
        <p:blipFill>
          <a:blip r:embed="rId3"/>
          <a:stretch/>
        </p:blipFill>
        <p:spPr>
          <a:xfrm>
            <a:off x="3276720" y="2133720"/>
            <a:ext cx="2182680" cy="2666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7"/>
          <p:cNvSpPr/>
          <p:nvPr/>
        </p:nvSpPr>
        <p:spPr>
          <a:xfrm>
            <a:off x="1692360" y="4902120"/>
            <a:ext cx="46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韩非囚秦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说难》、《孤愤》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9" descr="E:\教学\普教室\生于忧患死于安乐\quyuan.jpg"/>
          <p:cNvPicPr/>
          <p:nvPr/>
        </p:nvPicPr>
        <p:blipFill>
          <a:blip r:embed="rId4"/>
          <a:stretch/>
        </p:blipFill>
        <p:spPr>
          <a:xfrm>
            <a:off x="5896080" y="2514600"/>
            <a:ext cx="3095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252720" y="-1717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司马迁受腐刑而作《史记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768280" y="1409760"/>
            <a:ext cx="1886760" cy="53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隶书"/>
              </a:rPr>
              <a:t>司马迁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隶书"/>
              </a:rPr>
              <a:t>---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隶书"/>
              </a:rPr>
              <a:t>西汉史学家、文学家和思想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隶书"/>
              </a:rPr>
              <a:t>。因替投降匈奴的李陵辩解，被捕入狱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隶书"/>
              </a:rPr>
              <a:t>出狱后，发奋著书完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史记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隶书"/>
              </a:rPr>
              <a:t>。鲁迅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隶书"/>
              </a:rPr>
              <a:t>它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史家之绝唱，无韵之离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457200" y="533520"/>
            <a:ext cx="8292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我要扼住命运的咽喉，他绝不能使我完全屈服。           </a:t>
            </a:r>
            <a:r>
              <a:rPr b="0" lang="zh-CN" sz="3600" spc="-1" strike="noStrike">
                <a:solidFill>
                  <a:srgbClr val="cc3300"/>
                </a:solidFill>
                <a:latin typeface="华文楷体"/>
                <a:ea typeface="黑体"/>
              </a:rPr>
              <a:t>——</a:t>
            </a:r>
            <a:r>
              <a:rPr b="0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贝多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6" descr="E:\教学\普教室\生于忧患死于安乐\bdf.jpg"/>
          <p:cNvPicPr/>
          <p:nvPr/>
        </p:nvPicPr>
        <p:blipFill>
          <a:blip r:embed="rId2"/>
          <a:stretch/>
        </p:blipFill>
        <p:spPr>
          <a:xfrm>
            <a:off x="1066680" y="1905120"/>
            <a:ext cx="3114720" cy="44956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5013360" y="2273400"/>
            <a:ext cx="306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贝多芬即使在双耳失聪的情况下，仍然坚持音乐创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685800" y="1546200"/>
            <a:ext cx="79246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没有伟大的意志力，就没有雄才大略。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巴尔扎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困难越大，战胜困难就越荣耀。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莫里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天空黑暗到一定程度，星辰就会熠熠生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                             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—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查尔斯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·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比亚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在获得无比丰富的生命体验的过程中，如果一帆风顺，那我们将失去一些发自内心深处的无上喜悦，只有穿越黑暗幽深的山谷，到达山顶的时候才会欣喜若狂。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                               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海伦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·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凯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6600"/>
                </a:solidFill>
                <a:latin typeface="黑体"/>
                <a:ea typeface="黑体"/>
              </a:rPr>
              <a:t>宝剑锋从磨砺出，梅花香自苦寒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658680" y="380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隶书"/>
              </a:rPr>
              <a:t>名人名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066680" y="36504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总结：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    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优越的条件容易消磨人的意志，腐蚀人的健康肌体，使人丧失成功的上进心；而艰苦的环境，无论坎坷的道路，却能磨练人的意志，增长人的上进心。美国剧作家帕特里克说的“痛苦使人思索，思索使人明智，智慧使人生命持久”，足以说明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逆境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的优越性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1460-528F-4969-9BB8-8DFE2A52B0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1183320" y="24300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课后思考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838080" y="909720"/>
            <a:ext cx="7696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文中说：“人恒过，然后能改”，有人对这句话持不同的见解。请阅读下面链接材料后，结合自己的思考谈一点你的看法。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有些错误没机会改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48</a:t>
            </a: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岁的喜剧演员牛振华因酒后驾车惨遭不幸。出事后牛振华的家属发表了情真意切的公开信：“一生谨慎的他犯了一个错误，而他唯一一次错误，却让他不再有改正的机会，也给我们造成终生的遗憾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       ”</a:t>
            </a: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人们常说：“不要怕犯错误”。“不要怕‘交学费’”，“吃一堑，长一智”“在哪里摔到，就在哪里爬起来”等等，这些话不能说不对，但有些错误是致命的，瞬间发生，没有纠正的机会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孟子"/>
          <p:cNvPicPr/>
          <p:nvPr/>
        </p:nvPicPr>
        <p:blipFill>
          <a:blip r:embed="rId2">
            <a:lum contrast="40000"/>
          </a:blip>
          <a:srcRect l="6813" t="1400" r="2916" b="3038"/>
          <a:stretch/>
        </p:blipFill>
        <p:spPr>
          <a:xfrm>
            <a:off x="611280" y="1298520"/>
            <a:ext cx="3120840" cy="5178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838080" y="304920"/>
            <a:ext cx="42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有关孟子和《孟子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3809880" y="838080"/>
            <a:ext cx="49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孟子（前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7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前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9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战国时思想家、教育家。名轲，字子舆，邹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今山东邹县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后世认为他是孔子学说的继承人，因此把</a:t>
            </a:r>
            <a:r>
              <a:rPr b="1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他和孔子并称：孔孟，并尊其为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亚圣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他曾游梁，说惠王，不能用；乃见齐宣王，为客卿。宣王对他很客气，可是也始终不用。于是孟子归而述孔子之意，教授弟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BD05912_"/>
          <p:cNvPicPr/>
          <p:nvPr/>
        </p:nvPicPr>
        <p:blipFill>
          <a:blip r:embed="rId2"/>
          <a:stretch/>
        </p:blipFill>
        <p:spPr>
          <a:xfrm>
            <a:off x="6280200" y="1681200"/>
            <a:ext cx="2482920" cy="45673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762120" y="8161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《孟子》是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儒家的经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一，为孟子和弟子及再传弟子所著。书中记载了孟子及其弟子的政治、教育、哲学、伦理等思想观点和政治活动。南宋朱熹把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它和《大学》、《中庸》、《论语》合为“四书”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成为此后读书人的必读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5638680" y="6019920"/>
            <a:ext cx="976320" cy="485640"/>
          </a:xfrm>
          <a:prstGeom prst="rightArrow">
            <a:avLst>
              <a:gd name="adj1" fmla="val 50000"/>
              <a:gd name="adj2" fmla="val 502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29"/>
          <p:cNvSpPr/>
          <p:nvPr/>
        </p:nvSpPr>
        <p:spPr>
          <a:xfrm>
            <a:off x="685800" y="1563840"/>
            <a:ext cx="4572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舜发于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畎</a:t>
            </a: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亩之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傅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说</a:t>
            </a: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举于版筑之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胶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鬲</a:t>
            </a: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举于鱼盐之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行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拂</a:t>
            </a: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乱其所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法家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拂</a:t>
            </a: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曾</a:t>
            </a:r>
            <a:r>
              <a:rPr b="1" lang="zh-CN" sz="3600" spc="-1" strike="noStrike">
                <a:solidFill>
                  <a:srgbClr val="3366ff"/>
                </a:solidFill>
                <a:latin typeface="幼圆"/>
                <a:ea typeface="幼圆"/>
              </a:rPr>
              <a:t>益其所不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30"/>
          <p:cNvSpPr/>
          <p:nvPr/>
        </p:nvSpPr>
        <p:spPr>
          <a:xfrm>
            <a:off x="1276560" y="45720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给下列红字注音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31"/>
          <p:cNvSpPr/>
          <p:nvPr/>
        </p:nvSpPr>
        <p:spPr>
          <a:xfrm>
            <a:off x="5632560" y="1600200"/>
            <a:ext cx="191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ｑｕ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ǎ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ｎ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2"/>
          <p:cNvSpPr/>
          <p:nvPr/>
        </p:nvSpPr>
        <p:spPr>
          <a:xfrm>
            <a:off x="5861880" y="2438280"/>
            <a:ext cx="13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ｙ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è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33"/>
          <p:cNvSpPr/>
          <p:nvPr/>
        </p:nvSpPr>
        <p:spPr>
          <a:xfrm>
            <a:off x="5925240" y="323064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é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34"/>
          <p:cNvSpPr/>
          <p:nvPr/>
        </p:nvSpPr>
        <p:spPr>
          <a:xfrm>
            <a:off x="6012000" y="3992400"/>
            <a:ext cx="89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f 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35"/>
          <p:cNvSpPr/>
          <p:nvPr/>
        </p:nvSpPr>
        <p:spPr>
          <a:xfrm>
            <a:off x="6069960" y="4876920"/>
            <a:ext cx="100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ì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36"/>
          <p:cNvSpPr/>
          <p:nvPr/>
        </p:nvSpPr>
        <p:spPr>
          <a:xfrm>
            <a:off x="6051960" y="5668920"/>
            <a:ext cx="14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z ēn 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037"/>
          <p:cNvSpPr/>
          <p:nvPr/>
        </p:nvSpPr>
        <p:spPr>
          <a:xfrm>
            <a:off x="7772400" y="6172200"/>
            <a:ext cx="976320" cy="485640"/>
          </a:xfrm>
          <a:prstGeom prst="rightArrow">
            <a:avLst>
              <a:gd name="adj1" fmla="val 50000"/>
              <a:gd name="adj2" fmla="val 502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E:\教学\普教室\生于忧患死于安乐\2.jpg"/>
          <p:cNvPicPr/>
          <p:nvPr/>
        </p:nvPicPr>
        <p:blipFill>
          <a:blip r:embed="rId2"/>
          <a:stretch/>
        </p:blipFill>
        <p:spPr>
          <a:xfrm>
            <a:off x="609480" y="457200"/>
            <a:ext cx="8001000" cy="4505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2819520" y="54864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600200" y="53341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课文朗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张筠英《生于忧患，死于安乐》.mp3" descr=""/>
          <p:cNvPicPr/>
          <p:nvPr/>
        </p:nvPicPr>
        <p:blipFill>
          <a:blip r:embed="rId3"/>
          <a:stretch/>
        </p:blipFill>
        <p:spPr>
          <a:xfrm>
            <a:off x="4724280" y="54864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10"/>
          <p:cNvSpPr/>
          <p:nvPr/>
        </p:nvSpPr>
        <p:spPr>
          <a:xfrm>
            <a:off x="7481880" y="6095880"/>
            <a:ext cx="976320" cy="486000"/>
          </a:xfrm>
          <a:prstGeom prst="rightArrow">
            <a:avLst>
              <a:gd name="adj1" fmla="val 50000"/>
              <a:gd name="adj2" fmla="val 501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文本框 8198"/>
          <p:cNvSpPr/>
          <p:nvPr/>
        </p:nvSpPr>
        <p:spPr>
          <a:xfrm>
            <a:off x="3060720" y="442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43200" y="2819160"/>
            <a:ext cx="91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舜</a:t>
            </a:r>
            <a:r>
              <a:rPr b="0" lang="zh-CN" sz="60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发于</a:t>
            </a:r>
            <a:r>
              <a:rPr b="0" lang="zh-CN" sz="6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畎亩之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舜1"/>
          <p:cNvPicPr/>
          <p:nvPr/>
        </p:nvPicPr>
        <p:blipFill>
          <a:blip r:embed="rId2"/>
          <a:stretch/>
        </p:blipFill>
        <p:spPr>
          <a:xfrm>
            <a:off x="4267080" y="533520"/>
            <a:ext cx="4191120" cy="6095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734400" y="609480"/>
            <a:ext cx="1399320" cy="5181840"/>
          </a:xfrm>
          <a:prstGeom prst="rect">
            <a:avLst/>
          </a:prstGeom>
          <a:solidFill>
            <a:srgbClr val="00cc99"/>
          </a:solidFill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舜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从</a:t>
            </a: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田野之中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被起用</a:t>
            </a:r>
            <a:r>
              <a:rPr b="0" lang="zh-CN" sz="3200" spc="-1" strike="noStrike">
                <a:solidFill>
                  <a:srgbClr val="008080"/>
                </a:solidFill>
                <a:latin typeface="方正姚体"/>
                <a:ea typeface="方正姚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傅说</a:t>
            </a: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举于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版筑之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傅说"/>
          <p:cNvPicPr/>
          <p:nvPr/>
        </p:nvPicPr>
        <p:blipFill>
          <a:blip r:embed="rId1"/>
          <a:stretch/>
        </p:blipFill>
        <p:spPr>
          <a:xfrm>
            <a:off x="685800" y="1371600"/>
            <a:ext cx="4381560" cy="4952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5796000" y="1844640"/>
            <a:ext cx="2514600" cy="1434600"/>
          </a:xfrm>
          <a:prstGeom prst="rect">
            <a:avLst/>
          </a:prstGeom>
          <a:noFill/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Times New Roman"/>
                <a:ea typeface="隶书"/>
              </a:rPr>
              <a:t>傅说</a:t>
            </a: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隶书"/>
              </a:rPr>
              <a:t>从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  <a:ea typeface="隶书"/>
              </a:rPr>
              <a:t>筑墙的劳作之中</a:t>
            </a: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隶书"/>
              </a:rPr>
              <a:t>被起用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2040" y="2895120"/>
            <a:ext cx="68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胶鬲举于鱼盐之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304320" y="685800"/>
            <a:ext cx="1277640" cy="5638680"/>
          </a:xfrm>
          <a:prstGeom prst="rect">
            <a:avLst/>
          </a:prstGeom>
          <a:solidFill>
            <a:srgbClr val="00cc99">
              <a:alpha val="50000"/>
            </a:srgbClr>
          </a:solidFill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胶鬲从贩卖鱼盐中被起用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10:20:2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6:49Z</dcterms:modified>
  <cp:revision>6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