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0F2-2840-4FE2-B49A-76A99BB5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B30-A1AE-44CF-9BD6-664F3599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6AF-E65A-4E1D-AE24-9CE07B59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7B4-226A-4247-96A1-AFCE00DD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ACE1-8891-4D36-BF15-2444EAF5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01E7-0E25-4B43-8EB1-BB1EED13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08A-5368-436E-AFE2-0A0E72BF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F737-76B4-45AA-A961-524A3663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B525-0312-4A82-A9F9-95E30A18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A083-3515-4E28-B62F-F29C20C9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7F1D-A9BF-4D60-83A4-DA38664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362-B911-4558-B259-F0C31FED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8D9A-E78E-4F78-A3ED-56B071E8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038-C351-4006-AFE1-86768B0B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BCDC-82C7-4FB8-837B-BA6E8C8A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0B39-37D1-44C8-9568-9547F053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B6CF-F664-4E70-819D-1E7C1C3F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ABD-9E03-40B8-AA3A-614F8069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E33-14A7-4077-A294-642342B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7EA-1B29-4B69-AB46-BB900A91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849-CD2B-499C-9D3D-79AFAB19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65A-5E88-48ED-9D56-8748C86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3A4-4358-43B6-A35B-7B5139D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9B0-CD77-423E-AFCA-5F09CD3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2929-25CE-4247-B4C7-B04606BB86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07E6-33EB-4ECD-B1F4-C81A23787C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092240" y="1413000"/>
            <a:ext cx="72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水珠从哪里来</a:t>
            </a:r>
            <a:r>
              <a:rPr b="1" lang="en-US" sz="4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课件下载</a:t>
            </a:r>
            <a:endParaRPr b="1" lang="en-US" sz="4000" spc="-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504800" y="620640"/>
            <a:ext cx="3289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科版三年级科学下册第三单元第五课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84" name="Picture 4" descr="465484_084155077_2"/>
          <p:cNvPicPr/>
          <p:nvPr/>
        </p:nvPicPr>
        <p:blipFill>
          <a:blip r:embed="rId5"/>
          <a:stretch/>
        </p:blipFill>
        <p:spPr>
          <a:xfrm>
            <a:off x="243000" y="2924280"/>
            <a:ext cx="2449440" cy="2622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85" name="Picture 3" descr="11"/>
          <p:cNvPicPr/>
          <p:nvPr/>
        </p:nvPicPr>
        <p:blipFill>
          <a:blip r:embed="rId6"/>
          <a:stretch/>
        </p:blipFill>
        <p:spPr>
          <a:xfrm>
            <a:off x="3052800" y="2924280"/>
            <a:ext cx="2663640" cy="259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86" name="Picture 7" descr="20070825012726_7"/>
          <p:cNvPicPr/>
          <p:nvPr/>
        </p:nvPicPr>
        <p:blipFill>
          <a:blip r:embed="rId7"/>
          <a:stretch/>
        </p:blipFill>
        <p:spPr>
          <a:xfrm>
            <a:off x="6005520" y="2924280"/>
            <a:ext cx="280836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4360" y="1197000"/>
            <a:ext cx="8064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不可能是加冰的时候，冰块碰到了杯沿化成水流下来了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因为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加冰的时候一般都是小心的加入杯内的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29" name="Picture 3" descr="200711111437860"/>
          <p:cNvPicPr/>
          <p:nvPr/>
        </p:nvPicPr>
        <p:blipFill>
          <a:blip r:embed="rId1"/>
          <a:stretch/>
        </p:blipFill>
        <p:spPr>
          <a:xfrm>
            <a:off x="1042920" y="5013360"/>
            <a:ext cx="6769080" cy="1419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611280" y="404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讨论：“有可能是加冰的时候，冰块碰到了杯沿化成水流下来了”解释合理吗？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882720"/>
            <a:ext cx="846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我们得出结论：玻璃杯外壁上的小水珠，不是杯内的冰融化形成的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26920" y="357336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9640" y="292428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玻璃杯外壁上的小水珠形成与冰有关系吗 ？为什么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35" name="Picture 5" descr="2007116121854749_1"/>
          <p:cNvPicPr/>
          <p:nvPr/>
        </p:nvPicPr>
        <p:blipFill>
          <a:blip r:embed="rId1"/>
          <a:stretch/>
        </p:blipFill>
        <p:spPr>
          <a:xfrm>
            <a:off x="971640" y="5229360"/>
            <a:ext cx="2592360" cy="143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200711111437860"/>
          <p:cNvPicPr/>
          <p:nvPr/>
        </p:nvPicPr>
        <p:blipFill>
          <a:blip r:embed="rId2"/>
          <a:stretch/>
        </p:blipFill>
        <p:spPr>
          <a:xfrm>
            <a:off x="3564000" y="5229360"/>
            <a:ext cx="38876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755640" y="2492280"/>
            <a:ext cx="7775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我们出得出的结论是：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珠的形成与冰是有关系的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6080" y="758880"/>
            <a:ext cx="8526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小水珠到底是从哪里来的？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空气中的什么变来的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空气中有水蒸气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水蒸气是从哪里来的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水蒸气能变成小水珠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是什么使水蒸气的状态发生了变化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文本框 8199"/>
          <p:cNvSpPr/>
          <p:nvPr/>
        </p:nvSpPr>
        <p:spPr>
          <a:xfrm>
            <a:off x="2016000" y="617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流程图: 可选过程 4"/>
          <p:cNvSpPr/>
          <p:nvPr/>
        </p:nvSpPr>
        <p:spPr>
          <a:xfrm>
            <a:off x="714240" y="500040"/>
            <a:ext cx="7643880" cy="8571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143000" y="57168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二、水珠的形成与冰有关吗？</a:t>
            </a:r>
            <a:br>
              <a:rPr sz="4000"/>
            </a:b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357336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357120" y="1571760"/>
            <a:ext cx="8501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实验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取三只同样的玻璃杯，其中一杯里加满自来水，一杯什么也不加，另一杯加冰，静静地放在桌上。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隔几分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观察玻璃杯外壁有没有出现水珠。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45" name="图片 10" descr="u=3450008783,1033443401&amp;fm=52&amp;gp=0.jpg"/>
          <p:cNvPicPr/>
          <p:nvPr/>
        </p:nvPicPr>
        <p:blipFill>
          <a:blip r:embed="rId1"/>
          <a:stretch/>
        </p:blipFill>
        <p:spPr>
          <a:xfrm>
            <a:off x="3857760" y="3643200"/>
            <a:ext cx="1361880" cy="22147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" descr="u=3281267642,1883038920&amp;fm=52&amp;gp=0.jpg"/>
          <p:cNvPicPr/>
          <p:nvPr/>
        </p:nvPicPr>
        <p:blipFill>
          <a:blip r:embed="rId2"/>
          <a:stretch/>
        </p:blipFill>
        <p:spPr>
          <a:xfrm>
            <a:off x="6858000" y="3643200"/>
            <a:ext cx="1714680" cy="2135160"/>
          </a:xfrm>
          <a:prstGeom prst="rect">
            <a:avLst/>
          </a:prstGeom>
          <a:ln w="0">
            <a:noFill/>
          </a:ln>
        </p:spPr>
      </p:pic>
      <p:grpSp>
        <p:nvGrpSpPr>
          <p:cNvPr id="147" name="TextBox 12"/>
          <p:cNvGrpSpPr/>
          <p:nvPr/>
        </p:nvGrpSpPr>
        <p:grpSpPr>
          <a:xfrm>
            <a:off x="3889440" y="5992920"/>
            <a:ext cx="1189080" cy="560160"/>
            <a:chOff x="3889440" y="5992920"/>
            <a:chExt cx="1189080" cy="560160"/>
          </a:xfrm>
        </p:grpSpPr>
        <p:pic>
          <p:nvPicPr>
            <p:cNvPr id="148" name="TextBox 12" descr=""/>
            <p:cNvPicPr/>
            <p:nvPr/>
          </p:nvPicPr>
          <p:blipFill>
            <a:blip r:embed="rId3"/>
            <a:stretch/>
          </p:blipFill>
          <p:spPr>
            <a:xfrm>
              <a:off x="3889440" y="5992920"/>
              <a:ext cx="11890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"/>
            <p:cNvSpPr/>
            <p:nvPr/>
          </p:nvSpPr>
          <p:spPr>
            <a:xfrm>
              <a:off x="4000680" y="6071760"/>
              <a:ext cx="100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Perpetua"/>
                </a:rPr>
                <a:t>自来水</a:t>
              </a:r>
              <a:endParaRPr b="0" lang="en-US" sz="2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grpSp>
        <p:nvGrpSpPr>
          <p:cNvPr id="150" name="TextBox 13"/>
          <p:cNvGrpSpPr/>
          <p:nvPr/>
        </p:nvGrpSpPr>
        <p:grpSpPr>
          <a:xfrm>
            <a:off x="7248600" y="5992920"/>
            <a:ext cx="925560" cy="560160"/>
            <a:chOff x="7248600" y="5992920"/>
            <a:chExt cx="925560" cy="560160"/>
          </a:xfrm>
        </p:grpSpPr>
        <p:pic>
          <p:nvPicPr>
            <p:cNvPr id="151" name="TextBox 13" descr=""/>
            <p:cNvPicPr/>
            <p:nvPr/>
          </p:nvPicPr>
          <p:blipFill>
            <a:blip r:embed="rId4"/>
            <a:stretch/>
          </p:blipFill>
          <p:spPr>
            <a:xfrm>
              <a:off x="7248600" y="5992920"/>
              <a:ext cx="9255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3"/>
            <p:cNvSpPr/>
            <p:nvPr/>
          </p:nvSpPr>
          <p:spPr>
            <a:xfrm>
              <a:off x="7358040" y="607176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Perpetua"/>
                </a:rPr>
                <a:t>空杯</a:t>
              </a:r>
              <a:endParaRPr b="0" lang="en-US" sz="2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sp>
        <p:nvSpPr>
          <p:cNvPr id="153" name="TextBox 12"/>
          <p:cNvSpPr/>
          <p:nvPr/>
        </p:nvSpPr>
        <p:spPr>
          <a:xfrm>
            <a:off x="785880" y="6000840"/>
            <a:ext cx="85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grpSp>
        <p:nvGrpSpPr>
          <p:cNvPr id="154" name="TextBox 15"/>
          <p:cNvGrpSpPr/>
          <p:nvPr/>
        </p:nvGrpSpPr>
        <p:grpSpPr>
          <a:xfrm>
            <a:off x="890640" y="5919840"/>
            <a:ext cx="925560" cy="560160"/>
            <a:chOff x="890640" y="5919840"/>
            <a:chExt cx="925560" cy="560160"/>
          </a:xfrm>
        </p:grpSpPr>
        <p:pic>
          <p:nvPicPr>
            <p:cNvPr id="155" name="TextBox 15" descr=""/>
            <p:cNvPicPr/>
            <p:nvPr/>
          </p:nvPicPr>
          <p:blipFill>
            <a:blip r:embed="rId5"/>
            <a:stretch/>
          </p:blipFill>
          <p:spPr>
            <a:xfrm>
              <a:off x="890640" y="5919840"/>
              <a:ext cx="9255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17"/>
            <p:cNvSpPr/>
            <p:nvPr/>
          </p:nvSpPr>
          <p:spPr>
            <a:xfrm>
              <a:off x="1000080" y="6000480"/>
              <a:ext cx="7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Perpetua"/>
                </a:rPr>
                <a:t>冰块</a:t>
              </a:r>
              <a:endParaRPr b="0" lang="en-US" sz="2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pic>
        <p:nvPicPr>
          <p:cNvPr id="157" name="图片 17" descr="冰块1.jpg"/>
          <p:cNvPicPr/>
          <p:nvPr/>
        </p:nvPicPr>
        <p:blipFill>
          <a:blip r:embed="rId6"/>
          <a:stretch/>
        </p:blipFill>
        <p:spPr>
          <a:xfrm>
            <a:off x="642960" y="3571920"/>
            <a:ext cx="14288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400" y="476280"/>
            <a:ext cx="8686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看一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0" y="1511280"/>
            <a:ext cx="4896000" cy="5346720"/>
            <a:chOff x="0" y="1511280"/>
            <a:chExt cx="4896000" cy="5346720"/>
          </a:xfrm>
        </p:grpSpPr>
        <p:pic>
          <p:nvPicPr>
            <p:cNvPr id="16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1511280"/>
              <a:ext cx="4385520" cy="467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6"/>
            <p:cNvSpPr/>
            <p:nvPr/>
          </p:nvSpPr>
          <p:spPr>
            <a:xfrm>
              <a:off x="0" y="6338880"/>
              <a:ext cx="489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sp>
        <p:nvSpPr>
          <p:cNvPr id="163" name="Text Box 7"/>
          <p:cNvSpPr/>
          <p:nvPr/>
        </p:nvSpPr>
        <p:spPr>
          <a:xfrm>
            <a:off x="4500720" y="2924280"/>
            <a:ext cx="43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华文楷体"/>
              </a:rPr>
              <a:t>杯子外壁特别的冰，湿漉漉的，有小水珠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猜一猜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华文楷体"/>
              </a:rPr>
              <a:t>可能是从杯壁渗出来的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华文楷体"/>
              </a:rPr>
              <a:t>可能是冰化成水后从杯口漫出来的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  <a:ea typeface="华文楷体"/>
              </a:rPr>
              <a:t>可能是加冰的时候冰块碰到了杯沿化成水流下来的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026120" y="165096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  <a:ea typeface="华文楷体"/>
              </a:rPr>
              <a:t>不可能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920680" y="321300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  <a:ea typeface="华文楷体"/>
              </a:rPr>
              <a:t>不可能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665760" y="465300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Verdana"/>
                <a:ea typeface="华文楷体"/>
              </a:rPr>
              <a:t>不可能</a:t>
            </a:r>
            <a:endParaRPr b="0" lang="en-US" sz="36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39640" y="5445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  <a:ea typeface="Arial"/>
              </a:rPr>
              <a:t>…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757440" y="333000"/>
            <a:ext cx="94438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  <a:ea typeface="华文楷体"/>
              </a:rPr>
              <a:t>水珠是冰化成的水吗？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400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得出结论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烧杯外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上的水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杯内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冰融化成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250920" y="1270080"/>
            <a:ext cx="8137440" cy="57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Verdana"/>
              </a:rPr>
              <a:t>水珠的形成与杯内的冰有关系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Verdana"/>
              </a:rPr>
              <a:t>与冰的</a:t>
            </a:r>
            <a:r>
              <a:rPr b="1" lang="en-US" sz="4000" spc="-1" strike="noStrike">
                <a:solidFill>
                  <a:srgbClr val="9900cc"/>
                </a:solidFill>
                <a:latin typeface="Verdana"/>
              </a:rPr>
              <a:t>___</a:t>
            </a:r>
            <a:r>
              <a:rPr b="1" lang="zh-CN" sz="4000" spc="-1" strike="noStrike">
                <a:solidFill>
                  <a:srgbClr val="9900cc"/>
                </a:solidFill>
                <a:latin typeface="Verdana"/>
              </a:rPr>
              <a:t>这个特征有关系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烧杯外壁的水珠是在遇到冰冷的杯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壁而形成的        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50920" y="21924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水珠的形成与冰有什么关系？</a:t>
            </a:r>
            <a:endParaRPr b="0" lang="en-US" sz="48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908000" y="2133720"/>
            <a:ext cx="7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Verdana"/>
              </a:rPr>
              <a:t>冷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702240" y="4797360"/>
            <a:ext cx="18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Verdana"/>
                <a:ea typeface="华文楷体"/>
              </a:rPr>
              <a:t>水蒸气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142920" y="35712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玻璃杯外壁上的小水珠与杯内的冰有什么关系呢？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77" name="图片 5" descr="u=2875646337,1599448899&amp;fm=23&amp;gp=0.jpg"/>
          <p:cNvPicPr/>
          <p:nvPr/>
        </p:nvPicPr>
        <p:blipFill>
          <a:blip r:embed="rId1"/>
          <a:stretch/>
        </p:blipFill>
        <p:spPr>
          <a:xfrm>
            <a:off x="428760" y="4572000"/>
            <a:ext cx="2000160" cy="211932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6" descr="u=23247868,810560375&amp;fm=52&amp;gp=0.jpg"/>
          <p:cNvPicPr/>
          <p:nvPr/>
        </p:nvPicPr>
        <p:blipFill>
          <a:blip r:embed="rId2"/>
          <a:stretch/>
        </p:blipFill>
        <p:spPr>
          <a:xfrm>
            <a:off x="6215040" y="4429080"/>
            <a:ext cx="1928880" cy="223848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" descr="u=3699322604,2396727258&amp;fm=52&amp;gp=0.jpg"/>
          <p:cNvPicPr/>
          <p:nvPr/>
        </p:nvPicPr>
        <p:blipFill>
          <a:blip r:embed="rId3"/>
          <a:stretch/>
        </p:blipFill>
        <p:spPr>
          <a:xfrm rot="20431200">
            <a:off x="3317760" y="4614480"/>
            <a:ext cx="1928880" cy="2238480"/>
          </a:xfrm>
          <a:prstGeom prst="rect">
            <a:avLst/>
          </a:prstGeom>
          <a:ln w="0">
            <a:noFill/>
          </a:ln>
        </p:spPr>
      </p:pic>
      <p:sp>
        <p:nvSpPr>
          <p:cNvPr id="180" name="云形标注 9"/>
          <p:cNvSpPr/>
          <p:nvPr/>
        </p:nvSpPr>
        <p:spPr>
          <a:xfrm>
            <a:off x="714240" y="2143080"/>
            <a:ext cx="2500560" cy="2143080"/>
          </a:xfrm>
          <a:prstGeom prst="cloudCallout">
            <a:avLst>
              <a:gd name="adj1" fmla="val 28611"/>
              <a:gd name="adj2" fmla="val 92157"/>
            </a:avLst>
          </a:prstGeom>
          <a:solidFill>
            <a:srgbClr val="ffffff"/>
          </a:solidFill>
          <a:ln w="255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1" name="云形标注 10"/>
          <p:cNvSpPr/>
          <p:nvPr/>
        </p:nvSpPr>
        <p:spPr>
          <a:xfrm>
            <a:off x="3929040" y="3071880"/>
            <a:ext cx="1857240" cy="1785960"/>
          </a:xfrm>
          <a:prstGeom prst="cloudCallout">
            <a:avLst>
              <a:gd name="adj1" fmla="val 30703"/>
              <a:gd name="adj2" fmla="val 102499"/>
            </a:avLst>
          </a:prstGeom>
          <a:solidFill>
            <a:srgbClr val="ffffff"/>
          </a:solidFill>
          <a:ln w="255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2" name="云形标注 11"/>
          <p:cNvSpPr/>
          <p:nvPr/>
        </p:nvSpPr>
        <p:spPr>
          <a:xfrm>
            <a:off x="6715080" y="2428920"/>
            <a:ext cx="1857600" cy="1857240"/>
          </a:xfrm>
          <a:prstGeom prst="cloudCallout">
            <a:avLst>
              <a:gd name="adj1" fmla="val 35481"/>
              <a:gd name="adj2" fmla="val 105842"/>
            </a:avLst>
          </a:prstGeom>
          <a:solidFill>
            <a:srgbClr val="ffffff"/>
          </a:solidFill>
          <a:ln w="2556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857160" y="257184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可能是空气中的水汽被冰吸到杯壁上了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4143240" y="335772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空气遇到冰变成水了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6929280" y="275904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该是水蒸气变的吧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!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80D7-D653-4A3E-AD0D-CE9A8D2DE2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 </a:t>
            </a:r>
            <a:fld id="{C6A556A6-C0DA-4E21-92D2-A992DC3F4A06}" type="datetime12">
              <a:rPr b="0" lang="zh-CN" sz="1200" spc="-1" strike="noStrike">
                <a:solidFill>
                  <a:srgbClr val="898989"/>
                </a:solidFill>
                <a:latin typeface="Arial"/>
              </a:rPr>
              <a:t>下午 08:24</a:t>
            </a:fld>
            <a:endParaRPr b="0" lang="en-US" sz="1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6080" y="758880"/>
            <a:ext cx="8526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幼圆"/>
              </a:rPr>
              <a:t>露珠滴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6"/>
          <p:cNvPicPr/>
          <p:nvPr/>
        </p:nvPicPr>
        <p:blipFill>
          <a:blip r:embed="rId1"/>
          <a:stretch/>
        </p:blipFill>
        <p:spPr>
          <a:xfrm>
            <a:off x="3132000" y="1628640"/>
            <a:ext cx="266400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20"/>
          <p:cNvPicPr/>
          <p:nvPr/>
        </p:nvPicPr>
        <p:blipFill>
          <a:blip r:embed="rId2"/>
          <a:stretch/>
        </p:blipFill>
        <p:spPr>
          <a:xfrm>
            <a:off x="468360" y="1628640"/>
            <a:ext cx="2663640" cy="18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19"/>
          <p:cNvPicPr/>
          <p:nvPr/>
        </p:nvPicPr>
        <p:blipFill>
          <a:blip r:embed="rId3"/>
          <a:stretch/>
        </p:blipFill>
        <p:spPr>
          <a:xfrm>
            <a:off x="5796000" y="1628640"/>
            <a:ext cx="2879640" cy="18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25"/>
          <p:cNvPicPr/>
          <p:nvPr/>
        </p:nvPicPr>
        <p:blipFill>
          <a:blip r:embed="rId4"/>
          <a:stretch/>
        </p:blipFill>
        <p:spPr>
          <a:xfrm>
            <a:off x="3132000" y="3500280"/>
            <a:ext cx="2664000" cy="25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24"/>
          <p:cNvPicPr/>
          <p:nvPr/>
        </p:nvPicPr>
        <p:blipFill>
          <a:blip r:embed="rId5"/>
          <a:stretch/>
        </p:blipFill>
        <p:spPr>
          <a:xfrm>
            <a:off x="5796000" y="3500280"/>
            <a:ext cx="2879640" cy="259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2"/>
          <p:cNvPicPr/>
          <p:nvPr/>
        </p:nvPicPr>
        <p:blipFill>
          <a:blip r:embed="rId6"/>
          <a:stretch/>
        </p:blipFill>
        <p:spPr>
          <a:xfrm>
            <a:off x="468360" y="3500280"/>
            <a:ext cx="2663640" cy="2592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0"/>
          <p:cNvSpPr txBox="1"/>
          <p:nvPr/>
        </p:nvSpPr>
        <p:spPr>
          <a:xfrm>
            <a:off x="-324000" y="260280"/>
            <a:ext cx="36957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欣赏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50920" y="981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水蒸气是从哪里来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空气中有水蒸气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水蒸气能变成水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是什么使水蒸气发生了变化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559400" y="1978200"/>
            <a:ext cx="12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有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5474520" y="876240"/>
            <a:ext cx="17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空气中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548240" y="3179880"/>
            <a:ext cx="11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能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84720" y="4437000"/>
            <a:ext cx="30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冰冷的东西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2" name="文本框 8199"/>
          <p:cNvSpPr/>
          <p:nvPr/>
        </p:nvSpPr>
        <p:spPr>
          <a:xfrm>
            <a:off x="825480" y="1469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684360" y="765000"/>
            <a:ext cx="7775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玻璃杯外壁上的水珠是：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空气中的水蒸气遇到了冷的玻璃杯壁，水蒸汽迅速冷却，凝结为液体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971640" y="4292640"/>
            <a:ext cx="684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凝结：由气体变为液体的过程             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叫凝结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237960"/>
            <a:ext cx="82440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成小水珠的生活现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2637000"/>
            <a:chOff x="0" y="0"/>
            <a:chExt cx="9144000" cy="2637000"/>
          </a:xfrm>
        </p:grpSpPr>
        <p:pic>
          <p:nvPicPr>
            <p:cNvPr id="198" name="Picture 5" descr="tu11320_7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263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Text Box 6"/>
            <p:cNvSpPr/>
            <p:nvPr/>
          </p:nvSpPr>
          <p:spPr>
            <a:xfrm>
              <a:off x="0" y="0"/>
              <a:ext cx="23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Verdana"/>
                </a:rPr>
                <a:t>拓展延伸</a:t>
              </a:r>
              <a:endParaRPr b="0" lang="en-US" sz="4000" spc="-1" strike="noStrike">
                <a:solidFill>
                  <a:srgbClr val="007a77"/>
                </a:solidFill>
                <a:latin typeface="Verdana"/>
              </a:endParaRPr>
            </a:p>
          </p:txBody>
        </p:sp>
      </p:grpSp>
      <p:sp>
        <p:nvSpPr>
          <p:cNvPr id="200" name="Rectangle 7"/>
          <p:cNvSpPr/>
          <p:nvPr/>
        </p:nvSpPr>
        <p:spPr>
          <a:xfrm>
            <a:off x="0" y="3209760"/>
            <a:ext cx="914400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浴室屋顶上的小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早晨植物叶子上花瓣上的露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做饭的时候锅盖上的小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夏天棒冰包装纸上的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Verdana"/>
              </a:rPr>
              <a:t>冷天窗户上出现的小水珠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  <a:p>
            <a:pPr marL="343080" indent="-343080">
              <a:spcBef>
                <a:spcPts val="20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5CDE-6899-49A8-8D32-BA3572998E83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79280" y="907920"/>
            <a:ext cx="9072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填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蒸气遇冷会凝结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空气中的水蒸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来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简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满碎冰的玻璃杯外壁上有许多小水珠，这些小水珠从哪里来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260360" y="3718080"/>
            <a:ext cx="71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：空气中有大量的水蒸气，盛冰的玻璃杯使它周围的空气中的水蒸气冷却下来，因而在杯壁上凝结成了小水滴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719160" y="119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4360" y="1844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江 、河、湖、海中的水蒸发</a:t>
            </a: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49080" y="189000"/>
            <a:ext cx="1155960" cy="582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堂作业</a:t>
            </a:r>
            <a:endParaRPr b="0" lang="en-US" sz="32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Picture 3" descr="2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21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3"/>
          <p:cNvPicPr/>
          <p:nvPr/>
        </p:nvPicPr>
        <p:blipFill>
          <a:blip r:embed="rId2"/>
          <a:stretch/>
        </p:blipFill>
        <p:spPr>
          <a:xfrm>
            <a:off x="4500720" y="1628640"/>
            <a:ext cx="4174920" cy="216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5"/>
          <p:cNvPicPr/>
          <p:nvPr/>
        </p:nvPicPr>
        <p:blipFill>
          <a:blip r:embed="rId3"/>
          <a:stretch/>
        </p:blipFill>
        <p:spPr>
          <a:xfrm>
            <a:off x="468360" y="3789360"/>
            <a:ext cx="40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6"/>
          <p:cNvPicPr/>
          <p:nvPr/>
        </p:nvPicPr>
        <p:blipFill>
          <a:blip r:embed="rId4"/>
          <a:stretch/>
        </p:blipFill>
        <p:spPr>
          <a:xfrm>
            <a:off x="4500720" y="3755880"/>
            <a:ext cx="4211640" cy="2395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1187280" y="549360"/>
            <a:ext cx="30974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霜</a:t>
            </a:r>
            <a:endParaRPr b="0" lang="en-US" sz="32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5076720" y="333360"/>
            <a:ext cx="369756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欣赏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6080" y="758880"/>
            <a:ext cx="85262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琥珀"/>
              </a:rPr>
              <a:t>云山雾海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4" descr="10"/>
          <p:cNvPicPr/>
          <p:nvPr/>
        </p:nvPicPr>
        <p:blipFill>
          <a:blip r:embed="rId1"/>
          <a:stretch/>
        </p:blipFill>
        <p:spPr>
          <a:xfrm>
            <a:off x="468360" y="1628640"/>
            <a:ext cx="431964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2"/>
          <p:cNvPicPr/>
          <p:nvPr/>
        </p:nvPicPr>
        <p:blipFill>
          <a:blip r:embed="rId2"/>
          <a:stretch/>
        </p:blipFill>
        <p:spPr>
          <a:xfrm>
            <a:off x="4788000" y="1628640"/>
            <a:ext cx="389556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3"/>
          <p:cNvPicPr/>
          <p:nvPr/>
        </p:nvPicPr>
        <p:blipFill>
          <a:blip r:embed="rId3"/>
          <a:stretch/>
        </p:blipFill>
        <p:spPr>
          <a:xfrm>
            <a:off x="468360" y="4076640"/>
            <a:ext cx="431964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11"/>
          <p:cNvPicPr/>
          <p:nvPr/>
        </p:nvPicPr>
        <p:blipFill>
          <a:blip r:embed="rId4"/>
          <a:stretch/>
        </p:blipFill>
        <p:spPr>
          <a:xfrm>
            <a:off x="4788000" y="4076640"/>
            <a:ext cx="3854520" cy="2016360"/>
          </a:xfrm>
          <a:prstGeom prst="rect">
            <a:avLst/>
          </a:prstGeom>
          <a:ln w="0">
            <a:noFill/>
          </a:ln>
        </p:spPr>
      </p:pic>
      <p:sp>
        <p:nvSpPr>
          <p:cNvPr id="110" name="WordArt 8"/>
          <p:cNvSpPr txBox="1"/>
          <p:nvPr/>
        </p:nvSpPr>
        <p:spPr>
          <a:xfrm>
            <a:off x="-252360" y="189000"/>
            <a:ext cx="3697200" cy="133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欣赏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一想、猜一猜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装冰玻璃杯外壁上的小水珠从哪里来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1700280"/>
            <a:ext cx="87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可能是从杯子里渗出来的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50920" y="314172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实验一要求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擦拭杯子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认真观察，时间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钟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做好记录，填写实验记录单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395280" y="2205000"/>
            <a:ext cx="770400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不可能是从杯子里渗出来的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因为玻璃杯是不渗水的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15" name="Picture 3" descr="6fe51fd4f511651bc9ede8f801dd2467"/>
          <p:cNvPicPr/>
          <p:nvPr/>
        </p:nvPicPr>
        <p:blipFill>
          <a:blip r:embed="rId1"/>
          <a:stretch/>
        </p:blipFill>
        <p:spPr>
          <a:xfrm>
            <a:off x="539640" y="4365720"/>
            <a:ext cx="7417080" cy="192096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4" descr=""/>
          <p:cNvPicPr/>
          <p:nvPr/>
        </p:nvPicPr>
        <p:blipFill>
          <a:blip r:embed="rId2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468360" y="333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讨论：“可能是从杯子里渗出来的 ”解释合理吗？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一想、猜一猜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装冰玻璃杯外壁上的小水珠从哪里来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170028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可能是倒水后从水杯口溢出来的 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2708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实验二要求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擦拭杯子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加水，倒水注意不要溢出水杯，如果不小心倒在外面，要用纸巾把外面擦拭干净。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认真观察，时间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钟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做好记录，填写实验记录单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68360" y="1773360"/>
            <a:ext cx="77169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“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不可能是从杯子里溢出来的 ”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因为倒水时杯子中的水还没有满，不可能溢出来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pic>
        <p:nvPicPr>
          <p:cNvPr id="122" name="Picture 3" descr="20070825012726_7"/>
          <p:cNvPicPr/>
          <p:nvPr/>
        </p:nvPicPr>
        <p:blipFill>
          <a:blip r:embed="rId1"/>
          <a:stretch/>
        </p:blipFill>
        <p:spPr>
          <a:xfrm>
            <a:off x="611280" y="5157720"/>
            <a:ext cx="2305080" cy="1397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2007116121854749_1"/>
          <p:cNvPicPr/>
          <p:nvPr/>
        </p:nvPicPr>
        <p:blipFill>
          <a:blip r:embed="rId2"/>
          <a:stretch/>
        </p:blipFill>
        <p:spPr>
          <a:xfrm>
            <a:off x="5003640" y="5084640"/>
            <a:ext cx="2232360" cy="1578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讨论：“可能是从杯子里溢出来的 ”解释合理吗？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一想、猜一猜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装冰玻璃杯外壁上的小水珠从哪里来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0" y="170028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有可能是加冰的时候，冰块碰到了杯沿化成水流下来了。</a:t>
            </a:r>
            <a:endParaRPr b="0" lang="en-US" sz="4400" spc="-1" strike="noStrike">
              <a:solidFill>
                <a:srgbClr val="007a77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31082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实验三要求：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擦拭杯子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加冰，冰的高度注意不要超出水杯，轻放不要打破杯子。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认真观察，时间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钟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）做好记录，填写实验记录单。</a:t>
            </a:r>
            <a:endParaRPr b="0" lang="en-US" sz="4000" spc="-1" strike="noStrike">
              <a:solidFill>
                <a:srgbClr val="007a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5:58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35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