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camera.wav" ContentType="audio/x-wav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3E4-4FBA-46EE-8B2D-021C7CBE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7E9-BDE7-4446-AB41-5FE7C548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10D-F257-4B82-8DDD-EC4FD3E5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5CC-98AB-4773-A85F-D753D732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4295-3E22-4D59-9EFB-0C1F1AB3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C33E-B897-4E90-A4E1-30BC8110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FCD1-05BA-49B8-8540-115EE9C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9B9-3A58-454E-8E4A-669D3499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57BC-486B-4C27-9529-F8FF6AA9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A73C-5C00-4702-A3AC-868B3EC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7FD-A584-4135-A2DA-F1924537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612-37C8-4B3A-B0C6-02745D58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24E-6374-4C07-AAFD-B6FE2D6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AC1C-88AC-4C1B-BDAA-21C8E3A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D508-4F4B-4A5F-AA06-7299EB1C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8F82-DE08-4F4A-96E6-4554EBFF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9CCF-83CB-4F8E-92E2-A149FA6B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0B6-CDB3-4889-AE3A-50190C55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F32-AAC6-46F4-A40E-EC14FB7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B4D-5055-429C-AFF0-88069774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A63-BE86-4E50-B9B8-B7D19102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592-C8AC-43B5-B42B-5A09490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B2A-919A-4524-8B27-339C4CEC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2F5-F218-4F5A-A8C0-9F72E54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9A1-8F71-4F9A-A67C-3BA12D3B33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BADB-06CC-4E73-A3DF-88BCD9A290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M_0457"/>
          <p:cNvPicPr/>
          <p:nvPr/>
        </p:nvPicPr>
        <p:blipFill>
          <a:blip r:embed="rId2"/>
          <a:stretch/>
        </p:blipFill>
        <p:spPr>
          <a:xfrm>
            <a:off x="1835280" y="1816200"/>
            <a:ext cx="5402160" cy="4389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1872000" y="476280"/>
            <a:ext cx="46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手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042920" y="270828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考：课文的主要写了什么内容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RX_004"/>
          <p:cNvPicPr/>
          <p:nvPr/>
        </p:nvPicPr>
        <p:blipFill>
          <a:blip r:embed="rId2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1166760" y="16286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头完成填空：课文先总写一只手上的五根手指＿＿＿，然后分别具体写＿＿＿，最后总结写＿＿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384200" y="2060640"/>
            <a:ext cx="59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只手上的五根手指，各有不同的姿态，各具不同的性格，各有所长，各有所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8197"/>
          <p:cNvSpPr/>
          <p:nvPr/>
        </p:nvSpPr>
        <p:spPr>
          <a:xfrm>
            <a:off x="1260360" y="189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03280" y="1052640"/>
          <a:ext cx="6553080" cy="3475080"/>
        </p:xfrm>
        <a:graphic>
          <a:graphicData uri="http://schemas.openxmlformats.org/drawingml/2006/table">
            <a:tbl>
              <a:tblPr/>
              <a:tblGrid>
                <a:gridCol w="1305000"/>
                <a:gridCol w="2687400"/>
                <a:gridCol w="2560680"/>
              </a:tblGrid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手指名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缺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拇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名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C6B-334F-49D8-AF67-B637E6CB63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"/>
          <p:cNvSpPr/>
          <p:nvPr/>
        </p:nvSpPr>
        <p:spPr>
          <a:xfrm>
            <a:off x="103176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7"/>
          <p:cNvSpPr/>
          <p:nvPr/>
        </p:nvSpPr>
        <p:spPr>
          <a:xfrm>
            <a:off x="1692360" y="2637000"/>
            <a:ext cx="570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通过描写五根手指各自不同的特点，想告诉我们一个什么道理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41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