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98D7-BB42-4ACC-98D4-EF735E46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50AB-9BE6-4544-A1F5-675A4BCE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D74E-C14C-4EC8-A1CB-36AE2F2C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DB66-3398-4D22-A8C1-6653507A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C0AC-71AF-4D24-8E76-03ED459C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38AD-3219-408C-921B-1994768F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A048-F3E2-4BE1-AC49-455D4A54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AB84-B615-408D-8C37-5599AEA6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B2D0-DAD3-4792-A67D-C65DB0D3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E09D-8239-4BB0-9A72-DD637092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4476-BDE4-48ED-A7FA-490CC3B8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8E2E-BA1F-492B-9474-74EFB817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EA64-61A6-4EEB-B920-773998CA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4F26-4305-4D73-905C-207DF135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560D-87AB-4E11-8A6F-93BA54DC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A114-5599-47DA-9597-58E0284E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EC59-3A39-4570-A8E3-927AE7A4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74AE-9642-46BA-9E66-C02D06FC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C82-6548-4456-8066-8B94520B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E8DB-0597-428B-91AF-5AC7CDED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3054-3D18-47BC-89C0-1B715A3F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2084-D0F5-4817-ACD8-AC45F036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6193-ACFA-43ED-AEBC-79B8B715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167-6F03-47CE-9285-A906BE77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FF17-D75A-4CF7-AE07-834E90A5E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678A-E182-4F87-8B8E-B4066BA64D3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y285.com/ddmj/fengjicai/ssqr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1682640" y="1197000"/>
            <a:ext cx="541980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刷子李</a:t>
            </a: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PPT</a:t>
            </a: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件模板下载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476360" y="3933720"/>
            <a:ext cx="6913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师傅　包袱　较劲　蘸浆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露馅　和着琴音　有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116000" y="277380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最让人叫绝的是，他刷浆时必穿一身黑，干完活，身上绝没有一个白点。别不信！他还给自己立下一个规矩，只要身上有白点，白刷不要钱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6121955"/>
          <p:cNvPicPr/>
          <p:nvPr/>
        </p:nvPicPr>
        <p:blipFill>
          <a:blip r:embed="rId1"/>
          <a:stretch/>
        </p:blipFill>
        <p:spPr>
          <a:xfrm>
            <a:off x="204840" y="152280"/>
            <a:ext cx="8734320" cy="655344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1515345932083"/>
          <p:cNvPicPr/>
          <p:nvPr/>
        </p:nvPicPr>
        <p:blipFill>
          <a:blip r:embed="rId1"/>
          <a:stretch/>
        </p:blipFill>
        <p:spPr>
          <a:xfrm>
            <a:off x="1619280" y="0"/>
            <a:ext cx="476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50920" y="291312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屋顶尤其难刷，蘸了稀溜溜粉浆的板刷往上一举，谁能一滴不掉？一掉准掉在身上。可刷子李一举刷子，就像没有蘸浆。但刷子划过屋顶，立时匀匀实实一道白，白得透亮，白得清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250920" y="436572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只见师傅的手臂悠然摆来，悠然摆去，好赛伴着鼓点，和着琴音，每一摆刷，那长长的带浆的毛刷便在墙面“啪”地清脆一响，极是好听。啪啪声里，一道道浆，衔接得天衣无缝，刷过去的墙面，真好比平平整整打开一面雪白的屏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24000" y="54252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最让人叫绝的是，他刷浆时必穿一身黑，干完活，身上绝没有一个白点。别不信！他还给自己立下一个规矩，只要身上有白点，白刷不要钱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250920" y="542160"/>
            <a:ext cx="58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居然连一个芝麻大小的粉点也没发现。他真觉得这身黑色的衣服有种神圣不可侵犯的威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50920" y="26978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竟然瞧见刷子李裤子上出现一个白点，黄豆大小。黑中白，比白中黑更扎眼。完了！师傅露馅了，他不是神仙，往日传说中那如山般的形象轰然倒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250920" y="521892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奇了！他凑上脸用神再瞧，那白点原是一个小洞！刚才抽烟时不小心烧的。里边的白衬裤从小洞透出来，看上去就跟粉浆落上去的白点一模一样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7380360" y="115920"/>
            <a:ext cx="93672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300360" y="549360"/>
            <a:ext cx="1368720" cy="936720"/>
            <a:chOff x="6300360" y="549360"/>
            <a:chExt cx="1368720" cy="936720"/>
          </a:xfrm>
        </p:grpSpPr>
        <p:sp>
          <p:nvSpPr>
            <p:cNvPr id="102" name="Line 8"/>
            <p:cNvSpPr/>
            <p:nvPr/>
          </p:nvSpPr>
          <p:spPr>
            <a:xfrm flipV="1">
              <a:off x="6300720" y="549360"/>
              <a:ext cx="1368360" cy="9367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 rot="10800000">
              <a:off x="6300360" y="549000"/>
              <a:ext cx="1368360" cy="9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9"/>
          <p:cNvGrpSpPr/>
          <p:nvPr/>
        </p:nvGrpSpPr>
        <p:grpSpPr>
          <a:xfrm>
            <a:off x="5724000" y="1844640"/>
            <a:ext cx="2089440" cy="1368360"/>
            <a:chOff x="5724000" y="1844640"/>
            <a:chExt cx="2089440" cy="1368360"/>
          </a:xfrm>
        </p:grpSpPr>
        <p:sp>
          <p:nvSpPr>
            <p:cNvPr id="105" name="AutoShape 9"/>
            <p:cNvSpPr/>
            <p:nvPr/>
          </p:nvSpPr>
          <p:spPr>
            <a:xfrm>
              <a:off x="6876720" y="1844640"/>
              <a:ext cx="936720" cy="72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724000" y="2276280"/>
              <a:ext cx="1368720" cy="936720"/>
              <a:chOff x="5724000" y="2276280"/>
              <a:chExt cx="1368720" cy="936720"/>
            </a:xfrm>
          </p:grpSpPr>
          <p:sp>
            <p:nvSpPr>
              <p:cNvPr id="107" name="Line 10"/>
              <p:cNvSpPr/>
              <p:nvPr/>
            </p:nvSpPr>
            <p:spPr>
              <a:xfrm flipV="1">
                <a:off x="5724360" y="2276280"/>
                <a:ext cx="1368360" cy="936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 rot="10800000">
                <a:off x="5724000" y="2276280"/>
                <a:ext cx="1368360" cy="93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7308720" y="2205000"/>
            <a:ext cx="360" cy="934920"/>
            <a:chOff x="7308720" y="2205000"/>
            <a:chExt cx="360" cy="934920"/>
          </a:xfrm>
        </p:grpSpPr>
        <p:sp>
          <p:nvSpPr>
            <p:cNvPr id="110" name="Line 11"/>
            <p:cNvSpPr/>
            <p:nvPr/>
          </p:nvSpPr>
          <p:spPr>
            <a:xfrm>
              <a:off x="7308720" y="2205000"/>
              <a:ext cx="0" cy="9349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7308720" y="2205000"/>
              <a:ext cx="360" cy="93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AutoShape 12"/>
          <p:cNvSpPr/>
          <p:nvPr/>
        </p:nvSpPr>
        <p:spPr>
          <a:xfrm>
            <a:off x="7020000" y="3141720"/>
            <a:ext cx="57636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7451640" y="3645000"/>
            <a:ext cx="147636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20"/>
          <p:cNvGrpSpPr/>
          <p:nvPr/>
        </p:nvGrpSpPr>
        <p:grpSpPr>
          <a:xfrm>
            <a:off x="5580000" y="4797360"/>
            <a:ext cx="1800360" cy="1844640"/>
            <a:chOff x="5580000" y="4797360"/>
            <a:chExt cx="1800360" cy="1844640"/>
          </a:xfrm>
        </p:grpSpPr>
        <p:sp>
          <p:nvSpPr>
            <p:cNvPr id="115" name="AutoShape 13"/>
            <p:cNvSpPr/>
            <p:nvPr/>
          </p:nvSpPr>
          <p:spPr>
            <a:xfrm>
              <a:off x="6443640" y="4797360"/>
              <a:ext cx="936720" cy="7207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5"/>
            <p:cNvSpPr/>
            <p:nvPr/>
          </p:nvSpPr>
          <p:spPr>
            <a:xfrm>
              <a:off x="6588000" y="6093000"/>
              <a:ext cx="576360" cy="54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580000" y="5229360"/>
              <a:ext cx="1224000" cy="1008000"/>
              <a:chOff x="5580000" y="5229360"/>
              <a:chExt cx="1224000" cy="1008000"/>
            </a:xfrm>
          </p:grpSpPr>
          <p:sp>
            <p:nvSpPr>
              <p:cNvPr id="118" name="Line 16"/>
              <p:cNvSpPr/>
              <p:nvPr/>
            </p:nvSpPr>
            <p:spPr>
              <a:xfrm flipV="1">
                <a:off x="5580000" y="5229360"/>
                <a:ext cx="1224000" cy="100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 txBox="1"/>
              <p:nvPr/>
            </p:nvSpPr>
            <p:spPr>
              <a:xfrm rot="10800000">
                <a:off x="5580000" y="5229360"/>
                <a:ext cx="1224000" cy="10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877080" y="5229360"/>
              <a:ext cx="360" cy="792000"/>
              <a:chOff x="6877080" y="5229360"/>
              <a:chExt cx="360" cy="792000"/>
            </a:xfrm>
          </p:grpSpPr>
          <p:sp>
            <p:nvSpPr>
              <p:cNvPr id="121" name="Line 17"/>
              <p:cNvSpPr/>
              <p:nvPr/>
            </p:nvSpPr>
            <p:spPr>
              <a:xfrm>
                <a:off x="6877080" y="5229360"/>
                <a:ext cx="0" cy="79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>
                <a:off x="6877080" y="5229360"/>
                <a:ext cx="360" cy="79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7164360" y="4220640"/>
            <a:ext cx="1008000" cy="1729080"/>
            <a:chOff x="7164360" y="4220640"/>
            <a:chExt cx="1008000" cy="1729080"/>
          </a:xfrm>
        </p:grpSpPr>
        <p:sp>
          <p:nvSpPr>
            <p:cNvPr id="124" name="Line 18"/>
            <p:cNvSpPr/>
            <p:nvPr/>
          </p:nvSpPr>
          <p:spPr>
            <a:xfrm flipV="1">
              <a:off x="7164360" y="4220640"/>
              <a:ext cx="1008000" cy="172908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 rot="10800000">
              <a:off x="7164360" y="4220640"/>
              <a:ext cx="1008000" cy="172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文本框 8199"/>
          <p:cNvSpPr/>
          <p:nvPr/>
        </p:nvSpPr>
        <p:spPr>
          <a:xfrm>
            <a:off x="755640" y="1413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11543 L -0.01181 -0.01064 E">
                                      <p:cBhvr>
                                        <p:cTn id="3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16794 L -1.94444E-006 -3.58085E-006 E">
                                      <p:cBhvr>
                                        <p:cTn id="4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24 0.27273 L -2.77778E-007 -7.58732E-007 E">
                                      <p:cBhvr>
                                        <p:cTn id="61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250920" y="9079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天津卫是天津的古称，当年，它既是水陆交通要道，也是世人瞩目的开放城市。所以，在天津生活的人，“不强活不成，一强就生出各样空前绝后的人物”。他们有的现身于上流社会，有的混迹在市井民间，是“俗世”中的“奇人”。他们中间既有凭着一把钓竿把鱼钓绝的大回，也有抠团鞋泥就能捏出人像的“泥人张”。这些“俗世奇人”，都是响当当，当当响的人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4F45-DE79-4382-BF8D-0A44A61493B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298960" y="1413000"/>
            <a:ext cx="127764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黑衣无瑕　绝活显传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891320" y="1341360"/>
            <a:ext cx="1277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衣无缝　刷子见功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419640" y="62064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奇世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20071131714325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404640"/>
            <a:ext cx="4491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07:35:2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23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