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cashreg.wav" ContentType="audio/x-wav"/>
  <Override PartName="/ppt/media/image8.jpeg" ContentType="image/jpeg"/>
  <Override PartName="/ppt/media/image1.jpeg" ContentType="image/jpeg"/>
  <Override PartName="/ppt/media/image2.png" ContentType="image/png"/>
  <Override PartName="/ppt/media/image4.png" ContentType="image/png"/>
  <Override PartName="/ppt/media/laser.wav" ContentType="audio/x-wav"/>
  <Override PartName="/ppt/media/chimes.wav" ContentType="audio/x-wav"/>
  <Override PartName="/ppt/media/image6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3.jpeg" ContentType="image/jpeg"/>
  <Override PartName="/ppt/media/drumroll.wav" ContentType="audio/x-wav"/>
  <Override PartName="/ppt/media/projcto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25F-2191-4133-929B-2E6FA683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DAE-5234-41AD-87A0-C60B0775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C13-642F-4AA3-BA1C-99A23BF8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02C-D865-403F-990D-BE577742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8CF7-531B-4BD3-A352-268DF141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C6CD-86CA-4742-AE5D-3A3CF9C4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270D-40BF-4A63-88B4-51272D9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A309-9D70-4A30-86E2-D76DA9C4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1344-389F-4FDB-93EA-6D929B2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3CDD-C163-44C4-9EAE-465E55D4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045F-DD70-4DA2-AAB8-D841AD2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F5C-6E58-463D-B0EC-371C1924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F6FD-9EF6-464B-A3AD-06A0FCAF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8D6D-2EDF-44E4-B43B-0F3F5699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5D4D-F042-4681-9789-3DA88643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260F-EECA-4E52-9331-93BA18D1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DB06-3751-4CF3-AC90-47197C58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C8F-6C95-4381-BB7D-A6AA0A8A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02B-56EC-495B-8C3E-ADB23C0E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ABE-0D3C-4274-9F12-0868D09A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7CB-6896-4D72-84BC-B2741291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955-3BDE-4E60-9A8E-4BE6DBF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539-0FA0-4096-B670-741CD2B6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8FB-1EDF-47B5-80AF-7E3B496F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79D9-2C62-4833-AB98-2E9CF362B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C2A4-AE8C-4069-BEAD-5C5F3674C3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200511216146905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Text Box 3" descr=""/>
          <p:cNvPicPr/>
          <p:nvPr/>
        </p:nvPicPr>
        <p:blipFill>
          <a:blip r:embed="rId2"/>
          <a:stretch/>
        </p:blipFill>
        <p:spPr>
          <a:xfrm>
            <a:off x="379440" y="1413000"/>
            <a:ext cx="7648560" cy="819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6984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685800"/>
            <a:ext cx="88390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四：看现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“九一八”事变过去七十多年了，有人说它也成为历史，可它真正成为历史了吗？联系实际，谈谈你的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保卫黄河.mp3" descr=""/>
          <p:cNvPicPr/>
          <p:nvPr/>
        </p:nvPicPr>
        <p:blipFill>
          <a:blip r:embed="rId1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laser.wav"/>
      </p:stSnd>
    </p:sndAc>
  </p:transition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7"/>
          <p:cNvSpPr/>
          <p:nvPr/>
        </p:nvSpPr>
        <p:spPr>
          <a:xfrm>
            <a:off x="171756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松花江上.mp3" descr=""/>
          <p:cNvPicPr/>
          <p:nvPr/>
        </p:nvPicPr>
        <p:blipFill>
          <a:blip r:embed="rId2"/>
          <a:stretch/>
        </p:blipFill>
        <p:spPr>
          <a:xfrm>
            <a:off x="22096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600200" y="44956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你从歌中听到了什么？　　　　想到了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52280" y="45720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九一八事变”，东北沦亡，日本帝国主义猖狂入侵，广袤肥沃的东北大地沦落于帝国主义的铁蹄之下，一时民生凋蔽，四野荒芜，沦亡是他们唯一的选择，内心撕裂般的疼痛成了那段时日的唯一记忆。这篇文章是作者在“九一八事变”过去整整十周年时写的，当时抗日战争正处在十分艰苦的阶段，流亡在关外的人依然无家可归，作者怀着深沉的爱国热情，写下了这篇文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04920" y="45720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作家简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：</a:t>
            </a:r>
            <a:br>
              <a:rPr sz="3200"/>
            </a:b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   　端木蕻良（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1912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9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25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日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-1996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日），原名曹京平，笔名，荃叶、罗旋、辛人、叶之琳、曹坪等。辽宁省昌图县人，先后毕业于南开和清华，学生时代即开始创作，是东北流亡作家群中的代表人物。其成名作为他创作于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1936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年的短篇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此鹭湖的忧郁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，是反应东北沦陷区人民生活的代表。主要著作有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科尔沁旗摹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、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大地的海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曹雪芹</a:t>
            </a:r>
            <a:r>
              <a:rPr b="0" lang="en-US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》</a:t>
            </a:r>
            <a:r>
              <a:rPr b="0" lang="zh-CN" sz="3200" spc="-1" strike="noStrike">
                <a:solidFill>
                  <a:srgbClr val="0080c0"/>
                </a:solidFill>
                <a:latin typeface="Times New Roman"/>
                <a:ea typeface="楷体_GB2312"/>
              </a:rPr>
              <a:t>。（宇慧撰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1122"/>
          <p:cNvPicPr/>
          <p:nvPr/>
        </p:nvPicPr>
        <p:blipFill>
          <a:blip r:embed="rId1"/>
          <a:stretch/>
        </p:blipFill>
        <p:spPr>
          <a:xfrm>
            <a:off x="7010280" y="4267080"/>
            <a:ext cx="171792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1111"/>
          <p:cNvPicPr/>
          <p:nvPr/>
        </p:nvPicPr>
        <p:blipFill>
          <a:blip r:embed="rId2"/>
          <a:stretch/>
        </p:blipFill>
        <p:spPr>
          <a:xfrm>
            <a:off x="6858000" y="99072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8200"/>
          <p:cNvSpPr/>
          <p:nvPr/>
        </p:nvSpPr>
        <p:spPr>
          <a:xfrm>
            <a:off x="395280" y="189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4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28600" y="60948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一：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读课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寻找最能感动你的语言，谈谈自己的体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2133720"/>
            <a:ext cx="868680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二：</a:t>
            </a:r>
            <a:r>
              <a:rPr b="0" lang="zh-CN" sz="4400" spc="-1" strike="noStrike">
                <a:solidFill>
                  <a:srgbClr val="ff5050"/>
                </a:solidFill>
                <a:latin typeface="Times New Roman"/>
              </a:rPr>
              <a:t>悟文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你怎样理解文章标题＜土地的誓言＞？面对土地，作者发出了哪些誓言？（用文中的话回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到底是什么东西催促着作者一定要回到那个日思梦想的地方－－故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drumroll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28600" y="609480"/>
            <a:ext cx="8763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：作者把关东原野以“她”而不用“它”相称，这是运用了什么手法？表达了作者什么感情？后来却又用“你”，又是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28600" y="3352680"/>
            <a:ext cx="85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文中多次出现“当我、、、当我、、、当我、、、”“我想起、、、我看见、、、我听见、、、我想起、、、”这是运用了什么修辞手法？在文中起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ashreg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28600" y="1219320"/>
            <a:ext cx="838188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三：品字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　　怎样理解文中“因为我常常感到它在泛滥着一种热情”中的“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泛滥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与 “在那田垄里埋葬过我的欢笑”中的“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埋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”这两个词语的确切含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文本框 8200"/>
          <p:cNvSpPr/>
          <p:nvPr/>
        </p:nvSpPr>
        <p:spPr>
          <a:xfrm>
            <a:off x="1044720" y="981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2005112161588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06600" y="1295280"/>
            <a:ext cx="5152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66"/>
                </a:solidFill>
                <a:latin typeface="Times New Roman"/>
              </a:rPr>
              <a:t>深情赞美故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66"/>
                </a:solidFill>
                <a:latin typeface="Times New Roman"/>
              </a:rPr>
              <a:t>　　誓死保卫家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09480" y="53352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5050"/>
                </a:solidFill>
                <a:latin typeface="Times New Roman"/>
              </a:rPr>
              <a:t>四：揭主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C094-0C87-475D-AFB1-DA5C294563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12:0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18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