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EF4E-3383-4251-9F7B-3F6FE7164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879F-B9D4-4EFF-B129-C83CEDA6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F4937-C7FD-4DDA-BBEA-F516DFA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C16F6-2741-4886-AF21-C140219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50A41-6536-4932-924B-42E91A77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EC810-DB25-4D05-A3CA-A09F743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7D2C78-BA16-483B-81B4-5063D0F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18F4BB-3D36-4BDF-8461-0FC5320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E3846-FDEB-4F91-B84A-66FEF008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79153-A4A0-40EE-8873-B47B196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6A52A-2C38-44F4-8057-4ED9FA65E9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62BDC-0EA9-4046-B8D1-DD6BB7D0A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4D8D-C419-496C-AAAE-E060A74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D089-8AA2-4C7C-B12E-568F5FB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F70A-69EA-4163-8C18-D0D9034A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E5FD-D428-44B0-B9D5-DB27D9B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F968-D72F-428A-8143-96835D56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54504-6BB3-40E1-BB2E-B085F296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89E5-1AE5-40C2-A914-C561702F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9B019-FEF6-485E-889B-7AAD9217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16B9-5706-4F18-8B2E-2960137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8B08-41EB-4724-BD04-B40CD84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F892-D629-437C-B121-613EA6A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2502-9E29-49BB-964F-E609756DF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F4E3-9D6E-4E8B-8DA9-C8BC79A72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29E90-D091-4587-A41E-3BBBB9AEA8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68F87-6D8D-4253-97A1-58E2C31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6138F8-59C4-4079-9539-213C0741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95343-F060-44ED-94A2-1E12636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C68A5-ABF3-4BDC-B611-EDAE417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1E54D-757D-477C-9D1A-FCD9E8E7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B343E-E05F-43A8-B1A5-2EB83F7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D2307-84DB-40AB-BE70-53AB8884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E5CC5-7991-43F3-974B-9D1E0FAE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D5161-C6D9-40B1-ADFF-3857D943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D7257-A028-4554-8B47-5D82B19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864BA-DFB0-4897-AC6C-40DE9E1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76101A-0169-4D79-BCE6-0F9280304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63B82-2C89-4ACB-B63D-EBF96CFE7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4026-DE1E-4464-ABC6-4FD7477D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1C883-0504-4030-BB52-000430E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12752-6D07-458F-A90B-01779DEF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57999-7329-445F-A9C0-7021CFE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2E040-A4A0-4112-B225-7213B2DA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7DDB3-8A41-4F0A-A316-CD07D73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173C-DCDA-4905-9DF0-E5A3BFF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2F324-5236-4F42-BBCE-4B0E38C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FCF24-CA78-4E49-9CB0-40AA4B6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619C1-AFC2-4F58-B99D-30FB84E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5D56E-FF7A-417E-BBB4-CEF23C2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2C747-CB0B-462F-A616-740793487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43EBB-71B5-44E2-9270-8881B8DA8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8C13B-0783-4188-96A4-96E3952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61D2-3FFF-4531-A04D-B7428B45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9EEC-CD0D-4A93-A48A-DE4AF26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C1E87-70C5-4CF9-94F1-CE2A1BA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1FBEA-628B-4F3A-AD77-0AC9E02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1156A-FED4-4FBD-BE35-E5D09431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9BC28-060A-43A2-A365-4CE1FE5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9E317-9242-44C7-97CC-971C3C8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51977-FABA-4155-862C-B93E3D6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61B96-7C88-4AEE-A34B-C8CA6D2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7394-0BB8-4429-A517-4342B3D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09DF-5298-4DCC-A34A-0EA91BDCB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5538-F56F-437D-BD80-1BE063F8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BF5BD-0E8A-4201-BB2C-B0211209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6C1E3-3382-4175-9E83-C9CDEF21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44A1E-1CF8-4BC4-8C65-918D4D2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C2EB-742B-4514-B06C-942769E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CABE4-DBCF-4915-8953-19E14EA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D67F-29A9-4E2A-8993-D3FAF8A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F121-C93B-43EB-B456-BEE8F46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3B131-683E-4C18-8D93-5D3395F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3C9E-5D40-43CF-9B9A-3219E21E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77A309-FBB4-4006-80A7-4551F96ED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2F958-84DF-464E-ABA4-E799E4B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6E960-06E5-451F-AB57-3858B4A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72445-CA4C-44FF-898B-791BEA73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EFD58-4E98-431C-B67F-54DAD5E3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EB4A-7DE3-4E0F-9862-68A1984D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56692-22F2-40D5-824C-0681D83B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B4681-3DB9-4427-90EC-6E9C9185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02664-C17C-4069-A801-F48CFC72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AF01B-0CC8-4447-A684-C74FF98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15055-096C-487B-BF66-EE890D4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C9719-7DF7-4DDF-BAD1-2B546F6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A6F40-30BC-4389-A9EF-AEEAE51CC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F3A7-6A9D-4A90-AC46-BD5C5C9E8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8ABD-9278-4ADA-BC52-3FBF6C5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5EA8-FEB1-4FEB-8FC1-E6E91A7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99FE-8CCA-429C-B373-A593ABD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AA88-5B9D-4456-BC35-AA0EB175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EECF-7DC6-4AC7-8CE9-008784AD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1D92-A45F-44AA-BE80-C8B41F1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D029-207D-4AC1-8ACA-6D3B2F37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D9C7-CEB7-42A1-8688-F2F9C9D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FF01-EF46-42E9-9F6E-8AADFE3E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E4FB-826B-4A38-BAA6-71E38F0D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83C7-155C-4DA2-A81F-C0C2063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65F9-3865-4266-A3B6-954067973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4E6CC-6232-40A9-9241-ECFDB870E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C98B-2A08-406A-9B2C-4B40CA3F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047A6-DA9F-41CF-AEFA-908E3620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5F2E2-FFBF-44DA-8AC3-708C5EE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9DEA0-8256-489C-9CE2-5C9DAF6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DF248-BDFA-4046-B4AB-D362C516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7177D-7D96-4766-A010-D97213BE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17CD7-CF50-43C9-AC10-CF51D28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DBFE7-12C7-4ECB-9701-B2AF4C3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8C2E9-C92A-408B-AA51-1A0168D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E05F2-9FF6-4B47-B9BE-B2ACF61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38EF3-94B1-4510-B5C2-C9018BF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A775-EC70-47A5-AC90-3E667328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24DDA-DB43-40BD-84D3-22845F94A8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BCE5C-2F8A-488D-8C9E-9212E7D83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78EFB-E177-40DB-B1DC-5E012AA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0FC93-9B16-4E1C-9890-B169BF7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56114-B0DF-4177-808F-DBA0637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8B15F0-EF5A-4673-AE41-BC1C5E13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608C6-FE0F-4108-8218-88372317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DCD00-0433-442D-A6DD-9EEE1DFC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DEE5A-B028-40D2-9893-D15372A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3DB67-C1DE-43EB-AEB0-888D022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F365-0E15-4836-899E-D1197DA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C99EC-2108-4337-957F-1600045E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C9053-608D-45D3-A6FB-AFC5391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3DDB12-B853-4E8B-AA2A-E0152FED5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CFAD-F2F7-4717-87CD-F4EE38EC1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66CD-5614-4A61-B141-D92516C4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650A-18B9-40DE-9073-B1F6B23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3551C-382D-4131-8CEA-99BC530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6A79-736F-43BC-BC6C-D52812C7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8F08F-5E71-4BF1-9AB0-7C274225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A241-BD82-4D64-82B1-A430565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3860-D1D6-4E7F-8137-8BB9BD77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3CE3-BC94-4EAC-817A-4ED5C7F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6F74-413D-4844-AE86-49C5852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F6CC-C88C-4A83-8915-9C79A3A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6122-08C3-41F4-933D-A6C0E98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537C-5AAF-407B-964D-50008A87E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C0383-7F18-4606-AD0E-17847D129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C6221-B1CB-4CCA-A7EA-42246DB8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7348A-C4F1-469B-9F84-880A8F4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B8AC2-AEE9-4DE0-A316-B9A6FBD3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0F938-7F56-48C4-A416-D56A3721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9268-E9DC-4226-BF76-EB597E9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4E7ED-31D7-4131-A8E8-1A696245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0BEEF-D1BA-4FE1-9358-3DE4A6F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0E6F6-CF13-428A-82C2-7A2AD471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6B08C-C362-4627-9DF6-02E52053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294920" y="4182840"/>
            <a:ext cx="71629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785EF-257A-481F-8D39-565713AC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65480" y="205740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9492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65480" y="4182840"/>
            <a:ext cx="3495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00B38-B247-4006-90E9-D97D2045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71664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38720" y="205740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2949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71664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38720" y="4182840"/>
            <a:ext cx="2306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27445-6819-4EAC-B870-E98E9E0F4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07BFDB-4231-4AC3-B2A6-3C19F2A36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91FE9-6614-4A7F-94B8-40D34885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68436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0FC00-D7C8-4A78-B4C3-A0DC8E1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4B7-B358-40FF-A4D4-81108A96EB7F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5143-A973-4F95-8B48-5DCE9A7D341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0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647-00E9-4C0F-AE53-879687B0B017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1CC2-5671-4326-8983-F825DE892F3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2D33-DD1F-45E3-8D91-FB88FCAC0219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6CA-09B2-4F06-B9F8-DE8BD682BDB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4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7FFF-82DC-4C9F-AF05-E5401E5161CB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CE56-6DEA-4D2F-8AB0-35D53B8AAD4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6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926-A761-4924-9824-FD2A829A4C7A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90FD-B001-434A-A155-711A4BCA5AE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0DB5-CEA8-4185-828D-1B30076795B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0" y="6552720"/>
            <a:ext cx="2666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1BC-92C6-4A33-9B6F-9D4B392CCB29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7813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40D-9501-44CB-9F6B-61C2C4F37A9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011-15A5-42BF-A86C-8FBBB06A1063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7C76-C361-45E6-BC80-69E8387BC64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1F9-7E5F-429F-A117-A575DA0043E8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505-87B8-41C3-BED3-887191E4611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C13-4910-44E8-9EA0-3373F4697B8D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D69A-56A3-48CB-A2CE-3B848D2F4A5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4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E1A-754F-41F2-9A07-AB85045D7883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E65-0B90-48DE-AA97-697D5FDA2BC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FC0C-6835-496F-A14C-BAAEB1197D88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C6CA-342E-437A-B1AD-D92FAA0C20F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8"/>
          </p:nvPr>
        </p:nvSpPr>
        <p:spPr>
          <a:xfrm>
            <a:off x="-36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E556-9425-4970-AD7B-1CAEA1FF192F}" type="datetime3">
              <a:rPr b="0" lang="zh-CN" sz="2400" spc="-1" strike="noStrike">
                <a:solidFill>
                  <a:srgbClr val="ffffff"/>
                </a:solidFill>
                <a:latin typeface="Arial"/>
              </a:rPr>
              <a:t>2026年7月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8576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02F-39ED-4378-B6A8-9E2FF101E22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2" descr=""/>
          <p:cNvPicPr/>
          <p:nvPr/>
        </p:nvPicPr>
        <p:blipFill>
          <a:blip r:embed="rId1"/>
          <a:stretch/>
        </p:blipFill>
        <p:spPr>
          <a:xfrm>
            <a:off x="1387440" y="2514600"/>
            <a:ext cx="6350040" cy="3530520"/>
          </a:xfrm>
          <a:prstGeom prst="rect">
            <a:avLst/>
          </a:prstGeom>
          <a:ln w="0">
            <a:noFill/>
          </a:ln>
        </p:spPr>
      </p:pic>
      <p:pic>
        <p:nvPicPr>
          <p:cNvPr id="522" name="Rectangle 3" descr=""/>
          <p:cNvPicPr/>
          <p:nvPr/>
        </p:nvPicPr>
        <p:blipFill>
          <a:blip r:embed="rId2"/>
          <a:stretch/>
        </p:blipFill>
        <p:spPr>
          <a:xfrm>
            <a:off x="496800" y="1219320"/>
            <a:ext cx="8131320" cy="146988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4">
            <a:hlinkClick r:id="" action="ppaction://hlinkshowjump?jump=nextslide"/>
          </p:cNvPr>
          <p:cNvSpPr/>
          <p:nvPr/>
        </p:nvSpPr>
        <p:spPr>
          <a:xfrm>
            <a:off x="8028000" y="6165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3794"/>
                </a:moveTo>
                <a:lnTo>
                  <a:pt x="27407" y="10800"/>
                </a:lnTo>
                <a:lnTo>
                  <a:pt x="133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"/>
          <p:cNvSpPr/>
          <p:nvPr/>
        </p:nvSpPr>
        <p:spPr>
          <a:xfrm>
            <a:off x="2641320" y="57636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七章   人类活动对生物圈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468360" y="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实验步骤参考答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755640" y="1700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324000" y="1052640"/>
            <a:ext cx="57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250920" y="3213000"/>
            <a:ext cx="5047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179280" y="5300640"/>
            <a:ext cx="3603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324000" y="2133720"/>
            <a:ext cx="50292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900000" y="765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PH=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酸雨进行实验，设置清水作为对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84360" y="1916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甲、乙两个花盆中栽培同样数量的植物幼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755640" y="306864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相同适宜的环境中培养，每天两次向甲盆中喷洒定量的配制的酸雨，每天两次向乙盆中喷洒定量的清水，每天观察记录一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971640" y="5373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周后，分别统计两个实验装置中植物幼苗的生长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68360" y="189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预期实验结果与分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28600" y="838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如果用清水培养的植物幼苗的生长情况比较好，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268360" y="2060640"/>
            <a:ext cx="6120000" cy="360"/>
            <a:chOff x="2268360" y="2060640"/>
            <a:chExt cx="6120000" cy="360"/>
          </a:xfrm>
        </p:grpSpPr>
        <p:sp>
          <p:nvSpPr>
            <p:cNvPr id="594" name="Line 6"/>
            <p:cNvSpPr/>
            <p:nvPr/>
          </p:nvSpPr>
          <p:spPr>
            <a:xfrm>
              <a:off x="2268360" y="206064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2268360" y="2060640"/>
              <a:ext cx="61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411280" y="3789360"/>
            <a:ext cx="6120000" cy="360"/>
            <a:chOff x="2411280" y="3789360"/>
            <a:chExt cx="6120000" cy="360"/>
          </a:xfrm>
        </p:grpSpPr>
        <p:sp>
          <p:nvSpPr>
            <p:cNvPr id="597" name="Line 7"/>
            <p:cNvSpPr/>
            <p:nvPr/>
          </p:nvSpPr>
          <p:spPr>
            <a:xfrm>
              <a:off x="2411280" y="378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2411280" y="3789360"/>
              <a:ext cx="61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348000" y="5950080"/>
            <a:ext cx="5256360" cy="360"/>
            <a:chOff x="3348000" y="5950080"/>
            <a:chExt cx="5256360" cy="360"/>
          </a:xfrm>
        </p:grpSpPr>
        <p:sp>
          <p:nvSpPr>
            <p:cNvPr id="600" name="Line 8"/>
            <p:cNvSpPr/>
            <p:nvPr/>
          </p:nvSpPr>
          <p:spPr>
            <a:xfrm>
              <a:off x="3348000" y="5950080"/>
              <a:ext cx="525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348000" y="5950080"/>
              <a:ext cx="525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6"/>
          <p:cNvGrpSpPr/>
          <p:nvPr/>
        </p:nvGrpSpPr>
        <p:grpSpPr>
          <a:xfrm>
            <a:off x="304920" y="4800600"/>
            <a:ext cx="8839080" cy="1328400"/>
            <a:chOff x="304920" y="4800600"/>
            <a:chExt cx="8839080" cy="1328400"/>
          </a:xfrm>
        </p:grpSpPr>
        <p:sp>
          <p:nvSpPr>
            <p:cNvPr id="603" name="Text Box 3"/>
            <p:cNvSpPr/>
            <p:nvPr/>
          </p:nvSpPr>
          <p:spPr>
            <a:xfrm>
              <a:off x="304920" y="4800600"/>
              <a:ext cx="86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、如果两个装置中植物幼苗的生长没有差异，说明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9"/>
            <p:cNvSpPr/>
            <p:nvPr/>
          </p:nvSpPr>
          <p:spPr>
            <a:xfrm>
              <a:off x="2160720" y="5486400"/>
              <a:ext cx="698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宋体"/>
                </a:rPr>
                <a:t>酸雨对植物幼苗的生长没有影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0" y="2708280"/>
            <a:ext cx="9144000" cy="1147320"/>
            <a:chOff x="0" y="2708280"/>
            <a:chExt cx="9144000" cy="1147320"/>
          </a:xfrm>
        </p:grpSpPr>
        <p:sp>
          <p:nvSpPr>
            <p:cNvPr id="606" name="Text Box 4"/>
            <p:cNvSpPr/>
            <p:nvPr/>
          </p:nvSpPr>
          <p:spPr>
            <a:xfrm>
              <a:off x="0" y="270828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、如果用酸雨培养的植物幼苗的生长情况比较好，说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2556000" y="3213000"/>
              <a:ext cx="633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宋体"/>
                </a:rPr>
                <a:t>酸雨对植物幼苗的生长有促进作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11"/>
          <p:cNvSpPr/>
          <p:nvPr/>
        </p:nvSpPr>
        <p:spPr>
          <a:xfrm>
            <a:off x="3505320" y="14479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酸雨对植物幼苗的生长有抑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209680" y="380880"/>
            <a:ext cx="37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90400" y="1268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拟的酸雨和真实的酸雨有什么差别？查查资料，酸雨含有什么成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1"/>
          <p:cNvGrpSpPr/>
          <p:nvPr/>
        </p:nvGrpSpPr>
        <p:grpSpPr>
          <a:xfrm>
            <a:off x="611280" y="2666880"/>
            <a:ext cx="8136000" cy="1608120"/>
            <a:chOff x="611280" y="2666880"/>
            <a:chExt cx="8136000" cy="1608120"/>
          </a:xfrm>
        </p:grpSpPr>
        <p:sp>
          <p:nvSpPr>
            <p:cNvPr id="612" name="Rectangle 4"/>
            <p:cNvSpPr/>
            <p:nvPr/>
          </p:nvSpPr>
          <p:spPr>
            <a:xfrm>
              <a:off x="611280" y="3429000"/>
              <a:ext cx="81360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0099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酸雨和模拟雨的成分不同：酸雨的成分主要是水、硫酸和硝酸，模拟酸雨的成分是水和醋酸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5"/>
            <p:cNvSpPr/>
            <p:nvPr/>
          </p:nvSpPr>
          <p:spPr>
            <a:xfrm>
              <a:off x="3059280" y="266688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参考答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 Box 9"/>
          <p:cNvSpPr/>
          <p:nvPr/>
        </p:nvSpPr>
        <p:spPr>
          <a:xfrm>
            <a:off x="609480" y="4379760"/>
            <a:ext cx="792504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定是。这是因为酸雨是燃烧煤、石油、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气时产生的二氧化碳和氮氧化物在大气中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结合而成的，酸雨可以随大气流动而漂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酸雨不一定是本地区的有害排放物造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雨甚至可以造成跨越地域、跨国界的危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609480" y="2201760"/>
            <a:ext cx="7925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雨一定是由本地区的有害排放物造成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574560" y="333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酸雨的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雨可以使土壤中的养分发生化学变化，从而不能被植物吸收利用②酸雨可以使河流和湖泊酸化，从而使鱼虾等水生生物的生长发育受到影响，严重时造成死亡。③酸化的水源威胁人类的健康，影响饮用； ④酸雨直接危害植物的芽和叶，严重时使成片的植物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如何防治酸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324000" y="4941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酸雨的根本措施是通过净化装置，减少煤、石油等燃料中污染物的排放，并做好回收和利用这些污染物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2268360" y="6912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日本水俣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日本的水俣病患者"/>
          <p:cNvPicPr/>
          <p:nvPr/>
        </p:nvPicPr>
        <p:blipFill>
          <a:blip r:embed="rId1"/>
          <a:stretch/>
        </p:blipFill>
        <p:spPr>
          <a:xfrm>
            <a:off x="4795920" y="1844640"/>
            <a:ext cx="2800440" cy="302436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"/>
          <p:cNvSpPr/>
          <p:nvPr/>
        </p:nvSpPr>
        <p:spPr>
          <a:xfrm>
            <a:off x="682560" y="177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当地居民长期食用富含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汞</a:t>
            </a: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的鱼虾造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682560" y="353052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99ff33"/>
                </a:solidFill>
                <a:latin typeface="Comic Sans MS"/>
              </a:rPr>
              <a:t>患者手脚麻木、运动失灵，甚至呈疯癫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5208480" y="494100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本的水俣病患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碱性锌-锰电池和纽扣电池"/>
          <p:cNvPicPr/>
          <p:nvPr/>
        </p:nvPicPr>
        <p:blipFill>
          <a:blip r:embed="rId1"/>
          <a:stretch/>
        </p:blipFill>
        <p:spPr>
          <a:xfrm>
            <a:off x="2362320" y="152280"/>
            <a:ext cx="5105160" cy="28958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0" y="2997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资料表明，我国目前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家电池生产企业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干电池的生产量已超过美国而跃居世界第一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我国干电池的生产量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只，而同年世界干电池的总产量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只。如此庞大的电池数量，使得一个极大的问题暴露出来，那就是如何让这么多的电池不去破坏污染我们生存的环境。专家测试结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节一号电池烂在地里，能使一平方米的土地失去利用价值。一粒纽扣电池可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吨水受到污染，相当于一个人一生的饮水量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3240000" cy="865440"/>
          </a:xfrm>
          <a:prstGeom prst="rect">
            <a:avLst/>
          </a:prstGeom>
          <a:solidFill>
            <a:srgbClr val="ffcc99"/>
          </a:solidFill>
          <a:ln w="9360">
            <a:solidFill>
              <a:srgbClr val="66ff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进一步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468360" y="2781360"/>
            <a:ext cx="8280360" cy="1312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收集当地的雨水，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试纸测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看看是否是酸雨？如果是酸雨，你能分析其成因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533520" y="157176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废电池中含有哪些有毒物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废电池对生物有哪些危害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影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877040" y="1413000"/>
            <a:ext cx="488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    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我国是世界上电池消费大国，每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用掉的电池数以亿计。然而，我国目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废电池的回收率却很低，大量废电池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着垃圾扔掉了，有些甚至随地乱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395280" y="148428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3399ff"/>
                </a:solidFill>
                <a:latin typeface="宋体"/>
              </a:rPr>
              <a:t>无论是普通的干电池，还是电子手表中的纽扣电池，里面都含有多种化学物质，有的还含有汞、银、镉等有毒的重金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酸雨毁坏的树木2"/>
          <p:cNvPicPr/>
          <p:nvPr/>
        </p:nvPicPr>
        <p:blipFill>
          <a:blip r:embed="rId1"/>
          <a:stretch/>
        </p:blipFill>
        <p:spPr>
          <a:xfrm>
            <a:off x="1332000" y="765000"/>
            <a:ext cx="6367320" cy="47754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3631320" y="5538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酸雨毁坏的树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720720" y="147960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99ff"/>
                </a:solidFill>
                <a:latin typeface="宋体"/>
              </a:rPr>
              <a:t>电池里面的汞、银、镉等重金属在电池销蚀的过程中会随着雨水渗漏到土壤里，污染土壤，并随着土壤中水分的移动，进一步污染河流、湖泊和海洋，直至进入多种生物和人的体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684360" y="2349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同学们根据课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3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提示，设计一个探究废电池对生物的影响的方案，有了方案，再尝试完成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61920" y="378720"/>
            <a:ext cx="90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探究废电池对水体的污染，某同学设计了以下实验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将一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电池破碎，浸泡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毫升的清水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鱼缸上分别贴上标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鱼缸中分别放入等量的清洁无污染的河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四只鱼缸中分别加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毫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毫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毫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毫升废电池浸出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再向各鱼缸中分别放入三条金鱼，定时喂养同种饲料，观察并记录情况。结果见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50920" y="2997360"/>
          <a:ext cx="8675640" cy="1422360"/>
        </p:xfrm>
        <a:graphic>
          <a:graphicData uri="http://schemas.openxmlformats.org/drawingml/2006/table">
            <a:tbl>
              <a:tblPr/>
              <a:tblGrid>
                <a:gridCol w="3529080"/>
                <a:gridCol w="1020600"/>
                <a:gridCol w="1371600"/>
                <a:gridCol w="1473120"/>
                <a:gridCol w="1281240"/>
              </a:tblGrid>
              <a:tr h="507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加浸出液的体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鱼成活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29"/>
          <p:cNvSpPr/>
          <p:nvPr/>
        </p:nvSpPr>
        <p:spPr>
          <a:xfrm>
            <a:off x="304920" y="449316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以上设计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该同学提出的假设是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该实验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中，放入各缸的金鱼必须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验，该同学得出的结论是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实验时是否需要设置对照组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该如何设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1981080" y="4724280"/>
            <a:ext cx="7239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同浓度的废电池浸出液对金鱼的生命活动影响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0"/>
          <p:cNvSpPr/>
          <p:nvPr/>
        </p:nvSpPr>
        <p:spPr>
          <a:xfrm>
            <a:off x="4724280" y="5181480"/>
            <a:ext cx="41148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同种且大小、生长状况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609480" y="1066680"/>
            <a:ext cx="83822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Arial"/>
              </a:rPr>
              <a:t>废电池浸出液对金鱼的生命活动有影响。且浸出液浓度越大，影响越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2"/>
          <p:cNvSpPr/>
          <p:nvPr/>
        </p:nvSpPr>
        <p:spPr>
          <a:xfrm>
            <a:off x="5029200" y="588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需要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3"/>
          <p:cNvSpPr/>
          <p:nvPr/>
        </p:nvSpPr>
        <p:spPr>
          <a:xfrm>
            <a:off x="533520" y="289548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增加一只鱼缸，里面放三条同样大小的三条金鱼，缸中只加清水，不加废电池浸出液，定期喂养同种饲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28600" y="1949040"/>
            <a:ext cx="856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废电池浸出液对金鱼的生命活动有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同种且大小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废电池浸出液对金鱼的生命活动有影响。且浸出液浓度越大，影响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需要设置对照组。增加一只鱼缸，里面放三条同样大小的三条金鱼，缸中只加清水，不加废电池浸出液，定期喂养同种饲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539640" y="40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参考答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755640" y="2276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酸雨的危害及防治措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755640" y="3357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废电池的危害及防治措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826920" y="476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日本曾经发生的</a:t>
            </a:r>
            <a:r>
              <a:rPr b="1" lang="zh-CN" sz="5400" spc="-1" strike="noStrike">
                <a:solidFill>
                  <a:srgbClr val="ff3300"/>
                </a:solidFill>
                <a:latin typeface="幼圆"/>
                <a:ea typeface="幼圆"/>
              </a:rPr>
              <a:t>痛痛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468360" y="177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患者长期食用含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镉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污水灌溉的水稻造成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468360" y="3500280"/>
            <a:ext cx="8064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Comic Sans MS"/>
              </a:rPr>
              <a:t>患者的胃和肾等器官受到严重损害，全身疼痛难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228600" y="620640"/>
            <a:ext cx="8686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是小丁做“酸雨对生物的影响”探究实验，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提出问题：酸雨对种子的萌发有影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作出假设：酸雨对种子的萌发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制定方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配制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模拟酸雨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一个培养皿里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粒浸泡了一晚的大豆。（种子上下铺上湿纱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向大豆种子喷洒“模拟酸雨”，每天一次，观察并记录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实验结果：培养皿中大豆种子没有萌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实验结论：酸雨对种子的萌发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丁设计的实验不够严谨，请指出并补充完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0492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设置对照实验，大豆的数量太少，没有设置重复实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95280" y="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全球性大气污染问题除了酸雨以外，还包括温室效应和臭氧层破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pic_32612"/>
          <p:cNvPicPr/>
          <p:nvPr/>
        </p:nvPicPr>
        <p:blipFill>
          <a:blip r:embed="rId1"/>
          <a:stretch/>
        </p:blipFill>
        <p:spPr>
          <a:xfrm>
            <a:off x="900000" y="1484280"/>
            <a:ext cx="70567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79280" y="0"/>
            <a:ext cx="8713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温室效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由于全球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氧化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等气体的排放量不断增加，导致地球平均气温不断上升的现象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79280" y="2708280"/>
            <a:ext cx="9269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危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使冰川加速融化，海平面逐渐上升，一些地区的台风更加频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一些地区则更加干旱，最终造成世界各地农作物的减产和多种生物的灭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2791080" y="-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南极上空出现的臭氧层空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pic_32613"/>
          <p:cNvPicPr/>
          <p:nvPr/>
        </p:nvPicPr>
        <p:blipFill>
          <a:blip r:embed="rId1"/>
          <a:stretch/>
        </p:blipFill>
        <p:spPr>
          <a:xfrm>
            <a:off x="2411280" y="620640"/>
            <a:ext cx="4753080" cy="46436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4"/>
          <p:cNvSpPr/>
          <p:nvPr/>
        </p:nvSpPr>
        <p:spPr>
          <a:xfrm>
            <a:off x="468360" y="56440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球上的臭氧主要集中在大气的上层，构成了薄薄的一层臭氧层。臭氧层能够有效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滤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太阳辐射中对生物有强烈破坏作用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紫外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酸雨破坏的森林"/>
          <p:cNvPicPr/>
          <p:nvPr/>
        </p:nvPicPr>
        <p:blipFill>
          <a:blip r:embed="rId1"/>
          <a:stretch/>
        </p:blipFill>
        <p:spPr>
          <a:xfrm>
            <a:off x="2771640" y="765000"/>
            <a:ext cx="3595680" cy="4797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971640" y="5734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酸雨破坏的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79280" y="981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臭氧层被破坏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/>
          <p:cNvSpPr/>
          <p:nvPr/>
        </p:nvSpPr>
        <p:spPr>
          <a:xfrm>
            <a:off x="2627280" y="90792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5920 h 1008360"/>
              <a:gd name="textAreaBottom" fmla="*/ 9824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3059280" y="62064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自然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3132000" y="1557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人为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5861520" y="69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太阳活动异常等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5832360" y="1557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氟利昂和含氮废气的排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53964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危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468360" y="36280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紫外线辐射到地面，从而危害人类和其他生物的健康。例如，人类的皮肤癌和白内障等疾病因此而明显增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84360" y="472428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防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395280" y="5616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和停止使用氟利昂，以及减少含氮废气的排放等，是防止臭氧层破坏的关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3200400" y="0"/>
            <a:ext cx="365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达标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457200" y="82116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我国酸雨形成的主要原因是：（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大量燃烧煤气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大量燃烧含锰量很高的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大量燃烧含硫量很高的煤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大量燃烧沼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407880" y="3372480"/>
            <a:ext cx="835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在下列实例中，通过食物链而引起生态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的是（  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酸雨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汞、镉等有毒物质的积累和浓缩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温室效应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臭氧减少，臭氧层出现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7010280" y="882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2895480" y="3809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8199"/>
          <p:cNvSpPr/>
          <p:nvPr/>
        </p:nvSpPr>
        <p:spPr>
          <a:xfrm>
            <a:off x="1117440" y="1633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324000" y="7308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被誉为“地球生命活动的保护伞”的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分是（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水蒸气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氮气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臭氧 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326880" y="2319840"/>
            <a:ext cx="828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近年来，我国许多城市禁止汽车使用含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汽油，主要原因是（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提高汽油的燃烧效率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降低汽油的成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避免铅污染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铅资源短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2743200" y="1143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4724280" y="2803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228600" y="3801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酸雨直接危害植物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 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  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严重时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死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019920" y="533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芽          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733920" y="1066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造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457200" y="1752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酸雨的根本措施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609480" y="2362320"/>
            <a:ext cx="8153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通过净化装置，减少煤、石油等燃料中污染物的排放，并做好回收和利用这些污染物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533520" y="34290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种电池中，造成环境污染最严重的是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电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7238880" y="3367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汞、含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106668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含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228600" y="44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废电池危害的根本措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685800" y="5029200"/>
            <a:ext cx="7848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禁止生产和销售危害性大的电池，特别是含汞或镉的电池，大力开发无公害的环保型电池；对于废电池，则应当及时回收，集中进行安全处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A00-F3F8-4164-AD4A-6000257B84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599840" y="1904760"/>
            <a:ext cx="5753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为了我们的生存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为了地球的生存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让我们珍惜环境吧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533520" y="457200"/>
            <a:ext cx="82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1371600"/>
            <a:ext cx="82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什么样的雨水是酸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395280" y="2286000"/>
            <a:ext cx="85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酸雨的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成分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我们做实验模拟酸雨的成分一样吗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380880" y="37339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我们本地下的酸雨一定是我们本地的工厂排放到空气的吗？这件事情说明什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971640" y="141300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一、什么是酸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755640" y="25394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简单地说：酸雨就是酸性的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644400" y="3505320"/>
            <a:ext cx="743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正常雨水的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5.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酸雨的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小于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5.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二、酸雨的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395280" y="179244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酸雨主要是人为地向大气中排放大量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酸性物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成的。我国的酸雨主要是因大量燃烧含硫量高的煤而形成的，此外，各种机动车排放的尾气也是形成酸雨的重要原因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95280" y="126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酸雨-工厂燃媒"/>
          <p:cNvPicPr/>
          <p:nvPr/>
        </p:nvPicPr>
        <p:blipFill>
          <a:blip r:embed="rId1"/>
          <a:stretch/>
        </p:blipFill>
        <p:spPr>
          <a:xfrm>
            <a:off x="539640" y="299736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尾气1"/>
          <p:cNvPicPr/>
          <p:nvPr/>
        </p:nvPicPr>
        <p:blipFill>
          <a:blip r:embed="rId2"/>
          <a:stretch/>
        </p:blipFill>
        <p:spPr>
          <a:xfrm>
            <a:off x="4788000" y="2997360"/>
            <a:ext cx="3456000" cy="31827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960480" y="6165720"/>
            <a:ext cx="231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Comic Sans MS"/>
              </a:rPr>
              <a:t>工厂燃烧含硫量高的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707800" y="6222960"/>
            <a:ext cx="1887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Comic Sans MS"/>
              </a:rPr>
              <a:t>机动车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排放的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酸雨的形成"/>
          <p:cNvPicPr/>
          <p:nvPr/>
        </p:nvPicPr>
        <p:blipFill>
          <a:blip r:embed="rId1"/>
          <a:stretch/>
        </p:blipFill>
        <p:spPr>
          <a:xfrm>
            <a:off x="1116000" y="1328760"/>
            <a:ext cx="6985080" cy="3755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1042920" y="4730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042920" y="530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733920" y="541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水、硫酸、硝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539640" y="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探究酸雨对植物幼苗生长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684360" y="692280"/>
            <a:ext cx="82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合作与交流（请展示你的才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0000" y="2133720"/>
            <a:ext cx="63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提出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284720" y="2781360"/>
            <a:ext cx="4103640" cy="360"/>
            <a:chOff x="4284720" y="2781360"/>
            <a:chExt cx="4103640" cy="360"/>
          </a:xfrm>
        </p:grpSpPr>
        <p:sp>
          <p:nvSpPr>
            <p:cNvPr id="552" name="Line 5"/>
            <p:cNvSpPr/>
            <p:nvPr/>
          </p:nvSpPr>
          <p:spPr>
            <a:xfrm>
              <a:off x="4284720" y="2781360"/>
              <a:ext cx="4103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4284720" y="2781360"/>
              <a:ext cx="410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6"/>
          <p:cNvSpPr/>
          <p:nvPr/>
        </p:nvSpPr>
        <p:spPr>
          <a:xfrm>
            <a:off x="971640" y="28526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作出假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356000" y="3500280"/>
            <a:ext cx="4537080" cy="360"/>
            <a:chOff x="4356000" y="3500280"/>
            <a:chExt cx="4537080" cy="360"/>
          </a:xfrm>
        </p:grpSpPr>
        <p:sp>
          <p:nvSpPr>
            <p:cNvPr id="556" name="Line 7"/>
            <p:cNvSpPr/>
            <p:nvPr/>
          </p:nvSpPr>
          <p:spPr>
            <a:xfrm>
              <a:off x="4356000" y="350028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4356000" y="3500280"/>
              <a:ext cx="45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8"/>
          <p:cNvSpPr/>
          <p:nvPr/>
        </p:nvSpPr>
        <p:spPr>
          <a:xfrm>
            <a:off x="971640" y="35733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设计对照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203640" y="3500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1763640" y="414972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实验的变量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908000" y="4724280"/>
            <a:ext cx="38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实验组处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1835280" y="5300640"/>
            <a:ext cx="433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对照组处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940360" y="4870440"/>
            <a:ext cx="2881440" cy="360"/>
            <a:chOff x="5940360" y="4870440"/>
            <a:chExt cx="2881440" cy="360"/>
          </a:xfrm>
        </p:grpSpPr>
        <p:sp>
          <p:nvSpPr>
            <p:cNvPr id="564" name="Line 13"/>
            <p:cNvSpPr/>
            <p:nvPr/>
          </p:nvSpPr>
          <p:spPr>
            <a:xfrm>
              <a:off x="5940360" y="4870440"/>
              <a:ext cx="28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5940360" y="487044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219640" y="5372280"/>
            <a:ext cx="3456000" cy="360"/>
            <a:chOff x="5219640" y="5372280"/>
            <a:chExt cx="3456000" cy="360"/>
          </a:xfrm>
        </p:grpSpPr>
        <p:sp>
          <p:nvSpPr>
            <p:cNvPr id="567" name="Line 14"/>
            <p:cNvSpPr/>
            <p:nvPr/>
          </p:nvSpPr>
          <p:spPr>
            <a:xfrm>
              <a:off x="5219640" y="53722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219640" y="537228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76720" y="5948280"/>
            <a:ext cx="3456000" cy="360"/>
            <a:chOff x="5076720" y="5948280"/>
            <a:chExt cx="3456000" cy="360"/>
          </a:xfrm>
        </p:grpSpPr>
        <p:sp>
          <p:nvSpPr>
            <p:cNvPr id="570" name="Line 15"/>
            <p:cNvSpPr/>
            <p:nvPr/>
          </p:nvSpPr>
          <p:spPr>
            <a:xfrm>
              <a:off x="5076720" y="59482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5076720" y="594828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6"/>
          <p:cNvSpPr/>
          <p:nvPr/>
        </p:nvSpPr>
        <p:spPr>
          <a:xfrm>
            <a:off x="826920" y="141300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3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提示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900000" y="59500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预期实验结果及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732720" y="6524640"/>
            <a:ext cx="2016000" cy="360"/>
            <a:chOff x="6732720" y="6524640"/>
            <a:chExt cx="2016000" cy="360"/>
          </a:xfrm>
        </p:grpSpPr>
        <p:sp>
          <p:nvSpPr>
            <p:cNvPr id="575" name="Line 18"/>
            <p:cNvSpPr/>
            <p:nvPr/>
          </p:nvSpPr>
          <p:spPr>
            <a:xfrm>
              <a:off x="6732720" y="6524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6732720" y="652464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95280" y="4046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雨对生物有不利的影响。在实验室条件下怎样模拟酸雨对生物的影响呢？根据下面的提示、你能设计一个探究方案吗？有了方案，再尝试完成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0920" y="1989000"/>
            <a:ext cx="1871640" cy="64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提       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1280" y="2852640"/>
            <a:ext cx="7632720" cy="367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以用食醋和清水配置供实验用的模拟酸雨，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控制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以测定酸雨条件下种子的发芽率或幼苗的生长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否需要设计对照实验？如果需要的话，应当怎样设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实验需要进行数量统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做一组实验，实验的结果可靠吗？你认为怎样做，实验结果才可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计一个表格，记录观察和实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5">
            <a:hlinkClick r:id="" action="ppaction://hlinkshowjump?jump=nextslide"/>
          </p:cNvPr>
          <p:cNvSpPr/>
          <p:nvPr/>
        </p:nvSpPr>
        <p:spPr>
          <a:xfrm>
            <a:off x="7920000" y="6308640"/>
            <a:ext cx="1548000" cy="692280"/>
          </a:xfrm>
          <a:custGeom>
            <a:avLst/>
            <a:gdLst>
              <a:gd name="textAreaLeft" fmla="*/ 44640 w 1548000"/>
              <a:gd name="textAreaRight" fmla="*/ 1503360 w 1548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8286" h="21600">
                <a:moveTo>
                  <a:pt x="0" y="0"/>
                </a:moveTo>
                <a:lnTo>
                  <a:pt x="48286" y="0"/>
                </a:lnTo>
                <a:lnTo>
                  <a:pt x="48286" y="21600"/>
                </a:lnTo>
                <a:lnTo>
                  <a:pt x="0" y="21600"/>
                </a:lnTo>
                <a:close/>
              </a:path>
              <a:path fill="lightenLess" w="48286" h="21600">
                <a:moveTo>
                  <a:pt x="0" y="0"/>
                </a:moveTo>
                <a:lnTo>
                  <a:pt x="48286" y="0"/>
                </a:lnTo>
                <a:lnTo>
                  <a:pt x="46886" y="1400"/>
                </a:lnTo>
                <a:lnTo>
                  <a:pt x="1400" y="1400"/>
                </a:lnTo>
                <a:close/>
              </a:path>
              <a:path fill="darken" w="48286" h="21600">
                <a:moveTo>
                  <a:pt x="48286" y="0"/>
                </a:moveTo>
                <a:lnTo>
                  <a:pt x="48286" y="21600"/>
                </a:lnTo>
                <a:lnTo>
                  <a:pt x="46886" y="20200"/>
                </a:lnTo>
                <a:lnTo>
                  <a:pt x="46886" y="1400"/>
                </a:lnTo>
                <a:close/>
              </a:path>
              <a:path fill="darkenLess" w="48286" h="21600">
                <a:moveTo>
                  <a:pt x="48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86" y="20200"/>
                </a:lnTo>
                <a:close/>
              </a:path>
              <a:path fill="lighten" w="48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86" h="21600">
                <a:moveTo>
                  <a:pt x="17136" y="3794"/>
                </a:moveTo>
                <a:lnTo>
                  <a:pt x="31149" y="10800"/>
                </a:lnTo>
                <a:lnTo>
                  <a:pt x="171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8:32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2:07Z</dcterms:modified>
  <cp:revision>32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