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E17-92DD-49CF-9A2B-376A47CE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C87-1268-4D4F-A258-6F1CE90B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75C-F3A2-42CA-9818-03DCC946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EFF-05A4-4790-A409-B2B01D6E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8E6E-8256-426D-890F-A651F15C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1392-C02E-4C86-9A8E-0480B6F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1F4A-425C-4D33-9A18-A298A667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7531-545D-4C29-845C-B25ACEC4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F465-50D4-44F1-B4D6-4FCD6E6F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DC2B-18B8-4CEE-8EBC-BCECE01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5FD4-65BC-4F19-AC57-A91305A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D66-4068-427B-B86E-43E1984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3E8A-E029-41D2-B6A3-D909A9B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47B-1174-417F-9206-8CD35BE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021A-49D0-4F7D-8D3F-8B3E9FAB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5E8F-945E-407C-BCE0-8A34BAB2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127E-9501-414A-95CF-4580F2DA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48C8-80EC-4B6B-8579-D9E49562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DB50-F5FB-4A36-8300-47CE801F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E382-0D75-40FF-892E-8E7D9E3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0A7D-F1EB-49C6-9CE7-EAEA75D9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6A5D-9B9B-48D9-8964-7859ECCA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054-BC8C-42F5-B1DC-AD052B1A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1DF2-EBD0-4840-BDBC-8E47D2EE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8E39-0928-4644-85E7-D78F6D3C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34CA-D0C1-40DE-BC38-4FDDDC8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D073-873C-46FA-8777-54F6E59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C4DA-2F1A-4734-9B73-AD302CEF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CD8F-B1A8-4F7D-B926-BD3BDACB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8F97-B496-4724-8277-E14622BD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E32-C2ED-4C71-A9D1-A4CF4672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BC5-DFD2-44BD-8DDF-8B06EA38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7EA-9AB6-470C-AE22-6AF9998C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033-98F3-454A-9AFF-0BE6B4B9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A3C-935B-4F3E-B27C-20B736E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09D-9B95-48DA-B173-5755E93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9082-0D48-49F2-A7AF-C1F33FF0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8A8-36D6-42B9-8EB3-2C7943B71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350A-43C4-4217-BD83-CE96A8596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"/>
          <p:cNvPicPr/>
          <p:nvPr/>
        </p:nvPicPr>
        <p:blipFill>
          <a:blip r:embed="rId2"/>
          <a:stretch/>
        </p:blipFill>
        <p:spPr>
          <a:xfrm>
            <a:off x="5435640" y="2133720"/>
            <a:ext cx="2644560" cy="3671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1403280" y="-27000"/>
            <a:ext cx="614844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汤姆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.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索亚历险记语文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PT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课件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Picture 5" descr="图片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26920" y="1341360"/>
            <a:ext cx="2644920" cy="36720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205092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马克吐温"/>
          <p:cNvPicPr/>
          <p:nvPr/>
        </p:nvPicPr>
        <p:blipFill>
          <a:blip r:embed="rId2"/>
          <a:stretch/>
        </p:blipFill>
        <p:spPr>
          <a:xfrm>
            <a:off x="971640" y="1225440"/>
            <a:ext cx="3062160" cy="3097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4211640" y="1052640"/>
            <a:ext cx="3960720" cy="277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国作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马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吐温是美国批判现实主义文学的奠基人，世界著名的短篇小说大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作有短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竞选州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百万英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篇小说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汤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索亚历险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哈克贝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费恩历险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71480" y="4649760"/>
            <a:ext cx="33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美国文学中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林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183528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073240" y="10526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26920" y="1916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、汤姆心里产生了什么样的想法？这是什么原因造成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07664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、如果你遇到了汤姆的遭际，你会采取什么样的行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01-09-002-02"/>
          <p:cNvPicPr/>
          <p:nvPr/>
        </p:nvPicPr>
        <p:blipFill>
          <a:blip r:embed="rId2"/>
          <a:stretch/>
        </p:blipFill>
        <p:spPr>
          <a:xfrm>
            <a:off x="7315200" y="380880"/>
            <a:ext cx="2743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2"/>
          <p:cNvSpPr txBox="1"/>
          <p:nvPr/>
        </p:nvSpPr>
        <p:spPr>
          <a:xfrm>
            <a:off x="2627280" y="1989000"/>
            <a:ext cx="4105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洞中历险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文本框 8199"/>
          <p:cNvSpPr/>
          <p:nvPr/>
        </p:nvSpPr>
        <p:spPr>
          <a:xfrm>
            <a:off x="270036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b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611280" y="620640"/>
            <a:ext cx="75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复述一下这个故事，看看谁的口才最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你认为汤姆在洞中有过怯懦失望的心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、如果你也遇到和汤姆一样的困境，你也能像他那样去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D1FA-E04B-4B52-BFE5-4710F935C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803240" y="1197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9640" y="2276640"/>
            <a:ext cx="785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根据我们对汤姆的分析，并借助你的想象，用文字为汤姆“画”一幅肖像画，把你对汤姆的独特感受写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07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4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