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F92-E75B-4AD6-AC1C-A6B1AA6C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3C4-B450-4488-B7E5-B698A86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653-37D0-4D68-9E24-D7EFE2A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683-1C88-44DB-9605-1BBCD896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C715-6C04-4363-92F4-40CDF082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C7F3-D98E-46FC-95CA-9EB8875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368-468C-4517-BD51-C1BA0AA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E69B-6FFF-45B3-B4D8-F5132577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7607-4A5D-4E22-B979-E2AAEE2C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7B2-DDA1-4B4C-93A9-90697D4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61B1-8AE7-4A6A-B3DB-4DBE5DD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2A0-786D-4562-8175-143C20D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8716-EBE8-4480-9EEB-2C9F219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133-A79A-45B2-B177-C2D246A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FE21-E713-4ECA-A184-97FC744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DF11-4812-4BE8-91AB-212DBEC2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A483-232B-40FB-A46D-B66F56D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D1CF-77C9-465D-88C9-E95DCE07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5DBD-78EE-454F-8218-E8A7F51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9B6F-B2AB-40E7-95B0-8CA41E00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DBC8-5A5E-4BB2-B882-739C5A30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5F60-00A7-432E-99F1-A5A01A34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851-1172-4949-9D36-6CA2CEB3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B2DA-90FF-4698-8DEE-8CEEAB3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F316-A165-4DDD-9FC4-36DC3217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EAC1-4AF7-4D5E-BA77-116207F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75DC-D82D-4795-BF49-E46EEA7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2242-8F1B-4106-94B8-7274327C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3605-ACFB-46C2-BB29-75091570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3CA0-00C9-4356-A6A5-D2EDEDB9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06F-C560-4261-BDF6-833BF1C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F75-E968-4967-8DA1-89D5CBB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7C8-2680-4FCB-9A4E-547C490E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001-27C3-442D-B8A0-7A74B89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134-E335-4567-BFED-41A8475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EC9-6814-4529-9489-7B85D327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1" marL="683280" indent="-26280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2" marL="105156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3" marL="147204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4" marL="189252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98A7-58EE-4F9C-82C2-4E07BDB26997}" type="slidenum">
              <a:rPr b="1" lang="en-US" sz="12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625-27CC-475C-9C1B-C54AFA1FED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1" marL="683280" indent="-26280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2" marL="105156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3" marL="147204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4" marL="189252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314-B2B1-4F3F-945F-B7F18AFD995C}" type="slidenum"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03200" y="1628640"/>
            <a:ext cx="640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童年的发现</a:t>
            </a:r>
            <a:r>
              <a:rPr b="0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cc99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模板免费下载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9c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9c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2209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文章中说 “我明白了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世界上重大的发明与发现，有时还面临着受到驱逐和迫害的风险。”说说你对这句话的理解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（这句话一语双关。其一，它讲出了科学事业发展过程中的真实情况，阿基米德、哥白尼等都有过这样的遭遇；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其二，是“我”用幽默与自嘲的方式，表达了对此事的看法，意思是说，世界上的大科学家尚且如此，我为我的发现被轰出教室又算得了什么呢？这句话也是作者对童年发现一事的评说与纪念。）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30477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．构思巧妙。以童年的发现为线索，连接现在和过去，使现实和回忆浑然一体，天衣无缝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52160" y="1935000"/>
            <a:ext cx="63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Arial"/>
              </a:rPr>
              <a:t>接下来咱们分析一下写作特点分析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2209680"/>
            <a:ext cx="8991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．首尾照应。课文最后六个自然段与开头两个自然段相互照应，都是说“我”想起自己的发现，情不自禁笑出了声音，受到了老师的惩罚。这种写法突出表现了“我”善于思考，富于想象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22096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宋体"/>
                <a:ea typeface="宋体"/>
              </a:rPr>
              <a:t>3</a:t>
            </a:r>
            <a:r>
              <a:rPr b="1" lang="zh-CN" sz="4000" spc="-1" strike="noStrike">
                <a:solidFill>
                  <a:srgbClr val="ccffff"/>
                </a:solidFill>
                <a:latin typeface="宋体"/>
                <a:ea typeface="宋体"/>
              </a:rPr>
              <a:t>．通过人物的语言表现人物特征。文章以大量篇幅描述人物对话，无不透露出“我”善于思考、富于想象的特点。</a:t>
            </a:r>
            <a:endParaRPr b="0" lang="en-US" sz="40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A4C-4544-4F48-99A2-D200B13FB321}" type="slidenum">
              <a:rPr b="0" lang="zh-CN" sz="1400" spc="-1" strike="noStrike">
                <a:solidFill>
                  <a:srgbClr val="cc99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905120" y="7621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Times New Roman"/>
                <a:ea typeface="幼圆"/>
              </a:rPr>
              <a:t>童年的发现</a:t>
            </a:r>
            <a:endParaRPr b="0" lang="en-US" sz="6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419720" y="190512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905120" y="29559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幼圆"/>
              </a:rPr>
              <a:t>胚胎发育的规律</a:t>
            </a:r>
            <a:endParaRPr b="0" lang="en-US" sz="4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228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找老师解答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73392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仔细观察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93432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认真思考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486400" y="205740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（驱逐迫害）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1600" y="3962520"/>
            <a:ext cx="1905120" cy="914400"/>
            <a:chOff x="1371600" y="3962520"/>
            <a:chExt cx="1905120" cy="914400"/>
          </a:xfrm>
        </p:grpSpPr>
        <p:sp>
          <p:nvSpPr>
            <p:cNvPr id="171" name="Line 11"/>
            <p:cNvSpPr/>
            <p:nvPr/>
          </p:nvSpPr>
          <p:spPr>
            <a:xfrm flipH="1">
              <a:off x="1371600" y="3962520"/>
              <a:ext cx="1905120" cy="914400"/>
            </a:xfrm>
            <a:prstGeom prst="line">
              <a:avLst/>
            </a:prstGeom>
            <a:ln w="38160">
              <a:solidFill>
                <a:srgbClr val="cc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371600" y="3962520"/>
              <a:ext cx="1905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5791320" y="3962520"/>
            <a:ext cx="2133360" cy="1371960"/>
            <a:chOff x="5791320" y="3962520"/>
            <a:chExt cx="2133360" cy="1371960"/>
          </a:xfrm>
        </p:grpSpPr>
        <p:grpSp>
          <p:nvGrpSpPr>
            <p:cNvPr id="174" name=""/>
            <p:cNvGrpSpPr/>
            <p:nvPr/>
          </p:nvGrpSpPr>
          <p:grpSpPr>
            <a:xfrm>
              <a:off x="5791320" y="5334120"/>
              <a:ext cx="1066680" cy="360"/>
              <a:chOff x="5791320" y="5334120"/>
              <a:chExt cx="1066680" cy="360"/>
            </a:xfrm>
          </p:grpSpPr>
          <p:sp>
            <p:nvSpPr>
              <p:cNvPr id="175" name="Line 8"/>
              <p:cNvSpPr/>
              <p:nvPr/>
            </p:nvSpPr>
            <p:spPr>
              <a:xfrm>
                <a:off x="5791320" y="5334120"/>
                <a:ext cx="1066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5791320" y="5334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791320" y="3962520"/>
              <a:ext cx="2133360" cy="1066680"/>
              <a:chOff x="5791320" y="3962520"/>
              <a:chExt cx="2133360" cy="1066680"/>
            </a:xfrm>
          </p:grpSpPr>
          <p:sp>
            <p:nvSpPr>
              <p:cNvPr id="178" name="Line 12"/>
              <p:cNvSpPr/>
              <p:nvPr/>
            </p:nvSpPr>
            <p:spPr>
              <a:xfrm>
                <a:off x="5791320" y="3962520"/>
                <a:ext cx="2133360" cy="106668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5791320" y="3962520"/>
                <a:ext cx="2133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4"/>
          <p:cNvGrpSpPr/>
          <p:nvPr/>
        </p:nvGrpSpPr>
        <p:grpSpPr>
          <a:xfrm>
            <a:off x="2666880" y="3962520"/>
            <a:ext cx="1905480" cy="1371960"/>
            <a:chOff x="2666880" y="3962520"/>
            <a:chExt cx="1905480" cy="1371960"/>
          </a:xfrm>
        </p:grpSpPr>
        <p:grpSp>
          <p:nvGrpSpPr>
            <p:cNvPr id="181" name=""/>
            <p:cNvGrpSpPr/>
            <p:nvPr/>
          </p:nvGrpSpPr>
          <p:grpSpPr>
            <a:xfrm>
              <a:off x="2666880" y="5334120"/>
              <a:ext cx="1067040" cy="360"/>
              <a:chOff x="2666880" y="5334120"/>
              <a:chExt cx="1067040" cy="360"/>
            </a:xfrm>
          </p:grpSpPr>
          <p:sp>
            <p:nvSpPr>
              <p:cNvPr id="182" name="Line 6"/>
              <p:cNvSpPr/>
              <p:nvPr/>
            </p:nvSpPr>
            <p:spPr>
              <a:xfrm>
                <a:off x="2666880" y="5334120"/>
                <a:ext cx="106704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2666880" y="533412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572000" y="3962520"/>
              <a:ext cx="360" cy="990360"/>
              <a:chOff x="4572000" y="3962520"/>
              <a:chExt cx="360" cy="990360"/>
            </a:xfrm>
          </p:grpSpPr>
          <p:sp>
            <p:nvSpPr>
              <p:cNvPr id="185" name="Line 13"/>
              <p:cNvSpPr/>
              <p:nvPr/>
            </p:nvSpPr>
            <p:spPr>
              <a:xfrm>
                <a:off x="4572000" y="3962520"/>
                <a:ext cx="0" cy="99036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4572000" y="396252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219564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每个人都有美好的童年。童年的梦都是彩色的，也会飞的！</a:t>
            </a:r>
            <a:br>
              <a:rPr sz="4000"/>
            </a:b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你看那会飞的梦，居然使一个</a:t>
            </a:r>
            <a:r>
              <a:rPr b="1" lang="en-US" sz="4000" spc="-1" strike="noStrike">
                <a:solidFill>
                  <a:srgbClr val="fff9cf"/>
                </a:solidFill>
                <a:latin typeface="宋体"/>
                <a:ea typeface="宋体"/>
              </a:rPr>
              <a:t>9</a:t>
            </a: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岁的孩子有了跟伟大的科学家达尔文一样的发现。一起去看看吧！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  <a:ea typeface="宋体"/>
              </a:rPr>
              <a:t>首先我们来看看这篇课文吧！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160" y="2209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同学们要大声地朗读这篇课文，这是一篇自读课文，主要要靠你们自己学习它</a:t>
            </a:r>
            <a:r>
              <a:rPr b="0" lang="zh-CN" sz="2800" spc="-1" strike="noStrike">
                <a:solidFill>
                  <a:srgbClr val="ccffff"/>
                </a:solidFill>
                <a:latin typeface="宋体"/>
                <a:ea typeface="宋体"/>
              </a:rPr>
              <a:t>！</a:t>
            </a:r>
            <a:endParaRPr b="0" lang="en-US" sz="28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" y="3733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课文共分三部分：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第一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自然段）讲“我”回忆童年时，因想起了自己的发现，情不自禁笑出了声音，而受到惩罚。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第二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3—13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自然段）“我”在睡梦中发现自己总在飞翔，问过老师后仍没有找到答案，“我”便自己观察，思考发现了人类进化的规律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2057400"/>
            <a:ext cx="830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第三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14—19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自然段）四年后，在生物课上当老师讲到人的起源时，“我”想到了自己的发现便笑出了声。老师认为“我”的笑不怀好意，便把“我”轰出了教室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接下来我们来看看“我”是怎样发现胚胎发育规律的？又是怎样找到答案的？</a:t>
            </a:r>
            <a:r>
              <a:rPr b="1" lang="zh-CN" sz="3600" spc="-1" strike="noStrike">
                <a:solidFill>
                  <a:srgbClr val="ccffff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宋体"/>
                <a:ea typeface="宋体"/>
              </a:rPr>
              <a:t>① “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我”是在做梦中发现自己总在飞翔，并且发现其他同学也具有“飞行”的天赋，于是便产生了好奇，想解决这个奇妙的问题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我们一起找到老师，请他给我们解答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③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老师并没有给我们一个满意的答案，便激发了“我”的想象力，渴望弄明白人究竟是怎么来的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7524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④“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我”想得是那样痴迷，以至于亲自抓来鱼，仔细观察，想从鱼身上发现人应具有的某些特征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⑤“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我”经过思考、推算，终于找到了问题的答案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2209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从“我”的发现过程中，看出“我”是个怎样的孩子？（“我”善于观察，喜欢问为什么，并有着执著的精神。）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4617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现在你能说说</a:t>
            </a:r>
            <a:r>
              <a:rPr b="1" lang="zh-CN" sz="3600" spc="-1" strike="noStrike">
                <a:solidFill>
                  <a:srgbClr val="f5fad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f5fad4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为什么会有这样的发现吗？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14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