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EC6-8D19-49C0-B2BD-51A1ECAB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D90-FB6F-425E-A532-9125FF8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2CA6E-0B61-4654-AAE7-02361DF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A8FEF-8DB4-4445-AD5B-FFD2F43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9932C-E3C2-489D-9561-D57AA91F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95CD4-7468-4E4C-9C87-7BF73203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3B13C-EFA3-4525-B8FF-E12E5187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0475D-04F6-42E6-A496-7C204EC4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57C9E-7C81-44DA-BCEB-7B664DBE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938DD-86E9-4860-9626-4717BC31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2A242-5E2F-4E31-B748-64819AB5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2450D-7FFF-4ACC-B1B0-E11401AC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DEC-5067-4221-B399-4D0D345F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C7FA4-BDF6-4A79-9E1C-77631ED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6CEDC-0184-403B-B776-F52C329F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9CD9A-3D0F-4DA9-8C06-5E59B222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34618-4614-4289-9DF5-2871BC9E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E5DB4-0889-4320-8A88-5A99480E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56F44-A5F9-4B1B-ABEB-71DDA7D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CDFB5-D9D6-4D5B-B27C-99CB0387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0F0B7-25F0-4484-A5F9-6A6A27A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56156-F5A4-4010-8098-B9264A2B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3EE1B-0A9D-49AF-811E-5403D5D0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1FC-5BEB-432D-8F9B-25605AD9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35938-53B8-44F0-9DF8-86076DF9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7A8B-E31D-4A7F-AC02-941D3748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CD48-BE18-426E-8DA7-3C2C642D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03F06-0ECF-4D41-9F46-2D2EF2E5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71AF7-432D-40F5-B00B-B3C5080E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6029E-2193-4D5E-A336-D5D7F166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918B1-884B-48E9-8CFB-7AC55831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88761-B2C4-4C27-92A0-22A3E4D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BA8D3-FBAB-4BC0-8D01-C0069BB6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D000E-994E-41F7-A355-92BC0856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39D0-D6CF-4D59-B1A5-1FE7670D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08005-4CCA-4D8B-AA9F-DBC24A54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9C7FE-2315-4E72-8E62-9FB93036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E7839-3B5F-453D-8DB4-DF3ECF89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125F5-8929-471F-99BD-C8D62CC2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660FB-02B9-4B9D-89BD-4013899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4C58B-90AE-4929-8606-E87838CB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AA8AA-EE65-4541-ABCD-AE05AAB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D0EE7-BE5B-48AB-A516-B07E4680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64D90-BAE2-45C6-A85C-6711D17A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43AE3-BFC9-44BC-99D7-3A475130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5B81-37FC-46A8-9CA7-327434C9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78A61-2CC2-4E5E-A6D4-7C732D27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3FB7B-6DD3-4786-9AC7-71072D5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32CDF-D828-4CCF-8F47-8FA59E66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24EC0-2E6E-4A91-ADEB-ECF6DAF4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804AC-813A-49FF-A4BB-758C0AE7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7DF4B-C880-40DC-A63F-079E30A0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1EAC5-F449-41BE-82C8-6C7BCFA8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70EB3-BAF8-4026-9B7E-0CBE2B6B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1DB0F-D7F4-4E3A-B433-ACEE39C9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D07E1-7432-4705-86E8-014F753B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C7AF-B4DE-43E9-B1D7-913F23D5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3C459-55B2-4027-AB31-70F9D165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13405-8453-4B1D-BFF5-6017FD6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DA471-87AE-4B08-A042-11205A1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D7A9A-98BA-4768-BB7A-627111A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E9D96-1B01-4870-B976-00BCF6D7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72CA7-740F-49EC-B62C-C452776B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7E620-F077-4D0E-AF80-400FD663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D8FF-13BF-4CB8-B134-401D349D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05AA-07D3-40EC-B6D4-2B91B023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18AB-5A73-4F9E-8EC7-DE3A7DC3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2010-3F5F-4021-890B-6DD47FCB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235-E72A-44B8-B524-D6F578D8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7DF0-123C-420A-9D7B-67F46B77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78D5-24B6-400D-936C-C0FD8AC8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CA1E-550A-4D09-9459-F13BA94E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EDCE-87FD-4ED7-B438-22429E8B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27A6-F12C-4433-9482-2138997B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C703-462F-418A-A96E-F9098DEE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6105-27DB-476C-B66C-CCB614C9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7406-FAD6-42B0-8FBD-90EB02FD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EDE2-4FD7-4D75-AF94-A7C1ABD9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FB46-C07F-47A1-8092-04176337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03F-6E42-4E9C-990C-0038E387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8F29-F7A9-4C06-BB20-0941BD42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66BD-8C3A-4C45-9CA7-42C379B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0A89-CE5C-4D8F-90FA-F5C6F9FD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7A87-0E52-4BE6-9027-F833E6C6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E057-DC69-4298-898F-59AF6ECE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CD71-2DF8-4797-BBF9-B37287D0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C6FC-86FB-470A-9698-B2F83C2A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FD3BC-065B-429E-A625-0EB44A7D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0EBE-09F0-43CC-990F-4B41A87E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FCB8-F257-476B-904A-8D97F0B4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692-A62B-4C12-A192-8756D3D7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7E1B-878C-48D6-9280-79A1645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D9CE2-3BA0-4207-96F5-BFD83B2F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FEF8C-0B15-4080-91A5-2BC29969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4A5D-B881-4A6F-A158-936BFE3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9A37F-A1C2-4B4D-94CF-A2BCA0D1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0367-6A9A-452A-A619-C6B3112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3E2A-A147-4005-BF42-35C7C382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EEEC-705C-4F27-97F4-CFC3BD10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1A94-6B97-49BE-8968-0CA88DE8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C4DFE-43F5-404A-8FD1-2565856D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6F0-F1F1-47B4-B99C-F915FCC0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64FF0-3D55-4171-99F6-A5D31D2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384A8-3916-4D92-B8A4-72F7A7FD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70CE-2F4F-4917-9EBB-93767489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8694-5FF1-4030-9949-FF1D838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F010A-8FFD-4F0C-B327-1189BF6D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57EA-C26D-4FD8-8CC6-E61779DE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2066B-736D-4ED4-AB63-8AEFAA55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565B4-ED75-43F1-9CF2-4B1732C8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F490-E45F-42F8-BC1D-FBB3958A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631C9-5DCB-4473-81D2-F1C46302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376-26E1-4CC6-AA39-9296B119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636FE-2FDC-4F42-85A5-6F9CA0FB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330EC-BC2F-4B2B-915D-16F3DE8F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C6ABA-C04A-459B-8EA3-8CCB44D7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F0DEB-2586-4BF0-9332-FCAC697F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4674E-73FA-497B-B844-2E9BF9C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AC31A-FDC7-4CFE-B29D-232A2349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818F-E606-45C2-B9CF-EA544D85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4659-35CE-4FE2-B54D-6F851646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FE26-DC78-4330-B099-C98AF5A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67D36-597C-458F-A8C1-1FB65287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3B1-25E4-4E31-9DDD-47D2E5D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26871-2762-4232-A188-8236C89A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ABBD-12F3-472C-81B2-2FE96AE2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31025-4497-4EF9-9775-F8BD75A2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A2942-01CF-4341-850F-95DE1175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EEA32-01BE-4E64-B538-AB45F62E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B165F-6DBE-48A2-86E6-D5E56334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56048-2D1B-4032-BEA0-A9147786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A761F-0CD9-446F-ABAF-6D51045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A066-9A12-4FAA-90D2-5FC25E49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8C5C-05D7-4EA1-9358-A209FBA3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3E1-9835-4829-8239-8EB384B9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58380-D872-4A12-8D3C-7AA1B2F3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21BCE-E351-4487-94A2-4D975D6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F4AE8-EBC5-4D4F-B6B4-121B9168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E686D-DAAE-474D-A93E-693D00FB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4ACD1-D2C1-44C7-80CC-92A19590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202CA-C0FC-4789-B944-8F026EA1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83147-5612-4EB7-8439-6502F88C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79AE-15AF-43FA-B30D-B1A3A6F1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F066B-D1CB-4523-AE4B-E8D7DA73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01B3-C107-4B36-9DEE-4B59E7A9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0A1-B80F-444D-B75D-5B5B215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153ED-7359-43DF-8D16-FD9799A4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C0DF6-7C3E-4835-83A7-0FEEC55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76161-35F0-4C88-A887-86F60C12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3931E-32FF-4A11-81C8-714C9D48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7EA2B-FEAD-4F76-963C-3F19E710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6F4FA-478B-4CA6-807F-7B0E41C6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B0928-097D-4BB3-A8B7-49BDB628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6FB35-9BED-487E-B1E8-7EB93004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E0001-1038-4B77-AE49-7CA78C19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0F8D4-95D8-42AA-85B7-141BA828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115-8901-4AF5-9DD4-92F27933E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BF66-C328-4B52-9B71-92C124C82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73F-630E-4EED-8652-43F8569A2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E432-2DEE-46AE-BDB9-740F23C02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F313-41F3-4C4A-9506-6A6345AE9CF9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AFC4-5B82-412E-AF4A-A4D1C86070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6F68-FD83-4777-B16A-3294E0B04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2140-D9A9-4F17-A156-514357D0E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5129-6005-4A13-B19B-5C44041C4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0BB4-96E8-498C-9091-75049117B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AFE7-9618-4986-A9BD-B22FE7941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CC70-B8D3-4C03-AB4A-F9E724915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A89-A185-45B6-AC4F-682FBA348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WordArt 15" descr=""/>
          <p:cNvPicPr/>
          <p:nvPr/>
        </p:nvPicPr>
        <p:blipFill>
          <a:blip r:embed="rId1"/>
          <a:stretch/>
        </p:blipFill>
        <p:spPr>
          <a:xfrm>
            <a:off x="1339920" y="1614600"/>
            <a:ext cx="6099120" cy="167004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6155"/>
          <p:cNvSpPr/>
          <p:nvPr/>
        </p:nvSpPr>
        <p:spPr>
          <a:xfrm>
            <a:off x="179280" y="5661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4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4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2195640" y="1771560"/>
            <a:ext cx="19429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课外阅读</a:t>
            </a:r>
            <a:r>
              <a:rPr b="0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2556000" y="2851200"/>
            <a:ext cx="3744360" cy="3241800"/>
            <a:chOff x="2556000" y="2851200"/>
            <a:chExt cx="3744360" cy="3241800"/>
          </a:xfrm>
        </p:grpSpPr>
        <p:sp>
          <p:nvSpPr>
            <p:cNvPr id="571" name="AutoShape 4"/>
            <p:cNvSpPr/>
            <p:nvPr/>
          </p:nvSpPr>
          <p:spPr>
            <a:xfrm>
              <a:off x="2556000" y="2851200"/>
              <a:ext cx="3600360" cy="324180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72" name="Text Box 5"/>
            <p:cNvSpPr/>
            <p:nvPr/>
          </p:nvSpPr>
          <p:spPr>
            <a:xfrm>
              <a:off x="2771640" y="2851200"/>
              <a:ext cx="352872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山村孩子的画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邱易东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树是画面的主角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让风涂抹它的年轮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浓一笔，淡一笔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叶的眼睛在崖畔张望</a:t>
              </a:r>
              <a:r>
                <a:rPr b="0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573" name="Picture 6" descr="a7"/>
          <p:cNvPicPr/>
          <p:nvPr/>
        </p:nvPicPr>
        <p:blipFill>
          <a:blip r:embed="rId2"/>
          <a:stretch/>
        </p:blipFill>
        <p:spPr>
          <a:xfrm>
            <a:off x="1187280" y="1658880"/>
            <a:ext cx="1008360" cy="833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小学语文（散文）02-4"/>
          <p:cNvPicPr/>
          <p:nvPr/>
        </p:nvPicPr>
        <p:blipFill>
          <a:blip r:embed="rId3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3B8C-B1B1-4093-8087-122CD7696675}" type="slidenum">
              <a:rPr b="0" lang="zh-CN" sz="1400" spc="-1" strike="noStrike">
                <a:solidFill>
                  <a:srgbClr val="0074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195640" y="1771560"/>
            <a:ext cx="19429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课外阅读</a:t>
            </a:r>
            <a:r>
              <a:rPr b="0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56000" y="2851200"/>
            <a:ext cx="4247640" cy="3241800"/>
            <a:chOff x="2556000" y="2851200"/>
            <a:chExt cx="4247640" cy="3241800"/>
          </a:xfrm>
        </p:grpSpPr>
        <p:sp>
          <p:nvSpPr>
            <p:cNvPr id="581" name="AutoShape 4"/>
            <p:cNvSpPr/>
            <p:nvPr/>
          </p:nvSpPr>
          <p:spPr>
            <a:xfrm>
              <a:off x="2556000" y="2851200"/>
              <a:ext cx="4084200" cy="324180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82" name="Text Box 5"/>
            <p:cNvSpPr/>
            <p:nvPr/>
          </p:nvSpPr>
          <p:spPr>
            <a:xfrm>
              <a:off x="2800800" y="2851200"/>
              <a:ext cx="400284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山村孩子的画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邱易东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泥土是画面的主角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让幻想展示它的富有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深一脚，浅一脚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山路上印满秋天的芬芳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583" name="Picture 6" descr="a7"/>
          <p:cNvPicPr/>
          <p:nvPr/>
        </p:nvPicPr>
        <p:blipFill>
          <a:blip r:embed="rId2"/>
          <a:stretch/>
        </p:blipFill>
        <p:spPr>
          <a:xfrm>
            <a:off x="1187280" y="1658880"/>
            <a:ext cx="1008360" cy="8334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小学语文（散文）02-4"/>
          <p:cNvPicPr/>
          <p:nvPr/>
        </p:nvPicPr>
        <p:blipFill>
          <a:blip r:embed="rId3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6"/>
          <p:cNvSpPr/>
          <p:nvPr/>
        </p:nvSpPr>
        <p:spPr>
          <a:xfrm>
            <a:off x="2411280" y="306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36" name="Picture 6" descr="小学语文（散文）02-1"/>
          <p:cNvPicPr/>
          <p:nvPr/>
        </p:nvPicPr>
        <p:blipFill>
          <a:blip r:embed="rId1"/>
          <a:stretch/>
        </p:blipFill>
        <p:spPr>
          <a:xfrm>
            <a:off x="1187280" y="1012680"/>
            <a:ext cx="1730520" cy="4716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3"/>
          <p:cNvSpPr/>
          <p:nvPr/>
        </p:nvSpPr>
        <p:spPr>
          <a:xfrm>
            <a:off x="3780000" y="105264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童 年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38" name="Picture 24" descr="童年（1）"/>
          <p:cNvPicPr/>
          <p:nvPr/>
        </p:nvPicPr>
        <p:blipFill>
          <a:blip r:embed="rId2"/>
          <a:stretch/>
        </p:blipFill>
        <p:spPr>
          <a:xfrm>
            <a:off x="1281240" y="1584360"/>
            <a:ext cx="2714400" cy="4149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5" descr="童年"/>
          <p:cNvPicPr/>
          <p:nvPr/>
        </p:nvPicPr>
        <p:blipFill>
          <a:blip r:embed="rId3"/>
          <a:stretch/>
        </p:blipFill>
        <p:spPr>
          <a:xfrm>
            <a:off x="4643280" y="1628640"/>
            <a:ext cx="2843280" cy="414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小学语文（散文）02-1"/>
          <p:cNvPicPr/>
          <p:nvPr/>
        </p:nvPicPr>
        <p:blipFill>
          <a:blip r:embed="rId1"/>
          <a:stretch/>
        </p:blipFill>
        <p:spPr>
          <a:xfrm>
            <a:off x="1187280" y="1012680"/>
            <a:ext cx="1730520" cy="4716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26"/>
          <p:cNvSpPr/>
          <p:nvPr/>
        </p:nvSpPr>
        <p:spPr>
          <a:xfrm>
            <a:off x="1979640" y="551664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童 年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42" name="Picture 29" descr="童年（2）"/>
          <p:cNvPicPr/>
          <p:nvPr/>
        </p:nvPicPr>
        <p:blipFill>
          <a:blip r:embed="rId2"/>
          <a:stretch/>
        </p:blipFill>
        <p:spPr>
          <a:xfrm>
            <a:off x="1042920" y="1844640"/>
            <a:ext cx="3183120" cy="3745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0" descr="戏水"/>
          <p:cNvPicPr/>
          <p:nvPr/>
        </p:nvPicPr>
        <p:blipFill>
          <a:blip r:embed="rId3"/>
          <a:stretch/>
        </p:blipFill>
        <p:spPr>
          <a:xfrm>
            <a:off x="4356000" y="2676600"/>
            <a:ext cx="4032360" cy="27684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1"/>
          <p:cNvSpPr/>
          <p:nvPr/>
        </p:nvSpPr>
        <p:spPr>
          <a:xfrm>
            <a:off x="5796000" y="551664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戏 水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小学语文（散文）02-2"/>
          <p:cNvPicPr/>
          <p:nvPr/>
        </p:nvPicPr>
        <p:blipFill>
          <a:blip r:embed="rId1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51"/>
          <p:cNvGrpSpPr/>
          <p:nvPr/>
        </p:nvGrpSpPr>
        <p:grpSpPr>
          <a:xfrm>
            <a:off x="1476360" y="2397240"/>
            <a:ext cx="5904000" cy="3840120"/>
            <a:chOff x="1476360" y="2397240"/>
            <a:chExt cx="5904000" cy="3840120"/>
          </a:xfrm>
        </p:grpSpPr>
        <p:pic>
          <p:nvPicPr>
            <p:cNvPr id="547" name="Picture 52" descr="11"/>
            <p:cNvPicPr/>
            <p:nvPr/>
          </p:nvPicPr>
          <p:blipFill>
            <a:blip r:embed="rId2"/>
            <a:stretch/>
          </p:blipFill>
          <p:spPr>
            <a:xfrm>
              <a:off x="1476360" y="2397240"/>
              <a:ext cx="59040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 Box 53"/>
            <p:cNvSpPr/>
            <p:nvPr/>
          </p:nvSpPr>
          <p:spPr>
            <a:xfrm>
              <a:off x="2018880" y="2696400"/>
              <a:ext cx="49514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朗读诗歌，闭上眼睛想象诗歌描写的画面。给你印象最深刻的是什么？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小学语文（散文）02-2"/>
          <p:cNvPicPr/>
          <p:nvPr/>
        </p:nvPicPr>
        <p:blipFill>
          <a:blip r:embed="rId1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4"/>
          <p:cNvSpPr/>
          <p:nvPr/>
        </p:nvSpPr>
        <p:spPr>
          <a:xfrm>
            <a:off x="2124000" y="3429000"/>
            <a:ext cx="4896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喧闹   膝盖   垂柳   梳妆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钓竿   玉带   翅膀   浪花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2771640" y="2117880"/>
            <a:ext cx="180036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读一读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52" name="Picture 14" descr="03"/>
          <p:cNvPicPr/>
          <p:nvPr/>
        </p:nvPicPr>
        <p:blipFill>
          <a:blip r:embed="rId2"/>
          <a:stretch/>
        </p:blipFill>
        <p:spPr>
          <a:xfrm>
            <a:off x="1542960" y="1700280"/>
            <a:ext cx="797040" cy="119376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8199"/>
          <p:cNvSpPr/>
          <p:nvPr/>
        </p:nvSpPr>
        <p:spPr>
          <a:xfrm>
            <a:off x="1908000" y="5157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035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74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1027"/>
          <p:cNvSpPr/>
          <p:nvPr/>
        </p:nvSpPr>
        <p:spPr>
          <a:xfrm>
            <a:off x="1474920" y="2060640"/>
            <a:ext cx="6337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说说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童年的水墨画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描写了哪些学习生活场景？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能分别用四个字概括这三个儿童时期的生活？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55" name="Picture 1033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3840"/>
            <a:ext cx="1729080" cy="4604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23"/>
          <p:cNvSpPr/>
          <p:nvPr/>
        </p:nvSpPr>
        <p:spPr>
          <a:xfrm>
            <a:off x="2050920" y="4581360"/>
            <a:ext cx="54007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街头阅读    溪边钓鱼   江上戏水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3840"/>
            <a:ext cx="1729080" cy="460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8"/>
          <p:cNvSpPr/>
          <p:nvPr/>
        </p:nvSpPr>
        <p:spPr>
          <a:xfrm>
            <a:off x="1332000" y="2133720"/>
            <a:ext cx="691200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3.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街头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这首诗歌是运用了对比的手法，你能找出来吗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4.</a:t>
            </a:r>
            <a:r>
              <a:rPr b="1" lang="en-US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草地上蹦跳着鱼儿和笑声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笑声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怎么会蹦跳呢？这主要是说明孩子们怎样心里？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5.</a:t>
            </a:r>
            <a:r>
              <a:rPr b="1" lang="en-US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像刚下水的鸭群，扇动翅膀拍水戏耍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说说你是怎样理解这句话的？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3"/>
          <p:cNvSpPr/>
          <p:nvPr/>
        </p:nvSpPr>
        <p:spPr>
          <a:xfrm>
            <a:off x="3995640" y="2060640"/>
            <a:ext cx="4032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能根据诗歌，想象它们的画面吗？用笔把它画下来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60" name="Picture 6" descr="teacher02"/>
          <p:cNvPicPr/>
          <p:nvPr/>
        </p:nvPicPr>
        <p:blipFill>
          <a:blip r:embed="rId1"/>
          <a:stretch/>
        </p:blipFill>
        <p:spPr>
          <a:xfrm>
            <a:off x="1141560" y="2349360"/>
            <a:ext cx="2782800" cy="4173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小学语文（散文）02-4"/>
          <p:cNvPicPr/>
          <p:nvPr/>
        </p:nvPicPr>
        <p:blipFill>
          <a:blip r:embed="rId2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3"/>
          <p:cNvSpPr/>
          <p:nvPr/>
        </p:nvSpPr>
        <p:spPr>
          <a:xfrm>
            <a:off x="2195640" y="1771560"/>
            <a:ext cx="19429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课外阅读</a:t>
            </a:r>
            <a:r>
              <a:rPr b="0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563" name="Group 9"/>
          <p:cNvGrpSpPr/>
          <p:nvPr/>
        </p:nvGrpSpPr>
        <p:grpSpPr>
          <a:xfrm>
            <a:off x="2556000" y="2851200"/>
            <a:ext cx="3744360" cy="3241800"/>
            <a:chOff x="2556000" y="2851200"/>
            <a:chExt cx="3744360" cy="3241800"/>
          </a:xfrm>
        </p:grpSpPr>
        <p:sp>
          <p:nvSpPr>
            <p:cNvPr id="564" name="AutoShape 8"/>
            <p:cNvSpPr/>
            <p:nvPr/>
          </p:nvSpPr>
          <p:spPr>
            <a:xfrm>
              <a:off x="2556000" y="2851200"/>
              <a:ext cx="3600360" cy="324180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65" name="Text Box 4"/>
            <p:cNvSpPr/>
            <p:nvPr/>
          </p:nvSpPr>
          <p:spPr>
            <a:xfrm>
              <a:off x="2771640" y="2851200"/>
              <a:ext cx="352872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山村孩子的画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邱易东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云是画面的主角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让阳光渲染它的模样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暖一抹，冷一抹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在小溪的天空漂浮 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566" name="Picture 6" descr="a7"/>
          <p:cNvPicPr/>
          <p:nvPr/>
        </p:nvPicPr>
        <p:blipFill>
          <a:blip r:embed="rId2"/>
          <a:stretch/>
        </p:blipFill>
        <p:spPr>
          <a:xfrm>
            <a:off x="1187280" y="1658880"/>
            <a:ext cx="1008360" cy="8334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小学语文（散文）02-4"/>
          <p:cNvPicPr/>
          <p:nvPr/>
        </p:nvPicPr>
        <p:blipFill>
          <a:blip r:embed="rId3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sp>
        <p:nvSpPr>
          <p:cNvPr id="568" name="文本框 8199"/>
          <p:cNvSpPr/>
          <p:nvPr/>
        </p:nvSpPr>
        <p:spPr>
          <a:xfrm>
            <a:off x="2700360" y="24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0350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74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6:37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13Z</dcterms:modified>
  <cp:revision>2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