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drumroll.wav" ContentType="audio/x-wav"/>
  <Override PartName="/ppt/media/image28.wmf" ContentType="image/x-wmf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A85-202E-4196-896A-9D2392B1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15B-95B5-464A-A4CB-0D57A94B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469-335B-4E18-B54F-4976CCA6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8C4-6CFA-41E6-B42F-46A1EE1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CB4C-F261-4269-8F77-D447214D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3B7B-A5A9-46AF-97EB-E95F67EF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54BC-EFCB-488D-9234-09479241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083-E3E6-44E5-B030-B1A90B2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1D69-B863-403B-89AD-9869869E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1965-5016-4DB9-BDBA-DD69DB6A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1441-F92B-4B65-8BDD-5CBB64B5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C972-BC14-40C9-9E03-EF4F2F0E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DB9-FE77-4FA7-B4C6-A5096BF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DA9-F2D4-48F3-A146-F96EB6CC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923A-BE85-4E31-9F31-B1144138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F99B-71E7-47DF-9A7F-EC7045F0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1A6A-810A-49A2-95B6-DEF68B44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F76-058B-4762-80F9-9C3F7B8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B3F-8E3E-439D-B7A7-EB4E85D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258-4D66-4E6C-8461-DABE1283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4D9-AE9D-4420-A94D-CB8FA767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58C-A7B6-4DE1-9CEE-342353D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B50-CC22-4C2D-98C3-D6DF11E5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13F-AA6B-46C2-ABED-29F405D4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79B-3CD2-4D83-8432-4642209653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C442-A04D-42BD-8B11-CE09BBD14A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7621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探索建设社会主义的道路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6400800" cy="263844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3-02L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3920" y="685800"/>
            <a:ext cx="4259160" cy="5383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2686320" y="6477120"/>
            <a:ext cx="37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1958</a:t>
            </a: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年钢产量指标为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1070</a:t>
            </a: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万吨（较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1957</a:t>
            </a: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年翻一番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f"/>
          <p:cNvPicPr/>
          <p:nvPr/>
        </p:nvPicPr>
        <p:blipFill>
          <a:blip r:embed="rId2"/>
          <a:stretch/>
        </p:blipFill>
        <p:spPr>
          <a:xfrm>
            <a:off x="4649760" y="703440"/>
            <a:ext cx="430848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2925720" y="6424560"/>
            <a:ext cx="3292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河北省徐水县在大跃进时代修建的土高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-15840" y="426960"/>
            <a:ext cx="9007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高炉）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土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土法炼钢）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群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群众运动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319120" y="-46080"/>
            <a:ext cx="5775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年钢产量指标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10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万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较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957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年翻一番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-76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指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0" y="1001880"/>
            <a:ext cx="914400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428640" y="6477120"/>
            <a:ext cx="228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北京居民将自家金属用品拿去炼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37960" y="609480"/>
            <a:ext cx="8614080" cy="53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542008215154067017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00600" y="0"/>
            <a:ext cx="4343400" cy="38228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87692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农民欢庆人民公社成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4803840" cy="35053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"/>
          <p:cNvPicPr/>
          <p:nvPr/>
        </p:nvPicPr>
        <p:blipFill>
          <a:blip r:embed="rId3"/>
          <a:stretch/>
        </p:blipFill>
        <p:spPr>
          <a:xfrm>
            <a:off x="-3240" y="3505320"/>
            <a:ext cx="48038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1453680" y="6477120"/>
            <a:ext cx="2175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卫星田”稻穗竟能托住一位小姑娘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151320" y="6477120"/>
            <a:ext cx="152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农业大跃进社社放卫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w"/>
          <p:cNvPicPr/>
          <p:nvPr/>
        </p:nvPicPr>
        <p:blipFill>
          <a:blip r:embed="rId1"/>
          <a:stretch/>
        </p:blipFill>
        <p:spPr>
          <a:xfrm>
            <a:off x="254160" y="1031760"/>
            <a:ext cx="4574880" cy="5376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s"/>
          <p:cNvPicPr/>
          <p:nvPr/>
        </p:nvPicPr>
        <p:blipFill>
          <a:blip r:embed="rId2"/>
          <a:stretch/>
        </p:blipFill>
        <p:spPr>
          <a:xfrm>
            <a:off x="4940280" y="1019160"/>
            <a:ext cx="3946680" cy="53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0-12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4185000" y="6354720"/>
            <a:ext cx="16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地纷纷以虚假的高指标、高纪录相夸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419720" y="3200400"/>
            <a:ext cx="2133360" cy="4572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648320" y="1828800"/>
            <a:ext cx="4114800" cy="4572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04920" y="533520"/>
            <a:ext cx="4114800" cy="6094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5324400" y="6477120"/>
            <a:ext cx="1920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大跃进”中浮夸风的宣传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f"/>
          <p:cNvPicPr/>
          <p:nvPr/>
        </p:nvPicPr>
        <p:blipFill>
          <a:blip r:embed="rId1"/>
          <a:stretch/>
        </p:blipFill>
        <p:spPr>
          <a:xfrm>
            <a:off x="289080" y="1028880"/>
            <a:ext cx="3125520" cy="575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d"/>
          <p:cNvPicPr/>
          <p:nvPr/>
        </p:nvPicPr>
        <p:blipFill>
          <a:blip r:embed="rId2"/>
          <a:stretch/>
        </p:blipFill>
        <p:spPr>
          <a:xfrm>
            <a:off x="3649680" y="1028880"/>
            <a:ext cx="5270400" cy="53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0" y="0"/>
            <a:ext cx="639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肥猪赛大象，就是鼻子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社杀一口，足够吃半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5612040" y="6172200"/>
            <a:ext cx="235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大跃进”中浮夸风的宣传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16162302474"/>
          <p:cNvPicPr/>
          <p:nvPr/>
        </p:nvPicPr>
        <p:blipFill>
          <a:blip r:embed="rId1"/>
          <a:stretch/>
        </p:blipFill>
        <p:spPr>
          <a:xfrm>
            <a:off x="4724280" y="2895480"/>
            <a:ext cx="4267440" cy="3246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20100630_3fdd270956e721dd49caniAFdd2fJdTj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m"/>
          <p:cNvPicPr/>
          <p:nvPr/>
        </p:nvPicPr>
        <p:blipFill>
          <a:blip r:embed="rId3"/>
          <a:stretch/>
        </p:blipFill>
        <p:spPr>
          <a:xfrm>
            <a:off x="0" y="3618000"/>
            <a:ext cx="2063880" cy="3240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132640" y="5541480"/>
            <a:ext cx="36612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摘棉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n"/>
          <p:cNvPicPr/>
          <p:nvPr/>
        </p:nvPicPr>
        <p:blipFill>
          <a:blip r:embed="rId4"/>
          <a:stretch/>
        </p:blipFill>
        <p:spPr>
          <a:xfrm>
            <a:off x="2133720" y="3429000"/>
            <a:ext cx="2895480" cy="23050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9"/>
          <p:cNvGrpSpPr/>
          <p:nvPr/>
        </p:nvGrpSpPr>
        <p:grpSpPr>
          <a:xfrm>
            <a:off x="152280" y="2438280"/>
            <a:ext cx="2362320" cy="533520"/>
            <a:chOff x="152280" y="2438280"/>
            <a:chExt cx="2362320" cy="533520"/>
          </a:xfrm>
        </p:grpSpPr>
        <p:sp>
          <p:nvSpPr>
            <p:cNvPr id="176" name="AutoShape 10"/>
            <p:cNvSpPr/>
            <p:nvPr/>
          </p:nvSpPr>
          <p:spPr>
            <a:xfrm flipV="1">
              <a:off x="152280" y="2438280"/>
              <a:ext cx="1752840" cy="533520"/>
            </a:xfrm>
            <a:prstGeom prst="wedgeRectCallout">
              <a:avLst>
                <a:gd name="adj1" fmla="val -29259"/>
                <a:gd name="adj2" fmla="val 342856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1"/>
            <p:cNvSpPr/>
            <p:nvPr/>
          </p:nvSpPr>
          <p:spPr>
            <a:xfrm>
              <a:off x="152280" y="24382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人民公社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2133720" y="1447560"/>
            <a:ext cx="3123720" cy="533160"/>
            <a:chOff x="2133720" y="1447560"/>
            <a:chExt cx="3123720" cy="533160"/>
          </a:xfrm>
        </p:grpSpPr>
        <p:sp>
          <p:nvSpPr>
            <p:cNvPr id="179" name="AutoShape 13"/>
            <p:cNvSpPr/>
            <p:nvPr/>
          </p:nvSpPr>
          <p:spPr>
            <a:xfrm flipV="1">
              <a:off x="2220120" y="1446840"/>
              <a:ext cx="3037320" cy="533160"/>
            </a:xfrm>
            <a:prstGeom prst="wedgeRectCallout">
              <a:avLst>
                <a:gd name="adj1" fmla="val -5120"/>
                <a:gd name="adj2" fmla="val 15625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2133720" y="1447920"/>
              <a:ext cx="30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共产风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吃大锅饭）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内容占位符 2"/>
          <p:cNvSpPr/>
          <p:nvPr/>
        </p:nvSpPr>
        <p:spPr>
          <a:xfrm>
            <a:off x="228600" y="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大跃进和人民公社化运动以及自然灾害导致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95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96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三年严重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经济困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4"/>
          <p:cNvSpPr/>
          <p:nvPr/>
        </p:nvSpPr>
        <p:spPr>
          <a:xfrm>
            <a:off x="888840" y="1219320"/>
            <a:ext cx="2408400" cy="94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5"/>
          <p:cNvSpPr/>
          <p:nvPr/>
        </p:nvSpPr>
        <p:spPr>
          <a:xfrm>
            <a:off x="3297240" y="1219320"/>
            <a:ext cx="2409840" cy="941400"/>
          </a:xfrm>
          <a:prstGeom prst="rect">
            <a:avLst/>
          </a:prstGeom>
          <a:solidFill>
            <a:srgbClr val="0066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6"/>
          <p:cNvSpPr/>
          <p:nvPr/>
        </p:nvSpPr>
        <p:spPr>
          <a:xfrm>
            <a:off x="5707080" y="1219320"/>
            <a:ext cx="2408400" cy="941400"/>
          </a:xfrm>
          <a:prstGeom prst="rect">
            <a:avLst/>
          </a:prstGeom>
          <a:solidFill>
            <a:srgbClr val="0066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7"/>
          <p:cNvSpPr/>
          <p:nvPr/>
        </p:nvSpPr>
        <p:spPr>
          <a:xfrm>
            <a:off x="888840" y="3102120"/>
            <a:ext cx="2408400" cy="946080"/>
          </a:xfrm>
          <a:prstGeom prst="rect">
            <a:avLst/>
          </a:prstGeom>
          <a:solidFill>
            <a:srgbClr val="55d2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8"/>
          <p:cNvSpPr/>
          <p:nvPr/>
        </p:nvSpPr>
        <p:spPr>
          <a:xfrm>
            <a:off x="3297240" y="3102120"/>
            <a:ext cx="2409840" cy="946080"/>
          </a:xfrm>
          <a:prstGeom prst="rect">
            <a:avLst/>
          </a:prstGeom>
          <a:solidFill>
            <a:srgbClr val="55d2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9"/>
          <p:cNvSpPr/>
          <p:nvPr/>
        </p:nvSpPr>
        <p:spPr>
          <a:xfrm>
            <a:off x="5707080" y="3102120"/>
            <a:ext cx="2408400" cy="946080"/>
          </a:xfrm>
          <a:prstGeom prst="rect">
            <a:avLst/>
          </a:prstGeom>
          <a:solidFill>
            <a:srgbClr val="55d2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70"/>
          <p:cNvSpPr/>
          <p:nvPr/>
        </p:nvSpPr>
        <p:spPr>
          <a:xfrm>
            <a:off x="974880" y="121932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1"/>
          <p:cNvSpPr/>
          <p:nvPr/>
        </p:nvSpPr>
        <p:spPr>
          <a:xfrm>
            <a:off x="3382920" y="1219320"/>
            <a:ext cx="2238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2"/>
          <p:cNvSpPr/>
          <p:nvPr/>
        </p:nvSpPr>
        <p:spPr>
          <a:xfrm>
            <a:off x="5791320" y="121932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73"/>
          <p:cNvSpPr/>
          <p:nvPr/>
        </p:nvSpPr>
        <p:spPr>
          <a:xfrm>
            <a:off x="974880" y="3200400"/>
            <a:ext cx="2238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5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4"/>
          <p:cNvSpPr/>
          <p:nvPr/>
        </p:nvSpPr>
        <p:spPr>
          <a:xfrm>
            <a:off x="2971800" y="3244680"/>
            <a:ext cx="309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7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万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75"/>
          <p:cNvSpPr/>
          <p:nvPr/>
        </p:nvSpPr>
        <p:spPr>
          <a:xfrm>
            <a:off x="5791320" y="3200400"/>
            <a:ext cx="2238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300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余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6"/>
          <p:cNvSpPr/>
          <p:nvPr/>
        </p:nvSpPr>
        <p:spPr>
          <a:xfrm>
            <a:off x="888840" y="2160720"/>
            <a:ext cx="2408400" cy="941400"/>
          </a:xfrm>
          <a:prstGeom prst="rect">
            <a:avLst/>
          </a:prstGeom>
          <a:solidFill>
            <a:srgbClr val="00b1f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7"/>
          <p:cNvSpPr/>
          <p:nvPr/>
        </p:nvSpPr>
        <p:spPr>
          <a:xfrm>
            <a:off x="3305160" y="2160720"/>
            <a:ext cx="2409840" cy="941400"/>
          </a:xfrm>
          <a:prstGeom prst="rect">
            <a:avLst/>
          </a:prstGeom>
          <a:solidFill>
            <a:srgbClr val="00b1f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8"/>
          <p:cNvSpPr/>
          <p:nvPr/>
        </p:nvSpPr>
        <p:spPr>
          <a:xfrm>
            <a:off x="5707080" y="2160720"/>
            <a:ext cx="2408400" cy="941400"/>
          </a:xfrm>
          <a:prstGeom prst="rect">
            <a:avLst/>
          </a:prstGeom>
          <a:solidFill>
            <a:srgbClr val="00b1f8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9"/>
          <p:cNvSpPr/>
          <p:nvPr/>
        </p:nvSpPr>
        <p:spPr>
          <a:xfrm>
            <a:off x="888840" y="4048200"/>
            <a:ext cx="2408400" cy="941400"/>
          </a:xfrm>
          <a:prstGeom prst="rect">
            <a:avLst/>
          </a:prstGeom>
          <a:solidFill>
            <a:srgbClr val="8fe2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0"/>
          <p:cNvSpPr/>
          <p:nvPr/>
        </p:nvSpPr>
        <p:spPr>
          <a:xfrm>
            <a:off x="3297240" y="4048200"/>
            <a:ext cx="2409840" cy="941400"/>
          </a:xfrm>
          <a:prstGeom prst="rect">
            <a:avLst/>
          </a:prstGeom>
          <a:solidFill>
            <a:srgbClr val="8fe2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81"/>
          <p:cNvSpPr/>
          <p:nvPr/>
        </p:nvSpPr>
        <p:spPr>
          <a:xfrm>
            <a:off x="5707080" y="4048200"/>
            <a:ext cx="2408400" cy="941400"/>
          </a:xfrm>
          <a:prstGeom prst="rect">
            <a:avLst/>
          </a:prstGeom>
          <a:solidFill>
            <a:srgbClr val="8fe2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82"/>
          <p:cNvSpPr/>
          <p:nvPr/>
        </p:nvSpPr>
        <p:spPr>
          <a:xfrm>
            <a:off x="888840" y="4989600"/>
            <a:ext cx="2408400" cy="941400"/>
          </a:xfrm>
          <a:prstGeom prst="rect">
            <a:avLst/>
          </a:prstGeom>
          <a:solidFill>
            <a:srgbClr val="c9f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3"/>
          <p:cNvSpPr/>
          <p:nvPr/>
        </p:nvSpPr>
        <p:spPr>
          <a:xfrm>
            <a:off x="3297240" y="4989600"/>
            <a:ext cx="2409840" cy="941400"/>
          </a:xfrm>
          <a:prstGeom prst="rect">
            <a:avLst/>
          </a:prstGeom>
          <a:solidFill>
            <a:srgbClr val="c9f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84"/>
          <p:cNvSpPr/>
          <p:nvPr/>
        </p:nvSpPr>
        <p:spPr>
          <a:xfrm>
            <a:off x="5707080" y="4989600"/>
            <a:ext cx="2408400" cy="941400"/>
          </a:xfrm>
          <a:prstGeom prst="rect">
            <a:avLst/>
          </a:prstGeom>
          <a:solidFill>
            <a:srgbClr val="c9f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85"/>
          <p:cNvSpPr/>
          <p:nvPr/>
        </p:nvSpPr>
        <p:spPr>
          <a:xfrm>
            <a:off x="954000" y="2259000"/>
            <a:ext cx="2238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6"/>
          <p:cNvSpPr/>
          <p:nvPr/>
        </p:nvSpPr>
        <p:spPr>
          <a:xfrm>
            <a:off x="3200400" y="2286000"/>
            <a:ext cx="2637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万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87"/>
          <p:cNvSpPr/>
          <p:nvPr/>
        </p:nvSpPr>
        <p:spPr>
          <a:xfrm>
            <a:off x="5791320" y="216072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88"/>
          <p:cNvSpPr/>
          <p:nvPr/>
        </p:nvSpPr>
        <p:spPr>
          <a:xfrm>
            <a:off x="974880" y="416412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6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89"/>
          <p:cNvSpPr/>
          <p:nvPr/>
        </p:nvSpPr>
        <p:spPr>
          <a:xfrm>
            <a:off x="3200400" y="4164120"/>
            <a:ext cx="2637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43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万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90"/>
          <p:cNvSpPr/>
          <p:nvPr/>
        </p:nvSpPr>
        <p:spPr>
          <a:xfrm>
            <a:off x="5791320" y="411480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265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余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1"/>
          <p:cNvSpPr/>
          <p:nvPr/>
        </p:nvSpPr>
        <p:spPr>
          <a:xfrm>
            <a:off x="974880" y="498960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96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2"/>
          <p:cNvSpPr/>
          <p:nvPr/>
        </p:nvSpPr>
        <p:spPr>
          <a:xfrm>
            <a:off x="3276720" y="4989600"/>
            <a:ext cx="2484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47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万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3"/>
          <p:cNvSpPr/>
          <p:nvPr/>
        </p:nvSpPr>
        <p:spPr>
          <a:xfrm>
            <a:off x="5791320" y="4989600"/>
            <a:ext cx="22381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80920" y="1219320"/>
          <a:ext cx="7272360" cy="4647960"/>
        </p:xfrm>
        <a:graphic>
          <a:graphicData uri="http://schemas.openxmlformats.org/drawingml/2006/table">
            <a:tbl>
              <a:tblPr/>
              <a:tblGrid>
                <a:gridCol w="2376360"/>
                <a:gridCol w="2448000"/>
                <a:gridCol w="2448000"/>
              </a:tblGrid>
              <a:tr h="89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227"/>
          <p:cNvSpPr/>
          <p:nvPr/>
        </p:nvSpPr>
        <p:spPr>
          <a:xfrm>
            <a:off x="2209680" y="1143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产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28"/>
          <p:cNvSpPr/>
          <p:nvPr/>
        </p:nvSpPr>
        <p:spPr>
          <a:xfrm>
            <a:off x="1143000" y="1523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时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9"/>
          <p:cNvSpPr/>
          <p:nvPr/>
        </p:nvSpPr>
        <p:spPr>
          <a:xfrm>
            <a:off x="3581280" y="1325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粮食产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0"/>
          <p:cNvSpPr/>
          <p:nvPr/>
        </p:nvSpPr>
        <p:spPr>
          <a:xfrm>
            <a:off x="5562720" y="13716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比上一年减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1"/>
          <p:cNvSpPr/>
          <p:nvPr/>
        </p:nvSpPr>
        <p:spPr>
          <a:xfrm>
            <a:off x="1371600" y="5943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年自然灾害时期粮食产量表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res04_attpic_brief"/>
          <p:cNvPicPr/>
          <p:nvPr/>
        </p:nvPicPr>
        <p:blipFill>
          <a:blip r:embed="rId1"/>
          <a:stretch/>
        </p:blipFill>
        <p:spPr>
          <a:xfrm>
            <a:off x="4648320" y="0"/>
            <a:ext cx="2361960" cy="2666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20060106230248269"/>
          <p:cNvPicPr/>
          <p:nvPr/>
        </p:nvPicPr>
        <p:blipFill>
          <a:blip r:embed="rId2"/>
          <a:stretch/>
        </p:blipFill>
        <p:spPr>
          <a:xfrm>
            <a:off x="2438280" y="0"/>
            <a:ext cx="2249640" cy="2666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Fl201006171057447601"/>
          <p:cNvPicPr/>
          <p:nvPr/>
        </p:nvPicPr>
        <p:blipFill>
          <a:blip r:embed="rId3"/>
          <a:srcRect l="0" t="6944" r="0" b="0"/>
          <a:stretch/>
        </p:blipFill>
        <p:spPr>
          <a:xfrm>
            <a:off x="0" y="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F200706021019052479811512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6668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45720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王进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66688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邓稼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18148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焦裕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467480" y="25909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雷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1371600" y="3200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铁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参加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大庆石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战，甩掉了中国贫油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1371600" y="3841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弹元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第一颗原子弹爆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1371600" y="46483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民的好干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县委书记的榜样，带领兰考县人民治理流沙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76320" y="3214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进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76320" y="380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邓稼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76320" y="4648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焦裕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76320" y="5729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雷   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>
            <a:off x="1523880" y="57150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心全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人民服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毛主席号召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向雷锋同志。学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evt="onNext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54" dur="1" fill="hold"/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evt="onNext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7" dur="1" fill="hold"/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evt="onNext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0" dur="1" fill="hold"/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evt="onNext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534960" y="15796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目标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52280" y="266688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熟悉探索建设社会主义的良好开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共八大确定的主要任务；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知道十年探索建设社会主义所取得的成就和先进模范人物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了解探索社会主义道路中出现的失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1440" y="2286000"/>
            <a:ext cx="7704000" cy="360"/>
            <a:chOff x="541440" y="2286000"/>
            <a:chExt cx="7704000" cy="360"/>
          </a:xfrm>
        </p:grpSpPr>
        <p:sp>
          <p:nvSpPr>
            <p:cNvPr id="88" name="Line 9"/>
            <p:cNvSpPr/>
            <p:nvPr/>
          </p:nvSpPr>
          <p:spPr>
            <a:xfrm>
              <a:off x="541440" y="2286000"/>
              <a:ext cx="7704000" cy="0"/>
            </a:xfrm>
            <a:prstGeom prst="line">
              <a:avLst/>
            </a:prstGeom>
            <a:ln w="60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41440" y="2286000"/>
              <a:ext cx="770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1"/>
          <p:cNvSpPr/>
          <p:nvPr/>
        </p:nvSpPr>
        <p:spPr>
          <a:xfrm>
            <a:off x="0" y="32162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958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年中共中央发动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大跃进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运动和农村人民公社化后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左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倾错误泛滥开来，其主要标志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指标②瞎指挥③浮夸风④共产风⑤宗派主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A①②③④⑤ B①②③④ C①②④⑤ D①②③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0" y="351000"/>
            <a:ext cx="929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大跃进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运动和人民公社化运动的严重失误，是片面强调了党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鼓足干劲、力争上游、多快好省地建设社会主义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的总路线中的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　）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76320" y="1892160"/>
            <a:ext cx="9829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我国农村人民公社化运动的高潮出现在（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531720" y="2433600"/>
            <a:ext cx="7642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.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.19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.19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.195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908000" y="-10332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当堂训练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分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2083680" y="1600200"/>
            <a:ext cx="47815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多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快　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好　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0" y="5334120"/>
            <a:ext cx="92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探索社会主义的良好开端是（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6"/>
          <p:cNvSpPr/>
          <p:nvPr/>
        </p:nvSpPr>
        <p:spPr>
          <a:xfrm>
            <a:off x="1870920" y="5638680"/>
            <a:ext cx="47098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土地改革运动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大改造　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1759680" y="6095880"/>
            <a:ext cx="3230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共八大　　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五计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"/>
          <p:cNvSpPr/>
          <p:nvPr/>
        </p:nvSpPr>
        <p:spPr>
          <a:xfrm>
            <a:off x="7150680" y="5562360"/>
            <a:ext cx="1866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</a:rPr>
              <a:t>BDBC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15228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谷撒地，薯叶枯，青壮炼铁去，收禾童与姑，来年的日子怎么过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诗中反映的是中国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世纪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5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年代末出现的现象。当时还出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芝麻赛玉米，玉米比人大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的打油诗。这些状况的出现主要是由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自然灾害严重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苏联撤走专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错误泛滥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化大革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开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脚踏黄河水倒流，搬来泰山做枕头；决心苦战十五年，（钢产量）走上英国不发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。与这首民歌相关的历史事件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三大改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人民公社化运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大跃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运动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十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热播的电视剧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五星红旗迎风飘扬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表现了老一辈科学家成功研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两弹一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的故事。下列人物在此电视剧中必然出现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邓稼先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袁隆平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詹天佑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邓世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6931080" y="3809520"/>
            <a:ext cx="134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</a:rPr>
              <a:t>CC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96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年，中共中央开始纠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大跃进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和人民公社化运动中出现的一些错误。这主要是因为 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(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人民公社化运动的弊病充分暴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国民经济出现了严重困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确定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调整、巩固、充实、提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方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反右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斗争深入开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0" y="2590920"/>
            <a:ext cx="899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社会主义改造完成后的十年是全面建设社会主义的时期，下列对这一时期的特点表述正确的是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(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开始意识到我国正处于社会主义初级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是建国后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倾错误登峰造极的一个阶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探索出适合中国国情的社会主义建设道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社会主义建设遭到挫折，但仍取得巨大成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477120" y="3808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</a:rPr>
              <a:t>BD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52117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造成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959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96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年国民经济严重困难最主要的原因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-76320" y="5791320"/>
            <a:ext cx="952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空前严重的自然灾害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苏联政府撕毁合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大跃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人民公社化会运动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国际反共势力的破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601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右图是一份宣传画，它说明当时的社会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(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注重科学，实事求是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忽视工业，片面发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思想解放，决策民主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急于求成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倾浮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438960" y="76320"/>
            <a:ext cx="2552760" cy="39621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0" y="259092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中共八大最主要的贡献表现在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(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04920" y="304812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坚持既反保守又反冒进的方针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正确指出了当时中国的主要矛盾。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坚持在综合平衡中稳步前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提出了正确处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十大关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6867720" y="3809520"/>
            <a:ext cx="147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</a:rPr>
              <a:t>DB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0" y="472428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小红同学为“新中国杰出人物事迹展”搜集材料，其中选材不当的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邓稼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弹元勋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焦裕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党的好干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王进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铁人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张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状元实业家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4680" y="15238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谷撒地，薯叶枯，青壮炼铁去，收禾童与姑，来年的日子怎么过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诗中反映的是中国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世纪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5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年代末出现的现象。当时还出现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芝麻赛玉米，玉米比人大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的打油诗。这些状况的出现主要是由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自然灾害严重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苏联撤走专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错误泛滥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文化大革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开展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热播的电视剧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五星红旗迎风飘扬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表现了老一辈科学家成功研制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两弹一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的故事。下列人物在此电视剧中必然出现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邓稼先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袁隆平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詹天佑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邓世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7764120" y="3047760"/>
            <a:ext cx="912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</a:rPr>
              <a:t>C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6"/>
          <p:cNvSpPr/>
          <p:nvPr/>
        </p:nvSpPr>
        <p:spPr>
          <a:xfrm>
            <a:off x="0" y="325764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7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右图是中华人民共和国建国后创作的一幅宣传画，从中可以读出的历史信息有（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创作的时间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6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反映了我国人民要求改变经济落后面貌的迫切愿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可知当时存在浮夸风现象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我国掌握了粮食高产技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0" y="763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195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年对中国人民来说是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非同寻常的一年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。在这一年，新中国取得的主要成就有（   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大跃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运动在全国范围内发动起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基本完成三大改造，标志社会主义制度在我国基本建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共八大在探索建设社会主义道路过程中取得重要成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第一颗人造地球卫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东方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发射成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①④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①③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②③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③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7909560" y="533160"/>
            <a:ext cx="875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</a:rPr>
              <a:t>CC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www.czxxw.com"/>
          <p:cNvPicPr/>
          <p:nvPr/>
        </p:nvPicPr>
        <p:blipFill>
          <a:blip r:embed="rId1"/>
          <a:stretch/>
        </p:blipFill>
        <p:spPr>
          <a:xfrm>
            <a:off x="4800600" y="5029200"/>
            <a:ext cx="4343400" cy="1828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228600" y="5791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②③④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①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28600" y="6248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①②③      D. ②③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7E9B-8A20-44AB-8B23-643A66DC2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8"/>
          <p:cNvSpPr/>
          <p:nvPr/>
        </p:nvSpPr>
        <p:spPr>
          <a:xfrm>
            <a:off x="0" y="1068480"/>
            <a:ext cx="9220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材料题   社会主义制度在中国已经建立起来，但如何建设社会主义，这是一个十分复杂的课题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的中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为这一探索奠定了一个良好开端。但是，由于历史的局限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正确方针在党内未能牢固确立，一些重要思想没有能够在实践中坚持下去或者没有充分地坚持下去，因此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以后，我国的社会主义建设出现了曲折。请你回答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中国共产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召开的时间是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为什么说中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社会主义探索奠定了一个良好开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886200" y="2666880"/>
            <a:ext cx="2286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5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因为中共八大正确分析了国内主要矛盾的变化，指出当前党和人民的主要任务是：集中力量发展社会生产力，实现国家工业化，逐步满足人民日益增长的物质和文化需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-152280" y="4876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以后，我国十年探索社会主义建设出现严重挫折的表现及其原因有哪些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152280" y="6309720"/>
            <a:ext cx="899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原因：对国情认识不足；缺少社会主义建设经验；又急于求成；违背了经济发展的客观规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790200" y="571392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1958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年开展大跃进和人民公社化运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20574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中共八大召开的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时间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？在这次会议上对当时中国形势做了怎样的分析，会议确定的建设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任务是什么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召开的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意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八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后为更快地建设社会主义，党中央制定了怎样的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总路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探索社会主义建设失误的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原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表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主要标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影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十年探索时期取得了哪些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重大成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？涌现出了哪些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先进人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9840" y="1355760"/>
            <a:ext cx="526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自学指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分钟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76320" y="14493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探索中的良好开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共八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28600" y="21351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时  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590920" y="2163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5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28600" y="38876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任  务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28600" y="289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国内形势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2819520" y="294156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建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业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要求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落后农业国现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之间的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04920" y="53658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意  义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438280" y="53658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索社会主义建设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良好开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743200" y="2668680"/>
            <a:ext cx="1066680" cy="360"/>
            <a:chOff x="2743200" y="2668680"/>
            <a:chExt cx="1066680" cy="360"/>
          </a:xfrm>
        </p:grpSpPr>
        <p:sp>
          <p:nvSpPr>
            <p:cNvPr id="101" name="Line 20"/>
            <p:cNvSpPr/>
            <p:nvPr/>
          </p:nvSpPr>
          <p:spPr>
            <a:xfrm>
              <a:off x="2743200" y="2668680"/>
              <a:ext cx="1066680" cy="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743200" y="26686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1"/>
          <p:cNvSpPr/>
          <p:nvPr/>
        </p:nvSpPr>
        <p:spPr>
          <a:xfrm>
            <a:off x="2286000" y="43887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集中力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展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社会生产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实现国家工业化，逐步满足人民日益增长的物质和文化需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、探索中的失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776040" y="274320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跃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人民公社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539720" y="3276720"/>
            <a:ext cx="6004080" cy="360"/>
            <a:chOff x="1539720" y="3276720"/>
            <a:chExt cx="6004080" cy="360"/>
          </a:xfrm>
        </p:grpSpPr>
        <p:sp>
          <p:nvSpPr>
            <p:cNvPr id="108" name="Line 7"/>
            <p:cNvSpPr/>
            <p:nvPr/>
          </p:nvSpPr>
          <p:spPr>
            <a:xfrm>
              <a:off x="1539720" y="3276720"/>
              <a:ext cx="6004080" cy="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539720" y="3276720"/>
              <a:ext cx="600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0"/>
          <p:cNvSpPr/>
          <p:nvPr/>
        </p:nvSpPr>
        <p:spPr>
          <a:xfrm>
            <a:off x="1295280" y="2743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522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原 因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1371600" y="56664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国情认识不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缺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主义建设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经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急于求成；忽视客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经济规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447920" y="4449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建国以来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重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经济困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28600" y="4449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影 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-76320" y="36878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标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28800" y="4267080"/>
            <a:ext cx="5105520" cy="360"/>
            <a:chOff x="1828800" y="4267080"/>
            <a:chExt cx="5105520" cy="360"/>
          </a:xfrm>
        </p:grpSpPr>
        <p:sp>
          <p:nvSpPr>
            <p:cNvPr id="117" name="Line 18"/>
            <p:cNvSpPr/>
            <p:nvPr/>
          </p:nvSpPr>
          <p:spPr>
            <a:xfrm>
              <a:off x="1828800" y="4267080"/>
              <a:ext cx="5105520" cy="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1828800" y="4267080"/>
              <a:ext cx="5105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9"/>
          <p:cNvSpPr/>
          <p:nvPr/>
        </p:nvSpPr>
        <p:spPr>
          <a:xfrm>
            <a:off x="16765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指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3124080" y="3672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瞎指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4572000" y="36878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浮夸风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6019920" y="3657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产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1522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  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228600" y="52117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纠正错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304920" y="6049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影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1371600" y="60498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使国民经济得到恢复和发展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0"/>
          <p:cNvSpPr/>
          <p:nvPr/>
        </p:nvSpPr>
        <p:spPr>
          <a:xfrm>
            <a:off x="990720" y="2209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鼓足干劲，力争上游，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省的建设社会主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447920" y="1600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的总路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00200" y="2163600"/>
            <a:ext cx="3276720" cy="360"/>
            <a:chOff x="1600200" y="2163600"/>
            <a:chExt cx="3276720" cy="360"/>
          </a:xfrm>
        </p:grpSpPr>
        <p:sp>
          <p:nvSpPr>
            <p:cNvPr id="130" name="Line 54"/>
            <p:cNvSpPr/>
            <p:nvPr/>
          </p:nvSpPr>
          <p:spPr>
            <a:xfrm>
              <a:off x="1600200" y="2163600"/>
              <a:ext cx="3276720" cy="0"/>
            </a:xfrm>
            <a:prstGeom prst="line">
              <a:avLst/>
            </a:prstGeom>
            <a:ln w="442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600200" y="216360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0"/>
          <p:cNvSpPr/>
          <p:nvPr/>
        </p:nvSpPr>
        <p:spPr>
          <a:xfrm>
            <a:off x="48769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高速度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3124080" y="53341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96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年调整国民经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7"/>
          <p:cNvSpPr/>
          <p:nvPr/>
        </p:nvSpPr>
        <p:spPr>
          <a:xfrm>
            <a:off x="34290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95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96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年三年经济困难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0" y="9144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七千人大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96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日至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日，中共中央在北京召开了扩大的工作会议。出席会议的有中央、中央局、省、地、县（包括重要厂矿）五级领导干部，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71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人。人们习惯地称这次会议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七千人大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。这是我们党在执政后召开的一次空前规模的总结经验大会。会上，发扬了民主，开展了批评与自我批评，初步总结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大跃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以来的经验教训。这次会议对于统一全党思想，提高认识和纠正工作中发生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错误，起了积极作用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47680" y="5715000"/>
            <a:ext cx="8648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　　</a:t>
            </a:r>
            <a:r>
              <a:rPr b="0" lang="en-US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1962</a:t>
            </a: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年</a:t>
            </a:r>
            <a:r>
              <a:rPr b="0" lang="en-US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1</a:t>
            </a: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月</a:t>
            </a:r>
            <a:r>
              <a:rPr b="0" lang="en-US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11</a:t>
            </a: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～</a:t>
            </a:r>
            <a:r>
              <a:rPr b="0" lang="en-US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2</a:t>
            </a: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月</a:t>
            </a:r>
            <a:r>
              <a:rPr b="0" lang="en-US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7</a:t>
            </a: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日，中共中央在北京举行扩大的工作会议（“七千人大会”）。会议总结</a:t>
            </a:r>
            <a:r>
              <a:rPr b="0" lang="en-US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1958</a:t>
            </a:r>
            <a:r>
              <a:rPr b="0" lang="zh-CN" sz="1900" spc="-1" strike="noStrike">
                <a:solidFill>
                  <a:srgbClr val="333333"/>
                </a:solidFill>
                <a:latin typeface="华文楷体"/>
                <a:ea typeface="华文楷体"/>
              </a:rPr>
              <a:t>年以来社会主义建设的基本经验教训，分析了工作中的主要缺点错误。这次会议对促进国民经济的恢复和发展起了积极的作用。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339800" y="5181480"/>
            <a:ext cx="46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3300"/>
                </a:solidFill>
                <a:latin typeface="Times New Roman"/>
              </a:rPr>
              <a:t>毛泽东、刘少奇、周恩来、陈云、邓小平等在扩大的中央工作会议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063"/>
          <p:cNvPicPr/>
          <p:nvPr/>
        </p:nvPicPr>
        <p:blipFill>
          <a:blip r:embed="rId1"/>
          <a:stretch/>
        </p:blipFill>
        <p:spPr>
          <a:xfrm>
            <a:off x="290520" y="527040"/>
            <a:ext cx="8561520" cy="4578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2400840" y="0"/>
            <a:ext cx="4378320" cy="49320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1965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年我国完成调整国民经济的任务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378520" y="5440320"/>
            <a:ext cx="415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京郊区农民高举“三面红旗”参加国庆游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北京郊区农民高举“三面红旗”参加国庆游行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3:22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09Z</dcterms:modified>
  <cp:revision>6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