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37.gif" ContentType="image/gif"/>
  <Override PartName="/ppt/media/image23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4.jpeg" ContentType="image/jpeg"/>
  <Override PartName="/ppt/media/image1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C07-C98A-4C06-9BCF-2B05302D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DF0-16E0-4387-977B-47D0387A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0DB-DE29-4B7F-8BAB-16C69BFA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02D-66EE-468D-8730-DB7B3825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2EC2-AD1E-4844-ACE8-8F8A1091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A2E1-6E90-4FA4-B18F-746C6A52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4022-424B-457F-9B8E-751EA887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B9A0-2267-49AF-AFD8-31CB5956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D26D-E400-46F6-B509-545A850E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A396-8D11-4BAA-BE47-D8228B60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77DE-FF41-4617-AA38-5C2CF8C4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A33-F120-4F04-86DC-75E276E3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FE04-2DDA-4A1D-A89D-63E1CB7A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D7F1-F99B-4643-8DD0-973AB08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E1A5-8B71-407B-9FF5-12FE962C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36D1-6183-45C2-AADD-8B36F6DB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D28F-42CF-4CEB-A8EA-711C4045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1E4E7-BD59-4DB6-8B3D-CF16EB67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9B195-53FB-4C15-94AC-60199985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5B68-4280-4793-B020-8FA2202C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2698C-9A20-4F35-B479-D97A95F6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FC8A-059C-45CD-ACE3-E56A0C4D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9AC-652B-4851-AE2B-63913B4C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BD12-938F-49AD-B1B4-7CB1E68E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74E38-5796-406A-9CB0-B25DE277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7F40A-607D-45D3-95EB-2F1593E2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B8F7-0E6A-4AF4-8ED6-CD1F5323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5CD7-3C12-483C-B886-5EB2FEBA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D8FB-9298-454D-9D91-21CCFFE0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80F8D-3DCF-4A29-9516-F072F869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1A29-5F63-4AE3-8F46-23E6C659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E83AE-C0C9-4334-90DA-A6CA9A8D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BCCA8-3075-44C5-972F-81759F7D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4FF-8291-4EC6-96BA-977D7579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B274-E5CD-4AE7-B5CB-60CCAE68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20B0D-2E2F-4246-86A5-6FD4AD7E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76F3D-26F8-4455-9E97-C2A75D46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7CC4-9056-4741-A0EC-03006E8F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F640C-7821-4C32-B3AA-237E1A22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B712C-F45E-45AB-AC2D-8327A37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1B94A-D214-47D9-B022-214F32E0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BC010-0742-417C-A85C-4A0FBE66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20E96-2BF7-48C3-BC91-A1D35AB0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272-DA0B-4DDC-A391-8F07D6C0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628-87A1-474D-84D3-FC906CCA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4CB-4ECD-4874-8FD7-E3ED4AF4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F0E-96BC-4F5E-8337-B2894436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306-207B-472B-A9DA-AE282A55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5FE3-6F12-41B2-AB5B-F53DDCCD6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16EC-B4C8-4E3C-A90E-9ABEECA33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1FC7-85E4-4774-A68E-9A2D3FE0C8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reeform 1026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027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71" name="Freeform 1028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1029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030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031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032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033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1034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1035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036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037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038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039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1040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Group 1041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85" name="Rectangle 1042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043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044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1045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046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1047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1048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1049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1050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1051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1052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053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054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1055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1056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1057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1058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1059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1060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1061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1062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1063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1064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1065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1066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1067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1068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1069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1070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1071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072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073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074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075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076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077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078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79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080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081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082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083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084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085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086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087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088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1089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090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091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1092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1093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094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1095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1096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1097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1098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1099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100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1101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102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1103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1104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105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1106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1107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1108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109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1110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111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1112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1113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1114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1115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1116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1117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1118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1119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1120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1121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1122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1123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1124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1125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126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1127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1128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1129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1130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1131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1132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1133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1134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1135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1136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1137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1138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1139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1140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141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142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143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144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145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146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147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148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1149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150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151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152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153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154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155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156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157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158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159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160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1161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162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1163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1164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165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166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167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168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169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170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1171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172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1173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1174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1175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1176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1177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178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1179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180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Freeform 1181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1182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1183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184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185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186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1192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31" name="Freeform 1193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1194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195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1196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1197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1198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1199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1200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1201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02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1203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1204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1205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71B8-B39F-452C-9965-C0255321C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图片 1" descr=""/>
          <p:cNvPicPr/>
          <p:nvPr/>
        </p:nvPicPr>
        <p:blipFill>
          <a:blip r:embed="rId1"/>
          <a:srcRect l="0" t="0" r="0" b="50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2"/>
          <p:cNvSpPr/>
          <p:nvPr/>
        </p:nvSpPr>
        <p:spPr>
          <a:xfrm>
            <a:off x="755640" y="620640"/>
            <a:ext cx="728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  <a:ea typeface="宋体"/>
              </a:rPr>
              <a:t>谈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  <a:ea typeface="宋体"/>
              </a:rPr>
              <a:t>生命语文课件</a:t>
            </a:r>
            <a:r>
              <a:rPr b="1" lang="en-US" sz="4000" spc="-1" strike="noStrike">
                <a:solidFill>
                  <a:srgbClr val="0070c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3650760" y="41148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冰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文本框 6155"/>
          <p:cNvSpPr/>
          <p:nvPr/>
        </p:nvSpPr>
        <p:spPr>
          <a:xfrm>
            <a:off x="108000" y="5805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20040203165758(1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755640" y="692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些体验有无先后顺序？从中你领悟到什么道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838080" y="175248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所描写的几个“有时候”的情况，从事物性质和发生的状态来看，不分先后阶段，即不与人的生命历程的阶段一一对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这些情况喻示着人的生命历程中的几种状况，显示了人生的丰富多彩：人生总是幸福与苦难、顺利与曲折相伴而随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文本框 8198"/>
          <p:cNvSpPr/>
          <p:nvPr/>
        </p:nvSpPr>
        <p:spPr>
          <a:xfrm>
            <a:off x="1044720" y="117360"/>
            <a:ext cx="504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0" descr="kinok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826160" y="-360"/>
            <a:ext cx="431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生命的规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67280" y="1052640"/>
            <a:ext cx="4752720" cy="5472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Times New Roman"/>
                <a:ea typeface="隶书"/>
              </a:rPr>
              <a:t>始而渺小、微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继而强健、壮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终而归于消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其间幸福与苦难、顺利与曲折相伴相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9" descr="bmbn04"/>
          <p:cNvPicPr/>
          <p:nvPr/>
        </p:nvPicPr>
        <p:blipFill>
          <a:blip r:embed="rId2"/>
          <a:stretch/>
        </p:blipFill>
        <p:spPr>
          <a:xfrm>
            <a:off x="7956720" y="5950080"/>
            <a:ext cx="934920" cy="9079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1" descr="d1"/>
          <p:cNvPicPr/>
          <p:nvPr/>
        </p:nvPicPr>
        <p:blipFill>
          <a:blip r:embed="rId3"/>
          <a:stretch/>
        </p:blipFill>
        <p:spPr>
          <a:xfrm>
            <a:off x="8172360" y="476280"/>
            <a:ext cx="971640" cy="15127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2"/>
          <p:cNvSpPr/>
          <p:nvPr/>
        </p:nvSpPr>
        <p:spPr>
          <a:xfrm>
            <a:off x="1547640" y="476280"/>
            <a:ext cx="17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春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1844280" y="1380960"/>
            <a:ext cx="85140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发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1917360" y="2462040"/>
            <a:ext cx="85140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过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5"/>
          <p:cNvSpPr/>
          <p:nvPr/>
        </p:nvSpPr>
        <p:spPr>
          <a:xfrm>
            <a:off x="1844280" y="3902040"/>
            <a:ext cx="85140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入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" descr="20040203165758(1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1187280" y="83664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请学生朗读“一棵小树”部分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0000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按什么顺序写了“一棵树”？树的一生中有怎样的经历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258920" y="32846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生长顺序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1219320" y="52578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四季的不同状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990720" y="3886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生命的历程中，小树是如何度过生命的每一个阶段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ffff"/>
                </a:solidFill>
                <a:latin typeface="Times New Roman"/>
                <a:ea typeface="华文细黑"/>
              </a:rPr>
              <a:t>一棵小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4" descr="200437213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-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00"/>
                </a:solidFill>
                <a:latin typeface="Times New Roman"/>
                <a:ea typeface="华文细黑"/>
              </a:rPr>
              <a:t>满树繁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大树"/>
          <p:cNvPicPr/>
          <p:nvPr/>
        </p:nvPicPr>
        <p:blipFill>
          <a:blip r:embed="rId1"/>
          <a:stretch/>
        </p:blipFill>
        <p:spPr>
          <a:xfrm>
            <a:off x="-61272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5"/>
          <p:cNvSpPr/>
          <p:nvPr/>
        </p:nvSpPr>
        <p:spPr>
          <a:xfrm>
            <a:off x="250920" y="620640"/>
            <a:ext cx="40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茂盛荫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果实累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icture 1028" descr="pinggguo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落叶枯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5676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4" descr="xinjiang"/>
          <p:cNvPicPr/>
          <p:nvPr/>
        </p:nvPicPr>
        <p:blipFill>
          <a:blip r:embed="rId2"/>
          <a:stretch/>
        </p:blipFill>
        <p:spPr>
          <a:xfrm>
            <a:off x="685800" y="609480"/>
            <a:ext cx="6172200" cy="571500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5">
            <a:hlinkClick r:id="" action="ppaction://hlinkshowjump?jump=firstslide"/>
          </p:cNvPr>
          <p:cNvSpPr/>
          <p:nvPr/>
        </p:nvSpPr>
        <p:spPr>
          <a:xfrm>
            <a:off x="8229600" y="5943600"/>
            <a:ext cx="687240" cy="687240"/>
          </a:xfrm>
          <a:custGeom>
            <a:avLst/>
            <a:gdLst>
              <a:gd name="textAreaLeft" fmla="*/ 44280 w 687240"/>
              <a:gd name="textAreaRight" fmla="*/ 642960 w 687240"/>
              <a:gd name="textAreaTop" fmla="*/ 44280 h 687240"/>
              <a:gd name="textAreaBottom" fmla="*/ 642960 h 68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1028" descr="XC204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8" descr="PIC_0055"/>
          <p:cNvPicPr/>
          <p:nvPr/>
        </p:nvPicPr>
        <p:blipFill>
          <a:blip r:embed="rId1"/>
          <a:stretch/>
        </p:blipFill>
        <p:spPr>
          <a:xfrm>
            <a:off x="0" y="678816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5"/>
          <p:cNvSpPr/>
          <p:nvPr/>
        </p:nvSpPr>
        <p:spPr>
          <a:xfrm>
            <a:off x="2679840" y="36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9" descr="xinjiang"/>
          <p:cNvPicPr/>
          <p:nvPr/>
        </p:nvPicPr>
        <p:blipFill>
          <a:blip r:embed="rId2"/>
          <a:stretch/>
        </p:blipFill>
        <p:spPr>
          <a:xfrm>
            <a:off x="0" y="6858000"/>
            <a:ext cx="9144000" cy="1000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0" descr="sm060"/>
          <p:cNvPicPr/>
          <p:nvPr/>
        </p:nvPicPr>
        <p:blipFill>
          <a:blip r:embed="rId3"/>
          <a:stretch/>
        </p:blipFill>
        <p:spPr>
          <a:xfrm>
            <a:off x="0" y="0"/>
            <a:ext cx="611964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1"/>
          <p:cNvSpPr/>
          <p:nvPr/>
        </p:nvSpPr>
        <p:spPr>
          <a:xfrm>
            <a:off x="5580000" y="0"/>
            <a:ext cx="3564000" cy="2043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段难看的树桩不知遭遇了什么情状竟断裂、枯干、粗糙，让人很容易想到死亡，然而，就在它那断裂、枯烂、粗糙的身躯上竟长出了两棵幼嫩的翠绿的新芽！我们能不油然而生出一种感动、一种感慨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4581360" y="533520"/>
            <a:ext cx="456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名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：谢婉莹，福建长乐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：诗集有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繁星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春水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冰心诗集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海文艺出版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开始出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卷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冰心文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创作的绝大部分作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7" descr="cartoon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3-5"/>
          <p:cNvPicPr/>
          <p:nvPr/>
        </p:nvPicPr>
        <p:blipFill>
          <a:blip r:embed="rId2"/>
          <a:stretch/>
        </p:blipFill>
        <p:spPr>
          <a:xfrm>
            <a:off x="4800600" y="2852640"/>
            <a:ext cx="43434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1028" descr="bmb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1045"/>
          <p:cNvSpPr/>
          <p:nvPr/>
        </p:nvSpPr>
        <p:spPr>
          <a:xfrm>
            <a:off x="1908000" y="2060640"/>
            <a:ext cx="64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46"/>
          <p:cNvSpPr/>
          <p:nvPr/>
        </p:nvSpPr>
        <p:spPr>
          <a:xfrm>
            <a:off x="1877400" y="115920"/>
            <a:ext cx="5900040" cy="5943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早春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勇敢快乐的破壳而出       人生的幼年时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顽强的生命力）          （朝气蓬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春天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开出满树的桃花                青年时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夏日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伸展出他如盖的浓荫        中年时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秋日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有一番庄严灿烂                老年时期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冬日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黄叶干枝，卷落吹抖        生命的终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从地下的果仁中破裂出来         新生命的继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4" descr="20040205114703(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5"/>
          <p:cNvSpPr/>
          <p:nvPr/>
        </p:nvSpPr>
        <p:spPr>
          <a:xfrm>
            <a:off x="324000" y="54936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通过“一棵小树”的经历，使我们得到哪些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900000" y="27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几个连续的阶段，勾画着或喻示人的生命历程，生命的规律就是从渺小微弱，继而强健壮大，最终归于消亡。生命始终向前发展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蓬勃生长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这是任何力量都不可阻挡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5" descr="glvbc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4"/>
          <p:cNvSpPr/>
          <p:nvPr/>
        </p:nvSpPr>
        <p:spPr>
          <a:xfrm>
            <a:off x="395280" y="1273320"/>
            <a:ext cx="3095640" cy="3385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生命中不是永远快乐，也不是永远痛苦，快乐和痛苦是相生相成的，在快乐中我们要感谢生命，在痛苦中我们也要感谢生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5003640" y="1700280"/>
            <a:ext cx="3276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生命中充满喜怒哀乐但无论是痛苦还是快乐，都是我们生命中一部分。都同样丰富着我们的人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611280" y="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能从这最后一层中找出一位世纪老人的肺腑之言吗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4" descr="20040203165944(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6"/>
          <p:cNvSpPr/>
          <p:nvPr/>
        </p:nvSpPr>
        <p:spPr>
          <a:xfrm>
            <a:off x="826920" y="692280"/>
            <a:ext cx="792036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一篇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散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本文所涉及的是一个很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抽象的话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作者是如何将它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生动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形象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762120" y="24382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选择合适的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描述“一江春水”、“一棵小树”的行进和生长现象，生动形象，蕴藉含蓄，给人以审美的享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语言明朗、灵动、蕴藉，有韵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描绘了两幅跨越时空的滚动条画，贯穿两幅画面始终的是作者对生命深刻的感悟和由衷的礼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4" descr="20040203165944(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5"/>
          <p:cNvSpPr/>
          <p:nvPr/>
        </p:nvSpPr>
        <p:spPr>
          <a:xfrm>
            <a:off x="971640" y="76500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本文在章法上颇具匠心，使用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间隔反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手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让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然而我不敢说来生，也不敢信来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一语构成明线，两幅画后面，作者都用了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他消融了，归化了，说不上快乐，也没有悲哀！也许有一天，他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整齐的形式。稍有变化的语句，既归结了每段内容，又共同强调了生命最终回归大自然怀抱和新陈代谢的必然规律，使两幅画在内容上构成一个有机的整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2" descr="FR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4"/>
          <p:cNvSpPr/>
          <p:nvPr/>
        </p:nvSpPr>
        <p:spPr>
          <a:xfrm>
            <a:off x="448920" y="0"/>
            <a:ext cx="15210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想象和联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2050920" y="1773360"/>
            <a:ext cx="52578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作者把生命比做水和树，你呢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2124000" y="2852640"/>
            <a:ext cx="5112000" cy="19940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是否能联想到某些名句  来加深感悟吗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请用下列格式说话：“我感受到，生命因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而美丽”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1625760" y="457200"/>
            <a:ext cx="3198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能仿照下句写句话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533520" y="1752480"/>
            <a:ext cx="7483320" cy="8251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愿你生命中有够多的云翳，来造成一个美丽的黄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609480" y="37339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你生命中有丰富的色彩，来描绘一幅壮丽的画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你生命中有动人的音符，来谱写一支雄壮的歌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bmbn00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5"/>
          <p:cNvSpPr/>
          <p:nvPr/>
        </p:nvSpPr>
        <p:spPr>
          <a:xfrm>
            <a:off x="250920" y="189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生命像一朵纯洁无瑕的雪花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原本是那空中洁白的云朵，那里，有她无数的兄弟姐妹。她飘在这世界的最高处，望着世上的一草一木，人世间的一举一动，地球的一分一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云儿在空中，在空中无忧无虑地飘浮、游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受任何拘束。承受着阳光的照耀，接受着微风的轻抚，享受着月光的沐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突然，有一天，来自远方的寒风，呼啸着来了，他怒吼着，无情地向云朵吹刮了过来。然而，云儿没有躲避，没有逃跑，而是，而是坦然地面对寒风，与他作顽强的斗争，无数个水分子簇拥在一起，紧紧地抱成一团，形成了雪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寒风被雪花吞噬了，她们开始下降，轻轻的，缓缓的，柔柔的，无声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们互相碰撞着、拥抱着、亲吻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，她们投入了大地的怀抱，落入了水塘、小河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消融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3" descr="大海2"/>
          <p:cNvPicPr/>
          <p:nvPr/>
        </p:nvPicPr>
        <p:blipFill>
          <a:blip r:embed="rId2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4"/>
          <p:cNvSpPr/>
          <p:nvPr/>
        </p:nvSpPr>
        <p:spPr>
          <a:xfrm>
            <a:off x="4534200" y="1676520"/>
            <a:ext cx="688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生命像一江向东流的春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生命像一棵历经四时的小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生命是一泓忍不住要喷涌的泉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生命是一双灿烂着想象的翅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228600" y="914400"/>
            <a:ext cx="7848720" cy="448092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文章揭示生命由生长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壮大再到衰弱的过程和一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规律，以及生命中的苦痛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幸福相生相伴的共同法则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表达了生命不止奋斗不息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意志和豁达乐观的精神。</a:t>
            </a:r>
            <a:r>
              <a:rPr b="1" lang="zh-CN" sz="4800" spc="-1" strike="noStrike">
                <a:solidFill>
                  <a:srgbClr val="00cc66"/>
                </a:solidFill>
                <a:latin typeface="Times New Roman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文本框 8198"/>
          <p:cNvSpPr/>
          <p:nvPr/>
        </p:nvSpPr>
        <p:spPr>
          <a:xfrm>
            <a:off x="900000" y="549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9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掌握下列生字词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50560" y="2492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云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岩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á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羞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i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丛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ǎ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休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    骄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鸟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iā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庇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ì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  芳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ī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心魂惊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à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5" descr="FR8001"/>
          <p:cNvPicPr/>
          <p:nvPr/>
        </p:nvPicPr>
        <p:blipFill>
          <a:blip r:embed="rId1"/>
          <a:stretch/>
        </p:blipFill>
        <p:spPr>
          <a:xfrm>
            <a:off x="-396720" y="-747720"/>
            <a:ext cx="10082160" cy="760572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6"/>
          <p:cNvSpPr/>
          <p:nvPr/>
        </p:nvSpPr>
        <p:spPr>
          <a:xfrm>
            <a:off x="2340000" y="2916000"/>
            <a:ext cx="5040360" cy="173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生命是地球上最美丽的花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世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地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是因生命而精彩，而在生命创造的精彩中，人类的生命更具有其独特的价值，我们要珍爱所有生命，更要珍爱我们人类的生命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隶书"/>
              </a:rPr>
              <a:t>恩格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bmbn00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5"/>
          <p:cNvSpPr/>
          <p:nvPr/>
        </p:nvSpPr>
        <p:spPr>
          <a:xfrm>
            <a:off x="611280" y="981000"/>
            <a:ext cx="8153280" cy="55803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在生活中，我们常常会遇到一些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想不道的困难，如：父母突然下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家中经济陷入困境；你已经尽全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了，可学习成绩仍无明显改善；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想和同学搞好关系可大家都不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…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面对这些，你的情绪、思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状态是怎样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我们应当怎样去生活？为什么在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苦中我们也要感谢生命？你有过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样的体验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1042920" y="0"/>
            <a:ext cx="5029200" cy="7034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体验和反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CAA4-349C-4025-AD16-2BC80B3915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Picture 4" descr="b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5"/>
          <p:cNvSpPr/>
          <p:nvPr/>
        </p:nvSpPr>
        <p:spPr>
          <a:xfrm>
            <a:off x="3924360" y="260280"/>
            <a:ext cx="439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隶书"/>
              </a:rPr>
              <a:t>生命是珍贵而又短暂的，“酸甜苦辣都有营养，成功失败都有收获”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隶书"/>
              </a:rPr>
              <a:t>要有一种向上的精神，希望同学们，扬起奋发向上的风帆，能在你的生命长河中勇敢地藐视困难、直面人生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1481040" y="476280"/>
            <a:ext cx="1521000" cy="453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Times New Roman"/>
              </a:rPr>
              <a:t>教   师   寄    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ccbear10[1]"/>
          <p:cNvPicPr/>
          <p:nvPr/>
        </p:nvPicPr>
        <p:blipFill>
          <a:blip r:embed="rId2"/>
          <a:stretch/>
        </p:blipFill>
        <p:spPr>
          <a:xfrm>
            <a:off x="250920" y="4005360"/>
            <a:ext cx="1800000" cy="25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6" descr="sanp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3863880" y="333360"/>
            <a:ext cx="489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结构分析</a:t>
            </a:r>
            <a:endParaRPr b="0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3399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228600" y="1523880"/>
            <a:ext cx="8610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（“我不敢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像什么”）揭示话题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28600" y="2438280"/>
            <a:ext cx="8610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（“生命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不敢信来生”）描写“一江春水”的全部生命历程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228600" y="3809880"/>
            <a:ext cx="8534520" cy="1069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（“生命又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不敢信来生”）写“一棵小树”的全部生命历程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1979640" y="49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2031840" y="494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2195640" y="51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228600" y="5667480"/>
            <a:ext cx="8534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（“宇宙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结尾”）总结全文，揭示生命的本质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20040203165758(8)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826920" y="1557360"/>
            <a:ext cx="74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为什么作者用了“像”字，而不使用“是”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826920" y="3068640"/>
            <a:ext cx="741708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是什么”是下定义；“像什么”是文学性的表述，具有形象性、审美性和隐喻性的特点。 表现作者自谦，写自己的感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1042920" y="7650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分析第一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sanp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4"/>
          <p:cNvSpPr/>
          <p:nvPr/>
        </p:nvSpPr>
        <p:spPr>
          <a:xfrm>
            <a:off x="2195640" y="1628640"/>
            <a:ext cx="50418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分析“一江春水”部分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609480" y="2637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默读课文并思考：“一江春水”经历了哪些生命过程的体验？（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可用文中的关键语句回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7" descr="SR090"/>
          <p:cNvPicPr/>
          <p:nvPr/>
        </p:nvPicPr>
        <p:blipFill>
          <a:blip r:embed="rId2"/>
          <a:stretch/>
        </p:blipFill>
        <p:spPr>
          <a:xfrm>
            <a:off x="0" y="0"/>
            <a:ext cx="9360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588000" y="1371600"/>
            <a:ext cx="1943280" cy="54864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一江春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5" descr="XC204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1942920" cy="3889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奔腾怒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1324440" y="981000"/>
            <a:ext cx="16426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静流低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3784320" y="1052640"/>
            <a:ext cx="9115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催逼向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2261160" y="981000"/>
            <a:ext cx="16426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浑浊扰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4" descr="sp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7313400" y="14986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隶书"/>
              </a:rPr>
              <a:t>流入大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8:01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36Z</dcterms:modified>
  <cp:revision>16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