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9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14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0.jpeg" ContentType="image/jpeg"/>
  <Override PartName="/ppt/media/image24.jpeg" ContentType="image/jpeg"/>
  <Override PartName="/ppt/media/image5.png" ContentType="image/png"/>
  <Override PartName="/ppt/media/image43.jpeg" ContentType="image/jpeg"/>
  <Override PartName="/ppt/media/image8.png" ContentType="image/png"/>
  <Override PartName="/ppt/media/image3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C30-569A-4455-800B-1E017747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8DB-C9F3-4CED-85CB-A9E3725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64D-E5DF-44EF-949B-6A20B020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6EF-B14F-4185-AAF3-E9CA196D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489-80EE-4DA7-A535-6C9FC2E4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E0B-CA76-48F6-9EDD-2B8397DE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377-0361-4413-93F2-4DDCCAB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DA0D-EE3E-4B27-83C8-92B36341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5B4A-7C1F-40F6-914B-2925677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2871-CA3B-4DA1-B467-68F64BAE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9163-7A20-4DEC-94ED-6A982DB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773-0A86-4A59-B15E-F5F6735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493E-80C3-4A34-B58F-C531B9C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CC1-762F-4A54-8B09-4335007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0295-1634-4F2D-A461-6F91BCED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C38-93A5-4E4B-8159-6F7763F4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6A6-07D7-44C5-852E-40F59D8B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3B92-8B36-4DD7-B263-A225D310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65B3-44FE-4E64-9F1A-1F411813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D07A-36B5-44BD-BB03-18B60DC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7F6E-34E6-468E-90A8-CA701774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995D-701F-4562-B119-24FA3072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0D7-A777-49B8-BD8F-1B1677E3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B2B3-274F-485D-A600-35FEF046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D824-3D54-4D84-A23F-E0329E55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EE5B-81E2-4D01-B7DD-46DBA1D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D565-4B25-46B5-A174-ED10A87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5452-753B-4045-BF02-FE082DB0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C02A-B7A8-45F4-B33E-D1362C0B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795A-588D-4B87-AF8F-1AE9EBD9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5A21C-A098-4957-BA58-BF84A77E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E259-0DBC-4725-A1F7-2CEA66B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0D962-72D6-45ED-9A9B-BC2135C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C29-CFF0-4652-BFA4-E21BAF72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D9D2-6ABF-4F42-9DC9-8C8C8BE8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0FED-E401-49C2-81CD-1FF8A82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871A-05E4-4A98-8033-7A54B78E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65B6-D549-403D-8785-1959F62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11D7-97B6-4F6E-8476-4C23ED9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D644-A35C-4175-AB4C-3C4F9EA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F061-9A52-40C3-9273-2572383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0515-4B36-4DAD-9263-0CCC40E5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D4BC-8556-4DE3-AD5C-21E4581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1076-67A6-4278-88C6-BC370E46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D11-B457-4D3D-A7F5-96C8CF3A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5F3D-7BA0-4385-800C-09B94C5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8212-EB92-4556-818E-967717C0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D146-A6BE-4D10-A664-A55E8738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89E7-0256-4B26-A484-D0B7905A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F627-35CC-4CAF-889D-A205D6D5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DAD5A-17ED-4D1D-9AD1-A1621A4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B4FB-7A83-4371-B813-AEF58E99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D4D3-DA51-4A5D-B7B0-66C0081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FA45-8721-43DE-824C-0DC5A24D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96FA-D257-4BE5-B4C0-B8A8AD6E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7AB-1876-41E4-8DD5-E6934287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2E7A-7010-43B7-9C65-F25BFC8A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C10A-6E2E-41EF-B298-E449BB4B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53AAE-5177-4494-9999-D6BF90F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6DF9-B500-4010-A44D-7EF953C4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5DC9-C17C-4B3A-87DF-7EBBFE51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F921-6555-4B79-8CC6-40346999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03BF-CA29-4ED1-B2A3-78390B68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E271-7E31-4514-894B-AF77E65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69DC-65FF-47CA-994D-A1FBE21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E288D-0C2A-4041-85AB-FB6CA62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B6E-475C-4848-A53A-8D42D7E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F1BF3-F239-4CEB-8394-15332AB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25EC1-7A67-493F-8B0E-8A6AB5DA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82CD-2F20-4E43-B65E-1D108368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71E-5A3D-4249-A4B7-00BDE31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44F-F141-42A2-9178-22B9F5AE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3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华文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4FC-DA8E-48BC-A5B3-867BD98EF8B3}" type="slidenum">
              <a:rPr b="1" lang="en-US" sz="1200" spc="-1" strike="noStrike">
                <a:solidFill>
                  <a:srgbClr val="7f7f7f"/>
                </a:solidFill>
                <a:latin typeface="华文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253A-DB4C-453F-BB6D-2E813CD482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10" descr=""/>
          <p:cNvPicPr/>
          <p:nvPr/>
        </p:nvPicPr>
        <p:blipFill>
          <a:blip r:embed="rId3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89" name="Oval 13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华文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171C-6579-4D8B-BDAD-345A6ACC9E20}" type="slidenum">
              <a:rPr b="1" lang="en-US" sz="1200" spc="-1" strike="noStrike">
                <a:solidFill>
                  <a:srgbClr val="7f7f7f"/>
                </a:solidFill>
                <a:latin typeface="华文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134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6" descr=""/>
          <p:cNvPicPr/>
          <p:nvPr/>
        </p:nvPicPr>
        <p:blipFill>
          <a:blip r:embed="rId6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7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138" name="Oval 9" descr=""/>
          <p:cNvPicPr/>
          <p:nvPr/>
        </p:nvPicPr>
        <p:blipFill>
          <a:blip r:embed="rId8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华文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C6C-575D-497E-909C-62B5CBE66EC7}" type="slidenum">
              <a:rPr b="1" lang="en-US" sz="1200" spc="-1" strike="noStrike">
                <a:solidFill>
                  <a:srgbClr val="7f7f7f"/>
                </a:solidFill>
                <a:latin typeface="华文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7" descr=""/>
          <p:cNvPicPr/>
          <p:nvPr/>
        </p:nvPicPr>
        <p:blipFill>
          <a:blip r:embed="rId3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183" name="Oval 10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华文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B572-7FAF-49BF-ADA9-1D5AAF528E95}" type="slidenum">
              <a:rPr b="1" lang="en-US" sz="1200" spc="-1" strike="noStrike">
                <a:solidFill>
                  <a:srgbClr val="7f7f7f"/>
                </a:solidFill>
                <a:latin typeface="华文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228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华文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DB74-1F8A-4241-8D87-E2003780A75B}" type="slidenum">
              <a:rPr b="1" lang="en-US" sz="1200" spc="-1" strike="noStrike">
                <a:solidFill>
                  <a:srgbClr val="7f7f7f"/>
                </a:solidFill>
                <a:latin typeface="华文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4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836640" y="9079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铁生锈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1197000" y="2637000"/>
            <a:ext cx="6696000" cy="3024000"/>
          </a:xfrm>
          <a:prstGeom prst="flowChartDecision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72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95280" y="47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Trebuchet MS"/>
              </a:rPr>
              <a:t>我们还有什么证据来证明自己的观点？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5" name="Picture 3" descr="35"/>
          <p:cNvPicPr/>
          <p:nvPr/>
        </p:nvPicPr>
        <p:blipFill>
          <a:blip r:embed="rId1"/>
          <a:stretch/>
        </p:blipFill>
        <p:spPr>
          <a:xfrm>
            <a:off x="2050920" y="1557360"/>
            <a:ext cx="5183280" cy="24526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36"/>
          <p:cNvPicPr/>
          <p:nvPr/>
        </p:nvPicPr>
        <p:blipFill>
          <a:blip r:embed="rId2"/>
          <a:stretch/>
        </p:blipFill>
        <p:spPr>
          <a:xfrm>
            <a:off x="4610160" y="4010040"/>
            <a:ext cx="4533840" cy="2847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37"/>
          <p:cNvPicPr/>
          <p:nvPr/>
        </p:nvPicPr>
        <p:blipFill>
          <a:blip r:embed="rId3"/>
          <a:stretch/>
        </p:blipFill>
        <p:spPr>
          <a:xfrm>
            <a:off x="0" y="4029120"/>
            <a:ext cx="4581360" cy="2828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38副本"/>
          <p:cNvPicPr/>
          <p:nvPr/>
        </p:nvPicPr>
        <p:blipFill>
          <a:blip r:embed="rId4"/>
          <a:stretch/>
        </p:blipFill>
        <p:spPr>
          <a:xfrm>
            <a:off x="2744640" y="2060640"/>
            <a:ext cx="6399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539640" y="1916280"/>
          <a:ext cx="8305920" cy="4100400"/>
        </p:xfrm>
        <a:graphic>
          <a:graphicData uri="http://schemas.openxmlformats.org/drawingml/2006/table">
            <a:tbl>
              <a:tblPr/>
              <a:tblGrid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  <a:gridCol w="1038240"/>
              </a:tblGrid>
              <a:tr h="13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光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空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手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敲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导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磁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铁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铁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文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Text Box 40"/>
          <p:cNvSpPr/>
          <p:nvPr/>
        </p:nvSpPr>
        <p:spPr>
          <a:xfrm>
            <a:off x="2411280" y="1052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铁片和铁锈比较记录表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1" name="Text Box 41"/>
          <p:cNvSpPr/>
          <p:nvPr/>
        </p:nvSpPr>
        <p:spPr>
          <a:xfrm>
            <a:off x="1547640" y="3284640"/>
            <a:ext cx="10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灰白色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1547640" y="4653000"/>
            <a:ext cx="10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棕红色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3" name="Text Box 43"/>
          <p:cNvSpPr/>
          <p:nvPr/>
        </p:nvSpPr>
        <p:spPr>
          <a:xfrm>
            <a:off x="2627280" y="3357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4" name="Text Box 44"/>
          <p:cNvSpPr/>
          <p:nvPr/>
        </p:nvSpPr>
        <p:spPr>
          <a:xfrm>
            <a:off x="2627280" y="47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5" name="Text Box 45"/>
          <p:cNvSpPr/>
          <p:nvPr/>
        </p:nvSpPr>
        <p:spPr>
          <a:xfrm>
            <a:off x="3635280" y="47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6" name="Text Box 46"/>
          <p:cNvSpPr/>
          <p:nvPr/>
        </p:nvSpPr>
        <p:spPr>
          <a:xfrm>
            <a:off x="3635280" y="3357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7" name="Text Box 47"/>
          <p:cNvSpPr/>
          <p:nvPr/>
        </p:nvSpPr>
        <p:spPr>
          <a:xfrm>
            <a:off x="471636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光滑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8" name="Text Box 48"/>
          <p:cNvSpPr/>
          <p:nvPr/>
        </p:nvSpPr>
        <p:spPr>
          <a:xfrm>
            <a:off x="4716360" y="47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粗糙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19" name="Text Box 49"/>
          <p:cNvSpPr/>
          <p:nvPr/>
        </p:nvSpPr>
        <p:spPr>
          <a:xfrm>
            <a:off x="5724360" y="3500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较韧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20" name="Text Box 50"/>
          <p:cNvSpPr/>
          <p:nvPr/>
        </p:nvSpPr>
        <p:spPr>
          <a:xfrm>
            <a:off x="5724360" y="47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较脆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21" name="Text Box 51"/>
          <p:cNvSpPr/>
          <p:nvPr/>
        </p:nvSpPr>
        <p:spPr>
          <a:xfrm>
            <a:off x="6732720" y="3357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导电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22" name="Text Box 52"/>
          <p:cNvSpPr/>
          <p:nvPr/>
        </p:nvSpPr>
        <p:spPr>
          <a:xfrm>
            <a:off x="6804000" y="47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易导电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23" name="Text Box 53"/>
          <p:cNvSpPr/>
          <p:nvPr/>
        </p:nvSpPr>
        <p:spPr>
          <a:xfrm>
            <a:off x="7812000" y="3357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吸引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24" name="Text Box 54"/>
          <p:cNvSpPr/>
          <p:nvPr/>
        </p:nvSpPr>
        <p:spPr>
          <a:xfrm>
            <a:off x="7812000" y="486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能吸引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25" name="Rectangle 55"/>
          <p:cNvSpPr/>
          <p:nvPr/>
        </p:nvSpPr>
        <p:spPr>
          <a:xfrm>
            <a:off x="539640" y="2276640"/>
            <a:ext cx="8280360" cy="26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通过观察比较，我们得出什么结论了吗？铁生锈是化学变化吗？</a:t>
            </a:r>
            <a:endParaRPr b="0" lang="en-US" sz="36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971640" y="1197000"/>
            <a:ext cx="743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eccf3"/>
                </a:solidFill>
                <a:latin typeface="方正姚体"/>
                <a:ea typeface="方正姚体"/>
              </a:rPr>
              <a:t>        </a:t>
            </a:r>
            <a:r>
              <a:rPr b="1" lang="zh-CN" sz="4800" spc="-1" strike="noStrike">
                <a:solidFill>
                  <a:srgbClr val="5eccf3"/>
                </a:solidFill>
                <a:latin typeface="方正姚体"/>
                <a:ea typeface="方正姚体"/>
              </a:rPr>
              <a:t>纯的铁锈是不能被磁铁吸引的。我们日常生活中的铁锈里面还含有铁的成分，不是纯铁锈，因此我们手中的铁锈是能被磁铁吸引的。</a:t>
            </a:r>
            <a:endParaRPr b="0" lang="en-US" sz="48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793880" y="4281480"/>
            <a:ext cx="6594480" cy="1233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Trebuchet MS"/>
              </a:rPr>
              <a:t>铁为什么生锈？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Trebuchet MS"/>
              </a:rPr>
              <a:t>铁生锈与什么因素有关呢？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Trebuchet MS"/>
              </a:rPr>
              <a:t>我们来设计实验验证自己的假设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9" name="Picture 4" descr="39"/>
          <p:cNvPicPr/>
          <p:nvPr/>
        </p:nvPicPr>
        <p:blipFill>
          <a:blip r:embed="rId2"/>
          <a:stretch/>
        </p:blipFill>
        <p:spPr>
          <a:xfrm>
            <a:off x="2916360" y="3705120"/>
            <a:ext cx="4819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研究的问题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我们的假设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实验材料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实验方法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</a:rPr>
              <a:t>观察到的现象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</a:rPr>
              <a:t>实验结果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203640" y="83664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铁生锈与空气有关吗？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095640" y="1341360"/>
            <a:ext cx="60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ecc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eccf3"/>
                </a:solidFill>
                <a:latin typeface="Arial"/>
                <a:ea typeface="楷体_GB2312"/>
              </a:rPr>
              <a:t>铁生锈与空气有关。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843280" y="20606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试管、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、菜油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684360" y="2565360"/>
            <a:ext cx="7489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用同样大小的试管，其中两个分别装上水、菜油。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把一枚铁钉放在空试管中与空气接触，另一枚铁钉完全浸没在菜油里，还有一枚铁钉一半放在水里。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每天观察记录一次。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SC02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1600200" y="22860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盐酸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124080" y="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盐水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019920" y="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空气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339" name="Text Box 6" descr=""/>
          <p:cNvPicPr/>
          <p:nvPr/>
        </p:nvPicPr>
        <p:blipFill>
          <a:blip r:embed="rId2"/>
          <a:stretch/>
        </p:blipFill>
        <p:spPr>
          <a:xfrm>
            <a:off x="3854520" y="249120"/>
            <a:ext cx="717480" cy="6746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7180560" y="22860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干燥剂和棉花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0" y="304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第一天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4" name="Picture 4" descr="DSC02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3808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 天后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6c7aa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56c7aa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ext Box 5" descr=""/>
          <p:cNvPicPr/>
          <p:nvPr/>
        </p:nvPicPr>
        <p:blipFill>
          <a:blip r:embed="rId1"/>
          <a:stretch/>
        </p:blipFill>
        <p:spPr>
          <a:xfrm>
            <a:off x="838080" y="812880"/>
            <a:ext cx="990720" cy="977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3" descr="DSC0299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762120" y="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七天后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3623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4dcfa"/>
                </a:solidFill>
                <a:latin typeface="Times New Roman"/>
                <a:ea typeface="宋体"/>
              </a:rPr>
              <a:t>食盐水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4267080" y="914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4dcfa"/>
                </a:solidFill>
                <a:latin typeface="Times New Roman"/>
                <a:ea typeface="宋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624852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4dcfa"/>
                </a:solidFill>
                <a:latin typeface="Times New Roman"/>
                <a:ea typeface="宋体"/>
              </a:rPr>
              <a:t>空气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7924680" y="914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4dcfa"/>
                </a:solidFill>
                <a:latin typeface="Times New Roman"/>
                <a:ea typeface="宋体"/>
              </a:rPr>
              <a:t>干燥剂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292400" y="1268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铁制品的防护措施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447920" y="28195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防止铁生锈的原理－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就是破坏铁生锈的条件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5334120" y="2743200"/>
            <a:ext cx="2743200" cy="1600200"/>
            <a:chOff x="5334120" y="2743200"/>
            <a:chExt cx="2743200" cy="1600200"/>
          </a:xfrm>
        </p:grpSpPr>
        <p:sp>
          <p:nvSpPr>
            <p:cNvPr id="358" name="AutoShape 5"/>
            <p:cNvSpPr/>
            <p:nvPr/>
          </p:nvSpPr>
          <p:spPr>
            <a:xfrm>
              <a:off x="5334120" y="2743200"/>
              <a:ext cx="304920" cy="16002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  <p:sp>
          <p:nvSpPr>
            <p:cNvPr id="359" name="Text Box 6"/>
            <p:cNvSpPr/>
            <p:nvPr/>
          </p:nvSpPr>
          <p:spPr>
            <a:xfrm>
              <a:off x="5639040" y="2895840"/>
              <a:ext cx="24382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①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隔绝空气</a:t>
              </a:r>
              <a:endParaRPr b="0" lang="en-US" sz="2800" spc="-1" strike="noStrike">
                <a:solidFill>
                  <a:srgbClr val="000000"/>
                </a:solidFill>
                <a:latin typeface="华文宋体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②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隔绝水</a:t>
              </a:r>
              <a:endParaRPr b="0" lang="en-US" sz="28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0" y="5157720"/>
            <a:ext cx="8993160" cy="131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0" y="1413000"/>
            <a:ext cx="8993160" cy="38192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6"/>
          <p:cNvSpPr/>
          <p:nvPr/>
        </p:nvSpPr>
        <p:spPr>
          <a:xfrm>
            <a:off x="1619280" y="403560"/>
            <a:ext cx="568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实验记录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员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宋体"/>
                <a:ea typeface="Times New Roman"/>
              </a:rPr>
              <a:t>     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宋体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79280" y="263700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</a:rPr>
              <a:t>我们选择的情况</a:t>
            </a:r>
            <a:endParaRPr b="0" lang="en-US" sz="28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1763640" y="4232160"/>
            <a:ext cx="6647040" cy="1587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Trebuchet MS"/>
              </a:rPr>
              <a:t>生活中，你看见过生锈的东西么？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Trebuchet MS"/>
              </a:rPr>
              <a:t>它们可能出现在什么地方？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4" descr="图片1"/>
          <p:cNvPicPr/>
          <p:nvPr/>
        </p:nvPicPr>
        <p:blipFill>
          <a:blip r:embed="rId2"/>
          <a:stretch/>
        </p:blipFill>
        <p:spPr>
          <a:xfrm>
            <a:off x="680400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WordArt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8569080" cy="290664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7"/>
          <p:cNvGrpSpPr/>
          <p:nvPr/>
        </p:nvGrpSpPr>
        <p:grpSpPr>
          <a:xfrm>
            <a:off x="900000" y="4221000"/>
            <a:ext cx="2305080" cy="2305080"/>
            <a:chOff x="900000" y="4221000"/>
            <a:chExt cx="2305080" cy="2305080"/>
          </a:xfrm>
        </p:grpSpPr>
        <p:sp>
          <p:nvSpPr>
            <p:cNvPr id="366" name="Oval 5"/>
            <p:cNvSpPr/>
            <p:nvPr/>
          </p:nvSpPr>
          <p:spPr>
            <a:xfrm>
              <a:off x="900000" y="4221000"/>
              <a:ext cx="2305080" cy="2305080"/>
            </a:xfrm>
            <a:prstGeom prst="ellipse">
              <a:avLst/>
            </a:prstGeom>
            <a:noFill/>
            <a:ln w="254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58920" y="4581360"/>
              <a:ext cx="1584360" cy="1584360"/>
              <a:chOff x="1258920" y="4581360"/>
              <a:chExt cx="1584360" cy="1584360"/>
            </a:xfrm>
          </p:grpSpPr>
          <p:sp>
            <p:nvSpPr>
              <p:cNvPr id="368" name="Line 6"/>
              <p:cNvSpPr/>
              <p:nvPr/>
            </p:nvSpPr>
            <p:spPr>
              <a:xfrm>
                <a:off x="1258920" y="4581360"/>
                <a:ext cx="1584360" cy="1584360"/>
              </a:xfrm>
              <a:prstGeom prst="line">
                <a:avLst/>
              </a:prstGeom>
              <a:ln w="254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华文宋体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1258920" y="4581360"/>
                <a:ext cx="158436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华文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3"/>
          <p:cNvGrpSpPr/>
          <p:nvPr/>
        </p:nvGrpSpPr>
        <p:grpSpPr>
          <a:xfrm>
            <a:off x="670320" y="643680"/>
            <a:ext cx="3569400" cy="4291560"/>
            <a:chOff x="670320" y="643680"/>
            <a:chExt cx="3569400" cy="4291560"/>
          </a:xfrm>
        </p:grpSpPr>
        <p:pic>
          <p:nvPicPr>
            <p:cNvPr id="371" name="Picture 4" descr="生锈的铁钉"/>
            <p:cNvPicPr/>
            <p:nvPr/>
          </p:nvPicPr>
          <p:blipFill>
            <a:blip r:embed="rId1"/>
            <a:stretch/>
          </p:blipFill>
          <p:spPr>
            <a:xfrm rot="1096800">
              <a:off x="1115640" y="981000"/>
              <a:ext cx="2678040" cy="32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5"/>
            <p:cNvSpPr/>
            <p:nvPr/>
          </p:nvSpPr>
          <p:spPr>
            <a:xfrm>
              <a:off x="1116000" y="429264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00"/>
                  </a:solidFill>
                  <a:latin typeface="Arial"/>
                  <a:ea typeface="隶书"/>
                </a:rPr>
                <a:t>铁钉</a:t>
              </a:r>
              <a:endParaRPr b="0" lang="en-US" sz="36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  <p:grpSp>
        <p:nvGrpSpPr>
          <p:cNvPr id="373" name="Group 6"/>
          <p:cNvGrpSpPr/>
          <p:nvPr/>
        </p:nvGrpSpPr>
        <p:grpSpPr>
          <a:xfrm>
            <a:off x="3032280" y="3896640"/>
            <a:ext cx="4926960" cy="2961360"/>
            <a:chOff x="3032280" y="3896640"/>
            <a:chExt cx="4926960" cy="2961360"/>
          </a:xfrm>
        </p:grpSpPr>
        <p:pic>
          <p:nvPicPr>
            <p:cNvPr id="374" name="Picture 7" descr="生锈的铁塞子"/>
            <p:cNvPicPr/>
            <p:nvPr/>
          </p:nvPicPr>
          <p:blipFill>
            <a:blip r:embed="rId2"/>
            <a:stretch/>
          </p:blipFill>
          <p:spPr>
            <a:xfrm rot="20875800">
              <a:off x="4427640" y="4220640"/>
              <a:ext cx="333684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8"/>
            <p:cNvSpPr/>
            <p:nvPr/>
          </p:nvSpPr>
          <p:spPr>
            <a:xfrm>
              <a:off x="3032280" y="5661000"/>
              <a:ext cx="127764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00"/>
                  </a:solidFill>
                  <a:latin typeface="Arial"/>
                  <a:ea typeface="隶书"/>
                </a:rPr>
                <a:t>铁塞</a:t>
              </a:r>
              <a:endParaRPr b="0" lang="en-US" sz="36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  <p:grpSp>
        <p:nvGrpSpPr>
          <p:cNvPr id="376" name="Group 9"/>
          <p:cNvGrpSpPr/>
          <p:nvPr/>
        </p:nvGrpSpPr>
        <p:grpSpPr>
          <a:xfrm>
            <a:off x="5093280" y="679680"/>
            <a:ext cx="3424320" cy="3031560"/>
            <a:chOff x="5093280" y="679680"/>
            <a:chExt cx="3424320" cy="3031560"/>
          </a:xfrm>
        </p:grpSpPr>
        <p:pic>
          <p:nvPicPr>
            <p:cNvPr id="377" name="Picture 10" descr="生锈的铁栅栏"/>
            <p:cNvPicPr/>
            <p:nvPr/>
          </p:nvPicPr>
          <p:blipFill>
            <a:blip r:embed="rId3"/>
            <a:stretch/>
          </p:blipFill>
          <p:spPr>
            <a:xfrm rot="21420000">
              <a:off x="5148000" y="764640"/>
              <a:ext cx="331452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11"/>
            <p:cNvSpPr/>
            <p:nvPr/>
          </p:nvSpPr>
          <p:spPr>
            <a:xfrm>
              <a:off x="6084720" y="306864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00"/>
                  </a:solidFill>
                  <a:latin typeface="Arial"/>
                  <a:ea typeface="隶书"/>
                </a:rPr>
                <a:t>铁栅栏</a:t>
              </a:r>
              <a:endParaRPr b="0" lang="en-US" sz="36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生锈的钢铁"/>
          <p:cNvPicPr/>
          <p:nvPr/>
        </p:nvPicPr>
        <p:blipFill>
          <a:blip r:embed="rId1"/>
          <a:stretch/>
        </p:blipFill>
        <p:spPr>
          <a:xfrm>
            <a:off x="3276720" y="2565360"/>
            <a:ext cx="2771640" cy="1874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生锈的暖气片"/>
          <p:cNvPicPr/>
          <p:nvPr/>
        </p:nvPicPr>
        <p:blipFill>
          <a:blip r:embed="rId2"/>
          <a:stretch/>
        </p:blipFill>
        <p:spPr>
          <a:xfrm rot="21232800">
            <a:off x="5759280" y="333000"/>
            <a:ext cx="3384720" cy="2257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锈钉"/>
          <p:cNvPicPr/>
          <p:nvPr/>
        </p:nvPicPr>
        <p:blipFill>
          <a:blip r:embed="rId3"/>
          <a:stretch/>
        </p:blipFill>
        <p:spPr>
          <a:xfrm rot="831600">
            <a:off x="1042560" y="1557360"/>
            <a:ext cx="2131920" cy="2301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生锈的铁栅栏"/>
          <p:cNvPicPr/>
          <p:nvPr/>
        </p:nvPicPr>
        <p:blipFill>
          <a:blip r:embed="rId4"/>
          <a:stretch/>
        </p:blipFill>
        <p:spPr>
          <a:xfrm rot="416400">
            <a:off x="395280" y="4437000"/>
            <a:ext cx="3314880" cy="2185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生锈的铁塞子"/>
          <p:cNvPicPr/>
          <p:nvPr/>
        </p:nvPicPr>
        <p:blipFill>
          <a:blip r:embed="rId5"/>
          <a:stretch/>
        </p:blipFill>
        <p:spPr>
          <a:xfrm rot="20875800">
            <a:off x="5807160" y="4149360"/>
            <a:ext cx="3336840" cy="2216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0" y="260280"/>
            <a:ext cx="579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eccf3"/>
                </a:solidFill>
                <a:latin typeface="Arial"/>
                <a:ea typeface="隶书"/>
              </a:rPr>
              <a:t>这些铁制品出现了</a:t>
            </a:r>
            <a:endParaRPr b="0" lang="en-US" sz="36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eccf3"/>
                </a:solidFill>
                <a:latin typeface="Arial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5eccf3"/>
                </a:solidFill>
                <a:latin typeface="Arial"/>
                <a:ea typeface="隶书"/>
              </a:rPr>
              <a:t>什么情况</a:t>
            </a:r>
            <a:endParaRPr b="0" lang="en-US" sz="36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铁钉生锈"/>
          <p:cNvPicPr/>
          <p:nvPr/>
        </p:nvPicPr>
        <p:blipFill>
          <a:blip r:embed="rId1"/>
          <a:srcRect l="2259" t="3629" r="65195" b="0"/>
          <a:stretch/>
        </p:blipFill>
        <p:spPr>
          <a:xfrm>
            <a:off x="1116000" y="1341360"/>
            <a:ext cx="1079640" cy="3882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铁钉生锈"/>
          <p:cNvPicPr/>
          <p:nvPr/>
        </p:nvPicPr>
        <p:blipFill>
          <a:blip r:embed="rId2"/>
          <a:srcRect l="67556" t="1772" r="2053" b="1688"/>
          <a:stretch/>
        </p:blipFill>
        <p:spPr>
          <a:xfrm>
            <a:off x="6588000" y="1341360"/>
            <a:ext cx="1008360" cy="3889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铁钉生锈"/>
          <p:cNvPicPr/>
          <p:nvPr/>
        </p:nvPicPr>
        <p:blipFill>
          <a:blip r:embed="rId3"/>
          <a:srcRect l="34805" t="3629" r="32546" b="0"/>
          <a:stretch/>
        </p:blipFill>
        <p:spPr>
          <a:xfrm>
            <a:off x="3851280" y="1341360"/>
            <a:ext cx="1081080" cy="38829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826920" y="260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哪枚钉子会生锈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1042920" y="551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湿棉花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3564000" y="558972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浸没在蒸馏水中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6372360" y="5589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有干燥剂的棉花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250920" y="76500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金属生锈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彩云"/>
              </a:rPr>
              <a:t>危害</a:t>
            </a:r>
            <a:endParaRPr b="0" lang="en-US" sz="6000" spc="-1" strike="noStrike">
              <a:solidFill>
                <a:srgbClr val="000000"/>
              </a:solidFill>
              <a:latin typeface="华文宋体"/>
            </a:endParaRPr>
          </a:p>
        </p:txBody>
      </p:sp>
      <p:pic>
        <p:nvPicPr>
          <p:cNvPr id="393" name="Picture 4" descr="生锈的铁门"/>
          <p:cNvPicPr/>
          <p:nvPr/>
        </p:nvPicPr>
        <p:blipFill>
          <a:blip r:embed="rId1"/>
          <a:stretch/>
        </p:blipFill>
        <p:spPr>
          <a:xfrm>
            <a:off x="6372360" y="260280"/>
            <a:ext cx="1461960" cy="20145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1543320" y="3067560"/>
            <a:ext cx="5398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金属生锈后，表面会受到腐蚀，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失去原有的金属光泽，原来平整的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表面会粗糙不平，严重的会生洞、</a:t>
            </a:r>
            <a:endParaRPr b="0" lang="en-US" sz="32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隶书"/>
              </a:rPr>
              <a:t>剥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051200" y="1527120"/>
            <a:ext cx="7079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因为钢铁制品的生锈，为此全世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界每年损失的钢铁占当年钢铁产量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的２０</a:t>
            </a: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３０％</a:t>
            </a: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2007</a:t>
            </a: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年我国的钢铁产量约有</a:t>
            </a: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亿吨</a:t>
            </a: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</a:rPr>
              <a:t>那么我们一年将会损失多少钢铁啊</a:t>
            </a:r>
            <a:r>
              <a:rPr b="1" lang="en-US" sz="4400" spc="-1" strike="noStrike">
                <a:solidFill>
                  <a:srgbClr val="000000"/>
                </a:solidFill>
                <a:latin typeface="华文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DF5-219D-4D5A-9C07-A9E2ACA024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250920" y="189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防止金属生锈的方法</a:t>
            </a:r>
            <a:endParaRPr b="0" lang="en-US" sz="4400" spc="-1" strike="noStrike">
              <a:solidFill>
                <a:srgbClr val="000000"/>
              </a:solidFill>
              <a:latin typeface="华文宋体"/>
            </a:endParaRPr>
          </a:p>
        </p:txBody>
      </p:sp>
      <p:grpSp>
        <p:nvGrpSpPr>
          <p:cNvPr id="401" name="Group 4"/>
          <p:cNvGrpSpPr/>
          <p:nvPr/>
        </p:nvGrpSpPr>
        <p:grpSpPr>
          <a:xfrm>
            <a:off x="1187280" y="1341360"/>
            <a:ext cx="2521080" cy="2524680"/>
            <a:chOff x="1187280" y="1341360"/>
            <a:chExt cx="2521080" cy="2524680"/>
          </a:xfrm>
        </p:grpSpPr>
        <p:pic>
          <p:nvPicPr>
            <p:cNvPr id="402" name="Picture 5" descr="无机纳米漆"/>
            <p:cNvPicPr/>
            <p:nvPr/>
          </p:nvPicPr>
          <p:blipFill>
            <a:blip r:embed="rId1"/>
            <a:stretch/>
          </p:blipFill>
          <p:spPr>
            <a:xfrm>
              <a:off x="1187280" y="1341360"/>
              <a:ext cx="235296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6"/>
            <p:cNvSpPr/>
            <p:nvPr/>
          </p:nvSpPr>
          <p:spPr>
            <a:xfrm>
              <a:off x="1619280" y="328464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隶书"/>
                </a:rPr>
                <a:t>涂漆</a:t>
              </a:r>
              <a:endParaRPr b="0" lang="en-US" sz="32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  <p:grpSp>
        <p:nvGrpSpPr>
          <p:cNvPr id="404" name="Group 7"/>
          <p:cNvGrpSpPr/>
          <p:nvPr/>
        </p:nvGrpSpPr>
        <p:grpSpPr>
          <a:xfrm>
            <a:off x="1042920" y="4149720"/>
            <a:ext cx="2854440" cy="2740320"/>
            <a:chOff x="1042920" y="4149720"/>
            <a:chExt cx="2854440" cy="2740320"/>
          </a:xfrm>
        </p:grpSpPr>
        <p:sp>
          <p:nvSpPr>
            <p:cNvPr id="405" name="Rectangle 8"/>
            <p:cNvSpPr/>
            <p:nvPr/>
          </p:nvSpPr>
          <p:spPr>
            <a:xfrm>
              <a:off x="1076760" y="6277680"/>
              <a:ext cx="9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隶书"/>
                </a:rPr>
                <a:t>涂沥青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  <p:pic>
          <p:nvPicPr>
            <p:cNvPr id="406" name="Picture 9" descr="u=191723616,1373128626&amp;fm=0&amp;gp=2"/>
            <p:cNvPicPr/>
            <p:nvPr/>
          </p:nvPicPr>
          <p:blipFill>
            <a:blip r:embed="rId2"/>
            <a:stretch/>
          </p:blipFill>
          <p:spPr>
            <a:xfrm>
              <a:off x="1042920" y="4149720"/>
              <a:ext cx="253836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Rectangle 10"/>
            <p:cNvSpPr/>
            <p:nvPr/>
          </p:nvSpPr>
          <p:spPr>
            <a:xfrm>
              <a:off x="2741400" y="63086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隶书"/>
                </a:rPr>
                <a:t>加膜覆盖</a:t>
              </a:r>
              <a:endParaRPr b="0" lang="en-US" sz="32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  <p:grpSp>
        <p:nvGrpSpPr>
          <p:cNvPr id="408" name="Group 11"/>
          <p:cNvGrpSpPr/>
          <p:nvPr/>
        </p:nvGrpSpPr>
        <p:grpSpPr>
          <a:xfrm>
            <a:off x="5292720" y="4292640"/>
            <a:ext cx="2376360" cy="2567160"/>
            <a:chOff x="5292720" y="4292640"/>
            <a:chExt cx="2376360" cy="2567160"/>
          </a:xfrm>
        </p:grpSpPr>
        <p:pic>
          <p:nvPicPr>
            <p:cNvPr id="409" name="Picture 12" descr="电镀架子"/>
            <p:cNvPicPr/>
            <p:nvPr/>
          </p:nvPicPr>
          <p:blipFill>
            <a:blip r:embed="rId3"/>
            <a:stretch/>
          </p:blipFill>
          <p:spPr>
            <a:xfrm>
              <a:off x="5292720" y="4292640"/>
              <a:ext cx="23763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3"/>
            <p:cNvSpPr/>
            <p:nvPr/>
          </p:nvSpPr>
          <p:spPr>
            <a:xfrm>
              <a:off x="6321960" y="62784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隶书"/>
                </a:rPr>
                <a:t>电镀</a:t>
              </a:r>
              <a:endParaRPr b="0" lang="en-US" sz="32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  <p:grpSp>
        <p:nvGrpSpPr>
          <p:cNvPr id="411" name="Group 14"/>
          <p:cNvGrpSpPr/>
          <p:nvPr/>
        </p:nvGrpSpPr>
        <p:grpSpPr>
          <a:xfrm>
            <a:off x="5076720" y="1268280"/>
            <a:ext cx="2590920" cy="2454840"/>
            <a:chOff x="5076720" y="1268280"/>
            <a:chExt cx="2590920" cy="2454840"/>
          </a:xfrm>
        </p:grpSpPr>
        <p:pic>
          <p:nvPicPr>
            <p:cNvPr id="412" name="Picture 15" descr="1165396220558_1"/>
            <p:cNvPicPr/>
            <p:nvPr/>
          </p:nvPicPr>
          <p:blipFill>
            <a:blip r:embed="rId4"/>
            <a:stretch/>
          </p:blipFill>
          <p:spPr>
            <a:xfrm>
              <a:off x="5076720" y="1268280"/>
              <a:ext cx="259092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16"/>
            <p:cNvSpPr/>
            <p:nvPr/>
          </p:nvSpPr>
          <p:spPr>
            <a:xfrm>
              <a:off x="6032880" y="3141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  <a:ea typeface="隶书"/>
                </a:rPr>
                <a:t>擦干</a:t>
              </a:r>
              <a:endParaRPr b="0" lang="en-US" sz="3200" spc="-1" strike="noStrike">
                <a:solidFill>
                  <a:srgbClr val="000000"/>
                </a:solidFill>
                <a:latin typeface="华文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9528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生活中，我们经常会看到一些铁制品生锈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0" name="Picture 3" descr="28"/>
          <p:cNvPicPr/>
          <p:nvPr/>
        </p:nvPicPr>
        <p:blipFill>
          <a:blip r:embed="rId1"/>
          <a:stretch/>
        </p:blipFill>
        <p:spPr>
          <a:xfrm>
            <a:off x="1187280" y="1989000"/>
            <a:ext cx="3529080" cy="2341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29"/>
          <p:cNvPicPr/>
          <p:nvPr/>
        </p:nvPicPr>
        <p:blipFill>
          <a:blip r:embed="rId2"/>
          <a:stretch/>
        </p:blipFill>
        <p:spPr>
          <a:xfrm>
            <a:off x="6372360" y="1700280"/>
            <a:ext cx="2419200" cy="4924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30"/>
          <p:cNvPicPr/>
          <p:nvPr/>
        </p:nvPicPr>
        <p:blipFill>
          <a:blip r:embed="rId3"/>
          <a:stretch/>
        </p:blipFill>
        <p:spPr>
          <a:xfrm>
            <a:off x="250920" y="4508640"/>
            <a:ext cx="1744560" cy="2124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31"/>
          <p:cNvPicPr/>
          <p:nvPr/>
        </p:nvPicPr>
        <p:blipFill>
          <a:blip r:embed="rId4"/>
          <a:stretch/>
        </p:blipFill>
        <p:spPr>
          <a:xfrm>
            <a:off x="3924360" y="4437000"/>
            <a:ext cx="2305080" cy="2006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2"/>
          <p:cNvPicPr/>
          <p:nvPr/>
        </p:nvPicPr>
        <p:blipFill>
          <a:blip r:embed="rId5"/>
          <a:stretch/>
        </p:blipFill>
        <p:spPr>
          <a:xfrm>
            <a:off x="2195640" y="4437000"/>
            <a:ext cx="1606320" cy="216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258920" y="2060640"/>
            <a:ext cx="6408720" cy="216036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铁生锈是一种什么变化？</a:t>
            </a:r>
            <a:endParaRPr b="0" lang="en-US" sz="36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1793880" y="4281480"/>
            <a:ext cx="6594480" cy="1233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9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404040"/>
                </a:solidFill>
                <a:latin typeface="Trebuchet MS"/>
              </a:rPr>
              <a:t>同学们，你觉得铁生锈是什么变化？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404040"/>
                </a:solidFill>
                <a:latin typeface="Trebuchet MS"/>
              </a:rPr>
              <a:t>要判断铁生锈是物理变化还是化学变化，首先我们就要判断这个变化有没有产生新的物质。那么，铁和铁锈是不是同一种物质呢？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8" name="Picture 4" descr="图片2"/>
          <p:cNvPicPr/>
          <p:nvPr/>
        </p:nvPicPr>
        <p:blipFill>
          <a:blip r:embed="rId2"/>
          <a:stretch/>
        </p:blipFill>
        <p:spPr>
          <a:xfrm>
            <a:off x="7020000" y="4941720"/>
            <a:ext cx="1685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1793880" y="4257720"/>
            <a:ext cx="6624720" cy="1433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Trebuchet MS"/>
              </a:rPr>
              <a:t>观察比较铁片与铁锈，它们之间有什么不同？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1" name="Picture 4" descr="33"/>
          <p:cNvPicPr/>
          <p:nvPr/>
        </p:nvPicPr>
        <p:blipFill>
          <a:blip r:embed="rId2"/>
          <a:stretch/>
        </p:blipFill>
        <p:spPr>
          <a:xfrm>
            <a:off x="250920" y="3357720"/>
            <a:ext cx="4140000" cy="243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34"/>
          <p:cNvPicPr/>
          <p:nvPr/>
        </p:nvPicPr>
        <p:blipFill>
          <a:blip r:embed="rId3"/>
          <a:stretch/>
        </p:blipFill>
        <p:spPr>
          <a:xfrm>
            <a:off x="4356000" y="3284640"/>
            <a:ext cx="4249800" cy="25192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468360" y="2924280"/>
            <a:ext cx="8280360" cy="158436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铁生锈变成了铁锈，这是一种化学变化吗？</a:t>
            </a: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94" name="文本框 8199"/>
          <p:cNvSpPr/>
          <p:nvPr/>
        </p:nvSpPr>
        <p:spPr>
          <a:xfrm>
            <a:off x="930240" y="100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6c7aa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56c7aa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1042920" y="45072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eccf3"/>
                </a:solidFill>
                <a:latin typeface="Arial"/>
                <a:ea typeface="隶书"/>
              </a:rPr>
              <a:t>怎样观察铁锈</a:t>
            </a:r>
            <a:endParaRPr b="0" lang="en-US" sz="6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35280" y="1773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隶书"/>
              </a:rPr>
              <a:t>光泽、颜色 </a:t>
            </a: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835280" y="2781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隶书"/>
              </a:rPr>
              <a:t>表面</a:t>
            </a: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3059280" y="2276640"/>
            <a:ext cx="720720" cy="287280"/>
          </a:xfrm>
          <a:custGeom>
            <a:avLst/>
            <a:gdLst>
              <a:gd name="textAreaLeft" fmla="*/ 90000 w 720720"/>
              <a:gd name="textAreaRight" fmla="*/ 630720 w 720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3" y="5400"/>
                </a:ln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16203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e67c8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059280" y="3141720"/>
            <a:ext cx="720720" cy="287280"/>
          </a:xfrm>
          <a:custGeom>
            <a:avLst/>
            <a:gdLst>
              <a:gd name="textAreaLeft" fmla="*/ 90000 w 720720"/>
              <a:gd name="textAreaRight" fmla="*/ 630720 w 720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3" y="5400"/>
                </a:ln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16203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e67c8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835280" y="386064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隶书"/>
              </a:rPr>
              <a:t>看痕迹</a:t>
            </a: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059280" y="4221000"/>
            <a:ext cx="720720" cy="287640"/>
          </a:xfrm>
          <a:custGeom>
            <a:avLst/>
            <a:gdLst>
              <a:gd name="textAreaLeft" fmla="*/ 112320 w 720720"/>
              <a:gd name="textAreaRight" fmla="*/ 608400 w 720720"/>
              <a:gd name="textAreaTop" fmla="*/ 71280 h 287640"/>
              <a:gd name="textAreaBottom" fmla="*/ 21636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370"/>
                </a:moveTo>
                <a:lnTo>
                  <a:pt x="14895" y="5370"/>
                </a:lnTo>
                <a:lnTo>
                  <a:pt x="14895" y="0"/>
                </a:lnTo>
                <a:lnTo>
                  <a:pt x="21600" y="10800"/>
                </a:lnTo>
                <a:lnTo>
                  <a:pt x="14895" y="21600"/>
                </a:lnTo>
                <a:lnTo>
                  <a:pt x="14895" y="16230"/>
                </a:lnTo>
                <a:lnTo>
                  <a:pt x="0" y="16230"/>
                </a:lnTo>
                <a:lnTo>
                  <a:pt x="3371" y="10800"/>
                </a:lnTo>
                <a:lnTo>
                  <a:pt x="0" y="5370"/>
                </a:lnTo>
                <a:close/>
              </a:path>
            </a:pathLst>
          </a:custGeom>
          <a:solidFill>
            <a:srgbClr val="4e67c8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3059280" y="5229360"/>
            <a:ext cx="720720" cy="287280"/>
          </a:xfrm>
          <a:custGeom>
            <a:avLst/>
            <a:gdLst>
              <a:gd name="textAreaLeft" fmla="*/ 90000 w 720720"/>
              <a:gd name="textAreaRight" fmla="*/ 630720 w 720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3" y="5400"/>
                </a:ln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16203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e67c8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宋体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1403280" y="494172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实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隶书"/>
              </a:rPr>
              <a:t>导电性</a:t>
            </a:r>
            <a:endParaRPr b="0" lang="en-US" sz="4000" spc="-1" strike="noStrike">
              <a:solidFill>
                <a:srgbClr val="000000"/>
              </a:solidFill>
              <a:latin typeface="华文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3:3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47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