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type.wav" ContentType="audio/x-wav"/>
  <Override PartName="/ppt/media/image15.jpeg" ContentType="image/jpeg"/>
  <Override PartName="/ppt/media/image17.jpeg" ContentType="image/jpeg"/>
  <Override PartName="/ppt/media/image14.png" ContentType="image/png"/>
  <Override PartName="/ppt/media/CAMERA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png" ContentType="image/png"/>
  <Override PartName="/ppt/media/image16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D4A-AA4F-4C23-895D-B2EDE8D0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C41-1EAF-46C9-A6FB-DBDEC672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BCC-3177-4D8C-A7AF-1BD44117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90B-77C1-4792-8839-9F75D5D4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EC26-5D05-4683-8562-78347BD9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402B-760D-4883-B1AA-F10A1091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96B2-2C1F-4D56-93E2-BF4F9857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41CC-A2BD-4A2C-8D72-3C6D5212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237C-59C7-4349-87EB-EB989FB7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827D-9ED3-4737-9DD4-529501FD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F763-1500-44E3-B035-80DEB9FB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77A-D15D-4335-ABDE-75121E0E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DDDB-A4DF-48F7-9DD4-BA8447DC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BF9F-E113-4FBB-92D6-0E779E4D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04DF-57B3-423E-B8EC-3D709143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D708-AF94-4EA6-B361-10B6B234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6FBB-5267-4E01-9787-BA1E5F76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B71-D1D9-4B3A-B22B-D249AAB8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693-ACC5-44E2-8A5A-7A2A7FA0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71C-EE7B-46B1-B144-E5968AE0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5BDB-5091-4407-AD18-17BC0D88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914-3FE8-4D5F-B2E1-48770DD2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145-7AF1-4A8A-A26C-7120954E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D83F-F064-4346-9287-47C13AE6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D705-0267-4C8E-92C7-72A0271C5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578D-D853-42EF-A286-D1FFCEA5E4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2700360" y="83196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华文行楷"/>
                <a:ea typeface="华文行楷"/>
              </a:rPr>
              <a:t>八年级   下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525680" y="2724120"/>
            <a:ext cx="667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梯形课件</a:t>
            </a:r>
            <a:r>
              <a:rPr b="0" lang="en-US" sz="4000" spc="-1" strike="noStrike">
                <a:solidFill>
                  <a:srgbClr val="ffffff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index2"/>
          <p:cNvPicPr/>
          <p:nvPr/>
        </p:nvPicPr>
        <p:blipFill>
          <a:blip r:embed="rId2"/>
          <a:stretch/>
        </p:blipFill>
        <p:spPr>
          <a:xfrm>
            <a:off x="8112240" y="3949560"/>
            <a:ext cx="1031760" cy="92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000"/>
          <p:cNvPicPr/>
          <p:nvPr/>
        </p:nvPicPr>
        <p:blipFill>
          <a:blip r:embed="rId3"/>
          <a:stretch/>
        </p:blipFill>
        <p:spPr>
          <a:xfrm>
            <a:off x="7105680" y="4965840"/>
            <a:ext cx="965160" cy="880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=2000647176,3394601745&amp;fm=0&amp;gp=0"/>
          <p:cNvPicPr/>
          <p:nvPr/>
        </p:nvPicPr>
        <p:blipFill>
          <a:blip r:embed="rId4"/>
          <a:stretch/>
        </p:blipFill>
        <p:spPr>
          <a:xfrm>
            <a:off x="8101080" y="5899320"/>
            <a:ext cx="1033560" cy="928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7" descr="u=3447135886,643996744&amp;fm=52&amp;gp=0"/>
          <p:cNvPicPr/>
          <p:nvPr/>
        </p:nvPicPr>
        <p:blipFill>
          <a:blip r:embed="rId5"/>
          <a:stretch/>
        </p:blipFill>
        <p:spPr>
          <a:xfrm>
            <a:off x="6018120" y="5907240"/>
            <a:ext cx="1033560" cy="92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u=831612713,2151937875&amp;fm=51&amp;gp=0"/>
          <p:cNvPicPr/>
          <p:nvPr/>
        </p:nvPicPr>
        <p:blipFill>
          <a:blip r:embed="rId6"/>
          <a:stretch/>
        </p:blipFill>
        <p:spPr>
          <a:xfrm>
            <a:off x="8099280" y="4935600"/>
            <a:ext cx="1033560" cy="928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u=3090197610,1609805845&amp;fm=52&amp;gp=0"/>
          <p:cNvPicPr/>
          <p:nvPr/>
        </p:nvPicPr>
        <p:blipFill>
          <a:blip r:embed="rId7"/>
          <a:stretch/>
        </p:blipFill>
        <p:spPr>
          <a:xfrm>
            <a:off x="7059600" y="5940360"/>
            <a:ext cx="1068480" cy="92880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990360" y="1268280"/>
            <a:ext cx="732492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判断题：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（抢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一组对边平行的四边形是梯形      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等腰梯形的两个底角相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            (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等腰梯形的对角线相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              (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7524720" y="1700280"/>
            <a:ext cx="4921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754200" y="515880"/>
            <a:ext cx="2305080" cy="5367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946080" y="549360"/>
            <a:ext cx="44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小试牛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7" descr="%BB%A8%D2%B6%C2%CC%C2%DC1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353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5" descr="u"/>
          <p:cNvPicPr/>
          <p:nvPr/>
        </p:nvPicPr>
        <p:blipFill>
          <a:blip r:embed="rId2"/>
          <a:srcRect l="0" t="11867" r="166" b="1964"/>
          <a:stretch/>
        </p:blipFill>
        <p:spPr>
          <a:xfrm rot="21092400">
            <a:off x="246240" y="44280"/>
            <a:ext cx="796680" cy="10526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9"/>
          <p:cNvSpPr/>
          <p:nvPr/>
        </p:nvSpPr>
        <p:spPr>
          <a:xfrm>
            <a:off x="7524720" y="2133720"/>
            <a:ext cx="5637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7524720" y="2637000"/>
            <a:ext cx="4921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0"/>
          <p:cNvSpPr/>
          <p:nvPr/>
        </p:nvSpPr>
        <p:spPr>
          <a:xfrm>
            <a:off x="971640" y="3645000"/>
            <a:ext cx="590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1"/>
          <p:cNvSpPr/>
          <p:nvPr/>
        </p:nvSpPr>
        <p:spPr>
          <a:xfrm>
            <a:off x="826920" y="3573360"/>
            <a:ext cx="55627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等腰梯形的锐角为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0°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两底长分别为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cm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cm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则它的腰长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46"/>
          <p:cNvGrpSpPr/>
          <p:nvPr/>
        </p:nvGrpSpPr>
        <p:grpSpPr>
          <a:xfrm>
            <a:off x="5365800" y="3933720"/>
            <a:ext cx="3294720" cy="2193120"/>
            <a:chOff x="5365800" y="3933720"/>
            <a:chExt cx="3294720" cy="2193120"/>
          </a:xfrm>
        </p:grpSpPr>
        <p:grpSp>
          <p:nvGrpSpPr>
            <p:cNvPr id="416" name="Group 32"/>
            <p:cNvGrpSpPr/>
            <p:nvPr/>
          </p:nvGrpSpPr>
          <p:grpSpPr>
            <a:xfrm>
              <a:off x="5365800" y="3933720"/>
              <a:ext cx="3294720" cy="2193120"/>
              <a:chOff x="5365800" y="3933720"/>
              <a:chExt cx="3294720" cy="219312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5760720" y="4349520"/>
                <a:ext cx="914400" cy="1295640"/>
                <a:chOff x="5760720" y="4349520"/>
                <a:chExt cx="914400" cy="1295640"/>
              </a:xfrm>
            </p:grpSpPr>
            <p:sp>
              <p:nvSpPr>
                <p:cNvPr id="418" name="Line 33"/>
                <p:cNvSpPr/>
                <p:nvPr/>
              </p:nvSpPr>
              <p:spPr>
                <a:xfrm flipH="1">
                  <a:off x="5760720" y="4349520"/>
                  <a:ext cx="914400" cy="1295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 txBox="1"/>
                <p:nvPr/>
              </p:nvSpPr>
              <p:spPr>
                <a:xfrm>
                  <a:off x="5760720" y="4349520"/>
                  <a:ext cx="914400" cy="129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Group 34"/>
              <p:cNvGrpSpPr/>
              <p:nvPr/>
            </p:nvGrpSpPr>
            <p:grpSpPr>
              <a:xfrm>
                <a:off x="5365800" y="3933720"/>
                <a:ext cx="3294720" cy="2193120"/>
                <a:chOff x="5365800" y="3933720"/>
                <a:chExt cx="3294720" cy="219312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6675120" y="4349520"/>
                  <a:ext cx="990720" cy="360"/>
                  <a:chOff x="6675120" y="4349520"/>
                  <a:chExt cx="990720" cy="360"/>
                </a:xfrm>
              </p:grpSpPr>
              <p:sp>
                <p:nvSpPr>
                  <p:cNvPr id="422" name="Line 35"/>
                  <p:cNvSpPr/>
                  <p:nvPr/>
                </p:nvSpPr>
                <p:spPr>
                  <a:xfrm>
                    <a:off x="6675120" y="4349520"/>
                    <a:ext cx="990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 txBox="1"/>
                  <p:nvPr/>
                </p:nvSpPr>
                <p:spPr>
                  <a:xfrm>
                    <a:off x="6675120" y="4349520"/>
                    <a:ext cx="990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Group 36"/>
                <p:cNvGrpSpPr/>
                <p:nvPr/>
              </p:nvGrpSpPr>
              <p:grpSpPr>
                <a:xfrm>
                  <a:off x="5365800" y="3933720"/>
                  <a:ext cx="3294720" cy="2193120"/>
                  <a:chOff x="5365800" y="3933720"/>
                  <a:chExt cx="3294720" cy="2193120"/>
                </a:xfrm>
              </p:grpSpPr>
              <p:sp>
                <p:nvSpPr>
                  <p:cNvPr id="425" name="Text Box 37"/>
                  <p:cNvSpPr/>
                  <p:nvPr/>
                </p:nvSpPr>
                <p:spPr>
                  <a:xfrm>
                    <a:off x="6356520" y="3933720"/>
                    <a:ext cx="383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Text Box 38"/>
                  <p:cNvSpPr/>
                  <p:nvPr/>
                </p:nvSpPr>
                <p:spPr>
                  <a:xfrm>
                    <a:off x="5365800" y="5457600"/>
                    <a:ext cx="383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Text Box 39"/>
                  <p:cNvSpPr/>
                  <p:nvPr/>
                </p:nvSpPr>
                <p:spPr>
                  <a:xfrm>
                    <a:off x="8277120" y="5667120"/>
                    <a:ext cx="383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Text Box 40"/>
                  <p:cNvSpPr/>
                  <p:nvPr/>
                </p:nvSpPr>
                <p:spPr>
                  <a:xfrm>
                    <a:off x="7668000" y="396864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5760720" y="5645160"/>
                    <a:ext cx="2743200" cy="360"/>
                    <a:chOff x="5760720" y="5645160"/>
                    <a:chExt cx="2743200" cy="360"/>
                  </a:xfrm>
                </p:grpSpPr>
                <p:sp>
                  <p:nvSpPr>
                    <p:cNvPr id="430" name="Line 41"/>
                    <p:cNvSpPr/>
                    <p:nvPr/>
                  </p:nvSpPr>
                  <p:spPr>
                    <a:xfrm>
                      <a:off x="5760720" y="5645160"/>
                      <a:ext cx="2743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 txBox="1"/>
                    <p:nvPr/>
                  </p:nvSpPr>
                  <p:spPr>
                    <a:xfrm>
                      <a:off x="5760720" y="5645160"/>
                      <a:ext cx="2743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7665840" y="4349520"/>
                    <a:ext cx="838080" cy="1295640"/>
                    <a:chOff x="7665840" y="4349520"/>
                    <a:chExt cx="838080" cy="1295640"/>
                  </a:xfrm>
                </p:grpSpPr>
                <p:sp>
                  <p:nvSpPr>
                    <p:cNvPr id="433" name="Line 42"/>
                    <p:cNvSpPr/>
                    <p:nvPr/>
                  </p:nvSpPr>
                  <p:spPr>
                    <a:xfrm>
                      <a:off x="7665840" y="4349520"/>
                      <a:ext cx="838080" cy="12956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 txBox="1"/>
                    <p:nvPr/>
                  </p:nvSpPr>
                  <p:spPr>
                    <a:xfrm>
                      <a:off x="7665840" y="4349520"/>
                      <a:ext cx="838080" cy="129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435" name="Group 43"/>
            <p:cNvGrpSpPr/>
            <p:nvPr/>
          </p:nvGrpSpPr>
          <p:grpSpPr>
            <a:xfrm>
              <a:off x="6012000" y="5229360"/>
              <a:ext cx="928440" cy="459720"/>
              <a:chOff x="6012000" y="5229360"/>
              <a:chExt cx="928440" cy="459720"/>
            </a:xfrm>
          </p:grpSpPr>
          <p:sp>
            <p:nvSpPr>
              <p:cNvPr id="436" name="Arc 44"/>
              <p:cNvSpPr/>
              <p:nvPr/>
            </p:nvSpPr>
            <p:spPr>
              <a:xfrm>
                <a:off x="6012000" y="5294160"/>
                <a:ext cx="313920" cy="39240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45"/>
              <p:cNvSpPr/>
              <p:nvPr/>
            </p:nvSpPr>
            <p:spPr>
              <a:xfrm>
                <a:off x="6333120" y="5229360"/>
                <a:ext cx="60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60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Group 47"/>
          <p:cNvGrpSpPr/>
          <p:nvPr/>
        </p:nvGrpSpPr>
        <p:grpSpPr>
          <a:xfrm>
            <a:off x="6659640" y="4365720"/>
            <a:ext cx="1197000" cy="1800360"/>
            <a:chOff x="6659640" y="4365720"/>
            <a:chExt cx="1197000" cy="1800360"/>
          </a:xfrm>
        </p:grpSpPr>
        <p:grpSp>
          <p:nvGrpSpPr>
            <p:cNvPr id="439" name=""/>
            <p:cNvGrpSpPr/>
            <p:nvPr/>
          </p:nvGrpSpPr>
          <p:grpSpPr>
            <a:xfrm>
              <a:off x="6659640" y="4365720"/>
              <a:ext cx="762120" cy="1295280"/>
              <a:chOff x="6659640" y="4365720"/>
              <a:chExt cx="762120" cy="1295280"/>
            </a:xfrm>
          </p:grpSpPr>
          <p:sp>
            <p:nvSpPr>
              <p:cNvPr id="440" name="Line 48"/>
              <p:cNvSpPr/>
              <p:nvPr/>
            </p:nvSpPr>
            <p:spPr>
              <a:xfrm>
                <a:off x="6659640" y="4365720"/>
                <a:ext cx="762120" cy="129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6659640" y="4365720"/>
                <a:ext cx="762120" cy="129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Text Box 49"/>
            <p:cNvSpPr/>
            <p:nvPr/>
          </p:nvSpPr>
          <p:spPr>
            <a:xfrm>
              <a:off x="7269480" y="5584680"/>
              <a:ext cx="58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文本框 8200"/>
          <p:cNvSpPr/>
          <p:nvPr/>
        </p:nvSpPr>
        <p:spPr>
          <a:xfrm>
            <a:off x="971640" y="1810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5"/>
          <p:cNvSpPr/>
          <p:nvPr/>
        </p:nvSpPr>
        <p:spPr>
          <a:xfrm>
            <a:off x="888840" y="45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700200" y="1341360"/>
            <a:ext cx="8388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图，在 等腰梯形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D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2, 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C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4,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高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F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求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F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和腰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C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长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019920" y="2562120"/>
            <a:ext cx="2514600" cy="360"/>
            <a:chOff x="6019920" y="2562120"/>
            <a:chExt cx="2514600" cy="360"/>
          </a:xfrm>
        </p:grpSpPr>
        <p:sp>
          <p:nvSpPr>
            <p:cNvPr id="447" name="Line 7"/>
            <p:cNvSpPr/>
            <p:nvPr/>
          </p:nvSpPr>
          <p:spPr>
            <a:xfrm>
              <a:off x="6019920" y="256212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6019920" y="256212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 Box 8"/>
          <p:cNvSpPr/>
          <p:nvPr/>
        </p:nvSpPr>
        <p:spPr>
          <a:xfrm>
            <a:off x="6995520" y="82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019920" y="1419120"/>
            <a:ext cx="761760" cy="1143000"/>
            <a:chOff x="6019920" y="1419120"/>
            <a:chExt cx="761760" cy="1143000"/>
          </a:xfrm>
        </p:grpSpPr>
        <p:sp>
          <p:nvSpPr>
            <p:cNvPr id="451" name="Line 9"/>
            <p:cNvSpPr/>
            <p:nvPr/>
          </p:nvSpPr>
          <p:spPr>
            <a:xfrm flipH="1">
              <a:off x="6019920" y="1419120"/>
              <a:ext cx="761760" cy="1143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6019920" y="1419120"/>
              <a:ext cx="76176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781680" y="1419120"/>
            <a:ext cx="1067040" cy="360"/>
            <a:chOff x="6781680" y="1419120"/>
            <a:chExt cx="1067040" cy="360"/>
          </a:xfrm>
        </p:grpSpPr>
        <p:sp>
          <p:nvSpPr>
            <p:cNvPr id="454" name="Line 10"/>
            <p:cNvSpPr/>
            <p:nvPr/>
          </p:nvSpPr>
          <p:spPr>
            <a:xfrm>
              <a:off x="6781680" y="1419120"/>
              <a:ext cx="1067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>
              <a:off x="6781680" y="1419120"/>
              <a:ext cx="1067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7848720" y="1419120"/>
            <a:ext cx="685800" cy="1143000"/>
            <a:chOff x="7848720" y="1419120"/>
            <a:chExt cx="685800" cy="1143000"/>
          </a:xfrm>
        </p:grpSpPr>
        <p:sp>
          <p:nvSpPr>
            <p:cNvPr id="457" name="Line 11"/>
            <p:cNvSpPr/>
            <p:nvPr/>
          </p:nvSpPr>
          <p:spPr>
            <a:xfrm>
              <a:off x="7848720" y="14191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7848720" y="1419120"/>
              <a:ext cx="6858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Text Box 12"/>
          <p:cNvSpPr/>
          <p:nvPr/>
        </p:nvSpPr>
        <p:spPr>
          <a:xfrm>
            <a:off x="6249960" y="101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5640480" y="22352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8460000" y="2158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7773840" y="939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7848720" y="1419120"/>
            <a:ext cx="360" cy="1143000"/>
            <a:chOff x="7848720" y="1419120"/>
            <a:chExt cx="360" cy="1143000"/>
          </a:xfrm>
        </p:grpSpPr>
        <p:sp>
          <p:nvSpPr>
            <p:cNvPr id="464" name="Line 16"/>
            <p:cNvSpPr/>
            <p:nvPr/>
          </p:nvSpPr>
          <p:spPr>
            <a:xfrm>
              <a:off x="7848720" y="141912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7848720" y="1419120"/>
              <a:ext cx="36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7848720" y="2333520"/>
            <a:ext cx="228600" cy="360"/>
            <a:chOff x="7848720" y="2333520"/>
            <a:chExt cx="228600" cy="360"/>
          </a:xfrm>
        </p:grpSpPr>
        <p:sp>
          <p:nvSpPr>
            <p:cNvPr id="467" name="Line 17"/>
            <p:cNvSpPr/>
            <p:nvPr/>
          </p:nvSpPr>
          <p:spPr>
            <a:xfrm>
              <a:off x="7848720" y="2333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7848720" y="23335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8077320" y="2333520"/>
            <a:ext cx="360" cy="228600"/>
            <a:chOff x="8077320" y="2333520"/>
            <a:chExt cx="360" cy="228600"/>
          </a:xfrm>
        </p:grpSpPr>
        <p:sp>
          <p:nvSpPr>
            <p:cNvPr id="470" name="Line 18"/>
            <p:cNvSpPr/>
            <p:nvPr/>
          </p:nvSpPr>
          <p:spPr>
            <a:xfrm>
              <a:off x="8077320" y="2333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8077320" y="233352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Text Box 19"/>
          <p:cNvSpPr/>
          <p:nvPr/>
        </p:nvSpPr>
        <p:spPr>
          <a:xfrm>
            <a:off x="7697880" y="2486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6919560" y="2428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7467480" y="1876320"/>
            <a:ext cx="46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22"/>
          <p:cNvGrpSpPr/>
          <p:nvPr/>
        </p:nvGrpSpPr>
        <p:grpSpPr>
          <a:xfrm>
            <a:off x="5619960" y="4062240"/>
            <a:ext cx="3271320" cy="2105640"/>
            <a:chOff x="5619960" y="4062240"/>
            <a:chExt cx="3271320" cy="2105640"/>
          </a:xfrm>
        </p:grpSpPr>
        <p:sp>
          <p:nvSpPr>
            <p:cNvPr id="476" name="Text Box 23"/>
            <p:cNvSpPr/>
            <p:nvPr/>
          </p:nvSpPr>
          <p:spPr>
            <a:xfrm>
              <a:off x="6305760" y="4138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7753320" y="40622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>
              <a:off x="7675560" y="5586480"/>
              <a:ext cx="45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26"/>
            <p:cNvGrpSpPr/>
            <p:nvPr/>
          </p:nvGrpSpPr>
          <p:grpSpPr>
            <a:xfrm>
              <a:off x="5619960" y="4541760"/>
              <a:ext cx="3271320" cy="1544400"/>
              <a:chOff x="5619960" y="4541760"/>
              <a:chExt cx="3271320" cy="154440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5998680" y="4541760"/>
                <a:ext cx="762480" cy="1143000"/>
                <a:chOff x="5998680" y="4541760"/>
                <a:chExt cx="762480" cy="1143000"/>
              </a:xfrm>
            </p:grpSpPr>
            <p:sp>
              <p:nvSpPr>
                <p:cNvPr id="481" name="Line 27"/>
                <p:cNvSpPr/>
                <p:nvPr/>
              </p:nvSpPr>
              <p:spPr>
                <a:xfrm flipH="1">
                  <a:off x="5998680" y="4541760"/>
                  <a:ext cx="762120" cy="1143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 txBox="1"/>
                <p:nvPr/>
              </p:nvSpPr>
              <p:spPr>
                <a:xfrm>
                  <a:off x="5999040" y="4541760"/>
                  <a:ext cx="762120" cy="11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6761160" y="4541760"/>
                <a:ext cx="1066680" cy="360"/>
                <a:chOff x="6761160" y="4541760"/>
                <a:chExt cx="1066680" cy="360"/>
              </a:xfrm>
            </p:grpSpPr>
            <p:sp>
              <p:nvSpPr>
                <p:cNvPr id="484" name="Line 28"/>
                <p:cNvSpPr/>
                <p:nvPr/>
              </p:nvSpPr>
              <p:spPr>
                <a:xfrm>
                  <a:off x="6761160" y="454176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 txBox="1"/>
                <p:nvPr/>
              </p:nvSpPr>
              <p:spPr>
                <a:xfrm>
                  <a:off x="6761160" y="4541760"/>
                  <a:ext cx="106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7827840" y="4541760"/>
                <a:ext cx="685800" cy="1143000"/>
                <a:chOff x="7827840" y="4541760"/>
                <a:chExt cx="685800" cy="1143000"/>
              </a:xfrm>
            </p:grpSpPr>
            <p:sp>
              <p:nvSpPr>
                <p:cNvPr id="487" name="Line 29"/>
                <p:cNvSpPr/>
                <p:nvPr/>
              </p:nvSpPr>
              <p:spPr>
                <a:xfrm>
                  <a:off x="7827840" y="4541760"/>
                  <a:ext cx="685800" cy="1143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 txBox="1"/>
                <p:nvPr/>
              </p:nvSpPr>
              <p:spPr>
                <a:xfrm>
                  <a:off x="7827840" y="4541760"/>
                  <a:ext cx="685800" cy="11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" name="Text Box 30"/>
              <p:cNvSpPr/>
              <p:nvPr/>
            </p:nvSpPr>
            <p:spPr>
              <a:xfrm>
                <a:off x="5619960" y="5357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Text Box 31"/>
              <p:cNvSpPr/>
              <p:nvPr/>
            </p:nvSpPr>
            <p:spPr>
              <a:xfrm>
                <a:off x="8439120" y="528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7827840" y="4541760"/>
                <a:ext cx="360" cy="1143000"/>
                <a:chOff x="7827840" y="4541760"/>
                <a:chExt cx="360" cy="1143000"/>
              </a:xfrm>
            </p:grpSpPr>
            <p:sp>
              <p:nvSpPr>
                <p:cNvPr id="492" name="Line 32"/>
                <p:cNvSpPr/>
                <p:nvPr/>
              </p:nvSpPr>
              <p:spPr>
                <a:xfrm>
                  <a:off x="7827840" y="4541760"/>
                  <a:ext cx="0" cy="1143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 txBox="1"/>
                <p:nvPr/>
              </p:nvSpPr>
              <p:spPr>
                <a:xfrm>
                  <a:off x="7827840" y="4541760"/>
                  <a:ext cx="360" cy="11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7827840" y="5456160"/>
                <a:ext cx="228600" cy="360"/>
                <a:chOff x="7827840" y="5456160"/>
                <a:chExt cx="228600" cy="360"/>
              </a:xfrm>
            </p:grpSpPr>
            <p:sp>
              <p:nvSpPr>
                <p:cNvPr id="495" name="Line 33"/>
                <p:cNvSpPr/>
                <p:nvPr/>
              </p:nvSpPr>
              <p:spPr>
                <a:xfrm>
                  <a:off x="7827840" y="545616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 txBox="1"/>
                <p:nvPr/>
              </p:nvSpPr>
              <p:spPr>
                <a:xfrm>
                  <a:off x="7827840" y="545616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056440" y="5456160"/>
                <a:ext cx="360" cy="228600"/>
                <a:chOff x="8056440" y="5456160"/>
                <a:chExt cx="360" cy="228600"/>
              </a:xfrm>
            </p:grpSpPr>
            <p:sp>
              <p:nvSpPr>
                <p:cNvPr id="498" name="Line 34"/>
                <p:cNvSpPr/>
                <p:nvPr/>
              </p:nvSpPr>
              <p:spPr>
                <a:xfrm>
                  <a:off x="8056440" y="545616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 txBox="1"/>
                <p:nvPr/>
              </p:nvSpPr>
              <p:spPr>
                <a:xfrm>
                  <a:off x="8056440" y="545616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Text Box 35"/>
              <p:cNvSpPr/>
              <p:nvPr/>
            </p:nvSpPr>
            <p:spPr>
              <a:xfrm>
                <a:off x="6897600" y="56289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1" name=""/>
              <p:cNvGrpSpPr/>
              <p:nvPr/>
            </p:nvGrpSpPr>
            <p:grpSpPr>
              <a:xfrm>
                <a:off x="5999040" y="5662440"/>
                <a:ext cx="2514600" cy="360"/>
                <a:chOff x="5999040" y="5662440"/>
                <a:chExt cx="2514600" cy="360"/>
              </a:xfrm>
            </p:grpSpPr>
            <p:sp>
              <p:nvSpPr>
                <p:cNvPr id="502" name="Line 36"/>
                <p:cNvSpPr/>
                <p:nvPr/>
              </p:nvSpPr>
              <p:spPr>
                <a:xfrm>
                  <a:off x="5999040" y="5662440"/>
                  <a:ext cx="2514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 txBox="1"/>
                <p:nvPr/>
              </p:nvSpPr>
              <p:spPr>
                <a:xfrm>
                  <a:off x="5999040" y="5662440"/>
                  <a:ext cx="2514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4" name="Group 37"/>
          <p:cNvGrpSpPr/>
          <p:nvPr/>
        </p:nvGrpSpPr>
        <p:grpSpPr>
          <a:xfrm>
            <a:off x="7162920" y="1419120"/>
            <a:ext cx="685800" cy="1724400"/>
            <a:chOff x="7162920" y="1419120"/>
            <a:chExt cx="685800" cy="1724400"/>
          </a:xfrm>
        </p:grpSpPr>
        <p:grpSp>
          <p:nvGrpSpPr>
            <p:cNvPr id="505" name=""/>
            <p:cNvGrpSpPr/>
            <p:nvPr/>
          </p:nvGrpSpPr>
          <p:grpSpPr>
            <a:xfrm>
              <a:off x="7238880" y="1419120"/>
              <a:ext cx="609840" cy="1143000"/>
              <a:chOff x="7238880" y="1419120"/>
              <a:chExt cx="609840" cy="1143000"/>
            </a:xfrm>
          </p:grpSpPr>
          <p:sp>
            <p:nvSpPr>
              <p:cNvPr id="506" name="Line 38"/>
              <p:cNvSpPr/>
              <p:nvPr/>
            </p:nvSpPr>
            <p:spPr>
              <a:xfrm flipH="1">
                <a:off x="7238880" y="1419120"/>
                <a:ext cx="609840" cy="1143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 txBox="1"/>
              <p:nvPr/>
            </p:nvSpPr>
            <p:spPr>
              <a:xfrm>
                <a:off x="7238880" y="1419120"/>
                <a:ext cx="609840" cy="11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Text Box 39"/>
            <p:cNvSpPr/>
            <p:nvPr/>
          </p:nvSpPr>
          <p:spPr>
            <a:xfrm>
              <a:off x="7162920" y="2562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41"/>
          <p:cNvGrpSpPr/>
          <p:nvPr/>
        </p:nvGrpSpPr>
        <p:grpSpPr>
          <a:xfrm>
            <a:off x="6534000" y="4541760"/>
            <a:ext cx="452160" cy="1591200"/>
            <a:chOff x="6534000" y="4541760"/>
            <a:chExt cx="452160" cy="1591200"/>
          </a:xfrm>
        </p:grpSpPr>
        <p:grpSp>
          <p:nvGrpSpPr>
            <p:cNvPr id="510" name=""/>
            <p:cNvGrpSpPr/>
            <p:nvPr/>
          </p:nvGrpSpPr>
          <p:grpSpPr>
            <a:xfrm>
              <a:off x="6777000" y="4541760"/>
              <a:ext cx="360" cy="1143000"/>
              <a:chOff x="6777000" y="4541760"/>
              <a:chExt cx="360" cy="1143000"/>
            </a:xfrm>
          </p:grpSpPr>
          <p:sp>
            <p:nvSpPr>
              <p:cNvPr id="511" name="Line 42"/>
              <p:cNvSpPr/>
              <p:nvPr/>
            </p:nvSpPr>
            <p:spPr>
              <a:xfrm>
                <a:off x="6777000" y="4541760"/>
                <a:ext cx="0" cy="1143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>
                <a:off x="6777000" y="4541760"/>
                <a:ext cx="360" cy="11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6548040" y="5456160"/>
              <a:ext cx="228960" cy="360"/>
              <a:chOff x="6548040" y="5456160"/>
              <a:chExt cx="228960" cy="360"/>
            </a:xfrm>
          </p:grpSpPr>
          <p:sp>
            <p:nvSpPr>
              <p:cNvPr id="514" name="Line 43"/>
              <p:cNvSpPr/>
              <p:nvPr/>
            </p:nvSpPr>
            <p:spPr>
              <a:xfrm flipH="1">
                <a:off x="6548040" y="545616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>
                <a:off x="6548400" y="545616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6548400" y="5456160"/>
              <a:ext cx="360" cy="228600"/>
              <a:chOff x="6548400" y="5456160"/>
              <a:chExt cx="360" cy="228600"/>
            </a:xfrm>
          </p:grpSpPr>
          <p:sp>
            <p:nvSpPr>
              <p:cNvPr id="517" name="Line 44"/>
              <p:cNvSpPr/>
              <p:nvPr/>
            </p:nvSpPr>
            <p:spPr>
              <a:xfrm>
                <a:off x="6548400" y="54561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 txBox="1"/>
              <p:nvPr/>
            </p:nvSpPr>
            <p:spPr>
              <a:xfrm>
                <a:off x="6548400" y="545616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Text Box 45"/>
            <p:cNvSpPr/>
            <p:nvPr/>
          </p:nvSpPr>
          <p:spPr>
            <a:xfrm>
              <a:off x="6534000" y="5551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AutoShape 46"/>
          <p:cNvSpPr/>
          <p:nvPr/>
        </p:nvSpPr>
        <p:spPr>
          <a:xfrm>
            <a:off x="681120" y="353880"/>
            <a:ext cx="3386160" cy="5367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105" descr="u"/>
          <p:cNvPicPr/>
          <p:nvPr/>
        </p:nvPicPr>
        <p:blipFill>
          <a:blip r:embed="rId1"/>
          <a:srcRect l="0" t="11867" r="166" b="1964"/>
          <a:stretch/>
        </p:blipFill>
        <p:spPr>
          <a:xfrm rot="21092400">
            <a:off x="179280" y="44280"/>
            <a:ext cx="797040" cy="105264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48"/>
          <p:cNvSpPr/>
          <p:nvPr/>
        </p:nvSpPr>
        <p:spPr>
          <a:xfrm>
            <a:off x="826920" y="37152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课堂提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105" descr="u"/>
          <p:cNvPicPr/>
          <p:nvPr/>
        </p:nvPicPr>
        <p:blipFill>
          <a:blip r:embed="rId1"/>
          <a:srcRect l="0" t="11867" r="166" b="1964"/>
          <a:stretch/>
        </p:blipFill>
        <p:spPr>
          <a:xfrm rot="21092400">
            <a:off x="246240" y="144360"/>
            <a:ext cx="796680" cy="1052640"/>
          </a:xfrm>
          <a:prstGeom prst="rect">
            <a:avLst/>
          </a:prstGeom>
          <a:ln w="0">
            <a:noFill/>
          </a:ln>
        </p:spPr>
      </p:pic>
      <p:sp>
        <p:nvSpPr>
          <p:cNvPr id="524" name="AutoShape 4"/>
          <p:cNvSpPr/>
          <p:nvPr/>
        </p:nvSpPr>
        <p:spPr>
          <a:xfrm>
            <a:off x="804960" y="453960"/>
            <a:ext cx="3024000" cy="6494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1258920" y="549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7"/>
          <p:cNvGrpSpPr/>
          <p:nvPr/>
        </p:nvGrpSpPr>
        <p:grpSpPr>
          <a:xfrm>
            <a:off x="8058240" y="104040"/>
            <a:ext cx="1020240" cy="1019880"/>
            <a:chOff x="8058240" y="104040"/>
            <a:chExt cx="1020240" cy="1019880"/>
          </a:xfrm>
        </p:grpSpPr>
        <p:sp>
          <p:nvSpPr>
            <p:cNvPr id="527" name="Oval 8"/>
            <p:cNvSpPr/>
            <p:nvPr/>
          </p:nvSpPr>
          <p:spPr>
            <a:xfrm>
              <a:off x="8101080" y="189000"/>
              <a:ext cx="934920" cy="93492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9"/>
            <p:cNvSpPr/>
            <p:nvPr/>
          </p:nvSpPr>
          <p:spPr>
            <a:xfrm>
              <a:off x="8115120" y="296640"/>
              <a:ext cx="201240" cy="67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942" y="3280"/>
                    <a:pt x="18283" y="5080"/>
                    <a:pt x="18283" y="10800"/>
                  </a:cubicBezTo>
                  <a:cubicBezTo>
                    <a:pt x="18283" y="16520"/>
                    <a:pt x="19942" y="1832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5098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10"/>
            <p:cNvSpPr/>
            <p:nvPr/>
          </p:nvSpPr>
          <p:spPr>
            <a:xfrm flipH="1" rot="20824800">
              <a:off x="8783640" y="236160"/>
              <a:ext cx="221760" cy="672840"/>
            </a:xfrm>
            <a:custGeom>
              <a:avLst/>
              <a:gdLst>
                <a:gd name="textAreaLeft" fmla="*/ 0 w 221760"/>
                <a:gd name="textAreaRight" fmla="*/ 173520 w 221760"/>
                <a:gd name="textAreaTop" fmla="*/ 320400 h 672840"/>
                <a:gd name="textAreaBottom" fmla="*/ 352440 h 67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241" y="3028"/>
                    <a:pt x="16881" y="5080"/>
                    <a:pt x="16881" y="10800"/>
                  </a:cubicBezTo>
                  <a:cubicBezTo>
                    <a:pt x="16881" y="16520"/>
                    <a:pt x="19241" y="1857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5098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208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11"/>
            <p:cNvSpPr/>
            <p:nvPr/>
          </p:nvSpPr>
          <p:spPr>
            <a:xfrm flipH="1" rot="5286000">
              <a:off x="8489520" y="722520"/>
              <a:ext cx="145080" cy="609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380" y="1285"/>
                    <a:pt x="7160" y="5080"/>
                    <a:pt x="7160" y="10800"/>
                  </a:cubicBezTo>
                  <a:cubicBezTo>
                    <a:pt x="7160" y="16520"/>
                    <a:pt x="14380" y="2031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5098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2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2"/>
            <p:cNvSpPr/>
            <p:nvPr/>
          </p:nvSpPr>
          <p:spPr>
            <a:xfrm>
              <a:off x="8178480" y="90180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13"/>
            <p:cNvSpPr/>
            <p:nvPr/>
          </p:nvSpPr>
          <p:spPr>
            <a:xfrm flipH="1" rot="20049600">
              <a:off x="8106480" y="225000"/>
              <a:ext cx="641520" cy="3708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5098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3" name="Picture 14" descr="%BB%A8%D2%B6%C2%CC%C2%DC1"/>
          <p:cNvPicPr/>
          <p:nvPr/>
        </p:nvPicPr>
        <p:blipFill>
          <a:blip r:embed="rId2"/>
          <a:stretch/>
        </p:blipFill>
        <p:spPr>
          <a:xfrm>
            <a:off x="7488360" y="130320"/>
            <a:ext cx="1692000" cy="135396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0"/>
          <p:cNvSpPr/>
          <p:nvPr/>
        </p:nvSpPr>
        <p:spPr>
          <a:xfrm>
            <a:off x="1255680" y="1628640"/>
            <a:ext cx="389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图，延长等腰梯形</a:t>
            </a:r>
            <a:r>
              <a:rPr b="1" i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BCD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两腰</a:t>
            </a:r>
            <a:r>
              <a:rPr b="1" i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A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与</a:t>
            </a:r>
            <a:r>
              <a:rPr b="1" i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D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相交点</a:t>
            </a:r>
            <a:r>
              <a:rPr b="1" i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图中有几个等腰三角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45"/>
          <p:cNvGrpSpPr/>
          <p:nvPr/>
        </p:nvGrpSpPr>
        <p:grpSpPr>
          <a:xfrm>
            <a:off x="5508720" y="1413000"/>
            <a:ext cx="2662560" cy="3173400"/>
            <a:chOff x="5508720" y="1413000"/>
            <a:chExt cx="2662560" cy="3173400"/>
          </a:xfrm>
        </p:grpSpPr>
        <p:grpSp>
          <p:nvGrpSpPr>
            <p:cNvPr id="536" name="Group 44"/>
            <p:cNvGrpSpPr/>
            <p:nvPr/>
          </p:nvGrpSpPr>
          <p:grpSpPr>
            <a:xfrm>
              <a:off x="5508720" y="1413000"/>
              <a:ext cx="2662560" cy="3173400"/>
              <a:chOff x="5508720" y="1413000"/>
              <a:chExt cx="2662560" cy="317340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5931360" y="4443480"/>
                <a:ext cx="1763280" cy="360"/>
                <a:chOff x="5931360" y="4443480"/>
                <a:chExt cx="1763280" cy="360"/>
              </a:xfrm>
            </p:grpSpPr>
            <p:sp>
              <p:nvSpPr>
                <p:cNvPr id="538" name="Line 33"/>
                <p:cNvSpPr/>
                <p:nvPr/>
              </p:nvSpPr>
              <p:spPr>
                <a:xfrm>
                  <a:off x="5931360" y="4443480"/>
                  <a:ext cx="1763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 txBox="1"/>
                <p:nvPr/>
              </p:nvSpPr>
              <p:spPr>
                <a:xfrm>
                  <a:off x="5931360" y="4443480"/>
                  <a:ext cx="1763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324480" y="3308760"/>
                <a:ext cx="977400" cy="360"/>
                <a:chOff x="6324480" y="3308760"/>
                <a:chExt cx="977400" cy="360"/>
              </a:xfrm>
            </p:grpSpPr>
            <p:sp>
              <p:nvSpPr>
                <p:cNvPr id="541" name="Line 34"/>
                <p:cNvSpPr/>
                <p:nvPr/>
              </p:nvSpPr>
              <p:spPr>
                <a:xfrm>
                  <a:off x="6324480" y="3308760"/>
                  <a:ext cx="977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 txBox="1"/>
                <p:nvPr/>
              </p:nvSpPr>
              <p:spPr>
                <a:xfrm>
                  <a:off x="6324480" y="3308760"/>
                  <a:ext cx="977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35"/>
              <p:cNvSpPr/>
              <p:nvPr/>
            </p:nvSpPr>
            <p:spPr>
              <a:xfrm>
                <a:off x="5836320" y="296784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36"/>
              <p:cNvSpPr/>
              <p:nvPr/>
            </p:nvSpPr>
            <p:spPr>
              <a:xfrm>
                <a:off x="5508720" y="4190400"/>
                <a:ext cx="52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Text Box 37"/>
              <p:cNvSpPr/>
              <p:nvPr/>
            </p:nvSpPr>
            <p:spPr>
              <a:xfrm>
                <a:off x="7649280" y="4218120"/>
                <a:ext cx="52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38"/>
              <p:cNvSpPr/>
              <p:nvPr/>
            </p:nvSpPr>
            <p:spPr>
              <a:xfrm>
                <a:off x="7371000" y="3020760"/>
                <a:ext cx="52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39"/>
              <p:cNvSpPr/>
              <p:nvPr/>
            </p:nvSpPr>
            <p:spPr>
              <a:xfrm>
                <a:off x="6579000" y="1413000"/>
                <a:ext cx="52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5931000" y="3308760"/>
                <a:ext cx="393120" cy="1134720"/>
                <a:chOff x="5931000" y="3308760"/>
                <a:chExt cx="393120" cy="1134720"/>
              </a:xfrm>
            </p:grpSpPr>
            <p:sp>
              <p:nvSpPr>
                <p:cNvPr id="549" name="Line 40"/>
                <p:cNvSpPr/>
                <p:nvPr/>
              </p:nvSpPr>
              <p:spPr>
                <a:xfrm flipV="1">
                  <a:off x="5931360" y="3308760"/>
                  <a:ext cx="392760" cy="1134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 txBox="1"/>
                <p:nvPr/>
              </p:nvSpPr>
              <p:spPr>
                <a:xfrm rot="10800000">
                  <a:off x="5931000" y="3308760"/>
                  <a:ext cx="392760" cy="113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6324480" y="1946160"/>
                <a:ext cx="487440" cy="1362240"/>
                <a:chOff x="6324480" y="1946160"/>
                <a:chExt cx="487440" cy="1362240"/>
              </a:xfrm>
            </p:grpSpPr>
            <p:sp>
              <p:nvSpPr>
                <p:cNvPr id="552" name="Line 41"/>
                <p:cNvSpPr/>
                <p:nvPr/>
              </p:nvSpPr>
              <p:spPr>
                <a:xfrm flipV="1">
                  <a:off x="6324480" y="1946160"/>
                  <a:ext cx="487440" cy="1362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 txBox="1"/>
                <p:nvPr/>
              </p:nvSpPr>
              <p:spPr>
                <a:xfrm rot="10800000">
                  <a:off x="6324480" y="1946160"/>
                  <a:ext cx="487440" cy="136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7301880" y="3308760"/>
                <a:ext cx="392760" cy="1134720"/>
                <a:chOff x="7301880" y="3308760"/>
                <a:chExt cx="392760" cy="1134720"/>
              </a:xfrm>
            </p:grpSpPr>
            <p:sp>
              <p:nvSpPr>
                <p:cNvPr id="555" name="Line 42"/>
                <p:cNvSpPr/>
                <p:nvPr/>
              </p:nvSpPr>
              <p:spPr>
                <a:xfrm>
                  <a:off x="7301880" y="3308760"/>
                  <a:ext cx="392760" cy="1134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 txBox="1"/>
                <p:nvPr/>
              </p:nvSpPr>
              <p:spPr>
                <a:xfrm>
                  <a:off x="7301880" y="3308760"/>
                  <a:ext cx="392760" cy="113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7" name=""/>
            <p:cNvGrpSpPr/>
            <p:nvPr/>
          </p:nvGrpSpPr>
          <p:grpSpPr>
            <a:xfrm>
              <a:off x="6812280" y="2069640"/>
              <a:ext cx="489960" cy="1249560"/>
              <a:chOff x="6812280" y="2069640"/>
              <a:chExt cx="489960" cy="1249560"/>
            </a:xfrm>
          </p:grpSpPr>
          <p:sp>
            <p:nvSpPr>
              <p:cNvPr id="558" name="Line 43"/>
              <p:cNvSpPr/>
              <p:nvPr/>
            </p:nvSpPr>
            <p:spPr>
              <a:xfrm>
                <a:off x="6812280" y="2069640"/>
                <a:ext cx="489960" cy="124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 txBox="1"/>
              <p:nvPr/>
            </p:nvSpPr>
            <p:spPr>
              <a:xfrm>
                <a:off x="6812280" y="2069640"/>
                <a:ext cx="489960" cy="124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105" descr="u"/>
          <p:cNvPicPr/>
          <p:nvPr/>
        </p:nvPicPr>
        <p:blipFill>
          <a:blip r:embed="rId1"/>
          <a:srcRect l="0" t="11867" r="166" b="1964"/>
          <a:stretch/>
        </p:blipFill>
        <p:spPr>
          <a:xfrm rot="21092400">
            <a:off x="246240" y="144360"/>
            <a:ext cx="796680" cy="1052640"/>
          </a:xfrm>
          <a:prstGeom prst="rect">
            <a:avLst/>
          </a:prstGeom>
          <a:ln w="0">
            <a:noFill/>
          </a:ln>
        </p:spPr>
      </p:pic>
      <p:sp>
        <p:nvSpPr>
          <p:cNvPr id="561" name="AutoShape 26"/>
          <p:cNvSpPr/>
          <p:nvPr/>
        </p:nvSpPr>
        <p:spPr>
          <a:xfrm>
            <a:off x="755640" y="476280"/>
            <a:ext cx="6120000" cy="536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0074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5"/>
          <p:cNvSpPr/>
          <p:nvPr/>
        </p:nvSpPr>
        <p:spPr>
          <a:xfrm>
            <a:off x="1619280" y="2178000"/>
            <a:ext cx="228600" cy="3124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8240"/>
                </a:lnTo>
                <a:cubicBezTo>
                  <a:pt x="10800" y="9139"/>
                  <a:pt x="5400" y="10038"/>
                  <a:pt x="0" y="10038"/>
                </a:cubicBezTo>
                <a:cubicBezTo>
                  <a:pt x="5400" y="10038"/>
                  <a:pt x="10800" y="10937"/>
                  <a:pt x="10800" y="11836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6"/>
          <p:cNvGrpSpPr/>
          <p:nvPr/>
        </p:nvGrpSpPr>
        <p:grpSpPr>
          <a:xfrm>
            <a:off x="1908000" y="1989000"/>
            <a:ext cx="1066680" cy="609840"/>
            <a:chOff x="1908000" y="1989000"/>
            <a:chExt cx="1066680" cy="609840"/>
          </a:xfrm>
        </p:grpSpPr>
        <p:sp>
          <p:nvSpPr>
            <p:cNvPr id="564" name="Oval 7"/>
            <p:cNvSpPr/>
            <p:nvPr/>
          </p:nvSpPr>
          <p:spPr>
            <a:xfrm>
              <a:off x="1908000" y="1989000"/>
              <a:ext cx="914400" cy="609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8"/>
            <p:cNvSpPr/>
            <p:nvPr/>
          </p:nvSpPr>
          <p:spPr>
            <a:xfrm>
              <a:off x="2060280" y="19890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仿宋_GB2312"/>
                  <a:ea typeface="仿宋_GB2312"/>
                </a:rPr>
                <a:t>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9"/>
          <p:cNvGrpSpPr/>
          <p:nvPr/>
        </p:nvGrpSpPr>
        <p:grpSpPr>
          <a:xfrm>
            <a:off x="1908000" y="2781360"/>
            <a:ext cx="1295640" cy="609480"/>
            <a:chOff x="1908000" y="2781360"/>
            <a:chExt cx="1295640" cy="609480"/>
          </a:xfrm>
        </p:grpSpPr>
        <p:sp>
          <p:nvSpPr>
            <p:cNvPr id="567" name="Oval 10"/>
            <p:cNvSpPr/>
            <p:nvPr/>
          </p:nvSpPr>
          <p:spPr>
            <a:xfrm>
              <a:off x="1908000" y="2781360"/>
              <a:ext cx="914400" cy="609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1"/>
            <p:cNvSpPr/>
            <p:nvPr/>
          </p:nvSpPr>
          <p:spPr>
            <a:xfrm>
              <a:off x="2060640" y="27813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仿宋_GB2312"/>
                  <a:ea typeface="仿宋_GB2312"/>
                </a:rPr>
                <a:t>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12"/>
          <p:cNvGrpSpPr/>
          <p:nvPr/>
        </p:nvGrpSpPr>
        <p:grpSpPr>
          <a:xfrm>
            <a:off x="1692360" y="3645000"/>
            <a:ext cx="1510920" cy="685800"/>
            <a:chOff x="1692360" y="3645000"/>
            <a:chExt cx="1510920" cy="685800"/>
          </a:xfrm>
        </p:grpSpPr>
        <p:sp>
          <p:nvSpPr>
            <p:cNvPr id="570" name="Oval 13"/>
            <p:cNvSpPr/>
            <p:nvPr/>
          </p:nvSpPr>
          <p:spPr>
            <a:xfrm>
              <a:off x="1776240" y="3645000"/>
              <a:ext cx="1175040" cy="68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4"/>
            <p:cNvSpPr/>
            <p:nvPr/>
          </p:nvSpPr>
          <p:spPr>
            <a:xfrm>
              <a:off x="1692360" y="3720960"/>
              <a:ext cx="151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仿宋_GB2312"/>
                  <a:ea typeface="仿宋_GB2312"/>
                </a:rPr>
                <a:t>对角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5"/>
          <p:cNvGrpSpPr/>
          <p:nvPr/>
        </p:nvGrpSpPr>
        <p:grpSpPr>
          <a:xfrm>
            <a:off x="1763640" y="4581360"/>
            <a:ext cx="1510920" cy="685800"/>
            <a:chOff x="1763640" y="4581360"/>
            <a:chExt cx="1510920" cy="685800"/>
          </a:xfrm>
        </p:grpSpPr>
        <p:sp>
          <p:nvSpPr>
            <p:cNvPr id="573" name="Oval 16"/>
            <p:cNvSpPr/>
            <p:nvPr/>
          </p:nvSpPr>
          <p:spPr>
            <a:xfrm>
              <a:off x="1847520" y="4581360"/>
              <a:ext cx="1175040" cy="68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17"/>
            <p:cNvSpPr/>
            <p:nvPr/>
          </p:nvSpPr>
          <p:spPr>
            <a:xfrm>
              <a:off x="1763640" y="4657320"/>
              <a:ext cx="151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仿宋_GB2312"/>
                  <a:ea typeface="仿宋_GB2312"/>
                </a:rPr>
                <a:t>对称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Rectangle 18"/>
          <p:cNvSpPr/>
          <p:nvPr/>
        </p:nvSpPr>
        <p:spPr>
          <a:xfrm>
            <a:off x="2987640" y="2060640"/>
            <a:ext cx="61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仿宋_GB2312"/>
                <a:ea typeface="仿宋_GB2312"/>
              </a:rPr>
              <a:t>一组对边平行，另一组对边不平行但相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9"/>
          <p:cNvSpPr/>
          <p:nvPr/>
        </p:nvSpPr>
        <p:spPr>
          <a:xfrm>
            <a:off x="3730320" y="29192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仿宋_GB2312"/>
                <a:ea typeface="仿宋_GB2312"/>
              </a:rPr>
              <a:t>在同一底上的两个内角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0"/>
          <p:cNvSpPr/>
          <p:nvPr/>
        </p:nvSpPr>
        <p:spPr>
          <a:xfrm>
            <a:off x="3823920" y="369900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仿宋_GB2312"/>
                <a:ea typeface="仿宋_GB2312"/>
              </a:rPr>
              <a:t>等腰梯形的两条对角线相等</a:t>
            </a:r>
            <a:r>
              <a:rPr b="1" lang="en-US" sz="2400" spc="-1" strike="noStrike">
                <a:solidFill>
                  <a:srgbClr val="00cc00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1"/>
          <p:cNvSpPr/>
          <p:nvPr/>
        </p:nvSpPr>
        <p:spPr>
          <a:xfrm>
            <a:off x="3166920" y="47260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仿宋_GB2312"/>
                <a:ea typeface="仿宋_GB2312"/>
              </a:rPr>
              <a:t>等腰梯形是轴对称图形，上下底中点所在的直线是对称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2"/>
          <p:cNvSpPr/>
          <p:nvPr/>
        </p:nvSpPr>
        <p:spPr>
          <a:xfrm>
            <a:off x="611280" y="1052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3"/>
          <p:cNvSpPr/>
          <p:nvPr/>
        </p:nvSpPr>
        <p:spPr>
          <a:xfrm>
            <a:off x="826920" y="134136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１．梯形，直角梯形，等腰梯形的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25"/>
          <p:cNvGrpSpPr/>
          <p:nvPr/>
        </p:nvGrpSpPr>
        <p:grpSpPr>
          <a:xfrm>
            <a:off x="461880" y="1989000"/>
            <a:ext cx="1079640" cy="3456000"/>
            <a:chOff x="461880" y="1989000"/>
            <a:chExt cx="1079640" cy="3456000"/>
          </a:xfrm>
        </p:grpSpPr>
        <p:sp>
          <p:nvSpPr>
            <p:cNvPr id="582" name="Text Box 4"/>
            <p:cNvSpPr/>
            <p:nvPr/>
          </p:nvSpPr>
          <p:spPr>
            <a:xfrm>
              <a:off x="461880" y="1989000"/>
              <a:ext cx="1079640" cy="34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　２ 等腰梯形的性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24"/>
            <p:cNvSpPr/>
            <p:nvPr/>
          </p:nvSpPr>
          <p:spPr>
            <a:xfrm>
              <a:off x="1180080" y="20268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Text Box 27"/>
          <p:cNvSpPr/>
          <p:nvPr/>
        </p:nvSpPr>
        <p:spPr>
          <a:xfrm>
            <a:off x="849240" y="512640"/>
            <a:ext cx="32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颗粒归仓　总结收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8" descr="%BB%A8%D2%B6%C2%CC%C2%DC1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92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192" fill="hold"/>
                                        <p:tgtEl>
                                          <p:spTgt spid="5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192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192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77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770" fill="hold"/>
                                        <p:tgtEl>
                                          <p:spTgt spid="5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6" dur="77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8" dur="77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77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770" fill="hold"/>
                                        <p:tgtEl>
                                          <p:spTgt spid="5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77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770" fill="hold"/>
                                        <p:tgtEl>
                                          <p:spTgt spid="5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6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105" descr="u"/>
          <p:cNvPicPr/>
          <p:nvPr/>
        </p:nvPicPr>
        <p:blipFill>
          <a:blip r:embed="rId1"/>
          <a:srcRect l="0" t="11867" r="166" b="1964"/>
          <a:stretch/>
        </p:blipFill>
        <p:spPr>
          <a:xfrm rot="21092400">
            <a:off x="246240" y="144360"/>
            <a:ext cx="796680" cy="1052640"/>
          </a:xfrm>
          <a:prstGeom prst="rect">
            <a:avLst/>
          </a:prstGeom>
          <a:ln w="0">
            <a:noFill/>
          </a:ln>
        </p:spPr>
      </p:pic>
      <p:sp>
        <p:nvSpPr>
          <p:cNvPr id="587" name="AutoShape 16"/>
          <p:cNvSpPr/>
          <p:nvPr/>
        </p:nvSpPr>
        <p:spPr>
          <a:xfrm>
            <a:off x="755640" y="403200"/>
            <a:ext cx="4630680" cy="6494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33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黑体"/>
              </a:rPr>
              <a:t>方法比知识更重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85440" y="1371600"/>
            <a:ext cx="8278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解决梯形问题的基本思路和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通过添加适当的辅助线，把梯形问题转化为平行四边形和三角形的问题来解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常画的辅助线有以下几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17" descr="%BB%A8%D2%B6%C2%CC%C2%DC1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1353960"/>
          </a:xfrm>
          <a:prstGeom prst="rect">
            <a:avLst/>
          </a:prstGeom>
          <a:ln w="0">
            <a:noFill/>
          </a:ln>
        </p:spPr>
      </p:pic>
      <p:grpSp>
        <p:nvGrpSpPr>
          <p:cNvPr id="591" name=""/>
          <p:cNvGrpSpPr/>
          <p:nvPr/>
        </p:nvGrpSpPr>
        <p:grpSpPr>
          <a:xfrm>
            <a:off x="5940360" y="3860640"/>
            <a:ext cx="360" cy="360"/>
            <a:chOff x="5940360" y="3860640"/>
            <a:chExt cx="360" cy="360"/>
          </a:xfrm>
        </p:grpSpPr>
        <p:sp>
          <p:nvSpPr>
            <p:cNvPr id="592" name="Line 20"/>
            <p:cNvSpPr/>
            <p:nvPr/>
          </p:nvSpPr>
          <p:spPr>
            <a:xfrm>
              <a:off x="5940360" y="3860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 txBox="1"/>
            <p:nvPr/>
          </p:nvSpPr>
          <p:spPr>
            <a:xfrm>
              <a:off x="5940360" y="386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940360" y="3860640"/>
            <a:ext cx="360" cy="360"/>
            <a:chOff x="5940360" y="3860640"/>
            <a:chExt cx="360" cy="360"/>
          </a:xfrm>
        </p:grpSpPr>
        <p:sp>
          <p:nvSpPr>
            <p:cNvPr id="595" name="Line 21"/>
            <p:cNvSpPr/>
            <p:nvPr/>
          </p:nvSpPr>
          <p:spPr>
            <a:xfrm>
              <a:off x="5940360" y="3860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 txBox="1"/>
            <p:nvPr/>
          </p:nvSpPr>
          <p:spPr>
            <a:xfrm>
              <a:off x="5940360" y="386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940360" y="3860640"/>
            <a:ext cx="360" cy="360"/>
            <a:chOff x="5940360" y="3860640"/>
            <a:chExt cx="360" cy="360"/>
          </a:xfrm>
        </p:grpSpPr>
        <p:sp>
          <p:nvSpPr>
            <p:cNvPr id="598" name="Line 22"/>
            <p:cNvSpPr/>
            <p:nvPr/>
          </p:nvSpPr>
          <p:spPr>
            <a:xfrm>
              <a:off x="5940360" y="3860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>
              <a:off x="5940360" y="386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32"/>
          <p:cNvGrpSpPr/>
          <p:nvPr/>
        </p:nvGrpSpPr>
        <p:grpSpPr>
          <a:xfrm>
            <a:off x="684360" y="2781360"/>
            <a:ext cx="6221160" cy="2525760"/>
            <a:chOff x="684360" y="2781360"/>
            <a:chExt cx="6221160" cy="2525760"/>
          </a:xfrm>
        </p:grpSpPr>
        <p:sp>
          <p:nvSpPr>
            <p:cNvPr id="601" name="AutoShape 4"/>
            <p:cNvSpPr/>
            <p:nvPr/>
          </p:nvSpPr>
          <p:spPr>
            <a:xfrm flipV="1">
              <a:off x="684360" y="4071240"/>
              <a:ext cx="1828800" cy="121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5"/>
            <p:cNvSpPr/>
            <p:nvPr/>
          </p:nvSpPr>
          <p:spPr>
            <a:xfrm flipV="1">
              <a:off x="2670120" y="4075920"/>
              <a:ext cx="1828800" cy="121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1692360" y="4071960"/>
              <a:ext cx="380880" cy="1228680"/>
              <a:chOff x="1692360" y="4071960"/>
              <a:chExt cx="380880" cy="1228680"/>
            </a:xfrm>
          </p:grpSpPr>
          <p:sp>
            <p:nvSpPr>
              <p:cNvPr id="604" name="Line 7"/>
              <p:cNvSpPr/>
              <p:nvPr/>
            </p:nvSpPr>
            <p:spPr>
              <a:xfrm flipH="1">
                <a:off x="1692360" y="4071960"/>
                <a:ext cx="380880" cy="1228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 txBox="1"/>
              <p:nvPr/>
            </p:nvSpPr>
            <p:spPr>
              <a:xfrm>
                <a:off x="1692360" y="4071960"/>
                <a:ext cx="38088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3127320" y="4083120"/>
              <a:ext cx="360" cy="1218960"/>
              <a:chOff x="3127320" y="4083120"/>
              <a:chExt cx="360" cy="1218960"/>
            </a:xfrm>
          </p:grpSpPr>
          <p:sp>
            <p:nvSpPr>
              <p:cNvPr id="607" name="Line 8"/>
              <p:cNvSpPr/>
              <p:nvPr/>
            </p:nvSpPr>
            <p:spPr>
              <a:xfrm>
                <a:off x="3127320" y="4083120"/>
                <a:ext cx="0" cy="1218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 txBox="1"/>
              <p:nvPr/>
            </p:nvSpPr>
            <p:spPr>
              <a:xfrm>
                <a:off x="3127320" y="4083120"/>
                <a:ext cx="360" cy="121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4017960" y="4087800"/>
              <a:ext cx="360" cy="1219320"/>
              <a:chOff x="4017960" y="4087800"/>
              <a:chExt cx="360" cy="1219320"/>
            </a:xfrm>
          </p:grpSpPr>
          <p:sp>
            <p:nvSpPr>
              <p:cNvPr id="610" name="Line 9"/>
              <p:cNvSpPr/>
              <p:nvPr/>
            </p:nvSpPr>
            <p:spPr>
              <a:xfrm>
                <a:off x="4017960" y="4087800"/>
                <a:ext cx="0" cy="121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 txBox="1"/>
              <p:nvPr/>
            </p:nvSpPr>
            <p:spPr>
              <a:xfrm>
                <a:off x="4017960" y="4087800"/>
                <a:ext cx="360" cy="121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Group 31"/>
            <p:cNvGrpSpPr/>
            <p:nvPr/>
          </p:nvGrpSpPr>
          <p:grpSpPr>
            <a:xfrm>
              <a:off x="5076720" y="2781360"/>
              <a:ext cx="1828800" cy="2515680"/>
              <a:chOff x="5076720" y="2781360"/>
              <a:chExt cx="1828800" cy="2515680"/>
            </a:xfrm>
          </p:grpSpPr>
          <p:sp>
            <p:nvSpPr>
              <p:cNvPr id="613" name="AutoShape 19"/>
              <p:cNvSpPr/>
              <p:nvPr/>
            </p:nvSpPr>
            <p:spPr>
              <a:xfrm flipV="1">
                <a:off x="5076720" y="4077360"/>
                <a:ext cx="1828800" cy="1219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" name="Group 30"/>
              <p:cNvGrpSpPr/>
              <p:nvPr/>
            </p:nvGrpSpPr>
            <p:grpSpPr>
              <a:xfrm>
                <a:off x="5541840" y="2781360"/>
                <a:ext cx="902880" cy="1296720"/>
                <a:chOff x="5541840" y="2781360"/>
                <a:chExt cx="902880" cy="1296720"/>
              </a:xfrm>
            </p:grpSpPr>
            <p:grpSp>
              <p:nvGrpSpPr>
                <p:cNvPr id="615" name=""/>
                <p:cNvGrpSpPr/>
                <p:nvPr/>
              </p:nvGrpSpPr>
              <p:grpSpPr>
                <a:xfrm>
                  <a:off x="5541840" y="2830320"/>
                  <a:ext cx="432000" cy="1224000"/>
                  <a:chOff x="5541840" y="2830320"/>
                  <a:chExt cx="432000" cy="1224000"/>
                </a:xfrm>
              </p:grpSpPr>
              <p:sp>
                <p:nvSpPr>
                  <p:cNvPr id="616" name="Line 23"/>
                  <p:cNvSpPr/>
                  <p:nvPr/>
                </p:nvSpPr>
                <p:spPr>
                  <a:xfrm flipV="1">
                    <a:off x="5541840" y="2830320"/>
                    <a:ext cx="432000" cy="1224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 txBox="1"/>
                  <p:nvPr/>
                </p:nvSpPr>
                <p:spPr>
                  <a:xfrm rot="10800000">
                    <a:off x="5541840" y="2830320"/>
                    <a:ext cx="432000" cy="1224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6013080" y="2781360"/>
                  <a:ext cx="431640" cy="1296720"/>
                  <a:chOff x="6013080" y="2781360"/>
                  <a:chExt cx="431640" cy="1296720"/>
                </a:xfrm>
              </p:grpSpPr>
              <p:sp>
                <p:nvSpPr>
                  <p:cNvPr id="619" name="Line 25"/>
                  <p:cNvSpPr/>
                  <p:nvPr/>
                </p:nvSpPr>
                <p:spPr>
                  <a:xfrm flipH="1" flipV="1">
                    <a:off x="6013080" y="2781360"/>
                    <a:ext cx="431640" cy="1296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 txBox="1"/>
                  <p:nvPr/>
                </p:nvSpPr>
                <p:spPr>
                  <a:xfrm rot="10800000">
                    <a:off x="6013080" y="2781360"/>
                    <a:ext cx="431640" cy="129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21" name="文本框 8200"/>
          <p:cNvSpPr/>
          <p:nvPr/>
        </p:nvSpPr>
        <p:spPr>
          <a:xfrm>
            <a:off x="838080" y="1089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105" descr="u"/>
          <p:cNvPicPr/>
          <p:nvPr/>
        </p:nvPicPr>
        <p:blipFill>
          <a:blip r:embed="rId1"/>
          <a:srcRect l="0" t="11867" r="166" b="1964"/>
          <a:stretch/>
        </p:blipFill>
        <p:spPr>
          <a:xfrm rot="21092400">
            <a:off x="246240" y="144360"/>
            <a:ext cx="796680" cy="105264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 txBox="1"/>
          <p:nvPr/>
        </p:nvSpPr>
        <p:spPr>
          <a:xfrm>
            <a:off x="1835280" y="2492280"/>
            <a:ext cx="53496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业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P109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习题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,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4"/>
          <p:cNvSpPr/>
          <p:nvPr/>
        </p:nvSpPr>
        <p:spPr>
          <a:xfrm>
            <a:off x="755640" y="549360"/>
            <a:ext cx="2879640" cy="536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0074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865080" y="5716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课后巩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6" descr="%BB%A8%D2%B6%C2%CC%C2%DC1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795C-32EF-4ABF-8954-0A7FB7C2CB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书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2" name="WordArt 3"/>
          <p:cNvSpPr txBox="1"/>
          <p:nvPr/>
        </p:nvSpPr>
        <p:spPr>
          <a:xfrm rot="5400000">
            <a:off x="843840" y="3483000"/>
            <a:ext cx="397188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80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latin typeface="华文新魏"/>
              </a:rPr>
              <a:t>点线面体描绘青春</a:t>
            </a:r>
            <a:endParaRPr b="0" lang="en-US" sz="1800" spc="1" strike="noStrike">
              <a:ln w="9360">
                <a:solidFill>
                  <a:srgbClr val="800080"/>
                </a:solidFill>
                <a:round/>
              </a:ln>
              <a:blipFill rotWithShape="0">
                <a:blip r:embed="rId3"/>
                <a:srcRect/>
                <a:stretch/>
              </a:blipFill>
              <a:latin typeface="华文新魏"/>
              <a:ea typeface="华文新魏"/>
            </a:endParaRPr>
          </a:p>
        </p:txBody>
      </p:sp>
      <p:sp>
        <p:nvSpPr>
          <p:cNvPr id="633" name="WordArt 4"/>
          <p:cNvSpPr txBox="1"/>
          <p:nvPr/>
        </p:nvSpPr>
        <p:spPr>
          <a:xfrm rot="5400000">
            <a:off x="4301280" y="3339360"/>
            <a:ext cx="382752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80"/>
                  </a:solidFill>
                  <a:round/>
                </a:ln>
                <a:blipFill rotWithShape="0">
                  <a:blip r:embed="rId4"/>
                  <a:srcRect/>
                  <a:stretch/>
                </a:blipFill>
                <a:latin typeface="华文新魏"/>
              </a:rPr>
              <a:t>加减乘除谋算未来</a:t>
            </a:r>
            <a:endParaRPr b="0" lang="en-US" sz="1800" spc="1" strike="noStrike">
              <a:ln w="9360">
                <a:solidFill>
                  <a:srgbClr val="800080"/>
                </a:solidFill>
                <a:round/>
              </a:ln>
              <a:blipFill rotWithShape="0">
                <a:blip r:embed="rId5"/>
                <a:srcRect/>
                <a:stretch/>
              </a:blipFill>
              <a:latin typeface="华文新魏"/>
              <a:ea typeface="华文新魏"/>
            </a:endParaRPr>
          </a:p>
        </p:txBody>
      </p:sp>
      <p:sp>
        <p:nvSpPr>
          <p:cNvPr id="634" name="WordArt 5"/>
          <p:cNvSpPr txBox="1"/>
          <p:nvPr/>
        </p:nvSpPr>
        <p:spPr>
          <a:xfrm>
            <a:off x="2411280" y="620640"/>
            <a:ext cx="410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祝同学们学习进步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!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755640" y="0"/>
            <a:ext cx="3960720" cy="5814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  引入新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8028000" cy="194148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4"/>
          <p:cNvGrpSpPr/>
          <p:nvPr/>
        </p:nvGrpSpPr>
        <p:grpSpPr>
          <a:xfrm>
            <a:off x="1641600" y="1535040"/>
            <a:ext cx="1311120" cy="1440360"/>
            <a:chOff x="1641600" y="1535040"/>
            <a:chExt cx="1311120" cy="1440360"/>
          </a:xfrm>
        </p:grpSpPr>
        <p:grpSp>
          <p:nvGrpSpPr>
            <p:cNvPr id="94" name=""/>
            <p:cNvGrpSpPr/>
            <p:nvPr/>
          </p:nvGrpSpPr>
          <p:grpSpPr>
            <a:xfrm>
              <a:off x="1641600" y="1535040"/>
              <a:ext cx="303120" cy="1440000"/>
              <a:chOff x="1641600" y="1535040"/>
              <a:chExt cx="303120" cy="1440000"/>
            </a:xfrm>
          </p:grpSpPr>
          <p:sp>
            <p:nvSpPr>
              <p:cNvPr id="95" name="Line 5"/>
              <p:cNvSpPr/>
              <p:nvPr/>
            </p:nvSpPr>
            <p:spPr>
              <a:xfrm flipH="1">
                <a:off x="1641600" y="1535040"/>
                <a:ext cx="303120" cy="144000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1641600" y="1535040"/>
                <a:ext cx="303120" cy="1440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930680" y="1549440"/>
              <a:ext cx="647640" cy="360"/>
              <a:chOff x="1930680" y="1549440"/>
              <a:chExt cx="647640" cy="360"/>
            </a:xfrm>
          </p:grpSpPr>
          <p:sp>
            <p:nvSpPr>
              <p:cNvPr id="98" name="Line 6"/>
              <p:cNvSpPr/>
              <p:nvPr/>
            </p:nvSpPr>
            <p:spPr>
              <a:xfrm>
                <a:off x="1930680" y="1549440"/>
                <a:ext cx="647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1930680" y="1549440"/>
                <a:ext cx="64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592360" y="1535040"/>
              <a:ext cx="360360" cy="1440000"/>
              <a:chOff x="2592360" y="1535040"/>
              <a:chExt cx="360360" cy="1440000"/>
            </a:xfrm>
          </p:grpSpPr>
          <p:sp>
            <p:nvSpPr>
              <p:cNvPr id="101" name="Line 7"/>
              <p:cNvSpPr/>
              <p:nvPr/>
            </p:nvSpPr>
            <p:spPr>
              <a:xfrm>
                <a:off x="2592360" y="1535040"/>
                <a:ext cx="360360" cy="144000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2592360" y="1535040"/>
                <a:ext cx="360360" cy="1440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1641600" y="2975040"/>
              <a:ext cx="1297080" cy="360"/>
              <a:chOff x="1641600" y="2975040"/>
              <a:chExt cx="1297080" cy="360"/>
            </a:xfrm>
          </p:grpSpPr>
          <p:sp>
            <p:nvSpPr>
              <p:cNvPr id="104" name="Line 8"/>
              <p:cNvSpPr/>
              <p:nvPr/>
            </p:nvSpPr>
            <p:spPr>
              <a:xfrm>
                <a:off x="1641600" y="2975040"/>
                <a:ext cx="129708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>
                <a:off x="1641600" y="2975040"/>
                <a:ext cx="129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Group 9"/>
          <p:cNvGrpSpPr/>
          <p:nvPr/>
        </p:nvGrpSpPr>
        <p:grpSpPr>
          <a:xfrm>
            <a:off x="6589800" y="2205000"/>
            <a:ext cx="1366920" cy="518040"/>
            <a:chOff x="6589800" y="2205000"/>
            <a:chExt cx="1366920" cy="518040"/>
          </a:xfrm>
        </p:grpSpPr>
        <p:grpSp>
          <p:nvGrpSpPr>
            <p:cNvPr id="107" name=""/>
            <p:cNvGrpSpPr/>
            <p:nvPr/>
          </p:nvGrpSpPr>
          <p:grpSpPr>
            <a:xfrm>
              <a:off x="6589800" y="2205000"/>
              <a:ext cx="1366920" cy="360"/>
              <a:chOff x="6589800" y="2205000"/>
              <a:chExt cx="1366920" cy="360"/>
            </a:xfrm>
          </p:grpSpPr>
          <p:sp>
            <p:nvSpPr>
              <p:cNvPr id="108" name="Line 10"/>
              <p:cNvSpPr/>
              <p:nvPr/>
            </p:nvSpPr>
            <p:spPr>
              <a:xfrm>
                <a:off x="6589800" y="2205000"/>
                <a:ext cx="136692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 txBox="1"/>
              <p:nvPr/>
            </p:nvSpPr>
            <p:spPr>
              <a:xfrm>
                <a:off x="6589800" y="2205000"/>
                <a:ext cx="136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7481880" y="2219400"/>
              <a:ext cx="432000" cy="503280"/>
              <a:chOff x="7481880" y="2219400"/>
              <a:chExt cx="432000" cy="503280"/>
            </a:xfrm>
          </p:grpSpPr>
          <p:sp>
            <p:nvSpPr>
              <p:cNvPr id="111" name="Line 11"/>
              <p:cNvSpPr/>
              <p:nvPr/>
            </p:nvSpPr>
            <p:spPr>
              <a:xfrm flipH="1">
                <a:off x="7481880" y="2219400"/>
                <a:ext cx="432000" cy="50328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7481880" y="2219400"/>
                <a:ext cx="43200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962760" y="2722680"/>
              <a:ext cx="505080" cy="360"/>
              <a:chOff x="6962760" y="2722680"/>
              <a:chExt cx="505080" cy="360"/>
            </a:xfrm>
          </p:grpSpPr>
          <p:sp>
            <p:nvSpPr>
              <p:cNvPr id="114" name="Line 12"/>
              <p:cNvSpPr/>
              <p:nvPr/>
            </p:nvSpPr>
            <p:spPr>
              <a:xfrm>
                <a:off x="6962760" y="2722680"/>
                <a:ext cx="50508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6962760" y="2722680"/>
                <a:ext cx="50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589800" y="2205000"/>
              <a:ext cx="344520" cy="503280"/>
              <a:chOff x="6589800" y="2205000"/>
              <a:chExt cx="344520" cy="503280"/>
            </a:xfrm>
          </p:grpSpPr>
          <p:sp>
            <p:nvSpPr>
              <p:cNvPr id="117" name="Line 13"/>
              <p:cNvSpPr/>
              <p:nvPr/>
            </p:nvSpPr>
            <p:spPr>
              <a:xfrm>
                <a:off x="6589800" y="2205000"/>
                <a:ext cx="344520" cy="50328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6589800" y="2205000"/>
                <a:ext cx="34452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Group 14"/>
          <p:cNvGrpSpPr/>
          <p:nvPr/>
        </p:nvGrpSpPr>
        <p:grpSpPr>
          <a:xfrm>
            <a:off x="3938760" y="1484280"/>
            <a:ext cx="633240" cy="1224000"/>
            <a:chOff x="3938760" y="1484280"/>
            <a:chExt cx="633240" cy="1224000"/>
          </a:xfrm>
        </p:grpSpPr>
        <p:grpSp>
          <p:nvGrpSpPr>
            <p:cNvPr id="120" name=""/>
            <p:cNvGrpSpPr/>
            <p:nvPr/>
          </p:nvGrpSpPr>
          <p:grpSpPr>
            <a:xfrm>
              <a:off x="3996000" y="1484280"/>
              <a:ext cx="288720" cy="1008000"/>
              <a:chOff x="3996000" y="1484280"/>
              <a:chExt cx="288720" cy="1008000"/>
            </a:xfrm>
          </p:grpSpPr>
          <p:sp>
            <p:nvSpPr>
              <p:cNvPr id="121" name="Line 15"/>
              <p:cNvSpPr/>
              <p:nvPr/>
            </p:nvSpPr>
            <p:spPr>
              <a:xfrm flipH="1">
                <a:off x="3996000" y="1484280"/>
                <a:ext cx="288720" cy="100800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3996000" y="1484280"/>
                <a:ext cx="28872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284720" y="1484280"/>
              <a:ext cx="287280" cy="73080"/>
              <a:chOff x="4284720" y="1484280"/>
              <a:chExt cx="287280" cy="73080"/>
            </a:xfrm>
          </p:grpSpPr>
          <p:sp>
            <p:nvSpPr>
              <p:cNvPr id="124" name="Line 16"/>
              <p:cNvSpPr/>
              <p:nvPr/>
            </p:nvSpPr>
            <p:spPr>
              <a:xfrm>
                <a:off x="4284720" y="1484280"/>
                <a:ext cx="287280" cy="7308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4284720" y="1484280"/>
                <a:ext cx="287280" cy="7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4356000" y="1557360"/>
              <a:ext cx="216000" cy="1150920"/>
              <a:chOff x="4356000" y="1557360"/>
              <a:chExt cx="216000" cy="1150920"/>
            </a:xfrm>
          </p:grpSpPr>
          <p:sp>
            <p:nvSpPr>
              <p:cNvPr id="127" name="Line 17"/>
              <p:cNvSpPr/>
              <p:nvPr/>
            </p:nvSpPr>
            <p:spPr>
              <a:xfrm flipH="1">
                <a:off x="4356000" y="1557360"/>
                <a:ext cx="215640" cy="115092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 txBox="1"/>
              <p:nvPr/>
            </p:nvSpPr>
            <p:spPr>
              <a:xfrm>
                <a:off x="4356360" y="1557360"/>
                <a:ext cx="215640" cy="11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938760" y="2521080"/>
              <a:ext cx="431640" cy="144360"/>
              <a:chOff x="3938760" y="2521080"/>
              <a:chExt cx="431640" cy="144360"/>
            </a:xfrm>
          </p:grpSpPr>
          <p:sp>
            <p:nvSpPr>
              <p:cNvPr id="130" name="Line 18"/>
              <p:cNvSpPr/>
              <p:nvPr/>
            </p:nvSpPr>
            <p:spPr>
              <a:xfrm>
                <a:off x="3938760" y="2521080"/>
                <a:ext cx="431640" cy="14436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 txBox="1"/>
              <p:nvPr/>
            </p:nvSpPr>
            <p:spPr>
              <a:xfrm>
                <a:off x="3938760" y="2521080"/>
                <a:ext cx="43164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2" name="Picture 20" descr="袋子"/>
          <p:cNvPicPr/>
          <p:nvPr/>
        </p:nvPicPr>
        <p:blipFill>
          <a:blip r:embed="rId2"/>
          <a:stretch/>
        </p:blipFill>
        <p:spPr>
          <a:xfrm>
            <a:off x="3708360" y="3789360"/>
            <a:ext cx="2338560" cy="2274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袋子５"/>
          <p:cNvPicPr/>
          <p:nvPr/>
        </p:nvPicPr>
        <p:blipFill>
          <a:blip r:embed="rId3"/>
          <a:stretch/>
        </p:blipFill>
        <p:spPr>
          <a:xfrm>
            <a:off x="1116000" y="3573360"/>
            <a:ext cx="2246400" cy="2487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2" descr="袋子４"/>
          <p:cNvPicPr/>
          <p:nvPr/>
        </p:nvPicPr>
        <p:blipFill>
          <a:blip r:embed="rId4"/>
          <a:stretch/>
        </p:blipFill>
        <p:spPr>
          <a:xfrm>
            <a:off x="6084720" y="3697200"/>
            <a:ext cx="3033720" cy="26114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23"/>
          <p:cNvGrpSpPr/>
          <p:nvPr/>
        </p:nvGrpSpPr>
        <p:grpSpPr>
          <a:xfrm>
            <a:off x="1258560" y="4652280"/>
            <a:ext cx="7634160" cy="1410840"/>
            <a:chOff x="1258560" y="4652280"/>
            <a:chExt cx="7634160" cy="1410840"/>
          </a:xfrm>
        </p:grpSpPr>
        <p:grpSp>
          <p:nvGrpSpPr>
            <p:cNvPr id="136" name="Group 24"/>
            <p:cNvGrpSpPr/>
            <p:nvPr/>
          </p:nvGrpSpPr>
          <p:grpSpPr>
            <a:xfrm>
              <a:off x="1258560" y="4765680"/>
              <a:ext cx="2003040" cy="1225440"/>
              <a:chOff x="1258560" y="4765680"/>
              <a:chExt cx="2003040" cy="122544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1258560" y="4838040"/>
                <a:ext cx="454320" cy="1151640"/>
                <a:chOff x="1258560" y="4838040"/>
                <a:chExt cx="454320" cy="1151640"/>
              </a:xfrm>
            </p:grpSpPr>
            <p:sp>
              <p:nvSpPr>
                <p:cNvPr id="138" name="Line 25"/>
                <p:cNvSpPr/>
                <p:nvPr/>
              </p:nvSpPr>
              <p:spPr>
                <a:xfrm flipH="1">
                  <a:off x="1258560" y="4838040"/>
                  <a:ext cx="453960" cy="1150920"/>
                </a:xfrm>
                <a:prstGeom prst="line">
                  <a:avLst/>
                </a:prstGeom>
                <a:ln w="63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 txBox="1"/>
                <p:nvPr/>
              </p:nvSpPr>
              <p:spPr>
                <a:xfrm>
                  <a:off x="1258920" y="4838760"/>
                  <a:ext cx="453960" cy="11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1712520" y="4838760"/>
                <a:ext cx="1032480" cy="360"/>
                <a:chOff x="1712520" y="4838760"/>
                <a:chExt cx="1032480" cy="360"/>
              </a:xfrm>
            </p:grpSpPr>
            <p:sp>
              <p:nvSpPr>
                <p:cNvPr id="141" name="Line 26"/>
                <p:cNvSpPr/>
                <p:nvPr/>
              </p:nvSpPr>
              <p:spPr>
                <a:xfrm flipH="1">
                  <a:off x="1712520" y="4838760"/>
                  <a:ext cx="1032120" cy="0"/>
                </a:xfrm>
                <a:prstGeom prst="line">
                  <a:avLst/>
                </a:prstGeom>
                <a:ln w="63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 txBox="1"/>
                <p:nvPr/>
              </p:nvSpPr>
              <p:spPr>
                <a:xfrm>
                  <a:off x="1712880" y="4838760"/>
                  <a:ext cx="1032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2745360" y="4765680"/>
                <a:ext cx="516240" cy="1224000"/>
                <a:chOff x="2745360" y="4765680"/>
                <a:chExt cx="516240" cy="1224000"/>
              </a:xfrm>
            </p:grpSpPr>
            <p:sp>
              <p:nvSpPr>
                <p:cNvPr id="144" name="Line 27"/>
                <p:cNvSpPr/>
                <p:nvPr/>
              </p:nvSpPr>
              <p:spPr>
                <a:xfrm>
                  <a:off x="2745360" y="4765680"/>
                  <a:ext cx="516240" cy="1224000"/>
                </a:xfrm>
                <a:prstGeom prst="line">
                  <a:avLst/>
                </a:prstGeom>
                <a:ln w="63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 txBox="1"/>
                <p:nvPr/>
              </p:nvSpPr>
              <p:spPr>
                <a:xfrm>
                  <a:off x="2745360" y="4765680"/>
                  <a:ext cx="516240" cy="12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260000" y="5989680"/>
                <a:ext cx="2001600" cy="1440"/>
                <a:chOff x="1260000" y="5989680"/>
                <a:chExt cx="2001600" cy="1440"/>
              </a:xfrm>
            </p:grpSpPr>
            <p:sp>
              <p:nvSpPr>
                <p:cNvPr id="147" name="Line 28"/>
                <p:cNvSpPr/>
                <p:nvPr/>
              </p:nvSpPr>
              <p:spPr>
                <a:xfrm flipH="1">
                  <a:off x="1260000" y="5989680"/>
                  <a:ext cx="2001600" cy="1440"/>
                </a:xfrm>
                <a:prstGeom prst="line">
                  <a:avLst/>
                </a:prstGeom>
                <a:ln w="63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 txBox="1"/>
                <p:nvPr/>
              </p:nvSpPr>
              <p:spPr>
                <a:xfrm>
                  <a:off x="1260000" y="5989680"/>
                  <a:ext cx="20016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9" name="Group 29"/>
            <p:cNvGrpSpPr/>
            <p:nvPr/>
          </p:nvGrpSpPr>
          <p:grpSpPr>
            <a:xfrm>
              <a:off x="3842640" y="4652280"/>
              <a:ext cx="2066040" cy="1368000"/>
              <a:chOff x="3842640" y="4652280"/>
              <a:chExt cx="2066040" cy="13680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3842640" y="4652280"/>
                <a:ext cx="387360" cy="1367640"/>
                <a:chOff x="3842640" y="4652280"/>
                <a:chExt cx="387360" cy="1367640"/>
              </a:xfrm>
            </p:grpSpPr>
            <p:sp>
              <p:nvSpPr>
                <p:cNvPr id="151" name="Line 30"/>
                <p:cNvSpPr/>
                <p:nvPr/>
              </p:nvSpPr>
              <p:spPr>
                <a:xfrm flipH="1">
                  <a:off x="3842640" y="4652280"/>
                  <a:ext cx="387000" cy="1366920"/>
                </a:xfrm>
                <a:prstGeom prst="line">
                  <a:avLst/>
                </a:prstGeom>
                <a:ln w="63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 txBox="1"/>
                <p:nvPr/>
              </p:nvSpPr>
              <p:spPr>
                <a:xfrm>
                  <a:off x="3843000" y="4653000"/>
                  <a:ext cx="387000" cy="136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230000" y="4653000"/>
                <a:ext cx="1420560" cy="360"/>
                <a:chOff x="4230000" y="4653000"/>
                <a:chExt cx="1420560" cy="360"/>
              </a:xfrm>
            </p:grpSpPr>
            <p:sp>
              <p:nvSpPr>
                <p:cNvPr id="154" name="Line 31"/>
                <p:cNvSpPr/>
                <p:nvPr/>
              </p:nvSpPr>
              <p:spPr>
                <a:xfrm flipH="1">
                  <a:off x="4230000" y="4653000"/>
                  <a:ext cx="1420560" cy="0"/>
                </a:xfrm>
                <a:prstGeom prst="line">
                  <a:avLst/>
                </a:prstGeom>
                <a:ln w="63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 txBox="1"/>
                <p:nvPr/>
              </p:nvSpPr>
              <p:spPr>
                <a:xfrm>
                  <a:off x="4230000" y="4653000"/>
                  <a:ext cx="1420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5650560" y="4652280"/>
                <a:ext cx="257760" cy="1367640"/>
                <a:chOff x="5650560" y="4652280"/>
                <a:chExt cx="257760" cy="1367640"/>
              </a:xfrm>
            </p:grpSpPr>
            <p:sp>
              <p:nvSpPr>
                <p:cNvPr id="157" name="Line 32"/>
                <p:cNvSpPr/>
                <p:nvPr/>
              </p:nvSpPr>
              <p:spPr>
                <a:xfrm>
                  <a:off x="5650560" y="4652280"/>
                  <a:ext cx="257760" cy="1366920"/>
                </a:xfrm>
                <a:prstGeom prst="line">
                  <a:avLst/>
                </a:prstGeom>
                <a:ln w="63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 txBox="1"/>
                <p:nvPr/>
              </p:nvSpPr>
              <p:spPr>
                <a:xfrm>
                  <a:off x="5650560" y="4653000"/>
                  <a:ext cx="257760" cy="136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843000" y="6019920"/>
                <a:ext cx="2065680" cy="360"/>
                <a:chOff x="3843000" y="6019920"/>
                <a:chExt cx="2065680" cy="360"/>
              </a:xfrm>
            </p:grpSpPr>
            <p:sp>
              <p:nvSpPr>
                <p:cNvPr id="160" name="Line 33"/>
                <p:cNvSpPr/>
                <p:nvPr/>
              </p:nvSpPr>
              <p:spPr>
                <a:xfrm flipH="1">
                  <a:off x="3843000" y="6019920"/>
                  <a:ext cx="2065680" cy="0"/>
                </a:xfrm>
                <a:prstGeom prst="line">
                  <a:avLst/>
                </a:prstGeom>
                <a:ln w="63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 txBox="1"/>
                <p:nvPr/>
              </p:nvSpPr>
              <p:spPr>
                <a:xfrm>
                  <a:off x="3843000" y="6019920"/>
                  <a:ext cx="2065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34"/>
            <p:cNvGrpSpPr/>
            <p:nvPr/>
          </p:nvGrpSpPr>
          <p:grpSpPr>
            <a:xfrm>
              <a:off x="6308280" y="4837320"/>
              <a:ext cx="2584440" cy="1225800"/>
              <a:chOff x="6308280" y="4837320"/>
              <a:chExt cx="2584440" cy="122580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6308280" y="4837320"/>
                <a:ext cx="581040" cy="1224000"/>
                <a:chOff x="6308280" y="4837320"/>
                <a:chExt cx="581040" cy="1224000"/>
              </a:xfrm>
            </p:grpSpPr>
            <p:sp>
              <p:nvSpPr>
                <p:cNvPr id="164" name="Line 35"/>
                <p:cNvSpPr/>
                <p:nvPr/>
              </p:nvSpPr>
              <p:spPr>
                <a:xfrm flipH="1">
                  <a:off x="6308280" y="4837320"/>
                  <a:ext cx="580680" cy="1224000"/>
                </a:xfrm>
                <a:prstGeom prst="line">
                  <a:avLst/>
                </a:prstGeom>
                <a:ln w="633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 txBox="1"/>
                <p:nvPr/>
              </p:nvSpPr>
              <p:spPr>
                <a:xfrm>
                  <a:off x="6308640" y="4837320"/>
                  <a:ext cx="580680" cy="12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6889320" y="4837320"/>
                <a:ext cx="1486080" cy="360"/>
                <a:chOff x="6889320" y="4837320"/>
                <a:chExt cx="1486080" cy="360"/>
              </a:xfrm>
            </p:grpSpPr>
            <p:sp>
              <p:nvSpPr>
                <p:cNvPr id="167" name="Line 36"/>
                <p:cNvSpPr/>
                <p:nvPr/>
              </p:nvSpPr>
              <p:spPr>
                <a:xfrm flipH="1">
                  <a:off x="6889320" y="4837320"/>
                  <a:ext cx="1486080" cy="0"/>
                </a:xfrm>
                <a:prstGeom prst="line">
                  <a:avLst/>
                </a:prstGeom>
                <a:ln w="633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 txBox="1"/>
                <p:nvPr/>
              </p:nvSpPr>
              <p:spPr>
                <a:xfrm>
                  <a:off x="6889320" y="4837320"/>
                  <a:ext cx="1486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8375040" y="4837320"/>
                <a:ext cx="517320" cy="1224000"/>
                <a:chOff x="8375040" y="4837320"/>
                <a:chExt cx="517320" cy="1224000"/>
              </a:xfrm>
            </p:grpSpPr>
            <p:sp>
              <p:nvSpPr>
                <p:cNvPr id="170" name="Line 37"/>
                <p:cNvSpPr/>
                <p:nvPr/>
              </p:nvSpPr>
              <p:spPr>
                <a:xfrm>
                  <a:off x="8375040" y="4837320"/>
                  <a:ext cx="516600" cy="1224000"/>
                </a:xfrm>
                <a:prstGeom prst="line">
                  <a:avLst/>
                </a:prstGeom>
                <a:ln w="633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 txBox="1"/>
                <p:nvPr/>
              </p:nvSpPr>
              <p:spPr>
                <a:xfrm>
                  <a:off x="8375760" y="4837320"/>
                  <a:ext cx="516600" cy="12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308640" y="6062760"/>
                <a:ext cx="2584080" cy="360"/>
                <a:chOff x="6308640" y="6062760"/>
                <a:chExt cx="2584080" cy="360"/>
              </a:xfrm>
            </p:grpSpPr>
            <p:sp>
              <p:nvSpPr>
                <p:cNvPr id="173" name="Line 38"/>
                <p:cNvSpPr/>
                <p:nvPr/>
              </p:nvSpPr>
              <p:spPr>
                <a:xfrm flipH="1">
                  <a:off x="6308640" y="6062760"/>
                  <a:ext cx="2584080" cy="0"/>
                </a:xfrm>
                <a:prstGeom prst="line">
                  <a:avLst/>
                </a:prstGeom>
                <a:ln w="633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 txBox="1"/>
                <p:nvPr/>
              </p:nvSpPr>
              <p:spPr>
                <a:xfrm>
                  <a:off x="6308640" y="6062760"/>
                  <a:ext cx="2584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5" name="Text Box 39"/>
          <p:cNvSpPr/>
          <p:nvPr/>
        </p:nvSpPr>
        <p:spPr>
          <a:xfrm>
            <a:off x="-75960" y="1197000"/>
            <a:ext cx="12776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生活中处处有数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0" descr="%BB%A8%D2%B6%C2%CC%C2%DC1"/>
          <p:cNvPicPr/>
          <p:nvPr/>
        </p:nvPicPr>
        <p:blipFill>
          <a:blip r:embed="rId5"/>
          <a:stretch/>
        </p:blipFill>
        <p:spPr>
          <a:xfrm>
            <a:off x="7596360" y="0"/>
            <a:ext cx="1547640" cy="1386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2"/>
          <p:cNvSpPr/>
          <p:nvPr/>
        </p:nvSpPr>
        <p:spPr>
          <a:xfrm>
            <a:off x="611280" y="765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欣赏图片 有你熟悉的图形吗？它们有什么特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05" descr="u"/>
          <p:cNvPicPr/>
          <p:nvPr/>
        </p:nvPicPr>
        <p:blipFill>
          <a:blip r:embed="rId1"/>
          <a:srcRect l="0" t="11867" r="166" b="1964"/>
          <a:stretch/>
        </p:blipFill>
        <p:spPr>
          <a:xfrm rot="21092400">
            <a:off x="246240" y="44280"/>
            <a:ext cx="796680" cy="10526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3732120" y="2868480"/>
            <a:ext cx="17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上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884760" y="5535720"/>
            <a:ext cx="219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下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2083680" y="41641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6"/>
          <p:cNvGrpSpPr/>
          <p:nvPr/>
        </p:nvGrpSpPr>
        <p:grpSpPr>
          <a:xfrm>
            <a:off x="2360520" y="3478320"/>
            <a:ext cx="4572000" cy="2057760"/>
            <a:chOff x="2360520" y="3478320"/>
            <a:chExt cx="4572000" cy="2057760"/>
          </a:xfrm>
        </p:grpSpPr>
        <p:sp>
          <p:nvSpPr>
            <p:cNvPr id="183" name="Freeform 7"/>
            <p:cNvSpPr/>
            <p:nvPr/>
          </p:nvSpPr>
          <p:spPr>
            <a:xfrm>
              <a:off x="2360520" y="3478320"/>
              <a:ext cx="4572000" cy="2057400"/>
            </a:xfrm>
            <a:custGeom>
              <a:avLst/>
              <a:gdLst/>
              <a:ahLst/>
              <a:rect l="l" t="t" r="r" b="b"/>
              <a:pathLst>
                <a:path w="2880" h="1296">
                  <a:moveTo>
                    <a:pt x="366" y="3"/>
                  </a:moveTo>
                  <a:lnTo>
                    <a:pt x="2016" y="0"/>
                  </a:lnTo>
                  <a:lnTo>
                    <a:pt x="2880" y="1296"/>
                  </a:lnTo>
                  <a:lnTo>
                    <a:pt x="0" y="1296"/>
                  </a:lnTo>
                  <a:lnTo>
                    <a:pt x="366" y="3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970360" y="3478320"/>
              <a:ext cx="2590560" cy="360"/>
              <a:chOff x="2970360" y="3478320"/>
              <a:chExt cx="2590560" cy="360"/>
            </a:xfrm>
          </p:grpSpPr>
          <p:sp>
            <p:nvSpPr>
              <p:cNvPr id="185" name="Line 8"/>
              <p:cNvSpPr/>
              <p:nvPr/>
            </p:nvSpPr>
            <p:spPr>
              <a:xfrm>
                <a:off x="2970360" y="3478320"/>
                <a:ext cx="2590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2970360" y="3478320"/>
                <a:ext cx="259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360520" y="5535720"/>
              <a:ext cx="4496040" cy="360"/>
              <a:chOff x="2360520" y="5535720"/>
              <a:chExt cx="4496040" cy="360"/>
            </a:xfrm>
          </p:grpSpPr>
          <p:sp>
            <p:nvSpPr>
              <p:cNvPr id="188" name="Line 9"/>
              <p:cNvSpPr/>
              <p:nvPr/>
            </p:nvSpPr>
            <p:spPr>
              <a:xfrm>
                <a:off x="2360520" y="5535720"/>
                <a:ext cx="4496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>
                <a:off x="2360520" y="5535720"/>
                <a:ext cx="4496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360520" y="3478320"/>
              <a:ext cx="609840" cy="2057400"/>
              <a:chOff x="2360520" y="3478320"/>
              <a:chExt cx="609840" cy="2057400"/>
            </a:xfrm>
          </p:grpSpPr>
          <p:sp>
            <p:nvSpPr>
              <p:cNvPr id="191" name="Line 10"/>
              <p:cNvSpPr/>
              <p:nvPr/>
            </p:nvSpPr>
            <p:spPr>
              <a:xfrm flipH="1">
                <a:off x="2360520" y="3478320"/>
                <a:ext cx="609840" cy="2057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 txBox="1"/>
              <p:nvPr/>
            </p:nvSpPr>
            <p:spPr>
              <a:xfrm>
                <a:off x="2360520" y="3478320"/>
                <a:ext cx="609840" cy="2057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560920" y="3478320"/>
              <a:ext cx="1371600" cy="2057400"/>
              <a:chOff x="5560920" y="3478320"/>
              <a:chExt cx="1371600" cy="2057400"/>
            </a:xfrm>
          </p:grpSpPr>
          <p:sp>
            <p:nvSpPr>
              <p:cNvPr id="194" name="Line 11"/>
              <p:cNvSpPr/>
              <p:nvPr/>
            </p:nvSpPr>
            <p:spPr>
              <a:xfrm>
                <a:off x="5560920" y="3478320"/>
                <a:ext cx="1371600" cy="2057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5560920" y="3478320"/>
                <a:ext cx="1371600" cy="2057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12"/>
          <p:cNvSpPr/>
          <p:nvPr/>
        </p:nvSpPr>
        <p:spPr>
          <a:xfrm>
            <a:off x="6427080" y="3935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560920" y="3478320"/>
            <a:ext cx="360" cy="2057400"/>
            <a:chOff x="5560920" y="3478320"/>
            <a:chExt cx="360" cy="2057400"/>
          </a:xfrm>
        </p:grpSpPr>
        <p:sp>
          <p:nvSpPr>
            <p:cNvPr id="198" name="Line 13"/>
            <p:cNvSpPr/>
            <p:nvPr/>
          </p:nvSpPr>
          <p:spPr>
            <a:xfrm>
              <a:off x="5560920" y="3478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5560920" y="3478320"/>
              <a:ext cx="36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14"/>
          <p:cNvSpPr/>
          <p:nvPr/>
        </p:nvSpPr>
        <p:spPr>
          <a:xfrm>
            <a:off x="4903200" y="41641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324000" y="12384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阅读教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06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页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学梯形的上底，下底，腰和高的概念．并知道两类特殊的梯形：等腰梯形，直角梯形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250920" y="2179800"/>
            <a:ext cx="92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梯形定义：一组对边平行而另一组对边不平行的四边形叫做梯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7"/>
          <p:cNvSpPr/>
          <p:nvPr/>
        </p:nvSpPr>
        <p:spPr>
          <a:xfrm>
            <a:off x="468360" y="549360"/>
            <a:ext cx="2663640" cy="536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8"/>
          <p:cNvSpPr/>
          <p:nvPr/>
        </p:nvSpPr>
        <p:spPr>
          <a:xfrm>
            <a:off x="939240" y="5270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学感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9" descr="%BB%A8%D2%B6%C2%CC%C2%DC1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reeform 2"/>
          <p:cNvSpPr/>
          <p:nvPr/>
        </p:nvSpPr>
        <p:spPr>
          <a:xfrm>
            <a:off x="304920" y="2362320"/>
            <a:ext cx="2361960" cy="1447560"/>
          </a:xfrm>
          <a:custGeom>
            <a:avLst/>
            <a:gdLst/>
            <a:ahLst/>
            <a:rect l="l" t="t" r="r" b="b"/>
            <a:pathLst>
              <a:path w="1488" h="768">
                <a:moveTo>
                  <a:pt x="624" y="0"/>
                </a:moveTo>
                <a:lnTo>
                  <a:pt x="1248" y="0"/>
                </a:lnTo>
                <a:lnTo>
                  <a:pt x="1488" y="768"/>
                </a:lnTo>
                <a:lnTo>
                  <a:pt x="0" y="768"/>
                </a:lnTo>
                <a:lnTo>
                  <a:pt x="62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3"/>
          <p:cNvSpPr/>
          <p:nvPr/>
        </p:nvSpPr>
        <p:spPr>
          <a:xfrm rot="21000000">
            <a:off x="3047760" y="1875960"/>
            <a:ext cx="2438280" cy="486000"/>
          </a:xfrm>
          <a:prstGeom prst="rightArrow">
            <a:avLst>
              <a:gd name="adj1" fmla="val 26148"/>
              <a:gd name="adj2" fmla="val 5479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 rot="600000">
            <a:off x="3048120" y="3892320"/>
            <a:ext cx="2819160" cy="485640"/>
          </a:xfrm>
          <a:prstGeom prst="rightArrow">
            <a:avLst>
              <a:gd name="adj1" fmla="val 26148"/>
              <a:gd name="adj2" fmla="val 63425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219320" y="2819520"/>
            <a:ext cx="112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梯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 rot="21000000">
            <a:off x="2973240" y="1547640"/>
            <a:ext cx="24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两条腰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 rot="600000">
            <a:off x="2970000" y="3535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一条腰和底垂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8"/>
          <p:cNvGrpSpPr/>
          <p:nvPr/>
        </p:nvGrpSpPr>
        <p:grpSpPr>
          <a:xfrm>
            <a:off x="5335560" y="457200"/>
            <a:ext cx="3043080" cy="2379960"/>
            <a:chOff x="5335560" y="457200"/>
            <a:chExt cx="3043080" cy="2379960"/>
          </a:xfrm>
        </p:grpSpPr>
        <p:sp>
          <p:nvSpPr>
            <p:cNvPr id="213" name="AutoShape 9"/>
            <p:cNvSpPr/>
            <p:nvPr/>
          </p:nvSpPr>
          <p:spPr>
            <a:xfrm flipV="1">
              <a:off x="5638680" y="959760"/>
              <a:ext cx="2440080" cy="1371600"/>
            </a:xfrm>
            <a:prstGeom prst="flowChartManualOperation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5772240" y="457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1"/>
            <p:cNvSpPr/>
            <p:nvPr/>
          </p:nvSpPr>
          <p:spPr>
            <a:xfrm>
              <a:off x="5335560" y="2255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2"/>
            <p:cNvSpPr/>
            <p:nvPr/>
          </p:nvSpPr>
          <p:spPr>
            <a:xfrm>
              <a:off x="7926480" y="2255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3"/>
            <p:cNvSpPr/>
            <p:nvPr/>
          </p:nvSpPr>
          <p:spPr>
            <a:xfrm>
              <a:off x="7392960" y="4572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14"/>
          <p:cNvSpPr/>
          <p:nvPr/>
        </p:nvSpPr>
        <p:spPr>
          <a:xfrm>
            <a:off x="6033960" y="1401840"/>
            <a:ext cx="18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等腰梯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5"/>
          <p:cNvGrpSpPr/>
          <p:nvPr/>
        </p:nvGrpSpPr>
        <p:grpSpPr>
          <a:xfrm>
            <a:off x="5106960" y="3489480"/>
            <a:ext cx="3130200" cy="2151000"/>
            <a:chOff x="5106960" y="3489480"/>
            <a:chExt cx="3130200" cy="2151000"/>
          </a:xfrm>
        </p:grpSpPr>
        <p:sp>
          <p:nvSpPr>
            <p:cNvPr id="220" name="Freeform 16"/>
            <p:cNvSpPr/>
            <p:nvPr/>
          </p:nvSpPr>
          <p:spPr>
            <a:xfrm>
              <a:off x="5486040" y="3916080"/>
              <a:ext cx="2349360" cy="1294920"/>
            </a:xfrm>
            <a:custGeom>
              <a:avLst/>
              <a:gdLst/>
              <a:ahLst/>
              <a:rect l="l" t="t" r="r" b="b"/>
              <a:pathLst>
                <a:path w="1200" h="816">
                  <a:moveTo>
                    <a:pt x="0" y="816"/>
                  </a:moveTo>
                  <a:lnTo>
                    <a:pt x="1200" y="816"/>
                  </a:lnTo>
                  <a:lnTo>
                    <a:pt x="1200" y="0"/>
                  </a:lnTo>
                  <a:lnTo>
                    <a:pt x="576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7"/>
            <p:cNvSpPr/>
            <p:nvPr/>
          </p:nvSpPr>
          <p:spPr>
            <a:xfrm>
              <a:off x="6087600" y="3535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8"/>
            <p:cNvSpPr/>
            <p:nvPr/>
          </p:nvSpPr>
          <p:spPr>
            <a:xfrm>
              <a:off x="7762320" y="3489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9"/>
            <p:cNvSpPr/>
            <p:nvPr/>
          </p:nvSpPr>
          <p:spPr>
            <a:xfrm>
              <a:off x="7773480" y="4982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0"/>
            <p:cNvSpPr/>
            <p:nvPr/>
          </p:nvSpPr>
          <p:spPr>
            <a:xfrm>
              <a:off x="5106960" y="5059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619760" y="4982760"/>
              <a:ext cx="228240" cy="368280"/>
              <a:chOff x="7619760" y="4982760"/>
              <a:chExt cx="228240" cy="368280"/>
            </a:xfrm>
          </p:grpSpPr>
          <p:sp>
            <p:nvSpPr>
              <p:cNvPr id="226" name="Line 21"/>
              <p:cNvSpPr/>
              <p:nvPr/>
            </p:nvSpPr>
            <p:spPr>
              <a:xfrm flipH="1">
                <a:off x="7619760" y="4982760"/>
                <a:ext cx="228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7619760" y="4982760"/>
                <a:ext cx="22824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7619760" y="4982760"/>
              <a:ext cx="360" cy="368280"/>
              <a:chOff x="7619760" y="4982760"/>
              <a:chExt cx="360" cy="368280"/>
            </a:xfrm>
          </p:grpSpPr>
          <p:sp>
            <p:nvSpPr>
              <p:cNvPr id="229" name="Line 22"/>
              <p:cNvSpPr/>
              <p:nvPr/>
            </p:nvSpPr>
            <p:spPr>
              <a:xfrm>
                <a:off x="7619760" y="4982760"/>
                <a:ext cx="0" cy="22824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7619760" y="4982760"/>
                <a:ext cx="3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Rectangle 23"/>
          <p:cNvSpPr/>
          <p:nvPr/>
        </p:nvSpPr>
        <p:spPr>
          <a:xfrm>
            <a:off x="6172200" y="4311720"/>
            <a:ext cx="18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直角梯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8200"/>
          <p:cNvSpPr/>
          <p:nvPr/>
        </p:nvSpPr>
        <p:spPr>
          <a:xfrm>
            <a:off x="533520" y="701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5942160" y="333360"/>
            <a:ext cx="3065400" cy="2380320"/>
            <a:chOff x="5942160" y="333360"/>
            <a:chExt cx="3065400" cy="2380320"/>
          </a:xfrm>
        </p:grpSpPr>
        <p:sp>
          <p:nvSpPr>
            <p:cNvPr id="234" name="AutoShape 3"/>
            <p:cNvSpPr/>
            <p:nvPr/>
          </p:nvSpPr>
          <p:spPr>
            <a:xfrm flipV="1">
              <a:off x="6245280" y="836280"/>
              <a:ext cx="2439720" cy="1371600"/>
            </a:xfrm>
            <a:prstGeom prst="flowChartManualOperation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4"/>
            <p:cNvSpPr/>
            <p:nvPr/>
          </p:nvSpPr>
          <p:spPr>
            <a:xfrm>
              <a:off x="6378480" y="333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5"/>
            <p:cNvSpPr/>
            <p:nvPr/>
          </p:nvSpPr>
          <p:spPr>
            <a:xfrm>
              <a:off x="5942160" y="2132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6"/>
            <p:cNvSpPr/>
            <p:nvPr/>
          </p:nvSpPr>
          <p:spPr>
            <a:xfrm>
              <a:off x="8532720" y="2132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7"/>
            <p:cNvSpPr/>
            <p:nvPr/>
          </p:nvSpPr>
          <p:spPr>
            <a:xfrm>
              <a:off x="7999200" y="333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8"/>
          <p:cNvSpPr/>
          <p:nvPr/>
        </p:nvSpPr>
        <p:spPr>
          <a:xfrm>
            <a:off x="826920" y="3716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等腰梯形的性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27"/>
          <p:cNvGrpSpPr/>
          <p:nvPr/>
        </p:nvGrpSpPr>
        <p:grpSpPr>
          <a:xfrm>
            <a:off x="1547640" y="5661000"/>
            <a:ext cx="4952880" cy="560160"/>
            <a:chOff x="1547640" y="5661000"/>
            <a:chExt cx="4952880" cy="560160"/>
          </a:xfrm>
        </p:grpSpPr>
        <p:sp>
          <p:nvSpPr>
            <p:cNvPr id="241" name="Text Box 10"/>
            <p:cNvSpPr/>
            <p:nvPr/>
          </p:nvSpPr>
          <p:spPr>
            <a:xfrm>
              <a:off x="1547640" y="5670360"/>
              <a:ext cx="4952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等腰梯形是   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图形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1"/>
            <p:cNvSpPr/>
            <p:nvPr/>
          </p:nvSpPr>
          <p:spPr>
            <a:xfrm>
              <a:off x="3560760" y="5661000"/>
              <a:ext cx="1676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仿宋_GB2312"/>
                  <a:ea typeface="仿宋_GB2312"/>
                </a:rPr>
                <a:t>轴对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2"/>
          <p:cNvGrpSpPr/>
          <p:nvPr/>
        </p:nvGrpSpPr>
        <p:grpSpPr>
          <a:xfrm>
            <a:off x="1547640" y="4941720"/>
            <a:ext cx="4953240" cy="627120"/>
            <a:chOff x="1547640" y="4941720"/>
            <a:chExt cx="4953240" cy="627120"/>
          </a:xfrm>
        </p:grpSpPr>
        <p:sp>
          <p:nvSpPr>
            <p:cNvPr id="244" name="Text Box 13"/>
            <p:cNvSpPr/>
            <p:nvPr/>
          </p:nvSpPr>
          <p:spPr>
            <a:xfrm>
              <a:off x="1547640" y="5018040"/>
              <a:ext cx="4953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等腰梯形的</a:t>
              </a:r>
              <a:r>
                <a:rPr b="1" lang="zh-CN" sz="3000" spc="-1" strike="noStrike">
                  <a:solidFill>
                    <a:srgbClr val="ff0000"/>
                  </a:solidFill>
                  <a:latin typeface="仿宋_GB2312"/>
                  <a:ea typeface="仿宋_GB2312"/>
                </a:rPr>
                <a:t>对角线</a:t>
              </a:r>
              <a:r>
                <a:rPr b="1" lang="zh-CN" sz="3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相等</a:t>
              </a:r>
              <a:r>
                <a:rPr b="1" lang="en-US" sz="3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4"/>
            <p:cNvSpPr/>
            <p:nvPr/>
          </p:nvSpPr>
          <p:spPr>
            <a:xfrm>
              <a:off x="3873600" y="4941720"/>
              <a:ext cx="14079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15"/>
          <p:cNvSpPr/>
          <p:nvPr/>
        </p:nvSpPr>
        <p:spPr>
          <a:xfrm>
            <a:off x="1619280" y="4365720"/>
            <a:ext cx="727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等腰梯形在</a:t>
            </a:r>
            <a:r>
              <a:rPr b="1" lang="zh-CN" sz="3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同一底上的两个角</a:t>
            </a:r>
            <a:r>
              <a:rPr b="1" lang="zh-CN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相等</a:t>
            </a:r>
            <a:r>
              <a:rPr b="1" lang="en-US" sz="3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6"/>
          <p:cNvGrpSpPr/>
          <p:nvPr/>
        </p:nvGrpSpPr>
        <p:grpSpPr>
          <a:xfrm>
            <a:off x="6227640" y="836640"/>
            <a:ext cx="2438640" cy="1396440"/>
            <a:chOff x="6227640" y="836640"/>
            <a:chExt cx="2438640" cy="1396440"/>
          </a:xfrm>
        </p:grpSpPr>
        <p:sp>
          <p:nvSpPr>
            <p:cNvPr id="248" name="Arc 17"/>
            <p:cNvSpPr/>
            <p:nvPr/>
          </p:nvSpPr>
          <p:spPr>
            <a:xfrm>
              <a:off x="6227640" y="1798560"/>
              <a:ext cx="457200" cy="434520"/>
            </a:xfrm>
            <a:custGeom>
              <a:avLst/>
              <a:gdLst/>
              <a:ahLst/>
              <a:rect l="l" t="t" r="r" b="b"/>
              <a:pathLst>
                <a:path fill="none" w="21600" h="20677">
                  <a:moveTo>
                    <a:pt x="6486" y="0"/>
                  </a:moveTo>
                  <a:cubicBezTo>
                    <a:pt x="15482" y="2832"/>
                    <a:pt x="21600" y="11172"/>
                    <a:pt x="21600" y="20603"/>
                  </a:cubicBezTo>
                  <a:cubicBezTo>
                    <a:pt x="21600" y="20627"/>
                    <a:pt x="21599" y="20652"/>
                    <a:pt x="21599" y="20676"/>
                  </a:cubicBezTo>
                </a:path>
                <a:path stroke="0" w="21600" h="20677">
                  <a:moveTo>
                    <a:pt x="6486" y="0"/>
                  </a:moveTo>
                  <a:cubicBezTo>
                    <a:pt x="15482" y="2832"/>
                    <a:pt x="21600" y="11172"/>
                    <a:pt x="21600" y="20603"/>
                  </a:cubicBezTo>
                  <a:cubicBezTo>
                    <a:pt x="21600" y="20627"/>
                    <a:pt x="21599" y="20652"/>
                    <a:pt x="21599" y="20676"/>
                  </a:cubicBezTo>
                  <a:lnTo>
                    <a:pt x="0" y="20603"/>
                  </a:lnTo>
                  <a:close/>
                </a:path>
              </a:pathLst>
            </a:custGeom>
            <a:solidFill>
              <a:srgbClr val="bbe0e3"/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rc 18"/>
            <p:cNvSpPr/>
            <p:nvPr/>
          </p:nvSpPr>
          <p:spPr>
            <a:xfrm flipH="1">
              <a:off x="8209080" y="1798560"/>
              <a:ext cx="457200" cy="434520"/>
            </a:xfrm>
            <a:custGeom>
              <a:avLst/>
              <a:gdLst/>
              <a:ahLst/>
              <a:rect l="l" t="t" r="r" b="b"/>
              <a:pathLst>
                <a:path fill="none" w="21600" h="20677">
                  <a:moveTo>
                    <a:pt x="6486" y="0"/>
                  </a:moveTo>
                  <a:cubicBezTo>
                    <a:pt x="15482" y="2832"/>
                    <a:pt x="21600" y="11172"/>
                    <a:pt x="21600" y="20603"/>
                  </a:cubicBezTo>
                  <a:cubicBezTo>
                    <a:pt x="21600" y="20627"/>
                    <a:pt x="21599" y="20652"/>
                    <a:pt x="21599" y="20676"/>
                  </a:cubicBezTo>
                </a:path>
                <a:path stroke="0" w="21600" h="20677">
                  <a:moveTo>
                    <a:pt x="6486" y="0"/>
                  </a:moveTo>
                  <a:cubicBezTo>
                    <a:pt x="15482" y="2832"/>
                    <a:pt x="21600" y="11172"/>
                    <a:pt x="21600" y="20603"/>
                  </a:cubicBezTo>
                  <a:cubicBezTo>
                    <a:pt x="21600" y="20627"/>
                    <a:pt x="21599" y="20652"/>
                    <a:pt x="21599" y="20676"/>
                  </a:cubicBezTo>
                  <a:lnTo>
                    <a:pt x="0" y="20603"/>
                  </a:lnTo>
                  <a:close/>
                </a:path>
              </a:pathLst>
            </a:custGeom>
            <a:solidFill>
              <a:srgbClr val="bbe0e3"/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rc 19"/>
            <p:cNvSpPr/>
            <p:nvPr/>
          </p:nvSpPr>
          <p:spPr>
            <a:xfrm flipH="1">
              <a:off x="7741440" y="836640"/>
              <a:ext cx="598680" cy="429840"/>
            </a:xfrm>
            <a:custGeom>
              <a:avLst/>
              <a:gdLst/>
              <a:ahLst/>
              <a:rect l="l" t="t" r="r" b="b"/>
              <a:pathLst>
                <a:path fill="none" w="28271" h="21851">
                  <a:moveTo>
                    <a:pt x="28269" y="0"/>
                  </a:moveTo>
                  <a:cubicBezTo>
                    <a:pt x="28270" y="83"/>
                    <a:pt x="28271" y="167"/>
                    <a:pt x="28271" y="251"/>
                  </a:cubicBezTo>
                  <a:cubicBezTo>
                    <a:pt x="28271" y="12180"/>
                    <a:pt x="18600" y="21851"/>
                    <a:pt x="6671" y="21851"/>
                  </a:cubicBezTo>
                  <a:cubicBezTo>
                    <a:pt x="4405" y="21851"/>
                    <a:pt x="2154" y="21494"/>
                    <a:pt x="-1" y="20795"/>
                  </a:cubicBezTo>
                </a:path>
                <a:path stroke="0" w="28271" h="21851">
                  <a:moveTo>
                    <a:pt x="28269" y="0"/>
                  </a:moveTo>
                  <a:cubicBezTo>
                    <a:pt x="28270" y="83"/>
                    <a:pt x="28271" y="167"/>
                    <a:pt x="28271" y="251"/>
                  </a:cubicBezTo>
                  <a:cubicBezTo>
                    <a:pt x="28271" y="12180"/>
                    <a:pt x="18600" y="21851"/>
                    <a:pt x="6671" y="21851"/>
                  </a:cubicBezTo>
                  <a:cubicBezTo>
                    <a:pt x="4405" y="21851"/>
                    <a:pt x="2154" y="21494"/>
                    <a:pt x="-1" y="20795"/>
                  </a:cubicBezTo>
                  <a:lnTo>
                    <a:pt x="6671" y="251"/>
                  </a:lnTo>
                  <a:close/>
                </a:path>
              </a:pathLst>
            </a:custGeom>
            <a:solidFill>
              <a:srgbClr val="009999"/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rc 20"/>
            <p:cNvSpPr/>
            <p:nvPr/>
          </p:nvSpPr>
          <p:spPr>
            <a:xfrm>
              <a:off x="6572160" y="836640"/>
              <a:ext cx="533520" cy="429840"/>
            </a:xfrm>
            <a:custGeom>
              <a:avLst/>
              <a:gdLst/>
              <a:ahLst/>
              <a:rect l="l" t="t" r="r" b="b"/>
              <a:pathLst>
                <a:path fill="none" w="28271" h="21851">
                  <a:moveTo>
                    <a:pt x="28269" y="0"/>
                  </a:moveTo>
                  <a:cubicBezTo>
                    <a:pt x="28270" y="83"/>
                    <a:pt x="28271" y="167"/>
                    <a:pt x="28271" y="251"/>
                  </a:cubicBezTo>
                  <a:cubicBezTo>
                    <a:pt x="28271" y="12180"/>
                    <a:pt x="18600" y="21851"/>
                    <a:pt x="6671" y="21851"/>
                  </a:cubicBezTo>
                  <a:cubicBezTo>
                    <a:pt x="4405" y="21851"/>
                    <a:pt x="2154" y="21494"/>
                    <a:pt x="-1" y="20795"/>
                  </a:cubicBezTo>
                </a:path>
                <a:path stroke="0" w="28271" h="21851">
                  <a:moveTo>
                    <a:pt x="28269" y="0"/>
                  </a:moveTo>
                  <a:cubicBezTo>
                    <a:pt x="28270" y="83"/>
                    <a:pt x="28271" y="167"/>
                    <a:pt x="28271" y="251"/>
                  </a:cubicBezTo>
                  <a:cubicBezTo>
                    <a:pt x="28271" y="12180"/>
                    <a:pt x="18600" y="21851"/>
                    <a:pt x="6671" y="21851"/>
                  </a:cubicBezTo>
                  <a:cubicBezTo>
                    <a:pt x="4405" y="21851"/>
                    <a:pt x="2154" y="21494"/>
                    <a:pt x="-1" y="20795"/>
                  </a:cubicBezTo>
                  <a:lnTo>
                    <a:pt x="6671" y="251"/>
                  </a:lnTo>
                  <a:close/>
                </a:path>
              </a:pathLst>
            </a:custGeom>
            <a:solidFill>
              <a:srgbClr val="009999"/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1"/>
          <p:cNvGrpSpPr/>
          <p:nvPr/>
        </p:nvGrpSpPr>
        <p:grpSpPr>
          <a:xfrm>
            <a:off x="6227640" y="836640"/>
            <a:ext cx="2438640" cy="1371600"/>
            <a:chOff x="6227640" y="836640"/>
            <a:chExt cx="2438640" cy="1371600"/>
          </a:xfrm>
        </p:grpSpPr>
        <p:grpSp>
          <p:nvGrpSpPr>
            <p:cNvPr id="253" name=""/>
            <p:cNvGrpSpPr/>
            <p:nvPr/>
          </p:nvGrpSpPr>
          <p:grpSpPr>
            <a:xfrm>
              <a:off x="6761160" y="836640"/>
              <a:ext cx="1905120" cy="1371600"/>
              <a:chOff x="6761160" y="836640"/>
              <a:chExt cx="1905120" cy="1371600"/>
            </a:xfrm>
          </p:grpSpPr>
          <p:sp>
            <p:nvSpPr>
              <p:cNvPr id="254" name="Line 22"/>
              <p:cNvSpPr/>
              <p:nvPr/>
            </p:nvSpPr>
            <p:spPr>
              <a:xfrm>
                <a:off x="6761160" y="836640"/>
                <a:ext cx="1905120" cy="137160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 txBox="1"/>
              <p:nvPr/>
            </p:nvSpPr>
            <p:spPr>
              <a:xfrm>
                <a:off x="6761160" y="836640"/>
                <a:ext cx="1905120" cy="137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227640" y="836640"/>
              <a:ext cx="1981440" cy="1371600"/>
              <a:chOff x="6227640" y="836640"/>
              <a:chExt cx="1981440" cy="1371600"/>
            </a:xfrm>
          </p:grpSpPr>
          <p:sp>
            <p:nvSpPr>
              <p:cNvPr id="257" name="Line 23"/>
              <p:cNvSpPr/>
              <p:nvPr/>
            </p:nvSpPr>
            <p:spPr>
              <a:xfrm flipH="1">
                <a:off x="6227640" y="836640"/>
                <a:ext cx="1981440" cy="137160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6227640" y="836640"/>
                <a:ext cx="1981440" cy="137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Text Box 24"/>
          <p:cNvSpPr/>
          <p:nvPr/>
        </p:nvSpPr>
        <p:spPr>
          <a:xfrm>
            <a:off x="755640" y="1268280"/>
            <a:ext cx="47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梯形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ABCD</a:t>
            </a:r>
            <a:r>
              <a:rPr b="1" i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AD∥BC</a:t>
            </a:r>
            <a:r>
              <a:rPr b="1" i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AB=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524720" y="-171360"/>
            <a:ext cx="360" cy="3657600"/>
            <a:chOff x="7524720" y="-171360"/>
            <a:chExt cx="360" cy="3657600"/>
          </a:xfrm>
        </p:grpSpPr>
        <p:sp>
          <p:nvSpPr>
            <p:cNvPr id="261" name="Line 25"/>
            <p:cNvSpPr/>
            <p:nvPr/>
          </p:nvSpPr>
          <p:spPr>
            <a:xfrm>
              <a:off x="7524720" y="-171360"/>
              <a:ext cx="0" cy="365760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7524720" y="-171360"/>
              <a:ext cx="360" cy="36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8"/>
          <p:cNvSpPr/>
          <p:nvPr/>
        </p:nvSpPr>
        <p:spPr>
          <a:xfrm>
            <a:off x="971640" y="189000"/>
            <a:ext cx="2325600" cy="1068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手操作  探究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4"/>
          <p:cNvSpPr/>
          <p:nvPr/>
        </p:nvSpPr>
        <p:spPr>
          <a:xfrm flipV="1">
            <a:off x="646200" y="3866400"/>
            <a:ext cx="182880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 flipV="1">
            <a:off x="2598840" y="3855240"/>
            <a:ext cx="182880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 flipV="1">
            <a:off x="4605480" y="3844080"/>
            <a:ext cx="182880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654200" y="3867120"/>
            <a:ext cx="380880" cy="1224000"/>
            <a:chOff x="1654200" y="3867120"/>
            <a:chExt cx="380880" cy="1224000"/>
          </a:xfrm>
        </p:grpSpPr>
        <p:sp>
          <p:nvSpPr>
            <p:cNvPr id="268" name="Line 7"/>
            <p:cNvSpPr/>
            <p:nvPr/>
          </p:nvSpPr>
          <p:spPr>
            <a:xfrm flipH="1">
              <a:off x="1654200" y="3867120"/>
              <a:ext cx="380880" cy="1224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1654200" y="3867120"/>
              <a:ext cx="38088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42"/>
          <p:cNvGrpSpPr/>
          <p:nvPr/>
        </p:nvGrpSpPr>
        <p:grpSpPr>
          <a:xfrm>
            <a:off x="2989080" y="3855960"/>
            <a:ext cx="981720" cy="1228680"/>
            <a:chOff x="2989080" y="3855960"/>
            <a:chExt cx="981720" cy="1228680"/>
          </a:xfrm>
        </p:grpSpPr>
        <p:grpSp>
          <p:nvGrpSpPr>
            <p:cNvPr id="271" name=""/>
            <p:cNvGrpSpPr/>
            <p:nvPr/>
          </p:nvGrpSpPr>
          <p:grpSpPr>
            <a:xfrm>
              <a:off x="2989080" y="3855960"/>
              <a:ext cx="66960" cy="1228680"/>
              <a:chOff x="2989080" y="3855960"/>
              <a:chExt cx="66960" cy="1228680"/>
            </a:xfrm>
          </p:grpSpPr>
          <p:sp>
            <p:nvSpPr>
              <p:cNvPr id="272" name="Line 8"/>
              <p:cNvSpPr/>
              <p:nvPr/>
            </p:nvSpPr>
            <p:spPr>
              <a:xfrm flipH="1">
                <a:off x="2989080" y="3855960"/>
                <a:ext cx="66600" cy="1228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2989440" y="3855960"/>
                <a:ext cx="6660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970440" y="3855960"/>
              <a:ext cx="360" cy="1219320"/>
              <a:chOff x="3970440" y="3855960"/>
              <a:chExt cx="360" cy="1219320"/>
            </a:xfrm>
          </p:grpSpPr>
          <p:sp>
            <p:nvSpPr>
              <p:cNvPr id="275" name="Line 9"/>
              <p:cNvSpPr/>
              <p:nvPr/>
            </p:nvSpPr>
            <p:spPr>
              <a:xfrm>
                <a:off x="3970440" y="3855960"/>
                <a:ext cx="0" cy="121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3970440" y="3855960"/>
                <a:ext cx="360" cy="121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"/>
          <p:cNvSpPr txBox="1"/>
          <p:nvPr/>
        </p:nvSpPr>
        <p:spPr>
          <a:xfrm>
            <a:off x="468000" y="1341360"/>
            <a:ext cx="867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你能添加一些线，把等腰梯形转化为平行四边形或三角形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7"/>
          <p:cNvSpPr/>
          <p:nvPr/>
        </p:nvSpPr>
        <p:spPr>
          <a:xfrm>
            <a:off x="611280" y="476280"/>
            <a:ext cx="5329080" cy="6490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890640" y="549360"/>
            <a:ext cx="46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合作交流，化未知为已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05" descr="u"/>
          <p:cNvPicPr/>
          <p:nvPr/>
        </p:nvPicPr>
        <p:blipFill>
          <a:blip r:embed="rId1"/>
          <a:srcRect l="0" t="11867" r="166" b="1964"/>
          <a:stretch/>
        </p:blipFill>
        <p:spPr>
          <a:xfrm rot="21092400">
            <a:off x="246240" y="44280"/>
            <a:ext cx="796680" cy="1052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2" descr="%BB%A8%D2%B6%C2%CC%C2%DC1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135396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5940360" y="3860640"/>
            <a:ext cx="360" cy="360"/>
            <a:chOff x="5940360" y="3860640"/>
            <a:chExt cx="360" cy="360"/>
          </a:xfrm>
        </p:grpSpPr>
        <p:sp>
          <p:nvSpPr>
            <p:cNvPr id="283" name="Line 35"/>
            <p:cNvSpPr/>
            <p:nvPr/>
          </p:nvSpPr>
          <p:spPr>
            <a:xfrm>
              <a:off x="5940360" y="3860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5940360" y="386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940360" y="3860640"/>
            <a:ext cx="360" cy="360"/>
            <a:chOff x="5940360" y="3860640"/>
            <a:chExt cx="360" cy="360"/>
          </a:xfrm>
        </p:grpSpPr>
        <p:sp>
          <p:nvSpPr>
            <p:cNvPr id="286" name="Line 38"/>
            <p:cNvSpPr/>
            <p:nvPr/>
          </p:nvSpPr>
          <p:spPr>
            <a:xfrm>
              <a:off x="5940360" y="3860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5940360" y="386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40360" y="3860640"/>
            <a:ext cx="360" cy="360"/>
            <a:chOff x="5940360" y="3860640"/>
            <a:chExt cx="360" cy="360"/>
          </a:xfrm>
        </p:grpSpPr>
        <p:sp>
          <p:nvSpPr>
            <p:cNvPr id="289" name="Line 39"/>
            <p:cNvSpPr/>
            <p:nvPr/>
          </p:nvSpPr>
          <p:spPr>
            <a:xfrm>
              <a:off x="5940360" y="3860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5940360" y="386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483160" y="2565360"/>
            <a:ext cx="503280" cy="1295280"/>
            <a:chOff x="5483160" y="2565360"/>
            <a:chExt cx="503280" cy="1295280"/>
          </a:xfrm>
        </p:grpSpPr>
        <p:sp>
          <p:nvSpPr>
            <p:cNvPr id="292" name="Line 40"/>
            <p:cNvSpPr/>
            <p:nvPr/>
          </p:nvSpPr>
          <p:spPr>
            <a:xfrm flipH="1" flipV="1">
              <a:off x="5483160" y="2565360"/>
              <a:ext cx="50328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 rot="10800000">
              <a:off x="5483160" y="2565360"/>
              <a:ext cx="50328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076720" y="2565360"/>
            <a:ext cx="432000" cy="1224000"/>
            <a:chOff x="5076720" y="2565360"/>
            <a:chExt cx="432000" cy="1224000"/>
          </a:xfrm>
        </p:grpSpPr>
        <p:sp>
          <p:nvSpPr>
            <p:cNvPr id="295" name="Line 41"/>
            <p:cNvSpPr/>
            <p:nvPr/>
          </p:nvSpPr>
          <p:spPr>
            <a:xfrm flipV="1">
              <a:off x="5076720" y="2565360"/>
              <a:ext cx="432000" cy="1224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 rot="10800000">
              <a:off x="5076720" y="2565360"/>
              <a:ext cx="43200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Rectangle 44"/>
          <p:cNvSpPr/>
          <p:nvPr/>
        </p:nvSpPr>
        <p:spPr>
          <a:xfrm flipV="1">
            <a:off x="2920320" y="479520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5"/>
          <p:cNvSpPr/>
          <p:nvPr/>
        </p:nvSpPr>
        <p:spPr>
          <a:xfrm flipV="1">
            <a:off x="3855600" y="479520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216000" y="45655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 rot="10800000">
            <a:off x="539640" y="2420280"/>
            <a:ext cx="3733920" cy="209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1015920" y="1741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3235320" y="1703520"/>
            <a:ext cx="5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860640" y="45910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41280" y="836640"/>
            <a:ext cx="860436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图，在等腰梯形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中，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D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∥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C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C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说明：∠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＝∠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＝∠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057560" y="1700280"/>
            <a:ext cx="5543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理由：过点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D</a:t>
            </a:r>
            <a:r>
              <a:rPr b="1" lang="zh-CN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作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DE</a:t>
            </a: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∥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AB</a:t>
            </a:r>
            <a:r>
              <a:rPr b="1" lang="zh-CN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交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BC</a:t>
            </a:r>
            <a:r>
              <a:rPr b="1" lang="zh-CN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于点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E</a:t>
            </a: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788000" y="2144880"/>
            <a:ext cx="2448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∵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DE∥AB</a:t>
            </a: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748040" y="2443320"/>
            <a:ext cx="2376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∴∠</a:t>
            </a: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＝∠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B</a:t>
            </a: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4427640" y="2946240"/>
            <a:ext cx="28083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又 ∵ 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AD</a:t>
            </a: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∥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BC</a:t>
            </a: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716360" y="3284640"/>
            <a:ext cx="4967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∴</a:t>
            </a:r>
            <a:r>
              <a:rPr b="1" lang="zh-CN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四边形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ABED</a:t>
            </a:r>
            <a:r>
              <a:rPr b="1" lang="zh-CN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为平行四边形</a:t>
            </a: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572000" y="3645000"/>
            <a:ext cx="3384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∴ 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AB</a:t>
            </a: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＝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DE</a:t>
            </a: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4643280" y="4005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又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  <a:ea typeface="仿宋_GB2312"/>
              </a:rPr>
              <a:t>AB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仿宋_GB2312"/>
              </a:rPr>
              <a:t>=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  <a:ea typeface="仿宋_GB2312"/>
              </a:rPr>
              <a:t>DC   </a:t>
            </a: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∴ 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DC</a:t>
            </a: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＝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DE</a:t>
            </a: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716360" y="4365720"/>
            <a:ext cx="2880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∴∠</a:t>
            </a: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＝∠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C</a:t>
            </a: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643280" y="4797360"/>
            <a:ext cx="30243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∴∠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B</a:t>
            </a: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＝∠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4572000" y="5157720"/>
            <a:ext cx="3743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又∠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B </a:t>
            </a: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+∠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=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 ∠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C </a:t>
            </a: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+∠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ADC </a:t>
            </a: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=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4788000" y="5877000"/>
            <a:ext cx="3165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∴∠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＝∠</a:t>
            </a:r>
            <a:r>
              <a:rPr b="1" i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ADC</a:t>
            </a:r>
            <a:r>
              <a:rPr b="1" lang="en-US" sz="2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rc 19"/>
          <p:cNvSpPr/>
          <p:nvPr/>
        </p:nvSpPr>
        <p:spPr>
          <a:xfrm>
            <a:off x="2556000" y="4294080"/>
            <a:ext cx="215640" cy="287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2666880" y="40384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179280" y="5373720"/>
            <a:ext cx="403236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平移一腰是梯形常用的辅助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2757600" y="324000"/>
            <a:ext cx="57895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等腰梯形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同一底边上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的两个角相等</a:t>
            </a:r>
            <a:r>
              <a:rPr b="1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23"/>
          <p:cNvGrpSpPr/>
          <p:nvPr/>
        </p:nvGrpSpPr>
        <p:grpSpPr>
          <a:xfrm>
            <a:off x="1981080" y="2438280"/>
            <a:ext cx="1298160" cy="2857320"/>
            <a:chOff x="1981080" y="2438280"/>
            <a:chExt cx="1298160" cy="2857320"/>
          </a:xfrm>
        </p:grpSpPr>
        <p:grpSp>
          <p:nvGrpSpPr>
            <p:cNvPr id="321" name=""/>
            <p:cNvGrpSpPr/>
            <p:nvPr/>
          </p:nvGrpSpPr>
          <p:grpSpPr>
            <a:xfrm>
              <a:off x="2285640" y="2438280"/>
              <a:ext cx="993600" cy="2180520"/>
              <a:chOff x="2285640" y="2438280"/>
              <a:chExt cx="993600" cy="2180520"/>
            </a:xfrm>
          </p:grpSpPr>
          <p:sp>
            <p:nvSpPr>
              <p:cNvPr id="322" name="Line 24"/>
              <p:cNvSpPr/>
              <p:nvPr/>
            </p:nvSpPr>
            <p:spPr>
              <a:xfrm flipH="1">
                <a:off x="2285640" y="2438280"/>
                <a:ext cx="993240" cy="218052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 txBox="1"/>
              <p:nvPr/>
            </p:nvSpPr>
            <p:spPr>
              <a:xfrm>
                <a:off x="2286000" y="2438280"/>
                <a:ext cx="993240" cy="218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 Box 25"/>
            <p:cNvSpPr/>
            <p:nvPr/>
          </p:nvSpPr>
          <p:spPr>
            <a:xfrm>
              <a:off x="1981080" y="4592160"/>
              <a:ext cx="608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cc"/>
                  </a:solidFill>
                  <a:latin typeface="仿宋_GB2312"/>
                  <a:ea typeface="仿宋_GB2312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 Box 26"/>
          <p:cNvSpPr/>
          <p:nvPr/>
        </p:nvSpPr>
        <p:spPr>
          <a:xfrm>
            <a:off x="468360" y="1159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理论验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216000" y="45655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 rot="10800000">
            <a:off x="468360" y="2491920"/>
            <a:ext cx="3733920" cy="209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116000" y="17733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3203640" y="1812960"/>
            <a:ext cx="5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3860640" y="45910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7"/>
          <p:cNvGrpSpPr/>
          <p:nvPr/>
        </p:nvGrpSpPr>
        <p:grpSpPr>
          <a:xfrm>
            <a:off x="4791240" y="1517760"/>
            <a:ext cx="4798440" cy="3858480"/>
            <a:chOff x="4791240" y="1517760"/>
            <a:chExt cx="4798440" cy="3858480"/>
          </a:xfrm>
        </p:grpSpPr>
        <p:sp>
          <p:nvSpPr>
            <p:cNvPr id="332" name="AutoShape 8"/>
            <p:cNvSpPr/>
            <p:nvPr/>
          </p:nvSpPr>
          <p:spPr>
            <a:xfrm rot="10800000">
              <a:off x="5019120" y="2340720"/>
              <a:ext cx="3733560" cy="220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9"/>
            <p:cNvSpPr/>
            <p:nvPr/>
          </p:nvSpPr>
          <p:spPr>
            <a:xfrm>
              <a:off x="5362560" y="1517760"/>
              <a:ext cx="1142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0"/>
            <p:cNvSpPr/>
            <p:nvPr/>
          </p:nvSpPr>
          <p:spPr>
            <a:xfrm>
              <a:off x="7572240" y="1517760"/>
              <a:ext cx="1142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1"/>
            <p:cNvSpPr/>
            <p:nvPr/>
          </p:nvSpPr>
          <p:spPr>
            <a:xfrm>
              <a:off x="8447040" y="4468680"/>
              <a:ext cx="1142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C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2"/>
            <p:cNvSpPr/>
            <p:nvPr/>
          </p:nvSpPr>
          <p:spPr>
            <a:xfrm>
              <a:off x="4791240" y="4551120"/>
              <a:ext cx="1142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13"/>
          <p:cNvGrpSpPr/>
          <p:nvPr/>
        </p:nvGrpSpPr>
        <p:grpSpPr>
          <a:xfrm>
            <a:off x="2050920" y="2508120"/>
            <a:ext cx="1216080" cy="3009600"/>
            <a:chOff x="2050920" y="2508120"/>
            <a:chExt cx="1216080" cy="3009600"/>
          </a:xfrm>
        </p:grpSpPr>
        <p:grpSp>
          <p:nvGrpSpPr>
            <p:cNvPr id="338" name=""/>
            <p:cNvGrpSpPr/>
            <p:nvPr/>
          </p:nvGrpSpPr>
          <p:grpSpPr>
            <a:xfrm>
              <a:off x="2336760" y="2508120"/>
              <a:ext cx="930240" cy="2209680"/>
              <a:chOff x="2336760" y="2508120"/>
              <a:chExt cx="930240" cy="2209680"/>
            </a:xfrm>
          </p:grpSpPr>
          <p:sp>
            <p:nvSpPr>
              <p:cNvPr id="339" name="Line 14"/>
              <p:cNvSpPr/>
              <p:nvPr/>
            </p:nvSpPr>
            <p:spPr>
              <a:xfrm flipH="1">
                <a:off x="2336760" y="2508120"/>
                <a:ext cx="930240" cy="22096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 txBox="1"/>
              <p:nvPr/>
            </p:nvSpPr>
            <p:spPr>
              <a:xfrm>
                <a:off x="2336760" y="2508120"/>
                <a:ext cx="930240" cy="220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Text Box 15"/>
            <p:cNvSpPr/>
            <p:nvPr/>
          </p:nvSpPr>
          <p:spPr>
            <a:xfrm>
              <a:off x="2050920" y="4692600"/>
              <a:ext cx="569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7"/>
          <p:cNvGrpSpPr/>
          <p:nvPr/>
        </p:nvGrpSpPr>
        <p:grpSpPr>
          <a:xfrm>
            <a:off x="5611680" y="2349360"/>
            <a:ext cx="2921040" cy="3034800"/>
            <a:chOff x="5611680" y="2349360"/>
            <a:chExt cx="2921040" cy="3034800"/>
          </a:xfrm>
        </p:grpSpPr>
        <p:grpSp>
          <p:nvGrpSpPr>
            <p:cNvPr id="343" name=""/>
            <p:cNvGrpSpPr/>
            <p:nvPr/>
          </p:nvGrpSpPr>
          <p:grpSpPr>
            <a:xfrm>
              <a:off x="5954760" y="2349360"/>
              <a:ext cx="360" cy="2209680"/>
              <a:chOff x="5954760" y="2349360"/>
              <a:chExt cx="360" cy="2209680"/>
            </a:xfrm>
          </p:grpSpPr>
          <p:sp>
            <p:nvSpPr>
              <p:cNvPr id="344" name="Line 18"/>
              <p:cNvSpPr/>
              <p:nvPr/>
            </p:nvSpPr>
            <p:spPr>
              <a:xfrm>
                <a:off x="5954760" y="2349360"/>
                <a:ext cx="0" cy="22096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 txBox="1"/>
              <p:nvPr/>
            </p:nvSpPr>
            <p:spPr>
              <a:xfrm>
                <a:off x="5954760" y="2349360"/>
                <a:ext cx="360" cy="220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7808760" y="2349360"/>
              <a:ext cx="360" cy="2209680"/>
              <a:chOff x="7808760" y="2349360"/>
              <a:chExt cx="360" cy="2209680"/>
            </a:xfrm>
          </p:grpSpPr>
          <p:sp>
            <p:nvSpPr>
              <p:cNvPr id="347" name="Line 19"/>
              <p:cNvSpPr/>
              <p:nvPr/>
            </p:nvSpPr>
            <p:spPr>
              <a:xfrm>
                <a:off x="7808760" y="2349360"/>
                <a:ext cx="0" cy="22096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 txBox="1"/>
              <p:nvPr/>
            </p:nvSpPr>
            <p:spPr>
              <a:xfrm>
                <a:off x="7808760" y="2349360"/>
                <a:ext cx="360" cy="220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7389720" y="455904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F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5611680" y="453384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2"/>
            <p:cNvSpPr/>
            <p:nvPr/>
          </p:nvSpPr>
          <p:spPr>
            <a:xfrm>
              <a:off x="5796000" y="4365360"/>
              <a:ext cx="144360" cy="22572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23"/>
            <p:cNvSpPr/>
            <p:nvPr/>
          </p:nvSpPr>
          <p:spPr>
            <a:xfrm>
              <a:off x="7810200" y="4365360"/>
              <a:ext cx="146160" cy="1936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 Box 24"/>
          <p:cNvSpPr/>
          <p:nvPr/>
        </p:nvSpPr>
        <p:spPr>
          <a:xfrm>
            <a:off x="250920" y="836640"/>
            <a:ext cx="8893080" cy="9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图，在等腰梯形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中，</a:t>
            </a:r>
            <a:r>
              <a:rPr b="1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D∥BC,AB=DC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等吗？请说明理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5"/>
          <p:cNvSpPr/>
          <p:nvPr/>
        </p:nvSpPr>
        <p:spPr>
          <a:xfrm>
            <a:off x="108000" y="5300640"/>
            <a:ext cx="4356000" cy="642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移一腰是梯形常用的辅助线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6"/>
          <p:cNvSpPr/>
          <p:nvPr/>
        </p:nvSpPr>
        <p:spPr>
          <a:xfrm>
            <a:off x="4572000" y="5300640"/>
            <a:ext cx="439272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过上底两端点作高也是梯形常用的辅助线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7"/>
          <p:cNvSpPr/>
          <p:nvPr/>
        </p:nvSpPr>
        <p:spPr>
          <a:xfrm>
            <a:off x="250920" y="333360"/>
            <a:ext cx="6696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等腰梯形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同一底边上</a:t>
            </a:r>
            <a:r>
              <a:rPr b="1" lang="zh-CN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的两个角相等</a:t>
            </a:r>
            <a:r>
              <a:rPr b="1" lang="en-US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8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2"/>
          <p:cNvGrpSpPr/>
          <p:nvPr/>
        </p:nvGrpSpPr>
        <p:grpSpPr>
          <a:xfrm>
            <a:off x="5551560" y="1685880"/>
            <a:ext cx="3759120" cy="2456280"/>
            <a:chOff x="5551560" y="1685880"/>
            <a:chExt cx="3759120" cy="2456280"/>
          </a:xfrm>
        </p:grpSpPr>
        <p:sp>
          <p:nvSpPr>
            <p:cNvPr id="358" name="Text Box 3"/>
            <p:cNvSpPr/>
            <p:nvPr/>
          </p:nvSpPr>
          <p:spPr>
            <a:xfrm>
              <a:off x="5551560" y="3489120"/>
              <a:ext cx="8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4"/>
            <p:cNvSpPr/>
            <p:nvPr/>
          </p:nvSpPr>
          <p:spPr>
            <a:xfrm rot="10800000">
              <a:off x="5781240" y="2153880"/>
              <a:ext cx="2878200" cy="143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5"/>
            <p:cNvSpPr/>
            <p:nvPr/>
          </p:nvSpPr>
          <p:spPr>
            <a:xfrm>
              <a:off x="6127920" y="1689120"/>
              <a:ext cx="88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6"/>
            <p:cNvSpPr/>
            <p:nvPr/>
          </p:nvSpPr>
          <p:spPr>
            <a:xfrm>
              <a:off x="7925040" y="1685880"/>
              <a:ext cx="88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7"/>
            <p:cNvSpPr/>
            <p:nvPr/>
          </p:nvSpPr>
          <p:spPr>
            <a:xfrm>
              <a:off x="8431200" y="3560760"/>
              <a:ext cx="8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8"/>
            <p:cNvGrpSpPr/>
            <p:nvPr/>
          </p:nvGrpSpPr>
          <p:grpSpPr>
            <a:xfrm>
              <a:off x="5843160" y="2192400"/>
              <a:ext cx="2808720" cy="1441440"/>
              <a:chOff x="5843160" y="2192400"/>
              <a:chExt cx="2808720" cy="144144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6491160" y="2192400"/>
                <a:ext cx="2160720" cy="1441440"/>
                <a:chOff x="6491160" y="2192400"/>
                <a:chExt cx="2160720" cy="1441440"/>
              </a:xfrm>
            </p:grpSpPr>
            <p:sp>
              <p:nvSpPr>
                <p:cNvPr id="365" name="Line 9"/>
                <p:cNvSpPr/>
                <p:nvPr/>
              </p:nvSpPr>
              <p:spPr>
                <a:xfrm>
                  <a:off x="6491160" y="2192400"/>
                  <a:ext cx="2160720" cy="144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 txBox="1"/>
                <p:nvPr/>
              </p:nvSpPr>
              <p:spPr>
                <a:xfrm>
                  <a:off x="6491160" y="2192400"/>
                  <a:ext cx="2160720" cy="144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5843160" y="2192400"/>
                <a:ext cx="2088000" cy="1368360"/>
                <a:chOff x="5843160" y="2192400"/>
                <a:chExt cx="2088000" cy="1368360"/>
              </a:xfrm>
            </p:grpSpPr>
            <p:sp>
              <p:nvSpPr>
                <p:cNvPr id="368" name="Line 10"/>
                <p:cNvSpPr/>
                <p:nvPr/>
              </p:nvSpPr>
              <p:spPr>
                <a:xfrm flipH="1">
                  <a:off x="5843160" y="2192400"/>
                  <a:ext cx="2087640" cy="1368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 txBox="1"/>
                <p:nvPr/>
              </p:nvSpPr>
              <p:spPr>
                <a:xfrm>
                  <a:off x="5843520" y="2192400"/>
                  <a:ext cx="2087640" cy="13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Text Box 11"/>
            <p:cNvSpPr/>
            <p:nvPr/>
          </p:nvSpPr>
          <p:spPr>
            <a:xfrm>
              <a:off x="6935760" y="2765520"/>
              <a:ext cx="88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2"/>
          <p:cNvGrpSpPr/>
          <p:nvPr/>
        </p:nvGrpSpPr>
        <p:grpSpPr>
          <a:xfrm>
            <a:off x="5781240" y="2174760"/>
            <a:ext cx="2881800" cy="1441440"/>
            <a:chOff x="5781240" y="2174760"/>
            <a:chExt cx="2881800" cy="1441440"/>
          </a:xfrm>
        </p:grpSpPr>
        <p:grpSp>
          <p:nvGrpSpPr>
            <p:cNvPr id="372" name=""/>
            <p:cNvGrpSpPr/>
            <p:nvPr/>
          </p:nvGrpSpPr>
          <p:grpSpPr>
            <a:xfrm>
              <a:off x="5781600" y="2174760"/>
              <a:ext cx="720720" cy="1441440"/>
              <a:chOff x="5781600" y="2174760"/>
              <a:chExt cx="720720" cy="1441440"/>
            </a:xfrm>
          </p:grpSpPr>
          <p:sp>
            <p:nvSpPr>
              <p:cNvPr id="373" name="Line 13"/>
              <p:cNvSpPr/>
              <p:nvPr/>
            </p:nvSpPr>
            <p:spPr>
              <a:xfrm flipH="1">
                <a:off x="5781600" y="2174760"/>
                <a:ext cx="720720" cy="144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>
                <a:off x="5781600" y="2174760"/>
                <a:ext cx="720720" cy="144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5781240" y="3543120"/>
              <a:ext cx="2808720" cy="360"/>
              <a:chOff x="5781240" y="3543120"/>
              <a:chExt cx="2808720" cy="360"/>
            </a:xfrm>
          </p:grpSpPr>
          <p:sp>
            <p:nvSpPr>
              <p:cNvPr id="376" name="Line 14"/>
              <p:cNvSpPr/>
              <p:nvPr/>
            </p:nvSpPr>
            <p:spPr>
              <a:xfrm flipH="1">
                <a:off x="5781240" y="3543120"/>
                <a:ext cx="280836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>
                <a:off x="5781600" y="3543120"/>
                <a:ext cx="28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6502320" y="2174760"/>
              <a:ext cx="2160720" cy="1441440"/>
              <a:chOff x="6502320" y="2174760"/>
              <a:chExt cx="2160720" cy="1441440"/>
            </a:xfrm>
          </p:grpSpPr>
          <p:sp>
            <p:nvSpPr>
              <p:cNvPr id="379" name="Line 15"/>
              <p:cNvSpPr/>
              <p:nvPr/>
            </p:nvSpPr>
            <p:spPr>
              <a:xfrm>
                <a:off x="6502320" y="2174760"/>
                <a:ext cx="2160720" cy="144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 txBox="1"/>
              <p:nvPr/>
            </p:nvSpPr>
            <p:spPr>
              <a:xfrm>
                <a:off x="6502320" y="2174760"/>
                <a:ext cx="2160720" cy="144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16"/>
          <p:cNvGrpSpPr/>
          <p:nvPr/>
        </p:nvGrpSpPr>
        <p:grpSpPr>
          <a:xfrm>
            <a:off x="5796000" y="2203560"/>
            <a:ext cx="2879280" cy="1441440"/>
            <a:chOff x="5796000" y="2203560"/>
            <a:chExt cx="2879280" cy="1441440"/>
          </a:xfrm>
        </p:grpSpPr>
        <p:grpSp>
          <p:nvGrpSpPr>
            <p:cNvPr id="382" name=""/>
            <p:cNvGrpSpPr/>
            <p:nvPr/>
          </p:nvGrpSpPr>
          <p:grpSpPr>
            <a:xfrm>
              <a:off x="7955280" y="2203560"/>
              <a:ext cx="720000" cy="1441440"/>
              <a:chOff x="7955280" y="2203560"/>
              <a:chExt cx="720000" cy="1441440"/>
            </a:xfrm>
          </p:grpSpPr>
          <p:sp>
            <p:nvSpPr>
              <p:cNvPr id="383" name="Line 17"/>
              <p:cNvSpPr/>
              <p:nvPr/>
            </p:nvSpPr>
            <p:spPr>
              <a:xfrm>
                <a:off x="7955280" y="2203560"/>
                <a:ext cx="720000" cy="1441440"/>
              </a:xfrm>
              <a:prstGeom prst="line">
                <a:avLst/>
              </a:prstGeom>
              <a:ln w="572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 txBox="1"/>
              <p:nvPr/>
            </p:nvSpPr>
            <p:spPr>
              <a:xfrm>
                <a:off x="7955280" y="2203560"/>
                <a:ext cx="720000" cy="144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868720" y="3571920"/>
              <a:ext cx="2806560" cy="360"/>
              <a:chOff x="5868720" y="3571920"/>
              <a:chExt cx="2806560" cy="360"/>
            </a:xfrm>
          </p:grpSpPr>
          <p:sp>
            <p:nvSpPr>
              <p:cNvPr id="386" name="Line 18"/>
              <p:cNvSpPr/>
              <p:nvPr/>
            </p:nvSpPr>
            <p:spPr>
              <a:xfrm>
                <a:off x="5868720" y="3571920"/>
                <a:ext cx="280656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 txBox="1"/>
              <p:nvPr/>
            </p:nvSpPr>
            <p:spPr>
              <a:xfrm>
                <a:off x="5868720" y="3571920"/>
                <a:ext cx="2806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5796000" y="2203560"/>
              <a:ext cx="2159280" cy="1441440"/>
              <a:chOff x="5796000" y="2203560"/>
              <a:chExt cx="2159280" cy="1441440"/>
            </a:xfrm>
          </p:grpSpPr>
          <p:sp>
            <p:nvSpPr>
              <p:cNvPr id="389" name="Line 19"/>
              <p:cNvSpPr/>
              <p:nvPr/>
            </p:nvSpPr>
            <p:spPr>
              <a:xfrm flipH="1">
                <a:off x="5796000" y="2203560"/>
                <a:ext cx="2159280" cy="1441440"/>
              </a:xfrm>
              <a:prstGeom prst="line">
                <a:avLst/>
              </a:prstGeom>
              <a:ln w="572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 txBox="1"/>
              <p:nvPr/>
            </p:nvSpPr>
            <p:spPr>
              <a:xfrm>
                <a:off x="5796000" y="2203560"/>
                <a:ext cx="2159280" cy="144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Text Box 20"/>
          <p:cNvSpPr/>
          <p:nvPr/>
        </p:nvSpPr>
        <p:spPr>
          <a:xfrm>
            <a:off x="250920" y="0"/>
            <a:ext cx="5410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等腰梯形的两条对角线相等</a:t>
            </a:r>
            <a:r>
              <a:rPr b="1" lang="en-US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1"/>
          <p:cNvSpPr/>
          <p:nvPr/>
        </p:nvSpPr>
        <p:spPr>
          <a:xfrm>
            <a:off x="252360" y="404640"/>
            <a:ext cx="88916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：在等腰梯形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，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D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∥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DC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等吗？请说明理由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2"/>
          <p:cNvSpPr/>
          <p:nvPr/>
        </p:nvSpPr>
        <p:spPr>
          <a:xfrm>
            <a:off x="250920" y="2117880"/>
            <a:ext cx="1368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理由：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3"/>
          <p:cNvSpPr/>
          <p:nvPr/>
        </p:nvSpPr>
        <p:spPr>
          <a:xfrm>
            <a:off x="1187280" y="2046240"/>
            <a:ext cx="40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∵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梯形</a:t>
            </a:r>
            <a:r>
              <a:rPr b="1" i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ABCD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中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, </a:t>
            </a:r>
            <a:r>
              <a:rPr b="1" i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AD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∥</a:t>
            </a:r>
            <a:r>
              <a:rPr b="1" i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BC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4"/>
          <p:cNvSpPr/>
          <p:nvPr/>
        </p:nvSpPr>
        <p:spPr>
          <a:xfrm>
            <a:off x="1187280" y="29098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∴∠</a:t>
            </a:r>
            <a:r>
              <a:rPr b="1" i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ABC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＝∠</a:t>
            </a:r>
            <a:r>
              <a:rPr b="1" i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DCB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5"/>
          <p:cNvSpPr/>
          <p:nvPr/>
        </p:nvSpPr>
        <p:spPr>
          <a:xfrm>
            <a:off x="1476360" y="2478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AB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DC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1547640" y="342900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在△</a:t>
            </a:r>
            <a:r>
              <a:rPr b="1" i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ABC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和△</a:t>
            </a:r>
            <a:r>
              <a:rPr b="1" i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DCB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中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1990800" y="406224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AB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＝</a:t>
            </a:r>
            <a:r>
              <a:rPr b="1" i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DC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8"/>
          <p:cNvSpPr/>
          <p:nvPr/>
        </p:nvSpPr>
        <p:spPr>
          <a:xfrm>
            <a:off x="1889280" y="5054760"/>
            <a:ext cx="197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BC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＝</a:t>
            </a:r>
            <a:r>
              <a:rPr b="1" i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CB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1071720" y="6021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∴</a:t>
            </a:r>
            <a:r>
              <a:rPr b="1" i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AC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＝</a:t>
            </a:r>
            <a:r>
              <a:rPr b="1" i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BD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30"/>
          <p:cNvSpPr/>
          <p:nvPr/>
        </p:nvSpPr>
        <p:spPr>
          <a:xfrm>
            <a:off x="1692360" y="4206960"/>
            <a:ext cx="215640" cy="1295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1"/>
          <p:cNvSpPr/>
          <p:nvPr/>
        </p:nvSpPr>
        <p:spPr>
          <a:xfrm>
            <a:off x="1908000" y="45514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∠</a:t>
            </a:r>
            <a:r>
              <a:rPr b="1" i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ABC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＝∠</a:t>
            </a:r>
            <a:r>
              <a:rPr b="1" i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DCB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2"/>
          <p:cNvSpPr/>
          <p:nvPr/>
        </p:nvSpPr>
        <p:spPr>
          <a:xfrm>
            <a:off x="1176480" y="55594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∴△</a:t>
            </a:r>
            <a:r>
              <a:rPr b="1" i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ABC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≌△</a:t>
            </a:r>
            <a:r>
              <a:rPr b="1" i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DCB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468360" y="148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解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AC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B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dur="indefinite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87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87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01:1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09Z</dcterms:modified>
  <cp:revision>1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