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gif" ContentType="image/gif"/>
  <Override PartName="/ppt/media/image21.jpeg" ContentType="image/jpeg"/>
  <Override PartName="/ppt/media/chimes.wav" ContentType="audio/x-wav"/>
  <Override PartName="/ppt/media/camera.wav" ContentType="audio/x-wav"/>
  <Override PartName="/ppt/media/image17.gif" ContentType="image/gif"/>
  <Override PartName="/ppt/media/image15.jpeg" ContentType="image/jpeg"/>
  <Override PartName="/ppt/media/image25.png" ContentType="image/png"/>
  <Override PartName="/ppt/media/image19.jpeg" ContentType="image/jpeg"/>
  <Override PartName="/ppt/media/suction.wav" ContentType="audio/x-wav"/>
  <Override PartName="/ppt/media/image14.png" ContentType="image/png"/>
  <Override PartName="/ppt/media/image13.png" ContentType="image/png"/>
  <Override PartName="/ppt/media/image8.jpeg" ContentType="image/jpeg"/>
  <Override PartName="/ppt/media/image29.jpeg" ContentType="image/jpeg"/>
  <Override PartName="/ppt/media/image26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2.jpeg" ContentType="image/jpeg"/>
  <Override PartName="/ppt/media/image6.wmf" ContentType="image/x-wmf"/>
  <Override PartName="/ppt/media/click.wav" ContentType="audio/x-wav"/>
  <Override PartName="/ppt/media/image4.wmf" ContentType="image/x-wmf"/>
  <Override PartName="/ppt/media/image34.jpeg" ContentType="image/jpeg"/>
  <Override PartName="/ppt/media/image28.png" ContentType="image/png"/>
  <Override PartName="/ppt/media/image7.jpeg" ContentType="image/jpeg"/>
  <Override PartName="/ppt/media/image3.jpeg" ContentType="image/jpeg"/>
  <Override PartName="/ppt/media/voltage.wav" ContentType="audio/x-wav"/>
  <Override PartName="/ppt/media/image11.png" ContentType="image/png"/>
  <Override PartName="/ppt/media/image9.jpeg" ContentType="image/jpeg"/>
  <Override PartName="/ppt/media/image18.png" ContentType="image/png"/>
  <Override PartName="/ppt/media/type.wav" ContentType="audio/x-wav"/>
  <Override PartName="/ppt/media/image5.wmf" ContentType="image/x-wmf"/>
  <Override PartName="/ppt/media/image1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D6-A47C-4631-A8A2-B1142B16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4E6-8B74-478D-912C-82EFB27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A36-E195-4976-A2A1-1BC40D00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47E-20AF-44C7-B45A-D0F77BBD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135B-6F15-4645-802C-FCABC713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439D-C5A3-427D-9E53-C49F4D1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7986-AB1A-4886-A885-C0617910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440-4BAD-45FE-8AE2-1C60C7BD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F38D-BE17-40C3-80D7-EEF1D52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7AC-D98D-40A1-9483-9BE9402A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E94-4F0A-4B5E-8CB5-D526F6C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144-4281-4C86-AEFC-91B1B1F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1AC1-B4E6-4205-80C6-36A290C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F10-0357-4593-82D5-D8408CF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160-9613-4A22-9552-B9713C4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AD6-80F1-40EB-A158-0B47CB3C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500-D9F6-4E86-8C23-26D3CEB6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1448-DB1E-4797-858F-C14D2868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0E57-4B93-4D0C-ADA6-D7CE559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AC0A-F3E4-4D90-AD03-2CD6ABA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3438-5431-4488-9150-078864C7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42DD-C342-4D9C-A56E-C18554C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0A5-B57E-4C98-97AD-B616186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F8B5-85F8-4293-B1F8-98F6B26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0B9B-95DD-449E-BAFA-B9D2282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15CB-55BC-4179-BEF7-AEF477E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D06A-3C3A-40F7-930A-8345493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3ED1-076F-4749-BD57-FAB099D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D9C6-2A63-4AAB-A444-15F5EDE3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150B-F76D-462C-81C5-7EB2D9C0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00A5-0BB1-414E-A37D-B0FA4665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C602-4040-407C-9319-67BCF11D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F156-7E9F-4C5A-97DA-E48DCA24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121-78E7-4AF8-80C5-DFDEE58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6AA0-3EE9-4A49-96B1-13F6C513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829E-D65E-4276-A9A6-10724C4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A6DD-8984-4A01-8A6F-806C4893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88CA-72D8-4179-BDBC-D096BB8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A253-F189-459E-BD6E-FBACD43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439A-0175-4F69-ACAA-DCE137F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F1B0-223A-4D5D-BB7D-D59BD84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C77DC-E555-48C6-87EC-95378C35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5D66-869C-4F1F-84D5-3816D34C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787-5271-48BA-AA3C-D2F189FF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3D2-645A-411B-9769-F72E780F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AF1-DE49-4A8A-90F4-DA50A86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D3C-BEE8-4082-99A3-071F94F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F11-F917-403A-960E-3B4103B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75B1-2DF5-4CA1-864C-ACA3FFF1F0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F98-AA7E-481E-9512-16DE9D994B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E96-0AE8-4E2E-8EFA-F4E0DF264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11A9-EF23-4439-A834-8EE35A2551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1741320" y="1684440"/>
            <a:ext cx="66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通信连万家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1081990456"/>
          <p:cNvPicPr/>
          <p:nvPr/>
        </p:nvPicPr>
        <p:blipFill>
          <a:blip r:embed="rId1"/>
          <a:stretch/>
        </p:blipFill>
        <p:spPr>
          <a:xfrm>
            <a:off x="-4680" y="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5508720" y="836640"/>
            <a:ext cx="345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dobe 宋体 Std L"/>
                <a:ea typeface="Adobe 宋体 Std L"/>
              </a:rPr>
              <a:t>手机之所以能传播信息，是因为基站，基站 是固定的无线电发送机，当你用手机打电话时，信号就会通过</a:t>
            </a:r>
            <a:r>
              <a:rPr b="1" lang="zh-CN" sz="3200" spc="-1" strike="noStrike">
                <a:solidFill>
                  <a:srgbClr val="cc00ff"/>
                </a:solidFill>
                <a:latin typeface="Adobe 宋体 Std L"/>
                <a:ea typeface="Adobe 宋体 Std L"/>
              </a:rPr>
              <a:t>电波</a:t>
            </a:r>
            <a:r>
              <a:rPr b="1" lang="zh-CN" sz="3200" spc="-1" strike="noStrike">
                <a:solidFill>
                  <a:srgbClr val="000000"/>
                </a:solidFill>
                <a:latin typeface="Adobe 宋体 Std L"/>
                <a:ea typeface="Adobe 宋体 Std L"/>
              </a:rPr>
              <a:t>由基站发送和接受。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218" name="Picture 7" descr="0020070192"/>
          <p:cNvPicPr/>
          <p:nvPr/>
        </p:nvPicPr>
        <p:blipFill>
          <a:blip r:embed="rId2"/>
          <a:stretch/>
        </p:blipFill>
        <p:spPr>
          <a:xfrm>
            <a:off x="395280" y="836640"/>
            <a:ext cx="1576440" cy="230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2014560" y="576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站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837800" y="177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波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2012011410365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900000" y="981000"/>
            <a:ext cx="504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电波、光波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不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传递信息的方式，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电信通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23" name="文本框 8197"/>
          <p:cNvSpPr/>
          <p:nvPr/>
        </p:nvSpPr>
        <p:spPr>
          <a:xfrm>
            <a:off x="900000" y="379872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1303160814075026a582ed9186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952560" y="3610080"/>
            <a:ext cx="7272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这些通信方式各有什么特点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？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042920" y="4941720"/>
            <a:ext cx="719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要求：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组长组织每个同学发言，说出每种通信方式的特点，指定一人负责汇报。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4067280" y="907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 点       缺 点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468360" y="1628640"/>
            <a:ext cx="3526920" cy="1155600"/>
            <a:chOff x="468360" y="1628640"/>
            <a:chExt cx="3526920" cy="1155600"/>
          </a:xfrm>
        </p:grpSpPr>
        <p:pic>
          <p:nvPicPr>
            <p:cNvPr id="229" name="Picture 6" descr="p74_1"/>
            <p:cNvPicPr/>
            <p:nvPr/>
          </p:nvPicPr>
          <p:blipFill>
            <a:blip r:embed="rId1"/>
            <a:stretch/>
          </p:blipFill>
          <p:spPr>
            <a:xfrm>
              <a:off x="2545200" y="1628640"/>
              <a:ext cx="145008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7"/>
            <p:cNvSpPr/>
            <p:nvPr/>
          </p:nvSpPr>
          <p:spPr>
            <a:xfrm>
              <a:off x="468360" y="2063160"/>
              <a:ext cx="13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挂号信</a:t>
              </a:r>
              <a:endParaRPr b="0" lang="en-US" sz="2800" spc="-1" strike="noStrike" u="sng">
                <a:solidFill>
                  <a:srgbClr val="ff0000"/>
                </a:solidFill>
                <a:uFillTx/>
                <a:latin typeface="Arial"/>
              </a:endParaRPr>
            </a:p>
          </p:txBody>
        </p:sp>
      </p:grpSp>
      <p:grpSp>
        <p:nvGrpSpPr>
          <p:cNvPr id="231" name="Group 8"/>
          <p:cNvGrpSpPr/>
          <p:nvPr/>
        </p:nvGrpSpPr>
        <p:grpSpPr>
          <a:xfrm>
            <a:off x="324000" y="3141720"/>
            <a:ext cx="3887280" cy="1476000"/>
            <a:chOff x="324000" y="3141720"/>
            <a:chExt cx="3887280" cy="1476000"/>
          </a:xfrm>
        </p:grpSpPr>
        <p:pic>
          <p:nvPicPr>
            <p:cNvPr id="232" name="Picture 9" descr="p74_2"/>
            <p:cNvPicPr/>
            <p:nvPr/>
          </p:nvPicPr>
          <p:blipFill>
            <a:blip r:embed="rId2"/>
            <a:stretch/>
          </p:blipFill>
          <p:spPr>
            <a:xfrm>
              <a:off x="2574720" y="3141720"/>
              <a:ext cx="1636560" cy="14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324000" y="3633120"/>
              <a:ext cx="17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特快专递</a:t>
              </a:r>
              <a:endParaRPr b="0" lang="en-US" sz="2800" spc="-1" strike="noStrike" u="sng">
                <a:solidFill>
                  <a:srgbClr val="ff0000"/>
                </a:solidFill>
                <a:uFillTx/>
                <a:latin typeface="Arial"/>
              </a:endParaRPr>
            </a:p>
          </p:txBody>
        </p:sp>
      </p:grpSp>
      <p:grpSp>
        <p:nvGrpSpPr>
          <p:cNvPr id="234" name="Group 11"/>
          <p:cNvGrpSpPr/>
          <p:nvPr/>
        </p:nvGrpSpPr>
        <p:grpSpPr>
          <a:xfrm>
            <a:off x="613080" y="4869000"/>
            <a:ext cx="3526920" cy="1182240"/>
            <a:chOff x="613080" y="4869000"/>
            <a:chExt cx="3526920" cy="1182240"/>
          </a:xfrm>
        </p:grpSpPr>
        <p:pic>
          <p:nvPicPr>
            <p:cNvPr id="235" name="Picture 12" descr="p74_3"/>
            <p:cNvPicPr/>
            <p:nvPr/>
          </p:nvPicPr>
          <p:blipFill>
            <a:blip r:embed="rId3"/>
            <a:stretch/>
          </p:blipFill>
          <p:spPr>
            <a:xfrm>
              <a:off x="2318040" y="4869000"/>
              <a:ext cx="182196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3"/>
            <p:cNvSpPr/>
            <p:nvPr/>
          </p:nvSpPr>
          <p:spPr>
            <a:xfrm>
              <a:off x="613080" y="5062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传真机</a:t>
              </a:r>
              <a:endParaRPr b="0" lang="en-US" sz="2800" spc="-1" strike="noStrike" u="sng">
                <a:solidFill>
                  <a:srgbClr val="ff0000"/>
                </a:solidFill>
                <a:uFillTx/>
                <a:latin typeface="Arial"/>
              </a:endParaRPr>
            </a:p>
          </p:txBody>
        </p:sp>
      </p:grpSp>
      <p:sp>
        <p:nvSpPr>
          <p:cNvPr id="237" name="Text Box 17"/>
          <p:cNvSpPr/>
          <p:nvPr/>
        </p:nvSpPr>
        <p:spPr>
          <a:xfrm>
            <a:off x="4356000" y="1916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安全可靠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价格便宜   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877080" y="1916280"/>
            <a:ext cx="17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427640" y="3573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又快又保险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</a:rPr>
              <a:t>        </a:t>
            </a:r>
            <a:endParaRPr b="0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4356000" y="505764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又快又便宜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文字、图像都可以传递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6732720" y="501336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保密性差一些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804000" y="3573360"/>
            <a:ext cx="21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价格贵一些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6732720" y="191628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时间长一点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250920" y="2133720"/>
            <a:ext cx="3889080" cy="1582200"/>
            <a:chOff x="250920" y="2133720"/>
            <a:chExt cx="3889080" cy="1582200"/>
          </a:xfrm>
        </p:grpSpPr>
        <p:sp>
          <p:nvSpPr>
            <p:cNvPr id="245" name="Rectangle 4"/>
            <p:cNvSpPr/>
            <p:nvPr/>
          </p:nvSpPr>
          <p:spPr>
            <a:xfrm>
              <a:off x="250920" y="2523240"/>
              <a:ext cx="17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电子邮件</a:t>
              </a:r>
              <a:endParaRPr b="0" lang="en-US" sz="2800" spc="-1" strike="noStrike" u="sng">
                <a:solidFill>
                  <a:srgbClr val="ff0000"/>
                </a:solidFill>
                <a:uFillTx/>
                <a:latin typeface="Arial"/>
              </a:endParaRPr>
            </a:p>
          </p:txBody>
        </p:sp>
        <p:pic>
          <p:nvPicPr>
            <p:cNvPr id="246" name="Picture 5" descr="p74_4"/>
            <p:cNvPicPr/>
            <p:nvPr/>
          </p:nvPicPr>
          <p:blipFill>
            <a:blip r:embed="rId1"/>
            <a:stretch/>
          </p:blipFill>
          <p:spPr>
            <a:xfrm>
              <a:off x="2402280" y="2133720"/>
              <a:ext cx="1737720" cy="158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6"/>
          <p:cNvGrpSpPr/>
          <p:nvPr/>
        </p:nvGrpSpPr>
        <p:grpSpPr>
          <a:xfrm>
            <a:off x="684000" y="4292640"/>
            <a:ext cx="3527280" cy="2115720"/>
            <a:chOff x="684000" y="4292640"/>
            <a:chExt cx="3527280" cy="2115720"/>
          </a:xfrm>
        </p:grpSpPr>
        <p:sp>
          <p:nvSpPr>
            <p:cNvPr id="248" name="Rectangle 7"/>
            <p:cNvSpPr/>
            <p:nvPr/>
          </p:nvSpPr>
          <p:spPr>
            <a:xfrm>
              <a:off x="684000" y="4769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移动电话</a:t>
              </a:r>
              <a:endParaRPr b="0" lang="en-US" sz="2800" spc="-1" strike="noStrike" u="sng">
                <a:solidFill>
                  <a:srgbClr val="ff0000"/>
                </a:solidFill>
                <a:uFillTx/>
                <a:latin typeface="Arial"/>
              </a:endParaRPr>
            </a:p>
          </p:txBody>
        </p:sp>
        <p:pic>
          <p:nvPicPr>
            <p:cNvPr id="249" name="Picture 8" descr="p74_5"/>
            <p:cNvPicPr/>
            <p:nvPr/>
          </p:nvPicPr>
          <p:blipFill>
            <a:blip r:embed="rId2"/>
            <a:stretch/>
          </p:blipFill>
          <p:spPr>
            <a:xfrm>
              <a:off x="3085920" y="4292640"/>
              <a:ext cx="1125360" cy="211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4"/>
          <p:cNvSpPr/>
          <p:nvPr/>
        </p:nvSpPr>
        <p:spPr>
          <a:xfrm>
            <a:off x="4788000" y="234936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即刻就可以收到，省钱，通过互联网还能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面对面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地谈家常。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4788000" y="4508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更方便，可以随时随地通话，还可以发短信。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6"/>
          <p:cNvSpPr/>
          <p:nvPr/>
        </p:nvSpPr>
        <p:spPr>
          <a:xfrm>
            <a:off x="3851280" y="83664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游戏规则</a:t>
            </a:r>
            <a:endParaRPr b="0" lang="en-US" sz="6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253" name="Picture 11" descr="2008612142537121_2"/>
          <p:cNvPicPr/>
          <p:nvPr/>
        </p:nvPicPr>
        <p:blipFill>
          <a:blip r:embed="rId1"/>
          <a:stretch/>
        </p:blipFill>
        <p:spPr>
          <a:xfrm>
            <a:off x="250920" y="1074600"/>
            <a:ext cx="280836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968560" y="2565360"/>
            <a:ext cx="55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每个人桌子上放有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张代表不同通信方式的表决牌，每种颜色代表一种通信方式，根据描述进行选择，你选择哪种通信方式就举哪个表决牌！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255" name="菊次郎的夏天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3965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2008215112939105_2"/>
          <p:cNvPicPr/>
          <p:nvPr/>
        </p:nvPicPr>
        <p:blipFill>
          <a:blip r:embed="rId1"/>
          <a:stretch/>
        </p:blipFill>
        <p:spPr>
          <a:xfrm>
            <a:off x="23760" y="1989000"/>
            <a:ext cx="4805280" cy="45262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611280" y="119700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宇航员通过天地语音系统和地面通话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"/>
          <p:cNvSpPr/>
          <p:nvPr/>
        </p:nvSpPr>
        <p:spPr>
          <a:xfrm>
            <a:off x="900000" y="1197000"/>
            <a:ext cx="75614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“开发区杯”国际马拉松赛将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日在武清举行。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今年的大赛盛况空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准备邀请谁来观看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 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用什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方式发出邀请呢？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7"/>
          <p:cNvSpPr/>
          <p:nvPr/>
        </p:nvSpPr>
        <p:spPr>
          <a:xfrm>
            <a:off x="1403280" y="2276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连万家</a:t>
            </a:r>
            <a:endParaRPr b="0" lang="en-US" sz="7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0" name="文本框 8197"/>
          <p:cNvSpPr/>
          <p:nvPr/>
        </p:nvSpPr>
        <p:spPr>
          <a:xfrm>
            <a:off x="1192320" y="417204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304020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846600" y="1876320"/>
            <a:ext cx="4824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传真机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应用扫描、光电等技术，把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文件、照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图像转换成电信号，传送到接收端，以记录形式进行复制的设备。传真机能直观、准确地再现真迹。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263" name="Picture 7" descr="b3b7d0a20cf431ad7030c1494b36acaf2fdd98e4"/>
          <p:cNvPicPr/>
          <p:nvPr/>
        </p:nvPicPr>
        <p:blipFill>
          <a:blip r:embed="rId1"/>
          <a:stretch/>
        </p:blipFill>
        <p:spPr>
          <a:xfrm>
            <a:off x="77760" y="105264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WB10051503_3"/>
          <p:cNvPicPr/>
          <p:nvPr/>
        </p:nvPicPr>
        <p:blipFill>
          <a:blip r:embed="rId1"/>
          <a:stretch/>
        </p:blipFill>
        <p:spPr>
          <a:xfrm>
            <a:off x="0" y="981000"/>
            <a:ext cx="320508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492360" y="1052640"/>
            <a:ext cx="5489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马拉松信使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元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波斯帝国入侵雅典。在马拉松平原展开了一场战役，最后雅典军队击败了强敌。为了把胜利的消息报告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余公里外的雅典城人民，刚刚从战场上回来的菲迪皮斯来不及卸掉军装，便飞步向雅典城方向跑去。他不顾饥饿疲劳，终于到了目的地。他向雅典人民高喊：“欢乐吧，我们胜利了！”顿时，人们欢呼雀跃。此刻，菲迪皮斯却疲备不堪，倒地身亡了。为了纪念这位信使，人们把“马拉松”作为一项固定的比赛项目，一直延续至今。  </a:t>
            </a:r>
            <a:endParaRPr b="0" lang="en-US" sz="2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6"/>
          <p:cNvSpPr/>
          <p:nvPr/>
        </p:nvSpPr>
        <p:spPr>
          <a:xfrm>
            <a:off x="500040" y="3429000"/>
            <a:ext cx="8605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子邮件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一种用电子手段提供信息交换的通信方式，通过网络的电子邮件系统，以非常快速的方式与世界上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任何一个角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网络用户联系，这些电子邮件可以是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文字、图像、声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各种信息。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265" name="Picture 7" descr="cf1b9d16fdfaaf5194fd9d9c8c5494eef01f7af2"/>
          <p:cNvPicPr/>
          <p:nvPr/>
        </p:nvPicPr>
        <p:blipFill>
          <a:blip r:embed="rId1"/>
          <a:stretch/>
        </p:blipFill>
        <p:spPr>
          <a:xfrm>
            <a:off x="500040" y="692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20111103135955849"/>
          <p:cNvPicPr/>
          <p:nvPr/>
        </p:nvPicPr>
        <p:blipFill>
          <a:blip r:embed="rId2"/>
          <a:stretch/>
        </p:blipFill>
        <p:spPr>
          <a:xfrm>
            <a:off x="4500720" y="907920"/>
            <a:ext cx="3836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9E7-DF5A-444B-B15C-FEDC089349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9" descr="a71ea8d3fd1f41341a391148241f95cad0c8a786c9177ec5"/>
          <p:cNvPicPr/>
          <p:nvPr/>
        </p:nvPicPr>
        <p:blipFill>
          <a:blip r:embed="rId1"/>
          <a:stretch/>
        </p:blipFill>
        <p:spPr>
          <a:xfrm>
            <a:off x="5724360" y="1125360"/>
            <a:ext cx="2213280" cy="1872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395280" y="178452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特快专递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M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由消费者付出较贵的费用以获得快速的邮政传递服务。近年来主要定位国内物品类市场。 主要服务对象如</a:t>
            </a:r>
            <a:r>
              <a:rPr b="1" lang="zh-CN" sz="3200" spc="-1" strike="noStrike">
                <a:solidFill>
                  <a:srgbClr val="cc00ff"/>
                </a:solidFill>
                <a:latin typeface="宋体"/>
              </a:rPr>
              <a:t>网上购物、电视购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3" descr=""/>
          <p:cNvPicPr/>
          <p:nvPr/>
        </p:nvPicPr>
        <p:blipFill>
          <a:blip r:embed="rId1"/>
          <a:stretch/>
        </p:blipFill>
        <p:spPr>
          <a:xfrm>
            <a:off x="743040" y="1600200"/>
            <a:ext cx="3467160" cy="218592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4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5" descr=""/>
          <p:cNvPicPr/>
          <p:nvPr/>
        </p:nvPicPr>
        <p:blipFill>
          <a:blip r:embed="rId3"/>
          <a:stretch/>
        </p:blipFill>
        <p:spPr>
          <a:xfrm>
            <a:off x="-468360" y="-316080"/>
            <a:ext cx="12633480" cy="5231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403280" y="42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话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411280" y="422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信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492360" y="407664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00720" y="4149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真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435640" y="4149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信片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734880" y="4149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178" name="Picture 14" descr="4e712da9897d5f8c240006072754_512_512"/>
          <p:cNvPicPr/>
          <p:nvPr/>
        </p:nvPicPr>
        <p:blipFill>
          <a:blip r:embed="rId4"/>
          <a:stretch/>
        </p:blipFill>
        <p:spPr>
          <a:xfrm>
            <a:off x="7236000" y="5013360"/>
            <a:ext cx="1569960" cy="1655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179280" y="508464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些通信方式你及家人使用过吗   </a:t>
            </a:r>
            <a:endParaRPr b="0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简单说说当时的情景。</a:t>
            </a:r>
            <a:endParaRPr b="0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7667640" y="41497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快专递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2007041813521978183"/>
          <p:cNvPicPr/>
          <p:nvPr/>
        </p:nvPicPr>
        <p:blipFill>
          <a:blip r:embed="rId1"/>
          <a:stretch/>
        </p:blipFill>
        <p:spPr>
          <a:xfrm>
            <a:off x="3851280" y="1017720"/>
            <a:ext cx="4032360" cy="3463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615154_38f6fb700e15d32acfdcb78b817f3d03"/>
          <p:cNvPicPr/>
          <p:nvPr/>
        </p:nvPicPr>
        <p:blipFill>
          <a:blip r:embed="rId2"/>
          <a:stretch/>
        </p:blipFill>
        <p:spPr>
          <a:xfrm>
            <a:off x="539640" y="2276640"/>
            <a:ext cx="2986200" cy="3816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506920" y="48340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547640" y="15573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筒</a:t>
            </a:r>
            <a:endParaRPr b="0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p72_1"/>
          <p:cNvPicPr/>
          <p:nvPr/>
        </p:nvPicPr>
        <p:blipFill>
          <a:blip r:embed="rId1"/>
          <a:stretch/>
        </p:blipFill>
        <p:spPr>
          <a:xfrm>
            <a:off x="971640" y="2205000"/>
            <a:ext cx="1392120" cy="165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p72_2"/>
          <p:cNvPicPr/>
          <p:nvPr/>
        </p:nvPicPr>
        <p:blipFill>
          <a:blip r:embed="rId2"/>
          <a:stretch/>
        </p:blipFill>
        <p:spPr>
          <a:xfrm>
            <a:off x="3635280" y="2492280"/>
            <a:ext cx="158904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p72_3"/>
          <p:cNvPicPr/>
          <p:nvPr/>
        </p:nvPicPr>
        <p:blipFill>
          <a:blip r:embed="rId3"/>
          <a:stretch/>
        </p:blipFill>
        <p:spPr>
          <a:xfrm>
            <a:off x="6084720" y="2205000"/>
            <a:ext cx="2229120" cy="1592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72_6"/>
          <p:cNvPicPr/>
          <p:nvPr/>
        </p:nvPicPr>
        <p:blipFill>
          <a:blip r:embed="rId4"/>
          <a:stretch/>
        </p:blipFill>
        <p:spPr>
          <a:xfrm>
            <a:off x="5580000" y="4869000"/>
            <a:ext cx="2478240" cy="1092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p72_5"/>
          <p:cNvPicPr/>
          <p:nvPr/>
        </p:nvPicPr>
        <p:blipFill>
          <a:blip r:embed="rId5"/>
          <a:stretch/>
        </p:blipFill>
        <p:spPr>
          <a:xfrm>
            <a:off x="3276720" y="4365720"/>
            <a:ext cx="1477800" cy="19368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/>
          <p:cNvSpPr/>
          <p:nvPr/>
        </p:nvSpPr>
        <p:spPr>
          <a:xfrm>
            <a:off x="2700360" y="3068640"/>
            <a:ext cx="484200" cy="184320"/>
          </a:xfrm>
          <a:prstGeom prst="rightArrow">
            <a:avLst>
              <a:gd name="adj1" fmla="val 50000"/>
              <a:gd name="adj2" fmla="val 65649"/>
            </a:avLst>
          </a:prstGeom>
          <a:solidFill>
            <a:srgbClr val="ff7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5508720" y="3141720"/>
            <a:ext cx="484200" cy="183960"/>
          </a:xfrm>
          <a:prstGeom prst="rightArrow">
            <a:avLst>
              <a:gd name="adj1" fmla="val 50000"/>
              <a:gd name="adj2" fmla="val 65778"/>
            </a:avLst>
          </a:prstGeom>
          <a:solidFill>
            <a:srgbClr val="ff7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flipH="1">
            <a:off x="4858560" y="5300640"/>
            <a:ext cx="552600" cy="211320"/>
          </a:xfrm>
          <a:prstGeom prst="rightArrow">
            <a:avLst>
              <a:gd name="adj1" fmla="val 50000"/>
              <a:gd name="adj2" fmla="val 65351"/>
            </a:avLst>
          </a:prstGeom>
          <a:solidFill>
            <a:srgbClr val="ff7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 flipH="1">
            <a:off x="2556000" y="5300640"/>
            <a:ext cx="552240" cy="211320"/>
          </a:xfrm>
          <a:prstGeom prst="rightArrow">
            <a:avLst>
              <a:gd name="adj1" fmla="val 50000"/>
              <a:gd name="adj2" fmla="val 65308"/>
            </a:avLst>
          </a:prstGeom>
          <a:solidFill>
            <a:srgbClr val="ff7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flipH="1" rot="16200000">
            <a:off x="6821280" y="4203360"/>
            <a:ext cx="492120" cy="238320"/>
          </a:xfrm>
          <a:prstGeom prst="rightArrow">
            <a:avLst>
              <a:gd name="adj1" fmla="val 50000"/>
              <a:gd name="adj2" fmla="val 51605"/>
            </a:avLst>
          </a:prstGeom>
          <a:solidFill>
            <a:srgbClr val="ff7f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3059280" y="981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的信使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25584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951280" y="12002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活中的信使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198" name="Picture 7" descr="200711240615393542"/>
          <p:cNvPicPr/>
          <p:nvPr/>
        </p:nvPicPr>
        <p:blipFill>
          <a:blip r:embed="rId1"/>
          <a:stretch/>
        </p:blipFill>
        <p:spPr>
          <a:xfrm>
            <a:off x="250920" y="1989000"/>
            <a:ext cx="3960720" cy="323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580"/>
          <p:cNvPicPr/>
          <p:nvPr/>
        </p:nvPicPr>
        <p:blipFill>
          <a:blip r:embed="rId2"/>
          <a:stretch/>
        </p:blipFill>
        <p:spPr>
          <a:xfrm>
            <a:off x="4572000" y="1989000"/>
            <a:ext cx="4103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2012011410365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39640" y="685800"/>
            <a:ext cx="61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火车、飞机、邮递员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得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“信使”来传递信息的方式，称为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邮政通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危急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5356425_175012283000_2"/>
          <p:cNvPicPr/>
          <p:nvPr/>
        </p:nvPicPr>
        <p:blipFill>
          <a:blip r:embed="rId2"/>
          <a:stretch/>
        </p:blipFill>
        <p:spPr>
          <a:xfrm>
            <a:off x="0" y="0"/>
            <a:ext cx="9325080" cy="718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W020090317331409214203"/>
          <p:cNvPicPr/>
          <p:nvPr/>
        </p:nvPicPr>
        <p:blipFill>
          <a:blip r:embed="rId3"/>
          <a:stretch/>
        </p:blipFill>
        <p:spPr>
          <a:xfrm>
            <a:off x="287280" y="620640"/>
            <a:ext cx="8461440" cy="6237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95280" y="765000"/>
            <a:ext cx="396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那是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009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日，中央美院的学生宿舍突然起火，火势越来越大，滚滚的浓烟笼罩上空。此时在宿舍中午休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5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位学生被大火和浓烟包围，如果你是宿舍里的学生，此时怎样发出求救信号？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02160" y="5805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435640" y="3716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火警电话：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19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5356425_175012283000_2"/>
          <p:cNvPicPr/>
          <p:nvPr/>
        </p:nvPicPr>
        <p:blipFill>
          <a:blip r:embed="rId1"/>
          <a:stretch/>
        </p:blipFill>
        <p:spPr>
          <a:xfrm>
            <a:off x="0" y="0"/>
            <a:ext cx="9325080" cy="7184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W020090317331409214203"/>
          <p:cNvPicPr/>
          <p:nvPr/>
        </p:nvPicPr>
        <p:blipFill>
          <a:blip r:embed="rId2"/>
          <a:stretch/>
        </p:blipFill>
        <p:spPr>
          <a:xfrm>
            <a:off x="287280" y="620640"/>
            <a:ext cx="8461440" cy="6237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95280" y="765000"/>
            <a:ext cx="396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那是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2009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日，中央美院的学生宿舍突然起火，火势越来越大，滚滚的浓烟笼罩上空。此时在宿舍中午休的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5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位学生被大火和浓烟包围，如果你是宿舍里的学生，此时怎样发出求救信号？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502160" y="5805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798520" y="371628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火警电话：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19</a:t>
            </a:r>
            <a:endParaRPr b="0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4:11:21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9:02:13Z</dcterms:modified>
  <cp:revision>2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