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5.gif" ContentType="image/gif"/>
  <Override PartName="/ppt/media/image10.gif" ContentType="image/gif"/>
  <Override PartName="/ppt/media/image22.jpeg" ContentType="image/jpeg"/>
  <Override PartName="/ppt/media/image7.png" ContentType="image/png"/>
  <Override PartName="/ppt/media/image1.jpeg" ContentType="image/jpeg"/>
  <Override PartName="/ppt/media/image8.jpeg" ContentType="image/jpeg"/>
  <Override PartName="/ppt/media/image11.gif" ContentType="image/gif"/>
  <Override PartName="/ppt/media/image24.jpeg" ContentType="image/jpeg"/>
  <Override PartName="/ppt/media/image3.jpeg" ContentType="image/jpeg"/>
  <Override PartName="/ppt/media/image12.gif" ContentType="image/gif"/>
  <Override PartName="/ppt/media/image30.jpeg" ContentType="image/jpeg"/>
  <Override PartName="/ppt/media/image9.jpeg" ContentType="image/jpeg"/>
  <Override PartName="/ppt/media/image31.jpeg" ContentType="image/jpeg"/>
  <Override PartName="/ppt/media/image25.png" ContentType="image/png"/>
  <Override PartName="/ppt/media/image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gif" ContentType="image/gif"/>
  <Override PartName="/ppt/media/image18.gif" ContentType="image/gif"/>
  <Override PartName="/ppt/media/image13.png" ContentType="image/png"/>
  <Override PartName="/ppt/media/image20.gif" ContentType="image/gif"/>
  <Override PartName="/ppt/media/image14.jpeg" ContentType="image/jpeg"/>
  <Override PartName="/ppt/media/image19.gif" ContentType="image/gif"/>
  <Override PartName="/ppt/media/image21.gif" ContentType="image/gif"/>
  <Override PartName="/ppt/media/image26.jpeg" ContentType="image/jpeg"/>
  <Override PartName="/ppt/media/image4.gif" ContentType="image/gif"/>
  <Override PartName="/ppt/media/image2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A6C-8E21-4117-9DCD-EDB3E5D9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68B-3674-4117-8B0A-0AE5B35F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3E22E-5053-4C50-88B8-69252341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824F0-1521-4354-AA1A-FA4DF20C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5DDD9-A21B-4F76-9421-BEBE9908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8E5EA-F120-4766-91B2-4DC0536A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30464-913E-493F-8D02-018F9478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76FC8-907B-447C-9361-CDC26AC6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9A863-C0BE-4074-A28C-2277DC36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D8FD1-E346-478D-93E9-E5B43C64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C8829-4C00-4821-9A74-3F937640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E0F3F-368B-49FD-B19F-38827C20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E79-E8CC-4CC9-A3F9-875D6B09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78383-1CD6-46BD-97C9-E1FB6825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84BBA-089E-4637-BD4D-111A077F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36881-9F2C-49E8-A33E-BE69D3EA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FC940-A0BF-4C47-B53D-E9C66473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4E1F1-EFCD-4E02-B628-AC5DC652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9376E-56A2-434B-AE5C-AD9E8B51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C458E-B080-4FF1-BE37-6A04CEFB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A50C7-B547-4C4E-B73B-32377893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9346A-752D-4FB1-BAC2-553736D7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A46C7-EB2D-4D87-8B76-66D9D869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33D-A79A-4F78-A413-134D9E07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AF65A-8742-4DCC-B24C-63C2F5CE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5845E-3394-4958-9B7A-C35E8D76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F7CD1-14EE-4CCC-BD76-BF3DCC9C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15202-7700-4DAC-8746-513D6460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AC23B-62AF-452E-B1CF-4F1E4917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93B45-6278-469A-A668-F2C2A5A8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30979-43EB-460B-A6DE-5BA31876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43F82-FDCC-49F1-991F-9FDD9DC9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91B1C-D301-4949-BA92-D66D9124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E8084-0FEB-43F3-9A8B-7B68EAFD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F7F1-C3F4-466F-B663-3F3E3FA6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1E5E1-CF0E-451A-90D3-99F8F267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81C65-17C3-4B4B-94AB-EB1B20A7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1C2DF-3F0B-403B-A5A4-BCA88E21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07C8F-AEF2-439E-BCF5-B20211D6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20C63-C7C9-4E12-85CB-1BC320F0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787A2-8242-4648-ABE4-9EB27357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36D12-1EA4-4418-9B62-1F8914B6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CA5B3-92B8-44A5-B073-5B0156FD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56C9E-63B7-441D-BD33-08407CF5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ECC44-77EC-42C9-85FE-1BFFD4C5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8446-9B93-46CE-9CF2-4C0F197F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31FF5-68C7-404B-8CD9-3846B0C2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A5EFC-4C13-49C6-9915-F2B5BD7D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136FE-AB4B-4783-B7B1-27EA0246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9E41D-DD0B-426A-8E4A-56106BCC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52569-008B-4E29-895A-AD13D038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110BC-1E26-4800-A92F-9C650E39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AB511-55F5-4089-BBCF-A2DF69F3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32E35-56D1-49AF-8B13-3E56B437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85DCC-574E-4276-A0C3-073AE3B1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019EF-83FA-4D90-A6BF-9C196067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A63A-304A-4EC8-ABE5-2101A3B5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91C57-47EF-45EC-BB4C-8538B125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33F6E-A66C-4991-9A2C-DEF28910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85275-7173-4FDC-B63C-53E942B2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4F4D9-033F-44E9-A903-299B84AC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8DD1E-0E3E-42F7-BD50-9B8B439F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4FA4A-6D15-4B35-90F4-4407CDDC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0E87B-564A-43A7-82F0-30356249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7E8B1-3DFC-438A-994A-103E3D3E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D1E26-5C9D-494E-9E4B-67000860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2E4B8C-8571-4E02-9A77-A7A7EC16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A808-1458-4D68-9AAC-43EA482A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81AFE-37E9-4F3B-B1CE-90B08FE1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158BA-A89C-4137-9F10-6CF849BC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BDAE13-1CDB-4B35-BD53-729B7FC7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E6B98-3177-45C1-85DE-FE33A637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E4114B-CCF8-4CE5-AB20-9E97D444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A87014-3980-4704-A112-6238C96F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DBEA5-ED3E-4146-8BE1-01EFE409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80173-5466-4366-951F-BDAFF29A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ED40D-CC99-4B80-8874-2756ED5A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3C3B0-E194-42EC-9007-C16F18B1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C684-3ABB-4CD8-97A3-B1072433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C06DA-8606-45FB-86D8-79BDC5A8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377CAC-9B3D-4EC2-B282-89B06024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75E0C1-8BE2-49E2-9BA1-A67E873B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165F8-5B68-4942-A1CC-62D23AD9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E647EC-D3C9-4996-AB5B-F81FD87D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9C153-B05A-4C4B-B015-740F35CE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9A8DDC-3CAE-43E2-9D7C-5BFDD490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9E287-E5AC-40F7-93A2-0A49AC5C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1D46D5-3185-47AC-A274-B774BC06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65C84-8056-4AAD-A331-8127C52C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2A5A-AC51-43EB-8A88-C33D47D0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E6E61-6AAC-46F9-A530-620158FF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4388-6094-4276-A9DE-91018F9F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527D-21FC-49B5-ABE8-217887C7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9135-23CA-4A8A-9E8E-533F2F61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AE90-2DDF-43B6-8E6C-B5095C2E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0CE4-5273-4F51-962C-65D790D3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EF6E-5255-420D-BDC1-24518217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B8D8-6482-450C-A619-7C69F4B8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13415-750C-4C65-A50C-C64664EB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A8F3-2CB7-4D3E-9319-29750C5C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CAE4-41A3-4E54-AF89-6FF7DFA0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3827D-AD01-4BDE-9F82-CA723721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A0429-CBDC-403C-A785-43C03578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DFC-AC1F-4EAB-A1B2-9A105E86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B1F07-FE11-46A0-9A84-D429AD99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19DDB-AC3C-46AF-B3CC-1D362365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1848-4E59-4E1B-8C1D-DB014C25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EF44-185A-4000-BF7E-C74557C1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FB4E9-3999-43B8-87A0-4B278642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8C1A-17F0-4936-AAE7-D72D3895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B044-88D8-4218-B684-F81051EE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31D52-55C7-4063-B335-AE450EAC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5D2AF-B774-4A49-A9A3-D9E0B48E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05679-DBD6-4A37-A1BC-C34C3917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6E0-2712-406D-9872-EB5D027E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E0711-435A-4BF4-AEC4-85E5F5FF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A463D-6B38-4941-AF6F-BFC4AEF8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22469-CF83-4D21-9632-91087A7D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1B02-C530-407D-99F7-7F5402EA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8B786-3F50-481C-BFC4-18E9F1C9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A9AA8-A4E4-4E2A-A063-30B1432C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A814F-60B8-4CED-80AF-EF53CCBB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6A35E-0C04-4E7B-9F85-0B270BED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E8568-D38B-451A-B507-C0CD5D49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7A4AD-E365-4A26-B7F3-7D4C8468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B39-33E1-4981-A2F4-61125CC7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0CA1C-2DDC-47FF-BC80-8520418D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2ECD1-2C0A-49FA-BEB6-AE5E20BB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954D0-40FA-4207-AF91-1B0E1F4C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CA522-8E0A-4645-865F-68BD3C95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F096C-A77D-48A9-9F5D-797AD6C7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4496F-BF69-45CD-94FA-0D5281CC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48690-8BA6-42F3-8C95-E7CC32BC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4B9B2-6829-402F-8DB6-1959546C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9CC4A-2282-459E-BFF1-7A557E37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31D13-5B98-4E8A-9CD8-44AE0E5F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020-09DE-485E-AE7F-2A306342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3D0CE-8A9F-49C6-AAC6-1C5E5F17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B2DF3-AFEA-4871-BEBE-B1920FCB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02042-17CC-4FF6-83B2-CD824114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DC6D0-7EBB-4DDB-A3CC-6B33C2EE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7F26E-9B13-4E7F-B9EA-F4750AB0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8960B-E2C8-4B26-9914-2397BF02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24D7C-CB75-4E2D-8B54-670E6E11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C7CCC-9875-40F6-A402-554E492C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00517-38B1-452B-93C9-61EA0C6A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71D3B-7F24-4952-8E11-46BF932C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7B2-C4E6-4B92-9ADF-66755929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CE16F-8C78-48E5-AA35-8C984215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F9D0A-8E81-48D0-B1C1-C87D051B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4C23D-5FA5-43D9-81A6-A29E7D6B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8EB7E-B8B8-474A-AFCC-19088620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029E4-E3CA-4BB3-9A14-153B9BDF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67FBC-60AD-44D6-A9DB-A3E171FC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EC06F-FAC7-45BD-B700-412553EB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E39CA-BE6C-4903-9E8F-2934DDF5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AE17A-09ED-42C2-86BC-F74390A7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E6657-D193-4F31-80C9-A3F461E4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9C1-9AD0-4476-AC9C-5ADAD5C7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1DC58-185F-4C3B-9E00-08531DE5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BBD60-BCC9-4CB0-9713-ADFF78E7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92CB5-ECC8-43D4-845C-787CC5C7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03DD3-FE0B-4F63-A0D4-BE1B2FE7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8D6B7-DFB6-4734-B2AA-4C8A1C8B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88A2D-9279-4F69-9836-FAE1E135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BA8FA-7121-429B-B216-9BA831FC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EDE87-9ED6-4DF4-8F1A-A513711E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25A0B-1CB2-42D5-A46C-A00C5DAA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B3D24-E570-4BD5-A38E-77A5AF82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995-E427-4332-9078-6B19CB2F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72A64-6970-4B6F-A33C-ECB2DF37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F00FB-62D6-4346-981B-8DBFBCBF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231BB-55A2-4CDA-8695-FAB6E75D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BC043-DD56-4D83-A8CC-F67F1B78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3B21A-3E24-48EE-A276-07AE1662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85C0A-D8FB-44C9-B4CB-15C28A59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AF67D-C2BC-4F41-BE11-D22A42AD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74DDF-7403-4A4D-97CE-8AC2188B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4EC9C-1BF5-45A4-9D94-94CDE9D8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0AFBC-C2DC-4A08-B4FF-22AB6D8E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EECF-E708-4CCF-ABCC-5FFBAC073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E3D5-0809-4DD0-892B-3B9E608C139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D471-6B32-4875-B874-EEC62995184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4973-3A78-4B86-8E69-9C114788C7A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39ED-8035-4E4D-9BB2-74A226C434C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5D82-6314-441C-81AE-0522AB12023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D1E4-C3AE-4319-B5B6-4EE1E96B55E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8366-794E-48A9-A43A-1D4425F3A92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E176-75E6-4FE3-853F-151BE505D8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AFAB-392E-4E8E-8ABE-53CA0283F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C077-49F8-4EFC-A6AA-C0FA8459612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69BA-68B8-4C71-BAEB-CBFB2B33A25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6A22-22A0-4CFE-9314-BE615708E09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0C60-613C-48FD-8989-DE9C05265C3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0409-CBDD-4EAE-B7B4-E323A56F011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hq.xinhuanet.com/ghlc/2004-05/25/content_2185274.htm" TargetMode="Externa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3"/>
          <p:cNvSpPr txBox="1"/>
          <p:nvPr/>
        </p:nvSpPr>
        <p:spPr>
          <a:xfrm>
            <a:off x="762120" y="2819520"/>
            <a:ext cx="75438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33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同样的权利同样的爱护课件</a:t>
            </a:r>
            <a:r>
              <a:rPr b="1" lang="en-US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33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33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下载</a:t>
            </a:r>
            <a:endParaRPr b="1" lang="en-US" sz="4000" spc="1" strike="noStrike">
              <a:ln w="12600">
                <a:solidFill>
                  <a:srgbClr val="ff0000"/>
                </a:solidFill>
                <a:round/>
              </a:ln>
              <a:solidFill>
                <a:srgbClr val="ff33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6" name="矩形 5"/>
          <p:cNvSpPr/>
          <p:nvPr/>
        </p:nvSpPr>
        <p:spPr>
          <a:xfrm>
            <a:off x="2661120" y="1521000"/>
            <a:ext cx="35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课　生命健康权与我同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684360" y="76500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注意自身生命安全和健康，既是我们的权利， 也是我们对自己的关爱和责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214717"/>
          <p:cNvPicPr/>
          <p:nvPr/>
        </p:nvPicPr>
        <p:blipFill>
          <a:blip r:embed="rId1"/>
          <a:stretch/>
        </p:blipFill>
        <p:spPr>
          <a:xfrm>
            <a:off x="0" y="507672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4"/>
          <p:cNvSpPr/>
          <p:nvPr/>
        </p:nvSpPr>
        <p:spPr>
          <a:xfrm>
            <a:off x="457200" y="371628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</a:t>
            </a:r>
            <a:r>
              <a:rPr b="1" lang="zh-CN" sz="4800" spc="-1" strike="noStrike">
                <a:solidFill>
                  <a:srgbClr val="d60093"/>
                </a:solidFill>
                <a:latin typeface="Times New Roman"/>
                <a:ea typeface="黑体"/>
              </a:rPr>
              <a:t>除了为正义而献身外</a:t>
            </a:r>
            <a:r>
              <a:rPr b="1" lang="en-US" sz="4800" spc="-1" strike="noStrike">
                <a:solidFill>
                  <a:srgbClr val="d60093"/>
                </a:solidFill>
                <a:latin typeface="Times New Roman"/>
                <a:ea typeface="黑体"/>
              </a:rPr>
              <a:t>,</a:t>
            </a:r>
            <a:r>
              <a:rPr b="1" lang="zh-CN" sz="4800" spc="-1" strike="noStrike">
                <a:solidFill>
                  <a:srgbClr val="d60093"/>
                </a:solidFill>
                <a:latin typeface="Times New Roman"/>
                <a:ea typeface="黑体"/>
              </a:rPr>
              <a:t>公民的生命健康权不得让与或抛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5"/>
          <p:cNvSpPr/>
          <p:nvPr/>
        </p:nvSpPr>
        <p:spPr>
          <a:xfrm>
            <a:off x="990720" y="3429000"/>
            <a:ext cx="6094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611280" y="620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18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" descr="bg"/>
          <p:cNvPicPr/>
          <p:nvPr/>
        </p:nvPicPr>
        <p:blipFill>
          <a:blip r:embed="rId2"/>
          <a:stretch/>
        </p:blipFill>
        <p:spPr>
          <a:xfrm>
            <a:off x="0" y="3284640"/>
            <a:ext cx="1835280" cy="357336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4"/>
          <p:cNvSpPr/>
          <p:nvPr/>
        </p:nvSpPr>
        <p:spPr>
          <a:xfrm>
            <a:off x="1371600" y="1066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5"/>
          <p:cNvSpPr txBox="1"/>
          <p:nvPr/>
        </p:nvSpPr>
        <p:spPr>
          <a:xfrm>
            <a:off x="0" y="304920"/>
            <a:ext cx="762012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们的生命健康权不得让与或抛弃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63" name="WordArt 6"/>
          <p:cNvSpPr txBox="1"/>
          <p:nvPr/>
        </p:nvSpPr>
        <p:spPr>
          <a:xfrm rot="5400000">
            <a:off x="-952920" y="339084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为什么？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900000" y="1700280"/>
            <a:ext cx="824400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隶书"/>
                <a:ea typeface="隶书"/>
              </a:rPr>
              <a:t>在公民的人格权中，生命健康权居于首要地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cc00ff"/>
                </a:solidFill>
                <a:latin typeface="隶书"/>
                <a:ea typeface="隶书"/>
              </a:rPr>
              <a:t>人具有社会性，生命一旦诞生就具有社会责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cc00ff"/>
                </a:solidFill>
                <a:latin typeface="隶书"/>
                <a:ea typeface="隶书"/>
              </a:rPr>
              <a:t>一个人因为困难、挫折、失意而自杀，必然会给亲朋好友带来哀伤，还会引发一系列社会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隶书"/>
                <a:ea typeface="隶书"/>
              </a:rPr>
              <a:t>3.</a:t>
            </a:r>
            <a:r>
              <a:rPr b="1" lang="zh-CN" sz="3200" spc="-1" strike="noStrike">
                <a:solidFill>
                  <a:srgbClr val="cc00ff"/>
                </a:solidFill>
                <a:latin typeface="隶书"/>
                <a:ea typeface="隶书"/>
              </a:rPr>
              <a:t>如公民损害自己的身体，会造成更大的社会负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4211640" y="119700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隶书"/>
                <a:ea typeface="隶书"/>
              </a:rPr>
              <a:t>除了为正义而献身外</a:t>
            </a:r>
            <a:r>
              <a:rPr b="1" lang="en-US" sz="32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"/>
          <p:cNvPicPr/>
          <p:nvPr/>
        </p:nvPicPr>
        <p:blipFill>
          <a:blip r:embed="rId1"/>
          <a:stretch/>
        </p:blipFill>
        <p:spPr>
          <a:xfrm>
            <a:off x="1042920" y="0"/>
            <a:ext cx="7561440" cy="486900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3"/>
          <p:cNvSpPr/>
          <p:nvPr/>
        </p:nvSpPr>
        <p:spPr>
          <a:xfrm>
            <a:off x="1143000" y="13716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1600200" y="30481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5" descr="Q2"/>
          <p:cNvPicPr/>
          <p:nvPr/>
        </p:nvPicPr>
        <p:blipFill>
          <a:blip r:embed="rId2"/>
          <a:stretch/>
        </p:blipFill>
        <p:spPr>
          <a:xfrm>
            <a:off x="179280" y="4221000"/>
            <a:ext cx="1316160" cy="160020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6"/>
          <p:cNvSpPr/>
          <p:nvPr/>
        </p:nvSpPr>
        <p:spPr>
          <a:xfrm>
            <a:off x="1042920" y="501336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此事给小君，小哲及双方家庭造成什么后果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1042920" y="548496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“进一步山穷水尽，退一步海阔天空”“非法侵害生命康权者受制裁”。结合这两句话，谈谈此桩惨案如何避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468360" y="189000"/>
            <a:ext cx="8136000" cy="17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此桩惨案避免的方法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735120" y="170028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324000" y="836640"/>
            <a:ext cx="849600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首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同学们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应从小树立责任意识和法律意识。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懂得每个人都享有生命健康权，同时也负有不得侵害他人生命健康权的道德义务和法定义务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611280" y="3141720"/>
            <a:ext cx="777708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其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同学们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培养关爱他人的情感和宽容的态度，以正确的方式和合法的手段处理同学间矛盾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539640" y="5084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再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同学们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注重控制好自己的情绪，尤其须制怒，远离暴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法1"/>
          <p:cNvPicPr/>
          <p:nvPr/>
        </p:nvPicPr>
        <p:blipFill>
          <a:blip r:embed="rId1">
            <a:lum bright="84000"/>
          </a:blip>
          <a:srcRect l="0" t="0" r="1416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3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——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不得侵害他人生命健康权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是每个公民应尽的道德义务和法律义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838080" y="2708280"/>
            <a:ext cx="83059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任何人都无权非法剥夺他人的生命，即使大义灭亲也不允许，这是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隶书"/>
              </a:rPr>
              <a:t>侵害生命权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隶书"/>
              </a:rPr>
              <a:t>的行为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WordArt 5"/>
          <p:cNvSpPr txBox="1"/>
          <p:nvPr/>
        </p:nvSpPr>
        <p:spPr>
          <a:xfrm>
            <a:off x="1692360" y="1844640"/>
            <a:ext cx="56386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240">
                  <a:solidFill>
                    <a:srgbClr val="009999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生命是最为宝贵的</a:t>
            </a:r>
            <a:endParaRPr b="1" lang="en-US" sz="1800" spc="1" strike="noStrike">
              <a:ln w="3240">
                <a:solidFill>
                  <a:srgbClr val="009999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681" name="AutoShape 6"/>
          <p:cNvSpPr/>
          <p:nvPr/>
        </p:nvSpPr>
        <p:spPr>
          <a:xfrm>
            <a:off x="0" y="2781360"/>
            <a:ext cx="914400" cy="304920"/>
          </a:xfrm>
          <a:prstGeom prst="sun">
            <a:avLst>
              <a:gd name="adj" fmla="val 25000"/>
            </a:avLst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7"/>
          <p:cNvSpPr/>
          <p:nvPr/>
        </p:nvSpPr>
        <p:spPr>
          <a:xfrm>
            <a:off x="0" y="4005360"/>
            <a:ext cx="914400" cy="380880"/>
          </a:xfrm>
          <a:prstGeom prst="sun">
            <a:avLst>
              <a:gd name="adj" fmla="val 25000"/>
            </a:avLst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8"/>
          <p:cNvSpPr txBox="1"/>
          <p:nvPr/>
        </p:nvSpPr>
        <p:spPr>
          <a:xfrm>
            <a:off x="838080" y="5022720"/>
            <a:ext cx="77644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d60093"/>
                </a:solidFill>
                <a:latin typeface="隶书"/>
              </a:rPr>
              <a:t>学会关爱与自护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d60093"/>
              </a:solidFill>
              <a:latin typeface="隶书"/>
              <a:ea typeface="隶书"/>
            </a:endParaRPr>
          </a:p>
        </p:txBody>
      </p:sp>
      <p:sp>
        <p:nvSpPr>
          <p:cNvPr id="684" name="Text Box 9"/>
          <p:cNvSpPr/>
          <p:nvPr/>
        </p:nvSpPr>
        <p:spPr>
          <a:xfrm>
            <a:off x="1095480" y="3933720"/>
            <a:ext cx="7797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任何人不得故意或者过失造成他人受伤、生病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隶书"/>
              </a:rPr>
              <a:t>侵害健康权的行为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8194"/>
          <p:cNvSpPr/>
          <p:nvPr/>
        </p:nvSpPr>
        <p:spPr>
          <a:xfrm>
            <a:off x="2459160" y="2373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未命名3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" descr="打架1"/>
          <p:cNvPicPr/>
          <p:nvPr/>
        </p:nvPicPr>
        <p:blipFill>
          <a:blip r:embed="rId2"/>
          <a:stretch/>
        </p:blipFill>
        <p:spPr>
          <a:xfrm>
            <a:off x="0" y="260280"/>
            <a:ext cx="3505320" cy="51134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打架2"/>
          <p:cNvPicPr/>
          <p:nvPr/>
        </p:nvPicPr>
        <p:blipFill>
          <a:blip r:embed="rId3"/>
          <a:stretch/>
        </p:blipFill>
        <p:spPr>
          <a:xfrm>
            <a:off x="4572000" y="1700280"/>
            <a:ext cx="2133720" cy="36338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打人"/>
          <p:cNvPicPr/>
          <p:nvPr/>
        </p:nvPicPr>
        <p:blipFill>
          <a:blip r:embed="rId4"/>
          <a:stretch/>
        </p:blipFill>
        <p:spPr>
          <a:xfrm>
            <a:off x="6553080" y="1484280"/>
            <a:ext cx="2590920" cy="403236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" descr="打架3"/>
          <p:cNvPicPr/>
          <p:nvPr/>
        </p:nvPicPr>
        <p:blipFill>
          <a:blip r:embed="rId5"/>
          <a:stretch/>
        </p:blipFill>
        <p:spPr>
          <a:xfrm>
            <a:off x="3352680" y="1484280"/>
            <a:ext cx="1265400" cy="384984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7"/>
          <p:cNvSpPr/>
          <p:nvPr/>
        </p:nvSpPr>
        <p:spPr>
          <a:xfrm>
            <a:off x="250920" y="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      </a:t>
            </a:r>
            <a:r>
              <a:rPr b="0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我们绝</a:t>
            </a:r>
            <a:r>
              <a:rPr b="1" lang="zh-CN" sz="8800" spc="-1" strike="noStrike">
                <a:solidFill>
                  <a:srgbClr val="cc0000"/>
                </a:solidFill>
                <a:latin typeface="Times New Roman"/>
                <a:ea typeface="隶书"/>
              </a:rPr>
              <a:t>不</a:t>
            </a:r>
            <a:r>
              <a:rPr b="0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可以这样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0" y="5661000"/>
            <a:ext cx="1100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我们中学生要关爱生命与健康，远离暴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304920" y="14050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00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日，云南省昆明市官渡区人民法院审理了一起故意伤害案，父亲李普能因儿子吸毒、盗窃，恨铁不成钢，情急之下竟将其活活打死，结果被判了刑。李普能是官渡区某村村民，其子李彪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年染上毒瘾，当时年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岁。从那时起，家里不管把钱放在哪里，都难逃李彪的魔掌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00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日，没钱的李彪又偷了本村村民的拖拉机后斗板。李普能找到一个月未回家的李彪后，将其弄回家中进行毒打，致使李彪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WordArt 3"/>
          <p:cNvSpPr txBox="1"/>
          <p:nvPr/>
        </p:nvSpPr>
        <p:spPr>
          <a:xfrm>
            <a:off x="152280" y="0"/>
            <a:ext cx="58676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中宋"/>
              </a:rPr>
              <a:t>合作探究：</a:t>
            </a:r>
            <a:endParaRPr b="0" lang="en-US" sz="1800" spc="-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695" name="Picture 4" descr="xinsrc_380501250837875873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0"/>
            <a:ext cx="18288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wallcoo_com_BABU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3"/>
          <p:cNvSpPr/>
          <p:nvPr/>
        </p:nvSpPr>
        <p:spPr>
          <a:xfrm>
            <a:off x="838080" y="137160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有人说这是一种大义灭亲的行为。你们是怎么认为的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FR7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3"/>
          <p:cNvSpPr/>
          <p:nvPr/>
        </p:nvSpPr>
        <p:spPr>
          <a:xfrm>
            <a:off x="1066680" y="1143000"/>
            <a:ext cx="701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大义灭亲侵害了他人的生命健康权，是违法的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2"/>
          <p:cNvSpPr/>
          <p:nvPr/>
        </p:nvSpPr>
        <p:spPr>
          <a:xfrm>
            <a:off x="304920" y="14050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最近，广州警方抓获了一名光天化日下拦路抢劫的少年。据这位少年讲，他在网吧里整整打了一天一夜游戏，出来后浑浑噩噩，脑子里想的还是游戏里的砍砍杀杀。这时正好遇见一位衣着入时的妇女走过，就动了抢劫的念头，于是遏制不住，操起路旁水果摊上的西瓜刀就朝那个妇女的手提包砍了过去。。。。。。这位少年就因一念之差，造成受害人右小臂严重受伤，他自己也被依法刑事拘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WordArt 3"/>
          <p:cNvSpPr txBox="1"/>
          <p:nvPr/>
        </p:nvSpPr>
        <p:spPr>
          <a:xfrm>
            <a:off x="457200" y="380880"/>
            <a:ext cx="3581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ff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关注现实：</a:t>
            </a:r>
            <a:endParaRPr b="0" lang="en-US" sz="1800" spc="1" strike="noStrike">
              <a:ln w="19080">
                <a:solidFill>
                  <a:srgbClr val="00ff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3911400" y="5783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请问：这个少年为什么会有这一念之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未命名3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0" y="15408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619" name="WordArt 3"/>
          <p:cNvSpPr txBox="1"/>
          <p:nvPr/>
        </p:nvSpPr>
        <p:spPr>
          <a:xfrm>
            <a:off x="2286000" y="981000"/>
            <a:ext cx="4876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珍爱自己生命健康</a:t>
            </a:r>
            <a:endParaRPr b="0" lang="en-US" sz="1800" spc="1" strike="noStrike">
              <a:ln w="19080">
                <a:solidFill>
                  <a:srgbClr val="ff9900"/>
                </a:solidFill>
                <a:round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228600" y="1700280"/>
            <a:ext cx="4991040" cy="379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e6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、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我们应该如何行使生命健康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5105520" y="1700280"/>
            <a:ext cx="3714480" cy="360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ce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、我们不可以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324000" y="2852640"/>
            <a:ext cx="45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a.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珍爱生命，维护健康，积极锻炼；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334120" y="22050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隶书"/>
              </a:rPr>
              <a:t>抽烟、喝酒、生活没规律、吃劣质食品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隶书"/>
              </a:rPr>
              <a:t>到危险的地方去玩、有病不治、自残、自杀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  <a:ea typeface="隶书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304920" y="0"/>
            <a:ext cx="7372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一、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积极行使生命健康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0" y="5229360"/>
            <a:ext cx="550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隶书"/>
                <a:ea typeface="隶书"/>
              </a:rPr>
              <a:t>  </a:t>
            </a:r>
            <a:r>
              <a:rPr b="1" lang="en-US" sz="3600" spc="-1" strike="noStrike">
                <a:solidFill>
                  <a:srgbClr val="cc00ff"/>
                </a:solidFill>
                <a:latin typeface="隶书"/>
                <a:ea typeface="隶书"/>
              </a:rPr>
              <a:t>c.</a:t>
            </a:r>
            <a:r>
              <a:rPr b="1" lang="zh-CN" sz="3600" spc="-1" strike="noStrike">
                <a:solidFill>
                  <a:srgbClr val="cc00ff"/>
                </a:solidFill>
                <a:latin typeface="隶书"/>
                <a:ea typeface="隶书"/>
              </a:rPr>
              <a:t>受非法侵害，有权依法自卫和请求法律保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468360" y="407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隶书"/>
                <a:ea typeface="隶书"/>
              </a:rPr>
              <a:t>b.</a:t>
            </a:r>
            <a:r>
              <a:rPr b="1" lang="zh-CN" sz="3600" spc="-1" strike="noStrike">
                <a:solidFill>
                  <a:srgbClr val="cc00ff"/>
                </a:solidFill>
                <a:latin typeface="隶书"/>
                <a:ea typeface="隶书"/>
              </a:rPr>
              <a:t>患病医治，恢复健康，恢复体质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3"/>
          <p:cNvSpPr/>
          <p:nvPr/>
        </p:nvSpPr>
        <p:spPr>
          <a:xfrm>
            <a:off x="2209680" y="2209680"/>
            <a:ext cx="5486400" cy="25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关爱生命，远离暴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056360" cy="501336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3"/>
          <p:cNvSpPr/>
          <p:nvPr/>
        </p:nvSpPr>
        <p:spPr>
          <a:xfrm>
            <a:off x="0" y="0"/>
            <a:ext cx="868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                      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相关链接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       一天，中学生王明、徐文、钟平、黄晓芳放学回家，走到学校附近的河边时，忽然听见有人大喊“救命”。原来是同学张刚等四个学生均不会游泳，在此危急关头，四个学生有三种不同表现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3" descr="Q2"/>
          <p:cNvPicPr/>
          <p:nvPr/>
        </p:nvPicPr>
        <p:blipFill>
          <a:blip r:embed="rId1"/>
          <a:stretch/>
        </p:blipFill>
        <p:spPr>
          <a:xfrm>
            <a:off x="6480" y="3809880"/>
            <a:ext cx="1315800" cy="1600200"/>
          </a:xfrm>
          <a:prstGeom prst="rect">
            <a:avLst/>
          </a:prstGeom>
          <a:ln w="0">
            <a:noFill/>
          </a:ln>
        </p:spPr>
      </p:pic>
      <p:sp>
        <p:nvSpPr>
          <p:cNvPr id="707" name="Rectangle 4"/>
          <p:cNvSpPr/>
          <p:nvPr/>
        </p:nvSpPr>
        <p:spPr>
          <a:xfrm>
            <a:off x="1295280" y="30492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明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纵身一跃跳进河中，试图拉张刚上岸，结果河水湍急，不会游泳的两个人抱在一起在河中挣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1066680" y="2514600"/>
            <a:ext cx="7848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钟平、黄晓芳一边大声呼救，一边找救人工具，发现旁边有一根三米长的木棍，两人马上抄起木棍，将另一头伸向河中，让二人抓住。这时几个成年人跑来，有的跳到河里救人，有的帮着拉木棍，大家齐心协力将二人救上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1295280" y="1341360"/>
            <a:ext cx="76694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徐文</a:t>
            </a:r>
            <a:r>
              <a:rPr b="1" i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想：自己不会游泳，也没有法定的救助义务，还是自身安全重要，于是扬长而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541440" y="4797360"/>
            <a:ext cx="835164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请从法律与道德等方面评价上述三种表现。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。如果你遇到类似情况怎么办？（讨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8" descr="未标题-5 拷贝"/>
          <p:cNvPicPr/>
          <p:nvPr/>
        </p:nvPicPr>
        <p:blipFill>
          <a:blip r:embed="rId2"/>
          <a:stretch/>
        </p:blipFill>
        <p:spPr>
          <a:xfrm>
            <a:off x="228600" y="1371600"/>
            <a:ext cx="569880" cy="8380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9" descr="未命名3"/>
          <p:cNvPicPr/>
          <p:nvPr/>
        </p:nvPicPr>
        <p:blipFill>
          <a:blip r:embed="rId3"/>
          <a:stretch/>
        </p:blipFill>
        <p:spPr>
          <a:xfrm>
            <a:off x="380880" y="304920"/>
            <a:ext cx="567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713" name="Group 10"/>
          <p:cNvGrpSpPr/>
          <p:nvPr/>
        </p:nvGrpSpPr>
        <p:grpSpPr>
          <a:xfrm>
            <a:off x="0" y="2743200"/>
            <a:ext cx="1138320" cy="914040"/>
            <a:chOff x="0" y="2743200"/>
            <a:chExt cx="1138320" cy="914040"/>
          </a:xfrm>
        </p:grpSpPr>
        <p:pic>
          <p:nvPicPr>
            <p:cNvPr id="714" name="Picture 11" descr="未标题-7拷贝"/>
            <p:cNvPicPr/>
            <p:nvPr/>
          </p:nvPicPr>
          <p:blipFill>
            <a:blip r:embed="rId4"/>
            <a:stretch/>
          </p:blipFill>
          <p:spPr>
            <a:xfrm>
              <a:off x="541440" y="2836440"/>
              <a:ext cx="596880" cy="80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12" descr="未命名4"/>
            <p:cNvPicPr/>
            <p:nvPr/>
          </p:nvPicPr>
          <p:blipFill>
            <a:blip r:embed="rId5"/>
            <a:stretch/>
          </p:blipFill>
          <p:spPr>
            <a:xfrm>
              <a:off x="0" y="2743200"/>
              <a:ext cx="541440" cy="91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6" name="Text Box 13"/>
          <p:cNvSpPr/>
          <p:nvPr/>
        </p:nvSpPr>
        <p:spPr>
          <a:xfrm>
            <a:off x="1187280" y="6093000"/>
            <a:ext cx="76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179280" y="-360"/>
            <a:ext cx="8964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对王明同学行为的评价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王明勇敢地跳入水中抢救落水同学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张刚是见义勇为、有高尚道德的行为．应受法津保护和道德褒奖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就本案而言，王明的行为无论从法律或道德方面都不宜提倡。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汤兵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法律不提倡未成年人实施见义勇为的行为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468360" y="306864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徐文同学行为的评价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徐文的行为不违法但应受道德的谴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395280" y="4437000"/>
            <a:ext cx="835344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对钟平、黄晓芳同学行为的评价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钟平、黄晓芳的行为既是见义勇为的行为又是道德教育提倡的行为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本案中钟平、黄晓芳勇于救人，机智救人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既保全了自己，又成功地抢救了他人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3"/>
          <p:cNvSpPr/>
          <p:nvPr/>
        </p:nvSpPr>
        <p:spPr>
          <a:xfrm>
            <a:off x="0" y="3789360"/>
            <a:ext cx="9144000" cy="306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温馨小提示</a:t>
            </a:r>
            <a:r>
              <a:rPr b="1" lang="en-US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遇到各种危急的情况，帮助或救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他人时，要见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智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。如果你遇到类似情况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0" y="11970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提示：   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3333cc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）危难时刻要学会保护自我，也要尽一切可能去挽救他人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3333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）既要珍爱自己的生命安全与健康，也要关爱他人的生命安全与健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8194"/>
          <p:cNvSpPr/>
          <p:nvPr/>
        </p:nvSpPr>
        <p:spPr>
          <a:xfrm>
            <a:off x="1712880" y="6237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10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-119160" y="5716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框  同样的权利 同样的爱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3"/>
          <p:cNvSpPr/>
          <p:nvPr/>
        </p:nvSpPr>
        <p:spPr>
          <a:xfrm>
            <a:off x="914400" y="800280"/>
            <a:ext cx="380880" cy="5257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1371600" y="8380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积极行使生命健康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5"/>
          <p:cNvSpPr/>
          <p:nvPr/>
        </p:nvSpPr>
        <p:spPr>
          <a:xfrm>
            <a:off x="2895480" y="609480"/>
            <a:ext cx="381240" cy="2133720"/>
          </a:xfrm>
          <a:custGeom>
            <a:avLst/>
            <a:gdLst>
              <a:gd name="textAreaLeft" fmla="*/ 243720 w 381240"/>
              <a:gd name="textAreaRight" fmla="*/ 381600 w 3812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3200400" y="1890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使生命健康权的具体方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"/>
          <p:cNvSpPr/>
          <p:nvPr/>
        </p:nvSpPr>
        <p:spPr>
          <a:xfrm>
            <a:off x="3200400" y="11430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自身安全和健康，既是我们的权利，也是我们的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200400" y="227664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放弃生命健康权的恶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1295280" y="3657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关爱他人的生命与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0"/>
          <p:cNvSpPr/>
          <p:nvPr/>
        </p:nvSpPr>
        <p:spPr>
          <a:xfrm>
            <a:off x="2895480" y="3200400"/>
            <a:ext cx="381240" cy="2209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1"/>
          <p:cNvSpPr/>
          <p:nvPr/>
        </p:nvSpPr>
        <p:spPr>
          <a:xfrm>
            <a:off x="3276720" y="29559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负有不侵害他人生命健康权的道德义务和法定义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2"/>
          <p:cNvSpPr/>
          <p:nvPr/>
        </p:nvSpPr>
        <p:spPr>
          <a:xfrm>
            <a:off x="3200400" y="40384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伤害他人就是伤害自己，尊重他人就是保护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3"/>
          <p:cNvSpPr/>
          <p:nvPr/>
        </p:nvSpPr>
        <p:spPr>
          <a:xfrm>
            <a:off x="3276720" y="5105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要关爱生命，远离暴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1293840" y="56610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总之，既要珍爱自身的生命安全与健康，也要关爱他人的生命与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Oval 2"/>
          <p:cNvSpPr/>
          <p:nvPr/>
        </p:nvSpPr>
        <p:spPr>
          <a:xfrm>
            <a:off x="826920" y="990720"/>
            <a:ext cx="7239240" cy="335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1343160" y="15238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多一点爱，世界就会多一缕阳光，多一点爱，世界就会充满希望。让我们关爱生灵，关爱他人的生命和健康，远离暴力，做一个既遵守法律又乐于助人的人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4"/>
          <p:cNvSpPr/>
          <p:nvPr/>
        </p:nvSpPr>
        <p:spPr>
          <a:xfrm>
            <a:off x="7667640" y="566100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3794"/>
                </a:moveTo>
                <a:lnTo>
                  <a:pt x="20122" y="10800"/>
                </a:lnTo>
                <a:lnTo>
                  <a:pt x="61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D5C9-3CB2-4688-BFF7-E8035B5A3B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3"/>
          <p:cNvSpPr/>
          <p:nvPr/>
        </p:nvSpPr>
        <p:spPr>
          <a:xfrm>
            <a:off x="1371600" y="12193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</a:rPr>
              <a:t>、张某手持铁棍入室抢劫，职工小王和家人奋起反抗，打伤张某的手臂后制服张某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762120" y="54864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400" spc="-1" strike="noStrike">
                <a:solidFill>
                  <a:srgbClr val="ff3300"/>
                </a:solidFill>
                <a:latin typeface="黑体"/>
                <a:ea typeface="黑体"/>
              </a:rPr>
              <a:t>上述行为哪些属于合法行为？哪些属于放弃权利的行为？为什么？</a:t>
            </a:r>
            <a:endParaRPr b="0" lang="en-US" sz="3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30" name="Picture 6" descr="Q2"/>
          <p:cNvPicPr/>
          <p:nvPr/>
        </p:nvPicPr>
        <p:blipFill>
          <a:blip r:embed="rId1"/>
          <a:stretch/>
        </p:blipFill>
        <p:spPr>
          <a:xfrm>
            <a:off x="0" y="4952880"/>
            <a:ext cx="1316160" cy="160020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7"/>
          <p:cNvSpPr/>
          <p:nvPr/>
        </p:nvSpPr>
        <p:spPr>
          <a:xfrm>
            <a:off x="0" y="39625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、小林骑自行车上学时，闯红灯过马路，险些与正常行驶的汽车相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0" y="2666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、小红怕吃药打针，患了感冒久拖不治</a:t>
            </a:r>
            <a:r>
              <a:rPr b="1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结果得了心肌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WordArt 9"/>
          <p:cNvSpPr txBox="1"/>
          <p:nvPr/>
        </p:nvSpPr>
        <p:spPr>
          <a:xfrm>
            <a:off x="5410080" y="0"/>
            <a:ext cx="30956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七嘴八舌：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4"/>
          <p:cNvSpPr/>
          <p:nvPr/>
        </p:nvSpPr>
        <p:spPr>
          <a:xfrm>
            <a:off x="250920" y="28195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小红和小林都是放弃生命健康权利的行为。我们有注意自身生命安全和健康，使自己处于安全环境，免受他人侵害，保持自己健康的权利。</a:t>
            </a:r>
            <a:r>
              <a:rPr b="1" lang="zh-CN" sz="3600" spc="-1" strike="noStrike">
                <a:solidFill>
                  <a:srgbClr val="cc00ff"/>
                </a:solidFill>
                <a:latin typeface="隶书"/>
                <a:ea typeface="隶书"/>
              </a:rPr>
              <a:t>小林的行为不仅是违反交通法规的行为，而且也是放弃保护自己健康的权利的行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   </a:t>
            </a:r>
            <a:r>
              <a:rPr b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小王和家人的行为是合法行为，因为根据刑法的有关规定，小王和家人的行为属于依法自卫（正当防卫）的行为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10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2"/>
          <p:cNvSpPr/>
          <p:nvPr/>
        </p:nvSpPr>
        <p:spPr>
          <a:xfrm>
            <a:off x="466560" y="14479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刑法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条规定：对正在进行行凶、杀人、抢劫、强奸，绑架以及其他严重危及人身安全的暴力犯罪，采取防卫行为，造成不法侵害人伤亡的，不属于防卫过当，不负刑事责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" descr="7"/>
          <p:cNvPicPr/>
          <p:nvPr/>
        </p:nvPicPr>
        <p:blipFill>
          <a:blip r:embed="rId1"/>
          <a:stretch/>
        </p:blipFill>
        <p:spPr>
          <a:xfrm>
            <a:off x="380880" y="6343560"/>
            <a:ext cx="8229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矩形 5"/>
          <p:cNvSpPr/>
          <p:nvPr/>
        </p:nvSpPr>
        <p:spPr>
          <a:xfrm>
            <a:off x="2895480" y="46483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3"/>
          <p:cNvSpPr/>
          <p:nvPr/>
        </p:nvSpPr>
        <p:spPr>
          <a:xfrm>
            <a:off x="4098960" y="1066680"/>
            <a:ext cx="549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914400" y="914400"/>
            <a:ext cx="4419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遭遇非法侵害，应依法正当防卫，防止防卫过当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FR7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1143000" y="1752480"/>
            <a:ext cx="6781680" cy="2104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、珍爱生命，不得轻生或自残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4572000" cy="5791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573408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4"/>
          <p:cNvSpPr/>
          <p:nvPr/>
        </p:nvSpPr>
        <p:spPr>
          <a:xfrm>
            <a:off x="0" y="58672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北交大一名学生自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4724280" y="56674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吉林一毕业实习大学生跳楼砸瘪过路的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未命名3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" descr="小朋友自杀"/>
          <p:cNvPicPr/>
          <p:nvPr/>
        </p:nvPicPr>
        <p:blipFill>
          <a:blip r:embed="rId2"/>
          <a:stretch/>
        </p:blipFill>
        <p:spPr>
          <a:xfrm>
            <a:off x="6477120" y="2438280"/>
            <a:ext cx="2286000" cy="35816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" descr="小兔自杀"/>
          <p:cNvPicPr/>
          <p:nvPr/>
        </p:nvPicPr>
        <p:blipFill>
          <a:blip r:embed="rId3"/>
          <a:stretch/>
        </p:blipFill>
        <p:spPr>
          <a:xfrm>
            <a:off x="2895480" y="2590920"/>
            <a:ext cx="3200400" cy="28191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5" descr="A12"/>
          <p:cNvPicPr/>
          <p:nvPr/>
        </p:nvPicPr>
        <p:blipFill>
          <a:blip r:embed="rId4"/>
          <a:stretch/>
        </p:blipFill>
        <p:spPr>
          <a:xfrm>
            <a:off x="380880" y="2819520"/>
            <a:ext cx="2057400" cy="28954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6"/>
          <p:cNvSpPr/>
          <p:nvPr/>
        </p:nvSpPr>
        <p:spPr>
          <a:xfrm>
            <a:off x="1295280" y="30492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我们绝</a:t>
            </a:r>
            <a:r>
              <a:rPr b="1" lang="zh-CN" sz="8800" spc="-1" strike="noStrike">
                <a:solidFill>
                  <a:srgbClr val="cc0000"/>
                </a:solidFill>
                <a:latin typeface="Times New Roman"/>
                <a:ea typeface="隶书"/>
              </a:rPr>
              <a:t>不</a:t>
            </a:r>
            <a:r>
              <a:rPr b="0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可以这样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3154680" y="572616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不要放弃生命健康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9:00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49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521a000000000001024120</vt:lpwstr>
  </property>
  <property fmtid="{D5CDD505-2E9C-101B-9397-08002B2CF9AE}" pid="4" name="Version">
    <vt:r8>1</vt:r8>
  </property>
</Properties>
</file>