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50.jpeg" ContentType="image/jpeg"/>
  <Override PartName="/ppt/media/image25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6.png" ContentType="image/png"/>
  <Override PartName="/ppt/media/image36.png" ContentType="image/png"/>
  <Override PartName="/ppt/media/image28.jpeg" ContentType="image/jpeg"/>
  <Override PartName="/ppt/media/image51.jpeg" ContentType="image/jpeg"/>
  <Override PartName="/ppt/media/image20.png" ContentType="image/png"/>
  <Override PartName="/ppt/media/image18.png" ContentType="image/png"/>
  <Override PartName="/ppt/media/image9.jpeg" ContentType="image/jpeg"/>
  <Override PartName="/ppt/media/image30.jpeg" ContentType="image/jpeg"/>
  <Override PartName="/ppt/media/image33.jpeg" ContentType="image/jpeg"/>
  <Override PartName="/ppt/media/image34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10.jpeg" ContentType="image/jpeg"/>
  <Override PartName="/ppt/media/image38.png" ContentType="image/png"/>
  <Override PartName="/ppt/media/image39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media/image41.jpeg" ContentType="image/jpeg"/>
  <Override PartName="/ppt/media/image14.jpeg" ContentType="image/jpeg"/>
  <Override PartName="/ppt/media/image7.jpeg" ContentType="image/jpeg"/>
  <Override PartName="/ppt/media/image5.gif" ContentType="image/gif"/>
  <Override PartName="/ppt/media/image40.jpeg" ContentType="image/jpeg"/>
  <Override PartName="/ppt/media/image13.jpeg" ContentType="image/jpeg"/>
  <Override PartName="/ppt/media/image23.png" ContentType="image/png"/>
  <Override PartName="/ppt/media/image3.png" ContentType="image/png"/>
  <Override PartName="/ppt/media/image26.png" ContentType="image/png"/>
  <Override PartName="/ppt/media/image12.jpeg" ContentType="image/jpe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9B20-C4AA-41BD-9AAC-D056B0605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F28F-D1B5-4146-AE73-D5F55D40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88B5-6A66-4AC2-BC99-B61CBDDB8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9108-051E-4A02-B0B5-C5880589D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6769-130B-4E8A-A73A-1FE414DD0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1A96-A6F7-4F19-B2BF-8AFBF1EF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F8AFE-C4B2-40D3-9F14-AFD9ABA3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4B5A-9ACB-4C27-932E-E82AE600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209E-1D89-403D-87AF-5F30E0BF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92C1-F657-4526-BE07-2A41EE13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728C-63EC-43F2-9A54-DC85E6E1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BEF4-0CB6-4C28-8827-20D70CC1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3441-E536-40E6-A0BB-3EB27392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75A7-8938-4296-86BD-5AF3C0CD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0AF6-2D3B-4CCA-B256-5AE8A4C6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EC899-F245-428D-A94D-CB85DF5AA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EDC30-09B4-4870-8EA4-9AD75FF95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1148-93C5-4F27-961F-C8E06969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D895-B9EB-4041-B7A6-AA4729CC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15EC-93FA-495F-819D-46A76056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AD22-B5A3-4FE0-9D7D-0E4AD524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5D46-6B8A-4D27-B73E-E7908A6F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64E9-6854-45FE-94AF-2E43BDC7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1DFB-3488-4602-976D-760A07BC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104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1032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640" y="6137280"/>
                <a:ext cx="245880" cy="11772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88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96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FA82-E3F5-4BEF-A9EB-33DF2A6D0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0150-3C36-4294-8E3A-9EA60760973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6.png"/><Relationship Id="rId6" Type="http://schemas.openxmlformats.org/officeDocument/2006/relationships/hyperlink" Target="http://www.eeppt.com" TargetMode="External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01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1"/>
          <p:cNvPicPr/>
          <p:nvPr/>
        </p:nvPicPr>
        <p:blipFill>
          <a:blip r:embed="rId2"/>
          <a:stretch/>
        </p:blipFill>
        <p:spPr>
          <a:xfrm>
            <a:off x="0" y="4637160"/>
            <a:ext cx="2055960" cy="17143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1671480" y="2354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WordArt 7"/>
          <p:cNvSpPr txBox="1"/>
          <p:nvPr/>
        </p:nvSpPr>
        <p:spPr>
          <a:xfrm>
            <a:off x="790560" y="1919160"/>
            <a:ext cx="690084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太阳能课件</a:t>
            </a:r>
            <a:r>
              <a:rPr b="1" lang="en-US" sz="4000" spc="1" strike="noStrike">
                <a:ln w="1260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模板打包下载</a:t>
            </a:r>
            <a:endParaRPr b="1" lang="en-US" sz="4000" spc="1" strike="noStrike">
              <a:ln w="1260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6" name="矩形 2" descr=""/>
          <p:cNvPicPr/>
          <p:nvPr/>
        </p:nvPicPr>
        <p:blipFill>
          <a:blip r:embed="rId3"/>
          <a:stretch/>
        </p:blipFill>
        <p:spPr>
          <a:xfrm>
            <a:off x="1671480" y="692280"/>
            <a:ext cx="6019920" cy="523800"/>
          </a:xfrm>
          <a:prstGeom prst="rect">
            <a:avLst/>
          </a:prstGeom>
          <a:ln w="0">
            <a:noFill/>
          </a:ln>
        </p:spPr>
      </p:pic>
      <p:sp>
        <p:nvSpPr>
          <p:cNvPr id="10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431640" y="1268280"/>
            <a:ext cx="7380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　　直接利用太阳能的方式主要有两种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1368360" y="5481720"/>
            <a:ext cx="6120000" cy="611280"/>
            <a:chOff x="1368360" y="5481720"/>
            <a:chExt cx="6120000" cy="611280"/>
          </a:xfrm>
        </p:grpSpPr>
        <p:cxnSp>
          <p:nvCxnSpPr>
            <p:cNvPr id="146" name="直接箭头连接符 15"/>
            <p:cNvCxnSpPr/>
            <p:nvPr/>
          </p:nvCxnSpPr>
          <p:spPr>
            <a:xfrm>
              <a:off x="3716280" y="5820120"/>
              <a:ext cx="142920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round/>
              <a:tailEnd len="med" type="arrow" w="med"/>
            </a:ln>
          </p:spPr>
        </p:cxnSp>
        <p:grpSp>
          <p:nvGrpSpPr>
            <p:cNvPr id="147" name="Group 5"/>
            <p:cNvGrpSpPr/>
            <p:nvPr/>
          </p:nvGrpSpPr>
          <p:grpSpPr>
            <a:xfrm>
              <a:off x="1368360" y="5481720"/>
              <a:ext cx="2395440" cy="611280"/>
              <a:chOff x="1368360" y="5481720"/>
              <a:chExt cx="2395440" cy="611280"/>
            </a:xfrm>
          </p:grpSpPr>
          <p:pic>
            <p:nvPicPr>
              <p:cNvPr id="148" name="矩形 17" descr=""/>
              <p:cNvPicPr/>
              <p:nvPr/>
            </p:nvPicPr>
            <p:blipFill>
              <a:blip r:embed="rId1"/>
              <a:stretch/>
            </p:blipFill>
            <p:spPr>
              <a:xfrm>
                <a:off x="1368360" y="5481720"/>
                <a:ext cx="2395440" cy="61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Text Box 7"/>
              <p:cNvSpPr/>
              <p:nvPr/>
            </p:nvSpPr>
            <p:spPr>
              <a:xfrm>
                <a:off x="1420920" y="5590080"/>
                <a:ext cx="2296800" cy="45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Calibri"/>
                  </a:rPr>
                  <a:t>太阳能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0" name="Group 8"/>
            <p:cNvGrpSpPr/>
            <p:nvPr/>
          </p:nvGrpSpPr>
          <p:grpSpPr>
            <a:xfrm>
              <a:off x="5092920" y="5481720"/>
              <a:ext cx="2395440" cy="611280"/>
              <a:chOff x="5092920" y="5481720"/>
              <a:chExt cx="2395440" cy="611280"/>
            </a:xfrm>
          </p:grpSpPr>
          <p:pic>
            <p:nvPicPr>
              <p:cNvPr id="151" name="矩形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5092920" y="5481720"/>
                <a:ext cx="2395440" cy="61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Text Box 10"/>
              <p:cNvSpPr/>
              <p:nvPr/>
            </p:nvSpPr>
            <p:spPr>
              <a:xfrm>
                <a:off x="5144760" y="5590080"/>
                <a:ext cx="2295360" cy="45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Calibri"/>
                  </a:rPr>
                  <a:t>内能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53" name="Picture 3" descr="87887435b2723cf6d2a2d364"/>
          <p:cNvPicPr/>
          <p:nvPr/>
        </p:nvPicPr>
        <p:blipFill>
          <a:blip r:embed="rId3"/>
          <a:stretch/>
        </p:blipFill>
        <p:spPr>
          <a:xfrm>
            <a:off x="5030640" y="2168640"/>
            <a:ext cx="3429000" cy="2471760"/>
          </a:xfrm>
          <a:prstGeom prst="rect">
            <a:avLst/>
          </a:prstGeom>
          <a:ln w="0">
            <a:noFill/>
          </a:ln>
        </p:spPr>
      </p:pic>
      <p:sp>
        <p:nvSpPr>
          <p:cNvPr id="154" name="TextBox 3"/>
          <p:cNvSpPr/>
          <p:nvPr/>
        </p:nvSpPr>
        <p:spPr>
          <a:xfrm>
            <a:off x="431640" y="2781360"/>
            <a:ext cx="42847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　　用集热器收集阳光中的能量来加热水等物质。实现了把太阳能转化为内能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Box 3"/>
          <p:cNvSpPr/>
          <p:nvPr/>
        </p:nvSpPr>
        <p:spPr>
          <a:xfrm>
            <a:off x="431640" y="2023920"/>
            <a:ext cx="39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．光热转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14" descr=""/>
          <p:cNvPicPr/>
          <p:nvPr/>
        </p:nvPicPr>
        <p:blipFill>
          <a:blip r:embed="rId4"/>
          <a:stretch/>
        </p:blipFill>
        <p:spPr>
          <a:xfrm>
            <a:off x="5030640" y="2203560"/>
            <a:ext cx="3419640" cy="2687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E:\李燃\教师教学用书\2012人教教师用书项目\ppt\物理\图标.png"/>
          <p:cNvPicPr/>
          <p:nvPr/>
        </p:nvPicPr>
        <p:blipFill>
          <a:blip r:embed="rId5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58" name="矩形 4"/>
          <p:cNvSpPr/>
          <p:nvPr/>
        </p:nvSpPr>
        <p:spPr>
          <a:xfrm>
            <a:off x="431640" y="411120"/>
            <a:ext cx="409608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三、太阳能的利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E:\电子课件编制\22章\3\1250497599558.jpg"/>
          <p:cNvPicPr/>
          <p:nvPr/>
        </p:nvPicPr>
        <p:blipFill>
          <a:blip r:embed="rId1"/>
          <a:stretch/>
        </p:blipFill>
        <p:spPr>
          <a:xfrm>
            <a:off x="206280" y="981000"/>
            <a:ext cx="6770880" cy="494028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3"/>
          <p:cNvGrpSpPr/>
          <p:nvPr/>
        </p:nvGrpSpPr>
        <p:grpSpPr>
          <a:xfrm>
            <a:off x="6497640" y="1276200"/>
            <a:ext cx="1738800" cy="4195800"/>
            <a:chOff x="6497640" y="1276200"/>
            <a:chExt cx="1738800" cy="4195800"/>
          </a:xfrm>
        </p:grpSpPr>
        <p:grpSp>
          <p:nvGrpSpPr>
            <p:cNvPr id="161" name="Group 4"/>
            <p:cNvGrpSpPr/>
            <p:nvPr/>
          </p:nvGrpSpPr>
          <p:grpSpPr>
            <a:xfrm>
              <a:off x="6497640" y="1276200"/>
              <a:ext cx="1738800" cy="4195800"/>
              <a:chOff x="6497640" y="1276200"/>
              <a:chExt cx="1738800" cy="4195800"/>
            </a:xfrm>
          </p:grpSpPr>
          <p:sp>
            <p:nvSpPr>
              <p:cNvPr id="162" name="椭圆 7"/>
              <p:cNvSpPr/>
              <p:nvPr/>
            </p:nvSpPr>
            <p:spPr>
              <a:xfrm>
                <a:off x="6497640" y="1276200"/>
                <a:ext cx="1728720" cy="165636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圆角矩形 8"/>
              <p:cNvSpPr/>
              <p:nvPr/>
            </p:nvSpPr>
            <p:spPr>
              <a:xfrm rot="1090200">
                <a:off x="7228800" y="2055960"/>
                <a:ext cx="485280" cy="3425400"/>
              </a:xfrm>
              <a:custGeom>
                <a:avLst/>
                <a:gdLst>
                  <a:gd name="textAreaLeft" fmla="*/ 70920 w 485280"/>
                  <a:gd name="textAreaRight" fmla="*/ 414360 w 485280"/>
                  <a:gd name="textAreaTop" fmla="*/ 70920 h 3425400"/>
                  <a:gd name="textAreaBottom" fmla="*/ 3354480 h 3425400"/>
                </a:gdLst>
                <a:ahLst/>
                <a:rect l="textAreaLeft" t="textAreaTop" r="textAreaRight" b="textAreaBottom"/>
                <a:pathLst>
                  <a:path w="21600" h="152369">
                    <a:moveTo>
                      <a:pt x="10800" y="0"/>
                    </a:moveTo>
                    <a:arcTo wR="10800" hR="10800" stAng="16200000" swAng="-5400000"/>
                    <a:lnTo>
                      <a:pt x="0" y="141569"/>
                    </a:lnTo>
                    <a:arcTo wR="10800" hR="10800" stAng="10800000" swAng="-5400000"/>
                    <a:lnTo>
                      <a:pt x="10800" y="15236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矩形 9"/>
              <p:cNvSpPr/>
              <p:nvPr/>
            </p:nvSpPr>
            <p:spPr>
              <a:xfrm rot="17867400">
                <a:off x="7616160" y="2054520"/>
                <a:ext cx="432000" cy="469080"/>
              </a:xfrm>
              <a:prstGeom prst="rect">
                <a:avLst/>
              </a:prstGeom>
              <a:solidFill>
                <a:srgbClr val="003399"/>
              </a:solidFill>
              <a:ln w="255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矩形 10"/>
              <p:cNvSpPr/>
              <p:nvPr/>
            </p:nvSpPr>
            <p:spPr>
              <a:xfrm rot="8832600">
                <a:off x="7344720" y="2269800"/>
                <a:ext cx="568440" cy="640080"/>
              </a:xfrm>
              <a:prstGeom prst="rect">
                <a:avLst/>
              </a:prstGeom>
              <a:solidFill>
                <a:srgbClr val="003399"/>
              </a:solidFill>
              <a:ln w="255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6" name="任意多边形 15"/>
            <p:cNvSpPr/>
            <p:nvPr/>
          </p:nvSpPr>
          <p:spPr>
            <a:xfrm>
              <a:off x="6514200" y="1844640"/>
              <a:ext cx="1696320" cy="144360"/>
            </a:xfrm>
            <a:custGeom>
              <a:avLst/>
              <a:gdLst/>
              <a:ahLst/>
              <a:rect l="l" t="t" r="r" b="b"/>
              <a:pathLst>
                <a:path w="1695450" h="144462">
                  <a:moveTo>
                    <a:pt x="0" y="133350"/>
                  </a:moveTo>
                  <a:cubicBezTo>
                    <a:pt x="65087" y="103981"/>
                    <a:pt x="130175" y="74613"/>
                    <a:pt x="209550" y="76200"/>
                  </a:cubicBezTo>
                  <a:cubicBezTo>
                    <a:pt x="288925" y="77787"/>
                    <a:pt x="388938" y="144462"/>
                    <a:pt x="476250" y="142875"/>
                  </a:cubicBezTo>
                  <a:cubicBezTo>
                    <a:pt x="563562" y="141288"/>
                    <a:pt x="654050" y="68262"/>
                    <a:pt x="733425" y="66675"/>
                  </a:cubicBezTo>
                  <a:cubicBezTo>
                    <a:pt x="812800" y="65088"/>
                    <a:pt x="871538" y="133350"/>
                    <a:pt x="952500" y="133350"/>
                  </a:cubicBezTo>
                  <a:cubicBezTo>
                    <a:pt x="1033462" y="133350"/>
                    <a:pt x="1135063" y="68263"/>
                    <a:pt x="1219200" y="66675"/>
                  </a:cubicBezTo>
                  <a:cubicBezTo>
                    <a:pt x="1303338" y="65088"/>
                    <a:pt x="1377950" y="119063"/>
                    <a:pt x="1457325" y="123825"/>
                  </a:cubicBezTo>
                  <a:cubicBezTo>
                    <a:pt x="1536700" y="128587"/>
                    <a:pt x="1614488" y="0"/>
                    <a:pt x="1695450" y="95250"/>
                  </a:cubicBezTo>
                </a:path>
              </a:pathLst>
            </a:custGeom>
            <a:noFill/>
            <a:ln w="19080">
              <a:solidFill>
                <a:srgbClr val="4a7e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圆角矩形 26"/>
          <p:cNvSpPr/>
          <p:nvPr/>
        </p:nvSpPr>
        <p:spPr>
          <a:xfrm>
            <a:off x="7956720" y="2192400"/>
            <a:ext cx="222120" cy="228600"/>
          </a:xfrm>
          <a:custGeom>
            <a:avLst/>
            <a:gdLst>
              <a:gd name="textAreaLeft" fmla="*/ 32400 w 222120"/>
              <a:gd name="textAreaRight" fmla="*/ 189720 w 222120"/>
              <a:gd name="textAreaTop" fmla="*/ 32400 h 228600"/>
              <a:gd name="textAreaBottom" fmla="*/ 196200 h 228600"/>
            </a:gdLst>
            <a:ahLst/>
            <a:rect l="textAreaLeft" t="textAreaTop" r="textAreaRight" b="textAreaBottom"/>
            <a:pathLst>
              <a:path w="21600" h="22229">
                <a:moveTo>
                  <a:pt x="10800" y="0"/>
                </a:moveTo>
                <a:arcTo wR="10800" hR="10800" stAng="16200000" swAng="-5400000"/>
                <a:lnTo>
                  <a:pt x="0" y="11429"/>
                </a:lnTo>
                <a:arcTo wR="10800" hR="10800" stAng="10800000" swAng="-5400000"/>
                <a:lnTo>
                  <a:pt x="10800" y="2222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圆角矩形 27"/>
          <p:cNvSpPr/>
          <p:nvPr/>
        </p:nvSpPr>
        <p:spPr>
          <a:xfrm rot="1155000">
            <a:off x="7922880" y="2195640"/>
            <a:ext cx="223920" cy="452160"/>
          </a:xfrm>
          <a:custGeom>
            <a:avLst/>
            <a:gdLst>
              <a:gd name="textAreaLeft" fmla="*/ 23400 w 223920"/>
              <a:gd name="textAreaRight" fmla="*/ 200520 w 223920"/>
              <a:gd name="textAreaTop" fmla="*/ 23400 h 452160"/>
              <a:gd name="textAreaBottom" fmla="*/ 428760 h 452160"/>
            </a:gdLst>
            <a:ahLst/>
            <a:rect l="textAreaLeft" t="textAreaTop" r="textAreaRight" b="textAreaBottom"/>
            <a:pathLst>
              <a:path w="21600" h="43581">
                <a:moveTo>
                  <a:pt x="7805" y="0"/>
                </a:moveTo>
                <a:arcTo wR="7805" hR="7805" stAng="16200000" swAng="-5400000"/>
                <a:lnTo>
                  <a:pt x="0" y="35776"/>
                </a:lnTo>
                <a:arcTo wR="7805" hR="7805" stAng="10800000" swAng="-5400000"/>
                <a:lnTo>
                  <a:pt x="13795" y="43581"/>
                </a:lnTo>
                <a:arcTo wR="7805" hR="7805" stAng="5400000" swAng="-5400000"/>
                <a:lnTo>
                  <a:pt x="21600" y="7805"/>
                </a:lnTo>
                <a:arcTo wR="7805" hR="7805" stAng="0" swAng="-5400000"/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9" name="直接箭头连接符 18"/>
          <p:cNvCxnSpPr/>
          <p:nvPr/>
        </p:nvCxnSpPr>
        <p:spPr>
          <a:xfrm flipH="1">
            <a:off x="7711560" y="2736360"/>
            <a:ext cx="264240" cy="793080"/>
          </a:xfrm>
          <a:prstGeom prst="straightConnector1">
            <a:avLst/>
          </a:prstGeom>
          <a:ln w="38160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70" name="直接箭头连接符 20"/>
          <p:cNvCxnSpPr/>
          <p:nvPr/>
        </p:nvCxnSpPr>
        <p:spPr>
          <a:xfrm flipH="1">
            <a:off x="7353000" y="3817440"/>
            <a:ext cx="262080" cy="793080"/>
          </a:xfrm>
          <a:prstGeom prst="straightConnector1">
            <a:avLst/>
          </a:prstGeom>
          <a:ln w="38160">
            <a:solidFill>
              <a:srgbClr val="4a7ebb"/>
            </a:solidFill>
            <a:round/>
            <a:tailEnd len="med" type="arrow" w="med"/>
          </a:ln>
        </p:spPr>
      </p:cxnSp>
      <p:grpSp>
        <p:nvGrpSpPr>
          <p:cNvPr id="171" name="Group 14"/>
          <p:cNvGrpSpPr/>
          <p:nvPr/>
        </p:nvGrpSpPr>
        <p:grpSpPr>
          <a:xfrm>
            <a:off x="6796440" y="4652280"/>
            <a:ext cx="533520" cy="663840"/>
            <a:chOff x="6796440" y="4652280"/>
            <a:chExt cx="533520" cy="663840"/>
          </a:xfrm>
        </p:grpSpPr>
        <p:sp>
          <p:nvSpPr>
            <p:cNvPr id="172" name="圆角右箭头 28"/>
            <p:cNvSpPr/>
            <p:nvPr/>
          </p:nvSpPr>
          <p:spPr>
            <a:xfrm rot="17428200">
              <a:off x="6698160" y="4860000"/>
              <a:ext cx="576000" cy="190080"/>
            </a:xfrm>
            <a:custGeom>
              <a:avLst/>
              <a:gdLst/>
              <a:ahLst/>
              <a:rect l="l" t="t" r="r" b="b"/>
              <a:pathLst>
                <a:path w="576001" h="189704">
                  <a:moveTo>
                    <a:pt x="0" y="189704"/>
                  </a:moveTo>
                  <a:lnTo>
                    <a:pt x="0" y="142582"/>
                  </a:lnTo>
                  <a:cubicBezTo>
                    <a:pt x="0" y="83139"/>
                    <a:pt x="48187" y="34952"/>
                    <a:pt x="107629" y="34952"/>
                  </a:cubicBezTo>
                  <a:lnTo>
                    <a:pt x="499918" y="34951"/>
                  </a:lnTo>
                  <a:lnTo>
                    <a:pt x="499918" y="0"/>
                  </a:lnTo>
                  <a:lnTo>
                    <a:pt x="576001" y="48595"/>
                  </a:lnTo>
                  <a:lnTo>
                    <a:pt x="499918" y="97189"/>
                  </a:lnTo>
                  <a:lnTo>
                    <a:pt x="499918" y="62238"/>
                  </a:lnTo>
                  <a:lnTo>
                    <a:pt x="107630" y="62238"/>
                  </a:lnTo>
                  <a:lnTo>
                    <a:pt x="107629" y="62238"/>
                  </a:lnTo>
                  <a:cubicBezTo>
                    <a:pt x="63257" y="62238"/>
                    <a:pt x="27287" y="98208"/>
                    <a:pt x="27287" y="142580"/>
                  </a:cubicBezTo>
                  <a:lnTo>
                    <a:pt x="27287" y="189704"/>
                  </a:lnTo>
                  <a:lnTo>
                    <a:pt x="0" y="18970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圆角右箭头 29"/>
            <p:cNvSpPr/>
            <p:nvPr/>
          </p:nvSpPr>
          <p:spPr>
            <a:xfrm flipH="1" rot="6511200">
              <a:off x="6859800" y="4917240"/>
              <a:ext cx="576000" cy="190440"/>
            </a:xfrm>
            <a:custGeom>
              <a:avLst/>
              <a:gdLst/>
              <a:ahLst/>
              <a:rect l="l" t="t" r="r" b="b"/>
              <a:pathLst>
                <a:path w="576001" h="189704">
                  <a:moveTo>
                    <a:pt x="0" y="189704"/>
                  </a:moveTo>
                  <a:lnTo>
                    <a:pt x="0" y="142582"/>
                  </a:lnTo>
                  <a:cubicBezTo>
                    <a:pt x="0" y="83139"/>
                    <a:pt x="48187" y="34952"/>
                    <a:pt x="107629" y="34952"/>
                  </a:cubicBezTo>
                  <a:lnTo>
                    <a:pt x="499918" y="34951"/>
                  </a:lnTo>
                  <a:lnTo>
                    <a:pt x="499918" y="0"/>
                  </a:lnTo>
                  <a:lnTo>
                    <a:pt x="576001" y="48595"/>
                  </a:lnTo>
                  <a:lnTo>
                    <a:pt x="499918" y="97189"/>
                  </a:lnTo>
                  <a:lnTo>
                    <a:pt x="499918" y="62238"/>
                  </a:lnTo>
                  <a:lnTo>
                    <a:pt x="107630" y="62238"/>
                  </a:lnTo>
                  <a:lnTo>
                    <a:pt x="107629" y="62238"/>
                  </a:lnTo>
                  <a:cubicBezTo>
                    <a:pt x="63257" y="62238"/>
                    <a:pt x="27287" y="98208"/>
                    <a:pt x="27287" y="142580"/>
                  </a:cubicBezTo>
                  <a:lnTo>
                    <a:pt x="27287" y="189704"/>
                  </a:lnTo>
                  <a:lnTo>
                    <a:pt x="0" y="189704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74" name="直接箭头连接符 31"/>
          <p:cNvCxnSpPr/>
          <p:nvPr/>
        </p:nvCxnSpPr>
        <p:spPr>
          <a:xfrm flipV="1">
            <a:off x="7088040" y="3717720"/>
            <a:ext cx="264240" cy="792720"/>
          </a:xfrm>
          <a:prstGeom prst="straightConnector1">
            <a:avLst/>
          </a:prstGeom>
          <a:ln w="3816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75" name="直接箭头连接符 33"/>
          <p:cNvCxnSpPr/>
          <p:nvPr/>
        </p:nvCxnSpPr>
        <p:spPr>
          <a:xfrm flipV="1">
            <a:off x="7399440" y="2782080"/>
            <a:ext cx="264240" cy="793080"/>
          </a:xfrm>
          <a:prstGeom prst="straightConnector1">
            <a:avLst/>
          </a:prstGeom>
          <a:ln w="3816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76" name="矩形 34"/>
          <p:cNvSpPr/>
          <p:nvPr/>
        </p:nvSpPr>
        <p:spPr>
          <a:xfrm>
            <a:off x="6568920" y="292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热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矩形 35"/>
          <p:cNvSpPr/>
          <p:nvPr/>
        </p:nvSpPr>
        <p:spPr>
          <a:xfrm>
            <a:off x="8153280" y="3040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a452a"/>
                </a:solidFill>
                <a:latin typeface="Arial"/>
              </a:rPr>
              <a:t>冷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Group 21"/>
          <p:cNvGrpSpPr/>
          <p:nvPr/>
        </p:nvGrpSpPr>
        <p:grpSpPr>
          <a:xfrm>
            <a:off x="5723280" y="3213360"/>
            <a:ext cx="1369080" cy="1744200"/>
            <a:chOff x="5723280" y="3213360"/>
            <a:chExt cx="1369080" cy="1744200"/>
          </a:xfrm>
        </p:grpSpPr>
        <p:sp>
          <p:nvSpPr>
            <p:cNvPr id="179" name="右箭头 36"/>
            <p:cNvSpPr/>
            <p:nvPr/>
          </p:nvSpPr>
          <p:spPr>
            <a:xfrm rot="1355400">
              <a:off x="5974920" y="3925080"/>
              <a:ext cx="864720" cy="359640"/>
            </a:xfrm>
            <a:prstGeom prst="rightArrow">
              <a:avLst>
                <a:gd name="adj1" fmla="val 50000"/>
                <a:gd name="adj2" fmla="val 50092"/>
              </a:avLst>
            </a:prstGeom>
            <a:solidFill>
              <a:srgbClr val="ffff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右箭头 38"/>
            <p:cNvSpPr/>
            <p:nvPr/>
          </p:nvSpPr>
          <p:spPr>
            <a:xfrm rot="1355400">
              <a:off x="6191280" y="3365640"/>
              <a:ext cx="864720" cy="359640"/>
            </a:xfrm>
            <a:prstGeom prst="rightArrow">
              <a:avLst>
                <a:gd name="adj1" fmla="val 50000"/>
                <a:gd name="adj2" fmla="val 50092"/>
              </a:avLst>
            </a:prstGeom>
            <a:solidFill>
              <a:srgbClr val="ffff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右箭头 39"/>
            <p:cNvSpPr/>
            <p:nvPr/>
          </p:nvSpPr>
          <p:spPr>
            <a:xfrm rot="1355400">
              <a:off x="5758920" y="4445640"/>
              <a:ext cx="864720" cy="359640"/>
            </a:xfrm>
            <a:prstGeom prst="rightArrow">
              <a:avLst>
                <a:gd name="adj1" fmla="val 50000"/>
                <a:gd name="adj2" fmla="val 50092"/>
              </a:avLst>
            </a:prstGeom>
            <a:solidFill>
              <a:srgbClr val="ffff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82" name="直接箭头连接符 43"/>
          <p:cNvCxnSpPr/>
          <p:nvPr/>
        </p:nvCxnSpPr>
        <p:spPr>
          <a:xfrm flipV="1">
            <a:off x="5076360" y="1988280"/>
            <a:ext cx="1151640" cy="72360"/>
          </a:xfrm>
          <a:prstGeom prst="straightConnector1">
            <a:avLst/>
          </a:prstGeom>
          <a:ln w="38160">
            <a:solidFill>
              <a:srgbClr val="ffffff"/>
            </a:solidFill>
            <a:round/>
            <a:tailEnd len="med" type="arrow" w="med"/>
          </a:ln>
        </p:spPr>
      </p:cxnSp>
      <p:cxnSp>
        <p:nvCxnSpPr>
          <p:cNvPr id="183" name="直接箭头连接符 44"/>
          <p:cNvCxnSpPr>
            <a:endCxn id="172" idx="13"/>
          </p:cNvCxnSpPr>
          <p:nvPr/>
        </p:nvCxnSpPr>
        <p:spPr>
          <a:xfrm>
            <a:off x="3446640" y="4802040"/>
            <a:ext cx="3421440" cy="300600"/>
          </a:xfrm>
          <a:prstGeom prst="straightConnector1">
            <a:avLst/>
          </a:prstGeom>
          <a:ln w="38160">
            <a:solidFill>
              <a:srgbClr val="ffffff"/>
            </a:solidFill>
            <a:round/>
            <a:tailEnd len="med" type="arrow" w="med"/>
          </a:ln>
        </p:spPr>
      </p:cxnSp>
      <p:sp>
        <p:nvSpPr>
          <p:cNvPr id="184" name="矩形 47"/>
          <p:cNvSpPr/>
          <p:nvPr/>
        </p:nvSpPr>
        <p:spPr>
          <a:xfrm>
            <a:off x="7144920" y="692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水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矩形 48"/>
          <p:cNvSpPr/>
          <p:nvPr/>
        </p:nvSpPr>
        <p:spPr>
          <a:xfrm>
            <a:off x="7567200" y="5300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集热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矩形 49"/>
          <p:cNvSpPr/>
          <p:nvPr/>
        </p:nvSpPr>
        <p:spPr>
          <a:xfrm>
            <a:off x="5117040" y="365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a452a"/>
                </a:solidFill>
                <a:latin typeface="Arial"/>
              </a:rPr>
              <a:t>太阳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31"/>
          <p:cNvSpPr/>
          <p:nvPr/>
        </p:nvSpPr>
        <p:spPr>
          <a:xfrm>
            <a:off x="395280" y="357120"/>
            <a:ext cx="23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集热器的原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"/>
                            </p:stCondLst>
                            <p:childTnLst>
                              <p:par>
                                <p:cTn id="13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"/>
                            </p:stCondLst>
                            <p:childTnLst>
                              <p:par>
                                <p:cTn id="13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"/>
                            </p:stCondLst>
                            <p:childTnLst>
                              <p:par>
                                <p:cTn id="14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"/>
                            </p:stCondLst>
                            <p:childTnLst>
                              <p:par>
                                <p:cTn id="14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"/>
                            </p:stCondLst>
                            <p:childTnLst>
                              <p:par>
                                <p:cTn id="15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"/>
                            </p:stCondLst>
                            <p:childTnLst>
                              <p:par>
                                <p:cTn id="16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"/>
                            </p:stCondLst>
                            <p:childTnLst>
                              <p:par>
                                <p:cTn id="16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"/>
                            </p:stCondLst>
                            <p:childTnLst>
                              <p:par>
                                <p:cTn id="16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4859280" y="1486080"/>
            <a:ext cx="3457800" cy="3375000"/>
          </a:xfrm>
          <a:prstGeom prst="rect">
            <a:avLst/>
          </a:prstGeom>
          <a:ln w="0">
            <a:noFill/>
          </a:ln>
        </p:spPr>
      </p:pic>
      <p:grpSp>
        <p:nvGrpSpPr>
          <p:cNvPr id="190" name="Group 3"/>
          <p:cNvGrpSpPr/>
          <p:nvPr/>
        </p:nvGrpSpPr>
        <p:grpSpPr>
          <a:xfrm>
            <a:off x="1655640" y="5227560"/>
            <a:ext cx="5689440" cy="793800"/>
            <a:chOff x="1655640" y="5227560"/>
            <a:chExt cx="5689440" cy="793800"/>
          </a:xfrm>
        </p:grpSpPr>
        <p:cxnSp>
          <p:nvCxnSpPr>
            <p:cNvPr id="191" name="直接箭头连接符 15"/>
            <p:cNvCxnSpPr>
              <a:endCxn id="192" idx="1"/>
            </p:cNvCxnSpPr>
            <p:nvPr/>
          </p:nvCxnSpPr>
          <p:spPr>
            <a:xfrm>
              <a:off x="3708360" y="5643000"/>
              <a:ext cx="1627920" cy="3960"/>
            </a:xfrm>
            <a:prstGeom prst="straightConnector1">
              <a:avLst/>
            </a:prstGeom>
            <a:ln w="38160">
              <a:solidFill>
                <a:srgbClr val="ffffff"/>
              </a:solidFill>
              <a:round/>
              <a:tailEnd len="med" type="arrow" w="med"/>
            </a:ln>
          </p:spPr>
        </p:cxnSp>
        <p:grpSp>
          <p:nvGrpSpPr>
            <p:cNvPr id="193" name="Group 5"/>
            <p:cNvGrpSpPr/>
            <p:nvPr/>
          </p:nvGrpSpPr>
          <p:grpSpPr>
            <a:xfrm>
              <a:off x="1655640" y="5263920"/>
              <a:ext cx="2052720" cy="757440"/>
              <a:chOff x="1655640" y="5263920"/>
              <a:chExt cx="2052720" cy="757440"/>
            </a:xfrm>
          </p:grpSpPr>
          <p:pic>
            <p:nvPicPr>
              <p:cNvPr id="194" name="矩形 17" descr=""/>
              <p:cNvPicPr/>
              <p:nvPr/>
            </p:nvPicPr>
            <p:blipFill>
              <a:blip r:embed="rId2"/>
              <a:stretch/>
            </p:blipFill>
            <p:spPr>
              <a:xfrm>
                <a:off x="1655640" y="5263920"/>
                <a:ext cx="2052720" cy="75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" name="Text Box 7"/>
              <p:cNvSpPr/>
              <p:nvPr/>
            </p:nvSpPr>
            <p:spPr>
              <a:xfrm>
                <a:off x="1701360" y="5396760"/>
                <a:ext cx="196704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Calibri"/>
                  </a:rPr>
                  <a:t>太阳能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6" name="Group 8"/>
            <p:cNvGrpSpPr/>
            <p:nvPr/>
          </p:nvGrpSpPr>
          <p:grpSpPr>
            <a:xfrm>
              <a:off x="5292720" y="5227560"/>
              <a:ext cx="2052360" cy="757080"/>
              <a:chOff x="5292720" y="5227560"/>
              <a:chExt cx="2052360" cy="757080"/>
            </a:xfrm>
          </p:grpSpPr>
          <p:pic>
            <p:nvPicPr>
              <p:cNvPr id="197" name="矩形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5292720" y="5227560"/>
                <a:ext cx="2052360" cy="75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Text Box 10"/>
              <p:cNvSpPr/>
              <p:nvPr/>
            </p:nvSpPr>
            <p:spPr>
              <a:xfrm>
                <a:off x="5335920" y="5360400"/>
                <a:ext cx="196812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Calibri"/>
                  </a:rPr>
                  <a:t>电能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8" name="TextBox 3"/>
          <p:cNvSpPr/>
          <p:nvPr/>
        </p:nvSpPr>
        <p:spPr>
          <a:xfrm>
            <a:off x="431640" y="2133720"/>
            <a:ext cx="3924360" cy="18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太阳能电池可以将太阳能转变为电能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在航空、航 天、交通、通信等领域中有较为广泛的应用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Box 3"/>
          <p:cNvSpPr/>
          <p:nvPr/>
        </p:nvSpPr>
        <p:spPr>
          <a:xfrm>
            <a:off x="431640" y="1268280"/>
            <a:ext cx="39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光电转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13" descr="植物园的太阳能路灯"/>
          <p:cNvPicPr/>
          <p:nvPr/>
        </p:nvPicPr>
        <p:blipFill>
          <a:blip r:embed="rId4"/>
          <a:stretch/>
        </p:blipFill>
        <p:spPr>
          <a:xfrm>
            <a:off x="4859280" y="1449360"/>
            <a:ext cx="3463920" cy="35272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E:\李燃\教师教学用书\2012人教教师用书项目\ppt\物理\图标.png"/>
          <p:cNvPicPr/>
          <p:nvPr/>
        </p:nvPicPr>
        <p:blipFill>
          <a:blip r:embed="rId5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202" name="矩形 4"/>
          <p:cNvSpPr/>
          <p:nvPr/>
        </p:nvSpPr>
        <p:spPr>
          <a:xfrm>
            <a:off x="431640" y="411120"/>
            <a:ext cx="405000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三、太阳能的利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塔式电站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3959280" y="1665360"/>
            <a:ext cx="4860720" cy="32702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太阳能电站"/>
          <p:cNvPicPr/>
          <p:nvPr/>
        </p:nvPicPr>
        <p:blipFill>
          <a:blip r:embed="rId2"/>
          <a:stretch/>
        </p:blipFill>
        <p:spPr>
          <a:xfrm>
            <a:off x="324000" y="3357720"/>
            <a:ext cx="4681440" cy="31366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4"/>
          <p:cNvSpPr/>
          <p:nvPr/>
        </p:nvSpPr>
        <p:spPr>
          <a:xfrm>
            <a:off x="1011600" y="748440"/>
            <a:ext cx="19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太阳能热发电电站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Group 5"/>
          <p:cNvGrpSpPr/>
          <p:nvPr/>
        </p:nvGrpSpPr>
        <p:grpSpPr>
          <a:xfrm>
            <a:off x="719280" y="1532160"/>
            <a:ext cx="5364720" cy="2328120"/>
            <a:chOff x="719280" y="1532160"/>
            <a:chExt cx="5364720" cy="2328120"/>
          </a:xfrm>
        </p:grpSpPr>
        <p:sp>
          <p:nvSpPr>
            <p:cNvPr id="207" name="Rectangle 6"/>
            <p:cNvSpPr/>
            <p:nvPr/>
          </p:nvSpPr>
          <p:spPr>
            <a:xfrm>
              <a:off x="719280" y="1532160"/>
              <a:ext cx="2879280" cy="94716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Arial"/>
                </a:rPr>
                <a:t>集热塔 </a:t>
              </a: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加热水，通过水蒸气推动汽轮机发电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1331640" y="2744640"/>
              <a:ext cx="971280" cy="1115640"/>
              <a:chOff x="1331640" y="2744640"/>
              <a:chExt cx="971280" cy="1115640"/>
            </a:xfrm>
          </p:grpSpPr>
          <p:sp>
            <p:nvSpPr>
              <p:cNvPr id="209" name="Line 7"/>
              <p:cNvSpPr/>
              <p:nvPr/>
            </p:nvSpPr>
            <p:spPr>
              <a:xfrm flipH="1">
                <a:off x="1331640" y="2744640"/>
                <a:ext cx="971280" cy="1115640"/>
              </a:xfrm>
              <a:prstGeom prst="line">
                <a:avLst/>
              </a:prstGeom>
              <a:ln w="28440">
                <a:solidFill>
                  <a:srgbClr val="cc0000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 txBox="1"/>
              <p:nvPr/>
            </p:nvSpPr>
            <p:spPr>
              <a:xfrm>
                <a:off x="1331640" y="2744640"/>
                <a:ext cx="971280" cy="111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3580920" y="2215800"/>
              <a:ext cx="2503080" cy="528480"/>
              <a:chOff x="3580920" y="2215800"/>
              <a:chExt cx="2503080" cy="528480"/>
            </a:xfrm>
          </p:grpSpPr>
          <p:sp>
            <p:nvSpPr>
              <p:cNvPr id="212" name="Line 8"/>
              <p:cNvSpPr/>
              <p:nvPr/>
            </p:nvSpPr>
            <p:spPr>
              <a:xfrm flipH="1" flipV="1">
                <a:off x="3580920" y="2215800"/>
                <a:ext cx="2503080" cy="528480"/>
              </a:xfrm>
              <a:prstGeom prst="line">
                <a:avLst/>
              </a:prstGeom>
              <a:ln w="28440">
                <a:solidFill>
                  <a:srgbClr val="cc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 txBox="1"/>
              <p:nvPr/>
            </p:nvSpPr>
            <p:spPr>
              <a:xfrm rot="10800000">
                <a:off x="3580920" y="2215800"/>
                <a:ext cx="2503080" cy="528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14" name="Group 9"/>
          <p:cNvGrpSpPr/>
          <p:nvPr/>
        </p:nvGrpSpPr>
        <p:grpSpPr>
          <a:xfrm>
            <a:off x="4751280" y="4733640"/>
            <a:ext cx="3529080" cy="1789920"/>
            <a:chOff x="4751280" y="4733640"/>
            <a:chExt cx="3529080" cy="1789920"/>
          </a:xfrm>
        </p:grpSpPr>
        <p:sp>
          <p:nvSpPr>
            <p:cNvPr id="215" name="Rectangle 10"/>
            <p:cNvSpPr/>
            <p:nvPr/>
          </p:nvSpPr>
          <p:spPr>
            <a:xfrm>
              <a:off x="5508360" y="5576400"/>
              <a:ext cx="2772000" cy="94716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Arial"/>
                </a:rPr>
                <a:t>定日镜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追着太阳转，反射阳光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4751280" y="5697720"/>
              <a:ext cx="719280" cy="179280"/>
              <a:chOff x="4751280" y="5697720"/>
              <a:chExt cx="719280" cy="179280"/>
            </a:xfrm>
          </p:grpSpPr>
          <p:sp>
            <p:nvSpPr>
              <p:cNvPr id="217" name="Line 11"/>
              <p:cNvSpPr/>
              <p:nvPr/>
            </p:nvSpPr>
            <p:spPr>
              <a:xfrm flipH="1" flipV="1">
                <a:off x="4751280" y="5697720"/>
                <a:ext cx="719280" cy="179280"/>
              </a:xfrm>
              <a:prstGeom prst="line">
                <a:avLst/>
              </a:prstGeom>
              <a:ln w="28440">
                <a:solidFill>
                  <a:srgbClr val="cc0000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 txBox="1"/>
              <p:nvPr/>
            </p:nvSpPr>
            <p:spPr>
              <a:xfrm rot="10800000">
                <a:off x="4751280" y="5697720"/>
                <a:ext cx="719280" cy="179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6156000" y="4733640"/>
              <a:ext cx="360720" cy="826920"/>
              <a:chOff x="6156000" y="4733640"/>
              <a:chExt cx="360720" cy="826920"/>
            </a:xfrm>
          </p:grpSpPr>
          <p:sp>
            <p:nvSpPr>
              <p:cNvPr id="220" name="Line 12"/>
              <p:cNvSpPr/>
              <p:nvPr/>
            </p:nvSpPr>
            <p:spPr>
              <a:xfrm flipV="1">
                <a:off x="6156360" y="4733640"/>
                <a:ext cx="360360" cy="826920"/>
              </a:xfrm>
              <a:prstGeom prst="line">
                <a:avLst/>
              </a:prstGeom>
              <a:ln w="28440">
                <a:solidFill>
                  <a:srgbClr val="cc0000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 txBox="1"/>
              <p:nvPr/>
            </p:nvSpPr>
            <p:spPr>
              <a:xfrm rot="10800000">
                <a:off x="6156000" y="4733640"/>
                <a:ext cx="360360" cy="826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222" name="Picture 9" descr="E:\李燃\教师教学用书\2012人教教师用书项目\ppt\物理\图标.png"/>
          <p:cNvPicPr/>
          <p:nvPr/>
        </p:nvPicPr>
        <p:blipFill>
          <a:blip r:embed="rId3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6" descr="C:\Users\John\AppData\Roaming\Tencent\Users\76476908\QQ\WinTemp\RichOle\ZNBL62%G4ZE9Y6WHCOWY@CY.jpg"/>
          <p:cNvPicPr/>
          <p:nvPr/>
        </p:nvPicPr>
        <p:blipFill>
          <a:blip r:embed="rId2"/>
          <a:stretch/>
        </p:blipFill>
        <p:spPr>
          <a:xfrm>
            <a:off x="5440320" y="692280"/>
            <a:ext cx="3452760" cy="5616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7" descr="E:\电子课件编制\22章\3\134676_150113228406_2.jpg"/>
          <p:cNvPicPr/>
          <p:nvPr/>
        </p:nvPicPr>
        <p:blipFill>
          <a:blip r:embed="rId3"/>
          <a:stretch/>
        </p:blipFill>
        <p:spPr>
          <a:xfrm>
            <a:off x="250920" y="692280"/>
            <a:ext cx="5060880" cy="30240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3"/>
          <p:cNvSpPr/>
          <p:nvPr/>
        </p:nvSpPr>
        <p:spPr>
          <a:xfrm>
            <a:off x="431640" y="3753000"/>
            <a:ext cx="468000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　　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01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年，上海世博会中国馆采用了大量先进的太阳能科技，整座世博园的太阳能发电装置每年预计节电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20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万千瓦时，减排二氧化碳约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 100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吨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Users\John\Desktop\5LBERLVM05RQ0001.jpg"/>
          <p:cNvPicPr/>
          <p:nvPr/>
        </p:nvPicPr>
        <p:blipFill>
          <a:blip r:embed="rId2"/>
          <a:stretch/>
        </p:blipFill>
        <p:spPr>
          <a:xfrm>
            <a:off x="3968640" y="225360"/>
            <a:ext cx="4932360" cy="6424560"/>
          </a:xfrm>
          <a:prstGeom prst="rect">
            <a:avLst/>
          </a:prstGeom>
          <a:ln w="0">
            <a:noFill/>
          </a:ln>
        </p:spPr>
      </p:pic>
      <p:sp>
        <p:nvSpPr>
          <p:cNvPr id="229" name="矩形 2"/>
          <p:cNvSpPr/>
          <p:nvPr/>
        </p:nvSpPr>
        <p:spPr>
          <a:xfrm>
            <a:off x="431640" y="404640"/>
            <a:ext cx="3456000" cy="32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　右图为世界上最大的太阳能发电厂之一的帕赛尔工厂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　坐落在美国加州的赛尔帕工厂有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2 000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块电池板，覆盖面积约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6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平方米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这些电池板能容纳将近四百万块太阳能电池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　在一个阳光明媚日子的正午时分，它的产电能力可以达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1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兆瓦，足以为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 00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个家庭供电。每年减少二氧化碳的排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3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万吨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828720" y="2133720"/>
            <a:ext cx="7234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是洁净能源，不污染环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取之不尽、用之不竭，是最廉价的能源</a:t>
            </a:r>
            <a:r>
              <a:rPr b="0" lang="zh-CN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Oval 3"/>
          <p:cNvSpPr/>
          <p:nvPr/>
        </p:nvSpPr>
        <p:spPr>
          <a:xfrm>
            <a:off x="7812000" y="333360"/>
            <a:ext cx="792360" cy="79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4"/>
          <p:cNvSpPr/>
          <p:nvPr/>
        </p:nvSpPr>
        <p:spPr>
          <a:xfrm>
            <a:off x="179280" y="135000"/>
            <a:ext cx="3754440" cy="990360"/>
          </a:xfrm>
          <a:prstGeom prst="wedgeEllipseCallout">
            <a:avLst>
              <a:gd name="adj1" fmla="val 26407"/>
              <a:gd name="adj2" fmla="val 96152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交流与讨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971640" y="1413000"/>
            <a:ext cx="455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太阳能的优点有哪些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900000" y="34668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据专家估计，辐射到地球表面的太阳能相当于全世界目前发电总量的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八万倍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。我国有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三分之二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的国土面积每年的日照时间在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200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小时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以上，如果将这些太阳能全都用于发电，约等于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上万个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三峡工程发电量的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总和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-34920" y="4797360"/>
            <a:ext cx="59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太阳能的不足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2916360" y="4869000"/>
            <a:ext cx="48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存在分散、不稳定、转化效率低、成本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4"/>
          <p:cNvSpPr/>
          <p:nvPr/>
        </p:nvSpPr>
        <p:spPr>
          <a:xfrm>
            <a:off x="1116000" y="2059560"/>
            <a:ext cx="6121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太阳能</a:t>
            </a: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</a:rPr>
              <a:t>地球上最基本的能源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1042920" y="2925000"/>
            <a:ext cx="662472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无论是生物质能、风能，还是水力、温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和潮汐能，归根结底都是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太阳能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的转化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式。矿物燃料蕴藏的能量，也是来自远古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时期生物体所吸收利用的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太阳能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179280" y="351000"/>
            <a:ext cx="3097440" cy="990360"/>
          </a:xfrm>
          <a:prstGeom prst="wedgeEllipseCallout">
            <a:avLst>
              <a:gd name="adj1" fmla="val 42620"/>
              <a:gd name="adj2" fmla="val 96152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你知道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684360" y="1124640"/>
            <a:ext cx="73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008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北京奥运会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是一场</a:t>
            </a:r>
            <a:r>
              <a:rPr b="1" lang="zh-CN" sz="3200" spc="-1" strike="noStrike">
                <a:solidFill>
                  <a:srgbClr val="33cc33"/>
                </a:solidFill>
                <a:latin typeface="Arial"/>
              </a:rPr>
              <a:t>绿色奥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3"/>
          <p:cNvSpPr/>
          <p:nvPr/>
        </p:nvSpPr>
        <p:spPr>
          <a:xfrm>
            <a:off x="7885080" y="404640"/>
            <a:ext cx="792360" cy="792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755640" y="2055960"/>
            <a:ext cx="7561440" cy="26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运动员村及相关场馆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90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％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洗浴用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水要依靠太阳能系统，体育场馆周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路灯及其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80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％－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90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％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能源要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太阳能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系统提供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太阳能红绿灯1"/>
          <p:cNvPicPr/>
          <p:nvPr/>
        </p:nvPicPr>
        <p:blipFill>
          <a:blip r:embed="rId1"/>
          <a:stretch/>
        </p:blipFill>
        <p:spPr>
          <a:xfrm>
            <a:off x="324000" y="189000"/>
            <a:ext cx="3251160" cy="50403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太阳能红绿灯3"/>
          <p:cNvPicPr/>
          <p:nvPr/>
        </p:nvPicPr>
        <p:blipFill>
          <a:blip r:embed="rId2"/>
          <a:stretch/>
        </p:blipFill>
        <p:spPr>
          <a:xfrm>
            <a:off x="3924360" y="189000"/>
            <a:ext cx="4392720" cy="40320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4"/>
          <p:cNvSpPr/>
          <p:nvPr/>
        </p:nvSpPr>
        <p:spPr>
          <a:xfrm>
            <a:off x="4572000" y="45086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太阳能红绿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教学目标"/>
          <p:cNvPicPr/>
          <p:nvPr/>
        </p:nvPicPr>
        <p:blipFill>
          <a:blip r:embed="rId1"/>
          <a:stretch/>
        </p:blipFill>
        <p:spPr>
          <a:xfrm>
            <a:off x="1187280" y="907920"/>
            <a:ext cx="4810320" cy="11019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684360" y="2781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华文仿宋"/>
                <a:ea typeface="华文仿宋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仿宋"/>
                <a:ea typeface="华文仿宋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．了解太阳能的由来及特点</a:t>
            </a:r>
            <a:r>
              <a:rPr b="1" lang="zh-CN" sz="3600" spc="-1" strike="noStrike">
                <a:solidFill>
                  <a:srgbClr val="0000cc"/>
                </a:solidFill>
                <a:latin typeface="华文仿宋"/>
                <a:ea typeface="华文仿宋"/>
              </a:rPr>
              <a:t>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258640" y="4292640"/>
            <a:ext cx="517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华文仿宋"/>
                <a:ea typeface="华文仿宋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仿宋"/>
                <a:ea typeface="华文仿宋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仿宋"/>
                <a:ea typeface="华文仿宋"/>
              </a:rPr>
              <a:t>．知道直接利用太阳能的两条途径．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太阳能景观灯13"/>
          <p:cNvPicPr/>
          <p:nvPr/>
        </p:nvPicPr>
        <p:blipFill>
          <a:blip r:embed="rId1"/>
          <a:stretch/>
        </p:blipFill>
        <p:spPr>
          <a:xfrm>
            <a:off x="250920" y="189000"/>
            <a:ext cx="2146320" cy="4464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太阳能景观灯14"/>
          <p:cNvPicPr/>
          <p:nvPr/>
        </p:nvPicPr>
        <p:blipFill>
          <a:blip r:embed="rId2"/>
          <a:stretch/>
        </p:blipFill>
        <p:spPr>
          <a:xfrm>
            <a:off x="2627280" y="189000"/>
            <a:ext cx="1944720" cy="4464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太阳能景观灯16"/>
          <p:cNvPicPr/>
          <p:nvPr/>
        </p:nvPicPr>
        <p:blipFill>
          <a:blip r:embed="rId3"/>
          <a:stretch/>
        </p:blipFill>
        <p:spPr>
          <a:xfrm>
            <a:off x="4788000" y="189000"/>
            <a:ext cx="1895400" cy="4464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太阳能景观灯10"/>
          <p:cNvPicPr/>
          <p:nvPr/>
        </p:nvPicPr>
        <p:blipFill>
          <a:blip r:embed="rId4"/>
          <a:stretch/>
        </p:blipFill>
        <p:spPr>
          <a:xfrm>
            <a:off x="6843600" y="189000"/>
            <a:ext cx="1905120" cy="44640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6"/>
          <p:cNvSpPr/>
          <p:nvPr/>
        </p:nvSpPr>
        <p:spPr>
          <a:xfrm>
            <a:off x="3132000" y="49528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太阳能景观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5"/>
          <p:cNvSpPr/>
          <p:nvPr/>
        </p:nvSpPr>
        <p:spPr>
          <a:xfrm>
            <a:off x="1351440" y="981000"/>
            <a:ext cx="1155240" cy="43196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太 阳 能 的 利 用 方 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3346560" y="1484280"/>
            <a:ext cx="31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光能            热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9"/>
          <p:cNvSpPr/>
          <p:nvPr/>
        </p:nvSpPr>
        <p:spPr>
          <a:xfrm>
            <a:off x="4498920" y="1628640"/>
            <a:ext cx="936720" cy="28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10"/>
          <p:cNvSpPr/>
          <p:nvPr/>
        </p:nvSpPr>
        <p:spPr>
          <a:xfrm>
            <a:off x="3346560" y="2349360"/>
            <a:ext cx="32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光能            电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AutoShape 11"/>
          <p:cNvSpPr/>
          <p:nvPr/>
        </p:nvSpPr>
        <p:spPr>
          <a:xfrm>
            <a:off x="4498920" y="2492280"/>
            <a:ext cx="936720" cy="28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12"/>
          <p:cNvSpPr/>
          <p:nvPr/>
        </p:nvSpPr>
        <p:spPr>
          <a:xfrm>
            <a:off x="3348000" y="321300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光能            化学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13"/>
          <p:cNvSpPr/>
          <p:nvPr/>
        </p:nvSpPr>
        <p:spPr>
          <a:xfrm>
            <a:off x="4498920" y="3357720"/>
            <a:ext cx="936720" cy="28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3348000" y="414972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光能            生物质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AutoShape 15"/>
          <p:cNvSpPr/>
          <p:nvPr/>
        </p:nvSpPr>
        <p:spPr>
          <a:xfrm>
            <a:off x="4500720" y="4292640"/>
            <a:ext cx="936360" cy="28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AutoShape 17"/>
          <p:cNvSpPr/>
          <p:nvPr/>
        </p:nvSpPr>
        <p:spPr>
          <a:xfrm>
            <a:off x="7956720" y="404640"/>
            <a:ext cx="287280" cy="289080"/>
          </a:xfrm>
          <a:custGeom>
            <a:avLst/>
            <a:gdLst/>
            <a:ahLst/>
            <a:rect l="l" t="t" r="r" b="b"/>
            <a:pathLst>
              <a:path w="287338" h="288925">
                <a:moveTo>
                  <a:pt x="0" y="110359"/>
                </a:moveTo>
                <a:lnTo>
                  <a:pt x="109754" y="110360"/>
                </a:lnTo>
                <a:lnTo>
                  <a:pt x="143669" y="0"/>
                </a:lnTo>
                <a:lnTo>
                  <a:pt x="177584" y="110360"/>
                </a:lnTo>
                <a:lnTo>
                  <a:pt x="287338" y="110359"/>
                </a:lnTo>
                <a:lnTo>
                  <a:pt x="198545" y="178565"/>
                </a:lnTo>
                <a:lnTo>
                  <a:pt x="232461" y="288924"/>
                </a:lnTo>
                <a:lnTo>
                  <a:pt x="143669" y="220718"/>
                </a:lnTo>
                <a:lnTo>
                  <a:pt x="54877" y="288924"/>
                </a:lnTo>
                <a:lnTo>
                  <a:pt x="88793" y="178565"/>
                </a:lnTo>
                <a:lnTo>
                  <a:pt x="0" y="110359"/>
                </a:lnTo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AutoShape 18"/>
          <p:cNvSpPr/>
          <p:nvPr/>
        </p:nvSpPr>
        <p:spPr>
          <a:xfrm>
            <a:off x="2627280" y="2781360"/>
            <a:ext cx="649440" cy="647640"/>
          </a:xfrm>
          <a:custGeom>
            <a:avLst/>
            <a:gdLst>
              <a:gd name="textAreaLeft" fmla="*/ 81000 w 649440"/>
              <a:gd name="textAreaRight" fmla="*/ 568440 w 64944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3" y="5400"/>
                </a:lnTo>
                <a:lnTo>
                  <a:pt x="16203" y="0"/>
                </a:lnTo>
                <a:lnTo>
                  <a:pt x="21600" y="10800"/>
                </a:lnTo>
                <a:lnTo>
                  <a:pt x="16203" y="21600"/>
                </a:lnTo>
                <a:lnTo>
                  <a:pt x="16203" y="16200"/>
                </a:lnTo>
                <a:lnTo>
                  <a:pt x="0" y="16200"/>
                </a:lnTo>
                <a:lnTo>
                  <a:pt x="2699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AutoShape 19"/>
          <p:cNvSpPr/>
          <p:nvPr/>
        </p:nvSpPr>
        <p:spPr>
          <a:xfrm>
            <a:off x="8604360" y="260280"/>
            <a:ext cx="215640" cy="21600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3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7" y="133433"/>
                </a:lnTo>
                <a:lnTo>
                  <a:pt x="0" y="82466"/>
                </a:lnTo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AutoShape 20"/>
          <p:cNvSpPr/>
          <p:nvPr/>
        </p:nvSpPr>
        <p:spPr>
          <a:xfrm>
            <a:off x="8101080" y="981000"/>
            <a:ext cx="287280" cy="289080"/>
          </a:xfrm>
          <a:custGeom>
            <a:avLst/>
            <a:gdLst/>
            <a:ahLst/>
            <a:rect l="l" t="t" r="r" b="b"/>
            <a:pathLst>
              <a:path w="287337" h="288925">
                <a:moveTo>
                  <a:pt x="0" y="110359"/>
                </a:moveTo>
                <a:lnTo>
                  <a:pt x="109754" y="110360"/>
                </a:lnTo>
                <a:lnTo>
                  <a:pt x="143669" y="0"/>
                </a:lnTo>
                <a:lnTo>
                  <a:pt x="177583" y="110360"/>
                </a:lnTo>
                <a:lnTo>
                  <a:pt x="287337" y="110359"/>
                </a:lnTo>
                <a:lnTo>
                  <a:pt x="198544" y="178565"/>
                </a:lnTo>
                <a:lnTo>
                  <a:pt x="232461" y="288924"/>
                </a:lnTo>
                <a:lnTo>
                  <a:pt x="143669" y="220718"/>
                </a:lnTo>
                <a:lnTo>
                  <a:pt x="54876" y="288924"/>
                </a:lnTo>
                <a:lnTo>
                  <a:pt x="88793" y="178565"/>
                </a:lnTo>
                <a:lnTo>
                  <a:pt x="0" y="110359"/>
                </a:lnTo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AutoShape 21"/>
          <p:cNvSpPr/>
          <p:nvPr/>
        </p:nvSpPr>
        <p:spPr>
          <a:xfrm>
            <a:off x="8748720" y="907920"/>
            <a:ext cx="216000" cy="21600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3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7" y="133433"/>
                </a:lnTo>
                <a:lnTo>
                  <a:pt x="0" y="82466"/>
                </a:lnTo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23"/>
          <p:cNvSpPr/>
          <p:nvPr/>
        </p:nvSpPr>
        <p:spPr>
          <a:xfrm>
            <a:off x="8604360" y="1484280"/>
            <a:ext cx="287280" cy="289080"/>
          </a:xfrm>
          <a:custGeom>
            <a:avLst/>
            <a:gdLst/>
            <a:ahLst/>
            <a:rect l="l" t="t" r="r" b="b"/>
            <a:pathLst>
              <a:path w="287338" h="288925">
                <a:moveTo>
                  <a:pt x="0" y="110359"/>
                </a:moveTo>
                <a:lnTo>
                  <a:pt x="109754" y="110360"/>
                </a:lnTo>
                <a:lnTo>
                  <a:pt x="143669" y="0"/>
                </a:lnTo>
                <a:lnTo>
                  <a:pt x="177584" y="110360"/>
                </a:lnTo>
                <a:lnTo>
                  <a:pt x="287338" y="110359"/>
                </a:lnTo>
                <a:lnTo>
                  <a:pt x="198545" y="178565"/>
                </a:lnTo>
                <a:lnTo>
                  <a:pt x="232461" y="288924"/>
                </a:lnTo>
                <a:lnTo>
                  <a:pt x="143669" y="220718"/>
                </a:lnTo>
                <a:lnTo>
                  <a:pt x="54877" y="288924"/>
                </a:lnTo>
                <a:lnTo>
                  <a:pt x="88793" y="178565"/>
                </a:lnTo>
                <a:lnTo>
                  <a:pt x="0" y="110359"/>
                </a:lnTo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文本框 8199"/>
          <p:cNvSpPr/>
          <p:nvPr/>
        </p:nvSpPr>
        <p:spPr>
          <a:xfrm>
            <a:off x="2627280" y="11239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cc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ffcc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5" descr="太阳能住宅"/>
          <p:cNvPicPr/>
          <p:nvPr/>
        </p:nvPicPr>
        <p:blipFill>
          <a:blip r:embed="rId1"/>
          <a:stretch/>
        </p:blipFill>
        <p:spPr>
          <a:xfrm>
            <a:off x="1979640" y="3284640"/>
            <a:ext cx="4897440" cy="28526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6" descr="1"/>
          <p:cNvPicPr/>
          <p:nvPr/>
        </p:nvPicPr>
        <p:blipFill>
          <a:blip r:embed="rId2"/>
          <a:stretch/>
        </p:blipFill>
        <p:spPr>
          <a:xfrm>
            <a:off x="1979640" y="142920"/>
            <a:ext cx="4896000" cy="314172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7"/>
          <p:cNvSpPr/>
          <p:nvPr/>
        </p:nvSpPr>
        <p:spPr>
          <a:xfrm>
            <a:off x="6801840" y="1844640"/>
            <a:ext cx="91188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太  阳  能  住  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12"/>
          <p:cNvSpPr/>
          <p:nvPr/>
        </p:nvSpPr>
        <p:spPr>
          <a:xfrm>
            <a:off x="198360" y="189000"/>
            <a:ext cx="1033560" cy="4465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太阳能的利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光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热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利用太阳能的塑料菜棚"/>
          <p:cNvPicPr/>
          <p:nvPr/>
        </p:nvPicPr>
        <p:blipFill>
          <a:blip r:embed="rId1"/>
          <a:stretch/>
        </p:blipFill>
        <p:spPr>
          <a:xfrm>
            <a:off x="1619280" y="981000"/>
            <a:ext cx="5256360" cy="403236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3"/>
          <p:cNvSpPr/>
          <p:nvPr/>
        </p:nvSpPr>
        <p:spPr>
          <a:xfrm>
            <a:off x="2916360" y="515772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太阳能塑料菜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539640" y="189000"/>
            <a:ext cx="448956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太阳能的利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光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热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太阳能热水器2"/>
          <p:cNvPicPr/>
          <p:nvPr/>
        </p:nvPicPr>
        <p:blipFill>
          <a:blip r:embed="rId1"/>
          <a:stretch/>
        </p:blipFill>
        <p:spPr>
          <a:xfrm>
            <a:off x="5003640" y="981000"/>
            <a:ext cx="3597480" cy="41767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3" descr="太阳能热水器1"/>
          <p:cNvPicPr/>
          <p:nvPr/>
        </p:nvPicPr>
        <p:blipFill>
          <a:blip r:embed="rId2"/>
          <a:stretch/>
        </p:blipFill>
        <p:spPr>
          <a:xfrm>
            <a:off x="324000" y="981000"/>
            <a:ext cx="4176720" cy="417672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4"/>
          <p:cNvSpPr/>
          <p:nvPr/>
        </p:nvSpPr>
        <p:spPr>
          <a:xfrm>
            <a:off x="3276720" y="537372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太阳能热水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870840" y="189000"/>
            <a:ext cx="287316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太阳能的利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光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热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(美国无人驾驶太阳能飞机坠毁)"/>
          <p:cNvPicPr/>
          <p:nvPr/>
        </p:nvPicPr>
        <p:blipFill>
          <a:blip r:embed="rId1"/>
          <a:stretch/>
        </p:blipFill>
        <p:spPr>
          <a:xfrm>
            <a:off x="466560" y="1268280"/>
            <a:ext cx="3889440" cy="349596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5"/>
          <p:cNvSpPr/>
          <p:nvPr/>
        </p:nvSpPr>
        <p:spPr>
          <a:xfrm>
            <a:off x="684360" y="4976640"/>
            <a:ext cx="31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美国无人驾驶太阳能飞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6" descr="友自制的利用太阳能的电动车"/>
          <p:cNvPicPr/>
          <p:nvPr/>
        </p:nvPicPr>
        <p:blipFill>
          <a:blip r:embed="rId2"/>
          <a:stretch/>
        </p:blipFill>
        <p:spPr>
          <a:xfrm>
            <a:off x="4702320" y="1268280"/>
            <a:ext cx="3902040" cy="352908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7"/>
          <p:cNvSpPr/>
          <p:nvPr/>
        </p:nvSpPr>
        <p:spPr>
          <a:xfrm>
            <a:off x="5076720" y="501336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利用太阳能的电动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1086480" y="333360"/>
            <a:ext cx="287316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太阳能的利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光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电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5" descr="太阳能的利用"/>
          <p:cNvPicPr/>
          <p:nvPr/>
        </p:nvPicPr>
        <p:blipFill>
          <a:blip r:embed="rId1"/>
          <a:stretch/>
        </p:blipFill>
        <p:spPr>
          <a:xfrm>
            <a:off x="971640" y="44280"/>
            <a:ext cx="3671640" cy="2953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太阳能汽车10"/>
          <p:cNvPicPr/>
          <p:nvPr/>
        </p:nvPicPr>
        <p:blipFill>
          <a:blip r:embed="rId2"/>
          <a:stretch/>
        </p:blipFill>
        <p:spPr>
          <a:xfrm>
            <a:off x="5508720" y="44280"/>
            <a:ext cx="3600360" cy="29530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太阳能汽车2"/>
          <p:cNvPicPr/>
          <p:nvPr/>
        </p:nvPicPr>
        <p:blipFill>
          <a:blip r:embed="rId3"/>
          <a:stretch/>
        </p:blipFill>
        <p:spPr>
          <a:xfrm>
            <a:off x="971640" y="3068640"/>
            <a:ext cx="3671640" cy="28432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汽车配备太阳能烧烤"/>
          <p:cNvPicPr/>
          <p:nvPr/>
        </p:nvPicPr>
        <p:blipFill>
          <a:blip r:embed="rId4"/>
          <a:stretch/>
        </p:blipFill>
        <p:spPr>
          <a:xfrm>
            <a:off x="5508720" y="3068640"/>
            <a:ext cx="3600360" cy="288144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10"/>
          <p:cNvSpPr/>
          <p:nvPr/>
        </p:nvSpPr>
        <p:spPr>
          <a:xfrm>
            <a:off x="4817880" y="1557360"/>
            <a:ext cx="54612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太  阳  能  汽  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-206640" y="260280"/>
            <a:ext cx="1033560" cy="4465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太阳能的利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光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电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4" descr="荷兰的新建住宅"/>
          <p:cNvPicPr/>
          <p:nvPr/>
        </p:nvPicPr>
        <p:blipFill>
          <a:blip r:embed="rId1"/>
          <a:stretch/>
        </p:blipFill>
        <p:spPr>
          <a:xfrm>
            <a:off x="179280" y="981000"/>
            <a:ext cx="5545080" cy="428940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5"/>
          <p:cNvSpPr/>
          <p:nvPr/>
        </p:nvSpPr>
        <p:spPr>
          <a:xfrm>
            <a:off x="5867280" y="2328480"/>
            <a:ext cx="27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阿姆斯特丹附近的“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太阳能村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”（位于阿姆斯福特市）是一个近年建成的以建筑节能为中心的、装机容量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名列世界前茅的太阳能发电居住区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，也是当今荷兰住宅建设的示范项目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971640" y="53726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荷兰的新建住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1015200" y="189000"/>
            <a:ext cx="287316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太阳能的利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光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电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468360" y="189000"/>
            <a:ext cx="456084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太阳能的利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光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化学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838080" y="2057400"/>
            <a:ext cx="574992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白天阳光下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·10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=N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+10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夜里气温下降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+10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= N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·10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14"/>
          <p:cNvSpPr/>
          <p:nvPr/>
        </p:nvSpPr>
        <p:spPr>
          <a:xfrm>
            <a:off x="1371600" y="1066680"/>
            <a:ext cx="502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15"/>
          <p:cNvSpPr/>
          <p:nvPr/>
        </p:nvSpPr>
        <p:spPr>
          <a:xfrm>
            <a:off x="2971800" y="9907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自制暖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7" name="Group 6"/>
          <p:cNvGrpSpPr/>
          <p:nvPr/>
        </p:nvGrpSpPr>
        <p:grpSpPr>
          <a:xfrm>
            <a:off x="6372360" y="3284640"/>
            <a:ext cx="1439640" cy="790560"/>
            <a:chOff x="6372360" y="3284640"/>
            <a:chExt cx="1439640" cy="790560"/>
          </a:xfrm>
        </p:grpSpPr>
        <p:sp>
          <p:nvSpPr>
            <p:cNvPr id="298" name="AutoShape 17"/>
            <p:cNvSpPr/>
            <p:nvPr/>
          </p:nvSpPr>
          <p:spPr>
            <a:xfrm>
              <a:off x="6372360" y="3284640"/>
              <a:ext cx="1439640" cy="790560"/>
            </a:xfrm>
            <a:prstGeom prst="wedgeEllipseCallout">
              <a:avLst>
                <a:gd name="adj1" fmla="val -55953"/>
                <a:gd name="adj2" fmla="val 84740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Rectangle 19"/>
            <p:cNvSpPr/>
            <p:nvPr/>
          </p:nvSpPr>
          <p:spPr>
            <a:xfrm>
              <a:off x="6804720" y="34131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放热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0" name="Group 9"/>
          <p:cNvGrpSpPr/>
          <p:nvPr/>
        </p:nvGrpSpPr>
        <p:grpSpPr>
          <a:xfrm>
            <a:off x="5940360" y="1700280"/>
            <a:ext cx="1512720" cy="792000"/>
            <a:chOff x="5940360" y="1700280"/>
            <a:chExt cx="1512720" cy="792000"/>
          </a:xfrm>
        </p:grpSpPr>
        <p:sp>
          <p:nvSpPr>
            <p:cNvPr id="301" name="AutoShape 20"/>
            <p:cNvSpPr/>
            <p:nvPr/>
          </p:nvSpPr>
          <p:spPr>
            <a:xfrm>
              <a:off x="5940360" y="1700280"/>
              <a:ext cx="1512720" cy="792000"/>
            </a:xfrm>
            <a:prstGeom prst="wedgeEllipseCallout">
              <a:avLst>
                <a:gd name="adj1" fmla="val -41393"/>
                <a:gd name="adj2" fmla="val 93685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Rectangle 18"/>
            <p:cNvSpPr/>
            <p:nvPr/>
          </p:nvSpPr>
          <p:spPr>
            <a:xfrm>
              <a:off x="6374880" y="1844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吸热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468360" y="189000"/>
            <a:ext cx="626436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太阳能的利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光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化学能（氢能等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1298520" y="1216080"/>
            <a:ext cx="826920" cy="5796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289240" y="1579680"/>
            <a:ext cx="2592360" cy="360"/>
            <a:chOff x="2289240" y="1579680"/>
            <a:chExt cx="2592360" cy="360"/>
          </a:xfrm>
        </p:grpSpPr>
        <p:sp>
          <p:nvSpPr>
            <p:cNvPr id="306" name="Line 4"/>
            <p:cNvSpPr/>
            <p:nvPr/>
          </p:nvSpPr>
          <p:spPr>
            <a:xfrm>
              <a:off x="2289240" y="1579680"/>
              <a:ext cx="2592360" cy="0"/>
            </a:xfrm>
            <a:prstGeom prst="line">
              <a:avLst/>
            </a:prstGeom>
            <a:ln w="93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 txBox="1"/>
            <p:nvPr/>
          </p:nvSpPr>
          <p:spPr>
            <a:xfrm>
              <a:off x="2289240" y="1579680"/>
              <a:ext cx="2592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8" name="Rectangle 5"/>
          <p:cNvSpPr/>
          <p:nvPr/>
        </p:nvSpPr>
        <p:spPr>
          <a:xfrm>
            <a:off x="4952880" y="1265040"/>
            <a:ext cx="1871640" cy="5796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2289240" y="11451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太阳能和催化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Group 7"/>
          <p:cNvGrpSpPr/>
          <p:nvPr/>
        </p:nvGrpSpPr>
        <p:grpSpPr>
          <a:xfrm>
            <a:off x="826920" y="2565360"/>
            <a:ext cx="7104240" cy="2935440"/>
            <a:chOff x="826920" y="2565360"/>
            <a:chExt cx="7104240" cy="2935440"/>
          </a:xfrm>
        </p:grpSpPr>
        <p:pic>
          <p:nvPicPr>
            <p:cNvPr id="311" name="Picture 8" descr="太阳能制备氢气"/>
            <p:cNvPicPr/>
            <p:nvPr/>
          </p:nvPicPr>
          <p:blipFill>
            <a:blip r:embed="rId1"/>
            <a:stretch/>
          </p:blipFill>
          <p:spPr>
            <a:xfrm>
              <a:off x="3587760" y="2565360"/>
              <a:ext cx="4343400" cy="29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Rectangle 9"/>
            <p:cNvSpPr/>
            <p:nvPr/>
          </p:nvSpPr>
          <p:spPr>
            <a:xfrm>
              <a:off x="826920" y="4241880"/>
              <a:ext cx="195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光能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电能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化学能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Rectangle 10"/>
            <p:cNvSpPr/>
            <p:nvPr/>
          </p:nvSpPr>
          <p:spPr>
            <a:xfrm>
              <a:off x="956160" y="34797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我们还可以：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-73080" y="1773360"/>
            <a:ext cx="91440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想象如果没有太阳，我们的世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界会变成什么样子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95280" y="907920"/>
            <a:ext cx="35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【讨论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交流】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79280" y="1916280"/>
            <a:ext cx="859176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北京奥运主场馆“鸟巢”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采用绿色能源——太阳能光伏发电系统为整个场馆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供电力，是当今世界上最大的环保型体育场。白天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太阳能转化为电能，除供正常使用外，将多余的能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储存在蓄电池内供夜晚使用。这个过程中能量发生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化的情况为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太阳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电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（         ）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（        ）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→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光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Picture 3" descr="080721_edu_allinfo_02"/>
          <p:cNvPicPr/>
          <p:nvPr/>
        </p:nvPicPr>
        <p:blipFill>
          <a:blip r:embed="rId1"/>
          <a:stretch/>
        </p:blipFill>
        <p:spPr>
          <a:xfrm>
            <a:off x="5219640" y="260280"/>
            <a:ext cx="3591000" cy="2021040"/>
          </a:xfrm>
          <a:prstGeom prst="rect">
            <a:avLst/>
          </a:prstGeom>
          <a:ln w="0">
            <a:noFill/>
          </a:ln>
        </p:spPr>
      </p:pic>
      <p:sp>
        <p:nvSpPr>
          <p:cNvPr id="316" name="WordArt 4"/>
          <p:cNvSpPr txBox="1"/>
          <p:nvPr/>
        </p:nvSpPr>
        <p:spPr>
          <a:xfrm>
            <a:off x="539640" y="836640"/>
            <a:ext cx="1866960" cy="6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中考链接</a:t>
            </a:r>
            <a:endParaRPr b="1" lang="en-US" sz="2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3059280" y="501336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Arial"/>
              </a:rPr>
              <a:t>化学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5003640" y="501336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808"/>
                </a:solidFill>
                <a:latin typeface="Arial"/>
              </a:rPr>
              <a:t>电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0" y="764640"/>
            <a:ext cx="84247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小明家的太阳能热水器可以贮水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00kg.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天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好时，吸收太阳辐射能可以使水温升的足够高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阴雨天可用电辅助加热，它的电加热器的额定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压是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20V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额定功率是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000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2627280" y="189000"/>
            <a:ext cx="61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33cccc"/>
                </a:solidFill>
                <a:uFillTx/>
                <a:latin typeface="华文行楷"/>
                <a:ea typeface="华文行楷"/>
              </a:rPr>
              <a:t>： 太阳能与热学、电学知识的综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395280" y="31417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468360" y="306864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250920" y="2349360"/>
            <a:ext cx="8064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）若在阳光的照射下，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00kg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的水温度从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0℃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升到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50℃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，吸收的太阳的热量是多少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）若在阴雨天使用电加热器在额定电压下将这些水加热，使之升高相同的温度，需要多长时间？（假设消耗的电能全部转化为水吸收的内能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）实际上用电加热时间需要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，请你写出产生这种现象的两点原因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250920" y="566100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  <a:ea typeface="华文行楷"/>
              </a:rPr>
              <a:t>答案</a:t>
            </a:r>
            <a:r>
              <a:rPr b="0" lang="zh-CN" sz="2800" spc="-1" strike="noStrike">
                <a:solidFill>
                  <a:srgbClr val="000808"/>
                </a:solidFill>
                <a:latin typeface="Arial"/>
              </a:rPr>
              <a:t>：（</a:t>
            </a:r>
            <a:r>
              <a:rPr b="0" lang="zh-CN" sz="2800" spc="-1" strike="noStrike">
                <a:solidFill>
                  <a:srgbClr val="000808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808"/>
                </a:solidFill>
                <a:latin typeface="Arial"/>
              </a:rPr>
              <a:t>）</a:t>
            </a:r>
            <a:r>
              <a:rPr b="0" lang="zh-CN" sz="2800" spc="-1" strike="noStrike">
                <a:solidFill>
                  <a:srgbClr val="000808"/>
                </a:solidFill>
                <a:latin typeface="Arial"/>
              </a:rPr>
              <a:t>1.26×10</a:t>
            </a:r>
            <a:r>
              <a:rPr b="0" lang="zh-CN" sz="2800" spc="-1" strike="noStrike" baseline="30000">
                <a:solidFill>
                  <a:srgbClr val="000808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808"/>
                </a:solidFill>
                <a:latin typeface="Arial"/>
              </a:rPr>
              <a:t>  J</a:t>
            </a:r>
            <a:r>
              <a:rPr b="0" lang="zh-CN" sz="2800" spc="-1" strike="noStrike">
                <a:solidFill>
                  <a:srgbClr val="000808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808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808"/>
                </a:solidFill>
                <a:latin typeface="Arial"/>
              </a:rPr>
              <a:t>）</a:t>
            </a:r>
            <a:r>
              <a:rPr b="0" lang="zh-CN" sz="2800" spc="-1" strike="noStrike">
                <a:solidFill>
                  <a:srgbClr val="000808"/>
                </a:solidFill>
                <a:latin typeface="Arial"/>
              </a:rPr>
              <a:t>1.75h</a:t>
            </a:r>
            <a:r>
              <a:rPr b="0" lang="zh-CN" sz="2800" spc="-1" strike="noStrike">
                <a:solidFill>
                  <a:srgbClr val="000808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808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808"/>
                </a:solidFill>
                <a:latin typeface="Arial"/>
              </a:rPr>
              <a:t>）电加热过程中，存在热量损失或实际电压低于额定电压的情况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WordArt 8"/>
          <p:cNvSpPr txBox="1"/>
          <p:nvPr/>
        </p:nvSpPr>
        <p:spPr>
          <a:xfrm>
            <a:off x="539640" y="0"/>
            <a:ext cx="216216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经典题型</a:t>
            </a:r>
            <a:endParaRPr b="0" i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7020000" y="98100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Picture 10" descr="u=808983868,1267635168&amp;fm=0&amp;gp=48"/>
          <p:cNvPicPr/>
          <p:nvPr/>
        </p:nvPicPr>
        <p:blipFill>
          <a:blip r:embed="rId1"/>
          <a:stretch/>
        </p:blipFill>
        <p:spPr>
          <a:xfrm>
            <a:off x="6659640" y="620640"/>
            <a:ext cx="2232000" cy="167652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4" dur="2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987640" y="25992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课堂小练习</a:t>
            </a:r>
            <a:r>
              <a:rPr b="0" lang="zh-CN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太阳能可以直接利用，下列装置中把太阳能转化成内能的是（  ）。把太阳能转化成电能的是 （  ）。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　　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硅光电池     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太阳集热器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　　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太阳灶            　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太阳能热电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当今人类利用的常规能源是（  ），新能源是（   ）。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　　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化石能源      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核能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　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太阳能          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电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新能源中最瞩目的是</a:t>
            </a:r>
            <a:r>
              <a:rPr b="0" lang="zh-CN" sz="2400" spc="-1" strike="noStrike" u="sng">
                <a:solidFill>
                  <a:srgbClr val="ffffff"/>
                </a:solidFill>
                <a:uFillTx/>
                <a:latin typeface="Arial"/>
              </a:rPr>
              <a:t>_________ _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能。它的主要优点是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________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_________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________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和不会给环境带来污染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虽然太阳能是最理想的新能源，但是目前我们要大规模的利用还存在一些技术困难．</a:t>
            </a:r>
            <a:r>
              <a:rPr b="1" lang="zh-CN" sz="2400" spc="-1" strike="noStrike" u="sng">
                <a:solidFill>
                  <a:srgbClr val="f4347d"/>
                </a:solidFill>
                <a:uFillTx/>
                <a:latin typeface="Arial"/>
              </a:rPr>
              <a:t>我们目前该怎么办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0004"/>
          <p:cNvPicPr/>
          <p:nvPr/>
        </p:nvPicPr>
        <p:blipFill>
          <a:blip r:embed="rId1"/>
          <a:stretch/>
        </p:blipFill>
        <p:spPr>
          <a:xfrm>
            <a:off x="0" y="11160"/>
            <a:ext cx="9142560" cy="68562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3"/>
          <p:cNvSpPr/>
          <p:nvPr/>
        </p:nvSpPr>
        <p:spPr>
          <a:xfrm>
            <a:off x="212760" y="249120"/>
            <a:ext cx="870264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在太阳内部，氢原子核在超高温下发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释放出巨大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太阳能热水器是将太阳能转化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能；太阳能硅光电池将太阳能转化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能；在绿色植物的光合作用过程中太阳能被转化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讨论：结合地理知识，讨论我国哪些地区适宜开放太阳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611280" y="126828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聚变                                        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365040" y="1844640"/>
            <a:ext cx="8778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化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822240" y="5126040"/>
            <a:ext cx="80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我国西藏、青海、新疆、甘肃、宁夏、内蒙古高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BD94-8FC1-4FB2-A55D-ACA3CEF86663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"/>
          <p:cNvGraphicFramePr/>
          <p:nvPr/>
        </p:nvGraphicFramePr>
        <p:xfrm>
          <a:off x="609480" y="1447920"/>
          <a:ext cx="7924680" cy="3663720"/>
        </p:xfrm>
        <a:graphic>
          <a:graphicData uri="http://schemas.openxmlformats.org/drawingml/2006/table">
            <a:tbl>
              <a:tblPr/>
              <a:tblGrid>
                <a:gridCol w="4046400"/>
                <a:gridCol w="2544840"/>
                <a:gridCol w="1333440"/>
              </a:tblGrid>
              <a:tr h="609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太阳能利用的实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能量转化形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备注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地膜、大棚、温室、高温太阳炉、太阳能热水器，放射式太阳灶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光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热转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4"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光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生物质能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转换的本质也是</a:t>
                      </a: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光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r>
                        <a:rPr b="1" lang="zh-CN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化学能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的转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太阳能灯、太阳能汽车、太阳能发电站、太阳能电池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光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电转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79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自制暖袋、从水制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光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化学能转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3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植物光合作用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光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生物质能转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40" name="Text Box 176"/>
          <p:cNvSpPr/>
          <p:nvPr/>
        </p:nvSpPr>
        <p:spPr>
          <a:xfrm>
            <a:off x="3203640" y="333360"/>
            <a:ext cx="25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小结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二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2770200" y="83808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小学课文《太阳》摘录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826920" y="2492280"/>
            <a:ext cx="700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ffcc"/>
                </a:solidFill>
                <a:latin typeface="Arial"/>
                <a:ea typeface="华文行楷"/>
              </a:rPr>
              <a:t>如果没有太阳，地球上将到处是黑暗，到处是寒冷，没有风、雪、雨、露，没有草、木、鸟、兽，自然也没有人。一句话，没有太阳，就没有我们这个美丽可爱的世界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200741472228873"/>
          <p:cNvPicPr/>
          <p:nvPr/>
        </p:nvPicPr>
        <p:blipFill>
          <a:blip r:embed="rId1"/>
          <a:stretch/>
        </p:blipFill>
        <p:spPr>
          <a:xfrm>
            <a:off x="6443640" y="692280"/>
            <a:ext cx="2160720" cy="18730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8"/>
          <p:cNvSpPr/>
          <p:nvPr/>
        </p:nvSpPr>
        <p:spPr>
          <a:xfrm>
            <a:off x="5364000" y="1673280"/>
            <a:ext cx="316872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　　太阳距地球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亿千米，直径大约是地球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倍，体积是地球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3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万倍，质量是地球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万倍，核心温度高达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 50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万摄氏度。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18" name="矩形 4"/>
          <p:cNvSpPr/>
          <p:nvPr/>
        </p:nvSpPr>
        <p:spPr>
          <a:xfrm>
            <a:off x="431640" y="411120"/>
            <a:ext cx="603108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一、太阳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巨大的核能火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5" descr="17404001"/>
          <p:cNvPicPr/>
          <p:nvPr/>
        </p:nvPicPr>
        <p:blipFill>
          <a:blip r:embed="rId2"/>
          <a:stretch/>
        </p:blipFill>
        <p:spPr>
          <a:xfrm>
            <a:off x="358920" y="1557360"/>
            <a:ext cx="478764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21" name="TextBox 8"/>
          <p:cNvSpPr/>
          <p:nvPr/>
        </p:nvSpPr>
        <p:spPr>
          <a:xfrm>
            <a:off x="0" y="-312840"/>
            <a:ext cx="9477360" cy="968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0" rIns="198000" tIns="262800" bIns="324000" anchor="t">
            <a:spAutoFit/>
          </a:bodyPr>
          <a:p>
            <a:pPr marL="856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6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在太阳内部，氢原子核在超高温下发生聚变，释放</a:t>
            </a:r>
            <a:br>
              <a:rPr sz="2800"/>
            </a:b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出巨大的核能。太阳核心每时每刻都在发生氢弹爆炸，</a:t>
            </a:r>
            <a:br>
              <a:rPr sz="2800"/>
            </a:b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太阳就像一个巨大的</a:t>
            </a: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核能火炉</a:t>
            </a: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6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6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6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6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6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6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太阳表面温度约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6 000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℃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，太阳至今已经稳定地</a:t>
            </a:r>
            <a:br>
              <a:rPr sz="2800"/>
            </a:b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燃烧</a:t>
            </a: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了近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50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亿年，而且还能继续</a:t>
            </a: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燃烧</a:t>
            </a: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”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50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亿年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6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6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6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6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22" descr="E:\电子课件编制\22章\3\Sun_gr.jpg"/>
          <p:cNvPicPr/>
          <p:nvPr/>
        </p:nvPicPr>
        <p:blipFill>
          <a:blip r:embed="rId2"/>
          <a:stretch/>
        </p:blipFill>
        <p:spPr>
          <a:xfrm>
            <a:off x="5003640" y="2349360"/>
            <a:ext cx="3781440" cy="32767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324000" y="242244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太阳能的传递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395280" y="321300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大部分太阳能以热和光的形式向四周辐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1855440" y="189000"/>
            <a:ext cx="98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太阳能的由来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1"/>
          <p:cNvSpPr/>
          <p:nvPr/>
        </p:nvSpPr>
        <p:spPr>
          <a:xfrm>
            <a:off x="431640" y="1268280"/>
            <a:ext cx="8506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太阳向外辐射的能量中，只有约二十亿分之一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传递到地球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12" descr="E:\电子课件编制\22章\3\273_1600_3websbook_com.jpg"/>
          <p:cNvPicPr/>
          <p:nvPr/>
        </p:nvPicPr>
        <p:blipFill>
          <a:blip r:embed="rId1"/>
          <a:stretch/>
        </p:blipFill>
        <p:spPr>
          <a:xfrm>
            <a:off x="1511280" y="2573280"/>
            <a:ext cx="5805360" cy="3979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29" name="矩形 4"/>
          <p:cNvSpPr/>
          <p:nvPr/>
        </p:nvSpPr>
        <p:spPr>
          <a:xfrm>
            <a:off x="431640" y="411120"/>
            <a:ext cx="571500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二、太阳是人类能源的宝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4"/>
          <p:cNvSpPr/>
          <p:nvPr/>
        </p:nvSpPr>
        <p:spPr>
          <a:xfrm>
            <a:off x="430200" y="795240"/>
            <a:ext cx="835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太阳光已经照耀我们的地球近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亿年，地球在这近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亿年中积累的太阳能是我们今天所用大部分能量的源泉。人类的日常生活，也无法离开阳光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18" descr="E:\电子课件编制\22章\3\7675514_044509473000_2.jpg"/>
          <p:cNvPicPr/>
          <p:nvPr/>
        </p:nvPicPr>
        <p:blipFill>
          <a:blip r:embed="rId1"/>
          <a:stretch/>
        </p:blipFill>
        <p:spPr>
          <a:xfrm>
            <a:off x="351000" y="2168640"/>
            <a:ext cx="3573360" cy="2305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9" descr="E:\4.18 4.19 运动会 春游\DSC00830.JPG"/>
          <p:cNvPicPr/>
          <p:nvPr/>
        </p:nvPicPr>
        <p:blipFill>
          <a:blip r:embed="rId2"/>
          <a:stretch/>
        </p:blipFill>
        <p:spPr>
          <a:xfrm>
            <a:off x="4140360" y="2168640"/>
            <a:ext cx="4608360" cy="2305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0" descr="E:\4.18 4.19 运动会 春游\IMG_7337.JPG"/>
          <p:cNvPicPr/>
          <p:nvPr/>
        </p:nvPicPr>
        <p:blipFill>
          <a:blip r:embed="rId3"/>
          <a:srcRect l="0" t="0" r="-865" b="0"/>
          <a:stretch/>
        </p:blipFill>
        <p:spPr>
          <a:xfrm>
            <a:off x="357120" y="4545000"/>
            <a:ext cx="4417920" cy="2232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1" descr="E:\电子课件编制\22章\3\01300000237086129428518536806.jpg"/>
          <p:cNvPicPr/>
          <p:nvPr/>
        </p:nvPicPr>
        <p:blipFill>
          <a:blip r:embed="rId4"/>
          <a:stretch/>
        </p:blipFill>
        <p:spPr>
          <a:xfrm>
            <a:off x="4932360" y="4545000"/>
            <a:ext cx="3814920" cy="2247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E:\李燃\教师教学用书\2012人教教师用书项目\ppt\物理\图标.png"/>
          <p:cNvPicPr/>
          <p:nvPr/>
        </p:nvPicPr>
        <p:blipFill>
          <a:blip r:embed="rId5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8199"/>
          <p:cNvSpPr/>
          <p:nvPr/>
        </p:nvSpPr>
        <p:spPr>
          <a:xfrm>
            <a:off x="1886040" y="341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cc"/>
                </a:solidFill>
                <a:uFillTx/>
                <a:latin typeface="Arial"/>
                <a:ea typeface="宋体"/>
                <a:hlinkClick r:id="rId6"/>
              </a:rPr>
              <a:t>ppt</a:t>
            </a:r>
            <a:r>
              <a:rPr b="0" lang="zh-CN" sz="1600" spc="-1" strike="noStrike" u="sng">
                <a:solidFill>
                  <a:srgbClr val="00ffcc"/>
                </a:solidFill>
                <a:uFillTx/>
                <a:latin typeface="Arial"/>
                <a:ea typeface="宋体"/>
                <a:hlinkClick r:id="rId7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2" descr="C:\Users\John\AppData\Roaming\Tencent\Users\76476908\QQ\WinTemp\RichOle\[)2DZ6PBE5RCX3FWQYVABQ9.jpg"/>
          <p:cNvPicPr/>
          <p:nvPr/>
        </p:nvPicPr>
        <p:blipFill>
          <a:blip r:embed="rId1"/>
          <a:stretch/>
        </p:blipFill>
        <p:spPr>
          <a:xfrm>
            <a:off x="5307120" y="692280"/>
            <a:ext cx="3670200" cy="4552920"/>
          </a:xfrm>
          <a:prstGeom prst="rect">
            <a:avLst/>
          </a:prstGeom>
          <a:ln w="0">
            <a:noFill/>
          </a:ln>
        </p:spPr>
      </p:pic>
      <p:sp>
        <p:nvSpPr>
          <p:cNvPr id="138" name="矩形 13"/>
          <p:cNvSpPr/>
          <p:nvPr/>
        </p:nvSpPr>
        <p:spPr>
          <a:xfrm>
            <a:off x="431640" y="5373720"/>
            <a:ext cx="8425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　　今天我们开采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化石燃料，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实际上是在开采上亿年前地球接收的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太阳能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矩形 14"/>
          <p:cNvSpPr/>
          <p:nvPr/>
        </p:nvSpPr>
        <p:spPr>
          <a:xfrm>
            <a:off x="431640" y="1268280"/>
            <a:ext cx="493416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远古时期的植物通过光合作用将太阳能转化为生物体内的化学能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经过地壳的不断运动，死后的动植物躯体埋在地下和海底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经过几百万年的复杂变化，变成了煤、石油、天然气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12" descr="C:\Users\John\AppData\Roaming\Tencent\Users\76476908\QQ\WinTemp\RichOle\[)2DZ6PBE5RCX3FWQYVABQ9.jpg"/>
          <p:cNvPicPr/>
          <p:nvPr/>
        </p:nvPicPr>
        <p:blipFill>
          <a:blip r:embed="rId2"/>
          <a:stretch/>
        </p:blipFill>
        <p:spPr>
          <a:xfrm>
            <a:off x="5425920" y="706320"/>
            <a:ext cx="3668760" cy="4554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C:\Users\John\AppData\Roaming\Tencent\Users\76476908\QQ\WinTemp\RichOle\[)2DZ6PBE5RCX3FWQYVABQ9.jpg"/>
          <p:cNvPicPr/>
          <p:nvPr/>
        </p:nvPicPr>
        <p:blipFill>
          <a:blip r:embed="rId3"/>
          <a:stretch/>
        </p:blipFill>
        <p:spPr>
          <a:xfrm>
            <a:off x="5435640" y="836640"/>
            <a:ext cx="3692520" cy="4554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E:\李燃\教师教学用书\2012人教教师用书项目\ppt\物理\图标.png"/>
          <p:cNvPicPr/>
          <p:nvPr/>
        </p:nvPicPr>
        <p:blipFill>
          <a:blip r:embed="rId4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8"/>
          <p:cNvSpPr/>
          <p:nvPr/>
        </p:nvSpPr>
        <p:spPr>
          <a:xfrm>
            <a:off x="431640" y="7491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化石能源的形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"/>
                            </p:stCondLst>
                            <p:childTnLst>
                              <p:par>
                                <p:cTn id="7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"/>
                            </p:stCondLst>
                            <p:childTnLst>
                              <p:par>
                                <p:cTn id="8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"/>
                            </p:stCondLst>
                            <p:childTnLst>
                              <p:par>
                                <p:cTn id="9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12:33:2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7:54Z</dcterms:modified>
  <cp:revision>17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