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%E6%8F%90%E9%97%AE%E6%97%B6%E5%A5%8F%E5%B9%BB%E6%83%B3%E7%A9%BA%E9%97%B4.wav" ContentType="audio/x-wav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D0E1-7AA0-4D3B-93B2-2A051747E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7EF5-5D9C-4745-874B-D0C1B6CD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5034-1B99-4996-99FA-27D6E74F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1119-9A23-435D-AAF3-0F2631623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8DDB4-CF1A-401E-BB12-D95C80D4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853E0-EBC0-44C3-928E-016A31C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1CF92-00E3-4663-AFB9-AD001E76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78B91-3521-4EFD-B806-08ECC83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F51DB-803A-4A6B-8142-EAFF69AE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A3E78-C1CB-4B9F-9AB3-0E54EA3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DCDF0-A3F1-4BC6-B2FC-ACD865B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7E78-8176-4EB8-94BE-3BAF60F7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B9233-9B4A-4954-BBC3-A12699D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BAE29-FB6D-4360-86DB-0628501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F39AD-D241-4C80-88F3-F2D3C1CC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849F1-AD32-4879-BF95-983377B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6D5CF-6C6B-4FED-BCA7-556F4C29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B0FA-85FB-48A6-B807-C450FEF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310D-12C4-449F-8BB1-736BE46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5551-7249-45D0-88D5-38BD31E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5F4E-7C92-459D-8AE2-B77721A5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D6DC-0F56-46F2-B988-27B036D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ECC2-253D-4424-B85E-E3819BA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F95A-C387-42A7-854C-5ECDC0F4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58E-C04F-43E9-87EF-9ACB6752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F46E-E3DA-407E-814A-44EBE30BC1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&#25552;&#38382;&#26102;&#22863;&#24187;&#24819;&#31354;&#38388;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2771640" y="624852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鲁迅"/>
          <p:cNvPicPr/>
          <p:nvPr/>
        </p:nvPicPr>
        <p:blipFill>
          <a:blip r:embed="rId1"/>
          <a:stretch/>
        </p:blipFill>
        <p:spPr>
          <a:xfrm>
            <a:off x="1014480" y="260280"/>
            <a:ext cx="4147920" cy="576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427640" y="746280"/>
            <a:ext cx="3746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  <a:ea typeface="华文新魏"/>
              </a:rPr>
              <a:t>藤野先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579760" y="404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藤野先生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仙台学校"/>
          <p:cNvPicPr/>
          <p:nvPr/>
        </p:nvPicPr>
        <p:blipFill>
          <a:blip r:embed="rId1"/>
          <a:stretch/>
        </p:blipFill>
        <p:spPr>
          <a:xfrm>
            <a:off x="1066680" y="325440"/>
            <a:ext cx="7620120" cy="5389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590640" y="580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台医学专门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8197"/>
          <p:cNvSpPr/>
          <p:nvPr/>
        </p:nvSpPr>
        <p:spPr>
          <a:xfrm>
            <a:off x="1476360" y="5157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TBC352"/>
          <p:cNvPicPr/>
          <p:nvPr/>
        </p:nvPicPr>
        <p:blipFill>
          <a:blip r:embed="rId1"/>
          <a:stretch/>
        </p:blipFill>
        <p:spPr>
          <a:xfrm>
            <a:off x="1371600" y="380880"/>
            <a:ext cx="1676520" cy="92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5861880" y="4572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，理清文章段落结构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257800" y="25909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3840" y="3048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藤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750280" y="2157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750280" y="299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50280" y="383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离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406680" y="487692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三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藤野的怀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448000" y="144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94668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77188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见藤野前，在东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3800" y="609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如何描写藤野先生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藤野先生2"/>
          <p:cNvPicPr/>
          <p:nvPr/>
        </p:nvPicPr>
        <p:blipFill>
          <a:blip r:embed="rId1"/>
          <a:stretch/>
        </p:blipFill>
        <p:spPr>
          <a:xfrm>
            <a:off x="5943600" y="1828800"/>
            <a:ext cx="27068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066680" y="228600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睹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1080" y="32767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闻亲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17960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17960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活俭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29000" y="4343400"/>
            <a:ext cx="360" cy="685800"/>
            <a:chOff x="3429000" y="4343400"/>
            <a:chExt cx="360" cy="685800"/>
          </a:xfrm>
        </p:grpSpPr>
        <p:sp>
          <p:nvSpPr>
            <p:cNvPr id="167" name="Line 8"/>
            <p:cNvSpPr/>
            <p:nvPr/>
          </p:nvSpPr>
          <p:spPr>
            <a:xfrm>
              <a:off x="3429000" y="434340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429000" y="43434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429000" y="4038480"/>
            <a:ext cx="360" cy="1067040"/>
            <a:chOff x="3429000" y="4038480"/>
            <a:chExt cx="360" cy="1067040"/>
          </a:xfrm>
        </p:grpSpPr>
        <p:sp>
          <p:nvSpPr>
            <p:cNvPr id="170" name="Line 9"/>
            <p:cNvSpPr/>
            <p:nvPr/>
          </p:nvSpPr>
          <p:spPr>
            <a:xfrm>
              <a:off x="3429000" y="4038480"/>
              <a:ext cx="0" cy="1067040"/>
            </a:xfrm>
            <a:prstGeom prst="line">
              <a:avLst/>
            </a:prstGeom>
            <a:ln cap="sq" w="15228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429000" y="40384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273852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学者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61356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野严九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2" descr="16TBC032"/>
          <p:cNvPicPr/>
          <p:nvPr/>
        </p:nvPicPr>
        <p:blipFill>
          <a:blip r:embed="rId2"/>
          <a:stretch/>
        </p:blipFill>
        <p:spPr>
          <a:xfrm>
            <a:off x="1143000" y="533520"/>
            <a:ext cx="93492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3"/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7301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5456" y="6481"/>
                </a:lnTo>
                <a:lnTo>
                  <a:pt x="5456" y="20494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4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032360" y="303120"/>
            <a:ext cx="354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记叙了与藤野先生相处的哪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件事？表现了他的什么品质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440360" y="18288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添改讲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191120" y="1828800"/>
            <a:ext cx="20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认真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81320" y="26668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纠正解剖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6480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格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364400" y="3581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心实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564800" y="3505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情诚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88080" y="4495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裹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64800" y="4495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6324480" y="22096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7240"/>
              <a:gd name="textAreaBottom" fmla="*/ 259812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633720" y="2416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正直热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-92160" y="240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694920" y="274320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853040" y="171972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没有民族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600000" y="54100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具体写了四个典型事例，从不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面表现了藤野先生的高贵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16TBC43"/>
          <p:cNvPicPr/>
          <p:nvPr/>
        </p:nvPicPr>
        <p:blipFill>
          <a:blip r:embed="rId1"/>
          <a:stretch/>
        </p:blipFill>
        <p:spPr>
          <a:xfrm>
            <a:off x="1066680" y="304920"/>
            <a:ext cx="1752840" cy="1319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13TBC143 "/>
          <p:cNvPicPr/>
          <p:nvPr/>
        </p:nvPicPr>
        <p:blipFill>
          <a:blip r:embed="rId2"/>
          <a:stretch/>
        </p:blipFill>
        <p:spPr>
          <a:xfrm>
            <a:off x="1066680" y="5334120"/>
            <a:ext cx="1295640" cy="104112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94880" y="60948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文以作者的爱国主义思想为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线，想一想哪些地方表现了作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强烈的爱国主义思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014800" y="3429000"/>
            <a:ext cx="41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生分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6" descr="读书图"/>
          <p:cNvPicPr/>
          <p:nvPr/>
        </p:nvPicPr>
        <p:blipFill>
          <a:blip r:embed="rId1"/>
          <a:stretch/>
        </p:blipFill>
        <p:spPr>
          <a:xfrm>
            <a:off x="1143000" y="28954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6TBC41"/>
          <p:cNvPicPr/>
          <p:nvPr/>
        </p:nvPicPr>
        <p:blipFill>
          <a:blip r:embed="rId2"/>
          <a:stretch/>
        </p:blipFill>
        <p:spPr>
          <a:xfrm>
            <a:off x="3505320" y="4876920"/>
            <a:ext cx="150012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178160" y="636480"/>
            <a:ext cx="159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在 东 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76720" y="2133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见所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2458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国留学生的丑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0800000">
            <a:off x="2209680" y="3429000"/>
            <a:ext cx="3353040" cy="990720"/>
          </a:xfrm>
          <a:prstGeom prst="wedgeRoundRectCallout">
            <a:avLst>
              <a:gd name="adj1" fmla="val -43703"/>
              <a:gd name="adj2" fmla="val 94870"/>
              <a:gd name="adj3" fmla="val 16667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3581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修辞：比喻、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374840" y="48769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       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308840" y="4724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厌恶之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与之为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320360" y="24382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学无术 思想腐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7238880" y="28195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07440" y="2892960"/>
            <a:ext cx="127764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  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096080" y="560520"/>
            <a:ext cx="191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去  仙  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532880" y="337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仙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097520" y="18763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080600" y="49006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961960" y="1852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触发忧国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698800" y="4900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清志士客死之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42840" y="2514240"/>
            <a:ext cx="1067040" cy="1219320"/>
            <a:chOff x="2742840" y="2514240"/>
            <a:chExt cx="1067040" cy="1219320"/>
          </a:xfrm>
        </p:grpSpPr>
        <p:sp>
          <p:nvSpPr>
            <p:cNvPr id="221" name="Line 8"/>
            <p:cNvSpPr/>
            <p:nvPr/>
          </p:nvSpPr>
          <p:spPr>
            <a:xfrm flipV="1">
              <a:off x="2743200" y="2514240"/>
              <a:ext cx="1066680" cy="121932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2742840" y="2514240"/>
              <a:ext cx="10666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43200" y="3962520"/>
            <a:ext cx="1143000" cy="1143000"/>
            <a:chOff x="2743200" y="3962520"/>
            <a:chExt cx="1143000" cy="1143000"/>
          </a:xfrm>
        </p:grpSpPr>
        <p:sp>
          <p:nvSpPr>
            <p:cNvPr id="224" name="Line 9"/>
            <p:cNvSpPr/>
            <p:nvPr/>
          </p:nvSpPr>
          <p:spPr>
            <a:xfrm>
              <a:off x="2743200" y="3962520"/>
              <a:ext cx="1143000" cy="114300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743200" y="39625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0"/>
          <p:cNvSpPr/>
          <p:nvPr/>
        </p:nvSpPr>
        <p:spPr>
          <a:xfrm>
            <a:off x="5867280" y="2590920"/>
            <a:ext cx="533520" cy="2209680"/>
          </a:xfrm>
          <a:prstGeom prst="upDownArrow">
            <a:avLst>
              <a:gd name="adj1" fmla="val 50000"/>
              <a:gd name="adj2" fmla="val 82776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612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6614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藤野先生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038480" y="106668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22920" y="304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复述：弃医从文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99240" y="735480"/>
            <a:ext cx="1094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匿名信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518560" y="1084680"/>
            <a:ext cx="10947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看电影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001040" y="353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557400" y="457560"/>
            <a:ext cx="13993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匿名信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人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祖国的尊严受到侵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680480" y="289440"/>
            <a:ext cx="200880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看电影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想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大震动，民族自尊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受到严重挫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1280" y="3352680"/>
            <a:ext cx="2971800" cy="638280"/>
          </a:xfrm>
          <a:prstGeom prst="leftRightArrow">
            <a:avLst>
              <a:gd name="adj1" fmla="val 50000"/>
              <a:gd name="adj2" fmla="val 93054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756680" y="229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756680" y="3670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128040" y="66024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Times New Roman"/>
              </a:rPr>
              <a:t>离开仙台，怀念先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90040" y="215424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抒怀念之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2548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赞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25484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度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490040" y="428796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怀念付诸行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4410720" y="3809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藏讲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410720" y="43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挂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114800" y="4952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5486400" y="23623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796360" y="1486080"/>
            <a:ext cx="12776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念之情化为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的勇气和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7162920" y="3352680"/>
            <a:ext cx="761760" cy="685800"/>
          </a:xfrm>
          <a:prstGeom prst="rightArrow">
            <a:avLst>
              <a:gd name="adj1" fmla="val 50000"/>
              <a:gd name="adj2" fmla="val 27754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7957080" y="252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7957080" y="3594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8197"/>
          <p:cNvSpPr/>
          <p:nvPr/>
        </p:nvSpPr>
        <p:spPr>
          <a:xfrm>
            <a:off x="1187280" y="5950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7"/>
          <p:cNvSpPr/>
          <p:nvPr/>
        </p:nvSpPr>
        <p:spPr>
          <a:xfrm>
            <a:off x="1817640" y="836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鲁迅像2"/>
          <p:cNvPicPr/>
          <p:nvPr/>
        </p:nvPicPr>
        <p:blipFill>
          <a:blip r:embed="rId1"/>
          <a:stretch/>
        </p:blipFill>
        <p:spPr>
          <a:xfrm>
            <a:off x="1116000" y="33336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23623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0666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6576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2485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9528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0666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62320" y="6019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5438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733920" y="6019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292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物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2448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课文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75438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结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9TBC106"/>
          <p:cNvPicPr/>
          <p:nvPr/>
        </p:nvPicPr>
        <p:blipFill>
          <a:blip r:embed="rId1"/>
          <a:stretch/>
        </p:blipFill>
        <p:spPr>
          <a:xfrm>
            <a:off x="1066680" y="304920"/>
            <a:ext cx="3213360" cy="1450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5247360" y="463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主题思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491560" y="20811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几个问题都表现了鲁迅先生的爱国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思想，这与课文表现藤野先生的高尚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不矛盾，二者相辅相成，是统一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495520" y="398628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以与藤野先生的交往为明线，以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为暗线，赞扬了藤野先生的高尚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，抒发了对他的真挚怀念；同时追述了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弃医从文的思想变化，洋溢着强烈的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774D-B14D-47EC-937F-FD08FDC105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俯首甘为儒子牛"/>
          <p:cNvPicPr/>
          <p:nvPr/>
        </p:nvPicPr>
        <p:blipFill>
          <a:blip r:embed="rId1"/>
          <a:stretch/>
        </p:blipFill>
        <p:spPr>
          <a:xfrm>
            <a:off x="611280" y="196920"/>
            <a:ext cx="7924680" cy="6400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286000" y="3809880"/>
            <a:ext cx="556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Times New Roman"/>
              </a:rPr>
              <a:t>谢谢光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9TBC147"/>
          <p:cNvPicPr/>
          <p:nvPr/>
        </p:nvPicPr>
        <p:blipFill>
          <a:blip r:embed="rId1"/>
          <a:stretch/>
        </p:blipFill>
        <p:spPr>
          <a:xfrm>
            <a:off x="1066680" y="838080"/>
            <a:ext cx="1752840" cy="814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14300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95280" y="4648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020120" y="91440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生介绍鲁迅其人及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luxun2"/>
          <p:cNvPicPr/>
          <p:nvPr/>
        </p:nvPicPr>
        <p:blipFill>
          <a:blip r:embed="rId2"/>
          <a:stretch/>
        </p:blipFill>
        <p:spPr>
          <a:xfrm>
            <a:off x="1676520" y="2133720"/>
            <a:ext cx="263664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uxun"/>
          <p:cNvPicPr/>
          <p:nvPr/>
        </p:nvPicPr>
        <p:blipFill>
          <a:blip r:embed="rId3"/>
          <a:stretch/>
        </p:blipFill>
        <p:spPr>
          <a:xfrm>
            <a:off x="5181480" y="2209680"/>
            <a:ext cx="2711520" cy="40388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看戏河埠"/>
          <p:cNvPicPr/>
          <p:nvPr/>
        </p:nvPicPr>
        <p:blipFill>
          <a:blip r:embed="rId1"/>
          <a:stretch/>
        </p:blipFill>
        <p:spPr>
          <a:xfrm>
            <a:off x="441360" y="3049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699520" y="609480"/>
            <a:ext cx="298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于浙江绍兴，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周树人，字豫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日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用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迅作笔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3429000"/>
            <a:ext cx="341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名作品集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本文选自散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3872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生活的绍兴河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鲁迅后院"/>
          <p:cNvPicPr/>
          <p:nvPr/>
        </p:nvPicPr>
        <p:blipFill>
          <a:blip r:embed="rId1"/>
          <a:stretch/>
        </p:blipFill>
        <p:spPr>
          <a:xfrm>
            <a:off x="1066680" y="609480"/>
            <a:ext cx="347688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鲁迅故居"/>
          <p:cNvPicPr/>
          <p:nvPr/>
        </p:nvPicPr>
        <p:blipFill>
          <a:blip r:embed="rId2"/>
          <a:stretch/>
        </p:blipFill>
        <p:spPr>
          <a:xfrm>
            <a:off x="4800600" y="6094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600200" y="56386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百草园到三味书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社戏"/>
          <p:cNvPicPr/>
          <p:nvPr/>
        </p:nvPicPr>
        <p:blipFill>
          <a:blip r:embed="rId1"/>
          <a:stretch/>
        </p:blipFill>
        <p:spPr>
          <a:xfrm>
            <a:off x="1219320" y="3049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895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社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少年闰土"/>
          <p:cNvPicPr/>
          <p:nvPr/>
        </p:nvPicPr>
        <p:blipFill>
          <a:blip r:embed="rId1"/>
          <a:stretch/>
        </p:blipFill>
        <p:spPr>
          <a:xfrm>
            <a:off x="1066680" y="380880"/>
            <a:ext cx="373392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中年闰土"/>
          <p:cNvPicPr/>
          <p:nvPr/>
        </p:nvPicPr>
        <p:blipFill>
          <a:blip r:embed="rId2"/>
          <a:stretch/>
        </p:blipFill>
        <p:spPr>
          <a:xfrm>
            <a:off x="4876920" y="380880"/>
            <a:ext cx="3808440" cy="5334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895480" y="5715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鲁迅像"/>
          <p:cNvPicPr/>
          <p:nvPr/>
        </p:nvPicPr>
        <p:blipFill>
          <a:blip r:embed="rId1"/>
          <a:stretch/>
        </p:blipFill>
        <p:spPr>
          <a:xfrm>
            <a:off x="4724280" y="533520"/>
            <a:ext cx="4114800" cy="594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13TBC114 "/>
          <p:cNvPicPr/>
          <p:nvPr/>
        </p:nvPicPr>
        <p:blipFill>
          <a:blip r:embed="rId2"/>
          <a:stretch/>
        </p:blipFill>
        <p:spPr>
          <a:xfrm>
            <a:off x="1752480" y="533520"/>
            <a:ext cx="2210040" cy="914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005480" y="1617840"/>
            <a:ext cx="304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2—1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留学日本的片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本想以学医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救国救民，但后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却弃医从文了，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在本课的学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认识到作者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8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鲁迅留学日本的经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81200" y="1295280"/>
            <a:ext cx="466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到日本，入东京弘文学院补习日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参加反清爱国活动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题小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中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“我以我血荐轩辕”的誓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111200" y="2819520"/>
            <a:ext cx="14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入仙台医学专门学校学医。两年后弃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文，想以改变国民精神入手，挽救民族危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73760" y="3962520"/>
            <a:ext cx="51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东京开始文学活动，翻译介绍外国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作品，并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化偏至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一系列论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247120" y="5105520"/>
            <a:ext cx="53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从章太炎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加入光复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280600" y="58672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从日本回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S0014"/>
          <p:cNvPicPr/>
          <p:nvPr/>
        </p:nvPicPr>
        <p:blipFill>
          <a:blip r:embed="rId1"/>
          <a:stretch/>
        </p:blipFill>
        <p:spPr>
          <a:xfrm>
            <a:off x="5641920" y="228600"/>
            <a:ext cx="2895480" cy="10666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9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9:37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