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0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AD4-053B-4888-8FD1-DE663BD9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378-BA1C-4D2B-AAF2-D5E7F5C1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47A-3CE5-41CD-8FBC-D97B31DF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A8B-1ADA-4BE9-AA0A-49C21E8B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7B6-7D53-4942-B535-7382CEE5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353-BAC7-44F6-9406-8987DB1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79B-5FB7-44EB-A85A-8231644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FC8-54E0-458E-826A-211AF919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A26-86A7-474B-9F18-632CCFE2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C9D-DA04-408A-8B58-D673BB5B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614-5935-4372-A5C5-AD7A732B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12E-A10A-4F08-8260-5ABA7BFC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71C4-7D91-458E-9134-83801387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F766-230E-4F8B-9BE5-F807FF35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AEB6-D393-4E1A-84BA-9EF23638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1FE7-CAB5-4C87-9637-B6444734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4DD2-DEDC-4DC0-AEE6-20626D66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1482-714F-48AE-A9C0-9B92260E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8734-DD4A-47B0-AF9E-F5283B6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9EEB-D3FB-4415-9B47-19307D94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127D-C6DA-43B4-902D-FA96D566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AC4B-E1F2-41AE-BE72-2FA48EEB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AD19-3E93-4450-8B36-159EDA18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4DF5-EE63-417F-9C62-A2F6BE7A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3A21-6FE8-4A3E-B141-5B65547B35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EAC-D4F8-462F-9D16-404F5BA5EB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1"/>
          <p:cNvSpPr/>
          <p:nvPr/>
        </p:nvSpPr>
        <p:spPr>
          <a:xfrm>
            <a:off x="0" y="7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年级品德与社会上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矩形 1" descr=""/>
          <p:cNvPicPr/>
          <p:nvPr/>
        </p:nvPicPr>
        <p:blipFill>
          <a:blip r:embed="rId1"/>
          <a:stretch/>
        </p:blipFill>
        <p:spPr>
          <a:xfrm>
            <a:off x="1760400" y="2276640"/>
            <a:ext cx="5786640" cy="70164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685800" y="380880"/>
            <a:ext cx="7772400" cy="579132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我的家庭故事</a:t>
            </a: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38080" y="2038320"/>
            <a:ext cx="73152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.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请你说一说你的一家人在一起的时候都做些什么呢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838080" y="3429000"/>
            <a:ext cx="7315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.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在家里，我们每天都与家人生活在一起，大家一起做事，一起游戏。谁生病了，大家都很着急，你们说：这是为什么呢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9" descr="a"/>
          <p:cNvPicPr/>
          <p:nvPr/>
        </p:nvPicPr>
        <p:blipFill>
          <a:blip r:embed="rId1"/>
          <a:stretch/>
        </p:blipFill>
        <p:spPr>
          <a:xfrm>
            <a:off x="7315200" y="6407280"/>
            <a:ext cx="299880" cy="298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c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5080" y="6407280"/>
            <a:ext cx="303120" cy="301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d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43960" y="6421320"/>
            <a:ext cx="304560" cy="30348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684360" y="404640"/>
            <a:ext cx="7772400" cy="579132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家庭小调查</a:t>
            </a: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981080"/>
            <a:ext cx="7506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           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黑体"/>
              </a:rPr>
              <a:t>同学们，你了解家里的人吗？你知道他们（爸爸妈妈或爷爷奶奶）小时候的故事吗？让我们来做个调查，选择你最感受兴趣的事情给大家说一说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a"/>
          <p:cNvPicPr/>
          <p:nvPr/>
        </p:nvPicPr>
        <p:blipFill>
          <a:blip r:embed="rId1"/>
          <a:stretch/>
        </p:blipFill>
        <p:spPr>
          <a:xfrm>
            <a:off x="7315200" y="6407280"/>
            <a:ext cx="299880" cy="298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5080" y="6407280"/>
            <a:ext cx="303120" cy="301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d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43960" y="6421320"/>
            <a:ext cx="30456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080" y="759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家庭调查表</a:t>
            </a:r>
            <a:endParaRPr b="1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395280" y="981000"/>
            <a:ext cx="838188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85800" y="140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调查对象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362320" y="1787400"/>
            <a:ext cx="6019560" cy="360"/>
            <a:chOff x="2362320" y="1787400"/>
            <a:chExt cx="6019560" cy="360"/>
          </a:xfrm>
        </p:grpSpPr>
        <p:sp>
          <p:nvSpPr>
            <p:cNvPr id="222" name="Line 12"/>
            <p:cNvSpPr/>
            <p:nvPr/>
          </p:nvSpPr>
          <p:spPr>
            <a:xfrm>
              <a:off x="2362320" y="178740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362320" y="1787400"/>
              <a:ext cx="6019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Text Box 13"/>
          <p:cNvSpPr/>
          <p:nvPr/>
        </p:nvSpPr>
        <p:spPr>
          <a:xfrm>
            <a:off x="68580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调查对象生活的年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85800" y="2787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调查记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68580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发现和感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84360" y="53006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想对他们说什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2514600"/>
            <a:ext cx="4495680" cy="360"/>
            <a:chOff x="3886200" y="2514600"/>
            <a:chExt cx="4495680" cy="360"/>
          </a:xfrm>
        </p:grpSpPr>
        <p:sp>
          <p:nvSpPr>
            <p:cNvPr id="229" name="Line 17"/>
            <p:cNvSpPr/>
            <p:nvPr/>
          </p:nvSpPr>
          <p:spPr>
            <a:xfrm>
              <a:off x="3886200" y="251460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3886200" y="2514600"/>
              <a:ext cx="4495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286000" y="3225960"/>
            <a:ext cx="6095880" cy="360"/>
            <a:chOff x="2286000" y="3225960"/>
            <a:chExt cx="6095880" cy="360"/>
          </a:xfrm>
        </p:grpSpPr>
        <p:sp>
          <p:nvSpPr>
            <p:cNvPr id="232" name="Line 18"/>
            <p:cNvSpPr/>
            <p:nvPr/>
          </p:nvSpPr>
          <p:spPr>
            <a:xfrm>
              <a:off x="2286000" y="3225960"/>
              <a:ext cx="6095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2286000" y="32259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914400" y="3882960"/>
            <a:ext cx="7467480" cy="360"/>
            <a:chOff x="914400" y="3882960"/>
            <a:chExt cx="7467480" cy="360"/>
          </a:xfrm>
        </p:grpSpPr>
        <p:sp>
          <p:nvSpPr>
            <p:cNvPr id="235" name="Line 19"/>
            <p:cNvSpPr/>
            <p:nvPr/>
          </p:nvSpPr>
          <p:spPr>
            <a:xfrm>
              <a:off x="914400" y="3882960"/>
              <a:ext cx="7467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914400" y="3882960"/>
              <a:ext cx="746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914400" y="5137200"/>
            <a:ext cx="7467480" cy="360"/>
            <a:chOff x="914400" y="5137200"/>
            <a:chExt cx="7467480" cy="360"/>
          </a:xfrm>
        </p:grpSpPr>
        <p:sp>
          <p:nvSpPr>
            <p:cNvPr id="238" name="Line 20"/>
            <p:cNvSpPr/>
            <p:nvPr/>
          </p:nvSpPr>
          <p:spPr>
            <a:xfrm>
              <a:off x="914400" y="5137200"/>
              <a:ext cx="7467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914400" y="5137200"/>
              <a:ext cx="7467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200400" y="4527720"/>
            <a:ext cx="5181480" cy="360"/>
            <a:chOff x="3200400" y="4527720"/>
            <a:chExt cx="5181480" cy="360"/>
          </a:xfrm>
        </p:grpSpPr>
        <p:sp>
          <p:nvSpPr>
            <p:cNvPr id="241" name="Line 21"/>
            <p:cNvSpPr/>
            <p:nvPr/>
          </p:nvSpPr>
          <p:spPr>
            <a:xfrm>
              <a:off x="3200400" y="4527720"/>
              <a:ext cx="5181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3200400" y="452772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429000" y="5791320"/>
            <a:ext cx="4952880" cy="360"/>
            <a:chOff x="3429000" y="5791320"/>
            <a:chExt cx="4952880" cy="360"/>
          </a:xfrm>
        </p:grpSpPr>
        <p:sp>
          <p:nvSpPr>
            <p:cNvPr id="244" name="Line 22"/>
            <p:cNvSpPr/>
            <p:nvPr/>
          </p:nvSpPr>
          <p:spPr>
            <a:xfrm>
              <a:off x="3429000" y="5791320"/>
              <a:ext cx="4952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3429000" y="579132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Picture 23" descr="a"/>
          <p:cNvPicPr/>
          <p:nvPr/>
        </p:nvPicPr>
        <p:blipFill>
          <a:blip r:embed="rId1"/>
          <a:stretch/>
        </p:blipFill>
        <p:spPr>
          <a:xfrm>
            <a:off x="7601040" y="6407280"/>
            <a:ext cx="299880" cy="298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c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0560" y="6407280"/>
            <a:ext cx="303480" cy="30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d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029440" y="6421320"/>
            <a:ext cx="30492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E365-40A8-46CD-A12B-C63A6384AD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老师的话</a:t>
            </a:r>
            <a:endParaRPr b="1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440" y="2023920"/>
            <a:ext cx="762012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Times New Roman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你的家、他的家、我的家，每个人的家都是那么的平凡，每个人的家又都是那么的温暖。每个家里的人都互相惦记，互相牵挂。我们爱我们的家，我们爱家里的每一个人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a"/>
          <p:cNvPicPr/>
          <p:nvPr/>
        </p:nvPicPr>
        <p:blipFill>
          <a:blip r:embed="rId1"/>
          <a:stretch/>
        </p:blipFill>
        <p:spPr>
          <a:xfrm>
            <a:off x="7315200" y="6407280"/>
            <a:ext cx="299880" cy="298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d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43960" y="6421320"/>
            <a:ext cx="304560" cy="303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e"/>
          <p:cNvPicPr/>
          <p:nvPr/>
        </p:nvPicPr>
        <p:blipFill>
          <a:blip r:embed="rId3"/>
          <a:stretch/>
        </p:blipFill>
        <p:spPr>
          <a:xfrm>
            <a:off x="8155080" y="6400800"/>
            <a:ext cx="3031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1066680" y="2016000"/>
            <a:ext cx="304812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029200" y="2016000"/>
            <a:ext cx="304812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066680" y="3463920"/>
            <a:ext cx="304812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5032440" y="3463920"/>
            <a:ext cx="3044880" cy="9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1066680" y="4911840"/>
            <a:ext cx="3044880" cy="9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5032440" y="4911840"/>
            <a:ext cx="3044880" cy="9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2057400" y="380880"/>
            <a:ext cx="4876920" cy="106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4" descr="01"/>
          <p:cNvPicPr/>
          <p:nvPr/>
        </p:nvPicPr>
        <p:blipFill>
          <a:blip r:embed="rId1"/>
          <a:stretch/>
        </p:blipFill>
        <p:spPr>
          <a:xfrm>
            <a:off x="2362320" y="380880"/>
            <a:ext cx="4114800" cy="1101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5" descr="02"/>
          <p:cNvPicPr/>
          <p:nvPr/>
        </p:nvPicPr>
        <p:blipFill>
          <a:blip r:embed="rId2"/>
          <a:stretch/>
        </p:blipFill>
        <p:spPr>
          <a:xfrm>
            <a:off x="1066680" y="2085840"/>
            <a:ext cx="2971800" cy="873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03"/>
          <p:cNvPicPr/>
          <p:nvPr/>
        </p:nvPicPr>
        <p:blipFill>
          <a:blip r:embed="rId3"/>
          <a:stretch/>
        </p:blipFill>
        <p:spPr>
          <a:xfrm>
            <a:off x="5105520" y="2100240"/>
            <a:ext cx="2971800" cy="82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04"/>
          <p:cNvPicPr/>
          <p:nvPr/>
        </p:nvPicPr>
        <p:blipFill>
          <a:blip r:embed="rId4"/>
          <a:stretch/>
        </p:blipFill>
        <p:spPr>
          <a:xfrm>
            <a:off x="1095480" y="3565440"/>
            <a:ext cx="2971800" cy="83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8" descr="05"/>
          <p:cNvPicPr/>
          <p:nvPr/>
        </p:nvPicPr>
        <p:blipFill>
          <a:blip r:embed="rId5"/>
          <a:stretch/>
        </p:blipFill>
        <p:spPr>
          <a:xfrm>
            <a:off x="5133960" y="3595680"/>
            <a:ext cx="2895480" cy="80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9" descr="06"/>
          <p:cNvPicPr/>
          <p:nvPr/>
        </p:nvPicPr>
        <p:blipFill>
          <a:blip r:embed="rId6"/>
          <a:stretch/>
        </p:blipFill>
        <p:spPr>
          <a:xfrm>
            <a:off x="1095480" y="5024520"/>
            <a:ext cx="2971800" cy="81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0" descr="07"/>
          <p:cNvPicPr/>
          <p:nvPr/>
        </p:nvPicPr>
        <p:blipFill>
          <a:blip r:embed="rId7"/>
          <a:stretch/>
        </p:blipFill>
        <p:spPr>
          <a:xfrm>
            <a:off x="5195880" y="5029200"/>
            <a:ext cx="2819520" cy="808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1" descr="e"/>
          <p:cNvPicPr/>
          <p:nvPr/>
        </p:nvPicPr>
        <p:blipFill>
          <a:blip r:embed="rId8"/>
          <a:stretch/>
        </p:blipFill>
        <p:spPr>
          <a:xfrm>
            <a:off x="7772400" y="6400800"/>
            <a:ext cx="3031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a"/>
          <p:cNvPicPr/>
          <p:nvPr/>
        </p:nvPicPr>
        <p:blipFill>
          <a:blip r:embed="rId9"/>
          <a:stretch/>
        </p:blipFill>
        <p:spPr>
          <a:xfrm>
            <a:off x="7391520" y="6407280"/>
            <a:ext cx="299880" cy="2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685800" y="380880"/>
            <a:ext cx="7772400" cy="579132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可爱的家</a:t>
            </a: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75880" y="1904760"/>
            <a:ext cx="7086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      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我们每个人都有一个可亲可爱的家，家庭的温暖，让我们每个人都充满激情。我的家住在……，同学们，你们的家住在哪里呢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0" descr="未标题-1 拷贝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33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e6b7681e-ef70-4715-a5f5-5e4847e83ba8"/>
          <p:cNvPicPr/>
          <p:nvPr/>
        </p:nvPicPr>
        <p:blipFill>
          <a:blip r:embed="rId2"/>
          <a:stretch/>
        </p:blipFill>
        <p:spPr>
          <a:xfrm>
            <a:off x="6019920" y="4376880"/>
            <a:ext cx="1930320" cy="1511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42" name="Picture 12" descr="a"/>
          <p:cNvPicPr/>
          <p:nvPr/>
        </p:nvPicPr>
        <p:blipFill>
          <a:blip r:embed="rId3"/>
          <a:stretch/>
        </p:blipFill>
        <p:spPr>
          <a:xfrm>
            <a:off x="7773840" y="6407280"/>
            <a:ext cx="300240" cy="298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c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5080" y="6407280"/>
            <a:ext cx="303120" cy="30132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380880"/>
            <a:ext cx="7772400" cy="579132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438280" y="442800"/>
            <a:ext cx="419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我的全家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未标题-1 拷贝"/>
          <p:cNvPicPr/>
          <p:nvPr/>
        </p:nvPicPr>
        <p:blipFill>
          <a:blip r:embed="rId1"/>
          <a:stretch/>
        </p:blipFill>
        <p:spPr>
          <a:xfrm>
            <a:off x="611280" y="1197000"/>
            <a:ext cx="7848360" cy="533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961920" y="163836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让我们来说一说自己的家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8" descr="爸爸小时候"/>
          <p:cNvPicPr/>
          <p:nvPr/>
        </p:nvPicPr>
        <p:blipFill>
          <a:blip r:embed="rId2"/>
          <a:stretch/>
        </p:blipFill>
        <p:spPr>
          <a:xfrm>
            <a:off x="2895480" y="2286000"/>
            <a:ext cx="4648320" cy="37148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0" name="Picture 10" descr="a"/>
          <p:cNvPicPr/>
          <p:nvPr/>
        </p:nvPicPr>
        <p:blipFill>
          <a:blip r:embed="rId3"/>
          <a:stretch/>
        </p:blipFill>
        <p:spPr>
          <a:xfrm>
            <a:off x="7315200" y="6407280"/>
            <a:ext cx="299880" cy="298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c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5080" y="6407280"/>
            <a:ext cx="303120" cy="30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d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743960" y="6421320"/>
            <a:ext cx="30456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85800" y="380880"/>
            <a:ext cx="7772400" cy="579132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未标题-1 拷贝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3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画画自己的家</a:t>
            </a: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75880" y="2114640"/>
            <a:ext cx="7086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       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同学们，你们家的周围一定有好多好玩的地方？把你最喜欢去的地方画出来，然后给大家说一说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8" descr="33"/>
          <p:cNvPicPr/>
          <p:nvPr/>
        </p:nvPicPr>
        <p:blipFill>
          <a:blip r:embed="rId2"/>
          <a:stretch/>
        </p:blipFill>
        <p:spPr>
          <a:xfrm>
            <a:off x="5592600" y="4078440"/>
            <a:ext cx="2560680" cy="171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a"/>
          <p:cNvPicPr/>
          <p:nvPr/>
        </p:nvPicPr>
        <p:blipFill>
          <a:blip r:embed="rId3"/>
          <a:stretch/>
        </p:blipFill>
        <p:spPr>
          <a:xfrm>
            <a:off x="7315200" y="6407280"/>
            <a:ext cx="299880" cy="29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155080" y="6407280"/>
            <a:ext cx="303120" cy="301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d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743960" y="6421320"/>
            <a:ext cx="30456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PM_007 拷贝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3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33"/>
          <p:cNvPicPr/>
          <p:nvPr/>
        </p:nvPicPr>
        <p:blipFill>
          <a:blip r:embed="rId2"/>
          <a:stretch/>
        </p:blipFill>
        <p:spPr>
          <a:xfrm>
            <a:off x="6095880" y="4648320"/>
            <a:ext cx="1494000" cy="99828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809880" y="1523880"/>
            <a:ext cx="1339920" cy="360"/>
            <a:chOff x="3809880" y="1523880"/>
            <a:chExt cx="1339920" cy="360"/>
          </a:xfrm>
        </p:grpSpPr>
        <p:sp>
          <p:nvSpPr>
            <p:cNvPr id="164" name="Line 7"/>
            <p:cNvSpPr/>
            <p:nvPr/>
          </p:nvSpPr>
          <p:spPr>
            <a:xfrm>
              <a:off x="3809880" y="1523880"/>
              <a:ext cx="1339920" cy="0"/>
            </a:xfrm>
            <a:prstGeom prst="line">
              <a:avLst/>
            </a:prstGeom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809880" y="1523880"/>
              <a:ext cx="1339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81280" y="9936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我 的 家</a:t>
            </a:r>
            <a:endParaRPr b="1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7" name="Picture 9" descr="c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55080" y="6407280"/>
            <a:ext cx="303120" cy="301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d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743960" y="6421320"/>
            <a:ext cx="30456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685800" y="380880"/>
            <a:ext cx="7772400" cy="579132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未标题-1 拷贝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33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小华的家庭故事</a:t>
            </a: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75880" y="1981080"/>
            <a:ext cx="70866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            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让我们来看一看小华的一家人在一起的时候都做些什么呢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9" descr="一起打扫房间"/>
          <p:cNvPicPr/>
          <p:nvPr/>
        </p:nvPicPr>
        <p:blipFill>
          <a:blip r:embed="rId2"/>
          <a:stretch/>
        </p:blipFill>
        <p:spPr>
          <a:xfrm>
            <a:off x="1981080" y="3438360"/>
            <a:ext cx="1447920" cy="1125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4" name="Picture 10" descr="一起吃饭"/>
          <p:cNvPicPr/>
          <p:nvPr/>
        </p:nvPicPr>
        <p:blipFill>
          <a:blip r:embed="rId3"/>
          <a:stretch/>
        </p:blipFill>
        <p:spPr>
          <a:xfrm>
            <a:off x="5791320" y="3429000"/>
            <a:ext cx="1447560" cy="113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5" name="Picture 11" descr="一起游戏"/>
          <p:cNvPicPr/>
          <p:nvPr/>
        </p:nvPicPr>
        <p:blipFill>
          <a:blip r:embed="rId4"/>
          <a:stretch/>
        </p:blipFill>
        <p:spPr>
          <a:xfrm>
            <a:off x="3886200" y="3460680"/>
            <a:ext cx="1447920" cy="1103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6" name="Picture 12" descr="一起看文艺节目"/>
          <p:cNvPicPr/>
          <p:nvPr/>
        </p:nvPicPr>
        <p:blipFill>
          <a:blip r:embed="rId5"/>
          <a:stretch/>
        </p:blipFill>
        <p:spPr>
          <a:xfrm>
            <a:off x="1981080" y="4773600"/>
            <a:ext cx="1447920" cy="10936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7" name="Picture 13" descr="闹别扭"/>
          <p:cNvPicPr/>
          <p:nvPr/>
        </p:nvPicPr>
        <p:blipFill>
          <a:blip r:embed="rId6"/>
          <a:stretch/>
        </p:blipFill>
        <p:spPr>
          <a:xfrm>
            <a:off x="3886200" y="4776840"/>
            <a:ext cx="1447920" cy="1090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8" name="Picture 14" descr="妈妈生病"/>
          <p:cNvPicPr/>
          <p:nvPr/>
        </p:nvPicPr>
        <p:blipFill>
          <a:blip r:embed="rId7"/>
          <a:stretch/>
        </p:blipFill>
        <p:spPr>
          <a:xfrm>
            <a:off x="5791320" y="4780080"/>
            <a:ext cx="1447560" cy="1087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9" name="Picture 15" descr="a"/>
          <p:cNvPicPr/>
          <p:nvPr/>
        </p:nvPicPr>
        <p:blipFill>
          <a:blip r:embed="rId8"/>
          <a:stretch/>
        </p:blipFill>
        <p:spPr>
          <a:xfrm>
            <a:off x="7315200" y="6407280"/>
            <a:ext cx="299880" cy="298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c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155080" y="6407280"/>
            <a:ext cx="303120" cy="301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d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7743960" y="6421320"/>
            <a:ext cx="30456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2286000" y="152280"/>
            <a:ext cx="4572000" cy="60984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2070000" y="152280"/>
            <a:ext cx="4953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小华的家庭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2" descr="一起打扫房间"/>
          <p:cNvPicPr/>
          <p:nvPr/>
        </p:nvPicPr>
        <p:blipFill>
          <a:blip r:embed="rId1"/>
          <a:stretch/>
        </p:blipFill>
        <p:spPr>
          <a:xfrm>
            <a:off x="228600" y="939960"/>
            <a:ext cx="2743200" cy="20476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5" name="Picture 13" descr="一起吃饭"/>
          <p:cNvPicPr/>
          <p:nvPr/>
        </p:nvPicPr>
        <p:blipFill>
          <a:blip r:embed="rId2"/>
          <a:stretch/>
        </p:blipFill>
        <p:spPr>
          <a:xfrm>
            <a:off x="6172200" y="914400"/>
            <a:ext cx="2743200" cy="2057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6" name="Picture 14" descr="一起游戏"/>
          <p:cNvPicPr/>
          <p:nvPr/>
        </p:nvPicPr>
        <p:blipFill>
          <a:blip r:embed="rId3"/>
          <a:stretch/>
        </p:blipFill>
        <p:spPr>
          <a:xfrm>
            <a:off x="3198960" y="917640"/>
            <a:ext cx="2744640" cy="2090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7" name="Picture 15" descr="一起看文艺节目"/>
          <p:cNvPicPr/>
          <p:nvPr/>
        </p:nvPicPr>
        <p:blipFill>
          <a:blip r:embed="rId4"/>
          <a:stretch/>
        </p:blipFill>
        <p:spPr>
          <a:xfrm>
            <a:off x="228600" y="3689280"/>
            <a:ext cx="2744640" cy="2073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8" name="Picture 16" descr="闹别扭"/>
          <p:cNvPicPr/>
          <p:nvPr/>
        </p:nvPicPr>
        <p:blipFill>
          <a:blip r:embed="rId5"/>
          <a:stretch/>
        </p:blipFill>
        <p:spPr>
          <a:xfrm>
            <a:off x="3200400" y="3692520"/>
            <a:ext cx="2741760" cy="20653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9" name="Picture 17" descr="妈妈生病"/>
          <p:cNvPicPr/>
          <p:nvPr/>
        </p:nvPicPr>
        <p:blipFill>
          <a:blip r:embed="rId6"/>
          <a:stretch/>
        </p:blipFill>
        <p:spPr>
          <a:xfrm>
            <a:off x="6172200" y="3695760"/>
            <a:ext cx="2743200" cy="2060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90" name="Text Box 18"/>
          <p:cNvSpPr/>
          <p:nvPr/>
        </p:nvSpPr>
        <p:spPr>
          <a:xfrm>
            <a:off x="736560" y="3063960"/>
            <a:ext cx="172080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一起打扫房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733920" y="3095640"/>
            <a:ext cx="172080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一起游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6384960" y="3095640"/>
            <a:ext cx="233352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妈妈做的饭真好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96880" y="5875200"/>
            <a:ext cx="202572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一起看文艺节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575160" y="5875200"/>
            <a:ext cx="202572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有时闹点别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248520" y="5875200"/>
            <a:ext cx="266688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妈妈病了，全家都着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6" descr="c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612280" y="6407280"/>
            <a:ext cx="303120" cy="30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7" descr="d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201160" y="6421320"/>
            <a:ext cx="30456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685800" y="380880"/>
            <a:ext cx="7772400" cy="579132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我的家庭故事</a:t>
            </a:r>
            <a:endParaRPr b="1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00000" y="2492280"/>
            <a:ext cx="73152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请你说一说你的一家人在一起的时候都做些什么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5" descr="a"/>
          <p:cNvPicPr/>
          <p:nvPr/>
        </p:nvPicPr>
        <p:blipFill>
          <a:blip r:embed="rId1"/>
          <a:stretch/>
        </p:blipFill>
        <p:spPr>
          <a:xfrm>
            <a:off x="7315200" y="6407280"/>
            <a:ext cx="299880" cy="298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c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55080" y="6407280"/>
            <a:ext cx="303120" cy="301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7" descr="d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43960" y="6421320"/>
            <a:ext cx="304560" cy="30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03:37:28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1:18Z</dcterms:modified>
  <cp:revision>45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