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gif" ContentType="image/gif"/>
  <Override PartName="/ppt/media/image16.jpeg" ContentType="image/jpeg"/>
  <Override PartName="/ppt/media/image15.jpeg" ContentType="image/jpe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gif" ContentType="image/gif"/>
  <Override PartName="/ppt/media/image1.jpeg" ContentType="image/jpeg"/>
  <Override PartName="/ppt/media/image7.png" ContentType="image/png"/>
  <Override PartName="/ppt/media/image14.jpeg" ContentType="image/jpeg"/>
  <Override PartName="/ppt/media/image5.gif" ContentType="image/gif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F68-641D-4E9E-A615-DB0CCC3F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972-2268-4FA7-B6CC-544A6CA7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F86-2DF8-4A5A-9429-F099E247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B63-D757-4B5F-A06E-749DA1EB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DA5D-9B46-417A-8CD0-919E7531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10E5-EB3B-41BD-AD11-C65C4736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D0B1-F0BA-429D-AA54-D443DB3D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C56A-3784-4936-B031-ACA4A53B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9687-8B62-4520-B18C-62817EC00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2610-0C33-4BA9-B1FE-309AC206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96D8-2420-4EA7-A868-AF04A013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BA54-E34D-41C5-8850-83347216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7D2A-42A2-4318-AA40-42FED79E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AB09-BEF6-41B2-826A-E1C17F97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4218-72E6-4963-990D-24AA927A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A32C-9C64-4445-B9D1-8DEFC66B1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681E-90FB-4E13-AF37-F6359486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801-E529-466E-83DF-70C36ACAC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C52F-D98D-45E5-8DDD-BD206941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1936C-246A-4702-ABAA-79A6790E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893B9-E8B6-4CCC-A8F6-861EBAA0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627-92E8-43D5-BA13-679C679E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9C8AB-5FDD-4471-BCBD-2B8E0028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E176-A646-4CFA-BF95-1CD86726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8C68E-00B3-4373-9CA6-BA2E823C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101BD-00D1-4F48-82BD-52B75CDE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F27A-5719-472F-BA02-61322801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3960-A72B-452E-BCAF-DCD75BC7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755CF-7459-4A75-9889-0C2FD7E7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B4357-EDE0-4287-B44B-3DD8EAC0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754D0-750C-40A8-97E2-CF95FEEF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4B194-76E8-4671-B645-5110146E3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0481-1DB2-4475-9F53-E834B064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E21FB1-742E-4F03-88F7-3DACAFDE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A2A80-3302-4AC7-A86A-9CBA1076F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8F37C-C2FD-45D1-B4A9-E19AEC0C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C596A-C0F8-401B-A62E-D2F1DF43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17AF-F49F-41DA-B82D-D3A714AF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0340-C4D0-4F08-A5C6-0A73A4F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00EF5-9483-4B6D-9F22-5977A5AC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D6B41-3EE4-45E7-A1A1-E6F1E791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DE1C9-72DA-4181-BEEB-5F8286BD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4F75A-EB15-4C46-8919-35A4C58F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E3D3-59B7-4A74-9F57-0275A9A4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3149-5F82-42B4-A243-F250B7F7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3EC-7459-417D-A581-CE906473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A349-E43C-4D31-B702-D777D71E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45FE-99C5-4482-9394-F5B0895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B3BD-5CEB-47DD-AB23-1BE00EFF2B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D695-E004-4D93-B9C9-ED8B8A0F9DF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52720" y="260280"/>
            <a:ext cx="6635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3c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cf3ce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2052720" y="1341360"/>
            <a:ext cx="66340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f3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f3c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f3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cf3c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cf3c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 flipH="1" flipV="1">
            <a:off x="1980360" y="1268280"/>
            <a:ext cx="716292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52AF-C7E5-41DC-AF7A-D254717DC9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框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紙角"/>
          <p:cNvPicPr/>
          <p:nvPr/>
        </p:nvPicPr>
        <p:blipFill>
          <a:blip r:embed="rId4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C19D-7A2D-424D-8720-8C79EFECEE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4"/>
          <p:cNvSpPr/>
          <p:nvPr/>
        </p:nvSpPr>
        <p:spPr>
          <a:xfrm flipH="1" flipV="1">
            <a:off x="1980360" y="1268280"/>
            <a:ext cx="716292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 flipH="1" flipV="1">
            <a:off x="1980360" y="1409760"/>
            <a:ext cx="716292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052720" y="260280"/>
            <a:ext cx="663552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f3c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cf3c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052720" y="1341360"/>
            <a:ext cx="663408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f3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cf3c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cf3c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cf3c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cf3c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f3c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cf3c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1" descr=""/>
          <p:cNvPicPr/>
          <p:nvPr/>
        </p:nvPicPr>
        <p:blipFill>
          <a:blip r:embed="rId1"/>
          <a:stretch/>
        </p:blipFill>
        <p:spPr>
          <a:xfrm>
            <a:off x="1374840" y="2260440"/>
            <a:ext cx="6264360" cy="39052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5"/>
          <p:cNvSpPr/>
          <p:nvPr/>
        </p:nvSpPr>
        <p:spPr>
          <a:xfrm>
            <a:off x="2305080" y="692280"/>
            <a:ext cx="44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我爱我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6360" y="43920"/>
            <a:ext cx="9001440" cy="66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一个炎炎夏日，正读大学的我收到一个来自家里的包裹单。我急匆匆赶到邮局取邮包，未及打开那个小纸箱，一股浓浓馊味已扑面而来。屏着呼吸打开才发现里面装的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个煮熟的鸡蛋，经过千里迢迢的邮途，早已变质发臭。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　很快，母亲要领导代写的信飞至。原来，前些日子家乡正流行一种说法，说母亲买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个鸡蛋，煮熟了送给儿女吃，就能保儿女的平安。母亲在信中还一再嘱咐，让我一定要一口气吃掉了那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个熟鸡蛋……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　读信的那一刻，我心里暖融融的，仿佛母亲就站在面前，慈祥地看着我吃下了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个鸡蛋，放暑假回家，母亲问我鸡蛋是否坏了，我笑着说：“没有，我一口气都吃了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M (many)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给予了我很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O (old)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操心的白发爬满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T (tears)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我流过不少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H (heart)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颗慈祥温暖的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E (eyes)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目光中总充满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R (right)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导我们做正确的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1371600" y="4572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隶书"/>
              </a:rPr>
              <a:t>字母中蕴藏的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1154160" y="1803240"/>
            <a:ext cx="6781680" cy="37227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1763640" y="2565360"/>
            <a:ext cx="5697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  <a:ea typeface="华文中宋"/>
              </a:rPr>
              <a:t>感悟</a:t>
            </a: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楷体_GB2312"/>
              </a:rPr>
              <a:t>： </a:t>
            </a:r>
            <a:r>
              <a:rPr b="1" lang="zh-CN" sz="6000" spc="-1" strike="noStrike">
                <a:solidFill>
                  <a:srgbClr val="ff3399"/>
                </a:solidFill>
                <a:latin typeface="华文新魏"/>
                <a:ea typeface="华文新魏"/>
              </a:rPr>
              <a:t>母爱如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华文新魏"/>
                <a:ea typeface="华文新魏"/>
              </a:rPr>
              <a:t>      </a:t>
            </a:r>
            <a:r>
              <a:rPr b="1" lang="zh-CN" sz="6000" spc="-1" strike="noStrike">
                <a:solidFill>
                  <a:srgbClr val="ff3399"/>
                </a:solidFill>
                <a:latin typeface="华文新魏"/>
                <a:ea typeface="华文新魏"/>
              </a:rPr>
              <a:t>温柔细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8194"/>
          <p:cNvSpPr/>
          <p:nvPr/>
        </p:nvSpPr>
        <p:spPr>
          <a:xfrm>
            <a:off x="1630440" y="1468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108000" y="44280"/>
            <a:ext cx="8929800" cy="140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爱的故事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时候只有过年时，生产队才分给家里几条鱼，通常是留给客人吃的；客人走后，您也舍不得吃，而当我也不夹鱼吃的时候，您却大吼一声：“狗东西！怎么不吃鱼？有毒啊？”话音未落，您已经夹了几块鱼到我的碗里了，然后又是一声吼：“滚远点去吃！”我很珍惜这不易吃到的鱼块，一直将它们留到吃完最后一碗饭。我多想再次在您的呵斥声中吃到您夹给我的菜！哪怕是一根腌萝卜，我也会捧着碗幸福地“滚”到一个角落里，在您威严的目光中慢慢地品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108000" y="44280"/>
            <a:ext cx="8929800" cy="130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</a:rPr>
              <a:t>只有再生的儿女，没有再生的父母”随着两个孩子陆续上学，我们一家四口仅靠父亲每月三百元的工资支撑着，生活的艰难可想而知，尽管如此，父亲每天仍要喝酒，有一次，我偷听到父亲向母亲发脾气：“酒当然要喝，可孩子们的书仍然要念，不念书将来拿什么谋生”接着便是母亲那深深的叹息声，我当时恨透了父亲，终于有一天，我决定倒掉父亲的酒，让他喝不成。可我当我偷偷打开父亲的酒瓶时，却闻不到一点酒味，我用舌头舔了舔，才发现那酒瓶里装得居然是白开水！原来父亲背着母亲和我们一直以水代酒，一下子我的泪水像断了线的珍珠，父亲忠厚、刚毅和深沉无言的爱温暖了我的心，以后多少次每当我看到父亲津津有味的喝着白开水时，就忍不住偷偷流泪，发誓要刻苦学习，长大后要好好报答父亲</a:t>
            </a:r>
            <a:r>
              <a:rPr b="1" lang="zh-CN" sz="2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990720" y="1981080"/>
            <a:ext cx="6629400" cy="289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676520" y="2438280"/>
            <a:ext cx="5715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ff"/>
                </a:solidFill>
                <a:latin typeface="Arial"/>
              </a:rPr>
              <a:t>感悟</a:t>
            </a: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：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中宋"/>
              </a:rPr>
              <a:t>父爱如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中宋"/>
              </a:rPr>
              <a:t>           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  <a:ea typeface="华文中宋"/>
              </a:rPr>
              <a:t>深沉严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3570120" y="47628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二、无悔的奉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2124000" y="1486080"/>
            <a:ext cx="69120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组交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完成教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P8~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格，说说家人对家庭的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夸夸自己的父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2197080" y="3936960"/>
            <a:ext cx="691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在世上的许多爱中，至深、至纯的爱是母爱和父爱。这种爱是无私的爱、永恒的爱，是无微不至的爱、不求回报的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只要留心，我们随时可以感受到这份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179280" y="1125360"/>
            <a:ext cx="885672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秀怡的父母嫌她是个女孩儿，出生以后就将她寄养在外婆家，很少过问，也不负担抚养费。随着秀怡一天天长大，外婆家的生活越来越困难。秀怡长大懂事了，自己向父母要抚养费，可他们总是搪塞推诿。秀怡只好到法院起诉，法院只好判决其父母补偿外婆多年来的抚养费，并定期支付秀怡的抚养费（含教育费用），直到她有独立生活能力时为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108000" y="4581360"/>
            <a:ext cx="475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幼圆"/>
                <a:ea typeface="幼圆"/>
              </a:rPr>
              <a:t>1</a:t>
            </a:r>
            <a:r>
              <a:rPr b="1" lang="zh-CN" sz="2600" spc="-1" strike="noStrike">
                <a:solidFill>
                  <a:srgbClr val="0000ff"/>
                </a:solidFill>
                <a:latin typeface="幼圆"/>
                <a:ea typeface="幼圆"/>
              </a:rPr>
              <a:t>、你认为秀怡有家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4067280" y="4581360"/>
            <a:ext cx="478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幼圆"/>
                <a:ea typeface="幼圆"/>
              </a:rPr>
              <a:t>2</a:t>
            </a:r>
            <a:r>
              <a:rPr b="1" lang="zh-CN" sz="2600" spc="-1" strike="noStrike">
                <a:solidFill>
                  <a:srgbClr val="0000ff"/>
                </a:solidFill>
                <a:latin typeface="幼圆"/>
                <a:ea typeface="幼圆"/>
              </a:rPr>
              <a:t>、你认为秀怡的爸妈爱她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4920" y="5086440"/>
            <a:ext cx="8858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1" lang="zh-CN" sz="3000" spc="-1" strike="noStrike">
                <a:solidFill>
                  <a:srgbClr val="ff0066"/>
                </a:solidFill>
                <a:latin typeface="Arial"/>
                <a:ea typeface="隶书"/>
              </a:rPr>
              <a:t>爱是一种责任。不仅是道德的要求，也是法律的规定，不履行抚养义务要受到法律的制裁</a:t>
            </a:r>
            <a:r>
              <a:rPr b="1" lang="zh-CN" sz="3000" spc="-1" strike="noStrike">
                <a:solidFill>
                  <a:srgbClr val="ff0066"/>
                </a:solidFill>
                <a:latin typeface="Arial"/>
                <a:ea typeface="隶书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WordArt 6"/>
          <p:cNvSpPr txBox="1"/>
          <p:nvPr/>
        </p:nvSpPr>
        <p:spPr>
          <a:xfrm>
            <a:off x="1835280" y="117360"/>
            <a:ext cx="55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彩云"/>
              </a:rPr>
              <a:t>爱的义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6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255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"/>
          <p:cNvSpPr/>
          <p:nvPr/>
        </p:nvSpPr>
        <p:spPr>
          <a:xfrm>
            <a:off x="2627280" y="1341360"/>
            <a:ext cx="5905440" cy="24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《宪法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定： “父母有抚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教育未成年子女的义务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《中华人民共和国婚姻法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定：父母对子女的抚养教育是夫妻双方的义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《未成年人保护法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规定：父母或者其他监护人依法履行对未成年人的的抚养、监护的职责。不得虐待、遗弃未成年人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4"/>
          <p:cNvSpPr txBox="1"/>
          <p:nvPr/>
        </p:nvSpPr>
        <p:spPr>
          <a:xfrm>
            <a:off x="179280" y="0"/>
            <a:ext cx="2880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相关链接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3"/>
          <p:cNvPicPr/>
          <p:nvPr/>
        </p:nvPicPr>
        <p:blipFill>
          <a:blip r:embed="rId1"/>
          <a:stretch/>
        </p:blipFill>
        <p:spPr>
          <a:xfrm>
            <a:off x="5943600" y="5029200"/>
            <a:ext cx="2743200" cy="109368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3"/>
          <p:cNvSpPr/>
          <p:nvPr/>
        </p:nvSpPr>
        <p:spPr>
          <a:xfrm>
            <a:off x="611280" y="2276640"/>
            <a:ext cx="60688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　“家庭不单是身体的住所，也是心灵的寄托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WordArt 4"/>
          <p:cNvSpPr txBox="1"/>
          <p:nvPr/>
        </p:nvSpPr>
        <p:spPr>
          <a:xfrm>
            <a:off x="1143000" y="4038480"/>
            <a:ext cx="410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>
                      <a:alpha val="79000"/>
                    </a:srgbClr>
                  </a:outerShdw>
                </a:effectLst>
                <a:latin typeface="隶书"/>
              </a:rPr>
              <a:t>你是如何理解的？</a:t>
            </a:r>
            <a:endParaRPr b="0" lang="en-US" sz="1800" spc="1" strike="noStrike">
              <a:ln w="12600">
                <a:solidFill>
                  <a:srgbClr val="ffcc00"/>
                </a:solidFill>
                <a:round/>
              </a:ln>
              <a:solidFill>
                <a:srgbClr val="ff0000"/>
              </a:solidFill>
              <a:effectLst>
                <a:outerShdw dist="40186" dir="1096358" blurRad="0" rotWithShape="0">
                  <a:srgbClr val="80808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06" name="WordArt 5"/>
          <p:cNvSpPr txBox="1"/>
          <p:nvPr/>
        </p:nvSpPr>
        <p:spPr>
          <a:xfrm>
            <a:off x="1116000" y="1052640"/>
            <a:ext cx="554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彩云"/>
              </a:rPr>
              <a:t>爱的感悟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ransition spd="slow">
    <p:pull dir="ru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rose6"/>
          <p:cNvPicPr/>
          <p:nvPr/>
        </p:nvPicPr>
        <p:blipFill>
          <a:blip r:embed="rId1"/>
          <a:stretch/>
        </p:blipFill>
        <p:spPr>
          <a:xfrm>
            <a:off x="6156360" y="4653000"/>
            <a:ext cx="1609560" cy="14144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3"/>
          <p:cNvSpPr/>
          <p:nvPr/>
        </p:nvSpPr>
        <p:spPr>
          <a:xfrm>
            <a:off x="539640" y="1844640"/>
            <a:ext cx="61628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华文行楷"/>
              </a:rPr>
              <a:t>情感栖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华文行楷"/>
              </a:rPr>
              <a:t>经济来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华文行楷"/>
              </a:rPr>
              <a:t>身体保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华文行楷"/>
              </a:rPr>
              <a:t>娱乐天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华文行楷"/>
              </a:rPr>
              <a:t>天然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华文行楷"/>
              </a:rPr>
              <a:t>发展的大本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WordArt 4"/>
          <p:cNvSpPr txBox="1"/>
          <p:nvPr/>
        </p:nvSpPr>
        <p:spPr>
          <a:xfrm rot="6600000">
            <a:off x="3804120" y="2892960"/>
            <a:ext cx="3705480" cy="160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家给了我</a:t>
            </a:r>
            <a:r>
              <a:rPr b="0" lang="en-US" sz="1800" spc="-1" strike="noStrike">
                <a:ln w="0">
                  <a:noFill/>
                </a:ln>
                <a:solidFill>
                  <a:srgbClr val="cc0000"/>
                </a:solidFill>
                <a:latin typeface="宋体"/>
              </a:rPr>
              <a:t>......</a:t>
            </a:r>
            <a:endParaRPr b="0" lang="en-US" sz="1800" spc="-1" strike="noStrike">
              <a:ln w="0">
                <a:noFill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2565360" y="90792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、感受家庭的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rose6"/>
          <p:cNvPicPr/>
          <p:nvPr/>
        </p:nvPicPr>
        <p:blipFill>
          <a:blip r:embed="rId1"/>
          <a:stretch/>
        </p:blipFill>
        <p:spPr>
          <a:xfrm>
            <a:off x="6156360" y="4653000"/>
            <a:ext cx="1609560" cy="141444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3"/>
          <p:cNvSpPr/>
          <p:nvPr/>
        </p:nvSpPr>
        <p:spPr>
          <a:xfrm>
            <a:off x="466560" y="19177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爸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妈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的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的家，我的家，一个温暖幸福的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爸爸是青枝，妈妈是绿叶，我就是红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爸爸是高山，妈妈是流水，我就是浪花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爸爸是蓝天，妈妈是白云，我就是朝霞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爸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妈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的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祖国有数不清这样的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爱我的家，更爱我的国家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1125360" y="765000"/>
            <a:ext cx="169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我爱我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楷体"/>
                <a:ea typeface="楷体"/>
              </a:rPr>
              <a:t>费国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吴雨霏 - 我爱我家.mp3" descr="吴雨霏 - 我爱我家"/>
          <p:cNvPicPr/>
          <p:nvPr/>
        </p:nvPicPr>
        <p:blipFill>
          <a:blip r:embed="rId2"/>
          <a:stretch/>
        </p:blipFill>
        <p:spPr>
          <a:xfrm>
            <a:off x="759636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8" dur="181204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79280" y="1914480"/>
            <a:ext cx="878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陶女士带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的儿子来到辽宁省抚顺市的公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孩子由于好奇拿着一块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隔着铁笼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把手慢慢地伸进了黑熊嘴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当陶女士发现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把孩子的手拉回已经来不及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r029"/>
          <p:cNvPicPr/>
          <p:nvPr/>
        </p:nvPicPr>
        <p:blipFill>
          <a:blip r:embed="rId1"/>
          <a:stretch/>
        </p:blipFill>
        <p:spPr>
          <a:xfrm>
            <a:off x="7812000" y="5373720"/>
            <a:ext cx="1332000" cy="1484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1187280" y="6156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34920" y="5300640"/>
            <a:ext cx="8136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大家试想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后来陶女士做出了什么举动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三朵小花"/>
          <p:cNvPicPr/>
          <p:nvPr/>
        </p:nvPicPr>
        <p:blipFill>
          <a:blip r:embed="rId2"/>
          <a:stretch/>
        </p:blipFill>
        <p:spPr>
          <a:xfrm>
            <a:off x="324000" y="189000"/>
            <a:ext cx="2357280" cy="8539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2843280" y="476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111480" y="260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情景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3"/>
          <p:cNvSpPr/>
          <p:nvPr/>
        </p:nvSpPr>
        <p:spPr>
          <a:xfrm>
            <a:off x="5551560" y="2602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华文行楷"/>
                <a:ea typeface="华文行楷"/>
              </a:rPr>
              <a:t>爱的告白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1187280" y="1268280"/>
            <a:ext cx="678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爸爸、妈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　　我想对你们说：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32000" y="2924280"/>
            <a:ext cx="6481800" cy="360"/>
            <a:chOff x="1332000" y="2924280"/>
            <a:chExt cx="6481800" cy="360"/>
          </a:xfrm>
        </p:grpSpPr>
        <p:sp>
          <p:nvSpPr>
            <p:cNvPr id="319" name="Line 5"/>
            <p:cNvSpPr/>
            <p:nvPr/>
          </p:nvSpPr>
          <p:spPr>
            <a:xfrm>
              <a:off x="1332000" y="2924280"/>
              <a:ext cx="6481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1332000" y="2924280"/>
              <a:ext cx="648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332000" y="4149720"/>
            <a:ext cx="6481800" cy="360"/>
            <a:chOff x="1332000" y="4149720"/>
            <a:chExt cx="6481800" cy="360"/>
          </a:xfrm>
        </p:grpSpPr>
        <p:sp>
          <p:nvSpPr>
            <p:cNvPr id="322" name="Line 6"/>
            <p:cNvSpPr/>
            <p:nvPr/>
          </p:nvSpPr>
          <p:spPr>
            <a:xfrm>
              <a:off x="1332000" y="4149720"/>
              <a:ext cx="6481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1332000" y="4149720"/>
              <a:ext cx="648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1332000" y="3500280"/>
            <a:ext cx="6481800" cy="360"/>
            <a:chOff x="1332000" y="3500280"/>
            <a:chExt cx="6481800" cy="360"/>
          </a:xfrm>
        </p:grpSpPr>
        <p:sp>
          <p:nvSpPr>
            <p:cNvPr id="325" name="Line 7"/>
            <p:cNvSpPr/>
            <p:nvPr/>
          </p:nvSpPr>
          <p:spPr>
            <a:xfrm>
              <a:off x="1332000" y="3500280"/>
              <a:ext cx="64818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>
              <a:off x="1332000" y="3500280"/>
              <a:ext cx="6481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6156360" y="5445000"/>
            <a:ext cx="1800360" cy="360"/>
            <a:chOff x="6156360" y="5445000"/>
            <a:chExt cx="1800360" cy="360"/>
          </a:xfrm>
        </p:grpSpPr>
        <p:sp>
          <p:nvSpPr>
            <p:cNvPr id="328" name="Line 8"/>
            <p:cNvSpPr/>
            <p:nvPr/>
          </p:nvSpPr>
          <p:spPr>
            <a:xfrm>
              <a:off x="6156360" y="5445000"/>
              <a:ext cx="180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>
              <a:off x="6156360" y="5445000"/>
              <a:ext cx="180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5219640" y="4797360"/>
            <a:ext cx="2592360" cy="360"/>
            <a:chOff x="5219640" y="4797360"/>
            <a:chExt cx="2592360" cy="360"/>
          </a:xfrm>
        </p:grpSpPr>
        <p:sp>
          <p:nvSpPr>
            <p:cNvPr id="331" name="Line 9"/>
            <p:cNvSpPr/>
            <p:nvPr/>
          </p:nvSpPr>
          <p:spPr>
            <a:xfrm>
              <a:off x="5219640" y="4797360"/>
              <a:ext cx="2592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>
              <a:off x="5219640" y="4797360"/>
              <a:ext cx="259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28600" y="167652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画一画，画一幅《快乐一家人》。可根据自己家人的不同特点，用画笔把他们的这些特点描绘出来，组成一张全家福，所画的内容一定是关于家的主题，可以是家里的人物，也可以是家里发生的一件事。采用自由交流，小组推荐的形式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WordArt 3"/>
          <p:cNvSpPr txBox="1"/>
          <p:nvPr/>
        </p:nvSpPr>
        <p:spPr>
          <a:xfrm>
            <a:off x="914400" y="609480"/>
            <a:ext cx="4676760" cy="6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看，快乐一家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35" name="Picture 4" descr="E:\My Pictures\hljt007.jpg"/>
          <p:cNvPicPr/>
          <p:nvPr/>
        </p:nvPicPr>
        <p:blipFill>
          <a:blip r:embed="rId1"/>
          <a:stretch/>
        </p:blipFill>
        <p:spPr>
          <a:xfrm>
            <a:off x="5715000" y="1600200"/>
            <a:ext cx="2971800" cy="23875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E:\My Pictures\hljt016.jpg"/>
          <p:cNvPicPr/>
          <p:nvPr/>
        </p:nvPicPr>
        <p:blipFill>
          <a:blip r:embed="rId2"/>
          <a:stretch/>
        </p:blipFill>
        <p:spPr>
          <a:xfrm>
            <a:off x="5715000" y="4114800"/>
            <a:ext cx="304812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3ECF-C277-4832-B4FF-CB04D21D259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110160" y="1989000"/>
            <a:ext cx="78984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 爱 我 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"/>
          <p:cNvSpPr/>
          <p:nvPr/>
        </p:nvSpPr>
        <p:spPr>
          <a:xfrm>
            <a:off x="755640" y="1486080"/>
            <a:ext cx="360360" cy="3816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144720 h 3816000"/>
              <a:gd name="textAreaBottom" fmla="*/ 3671280 h 38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11"/>
                  <a:pt x="10800" y="2622"/>
                </a:cubicBezTo>
                <a:lnTo>
                  <a:pt x="10800" y="7866"/>
                </a:lnTo>
                <a:cubicBezTo>
                  <a:pt x="10800" y="9177"/>
                  <a:pt x="5400" y="10488"/>
                  <a:pt x="0" y="10488"/>
                </a:cubicBezTo>
                <a:cubicBezTo>
                  <a:pt x="5400" y="10488"/>
                  <a:pt x="10800" y="11799"/>
                  <a:pt x="10800" y="13110"/>
                </a:cubicBezTo>
                <a:lnTo>
                  <a:pt x="10800" y="18978"/>
                </a:lnTo>
                <a:cubicBezTo>
                  <a:pt x="10800" y="2028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258920" y="1197000"/>
            <a:ext cx="33130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人讲我小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900000" y="5157720"/>
            <a:ext cx="38880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庭对子女的重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1116000" y="3141720"/>
            <a:ext cx="28083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悔的奉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7"/>
          <p:cNvSpPr/>
          <p:nvPr/>
        </p:nvSpPr>
        <p:spPr>
          <a:xfrm>
            <a:off x="4716360" y="692280"/>
            <a:ext cx="144720" cy="172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4788000" y="4941720"/>
            <a:ext cx="144360" cy="115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9"/>
          <p:cNvSpPr/>
          <p:nvPr/>
        </p:nvSpPr>
        <p:spPr>
          <a:xfrm>
            <a:off x="4140360" y="2565360"/>
            <a:ext cx="144360" cy="1728720"/>
          </a:xfrm>
          <a:custGeom>
            <a:avLst/>
            <a:gdLst>
              <a:gd name="textAreaLeft" fmla="*/ 92160 w 144360"/>
              <a:gd name="textAreaRight" fmla="*/ 144360 w 14436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5076720" y="549360"/>
            <a:ext cx="338292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家庭是我们成长的摇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5076720" y="1341360"/>
            <a:ext cx="3600720" cy="459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父母是我们的第一任老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4932360" y="2060640"/>
            <a:ext cx="3924360" cy="459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</a:rPr>
              <a:t>我们尽享家庭的亲情和温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4356000" y="2637000"/>
            <a:ext cx="2954520" cy="459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父母对家庭的贡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4"/>
          <p:cNvSpPr/>
          <p:nvPr/>
        </p:nvSpPr>
        <p:spPr>
          <a:xfrm>
            <a:off x="4356000" y="3284640"/>
            <a:ext cx="2952720" cy="459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父母之爱深似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5"/>
          <p:cNvSpPr/>
          <p:nvPr/>
        </p:nvSpPr>
        <p:spPr>
          <a:xfrm>
            <a:off x="4286160" y="3932280"/>
            <a:ext cx="4533840" cy="459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父母对子女有道德和法律的义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6"/>
          <p:cNvSpPr/>
          <p:nvPr/>
        </p:nvSpPr>
        <p:spPr>
          <a:xfrm>
            <a:off x="4932360" y="4724280"/>
            <a:ext cx="3887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从各个方面感受家庭带给我们的温暖</a:t>
            </a: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7"/>
          <p:cNvSpPr/>
          <p:nvPr/>
        </p:nvSpPr>
        <p:spPr>
          <a:xfrm>
            <a:off x="5003640" y="5877000"/>
            <a:ext cx="3814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热爱自己的家，感激父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dur="indefinite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52360" y="2216880"/>
            <a:ext cx="8785440" cy="21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刹那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亲猛地把自己的双手伸进了黑熊的嘴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只手代替儿子的小手”喂”给黑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另一只手保护住儿子的小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拼命从黑熊嘴中往外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后在公园工作人员的共同努力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母子俩从熊口中脱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救之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陶女士昏过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r029"/>
          <p:cNvPicPr/>
          <p:nvPr/>
        </p:nvPicPr>
        <p:blipFill>
          <a:blip r:embed="rId1"/>
          <a:stretch/>
        </p:blipFill>
        <p:spPr>
          <a:xfrm>
            <a:off x="7812000" y="5373720"/>
            <a:ext cx="1332000" cy="14842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1187280" y="61563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08000" y="5373720"/>
            <a:ext cx="86043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大家再想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陶女士醒来后的第一句话是什么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三朵小花"/>
          <p:cNvPicPr/>
          <p:nvPr/>
        </p:nvPicPr>
        <p:blipFill>
          <a:blip r:embed="rId2"/>
          <a:stretch/>
        </p:blipFill>
        <p:spPr>
          <a:xfrm>
            <a:off x="324000" y="189000"/>
            <a:ext cx="2357280" cy="853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2843280" y="476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311148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情景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-33840" y="1267920"/>
            <a:ext cx="906948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醒来后第一句话就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孩子的手没事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"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医生介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不是妈妈拼命护住孩子的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恐怕孩子的手很难保住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3" descr="r029"/>
          <p:cNvPicPr/>
          <p:nvPr/>
        </p:nvPicPr>
        <p:blipFill>
          <a:blip r:embed="rId1"/>
          <a:stretch/>
        </p:blipFill>
        <p:spPr>
          <a:xfrm>
            <a:off x="7872480" y="5445000"/>
            <a:ext cx="1236600" cy="13687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25584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情景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三朵小花"/>
          <p:cNvPicPr/>
          <p:nvPr/>
        </p:nvPicPr>
        <p:blipFill>
          <a:blip r:embed="rId2"/>
          <a:stretch/>
        </p:blipFill>
        <p:spPr>
          <a:xfrm>
            <a:off x="324000" y="189000"/>
            <a:ext cx="2357280" cy="8539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179280" y="357336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因为伟大的母爱才让陶女士舍 ”手”救儿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08000" y="4292640"/>
            <a:ext cx="77770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每个人都有自己的家，从呱呱坠地开始，倍受家人的呵护，家是乐园，家是港湾，家是一个人成长的摇篮，浓浓的亲情不只在书本中，更萦绕在每一位同学身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539640" y="33336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WordArt 3"/>
          <p:cNvSpPr txBox="1"/>
          <p:nvPr/>
        </p:nvSpPr>
        <p:spPr>
          <a:xfrm>
            <a:off x="1981080" y="189000"/>
            <a:ext cx="5146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彩云"/>
              </a:rPr>
              <a:t>爱的记忆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52360" y="4797360"/>
            <a:ext cx="85676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回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说一说自己的童年趣事或者讲述一件发生在家里的难忘的事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1160" y="1844640"/>
            <a:ext cx="88581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闲暇时打开尘封已久的相册，一张张照片，都会将生活中的点滴瞬间留住，串成记忆的珍珠，泪水与快乐相伴。现在，让我们打开记忆之门，说说自己的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179280" y="981000"/>
            <a:ext cx="7775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家庭是我们成长的摇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父母是我们的第一任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黑体"/>
              </a:rPr>
              <a:t>我们尽享家庭的亲情和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08000" y="11736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大人讲我小时候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WordArt 2"/>
          <p:cNvSpPr txBox="1"/>
          <p:nvPr/>
        </p:nvSpPr>
        <p:spPr>
          <a:xfrm>
            <a:off x="1835280" y="981000"/>
            <a:ext cx="55432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华文彩云"/>
              </a:rPr>
              <a:t>爱的奉献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108000" y="44280"/>
            <a:ext cx="9001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两则真实的故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在贵州发生的缆车事件中，潘天琪、贺艳文夫妇同时举起两岁半的儿子潘子浩，结果夫妻双双遇难，而儿子却安然无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当年唐山大地震，人们在清理废墟时，发现一位母亲割破自己的血管用热血哺育怀抱中的婴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幼圆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179280" y="3718080"/>
            <a:ext cx="8713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80"/>
                </a:solidFill>
                <a:latin typeface="幼圆"/>
                <a:ea typeface="幼圆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幼圆"/>
                <a:ea typeface="幼圆"/>
              </a:rPr>
              <a:t>母爱的轰轰烈烈，是以不幸为代价的 。埋怨上苍的我们，为什么不感激上苍呢？我们拥有的母爱虽平平凡凡，但得以滋润我们的一生一世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幼圆"/>
                <a:ea typeface="幼圆"/>
              </a:rPr>
              <a:t>    </a:t>
            </a:r>
            <a:r>
              <a:rPr b="1" lang="zh-CN" sz="3000" spc="-1" strike="noStrike">
                <a:solidFill>
                  <a:srgbClr val="0000ff"/>
                </a:solidFill>
                <a:latin typeface="幼圆"/>
                <a:ea typeface="幼圆"/>
              </a:rPr>
              <a:t>母爱就像空气，让我们赖以生存，而我们却常常忘了它的存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爱的故事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ff9900"/>
                </a:solidFill>
                <a:latin typeface="Arial"/>
                <a:ea typeface="华文中宋"/>
              </a:rPr>
              <a:t>两件不能让母亲知道的真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1680" y="909720"/>
            <a:ext cx="91756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600" spc="-1" strike="noStrike">
                <a:solidFill>
                  <a:srgbClr val="333399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高三那年的一个周末，母亲第一次搭别人的车来到县城的一中，给我带来一盒营养液。母亲说：“听人家说，这东西补脑子，喝了它，准能考上大学。”我嘟囔着：“那么贵，又借钱了吧？”母亲一笑：“没有！是用手镯换的。”那只漂亮的银手镯是外祖母传给母亲的，是贫穷的母亲最贵重的东西了。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　母亲走后，我打开一小瓶营养液，慢慢地喝下了那浑浊的液体。没想到我当天晚上便被送进医院。原来母亲带来的那盒营养液是伪劣产品。回到学校，我把它全扔了。</a:t>
            </a:r>
            <a:br>
              <a:rPr sz="2800"/>
            </a:b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　　当我接到大学录取通知书时，母亲欣慰道：“那营养液还真不白喝呀，当初你爸还怕人家骗咱呢。”我使劲地点着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02:04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1:17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