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800A-CE8E-42F5-8AD1-7B74D6DD6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702A-C6BD-43D8-BDDD-6FBCA65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FAB1-1AED-4270-9DD2-2BCB282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668E-B8F0-43F2-9115-97CD1BBBF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5313-DDFD-4042-84C1-BBA4DCF52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8636A-740C-43E8-AF94-11091E0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F025B-78FD-4D87-83CF-3C493F3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F5EA9-A258-4AF9-9741-7F4428D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2210A-A377-4322-8FAF-670BB3BF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FAF17-965D-4A85-89D4-5B97A1D5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17E73-A120-4C2E-974F-3AF60B9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5CA4-8824-4474-B6FC-0349FE8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0402F-213A-45F2-BB1A-D98C369B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314CF-4D59-4EAE-961F-9F164690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4B374-308A-451D-95EB-13AF97D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1B46-1D7A-4EA1-B454-6769F32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2EEC6-DB0F-4F8E-8651-11A538910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C261-D36B-4EEA-84A2-A1BA7EF06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465C-BAEA-4339-A1BC-0F3EBB1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FD0C-1FD6-4ADC-9530-2746DDD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76B-EC31-41F6-8A80-5A7D42B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BE8-22D7-4670-8F88-E333D3F1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84DE-5DF5-43E6-9CE3-71CE163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D8C-BCC4-4977-A51C-FFABF3A4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9A6-5B0F-4A75-B809-F818173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844E-65DB-432D-AB80-096F5C15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3C96-12BA-45B1-8668-A2E110F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7B5-F252-4832-A15D-41BAB12B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B95-4031-4D79-83FD-CB263A6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C66-E71F-4F65-88EB-C06DD7FFC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5E1D-175A-40B3-9A1A-AFED8846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13CB-2C84-4DA9-A354-251A32D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9406-8F38-4245-A112-6349154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E2B7-9616-471F-93D0-48416604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51C3-1722-4560-8E7E-C07DB2E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87A8-92A5-40D8-A438-FF79F6AE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B805-800F-474D-B5AD-6FFA31D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DDB8-88DB-4268-AB7C-75247C1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3BB9-8B53-485E-9E61-03A25FB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FD09-AFD4-4861-925C-74FEC2C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6801-F009-4E43-871A-06A8C17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6D3E-31D8-4F3D-AC7B-DD4FCEA7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36D1-DF28-413F-8E20-B2F8CA68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330B-51CD-4B0C-9338-CEE325AD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2BAF-036C-469E-BA1B-86132105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42FB-CF58-49E9-88FB-B671478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DE5B-E856-4170-AE3E-C4DEBCF0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8616-CA5A-4630-92EC-186D9019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3B10-C360-4480-AF49-E9FA550E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3FBC-2E34-4F47-8029-83658CC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A6D33-A51E-4A96-95F7-ED9F8AD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6874F-ADF1-436D-B129-9D02E33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CF37-80F6-4F0B-A340-4DAED89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51A7D-5609-459E-8791-8B22585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B422-B6F7-4550-9587-9D54CB3C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AC85-34F5-4CA2-8CA1-6C596A16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6ACB-D2E9-4C67-AB9B-822CD802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8203C-8AD9-4EE0-B684-5DF4D1720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59EE4-0E19-4E3D-AB47-6174D72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AD209-FB39-4468-BE48-F89733F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935EB-B226-42AD-BF50-C946E86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7AF17-5E30-4113-A0B3-3A0B53A5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704E2-92F0-45F1-BD02-9D5D19C3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B52F6-C88F-4050-9CEF-235C1980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2C98C-BED4-43A8-B884-CE01FDE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37674-1985-408B-A750-2783043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70C9-7A2B-4E8B-B291-9000049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FEA8A-C8AB-4342-888C-A384844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6B69C-4A25-4633-B9A3-28E8D55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AF6D8-FB5C-4211-81FC-895709015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3B212-4843-4B61-B1BA-3B9EDC66D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21CF2-5CE6-4FAB-A863-D03255F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326B9-D25A-400D-8D62-233B1618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07A7B-5CCF-495B-8FCD-593AFB8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84B20-069A-4C00-BFCE-81B3A920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10F2C-31B0-481B-A507-840D742F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5280A-5B37-4870-84A1-2304AB2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4F0A-AFB9-47F6-8177-84A3FDA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46E6B-02DE-46CD-9FC7-E69D7E2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23F8A-89DB-4128-832D-B53BB9A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A99DA4-8101-428D-AD06-BD3F7A00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BB56D-B8A4-4CCB-B09C-85DC251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ECEF39-A89F-4610-80D2-A939DDA77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ED10-B875-4EC2-AA98-AAE4DCD8C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801C-C0DE-46F2-8138-75A935B2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6046-8D3F-46E3-A407-F5ED1F2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5E6D-69B9-4ED7-8851-1F4A462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D5D7-0B10-4310-B965-EBBADB25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25EC-CED2-4BF8-8D75-3EECCE7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1CFB-FDE8-4A06-9CE2-D3D8120B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766C-3218-4DD7-B0CF-3D0D0B78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EAED-2A72-4DAF-81AC-D0B54E0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59D0-CD43-45F1-9243-B9DC79A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77A6A-E61D-4BDF-91E3-13AD829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21331-DFAC-41FF-8088-1F28C50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5B17-89DD-4C02-A47C-B60693C2B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1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B61-8860-4BC7-80FA-FE0DACE5A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86A-BED5-4AF0-B0A1-7ED29CCC72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7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15"/>
              <p:cNvGrpSpPr/>
              <p:nvPr/>
            </p:nvGrpSpPr>
            <p:grpSpPr>
              <a:xfrm>
                <a:off x="853200" y="4054320"/>
                <a:ext cx="1833120" cy="1664640"/>
                <a:chOff x="853200" y="4054320"/>
                <a:chExt cx="1833120" cy="1664640"/>
              </a:xfrm>
            </p:grpSpPr>
            <p:sp>
              <p:nvSpPr>
                <p:cNvPr id="100" name="Freeform 16"/>
                <p:cNvSpPr/>
                <p:nvPr/>
              </p:nvSpPr>
              <p:spPr>
                <a:xfrm flipH="1" rot="7102800">
                  <a:off x="1265760" y="3942360"/>
                  <a:ext cx="4737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7"/>
                <p:cNvSpPr/>
                <p:nvPr/>
              </p:nvSpPr>
              <p:spPr>
                <a:xfrm flipH="1" rot="7102800">
                  <a:off x="2327040" y="49716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4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2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14E-59A7-44A0-A8D4-57623D20A9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C87-6012-4B7A-9D60-A2704F640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C8D-E11E-453D-8FFC-79C55D30B6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5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F59-F00B-4116-BF81-D0DCC3D44E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99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00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17"/>
            <p:cNvGrpSpPr/>
            <p:nvPr/>
          </p:nvGrpSpPr>
          <p:grpSpPr>
            <a:xfrm>
              <a:off x="4136040" y="1034640"/>
              <a:ext cx="1017000" cy="1263240"/>
              <a:chOff x="4136040" y="1034640"/>
              <a:chExt cx="1017000" cy="1263240"/>
            </a:xfrm>
          </p:grpSpPr>
          <p:sp>
            <p:nvSpPr>
              <p:cNvPr id="314" name="Freeform 18"/>
              <p:cNvSpPr/>
              <p:nvPr/>
            </p:nvSpPr>
            <p:spPr>
              <a:xfrm rot="3220200">
                <a:off x="4551840" y="107244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 rot="3220200">
                <a:off x="4636440" y="160560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 rot="3220200">
                <a:off x="4096440" y="19641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1"/>
            <p:cNvGrpSpPr/>
            <p:nvPr/>
          </p:nvGrpSpPr>
          <p:grpSpPr>
            <a:xfrm>
              <a:off x="5640480" y="293040"/>
              <a:ext cx="888840" cy="833760"/>
              <a:chOff x="5640480" y="293040"/>
              <a:chExt cx="888840" cy="833760"/>
            </a:xfrm>
          </p:grpSpPr>
          <p:sp>
            <p:nvSpPr>
              <p:cNvPr id="318" name="Freeform 22"/>
              <p:cNvSpPr/>
              <p:nvPr/>
            </p:nvSpPr>
            <p:spPr>
              <a:xfrm rot="14908200">
                <a:off x="5751720" y="7966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 rot="14908200">
                <a:off x="5700600" y="4762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 rot="14908200">
                <a:off x="6239520" y="39348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22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9"/>
            <p:cNvGrpSpPr/>
            <p:nvPr/>
          </p:nvGrpSpPr>
          <p:grpSpPr>
            <a:xfrm>
              <a:off x="354600" y="428400"/>
              <a:ext cx="1693080" cy="1148040"/>
              <a:chOff x="354600" y="428400"/>
              <a:chExt cx="1693080" cy="1148040"/>
            </a:xfrm>
          </p:grpSpPr>
          <p:sp>
            <p:nvSpPr>
              <p:cNvPr id="326" name="Freeform 30"/>
              <p:cNvSpPr/>
              <p:nvPr/>
            </p:nvSpPr>
            <p:spPr>
              <a:xfrm flipH="1" rot="4107000">
                <a:off x="1557000" y="10479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 flipH="1" rot="4107000">
                <a:off x="1002960" y="57204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 flipH="1" rot="4107000">
                <a:off x="257040" y="108648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3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C687-588F-4457-A394-FA0512A3AE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816-A0F2-4AA9-8CAB-BC716E4E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7"/>
          <p:cNvSpPr/>
          <p:nvPr/>
        </p:nvSpPr>
        <p:spPr>
          <a:xfrm>
            <a:off x="1422360" y="7588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风雨欲来城欲摧"/>
          <p:cNvPicPr/>
          <p:nvPr/>
        </p:nvPicPr>
        <p:blipFill>
          <a:blip r:embed="rId1"/>
          <a:srcRect l="844" t="0" r="4170" b="3397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426" name="WordArt 7"/>
          <p:cNvSpPr txBox="1"/>
          <p:nvPr/>
        </p:nvSpPr>
        <p:spPr>
          <a:xfrm>
            <a:off x="1752480" y="1295280"/>
            <a:ext cx="59436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喂—出来课件</a:t>
            </a:r>
            <a:r>
              <a:rPr b="0" lang="en-US" sz="40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模板打包下载</a:t>
            </a:r>
            <a:endParaRPr b="0" lang="en-US" sz="4000" spc="-1" strike="noStrike">
              <a:ln w="0">
                <a:noFill/>
              </a:ln>
              <a:solidFill>
                <a:srgbClr val="c00000"/>
              </a:solidFill>
              <a:latin typeface="宋体"/>
              <a:ea typeface="宋体"/>
            </a:endParaRPr>
          </a:p>
        </p:txBody>
      </p:sp>
      <p:sp>
        <p:nvSpPr>
          <p:cNvPr id="4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66"/>
                </a:solidFill>
                <a:latin typeface="Arial Black"/>
                <a:ea typeface="隶书"/>
              </a:rPr>
              <a:t>延伸探究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464" name="Picture 4" descr="j0299125"/>
          <p:cNvPicPr/>
          <p:nvPr/>
        </p:nvPicPr>
        <p:blipFill>
          <a:blip r:embed="rId1"/>
          <a:stretch/>
        </p:blipFill>
        <p:spPr>
          <a:xfrm>
            <a:off x="880920" y="22096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j0199283"/>
          <p:cNvPicPr/>
          <p:nvPr/>
        </p:nvPicPr>
        <p:blipFill>
          <a:blip r:embed="rId2"/>
          <a:stretch/>
        </p:blipFill>
        <p:spPr>
          <a:xfrm>
            <a:off x="6540480" y="413712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7"/>
          <p:cNvSpPr/>
          <p:nvPr/>
        </p:nvSpPr>
        <p:spPr>
          <a:xfrm>
            <a:off x="2746800" y="4495680"/>
            <a:ext cx="27770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d5c05"/>
                </a:solidFill>
                <a:latin typeface="Arial"/>
                <a:ea typeface="华文琥珀"/>
              </a:rPr>
              <a:t>阅读</a:t>
            </a:r>
            <a:r>
              <a:rPr b="0" lang="en-US" sz="4000" spc="-1" strike="noStrike">
                <a:solidFill>
                  <a:srgbClr val="9d5c05"/>
                </a:solidFill>
                <a:latin typeface="Arial"/>
                <a:ea typeface="华文琥珀"/>
              </a:rPr>
              <a:t>《</a:t>
            </a:r>
            <a:r>
              <a:rPr b="0" lang="zh-CN" sz="4000" spc="-1" strike="noStrike">
                <a:solidFill>
                  <a:srgbClr val="9d5c05"/>
                </a:solidFill>
                <a:latin typeface="Arial"/>
                <a:ea typeface="华文琥珀"/>
              </a:rPr>
              <a:t>香味接受机</a:t>
            </a:r>
            <a:r>
              <a:rPr b="0" lang="en-US" sz="4000" spc="-1" strike="noStrike">
                <a:solidFill>
                  <a:srgbClr val="9d5c05"/>
                </a:solidFill>
                <a:latin typeface="Arial"/>
                <a:ea typeface="华文琥珀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3515760" y="23893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4a05"/>
                </a:solidFill>
                <a:latin typeface="Arial"/>
                <a:ea typeface="华文琥珀"/>
              </a:rPr>
              <a:t>写作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2514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经典空叠圆简"/>
              </a:rPr>
              <a:t>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2285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d4a05"/>
                </a:solidFill>
                <a:latin typeface="Arial"/>
                <a:ea typeface="经典中圆简"/>
              </a:rPr>
              <a:t>课件制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d4a05"/>
                </a:solidFill>
                <a:latin typeface="Arial"/>
                <a:ea typeface="经典中圆简"/>
              </a:rPr>
              <a:t>《</a:t>
            </a:r>
            <a:r>
              <a:rPr b="1" lang="zh-CN" sz="4800" spc="-1" strike="noStrike">
                <a:solidFill>
                  <a:srgbClr val="9d4a05"/>
                </a:solidFill>
                <a:latin typeface="Arial"/>
                <a:ea typeface="经典中圆简"/>
              </a:rPr>
              <a:t>当代中国科学领域的发展与成就</a:t>
            </a:r>
            <a:r>
              <a:rPr b="1" lang="en-US" sz="4800" spc="-1" strike="noStrike">
                <a:solidFill>
                  <a:srgbClr val="9d4a05"/>
                </a:solidFill>
                <a:latin typeface="Arial"/>
                <a:ea typeface="经典中圆简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8197"/>
          <p:cNvSpPr/>
          <p:nvPr/>
        </p:nvSpPr>
        <p:spPr>
          <a:xfrm>
            <a:off x="1143000" y="4876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WordArt 5"/>
          <p:cNvSpPr txBox="1"/>
          <p:nvPr/>
        </p:nvSpPr>
        <p:spPr>
          <a:xfrm>
            <a:off x="1219320" y="1447920"/>
            <a:ext cx="6553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下课啦！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5F50-05B2-446F-9CE0-688DA3ABBD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1371600" y="990720"/>
            <a:ext cx="403848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经典空叠圆简"/>
              </a:rPr>
              <a:t>写作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j0195384"/>
          <p:cNvPicPr/>
          <p:nvPr/>
        </p:nvPicPr>
        <p:blipFill>
          <a:blip r:embed="rId1"/>
          <a:stretch/>
        </p:blipFill>
        <p:spPr>
          <a:xfrm>
            <a:off x="6705720" y="41911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403884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经典空叠圆简"/>
              </a:rPr>
              <a:t>写作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605960" y="2362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题目：盒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127160" y="312408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要求：发挥想象，想一想一个“怎样的”盒子？从哪里来？有什么作用？它的出现会给人们带来什么影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2590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767ff"/>
                </a:solidFill>
                <a:latin typeface="Arial"/>
                <a:ea typeface="经典综艺体简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>
            <a:hlinkClick r:id="" action="ppaction://hlinkshowjump?jump=nextslide"/>
          </p:cNvPr>
          <p:cNvSpPr/>
          <p:nvPr/>
        </p:nvSpPr>
        <p:spPr>
          <a:xfrm>
            <a:off x="5867280" y="1776240"/>
            <a:ext cx="2438640" cy="662040"/>
          </a:xfrm>
          <a:custGeom>
            <a:avLst/>
            <a:gdLst>
              <a:gd name="textAreaLeft" fmla="*/ 42840 w 2438640"/>
              <a:gd name="textAreaRight" fmla="*/ 2395800 w 243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79533" h="21600">
                <a:moveTo>
                  <a:pt x="0" y="0"/>
                </a:moveTo>
                <a:lnTo>
                  <a:pt x="79533" y="0"/>
                </a:lnTo>
                <a:lnTo>
                  <a:pt x="79533" y="21600"/>
                </a:lnTo>
                <a:lnTo>
                  <a:pt x="0" y="21600"/>
                </a:lnTo>
                <a:close/>
              </a:path>
              <a:path fill="lightenLess" w="79533" h="21600">
                <a:moveTo>
                  <a:pt x="0" y="0"/>
                </a:moveTo>
                <a:lnTo>
                  <a:pt x="79533" y="0"/>
                </a:lnTo>
                <a:lnTo>
                  <a:pt x="78133" y="1400"/>
                </a:lnTo>
                <a:lnTo>
                  <a:pt x="1400" y="1400"/>
                </a:lnTo>
                <a:close/>
              </a:path>
              <a:path fill="darken" w="79533" h="21600">
                <a:moveTo>
                  <a:pt x="79533" y="0"/>
                </a:moveTo>
                <a:lnTo>
                  <a:pt x="79533" y="21600"/>
                </a:lnTo>
                <a:lnTo>
                  <a:pt x="78133" y="20200"/>
                </a:lnTo>
                <a:lnTo>
                  <a:pt x="78133" y="1400"/>
                </a:lnTo>
                <a:close/>
              </a:path>
              <a:path fill="darkenLess" w="79533" h="21600">
                <a:moveTo>
                  <a:pt x="79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33" y="20200"/>
                </a:lnTo>
                <a:close/>
              </a:path>
              <a:path fill="lighten" w="79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细隶书简"/>
              </a:rPr>
              <a:t>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/>
          <p:cNvSpPr/>
          <p:nvPr/>
        </p:nvSpPr>
        <p:spPr>
          <a:xfrm>
            <a:off x="5867280" y="2766960"/>
            <a:ext cx="2438640" cy="662040"/>
          </a:xfrm>
          <a:custGeom>
            <a:avLst/>
            <a:gdLst>
              <a:gd name="textAreaLeft" fmla="*/ 42840 w 2438640"/>
              <a:gd name="textAreaRight" fmla="*/ 2395800 w 243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79533" h="21600">
                <a:moveTo>
                  <a:pt x="0" y="0"/>
                </a:moveTo>
                <a:lnTo>
                  <a:pt x="79533" y="0"/>
                </a:lnTo>
                <a:lnTo>
                  <a:pt x="79533" y="21600"/>
                </a:lnTo>
                <a:lnTo>
                  <a:pt x="0" y="21600"/>
                </a:lnTo>
                <a:close/>
              </a:path>
              <a:path fill="lightenLess" w="79533" h="21600">
                <a:moveTo>
                  <a:pt x="0" y="0"/>
                </a:moveTo>
                <a:lnTo>
                  <a:pt x="79533" y="0"/>
                </a:lnTo>
                <a:lnTo>
                  <a:pt x="78133" y="1400"/>
                </a:lnTo>
                <a:lnTo>
                  <a:pt x="1400" y="1400"/>
                </a:lnTo>
                <a:close/>
              </a:path>
              <a:path fill="darken" w="79533" h="21600">
                <a:moveTo>
                  <a:pt x="79533" y="0"/>
                </a:moveTo>
                <a:lnTo>
                  <a:pt x="79533" y="21600"/>
                </a:lnTo>
                <a:lnTo>
                  <a:pt x="78133" y="20200"/>
                </a:lnTo>
                <a:lnTo>
                  <a:pt x="78133" y="1400"/>
                </a:lnTo>
                <a:close/>
              </a:path>
              <a:path fill="darkenLess" w="79533" h="21600">
                <a:moveTo>
                  <a:pt x="79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33" y="20200"/>
                </a:lnTo>
                <a:close/>
              </a:path>
              <a:path fill="lighten" w="79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细隶书简"/>
              </a:rPr>
              <a:t>知识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"/>
          <p:cNvSpPr/>
          <p:nvPr/>
        </p:nvSpPr>
        <p:spPr>
          <a:xfrm>
            <a:off x="5867280" y="3757680"/>
            <a:ext cx="2438640" cy="662040"/>
          </a:xfrm>
          <a:custGeom>
            <a:avLst/>
            <a:gdLst>
              <a:gd name="textAreaLeft" fmla="*/ 42840 w 2438640"/>
              <a:gd name="textAreaRight" fmla="*/ 2395800 w 243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79533" h="21600">
                <a:moveTo>
                  <a:pt x="0" y="0"/>
                </a:moveTo>
                <a:lnTo>
                  <a:pt x="79533" y="0"/>
                </a:lnTo>
                <a:lnTo>
                  <a:pt x="79533" y="21600"/>
                </a:lnTo>
                <a:lnTo>
                  <a:pt x="0" y="21600"/>
                </a:lnTo>
                <a:close/>
              </a:path>
              <a:path fill="lightenLess" w="79533" h="21600">
                <a:moveTo>
                  <a:pt x="0" y="0"/>
                </a:moveTo>
                <a:lnTo>
                  <a:pt x="79533" y="0"/>
                </a:lnTo>
                <a:lnTo>
                  <a:pt x="78133" y="1400"/>
                </a:lnTo>
                <a:lnTo>
                  <a:pt x="1400" y="1400"/>
                </a:lnTo>
                <a:close/>
              </a:path>
              <a:path fill="darken" w="79533" h="21600">
                <a:moveTo>
                  <a:pt x="79533" y="0"/>
                </a:moveTo>
                <a:lnTo>
                  <a:pt x="79533" y="21600"/>
                </a:lnTo>
                <a:lnTo>
                  <a:pt x="78133" y="20200"/>
                </a:lnTo>
                <a:lnTo>
                  <a:pt x="78133" y="1400"/>
                </a:lnTo>
                <a:close/>
              </a:path>
              <a:path fill="darkenLess" w="79533" h="21600">
                <a:moveTo>
                  <a:pt x="79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33" y="20200"/>
                </a:lnTo>
                <a:close/>
              </a:path>
              <a:path fill="lighten" w="79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细隶书简"/>
              </a:rPr>
              <a:t>问题研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4"/>
          <p:cNvSpPr/>
          <p:nvPr/>
        </p:nvSpPr>
        <p:spPr>
          <a:xfrm>
            <a:off x="5867280" y="4748040"/>
            <a:ext cx="2438640" cy="662040"/>
          </a:xfrm>
          <a:custGeom>
            <a:avLst/>
            <a:gdLst>
              <a:gd name="textAreaLeft" fmla="*/ 42840 w 2438640"/>
              <a:gd name="textAreaRight" fmla="*/ 2395800 w 243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79533" h="21600">
                <a:moveTo>
                  <a:pt x="0" y="0"/>
                </a:moveTo>
                <a:lnTo>
                  <a:pt x="79533" y="0"/>
                </a:lnTo>
                <a:lnTo>
                  <a:pt x="79533" y="21600"/>
                </a:lnTo>
                <a:lnTo>
                  <a:pt x="0" y="21600"/>
                </a:lnTo>
                <a:close/>
              </a:path>
              <a:path fill="lightenLess" w="79533" h="21600">
                <a:moveTo>
                  <a:pt x="0" y="0"/>
                </a:moveTo>
                <a:lnTo>
                  <a:pt x="79533" y="0"/>
                </a:lnTo>
                <a:lnTo>
                  <a:pt x="78133" y="1400"/>
                </a:lnTo>
                <a:lnTo>
                  <a:pt x="1400" y="1400"/>
                </a:lnTo>
                <a:close/>
              </a:path>
              <a:path fill="darken" w="79533" h="21600">
                <a:moveTo>
                  <a:pt x="79533" y="0"/>
                </a:moveTo>
                <a:lnTo>
                  <a:pt x="79533" y="21600"/>
                </a:lnTo>
                <a:lnTo>
                  <a:pt x="78133" y="20200"/>
                </a:lnTo>
                <a:lnTo>
                  <a:pt x="78133" y="1400"/>
                </a:lnTo>
                <a:close/>
              </a:path>
              <a:path fill="darkenLess" w="79533" h="21600">
                <a:moveTo>
                  <a:pt x="79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33" y="20200"/>
                </a:lnTo>
                <a:close/>
              </a:path>
              <a:path fill="lighten" w="79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细隶书简"/>
              </a:rPr>
              <a:t>延伸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345320" y="179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2b08"/>
                </a:solidFill>
                <a:latin typeface="Arial"/>
                <a:ea typeface="楷体_GB2312"/>
              </a:rPr>
              <a:t>了解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1622160" y="2787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2b08"/>
                </a:solidFill>
                <a:latin typeface="Arial"/>
                <a:ea typeface="楷体_GB2312"/>
              </a:rPr>
              <a:t>科幻知识知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1698120" y="3778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2b08"/>
                </a:solidFill>
                <a:latin typeface="Arial"/>
                <a:ea typeface="楷体_GB2312"/>
              </a:rPr>
              <a:t>课文内容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1671120" y="4768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2b08"/>
                </a:solidFill>
                <a:latin typeface="Arial"/>
                <a:ea typeface="楷体_GB2312"/>
              </a:rPr>
              <a:t>写作技能与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95280" y="426600"/>
            <a:ext cx="2286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  <a:ea typeface="经典中圆简"/>
              </a:rPr>
              <a:t>星新一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堪称日本科幻界的一个奇才。以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多篇精巧别致、富于哲思的超短篇小说享誉世界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被尊为“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日本微型小说的鼻祖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星新一生于东京的一个科学世家。第二次世界大战结束那年，他进入东京大学攻读农业化学，毕业后在该大学的研究生院研究微生物学。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1956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年为逃避生意上的失意加入飞碟研究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1957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年，星新一和柴野拓美一起创办了日本最早的科幻小说同仁杂志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宇宙尘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，为日本科幻文学的发展做出了巨大贡献。这个刊物哺育出很多专业科幻作家。同年，他发表处女作，受到江户川乱步等人的赏识，继而佳作迭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星新一的作品庞杂，除科幻小说外，还写有大量推理小说、幽默小说、散文和随笔。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1976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年他荣获日本推理小说家协会大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在科幻方面，代表作有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恶魔天国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短篇集）、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人造美人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短篇集）、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声网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长篇）和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梦魔的标靶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长篇）。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4082400" y="888840"/>
            <a:ext cx="23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a2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a2"/>
                </a:solidFill>
                <a:latin typeface="Arial"/>
              </a:rPr>
              <a:t>1926——1997</a:t>
            </a:r>
            <a:r>
              <a:rPr b="1" lang="zh-CN" sz="2000" spc="-1" strike="noStrike">
                <a:solidFill>
                  <a:srgbClr val="0000a2"/>
                </a:solidFill>
                <a:latin typeface="Arial"/>
                <a:ea typeface="宋体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295280" y="45684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坎坷多艰的经历使星新一具备了一种对弱肉强食、尔虞我诈的资本主义社会的敏锐的洞察力，写出了许多异彩纷呈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各个角度反映社会现实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微型小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星新一擅长于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白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手法对作品主人公作浮雕式的刻画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让人物在对话和行动中自然而然地展示其性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他的微型小说之所以能给人以面目一新的感觉，不仅在于语言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简洁洗炼，详略得当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而且跟他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把有分量的“秤砣”压在作品结尾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分不开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星新一有不少微型小说酷似童话，写得生动活泼，趣味盎然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富有教育意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他的作品中绝无雕琢堆砌之辞，绮丽华美之章，连日本中小学生都能毫不费力地看懂。这种质朴文风地形成，正是作家殚思竭虑，苦心经营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j0292020"/>
          <p:cNvPicPr/>
          <p:nvPr/>
        </p:nvPicPr>
        <p:blipFill>
          <a:blip r:embed="rId1"/>
          <a:stretch/>
        </p:blipFill>
        <p:spPr>
          <a:xfrm>
            <a:off x="228600" y="4952880"/>
            <a:ext cx="1523880" cy="14464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7"/>
          <p:cNvSpPr/>
          <p:nvPr/>
        </p:nvSpPr>
        <p:spPr>
          <a:xfrm>
            <a:off x="613440" y="234324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经典中圆简"/>
              </a:rPr>
              <a:t>星新一的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50640"/>
            <a:ext cx="3429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科幻小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328040" y="19051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科幻小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2628000" y="365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部科幻小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303920" y="457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科幻小说之父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1519920" y="5562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知道哪些科幻小说作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159080" y="19810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用幻想的形式，表现人类在未来世界的物质精神文化生活和科学技术远景，其内容交织着科学事实和预见、想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5771520" y="373392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玛丽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雪莱的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弗兰肯斯坦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4343400" y="4648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法国作家凡尔纳（代表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海底两万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6193440" y="5638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高士其（中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4" descr="j0149481"/>
          <p:cNvPicPr/>
          <p:nvPr/>
        </p:nvPicPr>
        <p:blipFill>
          <a:blip r:embed="rId1"/>
          <a:stretch/>
        </p:blipFill>
        <p:spPr>
          <a:xfrm>
            <a:off x="7267680" y="76320"/>
            <a:ext cx="1724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Verdana"/>
                <a:ea typeface="经典圆体简"/>
              </a:rPr>
              <a:t>问题探究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457200" y="18288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、在现实生活中，人们是怎样处理垃圾和废气、废水、废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457200" y="45878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、从作者的幻想中，我们可以得到哪些启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457200" y="35053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经典隶变简"/>
                <a:ea typeface="经典隶变简"/>
              </a:rPr>
              <a:t>、人们为什么要这样处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197"/>
          <p:cNvSpPr/>
          <p:nvPr/>
        </p:nvSpPr>
        <p:spPr>
          <a:xfrm>
            <a:off x="2209680" y="6095880"/>
            <a:ext cx="5827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99ff"/>
                </a:solidFill>
                <a:uFillTx/>
                <a:latin typeface="Verdana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6840" y="21333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这篇科幻小说以环境污染为题材，题目是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喂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出来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，原是一个年轻人的喊叫，但是回声终究传出来了，原先仍进去的东西，也开始出来了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可以感知，作者的意思是说，不顾环境污染，漠视环境污染，苟且偷安，终究要自食其果。破坏大自然，必遭到大自然的报复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9320" y="514080"/>
            <a:ext cx="5805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Verdana"/>
                <a:ea typeface="经典综艺体简"/>
              </a:rPr>
              <a:t>主题：环境保护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457200" y="762120"/>
            <a:ext cx="83818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垃圾送上月球■跑一趟起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美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不少人为如何处理家里那些没有用、但也舍不得扔的废弃物而头痛。近日，美国内华达州一家公司专门为这批人推出了一项服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送废弃物上月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家公司名叫环城发展公司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他们将在著名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B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举行全球互联网上大竞价，寻找他们的首个客户，公司总经理乔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米兹表示，他已经把拍卖的起价定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美元。据公司介绍，他们已经定做了一个用特殊材料制作的箱子，这个箱子既不怕潮也不怕火，还能够抵抗撞击和爆炸，可以说是绝对的“超级保险箱”。拍卖的最终赢家可以把他不想保留的废弃物装在里面，然后由公司把它送到遥远的月球上去。                  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米兹承诺，公司将从俄罗斯订购投送垃圾用的航天器，准备工作要花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83808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  星期四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湘都市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“善待地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是世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“地球日”，主题即为“</a:t>
            </a:r>
            <a:r>
              <a:rPr b="1" lang="zh-CN" sz="2800" spc="-1" strike="noStrike">
                <a:solidFill>
                  <a:srgbClr val="c07906"/>
                </a:solidFill>
                <a:latin typeface="Times New Roman"/>
                <a:ea typeface="宋体"/>
              </a:rPr>
              <a:t>善待地球</a:t>
            </a:r>
            <a:r>
              <a:rPr b="1" lang="en-US" sz="2800" spc="-1" strike="noStrike">
                <a:solidFill>
                  <a:srgbClr val="c07906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c07906"/>
                </a:solidFill>
                <a:latin typeface="Times New Roman"/>
                <a:ea typeface="宋体"/>
              </a:rPr>
              <a:t>科学发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美国民众参加了“二战”以来美国规模最大的社会活动，呼吁创造一个清洁、简单、和平的生活环境。翌年起，这一纪念日被称为“地球日”。地球孕育了生命，也孕育了人类，是全人类乃至现有地球上所有生命共有的“家”。但地球日趋严重的生态危机，已成为了人类自身的生存危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新华社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j0196374"/>
          <p:cNvPicPr/>
          <p:nvPr/>
        </p:nvPicPr>
        <p:blipFill>
          <a:blip r:embed="rId1"/>
          <a:stretch/>
        </p:blipFill>
        <p:spPr>
          <a:xfrm>
            <a:off x="7086600" y="487692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0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7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