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7.jpeg" ContentType="image/jpeg"/>
  <Override PartName="/ppt/media/camera.wav" ContentType="audio/x-wav"/>
  <Override PartName="/ppt/media/image6.png" ContentType="image/png"/>
  <Override PartName="/ppt/media/explode.wav" ContentType="audio/x-wav"/>
  <Override PartName="/ppt/media/image12.jpeg" ContentType="image/jpeg"/>
  <Override PartName="/ppt/media/image14.png" ContentType="image/png"/>
  <Override PartName="/ppt/media/image13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drumroll.wav" ContentType="audio/x-wav"/>
  <Override PartName="/ppt/media/image3.jpeg" ContentType="image/jpeg"/>
  <Override PartName="/ppt/media/image4.jpeg" ContentType="image/jpeg"/>
  <Override PartName="/ppt/media/chimes.wav" ContentType="audio/x-wav"/>
  <Override PartName="/ppt/media/type.wav" ContentType="audio/x-wav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5DDD-793F-4122-9128-D81EBBEF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AB6F-441B-4F37-AA0B-932C96E4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08FF-88B8-4AFF-8B7A-E29B5B90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BA43-B7D3-481D-A8A5-B6BAC4BD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E290-BF09-4587-AD28-20A46643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14D3-14EF-4F00-AFDD-08BC76C3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BED1-B287-4D10-AA4C-0085302A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3896-2BBB-4019-9422-ACF65320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84D8-228E-4134-880D-DC2DD99C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E4DA-C7F2-4386-937B-6B69B7A5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CE9C-040B-4570-9975-279FA2FC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B0E2-8ACE-4E33-B990-8D0A470C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4A71-071E-4418-A1B6-09213D2E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06E1-4C7E-4302-AC11-63BF19B2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6108-4945-4CD1-B141-4831E7E3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707D-45E4-447D-9517-C09DAA81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900F-84B8-449F-856F-80A300DF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C5A60-51A2-43D8-A1A6-ED13794F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731FB-A1A2-4643-BE37-C85F6095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06F43-0355-4062-89A6-309E1370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53195-E861-40F6-9C09-701EBB2E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AE073-F8CF-4F51-9E4C-9488793B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F206-299E-4DA9-9156-9B9A200A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6E97B-734E-41E5-9576-A5D394C0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CA47A-B01F-4A7D-AD97-5CAAE87C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50A21-4E08-4FEF-8D03-73847654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EEEB4-CC34-4575-B271-A30722D8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61E52-AA45-4E06-8263-92070660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81C10-D6B1-4BFF-9A76-9FBB220D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F7270-C1B9-4952-B824-6092979E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804A-43CF-485B-AFC5-D28785EA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774B-C8AB-4E67-B65B-541D3570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B70-C29D-4827-BE84-7AB26A5B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A1A3-4BEC-4C24-A80D-0986E280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1CA5-EBEE-46C1-B377-B6849016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6EEE-91B4-4617-96AF-7410C941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7DD3-28FC-46F2-B1E1-1B69B4579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4169-C1F8-49E8-A31A-0CB234A83D5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022E-65CC-4326-AE16-C46E763C4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26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1027"/>
          <p:cNvSpPr txBox="1"/>
          <p:nvPr/>
        </p:nvSpPr>
        <p:spPr>
          <a:xfrm>
            <a:off x="1042920" y="981000"/>
            <a:ext cx="66708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伟大的悲剧语文</a:t>
            </a:r>
            <a:r>
              <a:rPr b="1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件免费下载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6" name="WordArt 1028"/>
          <p:cNvSpPr txBox="1"/>
          <p:nvPr/>
        </p:nvSpPr>
        <p:spPr>
          <a:xfrm>
            <a:off x="4876920" y="3809880"/>
            <a:ext cx="208728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茨威格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2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彩云"/>
              </a:rPr>
              <a:t>问题探究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80880" y="25909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茨威格为何不给胜利者阿蒙森作传，却充满激情地为失败者斯科特书写这一悲壮的一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斯科特一行探险的意义何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C078-EEE5-49BB-A644-66A2C33E2C4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-1177920" y="19051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371600" y="6858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人类伟大的悲剧还有吗？给大家     讲一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9"/>
          <p:cNvGrpSpPr/>
          <p:nvPr/>
        </p:nvGrpSpPr>
        <p:grpSpPr>
          <a:xfrm>
            <a:off x="3276720" y="1752480"/>
            <a:ext cx="3476520" cy="4848480"/>
            <a:chOff x="3276720" y="1752480"/>
            <a:chExt cx="3476520" cy="4848480"/>
          </a:xfrm>
        </p:grpSpPr>
        <p:pic>
          <p:nvPicPr>
            <p:cNvPr id="184" name="Picture 10" descr="BATA102CO2"/>
            <p:cNvPicPr/>
            <p:nvPr/>
          </p:nvPicPr>
          <p:blipFill>
            <a:blip r:embed="rId1"/>
            <a:srcRect l="44939" t="15387" r="31074" b="51853"/>
            <a:stretch/>
          </p:blipFill>
          <p:spPr>
            <a:xfrm>
              <a:off x="3276720" y="1752480"/>
              <a:ext cx="34765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Rectangle 11"/>
            <p:cNvSpPr/>
            <p:nvPr/>
          </p:nvSpPr>
          <p:spPr>
            <a:xfrm>
              <a:off x="3429000" y="6019560"/>
              <a:ext cx="3124080" cy="581400"/>
            </a:xfrm>
            <a:prstGeom prst="rect">
              <a:avLst/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斯科特海军上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6"/>
          <p:cNvSpPr/>
          <p:nvPr/>
        </p:nvSpPr>
        <p:spPr>
          <a:xfrm>
            <a:off x="5580000" y="2276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老年茨威格"/>
          <p:cNvPicPr/>
          <p:nvPr/>
        </p:nvPicPr>
        <p:blipFill>
          <a:blip r:embed="rId1"/>
          <a:stretch/>
        </p:blipFill>
        <p:spPr>
          <a:xfrm>
            <a:off x="3962520" y="533520"/>
            <a:ext cx="4144680" cy="6164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1527840" y="990720"/>
            <a:ext cx="78984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让我们一起来认识作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0" y="0"/>
            <a:ext cx="90010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斯蒂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茨威格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8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奥地利著名小说家、传记作家，出身于富裕的犹太家庭。青 年时代在维也纳和柏林攻读哲学和文学。第一次世界大战时从事反战工作，成为著名的和平主义者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3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遭纳粹驱逐，先后流亡英国、巴西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在孤寂与感觉理想破灭中与妻子双双自杀。 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茨威格在诗、短论、小说、戏剧和人物传记写作方面均有过人的造诣，尤以小说和人物传记见长。代表 作有小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初的经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马来狂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恐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觉的混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的命运转折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陌生 女人的来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象棋的故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女人一生中的二十四小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危险的怜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；传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位大 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精灵的斗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个描摹自己生活的诗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。茨威格的作品 擅长细致的性格刻画，以及对奇特命运下个人遭遇和心灵的热情的描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6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nw_tp"/>
          <p:cNvPicPr/>
          <p:nvPr/>
        </p:nvPicPr>
        <p:blipFill>
          <a:blip r:embed="rId2"/>
          <a:stretch/>
        </p:blipFill>
        <p:spPr>
          <a:xfrm>
            <a:off x="-3581280" y="152280"/>
            <a:ext cx="914400" cy="1126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"/>
          <p:cNvSpPr/>
          <p:nvPr/>
        </p:nvSpPr>
        <p:spPr>
          <a:xfrm>
            <a:off x="1066680" y="3049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课文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0" y="1523880"/>
            <a:ext cx="914400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填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文中主要人物是由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率领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探险队队员，共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他们于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                  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时间）到达了南极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他们的对手是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国家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）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等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这次竞争的结果是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赢了，他们早到了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星期。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28" descr="8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026"/>
          <p:cNvSpPr/>
          <p:nvPr/>
        </p:nvSpPr>
        <p:spPr>
          <a:xfrm>
            <a:off x="0" y="182880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1912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年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16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日，启程去极点；中午，发现挪威人留下的痕迹；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18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日，到达极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、回程的天气恶劣，埃文斯精神失常、去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、下几个贮藏点的燃料很少，奥茨为了不拖累大家，他选择了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21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日起，天气异常恶劣，燃料、口粮告急，他们和死亡坚持斗争了八天；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29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日，他们对生存不再抱任何希望，斯科特记下了最后的日记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27"/>
          <p:cNvSpPr/>
          <p:nvPr/>
        </p:nvSpPr>
        <p:spPr>
          <a:xfrm>
            <a:off x="380880" y="3808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根据提示进行复述“接龙”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3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彩云"/>
              </a:rPr>
              <a:t>整体把握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15640" y="1628280"/>
            <a:ext cx="7056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Arial"/>
              </a:rPr>
              <a:t>课文中最让你感动的人是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Arial"/>
              </a:rPr>
              <a:t>读一读有关段落，并说说让你感动的原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8200"/>
          <p:cNvSpPr/>
          <p:nvPr/>
        </p:nvSpPr>
        <p:spPr>
          <a:xfrm>
            <a:off x="2195640" y="3933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ff6600"/>
                </a:solidFill>
                <a:latin typeface="Arial"/>
              </a:rPr>
              <a:t>伟 大 的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悲 剧 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1699920"/>
            <a:ext cx="88930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是把有价值的东西毁灭、撕碎给人看，给人以心灵强有力地震撼，以悲惨结局结尾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本文的“悲”体现在斯科特南极一行中的哪些 方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722160" y="5229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死亡之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411280" y="52293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失败之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827600" y="5229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作证之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403280" y="1989000"/>
            <a:ext cx="762120" cy="360"/>
            <a:chOff x="1403280" y="1989000"/>
            <a:chExt cx="762120" cy="360"/>
          </a:xfrm>
        </p:grpSpPr>
        <p:sp>
          <p:nvSpPr>
            <p:cNvPr id="155" name="Line 11"/>
            <p:cNvSpPr/>
            <p:nvPr/>
          </p:nvSpPr>
          <p:spPr>
            <a:xfrm>
              <a:off x="1403280" y="1989000"/>
              <a:ext cx="7621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1403280" y="198900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12"/>
          <p:cNvSpPr/>
          <p:nvPr/>
        </p:nvSpPr>
        <p:spPr>
          <a:xfrm>
            <a:off x="324000" y="1628640"/>
            <a:ext cx="12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悲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-305280" y="1828800"/>
            <a:ext cx="88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5d17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文章充满了悲壮的情感，请你从文中找出斯科特一行的“伟大”之处，并有感情的朗读，然后在小组内交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403280" y="378936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诚实守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990720" y="464832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坚毅、执著、英勇献身的气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38080" y="5410080"/>
            <a:ext cx="62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强烈的集体主义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611280" y="609300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对祖国、对他人无私的爱，对生活的热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12"/>
          <p:cNvSpPr txBox="1"/>
          <p:nvPr/>
        </p:nvSpPr>
        <p:spPr>
          <a:xfrm>
            <a:off x="380880" y="533520"/>
            <a:ext cx="17146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找一找</a:t>
            </a:r>
            <a:endParaRPr b="1" lang="en-US" sz="4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-360" y="16765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请同学根据课文的内容，用生动的语言来表述“悲剧”与“伟大”之间的联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0" y="32004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伟大”与“悲剧”并不矛盾！因为他们虽然在探险中牺牲了，虽然他们有“死亡之悲”“失败之悲”“作证之悲” ，但在“悲剧”中，他们始终扮演着英雄的角色，在这“悲”中展示了他们 “伟大”的魅力所在。所以这是一场“伟大的悲剧”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6"/>
          <p:cNvSpPr txBox="1"/>
          <p:nvPr/>
        </p:nvSpPr>
        <p:spPr>
          <a:xfrm>
            <a:off x="762120" y="380880"/>
            <a:ext cx="23619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试一试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1" name="文本框 8200"/>
          <p:cNvSpPr/>
          <p:nvPr/>
        </p:nvSpPr>
        <p:spPr>
          <a:xfrm>
            <a:off x="2556000" y="1197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1T12:38:2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58Z</dcterms:modified>
  <cp:revision>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