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F78-49D9-4CC3-AD99-94AB229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E72-809E-4917-A6F9-8C1D8F25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116-191D-4EF1-98B1-943088FD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877-80E9-4EC5-9221-8BB822EF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08DD-DDB1-4DEA-9C77-BD842AE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5C6-345A-44BF-A8F5-BBB0CE75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4B2-2905-4718-AB9C-45608EBC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CE00-8DF0-4DA5-89EB-610C32F8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63D-B48B-4A0D-9888-4F86EC2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087-8ACF-4B06-9E4B-37A088C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A28-4DFD-4CEA-A415-D6641C2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880-F443-42A5-AC57-0706069C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2087-3C89-44E3-90B8-B47E522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19E-D747-48DC-9934-F078F1C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DFA-EB70-42FC-A635-C3E78DB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2D6A-CEFD-4F95-A69E-6CBA2129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B0D0-681B-4B0E-B38B-D981E12C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0AD4-0CEB-41AF-B598-FBD9DC08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1360-2BB4-4BD2-B82C-E85D542D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8009-143D-483F-8042-13F599D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094D-E492-40C3-B82E-B5DE890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4998-AD44-4ED1-8BBF-E4BF8B1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62A-9375-4B16-86A9-0B1FD68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D44E-C5A7-462B-8AE5-8FFF265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129F-4AEB-4B35-A381-AD5DECC6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01F4-6F89-4A2A-9B9C-84AA617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973C-751B-45E4-AE0C-F4C7A3E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5E81-34A6-471A-A9D2-2B68131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D9BB-373F-4683-82DD-B5E8C02C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D715-982A-4D25-9270-3E0078B8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DC1-8D64-460C-A584-FB3057E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C75-E6B7-4124-B176-F516EB01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886-9BF8-4FF1-B286-A6A3C565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082-877E-4BF8-9DE9-B2B28B6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AB0-1225-4067-8D6B-3151DAF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AA9-B715-4E80-9105-E633E58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EAE-7BA7-497A-A9CC-C59BA40C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771-2627-4B19-8792-0AB055EB71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955-3CBC-4AB4-92E6-A117FACBA09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8200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684360" y="476280"/>
            <a:ext cx="7705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00"/>
                  </a:solidFill>
                  <a:round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第三单元 建设有中国特色的社会主义</a:t>
            </a:r>
            <a:endParaRPr b="1" lang="en-US" sz="1800" spc="1" strike="noStrike">
              <a:ln w="9360">
                <a:solidFill>
                  <a:srgbClr val="993300"/>
                </a:solidFill>
                <a:round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WordArt 6" descr=""/>
          <p:cNvPicPr/>
          <p:nvPr/>
        </p:nvPicPr>
        <p:blipFill>
          <a:blip r:embed="rId2"/>
          <a:stretch/>
        </p:blipFill>
        <p:spPr>
          <a:xfrm>
            <a:off x="1292400" y="1197000"/>
            <a:ext cx="6514920" cy="31161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468360" y="1052640"/>
              <a:ext cx="820728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图片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28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图片1"/>
            <p:cNvPicPr/>
            <p:nvPr/>
          </p:nvPicPr>
          <p:blipFill>
            <a:blip r:embed="rId3"/>
            <a:stretch/>
          </p:blipFill>
          <p:spPr>
            <a:xfrm>
              <a:off x="468360" y="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图片1"/>
            <p:cNvPicPr/>
            <p:nvPr/>
          </p:nvPicPr>
          <p:blipFill>
            <a:blip r:embed="rId4"/>
            <a:stretch/>
          </p:blipFill>
          <p:spPr>
            <a:xfrm>
              <a:off x="468360" y="836640"/>
              <a:ext cx="8532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7" descr="图片1"/>
            <p:cNvPicPr/>
            <p:nvPr/>
          </p:nvPicPr>
          <p:blipFill>
            <a:blip r:embed="rId5"/>
            <a:stretch/>
          </p:blipFill>
          <p:spPr>
            <a:xfrm>
              <a:off x="468360" y="602136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图片1"/>
            <p:cNvPicPr/>
            <p:nvPr/>
          </p:nvPicPr>
          <p:blipFill>
            <a:blip r:embed="rId6"/>
            <a:stretch/>
          </p:blipFill>
          <p:spPr>
            <a:xfrm>
              <a:off x="395280" y="5950080"/>
              <a:ext cx="85327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图片1"/>
            <p:cNvPicPr/>
            <p:nvPr/>
          </p:nvPicPr>
          <p:blipFill>
            <a:blip r:embed="rId7"/>
            <a:stretch/>
          </p:blipFill>
          <p:spPr>
            <a:xfrm>
              <a:off x="8639280" y="0"/>
              <a:ext cx="504720" cy="68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11"/>
          <p:cNvSpPr/>
          <p:nvPr/>
        </p:nvSpPr>
        <p:spPr>
          <a:xfrm>
            <a:off x="755640" y="15541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召开时间、地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55640" y="29210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会议主要内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13" descr="LX2"/>
          <p:cNvPicPr/>
          <p:nvPr/>
        </p:nvPicPr>
        <p:blipFill>
          <a:blip r:embed="rId8"/>
          <a:srcRect l="71324" t="45800" r="0" b="3798"/>
          <a:stretch/>
        </p:blipFill>
        <p:spPr>
          <a:xfrm>
            <a:off x="6948360" y="4076640"/>
            <a:ext cx="1698840" cy="1873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755640" y="41450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伟大历史意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6372360" y="476280"/>
            <a:ext cx="2520720" cy="2016000"/>
          </a:xfrm>
          <a:prstGeom prst="cloudCallout">
            <a:avLst>
              <a:gd name="adj1" fmla="val -7935"/>
              <a:gd name="adj2" fmla="val 129606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6659640" y="765000"/>
            <a:ext cx="248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动手动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己思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4500720" y="1125360"/>
            <a:ext cx="2232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endParaRPr b="0" lang="en-US" sz="3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95280" y="595440"/>
            <a:ext cx="835344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召开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: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时间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: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97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年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    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地点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北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重要内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彻底否定了”两个凡是”的方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重新确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解放思想、实事求是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的思想路线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停止使用“以阶级斗争为纲”的错误口号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作出把党和国家的工作重心转移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经济建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上来，实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改革开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的伟大决策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会议实际上形成了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邓小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为核心的领导集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95280" y="765000"/>
            <a:ext cx="84247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4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重大意义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　　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①十一届三中全会是建国以来党的历史上具有深远意义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伟大转折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　　 ②它完成了党的思想路线、政治路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组织路线的拨乱反正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改革开放的开端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        ③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从此，中国历史进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社会主义现代化建设新时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讨论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为什么说十一届三中全会是一次伟大的历史转折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2276640"/>
            <a:ext cx="8569080" cy="403200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了指导思想，有了发展方向，有了领导集体，我国从此走上了一条改革开放、建设中国特色社会主义的正确道路。这是其它社会主义国家不曾尝试过的，也是我国开始走向繁荣富强的一个新的开始。所以说，这次会议是一次伟大的历史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9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468360" y="1052640"/>
              <a:ext cx="820728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" descr="图片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28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图片1"/>
            <p:cNvPicPr/>
            <p:nvPr/>
          </p:nvPicPr>
          <p:blipFill>
            <a:blip r:embed="rId3"/>
            <a:stretch/>
          </p:blipFill>
          <p:spPr>
            <a:xfrm>
              <a:off x="468360" y="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" descr="图片1"/>
            <p:cNvPicPr/>
            <p:nvPr/>
          </p:nvPicPr>
          <p:blipFill>
            <a:blip r:embed="rId4"/>
            <a:stretch/>
          </p:blipFill>
          <p:spPr>
            <a:xfrm>
              <a:off x="468360" y="836640"/>
              <a:ext cx="8532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7" descr="图片1"/>
            <p:cNvPicPr/>
            <p:nvPr/>
          </p:nvPicPr>
          <p:blipFill>
            <a:blip r:embed="rId5"/>
            <a:stretch/>
          </p:blipFill>
          <p:spPr>
            <a:xfrm>
              <a:off x="468360" y="602136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8" descr="图片1"/>
            <p:cNvPicPr/>
            <p:nvPr/>
          </p:nvPicPr>
          <p:blipFill>
            <a:blip r:embed="rId6"/>
            <a:stretch/>
          </p:blipFill>
          <p:spPr>
            <a:xfrm>
              <a:off x="395280" y="5950080"/>
              <a:ext cx="85327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图片1"/>
            <p:cNvPicPr/>
            <p:nvPr/>
          </p:nvPicPr>
          <p:blipFill>
            <a:blip r:embed="rId7"/>
            <a:stretch/>
          </p:blipFill>
          <p:spPr>
            <a:xfrm>
              <a:off x="8639280" y="0"/>
              <a:ext cx="504720" cy="68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3" descr="businessman41"/>
          <p:cNvPicPr/>
          <p:nvPr/>
        </p:nvPicPr>
        <p:blipFill>
          <a:blip r:embed="rId8"/>
          <a:stretch/>
        </p:blipFill>
        <p:spPr>
          <a:xfrm>
            <a:off x="6443640" y="4175280"/>
            <a:ext cx="2158920" cy="1692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4"/>
          <p:cNvSpPr/>
          <p:nvPr/>
        </p:nvSpPr>
        <p:spPr>
          <a:xfrm>
            <a:off x="6732720" y="1052640"/>
            <a:ext cx="1655640" cy="1873080"/>
          </a:xfrm>
          <a:prstGeom prst="cloudCallout">
            <a:avLst>
              <a:gd name="adj1" fmla="val -4555"/>
              <a:gd name="adj2" fmla="val 95425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7020000" y="134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思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900000" y="4437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84360" y="155736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539640" y="2320920"/>
            <a:ext cx="77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  <a:ea typeface="隶书"/>
              </a:rPr>
              <a:t>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隶书"/>
              </a:rPr>
              <a:t>中国共产党的历史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隶书"/>
              </a:rPr>
              <a:t>具有重大转折意义的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隶书"/>
              </a:rPr>
              <a:t>议有哪些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3080" y="549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共产党的历史上重大转折的会议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95280" y="1916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．第一次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93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遵义会议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确立了毛泽东的正确领导，挽救了革命，挽救了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68360" y="342900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2.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第二次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97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十一届三中全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，工作 重心由阶级斗争为纲转移到经济建设上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开始了社会主义现代化建设的新时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95280" y="692280"/>
            <a:ext cx="8424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二　民主与法制建设的加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１．平反冤假错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中共十一届三中全会以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平反冤假错案的工作在全国全面展开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198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年底，基本结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1980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年，中共中央撤消了强加给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刘少奇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种种罪名，恢复名誉。使党的历史上最大的冤案得到平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刘少奇追悼大会会场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王光美接过刘少奇的骨灰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2880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028320" y="580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王光美接过刘少奇的骨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亲人们将刘少奇的骨灰撒向大海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请同学们回答：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无产阶级文化大革命的性质是？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无产阶级文化大革命损失多少亿元？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文化大革命结束标志是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5280" y="692280"/>
            <a:ext cx="84247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二　民主与法制建设的加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２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　法制建设的加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98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年，颁布第四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中华人民共和国宪法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198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年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中华人民共和国民法通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义务教育法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劳动和社会保障法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环境保护法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意义：基本上形成了以宪法为核心的中国特色的社会主义法律体系，初步实现了有法可依的局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39640" y="692280"/>
            <a:ext cx="115092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隶书"/>
              </a:rPr>
              <a:t>徘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39640" y="3500280"/>
            <a:ext cx="115272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隶书"/>
              </a:rPr>
              <a:t>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9640" y="5288040"/>
            <a:ext cx="115272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隶书"/>
              </a:rPr>
              <a:t>推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908000" y="47628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纠正“文革”错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867280" y="40464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人心所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835280" y="981000"/>
            <a:ext cx="37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两个凡是”的提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940360" y="98100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阻挡纠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763640" y="169704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关于真理标准问题的讨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881760" y="1697040"/>
            <a:ext cx="20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解放思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048120" y="2421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奠定思想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5292720" y="620640"/>
            <a:ext cx="431640" cy="289080"/>
          </a:xfrm>
          <a:prstGeom prst="rightArrow">
            <a:avLst>
              <a:gd name="adj1" fmla="val 50000"/>
              <a:gd name="adj2" fmla="val 37315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5435640" y="1125360"/>
            <a:ext cx="431640" cy="289080"/>
          </a:xfrm>
          <a:prstGeom prst="rightArrow">
            <a:avLst>
              <a:gd name="adj1" fmla="val 50000"/>
              <a:gd name="adj2" fmla="val 37315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 rot="5400000">
            <a:off x="4351680" y="1409040"/>
            <a:ext cx="289080" cy="4330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443640" y="1844640"/>
            <a:ext cx="432000" cy="289080"/>
          </a:xfrm>
          <a:prstGeom prst="rightArrow">
            <a:avLst>
              <a:gd name="adj1" fmla="val 50000"/>
              <a:gd name="adj2" fmla="val 37346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rot="5400000">
            <a:off x="4351680" y="2129760"/>
            <a:ext cx="289080" cy="4330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1835280" y="356220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十一届三中全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1978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年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788000" y="32097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19"/>
          <p:cNvSpPr/>
          <p:nvPr/>
        </p:nvSpPr>
        <p:spPr>
          <a:xfrm>
            <a:off x="5724360" y="314172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5940360" y="27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思想路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5940360" y="32860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政治路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921280" y="378612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组织路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AutoShape 23"/>
          <p:cNvSpPr/>
          <p:nvPr/>
        </p:nvSpPr>
        <p:spPr>
          <a:xfrm>
            <a:off x="4572000" y="350028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4716360" y="4149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意义      伟大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103480" y="497988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平反冤假错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2176560" y="55562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加强民主与法制建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AutoShape 27"/>
          <p:cNvSpPr/>
          <p:nvPr/>
        </p:nvSpPr>
        <p:spPr>
          <a:xfrm>
            <a:off x="1835280" y="5229360"/>
            <a:ext cx="215640" cy="72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AutoShape 28"/>
          <p:cNvSpPr/>
          <p:nvPr/>
        </p:nvSpPr>
        <p:spPr>
          <a:xfrm>
            <a:off x="5796000" y="4292640"/>
            <a:ext cx="431640" cy="288720"/>
          </a:xfrm>
          <a:prstGeom prst="rightArrow">
            <a:avLst>
              <a:gd name="adj1" fmla="val 50000"/>
              <a:gd name="adj2" fmla="val 37361"/>
            </a:avLst>
          </a:prstGeom>
          <a:gradFill rotWithShape="0">
            <a:gsLst>
              <a:gs pos="0">
                <a:srgbClr val="250000"/>
              </a:gs>
              <a:gs pos="50000">
                <a:srgbClr val="800000"/>
              </a:gs>
              <a:gs pos="100000">
                <a:srgbClr val="2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JKS39_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66560" y="1009800"/>
            <a:ext cx="8137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思考题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世纪，中国人民在前进道路上经历了三次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历史性巨变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三次巨变依次发生于</a:t>
            </a: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世纪的前期、中期和后期，时间上具有连续性，三次巨变产生了三位站在时代前列的伟大人物。据此请回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三次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历史性巨变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分别是指什么？每次巨变产生的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伟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分别是谁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文本框 8199"/>
          <p:cNvSpPr/>
          <p:nvPr/>
        </p:nvSpPr>
        <p:spPr>
          <a:xfrm>
            <a:off x="942840" y="396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871560" y="620640"/>
            <a:ext cx="7445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中国人民在前进道路上经历了哪三次历史性的巨变？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2" name="WordArt 3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5583240" cy="939600"/>
          </a:xfrm>
          <a:prstGeom prst="rect">
            <a:avLst/>
          </a:prstGeom>
          <a:ln w="0">
            <a:noFill/>
          </a:ln>
        </p:spPr>
      </p:pic>
      <p:pic>
        <p:nvPicPr>
          <p:cNvPr id="233" name="WordArt 4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5581800" cy="939600"/>
          </a:xfrm>
          <a:prstGeom prst="rect">
            <a:avLst/>
          </a:prstGeom>
          <a:ln w="0">
            <a:noFill/>
          </a:ln>
        </p:spPr>
      </p:pic>
      <p:pic>
        <p:nvPicPr>
          <p:cNvPr id="234" name="WordArt 5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5186520" cy="88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孙中山彩"/>
          <p:cNvPicPr/>
          <p:nvPr/>
        </p:nvPicPr>
        <p:blipFill>
          <a:blip r:embed="rId4"/>
          <a:stretch/>
        </p:blipFill>
        <p:spPr>
          <a:xfrm>
            <a:off x="7020000" y="1844640"/>
            <a:ext cx="1055520" cy="1378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236" name="Picture 7" descr="%FD%88%82b_E"/>
          <p:cNvPicPr/>
          <p:nvPr/>
        </p:nvPicPr>
        <p:blipFill>
          <a:blip r:embed="rId5"/>
          <a:stretch/>
        </p:blipFill>
        <p:spPr>
          <a:xfrm>
            <a:off x="7020000" y="3429000"/>
            <a:ext cx="1106280" cy="1295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237" name="Picture 8" descr="u=253849799,1132761373&amp;gp=1"/>
          <p:cNvPicPr/>
          <p:nvPr/>
        </p:nvPicPr>
        <p:blipFill>
          <a:blip r:embed="rId6"/>
          <a:stretch/>
        </p:blipFill>
        <p:spPr>
          <a:xfrm>
            <a:off x="7020000" y="4941720"/>
            <a:ext cx="1152360" cy="1297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38" name="Text Box 9"/>
          <p:cNvSpPr/>
          <p:nvPr/>
        </p:nvSpPr>
        <p:spPr>
          <a:xfrm>
            <a:off x="7744320" y="1844640"/>
            <a:ext cx="11552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孙中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760160" y="3357720"/>
            <a:ext cx="115524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毛泽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7760160" y="4894200"/>
            <a:ext cx="11552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邓小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292720" y="5084640"/>
            <a:ext cx="33829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以经济建设为中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258920" y="4724280"/>
            <a:ext cx="4033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在粉碎“四人帮”后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十一届三中全会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68360" y="4724280"/>
            <a:ext cx="7905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三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292720" y="3357720"/>
            <a:ext cx="338292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工作重心由乡村转移到城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332000" y="3357720"/>
            <a:ext cx="403380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革命即将取得胜利的前夕，在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的七届二中全会上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68360" y="3209760"/>
            <a:ext cx="7905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292720" y="1697040"/>
            <a:ext cx="3382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开辟农村革命根据地，以农村包围城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1258920" y="1697040"/>
            <a:ext cx="4033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92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大革命失败后，党决定开展土地革命，开辟农村革命根据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68360" y="1697040"/>
            <a:ext cx="7905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5292720" y="1125360"/>
            <a:ext cx="3382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内     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258920" y="1125360"/>
            <a:ext cx="4033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背    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468360" y="1125360"/>
            <a:ext cx="790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8360" y="1125360"/>
            <a:ext cx="8207280" cy="360"/>
            <a:chOff x="468360" y="1125360"/>
            <a:chExt cx="8207280" cy="360"/>
          </a:xfrm>
        </p:grpSpPr>
        <p:sp>
          <p:nvSpPr>
            <p:cNvPr id="254" name="Line 14"/>
            <p:cNvSpPr/>
            <p:nvPr/>
          </p:nvSpPr>
          <p:spPr>
            <a:xfrm>
              <a:off x="468360" y="1125360"/>
              <a:ext cx="820728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68360" y="1125360"/>
              <a:ext cx="820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8360" y="1697040"/>
            <a:ext cx="8207280" cy="360"/>
            <a:chOff x="468360" y="1697040"/>
            <a:chExt cx="8207280" cy="360"/>
          </a:xfrm>
        </p:grpSpPr>
        <p:sp>
          <p:nvSpPr>
            <p:cNvPr id="257" name="Line 15"/>
            <p:cNvSpPr/>
            <p:nvPr/>
          </p:nvSpPr>
          <p:spPr>
            <a:xfrm>
              <a:off x="468360" y="1697040"/>
              <a:ext cx="820728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68360" y="1697040"/>
              <a:ext cx="820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8360" y="3209760"/>
            <a:ext cx="8207280" cy="360"/>
            <a:chOff x="468360" y="3209760"/>
            <a:chExt cx="8207280" cy="360"/>
          </a:xfrm>
        </p:grpSpPr>
        <p:sp>
          <p:nvSpPr>
            <p:cNvPr id="260" name="Line 16"/>
            <p:cNvSpPr/>
            <p:nvPr/>
          </p:nvSpPr>
          <p:spPr>
            <a:xfrm>
              <a:off x="468360" y="3209760"/>
              <a:ext cx="820728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68360" y="3209760"/>
              <a:ext cx="820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8360" y="4724280"/>
            <a:ext cx="8207280" cy="360"/>
            <a:chOff x="468360" y="4724280"/>
            <a:chExt cx="8207280" cy="360"/>
          </a:xfrm>
        </p:grpSpPr>
        <p:sp>
          <p:nvSpPr>
            <p:cNvPr id="263" name="Line 17"/>
            <p:cNvSpPr/>
            <p:nvPr/>
          </p:nvSpPr>
          <p:spPr>
            <a:xfrm>
              <a:off x="468360" y="4724280"/>
              <a:ext cx="820728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68360" y="4724280"/>
              <a:ext cx="820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8360" y="6237360"/>
            <a:ext cx="8207280" cy="360"/>
            <a:chOff x="468360" y="6237360"/>
            <a:chExt cx="8207280" cy="360"/>
          </a:xfrm>
        </p:grpSpPr>
        <p:sp>
          <p:nvSpPr>
            <p:cNvPr id="266" name="Line 18"/>
            <p:cNvSpPr/>
            <p:nvPr/>
          </p:nvSpPr>
          <p:spPr>
            <a:xfrm>
              <a:off x="468360" y="6237360"/>
              <a:ext cx="820728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68360" y="6237360"/>
              <a:ext cx="820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68360" y="1125360"/>
            <a:ext cx="360" cy="5112000"/>
            <a:chOff x="468360" y="1125360"/>
            <a:chExt cx="360" cy="5112000"/>
          </a:xfrm>
        </p:grpSpPr>
        <p:sp>
          <p:nvSpPr>
            <p:cNvPr id="269" name="Line 19"/>
            <p:cNvSpPr/>
            <p:nvPr/>
          </p:nvSpPr>
          <p:spPr>
            <a:xfrm>
              <a:off x="468360" y="1125360"/>
              <a:ext cx="0" cy="511200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68360" y="1125360"/>
              <a:ext cx="36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258920" y="1125360"/>
            <a:ext cx="360" cy="5112000"/>
            <a:chOff x="1258920" y="1125360"/>
            <a:chExt cx="360" cy="5112000"/>
          </a:xfrm>
        </p:grpSpPr>
        <p:sp>
          <p:nvSpPr>
            <p:cNvPr id="272" name="Line 20"/>
            <p:cNvSpPr/>
            <p:nvPr/>
          </p:nvSpPr>
          <p:spPr>
            <a:xfrm>
              <a:off x="1258920" y="1125360"/>
              <a:ext cx="0" cy="511200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258920" y="1125360"/>
              <a:ext cx="36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292720" y="1125360"/>
            <a:ext cx="360" cy="5112000"/>
            <a:chOff x="5292720" y="1125360"/>
            <a:chExt cx="360" cy="5112000"/>
          </a:xfrm>
        </p:grpSpPr>
        <p:sp>
          <p:nvSpPr>
            <p:cNvPr id="275" name="Line 21"/>
            <p:cNvSpPr/>
            <p:nvPr/>
          </p:nvSpPr>
          <p:spPr>
            <a:xfrm>
              <a:off x="5292720" y="1125360"/>
              <a:ext cx="0" cy="511200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5292720" y="1125360"/>
              <a:ext cx="36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675640" y="1125360"/>
            <a:ext cx="360" cy="5112000"/>
            <a:chOff x="8675640" y="1125360"/>
            <a:chExt cx="360" cy="5112000"/>
          </a:xfrm>
        </p:grpSpPr>
        <p:sp>
          <p:nvSpPr>
            <p:cNvPr id="278" name="Line 22"/>
            <p:cNvSpPr/>
            <p:nvPr/>
          </p:nvSpPr>
          <p:spPr>
            <a:xfrm>
              <a:off x="8675640" y="1125360"/>
              <a:ext cx="0" cy="511200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8675640" y="1125360"/>
              <a:ext cx="36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0" name="Text Box 23"/>
          <p:cNvSpPr/>
          <p:nvPr/>
        </p:nvSpPr>
        <p:spPr>
          <a:xfrm>
            <a:off x="289080" y="404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附</a:t>
            </a:r>
            <a:r>
              <a:rPr b="1" lang="en-US" sz="3600" spc="-1" strike="noStrike">
                <a:solidFill>
                  <a:srgbClr val="dc59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中国共产党历史上三次工作重心的转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附</a:t>
            </a:r>
            <a:r>
              <a:rPr b="1" lang="en-US" sz="3600" spc="-1" strike="noStrike">
                <a:solidFill>
                  <a:srgbClr val="dc59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dc59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世纪中国人民经历的三次历史性巨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624720" y="5157720"/>
            <a:ext cx="251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邓小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771640" y="5013360"/>
            <a:ext cx="352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国进入社会主义现代化建设的新时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4803840"/>
            <a:ext cx="136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十一届三中全会召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95280" y="4803840"/>
            <a:ext cx="8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三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624720" y="3645000"/>
            <a:ext cx="251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771640" y="3645000"/>
            <a:ext cx="352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结束了中国半殖民地半封建社会历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258920" y="3432240"/>
            <a:ext cx="136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新中国的成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395280" y="3432240"/>
            <a:ext cx="8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804000" y="2421000"/>
            <a:ext cx="295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孙中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2771640" y="2060640"/>
            <a:ext cx="352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推翻了清朝的封建统治，建立了资产阶级共和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1258920" y="2060640"/>
            <a:ext cx="136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辛亥革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395280" y="2060640"/>
            <a:ext cx="8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6300720" y="1413000"/>
            <a:ext cx="2519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黑体"/>
              </a:rPr>
              <a:t>产生的历史巨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627280" y="1397160"/>
            <a:ext cx="3529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结  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1258920" y="1413000"/>
            <a:ext cx="13683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巨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395280" y="1397160"/>
            <a:ext cx="863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95280" y="1413000"/>
            <a:ext cx="8280360" cy="360"/>
            <a:chOff x="395280" y="1413000"/>
            <a:chExt cx="8280360" cy="360"/>
          </a:xfrm>
        </p:grpSpPr>
        <p:sp>
          <p:nvSpPr>
            <p:cNvPr id="299" name="Line 19"/>
            <p:cNvSpPr/>
            <p:nvPr/>
          </p:nvSpPr>
          <p:spPr>
            <a:xfrm>
              <a:off x="395280" y="1413000"/>
              <a:ext cx="828036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95280" y="1413000"/>
              <a:ext cx="82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5280" y="2060640"/>
            <a:ext cx="8280360" cy="360"/>
            <a:chOff x="395280" y="2060640"/>
            <a:chExt cx="8280360" cy="360"/>
          </a:xfrm>
        </p:grpSpPr>
        <p:sp>
          <p:nvSpPr>
            <p:cNvPr id="302" name="Line 20"/>
            <p:cNvSpPr/>
            <p:nvPr/>
          </p:nvSpPr>
          <p:spPr>
            <a:xfrm>
              <a:off x="395280" y="2060640"/>
              <a:ext cx="828036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395280" y="2060640"/>
              <a:ext cx="82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5280" y="3432240"/>
            <a:ext cx="8280360" cy="360"/>
            <a:chOff x="395280" y="3432240"/>
            <a:chExt cx="8280360" cy="360"/>
          </a:xfrm>
        </p:grpSpPr>
        <p:sp>
          <p:nvSpPr>
            <p:cNvPr id="305" name="Line 21"/>
            <p:cNvSpPr/>
            <p:nvPr/>
          </p:nvSpPr>
          <p:spPr>
            <a:xfrm>
              <a:off x="395280" y="3432240"/>
              <a:ext cx="828036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95280" y="3432240"/>
              <a:ext cx="82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5280" y="4803840"/>
            <a:ext cx="8280360" cy="360"/>
            <a:chOff x="395280" y="4803840"/>
            <a:chExt cx="8280360" cy="360"/>
          </a:xfrm>
        </p:grpSpPr>
        <p:sp>
          <p:nvSpPr>
            <p:cNvPr id="308" name="Line 22"/>
            <p:cNvSpPr/>
            <p:nvPr/>
          </p:nvSpPr>
          <p:spPr>
            <a:xfrm>
              <a:off x="395280" y="4803840"/>
              <a:ext cx="828036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95280" y="4803840"/>
              <a:ext cx="82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5280" y="6175440"/>
            <a:ext cx="8280360" cy="360"/>
            <a:chOff x="395280" y="6175440"/>
            <a:chExt cx="8280360" cy="360"/>
          </a:xfrm>
        </p:grpSpPr>
        <p:sp>
          <p:nvSpPr>
            <p:cNvPr id="311" name="Line 23"/>
            <p:cNvSpPr/>
            <p:nvPr/>
          </p:nvSpPr>
          <p:spPr>
            <a:xfrm>
              <a:off x="395280" y="6175440"/>
              <a:ext cx="828036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395280" y="6175440"/>
              <a:ext cx="82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95280" y="1397160"/>
            <a:ext cx="360" cy="4778280"/>
            <a:chOff x="395280" y="1397160"/>
            <a:chExt cx="360" cy="4778280"/>
          </a:xfrm>
        </p:grpSpPr>
        <p:sp>
          <p:nvSpPr>
            <p:cNvPr id="314" name="Line 24"/>
            <p:cNvSpPr/>
            <p:nvPr/>
          </p:nvSpPr>
          <p:spPr>
            <a:xfrm>
              <a:off x="395280" y="1397160"/>
              <a:ext cx="0" cy="477828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395280" y="1397160"/>
              <a:ext cx="360" cy="47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258920" y="1397160"/>
            <a:ext cx="360" cy="4778280"/>
            <a:chOff x="1258920" y="1397160"/>
            <a:chExt cx="360" cy="4778280"/>
          </a:xfrm>
        </p:grpSpPr>
        <p:sp>
          <p:nvSpPr>
            <p:cNvPr id="317" name="Line 25"/>
            <p:cNvSpPr/>
            <p:nvPr/>
          </p:nvSpPr>
          <p:spPr>
            <a:xfrm>
              <a:off x="1258920" y="1397160"/>
              <a:ext cx="0" cy="477828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258920" y="1397160"/>
              <a:ext cx="360" cy="47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627280" y="1397160"/>
            <a:ext cx="360" cy="4778280"/>
            <a:chOff x="2627280" y="1397160"/>
            <a:chExt cx="360" cy="4778280"/>
          </a:xfrm>
        </p:grpSpPr>
        <p:sp>
          <p:nvSpPr>
            <p:cNvPr id="320" name="Line 26"/>
            <p:cNvSpPr/>
            <p:nvPr/>
          </p:nvSpPr>
          <p:spPr>
            <a:xfrm>
              <a:off x="2627280" y="1397160"/>
              <a:ext cx="0" cy="477828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627280" y="1397160"/>
              <a:ext cx="360" cy="47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00720" y="1413000"/>
            <a:ext cx="360" cy="4778280"/>
            <a:chOff x="6300720" y="1413000"/>
            <a:chExt cx="360" cy="4778280"/>
          </a:xfrm>
        </p:grpSpPr>
        <p:sp>
          <p:nvSpPr>
            <p:cNvPr id="323" name="Line 27"/>
            <p:cNvSpPr/>
            <p:nvPr/>
          </p:nvSpPr>
          <p:spPr>
            <a:xfrm>
              <a:off x="6300720" y="1413000"/>
              <a:ext cx="0" cy="477828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300720" y="1413000"/>
              <a:ext cx="360" cy="47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675640" y="1397160"/>
            <a:ext cx="360" cy="4778280"/>
            <a:chOff x="8675640" y="1397160"/>
            <a:chExt cx="360" cy="4778280"/>
          </a:xfrm>
        </p:grpSpPr>
        <p:sp>
          <p:nvSpPr>
            <p:cNvPr id="326" name="Line 28"/>
            <p:cNvSpPr/>
            <p:nvPr/>
          </p:nvSpPr>
          <p:spPr>
            <a:xfrm>
              <a:off x="8675640" y="1397160"/>
              <a:ext cx="0" cy="477828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8675640" y="1397160"/>
              <a:ext cx="360" cy="47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762600" y="4444920"/>
            <a:ext cx="21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个代表思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48040" y="4444920"/>
            <a:ext cx="291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中共十四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547640" y="4437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泽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90440" y="4573440"/>
            <a:ext cx="1371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三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762600" y="3429000"/>
            <a:ext cx="21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邓小平理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48040" y="3429000"/>
            <a:ext cx="291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三中全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4032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邓小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190440" y="356544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6762600" y="2413080"/>
            <a:ext cx="21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毛泽东思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3848040" y="2413080"/>
            <a:ext cx="291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遵义会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1403280" y="24130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190440" y="255744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6762600" y="1549440"/>
            <a:ext cx="21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思想成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3848040" y="1549440"/>
            <a:ext cx="291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形成标志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1562040" y="154944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核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190440" y="139716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0440" y="1397160"/>
            <a:ext cx="8763120" cy="360"/>
            <a:chOff x="190440" y="1397160"/>
            <a:chExt cx="8763120" cy="360"/>
          </a:xfrm>
        </p:grpSpPr>
        <p:sp>
          <p:nvSpPr>
            <p:cNvPr id="345" name="Line 18"/>
            <p:cNvSpPr/>
            <p:nvPr/>
          </p:nvSpPr>
          <p:spPr>
            <a:xfrm>
              <a:off x="190440" y="1397160"/>
              <a:ext cx="8763120" cy="0"/>
            </a:xfrm>
            <a:prstGeom prst="line">
              <a:avLst/>
            </a:prstGeom>
            <a:ln cap="rnd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190440" y="1397160"/>
              <a:ext cx="876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90440" y="2413080"/>
            <a:ext cx="8763120" cy="360"/>
            <a:chOff x="190440" y="2413080"/>
            <a:chExt cx="8763120" cy="360"/>
          </a:xfrm>
        </p:grpSpPr>
        <p:sp>
          <p:nvSpPr>
            <p:cNvPr id="348" name="Line 19"/>
            <p:cNvSpPr/>
            <p:nvPr/>
          </p:nvSpPr>
          <p:spPr>
            <a:xfrm>
              <a:off x="190440" y="2413080"/>
              <a:ext cx="8763120" cy="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190440" y="2413080"/>
              <a:ext cx="876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90440" y="3429000"/>
            <a:ext cx="8763120" cy="360"/>
            <a:chOff x="190440" y="3429000"/>
            <a:chExt cx="8763120" cy="360"/>
          </a:xfrm>
        </p:grpSpPr>
        <p:sp>
          <p:nvSpPr>
            <p:cNvPr id="351" name="Line 20"/>
            <p:cNvSpPr/>
            <p:nvPr/>
          </p:nvSpPr>
          <p:spPr>
            <a:xfrm>
              <a:off x="190440" y="3429000"/>
              <a:ext cx="8763120" cy="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90440" y="3429000"/>
              <a:ext cx="876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0440" y="4444920"/>
            <a:ext cx="8763120" cy="360"/>
            <a:chOff x="190440" y="4444920"/>
            <a:chExt cx="8763120" cy="360"/>
          </a:xfrm>
        </p:grpSpPr>
        <p:sp>
          <p:nvSpPr>
            <p:cNvPr id="354" name="Line 21"/>
            <p:cNvSpPr/>
            <p:nvPr/>
          </p:nvSpPr>
          <p:spPr>
            <a:xfrm>
              <a:off x="190440" y="4444920"/>
              <a:ext cx="8763120" cy="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190440" y="4444920"/>
              <a:ext cx="876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0440" y="5460840"/>
            <a:ext cx="8763120" cy="360"/>
            <a:chOff x="190440" y="5460840"/>
            <a:chExt cx="8763120" cy="360"/>
          </a:xfrm>
        </p:grpSpPr>
        <p:sp>
          <p:nvSpPr>
            <p:cNvPr id="357" name="Line 22"/>
            <p:cNvSpPr/>
            <p:nvPr/>
          </p:nvSpPr>
          <p:spPr>
            <a:xfrm>
              <a:off x="190440" y="5460840"/>
              <a:ext cx="8763120" cy="0"/>
            </a:xfrm>
            <a:prstGeom prst="line">
              <a:avLst/>
            </a:prstGeom>
            <a:ln cap="rnd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90440" y="5460840"/>
              <a:ext cx="876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90440" y="1397160"/>
            <a:ext cx="360" cy="4063680"/>
            <a:chOff x="190440" y="1397160"/>
            <a:chExt cx="360" cy="4063680"/>
          </a:xfrm>
        </p:grpSpPr>
        <p:sp>
          <p:nvSpPr>
            <p:cNvPr id="360" name="Line 23"/>
            <p:cNvSpPr/>
            <p:nvPr/>
          </p:nvSpPr>
          <p:spPr>
            <a:xfrm>
              <a:off x="190440" y="1397160"/>
              <a:ext cx="0" cy="4063680"/>
            </a:xfrm>
            <a:prstGeom prst="line">
              <a:avLst/>
            </a:prstGeom>
            <a:ln cap="rnd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90440" y="1397160"/>
              <a:ext cx="360" cy="40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62040" y="1397160"/>
            <a:ext cx="360" cy="4063680"/>
            <a:chOff x="1562040" y="1397160"/>
            <a:chExt cx="360" cy="4063680"/>
          </a:xfrm>
        </p:grpSpPr>
        <p:sp>
          <p:nvSpPr>
            <p:cNvPr id="363" name="Line 24"/>
            <p:cNvSpPr/>
            <p:nvPr/>
          </p:nvSpPr>
          <p:spPr>
            <a:xfrm>
              <a:off x="1562040" y="1397160"/>
              <a:ext cx="0" cy="406368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1562040" y="1397160"/>
              <a:ext cx="360" cy="40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64000" y="1413000"/>
            <a:ext cx="360" cy="4064040"/>
            <a:chOff x="3564000" y="1413000"/>
            <a:chExt cx="360" cy="4064040"/>
          </a:xfrm>
        </p:grpSpPr>
        <p:sp>
          <p:nvSpPr>
            <p:cNvPr id="366" name="Line 25"/>
            <p:cNvSpPr/>
            <p:nvPr/>
          </p:nvSpPr>
          <p:spPr>
            <a:xfrm>
              <a:off x="3564000" y="1413000"/>
              <a:ext cx="0" cy="406404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564000" y="1413000"/>
              <a:ext cx="360" cy="406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762600" y="1397160"/>
            <a:ext cx="360" cy="4063680"/>
            <a:chOff x="6762600" y="1397160"/>
            <a:chExt cx="360" cy="4063680"/>
          </a:xfrm>
        </p:grpSpPr>
        <p:sp>
          <p:nvSpPr>
            <p:cNvPr id="369" name="Line 26"/>
            <p:cNvSpPr/>
            <p:nvPr/>
          </p:nvSpPr>
          <p:spPr>
            <a:xfrm>
              <a:off x="6762600" y="1397160"/>
              <a:ext cx="0" cy="4063680"/>
            </a:xfrm>
            <a:prstGeom prst="line">
              <a:avLst/>
            </a:prstGeom>
            <a:ln cap="rnd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6762600" y="1397160"/>
              <a:ext cx="360" cy="40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953560" y="1397160"/>
            <a:ext cx="360" cy="4063680"/>
            <a:chOff x="8953560" y="1397160"/>
            <a:chExt cx="360" cy="4063680"/>
          </a:xfrm>
        </p:grpSpPr>
        <p:sp>
          <p:nvSpPr>
            <p:cNvPr id="372" name="Line 27"/>
            <p:cNvSpPr/>
            <p:nvPr/>
          </p:nvSpPr>
          <p:spPr>
            <a:xfrm>
              <a:off x="8953560" y="1397160"/>
              <a:ext cx="0" cy="4063680"/>
            </a:xfrm>
            <a:prstGeom prst="line">
              <a:avLst/>
            </a:prstGeom>
            <a:ln cap="rnd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8953560" y="1397160"/>
              <a:ext cx="360" cy="40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4" name="Text Box 28"/>
          <p:cNvSpPr/>
          <p:nvPr/>
        </p:nvSpPr>
        <p:spPr>
          <a:xfrm>
            <a:off x="611280" y="549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附表</a:t>
            </a:r>
            <a:r>
              <a:rPr b="1" lang="en-US" sz="3200" spc="-1" strike="noStrike">
                <a:solidFill>
                  <a:srgbClr val="dc5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：党在历史上的三代领导集体的形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219640" y="6151680"/>
            <a:ext cx="352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邓小平和邓小平理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2079720" y="6151680"/>
            <a:ext cx="313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泽东和毛泽东思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6151680"/>
            <a:ext cx="168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Arial"/>
              </a:rPr>
              <a:t>领导核心和思想体系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219640" y="5451480"/>
            <a:ext cx="3529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实行家庭联产承包责任制，调动了农民的积极性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079720" y="5451480"/>
            <a:ext cx="3139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建立人民公社，没有真正调动农民的积极性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95280" y="5451480"/>
            <a:ext cx="1684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农业政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219640" y="4842000"/>
            <a:ext cx="352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外开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079720" y="4842000"/>
            <a:ext cx="313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我封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395280" y="4842000"/>
            <a:ext cx="168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外政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5219640" y="3727440"/>
            <a:ext cx="35290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逐步建立市场经济体制、民主集中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050920" y="3716280"/>
            <a:ext cx="31402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度集中的经济政治体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395280" y="3727440"/>
            <a:ext cx="16844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经济、政治体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219640" y="3116160"/>
            <a:ext cx="3529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济建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2079720" y="3116160"/>
            <a:ext cx="3139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阶级斗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395280" y="3116160"/>
            <a:ext cx="1684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工作重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5219640" y="2505240"/>
            <a:ext cx="352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拨乱反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Rectangle 18"/>
          <p:cNvSpPr/>
          <p:nvPr/>
        </p:nvSpPr>
        <p:spPr>
          <a:xfrm>
            <a:off x="2079720" y="2505240"/>
            <a:ext cx="31399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搞阶级斗争和无情打击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395280" y="2505240"/>
            <a:ext cx="168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组织路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5219640" y="1895400"/>
            <a:ext cx="352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经济建设为中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2079720" y="1895400"/>
            <a:ext cx="313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阶级斗争为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395280" y="1895400"/>
            <a:ext cx="168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政治路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5219640" y="1282680"/>
            <a:ext cx="3529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事求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2079720" y="1282680"/>
            <a:ext cx="3139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教条主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395280" y="1282680"/>
            <a:ext cx="1684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思想路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Rectangle 26"/>
          <p:cNvSpPr/>
          <p:nvPr/>
        </p:nvSpPr>
        <p:spPr>
          <a:xfrm>
            <a:off x="5364000" y="765000"/>
            <a:ext cx="3529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十一届三中全会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Rectangle 27"/>
          <p:cNvSpPr/>
          <p:nvPr/>
        </p:nvSpPr>
        <p:spPr>
          <a:xfrm>
            <a:off x="2079720" y="765000"/>
            <a:ext cx="3139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十一届三中全会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Rectangle 28"/>
          <p:cNvSpPr/>
          <p:nvPr/>
        </p:nvSpPr>
        <p:spPr>
          <a:xfrm>
            <a:off x="395280" y="765000"/>
            <a:ext cx="1684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95280" y="765000"/>
            <a:ext cx="8353440" cy="360"/>
            <a:chOff x="395280" y="765000"/>
            <a:chExt cx="8353440" cy="360"/>
          </a:xfrm>
        </p:grpSpPr>
        <p:sp>
          <p:nvSpPr>
            <p:cNvPr id="403" name="Line 29"/>
            <p:cNvSpPr/>
            <p:nvPr/>
          </p:nvSpPr>
          <p:spPr>
            <a:xfrm>
              <a:off x="395280" y="765000"/>
              <a:ext cx="835344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395280" y="76500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95280" y="1282680"/>
            <a:ext cx="8353440" cy="360"/>
            <a:chOff x="395280" y="1282680"/>
            <a:chExt cx="8353440" cy="360"/>
          </a:xfrm>
        </p:grpSpPr>
        <p:sp>
          <p:nvSpPr>
            <p:cNvPr id="406" name="Line 30"/>
            <p:cNvSpPr/>
            <p:nvPr/>
          </p:nvSpPr>
          <p:spPr>
            <a:xfrm>
              <a:off x="395280" y="128268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95280" y="128268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95280" y="1895400"/>
            <a:ext cx="8353440" cy="360"/>
            <a:chOff x="395280" y="1895400"/>
            <a:chExt cx="8353440" cy="360"/>
          </a:xfrm>
        </p:grpSpPr>
        <p:sp>
          <p:nvSpPr>
            <p:cNvPr id="409" name="Line 31"/>
            <p:cNvSpPr/>
            <p:nvPr/>
          </p:nvSpPr>
          <p:spPr>
            <a:xfrm>
              <a:off x="395280" y="189540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395280" y="189540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95280" y="2505240"/>
            <a:ext cx="8353440" cy="360"/>
            <a:chOff x="395280" y="2505240"/>
            <a:chExt cx="8353440" cy="360"/>
          </a:xfrm>
        </p:grpSpPr>
        <p:sp>
          <p:nvSpPr>
            <p:cNvPr id="412" name="Line 32"/>
            <p:cNvSpPr/>
            <p:nvPr/>
          </p:nvSpPr>
          <p:spPr>
            <a:xfrm>
              <a:off x="395280" y="250524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95280" y="25052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95280" y="3116160"/>
            <a:ext cx="8353440" cy="360"/>
            <a:chOff x="395280" y="3116160"/>
            <a:chExt cx="8353440" cy="360"/>
          </a:xfrm>
        </p:grpSpPr>
        <p:sp>
          <p:nvSpPr>
            <p:cNvPr id="415" name="Line 33"/>
            <p:cNvSpPr/>
            <p:nvPr/>
          </p:nvSpPr>
          <p:spPr>
            <a:xfrm>
              <a:off x="395280" y="311616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95280" y="311616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95280" y="3727440"/>
            <a:ext cx="8353440" cy="360"/>
            <a:chOff x="395280" y="3727440"/>
            <a:chExt cx="8353440" cy="360"/>
          </a:xfrm>
        </p:grpSpPr>
        <p:sp>
          <p:nvSpPr>
            <p:cNvPr id="418" name="Line 34"/>
            <p:cNvSpPr/>
            <p:nvPr/>
          </p:nvSpPr>
          <p:spPr>
            <a:xfrm>
              <a:off x="395280" y="372744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95280" y="37274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95280" y="4842000"/>
            <a:ext cx="8353440" cy="360"/>
            <a:chOff x="395280" y="4842000"/>
            <a:chExt cx="8353440" cy="360"/>
          </a:xfrm>
        </p:grpSpPr>
        <p:sp>
          <p:nvSpPr>
            <p:cNvPr id="421" name="Line 35"/>
            <p:cNvSpPr/>
            <p:nvPr/>
          </p:nvSpPr>
          <p:spPr>
            <a:xfrm>
              <a:off x="395280" y="484200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395280" y="484200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95280" y="5451480"/>
            <a:ext cx="8353440" cy="360"/>
            <a:chOff x="395280" y="5451480"/>
            <a:chExt cx="8353440" cy="360"/>
          </a:xfrm>
        </p:grpSpPr>
        <p:sp>
          <p:nvSpPr>
            <p:cNvPr id="424" name="Line 36"/>
            <p:cNvSpPr/>
            <p:nvPr/>
          </p:nvSpPr>
          <p:spPr>
            <a:xfrm>
              <a:off x="395280" y="545148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95280" y="545148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95280" y="6151680"/>
            <a:ext cx="8353440" cy="360"/>
            <a:chOff x="395280" y="6151680"/>
            <a:chExt cx="8353440" cy="360"/>
          </a:xfrm>
        </p:grpSpPr>
        <p:sp>
          <p:nvSpPr>
            <p:cNvPr id="427" name="Line 37"/>
            <p:cNvSpPr/>
            <p:nvPr/>
          </p:nvSpPr>
          <p:spPr>
            <a:xfrm>
              <a:off x="395280" y="6151680"/>
              <a:ext cx="8353440" cy="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95280" y="615168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95280" y="6761160"/>
            <a:ext cx="8353440" cy="360"/>
            <a:chOff x="395280" y="6761160"/>
            <a:chExt cx="8353440" cy="360"/>
          </a:xfrm>
        </p:grpSpPr>
        <p:sp>
          <p:nvSpPr>
            <p:cNvPr id="430" name="Line 38"/>
            <p:cNvSpPr/>
            <p:nvPr/>
          </p:nvSpPr>
          <p:spPr>
            <a:xfrm>
              <a:off x="395280" y="6761160"/>
              <a:ext cx="8353440" cy="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395280" y="676116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95280" y="765000"/>
            <a:ext cx="360" cy="5996160"/>
            <a:chOff x="395280" y="765000"/>
            <a:chExt cx="360" cy="5996160"/>
          </a:xfrm>
        </p:grpSpPr>
        <p:sp>
          <p:nvSpPr>
            <p:cNvPr id="433" name="Line 39"/>
            <p:cNvSpPr/>
            <p:nvPr/>
          </p:nvSpPr>
          <p:spPr>
            <a:xfrm>
              <a:off x="395280" y="765000"/>
              <a:ext cx="0" cy="599616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395280" y="765000"/>
              <a:ext cx="360" cy="599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79720" y="765000"/>
            <a:ext cx="360" cy="5996160"/>
            <a:chOff x="2079720" y="765000"/>
            <a:chExt cx="360" cy="5996160"/>
          </a:xfrm>
        </p:grpSpPr>
        <p:sp>
          <p:nvSpPr>
            <p:cNvPr id="436" name="Line 40"/>
            <p:cNvSpPr/>
            <p:nvPr/>
          </p:nvSpPr>
          <p:spPr>
            <a:xfrm>
              <a:off x="2079720" y="765000"/>
              <a:ext cx="0" cy="599616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079720" y="765000"/>
              <a:ext cx="360" cy="599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19640" y="765000"/>
            <a:ext cx="360" cy="5996160"/>
            <a:chOff x="5219640" y="765000"/>
            <a:chExt cx="360" cy="5996160"/>
          </a:xfrm>
        </p:grpSpPr>
        <p:sp>
          <p:nvSpPr>
            <p:cNvPr id="439" name="Line 41"/>
            <p:cNvSpPr/>
            <p:nvPr/>
          </p:nvSpPr>
          <p:spPr>
            <a:xfrm>
              <a:off x="5219640" y="765000"/>
              <a:ext cx="0" cy="5996160"/>
            </a:xfrm>
            <a:prstGeom prst="line">
              <a:avLst/>
            </a:prstGeom>
            <a:ln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219640" y="765000"/>
              <a:ext cx="360" cy="599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8748720" y="765000"/>
            <a:ext cx="360" cy="5996160"/>
            <a:chOff x="8748720" y="765000"/>
            <a:chExt cx="360" cy="5996160"/>
          </a:xfrm>
        </p:grpSpPr>
        <p:sp>
          <p:nvSpPr>
            <p:cNvPr id="442" name="Line 42"/>
            <p:cNvSpPr/>
            <p:nvPr/>
          </p:nvSpPr>
          <p:spPr>
            <a:xfrm>
              <a:off x="8748720" y="765000"/>
              <a:ext cx="0" cy="5996160"/>
            </a:xfrm>
            <a:prstGeom prst="line">
              <a:avLst/>
            </a:prstGeom>
            <a:ln cap="sq"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8748720" y="765000"/>
              <a:ext cx="360" cy="599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44" name="Text Box 43"/>
          <p:cNvSpPr/>
          <p:nvPr/>
        </p:nvSpPr>
        <p:spPr>
          <a:xfrm>
            <a:off x="1908000" y="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Dotum"/>
                <a:ea typeface="Dotum"/>
              </a:rPr>
              <a:t>附表</a:t>
            </a:r>
            <a:r>
              <a:rPr b="1" lang="en-US" sz="3600" spc="-1" strike="noStrike">
                <a:solidFill>
                  <a:srgbClr val="dc5900"/>
                </a:solidFill>
                <a:latin typeface="Dotum"/>
                <a:ea typeface="Dotum"/>
              </a:rPr>
              <a:t>4</a:t>
            </a:r>
            <a:r>
              <a:rPr b="1" lang="zh-CN" sz="3600" spc="-1" strike="noStrike">
                <a:solidFill>
                  <a:srgbClr val="dc5900"/>
                </a:solidFill>
                <a:latin typeface="Dotum"/>
                <a:ea typeface="Dotum"/>
              </a:rPr>
              <a:t>：伟大的历史转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深圳"/>
          <p:cNvPicPr/>
          <p:nvPr/>
        </p:nvPicPr>
        <p:blipFill>
          <a:blip r:embed="rId1"/>
          <a:stretch/>
        </p:blipFill>
        <p:spPr>
          <a:xfrm>
            <a:off x="838080" y="0"/>
            <a:ext cx="7601040" cy="60260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1219320" y="6172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  <a:ea typeface="华文楷体"/>
              </a:rPr>
              <a:t>深圳夜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三亚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184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438280" y="59436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  <a:ea typeface="华文楷体"/>
              </a:rPr>
              <a:t>三亚夜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468360" y="1052640"/>
              <a:ext cx="820728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图片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28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图片1"/>
            <p:cNvPicPr/>
            <p:nvPr/>
          </p:nvPicPr>
          <p:blipFill>
            <a:blip r:embed="rId3"/>
            <a:stretch/>
          </p:blipFill>
          <p:spPr>
            <a:xfrm>
              <a:off x="468360" y="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" descr="图片1"/>
            <p:cNvPicPr/>
            <p:nvPr/>
          </p:nvPicPr>
          <p:blipFill>
            <a:blip r:embed="rId4"/>
            <a:stretch/>
          </p:blipFill>
          <p:spPr>
            <a:xfrm>
              <a:off x="468360" y="836640"/>
              <a:ext cx="8532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图片1"/>
            <p:cNvPicPr/>
            <p:nvPr/>
          </p:nvPicPr>
          <p:blipFill>
            <a:blip r:embed="rId5"/>
            <a:stretch/>
          </p:blipFill>
          <p:spPr>
            <a:xfrm>
              <a:off x="468360" y="6021360"/>
              <a:ext cx="84247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图片1"/>
            <p:cNvPicPr/>
            <p:nvPr/>
          </p:nvPicPr>
          <p:blipFill>
            <a:blip r:embed="rId6"/>
            <a:stretch/>
          </p:blipFill>
          <p:spPr>
            <a:xfrm>
              <a:off x="395280" y="5950080"/>
              <a:ext cx="85327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图片1"/>
            <p:cNvPicPr/>
            <p:nvPr/>
          </p:nvPicPr>
          <p:blipFill>
            <a:blip r:embed="rId7"/>
            <a:stretch/>
          </p:blipFill>
          <p:spPr>
            <a:xfrm>
              <a:off x="8639280" y="0"/>
              <a:ext cx="504720" cy="68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Text Box 13"/>
          <p:cNvSpPr/>
          <p:nvPr/>
        </p:nvSpPr>
        <p:spPr>
          <a:xfrm>
            <a:off x="4211640" y="2492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684360" y="189000"/>
            <a:ext cx="3600360" cy="64764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请思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250920" y="1125360"/>
            <a:ext cx="7416720" cy="2664000"/>
          </a:xfrm>
          <a:prstGeom prst="cloudCallout">
            <a:avLst>
              <a:gd name="adj1" fmla="val 23888"/>
              <a:gd name="adj2" fmla="val 36055"/>
            </a:avLst>
          </a:prstGeom>
          <a:solidFill>
            <a:srgbClr val="f2f3c9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十一届三中全会是在什么样的背景下召开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403280" y="170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18" descr="LX2"/>
          <p:cNvPicPr/>
          <p:nvPr/>
        </p:nvPicPr>
        <p:blipFill>
          <a:blip r:embed="rId8"/>
          <a:srcRect l="71324" t="45800" r="0" b="3798"/>
          <a:stretch/>
        </p:blipFill>
        <p:spPr>
          <a:xfrm>
            <a:off x="6510240" y="3573360"/>
            <a:ext cx="21542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7010280" y="2422440"/>
            <a:ext cx="10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  <a:ea typeface="华文楷体"/>
              </a:rPr>
              <a:t>东方明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0" name="Picture 3" descr="上海"/>
          <p:cNvPicPr/>
          <p:nvPr/>
        </p:nvPicPr>
        <p:blipFill>
          <a:blip r:embed="rId1"/>
          <a:stretch/>
        </p:blipFill>
        <p:spPr>
          <a:xfrm>
            <a:off x="1120680" y="0"/>
            <a:ext cx="543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0062"/>
          <p:cNvPicPr/>
          <p:nvPr/>
        </p:nvPicPr>
        <p:blipFill>
          <a:blip r:embed="rId1"/>
          <a:stretch/>
        </p:blipFill>
        <p:spPr>
          <a:xfrm>
            <a:off x="457200" y="0"/>
            <a:ext cx="7772400" cy="61563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1523880" y="6172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  <a:ea typeface="华文楷体"/>
              </a:rPr>
              <a:t>上海夜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文本框 8199"/>
          <p:cNvSpPr/>
          <p:nvPr/>
        </p:nvSpPr>
        <p:spPr>
          <a:xfrm>
            <a:off x="185112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总结本课内容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）十一届三中全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）民主与法制建设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本课重点是什么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324000" y="1484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楷体"/>
                <a:ea typeface="华文楷体"/>
              </a:rPr>
              <a:t>时间</a:t>
            </a:r>
            <a:r>
              <a:rPr b="1" lang="en-US" sz="3200" spc="-1" strike="noStrike">
                <a:solidFill>
                  <a:srgbClr val="3366ff"/>
                </a:solidFill>
                <a:latin typeface="华文楷体"/>
                <a:ea typeface="华文楷体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1692360" y="1484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华文楷体"/>
                <a:ea typeface="华文楷体"/>
              </a:rPr>
              <a:t>1978</a:t>
            </a:r>
            <a:r>
              <a:rPr b="1" lang="zh-CN" sz="3200" spc="-1" strike="noStrike">
                <a:solidFill>
                  <a:srgbClr val="dc5900"/>
                </a:solidFill>
                <a:latin typeface="华文楷体"/>
                <a:ea typeface="华文楷体"/>
              </a:rPr>
              <a:t>年</a:t>
            </a:r>
            <a:r>
              <a:rPr b="1" lang="en-US" sz="3200" spc="-1" strike="noStrike">
                <a:solidFill>
                  <a:srgbClr val="dc5900"/>
                </a:solidFill>
                <a:latin typeface="华文楷体"/>
                <a:ea typeface="华文楷体"/>
              </a:rPr>
              <a:t>12</a:t>
            </a:r>
            <a:r>
              <a:rPr b="1" lang="zh-CN" sz="3200" spc="-1" strike="noStrike">
                <a:solidFill>
                  <a:srgbClr val="dc5900"/>
                </a:solidFill>
                <a:latin typeface="华文楷体"/>
                <a:ea typeface="华文楷体"/>
              </a:rPr>
              <a:t>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95280" y="29973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楷体"/>
                <a:ea typeface="华文楷体"/>
              </a:rPr>
              <a:t>内容</a:t>
            </a:r>
            <a:r>
              <a:rPr b="1" lang="en-US" sz="3200" spc="-1" strike="noStrike">
                <a:solidFill>
                  <a:srgbClr val="007a77"/>
                </a:solidFill>
                <a:latin typeface="华文楷体"/>
                <a:ea typeface="华文楷体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195640" y="22766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确立指导思想</a:t>
            </a:r>
            <a:r>
              <a:rPr b="1" lang="en-US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2195640" y="29973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做出战略决策</a:t>
            </a:r>
            <a:r>
              <a:rPr b="1" lang="en-US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239920" y="3716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形成领导集体</a:t>
            </a:r>
            <a:r>
              <a:rPr b="1" lang="en-US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50920" y="507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楷体"/>
                <a:ea typeface="华文楷体"/>
              </a:rPr>
              <a:t>意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403280" y="4508640"/>
            <a:ext cx="759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）是建国以来党的历史上具有深远意义的转折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）完成了党的思想路线、政治路线和组织路线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拨乱反正，是改革开放的开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楷体"/>
              </a:rPr>
              <a:t>）中国历史进入社会主义现代化建设新时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4643280" y="148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楷体"/>
                <a:ea typeface="华文楷体"/>
              </a:rPr>
              <a:t>地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6026040" y="1481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楷体"/>
                <a:ea typeface="华文楷体"/>
              </a:rPr>
              <a:t>北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668160"/>
            <a:ext cx="7299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十一届三中全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8459640" y="6381720"/>
            <a:ext cx="381240" cy="228600"/>
          </a:xfrm>
          <a:prstGeom prst="rightArrow">
            <a:avLst>
              <a:gd name="adj1" fmla="val 50000"/>
              <a:gd name="adj2" fmla="val 41677"/>
            </a:avLst>
          </a:prstGeom>
          <a:solidFill>
            <a:srgbClr val="7979a5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1908000" y="256536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1332000" y="4797360"/>
            <a:ext cx="75960" cy="1524240"/>
          </a:xfrm>
          <a:custGeom>
            <a:avLst/>
            <a:gdLst>
              <a:gd name="textAreaLeft" fmla="*/ 48600 w 75960"/>
              <a:gd name="textAreaRight" fmla="*/ 76320 w 75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76A-FA72-4F7E-AF95-FA29D7404959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12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确立指导思想</a:t>
            </a:r>
            <a:r>
              <a:rPr b="1" lang="en-US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做出战略决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形成领导集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华文楷体"/>
                <a:ea typeface="华文楷体"/>
              </a:rPr>
              <a:t>十一届三中全会内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3132000" y="1844640"/>
            <a:ext cx="50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放思想 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实事求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771640" y="328464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工作重心转移到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社会主义现代化建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3059280" y="4221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改革开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2771640" y="350028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3059280" y="5661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以邓小平为核心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58000" y="5810400"/>
            <a:ext cx="380880" cy="228600"/>
          </a:xfrm>
          <a:prstGeom prst="rightArrow">
            <a:avLst>
              <a:gd name="adj1" fmla="val 50000"/>
              <a:gd name="adj2" fmla="val 41638"/>
            </a:avLst>
          </a:prstGeom>
          <a:solidFill>
            <a:srgbClr val="7979a5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332000" y="2349360"/>
            <a:ext cx="5400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凡是毛主席作出的决策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我们都坚决维护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凡是毛主席的指示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我们都始终不渝地遵循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116000" y="692280"/>
            <a:ext cx="7201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中共中央主要领导人仍然坚持“左”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指导思想，提出“两个凡是”方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Picture 9" descr="Img240102586"/>
          <p:cNvPicPr/>
          <p:nvPr/>
        </p:nvPicPr>
        <p:blipFill>
          <a:blip r:embed="rId1"/>
          <a:stretch/>
        </p:blipFill>
        <p:spPr>
          <a:xfrm>
            <a:off x="6588000" y="2133720"/>
            <a:ext cx="1874880" cy="2725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44" name="WordArt 10"/>
          <p:cNvSpPr txBox="1"/>
          <p:nvPr/>
        </p:nvSpPr>
        <p:spPr>
          <a:xfrm>
            <a:off x="1979640" y="4941720"/>
            <a:ext cx="460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实质：“左”倾错误的继续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5" name="Picture 1031" descr="华国锋在"/>
          <p:cNvPicPr/>
          <p:nvPr/>
        </p:nvPicPr>
        <p:blipFill>
          <a:blip r:embed="rId2"/>
          <a:stretch/>
        </p:blipFill>
        <p:spPr>
          <a:xfrm>
            <a:off x="468360" y="4653000"/>
            <a:ext cx="1224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38080" y="9907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讨论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44560" y="684360"/>
            <a:ext cx="59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动脑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全国人民是如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破除“左倾”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想的束缚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5229000"/>
            <a:ext cx="8243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光明日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发表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实践是检验真理的唯一标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的文章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Picture 3" descr="HistoryMedia_5289[2]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692280"/>
            <a:ext cx="90010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关于真理标准问题的大讨论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目的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隶书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为了反对“两个凡是”的错误观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内容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隶书"/>
              </a:rPr>
              <a:t>: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肯定了“实践是检验真理的唯一标准”，否定了“两个凡是”的错误观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意义：                                                            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是一次深刻的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思想解放运动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隶书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大讨论的性质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隶书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，为十一届三中全会的召开奠定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思想基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61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．十一届三中全会背景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2421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关于真理标准问题大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伟大的转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一届三中全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NO_2381"/>
          <p:cNvPicPr/>
          <p:nvPr/>
        </p:nvPicPr>
        <p:blipFill>
          <a:blip r:embed="rId1"/>
          <a:stretch/>
        </p:blipFill>
        <p:spPr>
          <a:xfrm>
            <a:off x="2484360" y="1413000"/>
            <a:ext cx="439596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NO_3716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0" y="4842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中宋"/>
              </a:rPr>
              <a:t>十 一 届 三 中 全 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文本框 8199"/>
          <p:cNvSpPr/>
          <p:nvPr/>
        </p:nvSpPr>
        <p:spPr>
          <a:xfrm>
            <a:off x="1000080" y="1003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44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6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