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laser.wav" ContentType="audio/x-wav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8C1-0FBD-4D3F-BF9F-14326008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5F09-80BD-43F9-90ED-13ACE922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BF7-6D46-4DFD-9CA8-38D3F435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7D5-249E-495B-82BD-FD0A07D6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937D-8366-4D06-9199-8DBAEDCB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672D-533A-4186-8BE7-DB8B2047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F0AE-DDD0-4F4C-AD46-76CD3A07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AEE-8B4E-4C5B-BB24-5F43D021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1FBB-2349-4F52-957C-02B14FBF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6093-63E1-42EA-AA9C-5BA57A65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4EB-CBFE-46D7-B8D7-53272D0A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B79-A79B-4B55-A79D-D4B986FD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E994-1CAB-4159-BB4A-37758BF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3045-45C1-4E7B-A482-4FECA118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67E9-2713-4678-AC19-2410C0B9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9892-152B-4C6B-A8FF-D1009FA3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A9B3-CEBB-4EDD-A653-FCCEBD26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7DF5-7CEB-474D-8F10-EF188AE3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4028-5A9D-4A4C-909C-93FBB1BB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760E-1B46-4E0F-9198-2457335C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618A-5DBE-4523-9037-27557EE3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4ED8-90DE-4534-86BA-365278BA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3EE-EB4D-4BDA-9E5E-C23F1E34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FB8E-BEA5-452A-BB76-61292620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164C-C5E1-4449-98F0-724BCDE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B394C-6466-4DF3-BFA5-24890FA1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BD99B-3698-4C8D-9A40-3F1DB51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94BB-6603-4956-BEAE-5B0507E5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44BC-EC15-4000-BDE5-275D9A15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A9D1-76F2-4DCA-B16C-E91F96EE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D81-3ACF-43E4-BB78-BFB76840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0CE-569F-4731-B911-4358D136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311-B15E-404E-B246-14BF5B56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A13-DE3A-4023-9FDF-3547C785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2E3-D066-4FFA-8568-B2665452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B82-4620-41DB-A89B-24A82D0D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CD8A-D5D6-4C1E-8087-7ECA74E48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832E-6FDA-486A-AE1A-38DF8F80E7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E9C8-14B4-4476-9A28-90A859B98066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8219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我的第一本书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课件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模板打包下载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牛  汉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．我的童年没有幽默，只有从荒寒的大自然感应到一点生命最初的快乐和梦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的童年生活是艰苦的，但我的第一本书给我的生活带来了乐趣和知识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．我的第一本书实在应当写写，如果不写，我就枉读了这几十年的书，更枉写了这几十年的诗。人不能忘本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的第一本书，作为我的启蒙老师对我后来走上文学道路有着深远的影响。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品味语言</a:t>
            </a: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理解下列句子的含义。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楷体_GB2312"/>
              </a:rPr>
              <a:t>小结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本文是诗人牛汉的一篇随笔。作者通过对他的第一本书的追叙，折射出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世纪初中国农村的苦难生活和苦难生活中的人间温情以及生命乐趣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文本框 8197"/>
          <p:cNvSpPr/>
          <p:nvPr/>
        </p:nvSpPr>
        <p:spPr>
          <a:xfrm>
            <a:off x="1752480" y="56386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6" name="Picture 9" descr="npo0000c1"/>
          <p:cNvPicPr/>
          <p:nvPr/>
        </p:nvPicPr>
        <p:blipFill>
          <a:blip r:embed="rId1"/>
          <a:stretch/>
        </p:blipFill>
        <p:spPr>
          <a:xfrm>
            <a:off x="533520" y="380880"/>
            <a:ext cx="320040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3801960" y="533520"/>
            <a:ext cx="42022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隶书"/>
                <a:ea typeface="隶书"/>
              </a:rPr>
              <a:t>请同学们大胆提问</a:t>
            </a:r>
            <a:r>
              <a:rPr b="1" lang="en-US" sz="6600" spc="-1" strike="noStrike">
                <a:solidFill>
                  <a:srgbClr val="0033cc"/>
                </a:solidFill>
                <a:latin typeface="隶书"/>
                <a:ea typeface="隶书"/>
              </a:rPr>
              <a:t>,</a:t>
            </a:r>
            <a:r>
              <a:rPr b="1" lang="zh-CN" sz="6600" spc="-1" strike="noStrike">
                <a:solidFill>
                  <a:srgbClr val="0033cc"/>
                </a:solidFill>
                <a:latin typeface="隶书"/>
                <a:ea typeface="隶书"/>
              </a:rPr>
              <a:t>不断提高自己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178F-C6C5-4760-BC02-94804741E73F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1219320" y="190512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合作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!</a:t>
            </a: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下次再见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!</a:t>
            </a:r>
            <a:endParaRPr b="0" lang="en-US" sz="18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6320" y="1294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、了解牛汉的生平及代表作品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、掌握重点的生字生词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、能用流畅简洁的语言复述“我第一本书”的由来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、作者是怀着怎样的一种感情追忆他的“第一本书”的？作者为什么这样珍视这“第一本书” 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、讨论完成研讨与练习二的问题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、通过本文的学习你领悟到了哪些有关读书对于人生的意义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、提问释疑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304920" y="0"/>
            <a:ext cx="3352680" cy="137160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09480" y="3049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教 学 目 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牛  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牛汉，现当代著名诗人，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七月诗派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重要诗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诗坛硬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美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原名史成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又名牛汀。生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2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，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4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开始写诗，有诗剧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智慧的悲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&gt;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诗歌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鄂尔多斯草原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&gt;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诗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彩色的生活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&gt;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54440" y="1980720"/>
            <a:ext cx="41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Picture 4" descr="VIEW-jpg"/>
          <p:cNvPicPr/>
          <p:nvPr/>
        </p:nvPicPr>
        <p:blipFill>
          <a:blip r:embed="rId1"/>
          <a:stretch/>
        </p:blipFill>
        <p:spPr>
          <a:xfrm>
            <a:off x="4724280" y="160020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学习生字词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酷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(      )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似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掺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和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脊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背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枉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(       )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读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56160" y="558468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657600" y="4724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ǎng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038480" y="38098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j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657600" y="2895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hā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20574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k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438280" y="8377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有趣或可笑而意味深长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凄凉悲惨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奥妙神秘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一次又一次；多次重复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掺杂混合在一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有知识，懂礼貌。指人有文化教养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极像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解释下列词语。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90360"/>
            <a:ext cx="3200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幽默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凄惨：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奥秘：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翻来覆去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掺和：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知书识礼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酷似：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572"/>
                </a:solidFill>
                <a:latin typeface="Arial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、</a:t>
            </a: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华文新魏"/>
              </a:rPr>
              <a:t>复述“第一本书”的故事</a:t>
            </a: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文本框 8197"/>
          <p:cNvSpPr/>
          <p:nvPr/>
        </p:nvSpPr>
        <p:spPr>
          <a:xfrm>
            <a:off x="1371600" y="5562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04920" y="1295280"/>
            <a:ext cx="8534160" cy="29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、作者是怀着怎样的一种感情追忆他的“第一本书”的？作者为什么这样珍视这“第一本书” 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8600" y="6854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、作者追忆的心情是沉重的</a:t>
            </a:r>
            <a:r>
              <a:rPr b="1" lang="en-US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他是怀着敬重、珍爱的感情追忆第一本书的</a:t>
            </a:r>
            <a:r>
              <a:rPr b="1" lang="en-US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同时</a:t>
            </a:r>
            <a:r>
              <a:rPr b="1" lang="en-US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感情也是复杂的</a:t>
            </a:r>
            <a:r>
              <a:rPr b="1" lang="en-US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百感交集的</a:t>
            </a:r>
            <a:r>
              <a:rPr b="1" lang="en-US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因为那本书里深藏着苦难的生活和恶劣的学习条件与环境</a:t>
            </a:r>
            <a:r>
              <a:rPr b="1" lang="en-US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同时也映照着那个时代人们的命运</a:t>
            </a:r>
            <a:r>
              <a:rPr b="1" lang="en-US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以及在那种荒寒背景下特别可贵的一点乐趣和温情</a:t>
            </a:r>
            <a:r>
              <a:rPr b="1" lang="en-US" sz="40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14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2</a:t>
            </a:r>
            <a:r>
              <a:rPr b="1" lang="zh-CN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、因为这第一本书</a:t>
            </a:r>
            <a:r>
              <a:rPr b="1" lang="en-US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不仅仅是那半本课本</a:t>
            </a:r>
            <a:r>
              <a:rPr b="1" lang="en-US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也指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汉仪中隶书简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我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汉仪中隶书简"/>
              </a:rPr>
              <a:t>”</a:t>
            </a:r>
            <a:r>
              <a:rPr b="1" lang="zh-CN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人生的第一课</a:t>
            </a:r>
            <a:r>
              <a:rPr b="1" lang="en-US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 </a:t>
            </a:r>
            <a:r>
              <a:rPr b="1" lang="zh-CN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这人生的第一课</a:t>
            </a:r>
            <a:r>
              <a:rPr b="1" lang="en-US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蕴含着生活的艰辛</a:t>
            </a:r>
            <a:r>
              <a:rPr b="1" lang="en-US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人间的温情</a:t>
            </a:r>
            <a:r>
              <a:rPr b="1" lang="en-US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同学的友谊和上学的乐趣</a:t>
            </a:r>
            <a:r>
              <a:rPr b="1" lang="en-US" sz="4800" spc="-1" strike="noStrike">
                <a:solidFill>
                  <a:srgbClr val="0033cc"/>
                </a:solidFill>
                <a:latin typeface="汉仪中隶书简"/>
                <a:ea typeface="汉仪中隶书简"/>
              </a:rPr>
              <a:t>.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02:51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29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