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10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6EA-47EC-40B6-8964-546004B3C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4E4B-5695-4D44-9530-B5A9A41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803-6D2D-4996-AD88-24574CCEF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402-5F5D-4F3D-9CEC-11BA1B8A0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3A97-20D8-42F3-92FF-9B6FB6E1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95C2-4A09-4B36-BDAB-3498426F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5D9E-286E-4F42-98E8-7A05D9A9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27C0-23AB-42C6-8B29-8BF9DE2B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4AE2-C441-4203-95CA-8DDEC2E9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98A2-6746-4F79-AC3D-AA4E90F7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5BE1-718C-4933-A741-27CA3674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84CF-DE48-4E7C-8879-51F4D017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18FE-E191-49F8-A4C2-7A68B48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495B-0DA6-43DC-90FA-96E600B1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7BE2-6A19-4063-A839-84862DD2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1A27-DDAD-44D3-9A63-117B1619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C8A6-C159-4BD3-945A-25AB638D3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557AE-C9A5-46E3-B9C7-FD0A436E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1406-6413-4EE0-8DE4-27245EF5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0B27F-9FE9-424D-84B1-E291E616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61F6-578A-4C1E-B500-EFC22AB3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B3E8A-723D-4800-9A75-9779D2F4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1B1-54E7-4F52-AC32-E06F61B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64D86-1D41-4E82-A8AA-B0414E97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4F3F-E1A6-44D4-9A1D-8CC6CB56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9D53B-1486-4782-A125-309E090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0485-43A3-40B6-9CE0-B70A7C0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E58AB-03E9-43C6-A625-8037B70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056DE-2121-4080-A8B8-36D34074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89EB-0347-4119-8F60-6A707DE9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1D79-8C64-4909-8555-7EC7B4AC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B4F-589C-4892-80B8-B563FB8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57A9-D066-442D-8919-BC5B571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6EE-348A-497E-8E10-BDB75787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FB02-87EB-476F-8E1F-0A9ED23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15F-F6F9-4DAB-B60B-214A0730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028D-71EB-42EF-99F8-CB350AC425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7550-5FB1-4D81-9004-9C959BE2C8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A2E5-8EFE-49C7-B363-29E31436EEF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1346040" y="84600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四年级《品德与社会》下册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6680" y="2224080"/>
            <a:ext cx="65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我的家乡在哪里</a:t>
            </a:r>
            <a:r>
              <a:rPr b="1" lang="en-US" sz="4000" spc="-1" strike="noStrike">
                <a:solidFill>
                  <a:srgbClr val="0000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cc"/>
                </a:solidFill>
                <a:latin typeface="宋体"/>
                <a:ea typeface="宋体"/>
              </a:rPr>
              <a:t>课件免费下载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23640" y="333360"/>
            <a:ext cx="835164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王红的家乡在北京市，在地图上找一找北京市。你还知道我国像北京市一样的直辖市还有哪些吗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卓玛的家乡在西藏，西藏在哪里？找一找。西藏的全称是西藏自治区，我国有哪些自治区呢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赵佳的家乡在香港。香港在中国的哪里？香港的全称是什么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哪个省级行政区的全称和香港相似呢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陈芳他们的家乡在台湾，台湾在祖国的哪个方位？我国包括台湾在内的省有多少个呢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中国政区图"/>
          <p:cNvPicPr/>
          <p:nvPr/>
        </p:nvPicPr>
        <p:blipFill>
          <a:blip r:embed="rId1"/>
          <a:stretch/>
        </p:blipFill>
        <p:spPr>
          <a:xfrm>
            <a:off x="0" y="0"/>
            <a:ext cx="9753480" cy="8685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88380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看地图找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79280" y="1267920"/>
            <a:ext cx="878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自治区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内蒙古自治区、新疆维吾尔族自治区、宁夏回族自治区、广西壮族自治区、西藏自治区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特别行政区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香港特别行政区、澳门特别行政区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23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个省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台湾省、河北省、山西省、吉林省、辽宁省、黑龙江省、陕西省、甘肃省、青海省、山东省、福建省、浙江省、河南省、湖北省、湖南省、江西省、江苏省、安徽省、广东省、海南省、四川省、贵州省、云南省。 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79280" y="177840"/>
            <a:ext cx="8785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楷体_GB2312"/>
              </a:rPr>
              <a:t>4</a:t>
            </a:r>
            <a:r>
              <a:rPr b="0" lang="zh-CN" sz="3200" spc="-1" strike="noStrike">
                <a:solidFill>
                  <a:srgbClr val="333399"/>
                </a:solidFill>
                <a:latin typeface="楷体_GB2312"/>
              </a:rPr>
              <a:t>个直辖市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：北京市、天津市、上海市、重庆市</a:t>
            </a:r>
            <a:r>
              <a:rPr b="0" lang="zh-CN" sz="3200" spc="-1" strike="noStrike">
                <a:solidFill>
                  <a:srgbClr val="0000cc"/>
                </a:solidFill>
                <a:latin typeface="宋体"/>
                <a:ea typeface="宋体"/>
              </a:rPr>
              <a:t>.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979280" y="981000"/>
            <a:ext cx="475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两湖两广两河山，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四市四江福吉安，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云贵川内青藏新，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陕甘两宁和海南，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港澳是我好河山，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台归之日盼团圆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7" name="文本框 8199"/>
          <p:cNvSpPr/>
          <p:nvPr/>
        </p:nvSpPr>
        <p:spPr>
          <a:xfrm>
            <a:off x="1467000" y="442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1254240" y="47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家乡的自然环境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457200" y="2266920"/>
            <a:ext cx="7848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　　　　　　　　　　　　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　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0" name="Picture 4" descr="中国地形图"/>
          <p:cNvPicPr/>
          <p:nvPr/>
        </p:nvPicPr>
        <p:blipFill>
          <a:blip r:embed="rId1"/>
          <a:srcRect l="6274" t="3480" r="3773" b="4281"/>
          <a:stretch/>
        </p:blipFill>
        <p:spPr>
          <a:xfrm>
            <a:off x="900000" y="765000"/>
            <a:ext cx="6504120" cy="518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青藏高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WordArt 3"/>
          <p:cNvSpPr txBox="1"/>
          <p:nvPr/>
        </p:nvSpPr>
        <p:spPr>
          <a:xfrm>
            <a:off x="0" y="0"/>
            <a:ext cx="3086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青藏高原</a:t>
            </a:r>
            <a:endParaRPr b="1" lang="en-US" sz="6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黄土高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 rot="10800000">
            <a:off x="685800" y="6095160"/>
            <a:ext cx="7772400" cy="1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0" y="0"/>
            <a:ext cx="308628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隶书"/>
              </a:rPr>
              <a:t>黄土高原</a:t>
            </a:r>
            <a:endParaRPr b="1" lang="en-US" sz="6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8" name="Picture 4" descr="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WordArt 5"/>
          <p:cNvSpPr txBox="1"/>
          <p:nvPr/>
        </p:nvSpPr>
        <p:spPr>
          <a:xfrm>
            <a:off x="3276720" y="260280"/>
            <a:ext cx="2314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太行山</a:t>
            </a:r>
            <a:endParaRPr b="1" lang="en-US" sz="6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2" name="Picture 4" descr="四川盆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684360" y="476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四川盆地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06" name="Picture 4" descr="东南丘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324000" y="260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东南丘陵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在那桃花盛开的地方"/>
          <p:cNvPicPr/>
          <p:nvPr/>
        </p:nvPicPr>
        <p:blipFill>
          <a:blip r:embed="rId1"/>
          <a:stretch/>
        </p:blipFill>
        <p:spPr>
          <a:xfrm>
            <a:off x="-31680" y="1440"/>
            <a:ext cx="9175680" cy="685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0" name="Picture 4" descr="华北平原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611280" y="40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华北平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Times New Roman"/>
              </a:rPr>
              <a:t>家乡的环境与哪张图片一样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 rot="10800000">
            <a:off x="685800" y="6095880"/>
            <a:ext cx="77724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14" name="Picture 4" descr="四川盆地"/>
          <p:cNvPicPr/>
          <p:nvPr/>
        </p:nvPicPr>
        <p:blipFill>
          <a:blip r:embed="rId1"/>
          <a:stretch/>
        </p:blipFill>
        <p:spPr>
          <a:xfrm>
            <a:off x="1042920" y="1125360"/>
            <a:ext cx="2305080" cy="2089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黄土高原"/>
          <p:cNvPicPr/>
          <p:nvPr/>
        </p:nvPicPr>
        <p:blipFill>
          <a:blip r:embed="rId2"/>
          <a:stretch/>
        </p:blipFill>
        <p:spPr>
          <a:xfrm>
            <a:off x="4932360" y="1268280"/>
            <a:ext cx="2449440" cy="2016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05"/>
          <p:cNvPicPr/>
          <p:nvPr/>
        </p:nvPicPr>
        <p:blipFill>
          <a:blip r:embed="rId3"/>
          <a:stretch/>
        </p:blipFill>
        <p:spPr>
          <a:xfrm>
            <a:off x="611280" y="3573360"/>
            <a:ext cx="3058920" cy="285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华北平原"/>
          <p:cNvPicPr/>
          <p:nvPr/>
        </p:nvPicPr>
        <p:blipFill>
          <a:blip r:embed="rId4"/>
          <a:stretch/>
        </p:blipFill>
        <p:spPr>
          <a:xfrm>
            <a:off x="4067280" y="3500280"/>
            <a:ext cx="4787640" cy="29307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8"/>
          <p:cNvSpPr/>
          <p:nvPr/>
        </p:nvSpPr>
        <p:spPr>
          <a:xfrm>
            <a:off x="4284720" y="36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华北平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1254240" y="47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家乡的自然环境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0" name="Picture 4" descr="中国地形图"/>
          <p:cNvPicPr/>
          <p:nvPr/>
        </p:nvPicPr>
        <p:blipFill>
          <a:blip r:embed="rId1"/>
          <a:srcRect l="6274" t="3480" r="3773" b="4281"/>
          <a:stretch/>
        </p:blipFill>
        <p:spPr>
          <a:xfrm>
            <a:off x="900000" y="804960"/>
            <a:ext cx="6504120" cy="518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2440" y="1630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画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447920" y="2209680"/>
            <a:ext cx="6553080" cy="3962520"/>
            <a:chOff x="1447920" y="2209680"/>
            <a:chExt cx="6553080" cy="3962520"/>
          </a:xfrm>
        </p:grpSpPr>
        <p:pic>
          <p:nvPicPr>
            <p:cNvPr id="223" name="Picture 4" descr="r05"/>
            <p:cNvPicPr/>
            <p:nvPr/>
          </p:nvPicPr>
          <p:blipFill>
            <a:blip r:embed="rId1"/>
            <a:stretch/>
          </p:blipFill>
          <p:spPr>
            <a:xfrm>
              <a:off x="1447920" y="2671560"/>
              <a:ext cx="2095560" cy="35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5"/>
            <p:cNvSpPr/>
            <p:nvPr/>
          </p:nvSpPr>
          <p:spPr>
            <a:xfrm>
              <a:off x="3429000" y="2209680"/>
              <a:ext cx="45720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　　我们在地图上画画家乡吧！想像一下它像什么？如果涂颜色，你会选择什么颜色呢？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2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522440" y="1630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画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914400" y="2286000"/>
            <a:ext cx="7238880" cy="3672000"/>
            <a:chOff x="914400" y="2286000"/>
            <a:chExt cx="7238880" cy="3672000"/>
          </a:xfrm>
        </p:grpSpPr>
        <p:pic>
          <p:nvPicPr>
            <p:cNvPr id="228" name="Picture 4" descr="p4_1"/>
            <p:cNvPicPr/>
            <p:nvPr/>
          </p:nvPicPr>
          <p:blipFill>
            <a:blip r:embed="rId1"/>
            <a:stretch/>
          </p:blipFill>
          <p:spPr>
            <a:xfrm>
              <a:off x="914400" y="2286000"/>
              <a:ext cx="3962520" cy="36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5" descr="p4_2"/>
            <p:cNvPicPr/>
            <p:nvPr/>
          </p:nvPicPr>
          <p:blipFill>
            <a:blip r:embed="rId2"/>
            <a:stretch/>
          </p:blipFill>
          <p:spPr>
            <a:xfrm>
              <a:off x="5334120" y="2651040"/>
              <a:ext cx="2819160" cy="24544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1403280" y="2205000"/>
            <a:ext cx="6095880" cy="3657600"/>
            <a:chOff x="1403280" y="2205000"/>
            <a:chExt cx="6095880" cy="3657600"/>
          </a:xfrm>
        </p:grpSpPr>
        <p:sp>
          <p:nvSpPr>
            <p:cNvPr id="231" name="Rectangle 3"/>
            <p:cNvSpPr/>
            <p:nvPr/>
          </p:nvSpPr>
          <p:spPr>
            <a:xfrm>
              <a:off x="1403280" y="2205000"/>
              <a:ext cx="6095880" cy="3657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2394000" y="2509920"/>
              <a:ext cx="4647960" cy="29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1708200" y="3147840"/>
              <a:ext cx="549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我的家乡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234" name="Text Box 6"/>
          <p:cNvSpPr/>
          <p:nvPr/>
        </p:nvSpPr>
        <p:spPr>
          <a:xfrm>
            <a:off x="1522440" y="1197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画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4477E-F64C-4337-847E-C29992A77CAC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 rot="10800000">
            <a:off x="8458200" y="6095160"/>
            <a:ext cx="146160" cy="2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WordArt 4"/>
          <p:cNvSpPr txBox="1"/>
          <p:nvPr/>
        </p:nvSpPr>
        <p:spPr>
          <a:xfrm>
            <a:off x="1547640" y="1052640"/>
            <a:ext cx="4572000" cy="31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开心学习，快乐成长。</a:t>
            </a:r>
            <a:endParaRPr b="1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611280" y="765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、在河北政区图上找到我们的家乡河北邯郸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你知道在地图上哪儿是北？哪儿是南？哪儿是东？哪儿是西吗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邯郸位于河北省的哪个方位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4.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紧挨着我们邯郸市是哪个邻居呢？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27"/>
          <p:cNvSpPr/>
          <p:nvPr/>
        </p:nvSpPr>
        <p:spPr>
          <a:xfrm>
            <a:off x="1476360" y="35258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140360" y="836640"/>
            <a:ext cx="903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95640" y="5950080"/>
            <a:ext cx="1381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813800" y="2997360"/>
            <a:ext cx="1170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4500720" y="1486080"/>
            <a:ext cx="3850920" cy="4407840"/>
            <a:chOff x="4500720" y="1486080"/>
            <a:chExt cx="3850920" cy="4407840"/>
          </a:xfrm>
        </p:grpSpPr>
        <p:sp>
          <p:nvSpPr>
            <p:cNvPr id="134" name="Text Box 7"/>
            <p:cNvSpPr/>
            <p:nvPr/>
          </p:nvSpPr>
          <p:spPr>
            <a:xfrm>
              <a:off x="5652720" y="4725720"/>
              <a:ext cx="50256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6300360" y="3646080"/>
              <a:ext cx="1583640" cy="360"/>
              <a:chOff x="6300360" y="3646080"/>
              <a:chExt cx="1583640" cy="360"/>
            </a:xfrm>
          </p:grpSpPr>
          <p:sp>
            <p:nvSpPr>
              <p:cNvPr id="136" name="Line 8"/>
              <p:cNvSpPr/>
              <p:nvPr/>
            </p:nvSpPr>
            <p:spPr>
              <a:xfrm>
                <a:off x="6300360" y="3646080"/>
                <a:ext cx="1583640" cy="0"/>
              </a:xfrm>
              <a:prstGeom prst="line">
                <a:avLst/>
              </a:prstGeom>
              <a:ln w="7632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6300360" y="3646080"/>
                <a:ext cx="158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7163640" y="2062080"/>
              <a:ext cx="360" cy="3095640"/>
              <a:chOff x="7163640" y="2062080"/>
              <a:chExt cx="360" cy="3095640"/>
            </a:xfrm>
          </p:grpSpPr>
          <p:sp>
            <p:nvSpPr>
              <p:cNvPr id="139" name="Line 9"/>
              <p:cNvSpPr/>
              <p:nvPr/>
            </p:nvSpPr>
            <p:spPr>
              <a:xfrm>
                <a:off x="7163640" y="2062080"/>
                <a:ext cx="0" cy="3095640"/>
              </a:xfrm>
              <a:prstGeom prst="line">
                <a:avLst/>
              </a:prstGeom>
              <a:ln w="76320">
                <a:solidFill>
                  <a:srgbClr val="00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7163640" y="2062080"/>
                <a:ext cx="360" cy="309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41" name="Text Box 10"/>
            <p:cNvSpPr/>
            <p:nvPr/>
          </p:nvSpPr>
          <p:spPr>
            <a:xfrm>
              <a:off x="6876000" y="148608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北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6876000" y="5373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南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5795640" y="3357360"/>
              <a:ext cx="4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西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7884000" y="3429000"/>
              <a:ext cx="4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东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7163280" y="2493360"/>
              <a:ext cx="790560" cy="1152360"/>
              <a:chOff x="7163280" y="2493360"/>
              <a:chExt cx="790560" cy="1152360"/>
            </a:xfrm>
          </p:grpSpPr>
          <p:sp>
            <p:nvSpPr>
              <p:cNvPr id="146" name="Line 14"/>
              <p:cNvSpPr/>
              <p:nvPr/>
            </p:nvSpPr>
            <p:spPr>
              <a:xfrm flipV="1">
                <a:off x="7163640" y="2493360"/>
                <a:ext cx="790200" cy="115236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 txBox="1"/>
              <p:nvPr/>
            </p:nvSpPr>
            <p:spPr>
              <a:xfrm rot="10800000">
                <a:off x="7163280" y="2493360"/>
                <a:ext cx="79020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5"/>
            <p:cNvSpPr/>
            <p:nvPr/>
          </p:nvSpPr>
          <p:spPr>
            <a:xfrm>
              <a:off x="7523640" y="198900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东北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163640" y="3646080"/>
              <a:ext cx="863280" cy="1008360"/>
              <a:chOff x="7163640" y="3646080"/>
              <a:chExt cx="863280" cy="1008360"/>
            </a:xfrm>
          </p:grpSpPr>
          <p:sp>
            <p:nvSpPr>
              <p:cNvPr id="150" name="Line 16"/>
              <p:cNvSpPr/>
              <p:nvPr/>
            </p:nvSpPr>
            <p:spPr>
              <a:xfrm>
                <a:off x="7163640" y="3646080"/>
                <a:ext cx="863280" cy="100836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 txBox="1"/>
              <p:nvPr/>
            </p:nvSpPr>
            <p:spPr>
              <a:xfrm>
                <a:off x="7163640" y="3646080"/>
                <a:ext cx="863280" cy="100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52" name="Text Box 17"/>
            <p:cNvSpPr/>
            <p:nvPr/>
          </p:nvSpPr>
          <p:spPr>
            <a:xfrm>
              <a:off x="7452360" y="4725720"/>
              <a:ext cx="89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东南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6228360" y="3718080"/>
              <a:ext cx="863280" cy="1007640"/>
              <a:chOff x="6228360" y="3718080"/>
              <a:chExt cx="863280" cy="1007640"/>
            </a:xfrm>
          </p:grpSpPr>
          <p:sp>
            <p:nvSpPr>
              <p:cNvPr id="154" name="Line 18"/>
              <p:cNvSpPr/>
              <p:nvPr/>
            </p:nvSpPr>
            <p:spPr>
              <a:xfrm flipH="1">
                <a:off x="6228360" y="3718080"/>
                <a:ext cx="863280" cy="100764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 txBox="1"/>
              <p:nvPr/>
            </p:nvSpPr>
            <p:spPr>
              <a:xfrm>
                <a:off x="6228360" y="3718080"/>
                <a:ext cx="863280" cy="1007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56" name="Text Box 19"/>
            <p:cNvSpPr/>
            <p:nvPr/>
          </p:nvSpPr>
          <p:spPr>
            <a:xfrm>
              <a:off x="5868720" y="4654800"/>
              <a:ext cx="86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西南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300360" y="2565360"/>
              <a:ext cx="863280" cy="1080720"/>
              <a:chOff x="6300360" y="2565360"/>
              <a:chExt cx="863280" cy="1080720"/>
            </a:xfrm>
          </p:grpSpPr>
          <p:sp>
            <p:nvSpPr>
              <p:cNvPr id="158" name="Line 20"/>
              <p:cNvSpPr/>
              <p:nvPr/>
            </p:nvSpPr>
            <p:spPr>
              <a:xfrm flipH="1" flipV="1">
                <a:off x="6300360" y="2565360"/>
                <a:ext cx="863280" cy="1080720"/>
              </a:xfrm>
              <a:prstGeom prst="line">
                <a:avLst/>
              </a:prstGeom>
              <a:ln w="57240">
                <a:solidFill>
                  <a:srgbClr val="0000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 txBox="1"/>
              <p:nvPr/>
            </p:nvSpPr>
            <p:spPr>
              <a:xfrm rot="10800000">
                <a:off x="6300360" y="2565360"/>
                <a:ext cx="863280" cy="108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160" name="Text Box 21"/>
            <p:cNvSpPr/>
            <p:nvPr/>
          </p:nvSpPr>
          <p:spPr>
            <a:xfrm>
              <a:off x="5795640" y="213372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西北</a:t>
              </a:r>
              <a:endParaRPr b="1" lang="en-US" sz="2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61" name="Text Box 22"/>
            <p:cNvSpPr/>
            <p:nvPr/>
          </p:nvSpPr>
          <p:spPr>
            <a:xfrm>
              <a:off x="4500720" y="4572000"/>
              <a:ext cx="502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pic>
        <p:nvPicPr>
          <p:cNvPr id="162" name="Picture 23" descr="河北地图"/>
          <p:cNvPicPr/>
          <p:nvPr/>
        </p:nvPicPr>
        <p:blipFill>
          <a:blip r:embed="rId1"/>
          <a:stretch/>
        </p:blipFill>
        <p:spPr>
          <a:xfrm>
            <a:off x="324000" y="0"/>
            <a:ext cx="5327640" cy="681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中国政区图"/>
          <p:cNvPicPr/>
          <p:nvPr/>
        </p:nvPicPr>
        <p:blipFill>
          <a:blip r:embed="rId1"/>
          <a:stretch/>
        </p:blipFill>
        <p:spPr>
          <a:xfrm>
            <a:off x="0" y="-23760"/>
            <a:ext cx="9753480" cy="86821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88380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看地图找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1537200" y="765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看地图找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2413080" y="2565360"/>
            <a:ext cx="304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2411280" y="184464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在中国政区图上找一找河北，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用铅笔圈出来。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610160" y="3068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河北在祖国的哪个位置呢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25304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河北周围有哪些邻居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0" name="Picture 7" descr="小博士"/>
          <p:cNvPicPr/>
          <p:nvPr/>
        </p:nvPicPr>
        <p:blipFill>
          <a:blip r:embed="rId1"/>
          <a:stretch/>
        </p:blipFill>
        <p:spPr>
          <a:xfrm>
            <a:off x="514440" y="2824200"/>
            <a:ext cx="1577880" cy="2527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8"/>
          <p:cNvSpPr/>
          <p:nvPr/>
        </p:nvSpPr>
        <p:spPr>
          <a:xfrm>
            <a:off x="2411280" y="4869000"/>
            <a:ext cx="48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、你对河北还有哪些了解呢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中国政区图"/>
          <p:cNvPicPr/>
          <p:nvPr/>
        </p:nvPicPr>
        <p:blipFill>
          <a:blip r:embed="rId1"/>
          <a:stretch/>
        </p:blipFill>
        <p:spPr>
          <a:xfrm>
            <a:off x="0" y="0"/>
            <a:ext cx="9753480" cy="8685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883800" y="2602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看地图找家乡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522440" y="16304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</a:rPr>
              <a:t>我知道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1403280" y="2421000"/>
            <a:ext cx="6164280" cy="3115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家乡的面积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___________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家乡的人口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____________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家乡的省级行政中心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___________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家乡的简称或别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_____________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家乡周边相邻的省（市）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_____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728880" y="242100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8.4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万平方千米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3708360" y="29988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千多万人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932360" y="364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石家庄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716360" y="4221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冀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62028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家乡周边相邻的省（市）有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北京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天津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内蒙古自治区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辽宁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山东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山西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河南省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9T03:38:19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1:25Z</dcterms:modified>
  <cp:revision>80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