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D2E-6670-4C30-80F3-FFE1C969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8EA-4F85-4D90-8432-11FC5F4C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917-4BEC-4A4A-934E-587F45EC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806-6AB5-49A9-B660-272EF7CF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7E16-50CD-46C1-A3B1-4A884D56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D6A0-20F3-4882-869D-7BCE1608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3930-B56F-4344-BFC3-651F76E4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FAE8-F40E-432E-BA1A-DC2632CE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C571-490B-4CF1-B715-C5FCE2A7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B59F-EA95-4748-A174-520D8DA4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DABD-A2EE-4CB3-887D-3FCD626B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EC4-4E7A-49FE-99C3-28755128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C497-FBAD-4486-88A1-CF4E613E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E712-F0A7-46B5-8A4F-13D755EC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F5E9-75D4-4148-92A2-F6A4BE32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79DD-94DC-41CF-8307-F1DD848C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150E-CAEB-47F3-8F32-3EBFC5E7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6AE-DF9C-478C-88B6-8320552E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D43-5B7B-4CCE-935B-CAFBA36A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E35-46EF-4F0F-A0CC-469A322C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659-9D9F-483F-80C6-B735E387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0A0-DC2F-4086-A116-0FABDEF5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07E-B087-41FB-9642-26676EBD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E20-4924-4820-AE2F-76AADD86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3476-DC4E-4505-B359-6F49AC5C7B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C599-5492-4F89-9039-B5452FDE08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1341360" y="1996920"/>
            <a:ext cx="6696000" cy="73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的邻里乡亲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02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3"/>
          <p:cNvGrpSpPr/>
          <p:nvPr/>
        </p:nvGrpSpPr>
        <p:grpSpPr>
          <a:xfrm>
            <a:off x="1143000" y="1828800"/>
            <a:ext cx="6735600" cy="4253040"/>
            <a:chOff x="1143000" y="1828800"/>
            <a:chExt cx="6735600" cy="4253040"/>
          </a:xfrm>
        </p:grpSpPr>
        <p:pic>
          <p:nvPicPr>
            <p:cNvPr id="120" name="Picture 4" descr="teacher00"/>
            <p:cNvPicPr/>
            <p:nvPr/>
          </p:nvPicPr>
          <p:blipFill>
            <a:blip r:embed="rId2"/>
            <a:stretch/>
          </p:blipFill>
          <p:spPr>
            <a:xfrm>
              <a:off x="4800600" y="3200400"/>
              <a:ext cx="3078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AutoShape 5"/>
            <p:cNvSpPr/>
            <p:nvPr/>
          </p:nvSpPr>
          <p:spPr>
            <a:xfrm>
              <a:off x="1143000" y="1828800"/>
              <a:ext cx="4800600" cy="2347920"/>
            </a:xfrm>
            <a:prstGeom prst="wedgeRoundRectCallout">
              <a:avLst>
                <a:gd name="adj1" fmla="val 42129"/>
                <a:gd name="adj2" fmla="val 6453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说说你所在的小区或院落，看一看邻里之间经常因为什么而发生矛盾。如果想避免矛盾、保持和睦友好的关系，邻里之间相处的时候应该注意什么呢？ 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84-1"/>
          <p:cNvPicPr/>
          <p:nvPr/>
        </p:nvPicPr>
        <p:blipFill>
          <a:blip r:embed="rId2"/>
          <a:stretch/>
        </p:blipFill>
        <p:spPr>
          <a:xfrm>
            <a:off x="2133720" y="1828800"/>
            <a:ext cx="5867280" cy="4425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84-2"/>
          <p:cNvPicPr/>
          <p:nvPr/>
        </p:nvPicPr>
        <p:blipFill>
          <a:blip r:embed="rId3"/>
          <a:stretch/>
        </p:blipFill>
        <p:spPr>
          <a:xfrm>
            <a:off x="2514600" y="1889280"/>
            <a:ext cx="5181480" cy="4511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84-3"/>
          <p:cNvPicPr/>
          <p:nvPr/>
        </p:nvPicPr>
        <p:blipFill>
          <a:blip r:embed="rId4"/>
          <a:stretch/>
        </p:blipFill>
        <p:spPr>
          <a:xfrm>
            <a:off x="2133720" y="1905120"/>
            <a:ext cx="5790960" cy="4343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84-4"/>
          <p:cNvPicPr/>
          <p:nvPr/>
        </p:nvPicPr>
        <p:blipFill>
          <a:blip r:embed="rId5"/>
          <a:stretch/>
        </p:blipFill>
        <p:spPr>
          <a:xfrm>
            <a:off x="1676520" y="1828800"/>
            <a:ext cx="6781680" cy="4141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842040" y="2047680"/>
            <a:ext cx="6678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六尺巷的故事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3"/>
          <p:cNvGrpSpPr/>
          <p:nvPr/>
        </p:nvGrpSpPr>
        <p:grpSpPr>
          <a:xfrm>
            <a:off x="1257480" y="1905120"/>
            <a:ext cx="6666840" cy="4800600"/>
            <a:chOff x="1257480" y="1905120"/>
            <a:chExt cx="6666840" cy="4800600"/>
          </a:xfrm>
        </p:grpSpPr>
        <p:pic>
          <p:nvPicPr>
            <p:cNvPr id="130" name="Picture 4" descr="小孩"/>
            <p:cNvPicPr/>
            <p:nvPr/>
          </p:nvPicPr>
          <p:blipFill>
            <a:blip r:embed="rId2"/>
            <a:stretch/>
          </p:blipFill>
          <p:spPr>
            <a:xfrm>
              <a:off x="5981400" y="3657600"/>
              <a:ext cx="1942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AutoShape 5"/>
            <p:cNvSpPr/>
            <p:nvPr/>
          </p:nvSpPr>
          <p:spPr>
            <a:xfrm>
              <a:off x="1257480" y="1905120"/>
              <a:ext cx="5028840" cy="1600200"/>
            </a:xfrm>
            <a:prstGeom prst="wedgeRoundRectCallout">
              <a:avLst>
                <a:gd name="adj1" fmla="val 40939"/>
                <a:gd name="adj2" fmla="val 12867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我们从这个故事中体会到了什么？它对我们今天处理邻里关系有什么启发呢？ 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32" name="文本框 8199"/>
          <p:cNvSpPr/>
          <p:nvPr/>
        </p:nvSpPr>
        <p:spPr>
          <a:xfrm>
            <a:off x="1257480" y="64152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1112760" y="1919160"/>
            <a:ext cx="6735600" cy="4253040"/>
            <a:chOff x="1112760" y="1919160"/>
            <a:chExt cx="6735600" cy="4253040"/>
          </a:xfrm>
        </p:grpSpPr>
        <p:pic>
          <p:nvPicPr>
            <p:cNvPr id="135" name="Picture 4" descr="teacher00"/>
            <p:cNvPicPr/>
            <p:nvPr/>
          </p:nvPicPr>
          <p:blipFill>
            <a:blip r:embed="rId2"/>
            <a:stretch/>
          </p:blipFill>
          <p:spPr>
            <a:xfrm>
              <a:off x="4770360" y="3290760"/>
              <a:ext cx="3078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AutoShape 5"/>
            <p:cNvSpPr/>
            <p:nvPr/>
          </p:nvSpPr>
          <p:spPr>
            <a:xfrm>
              <a:off x="1112760" y="1919160"/>
              <a:ext cx="4800600" cy="1585800"/>
            </a:xfrm>
            <a:prstGeom prst="wedgeRoundRectCallout">
              <a:avLst>
                <a:gd name="adj1" fmla="val 42129"/>
                <a:gd name="adj2" fmla="val 11956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一些邻居间的小事，也有可能引起法律纠纷。解决这些问题是有法可依的。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85-1"/>
          <p:cNvPicPr/>
          <p:nvPr/>
        </p:nvPicPr>
        <p:blipFill>
          <a:blip r:embed="rId2"/>
          <a:stretch/>
        </p:blipFill>
        <p:spPr>
          <a:xfrm>
            <a:off x="739800" y="1752480"/>
            <a:ext cx="3984480" cy="43434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724280" y="2546280"/>
            <a:ext cx="41148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《中华人民共和国治安管理处罚条例》第二十五条规定：“在城镇使用音响器材，音量过大，影响周围居民的工作或者休息，不听制止的……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处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元以下罚款或者警告。”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8C6E-5167-4636-BD0A-1EB505EFB2B3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85-2"/>
          <p:cNvPicPr/>
          <p:nvPr/>
        </p:nvPicPr>
        <p:blipFill>
          <a:blip r:embed="rId2"/>
          <a:stretch/>
        </p:blipFill>
        <p:spPr>
          <a:xfrm>
            <a:off x="380880" y="2438280"/>
            <a:ext cx="4114800" cy="2713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4419720" y="1600200"/>
            <a:ext cx="4114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《中华人民共和国民法通则》第八十三条规定：“不动产的相邻各方，应当按照有利生产、方便生活、团结互助、公平合理的精神，正确处理截水、排水、通行、通风、采光等方面的相邻关系。给相邻方造成妨碍或者损失的，应当停止侵害，排除妨碍，赔偿损失。” 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1"/>
          <p:cNvPicPr/>
          <p:nvPr/>
        </p:nvPicPr>
        <p:blipFill>
          <a:blip r:embed="rId1"/>
          <a:stretch/>
        </p:blipFill>
        <p:spPr>
          <a:xfrm>
            <a:off x="644400" y="1203480"/>
            <a:ext cx="2479680" cy="5490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3"/>
          <p:cNvGrpSpPr/>
          <p:nvPr/>
        </p:nvGrpSpPr>
        <p:grpSpPr>
          <a:xfrm>
            <a:off x="1112760" y="1919160"/>
            <a:ext cx="6735600" cy="4253040"/>
            <a:chOff x="1112760" y="1919160"/>
            <a:chExt cx="6735600" cy="4253040"/>
          </a:xfrm>
        </p:grpSpPr>
        <p:pic>
          <p:nvPicPr>
            <p:cNvPr id="86" name="Picture 4" descr="teacher00"/>
            <p:cNvPicPr/>
            <p:nvPr/>
          </p:nvPicPr>
          <p:blipFill>
            <a:blip r:embed="rId2"/>
            <a:stretch/>
          </p:blipFill>
          <p:spPr>
            <a:xfrm>
              <a:off x="4770360" y="3290760"/>
              <a:ext cx="3078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AutoShape 5"/>
            <p:cNvSpPr/>
            <p:nvPr/>
          </p:nvSpPr>
          <p:spPr>
            <a:xfrm>
              <a:off x="1112760" y="1919160"/>
              <a:ext cx="4800600" cy="2347920"/>
            </a:xfrm>
            <a:prstGeom prst="wedgeRoundRectCallout">
              <a:avLst>
                <a:gd name="adj1" fmla="val 42129"/>
                <a:gd name="adj2" fmla="val 6453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邻居之间难免会有一些小矛盾。有时是我们给邻居添了麻烦，有时是邻居给我们的生活带来了不便。 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1"/>
          <p:cNvPicPr/>
          <p:nvPr/>
        </p:nvPicPr>
        <p:blipFill>
          <a:blip r:embed="rId1"/>
          <a:stretch/>
        </p:blipFill>
        <p:spPr>
          <a:xfrm>
            <a:off x="2286000" y="1828800"/>
            <a:ext cx="4073400" cy="5029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647360" y="18097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假如有了冲突……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5638680" y="2960640"/>
            <a:ext cx="2286000" cy="1382760"/>
          </a:xfrm>
          <a:prstGeom prst="wedgeRoundRectCallout">
            <a:avLst>
              <a:gd name="adj1" fmla="val -73125"/>
              <a:gd name="adj2" fmla="val 54708"/>
              <a:gd name="adj3" fmla="val 16667"/>
            </a:avLst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怎么流水了？我晾的被子、衣服全都湿了！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1" name="Picture 5" descr="03"/>
          <p:cNvPicPr/>
          <p:nvPr/>
        </p:nvPicPr>
        <p:blipFill>
          <a:blip r:embed="rId2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2"/>
          <p:cNvPicPr/>
          <p:nvPr/>
        </p:nvPicPr>
        <p:blipFill>
          <a:blip r:embed="rId1"/>
          <a:stretch/>
        </p:blipFill>
        <p:spPr>
          <a:xfrm>
            <a:off x="2666880" y="2209680"/>
            <a:ext cx="3773520" cy="4343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647360" y="18097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假如有了冲突……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6553080" y="4038480"/>
            <a:ext cx="1600200" cy="685800"/>
          </a:xfrm>
          <a:prstGeom prst="wedgeRoundRectCallout">
            <a:avLst>
              <a:gd name="adj1" fmla="val -83037"/>
              <a:gd name="adj2" fmla="val 103935"/>
              <a:gd name="adj3" fmla="val 16667"/>
            </a:avLst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太吵了！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5" name="Picture 5" descr="03"/>
          <p:cNvPicPr/>
          <p:nvPr/>
        </p:nvPicPr>
        <p:blipFill>
          <a:blip r:embed="rId2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03"/>
          <p:cNvPicPr/>
          <p:nvPr/>
        </p:nvPicPr>
        <p:blipFill>
          <a:blip r:embed="rId1"/>
          <a:stretch/>
        </p:blipFill>
        <p:spPr>
          <a:xfrm>
            <a:off x="2133720" y="152280"/>
            <a:ext cx="6040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647360" y="18097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假如有了冲突……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6095880" y="1360440"/>
            <a:ext cx="2286000" cy="1230480"/>
          </a:xfrm>
          <a:prstGeom prst="wedgeRoundRectCallout">
            <a:avLst>
              <a:gd name="adj1" fmla="val -73125"/>
              <a:gd name="adj2" fmla="val 67675"/>
              <a:gd name="adj3" fmla="val 16667"/>
            </a:avLst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我刚晾上，就被你们碰洒了……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9" name="Picture 5" descr="03"/>
          <p:cNvPicPr/>
          <p:nvPr/>
        </p:nvPicPr>
        <p:blipFill>
          <a:blip r:embed="rId2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6"/>
          <p:cNvSpPr/>
          <p:nvPr/>
        </p:nvSpPr>
        <p:spPr>
          <a:xfrm>
            <a:off x="4362480" y="5084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1" name="Picture 2" descr="04"/>
          <p:cNvPicPr/>
          <p:nvPr/>
        </p:nvPicPr>
        <p:blipFill>
          <a:blip r:embed="rId1"/>
          <a:stretch/>
        </p:blipFill>
        <p:spPr>
          <a:xfrm>
            <a:off x="1219320" y="492120"/>
            <a:ext cx="6248160" cy="6213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1647360" y="18097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假如有了冲突……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5867280" y="1589040"/>
            <a:ext cx="2286000" cy="1077840"/>
          </a:xfrm>
          <a:prstGeom prst="wedgeRoundRectCallout">
            <a:avLst>
              <a:gd name="adj1" fmla="val -74722"/>
              <a:gd name="adj2" fmla="val 87703"/>
              <a:gd name="adj3" fmla="val 16667"/>
            </a:avLst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你这孩子怎么欺负人呢？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4" name="Picture 5" descr="03"/>
          <p:cNvPicPr/>
          <p:nvPr/>
        </p:nvPicPr>
        <p:blipFill>
          <a:blip r:embed="rId2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990720" y="1905120"/>
            <a:ext cx="6763680" cy="4800600"/>
            <a:chOff x="990720" y="1905120"/>
            <a:chExt cx="6763680" cy="4800600"/>
          </a:xfrm>
        </p:grpSpPr>
        <p:pic>
          <p:nvPicPr>
            <p:cNvPr id="106" name="Picture 3" descr="小孩"/>
            <p:cNvPicPr/>
            <p:nvPr/>
          </p:nvPicPr>
          <p:blipFill>
            <a:blip r:embed="rId1"/>
            <a:stretch/>
          </p:blipFill>
          <p:spPr>
            <a:xfrm>
              <a:off x="5714640" y="3505320"/>
              <a:ext cx="20397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AutoShape 4"/>
            <p:cNvSpPr/>
            <p:nvPr/>
          </p:nvSpPr>
          <p:spPr>
            <a:xfrm>
              <a:off x="990720" y="1905120"/>
              <a:ext cx="5028840" cy="1600200"/>
            </a:xfrm>
            <a:prstGeom prst="wedgeRoundRectCallout">
              <a:avLst>
                <a:gd name="adj1" fmla="val 40939"/>
                <a:gd name="adj2" fmla="val 12867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你和邻居之间发生过类似的情况吗？当时你是怎样处理的？ 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pic>
        <p:nvPicPr>
          <p:cNvPr id="108" name="Picture 5" descr="02"/>
          <p:cNvPicPr/>
          <p:nvPr/>
        </p:nvPicPr>
        <p:blipFill>
          <a:blip r:embed="rId2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8199"/>
          <p:cNvSpPr/>
          <p:nvPr/>
        </p:nvSpPr>
        <p:spPr>
          <a:xfrm>
            <a:off x="1817640" y="525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02"/>
          <p:cNvPicPr/>
          <p:nvPr/>
        </p:nvPicPr>
        <p:blipFill>
          <a:blip r:embed="rId1"/>
          <a:stretch/>
        </p:blipFill>
        <p:spPr>
          <a:xfrm>
            <a:off x="666720" y="692280"/>
            <a:ext cx="2435400" cy="60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狗"/>
          <p:cNvPicPr/>
          <p:nvPr/>
        </p:nvPicPr>
        <p:blipFill>
          <a:blip r:embed="rId2"/>
          <a:stretch/>
        </p:blipFill>
        <p:spPr>
          <a:xfrm>
            <a:off x="1523880" y="1557360"/>
            <a:ext cx="6096240" cy="4538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2322000" y="1981080"/>
            <a:ext cx="4917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小小调解员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依水嘉园曾经是一个美丽而宁静的居民住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宅小区。过去邻里间关系融洽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大家都觉得生活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在这里其乐融融。可是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随着养狗人家的增多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人们的生活出现了变化。绿茵茵的草坪上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随处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有狗的粪便在散发着难闻的气味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宁静的夜晚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是传来的狗叫声把熟睡的婴儿惊醒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在园中玩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耍的孩子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常常被奔来的狗吓得四处躲避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01600" y="2362320"/>
            <a:ext cx="513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居民们议论纷纷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有的提出小区应当禁止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养狗。可狗的主人却说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养不养狗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怎么养狗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这纯属私事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别人无权干涉。何况我还办理了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养狗证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养狗是得到认可的。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其他居民则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为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狗吓着了孩子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也让别的居民产生了恐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惧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这怎么能说是私事呢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?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办理了养狗手续就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可以让狗在小区里随便地跑来跑去吗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02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3"/>
          <p:cNvGrpSpPr/>
          <p:nvPr/>
        </p:nvGrpSpPr>
        <p:grpSpPr>
          <a:xfrm>
            <a:off x="1523880" y="1981080"/>
            <a:ext cx="6019920" cy="4191120"/>
            <a:chOff x="1523880" y="1981080"/>
            <a:chExt cx="6019920" cy="4191120"/>
          </a:xfrm>
        </p:grpSpPr>
        <p:pic>
          <p:nvPicPr>
            <p:cNvPr id="116" name="Picture 4" descr="83-1"/>
            <p:cNvPicPr/>
            <p:nvPr/>
          </p:nvPicPr>
          <p:blipFill>
            <a:blip r:embed="rId2"/>
            <a:stretch/>
          </p:blipFill>
          <p:spPr>
            <a:xfrm>
              <a:off x="1523880" y="3322440"/>
              <a:ext cx="6019920" cy="284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5"/>
            <p:cNvSpPr/>
            <p:nvPr/>
          </p:nvSpPr>
          <p:spPr>
            <a:xfrm>
              <a:off x="2424960" y="1981080"/>
              <a:ext cx="453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怎样才能平息这场风波，让小区居民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重新和睦相处呢？我们来做小小调解员。 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30T06:01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32Z</dcterms:modified>
  <cp:revision>19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be12000000000001024120</vt:lpwstr>
  </property>
</Properties>
</file>