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D4A-5027-425C-BCCA-40A6487B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E35-37DB-4FE9-94A6-072079F6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34B-D69D-48C6-AE46-1BCDEF0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559C-B2F8-4482-94A3-FE365254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00B2-A30C-4DCA-BEA8-0202411C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27C9-CDC8-4B78-94DB-B2B5F2F0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77BD-DF87-4904-A475-97C38D1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4B6E-3B64-4027-BBD4-857D42DA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37EE-87EE-409D-94DE-761BD7D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78B8-C258-4E66-8713-3391BCF9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71E1-2E84-48A7-803A-508AFAA3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E48-4216-45A4-A702-D3F8262E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E2C4-C6F9-40BD-BACA-B909F65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922-DBD1-4320-AA56-F80A64D4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ED20-3050-4B72-9030-E56B4753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5926-9A49-483E-A567-BC4A52AE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9FF-D43E-4EC0-8579-C7DABD2D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C1507-8929-492E-BF1D-1A806359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33D37-B48D-49BD-A916-DCFBE59C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0FFAC-5F14-4349-A411-188F8A1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50FDB-7510-4AEF-87FA-5D62A31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EEF9E-316B-42AD-9797-A9D09D00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932-10D0-43F3-A1CE-9DA49667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EBB43-663C-4721-9183-3B89D16F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EEE96-E10B-4AAC-B508-F3272E41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102AB-DD46-4B23-BEBB-7F9A41F9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E9608-1E51-40B3-B1AF-9B526904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A858D-B9A6-4B61-B1DD-99C9864F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2CB38-1C2B-47F2-BCC2-F34C7E74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F98C4-FBAD-403E-A9C9-8D6F0D8E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78D-849D-4DE3-8CFE-C30188D2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0BF-EF30-4475-A85D-F19A4468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761-9E1B-45A7-8FB3-8849A91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DC5-3095-479C-B775-A7914E1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3BD-C50C-4078-8269-178A57F7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9BA-F202-4D90-B222-DFE99D1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B9C7-90FD-4A91-AAD3-61805BBC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BBB8-1554-4AD9-949D-CF23297DD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79E9-EA79-4E81-B088-470C9091EF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1619280" y="1125360"/>
            <a:ext cx="7299360" cy="19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我的母亲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胡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250920" y="6237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1258920" y="3178800"/>
            <a:ext cx="74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-449748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539640" y="88560"/>
            <a:ext cx="79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imes New Roman"/>
                <a:ea typeface="仿宋_GB2312"/>
              </a:rPr>
              <a:t>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，幼名嗣   ，字适之，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冬友，著名学者、教育家，安徽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溪人。 胡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开始识字，一年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夫，竟能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多汉字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时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在私塾学好课业之余开始选看家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藏书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岁已看过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三国演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红楼梦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多部古典小说，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读了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资治通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。胡适一生先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获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个博士学位。一生著作宏富，著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中国哲学史大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上卷）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白话文学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（上卷）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文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等难以枚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胡适先生是新文化的战士，自由主义知识分子的代表。他的思想历久而弥新，他的影响在海峡两岸十分深远，有人说，二十世纪是鲁迅世纪，二十一世纪是胡适世纪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6" descr="hs"/>
          <p:cNvPicPr/>
          <p:nvPr/>
        </p:nvPicPr>
        <p:blipFill>
          <a:blip r:embed="rId1"/>
          <a:stretch/>
        </p:blipFill>
        <p:spPr>
          <a:xfrm>
            <a:off x="684360" y="692280"/>
            <a:ext cx="28778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5811119482195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3" name="矩形 6"/>
          <p:cNvSpPr/>
          <p:nvPr/>
        </p:nvSpPr>
        <p:spPr>
          <a:xfrm>
            <a:off x="1476360" y="38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11280" y="765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有位教育家说过，江河的源泉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水性很柔，一点点人力便可以把它导入他途，使河流的方向根本改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其实，人的一生，也是如此。胡适先生的人生，有步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他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可能吗？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0062501417740"/>
          <p:cNvPicPr/>
          <p:nvPr/>
        </p:nvPicPr>
        <p:blipFill>
          <a:blip r:embed="rId1"/>
          <a:stretch/>
        </p:blipFill>
        <p:spPr>
          <a:xfrm>
            <a:off x="0" y="0"/>
            <a:ext cx="3995640" cy="6953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4427640" y="1125360"/>
            <a:ext cx="4321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范例</a:t>
            </a: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在我家八字门口和一班孩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‘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掷铜钱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’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如果没有那位老辈的玩笑，也许胡适先生会跟着顽童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，也许会拥有更多的游戏生活了，也许就不会只做一次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史文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Suns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1979640" y="10526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影响胡适先生成长的最关键的人是“母亲”。结合课文，让我们共同来赞美胡适先生的“第一位老师”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母亲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文本框 8197"/>
          <p:cNvSpPr/>
          <p:nvPr/>
        </p:nvSpPr>
        <p:spPr>
          <a:xfrm>
            <a:off x="1332000" y="5445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2005116222725421"/>
          <p:cNvPicPr/>
          <p:nvPr/>
        </p:nvPicPr>
        <p:blipFill>
          <a:blip r:embed="rId1"/>
          <a:stretch/>
        </p:blipFill>
        <p:spPr>
          <a:xfrm>
            <a:off x="0" y="260280"/>
            <a:ext cx="4064040" cy="6096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4427640" y="189000"/>
            <a:ext cx="38163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范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: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胡老夫人，您是深邃宽阔的大海，容纳百川，容人所不能容。“大哥”，是个败家子，年年除夕，招来一大群讨债的，讨债的打着灯笼走了，“大哥”回来了，可您从不露一点怒色！大嫂二嫂不时地摆出世间最可厌恶的生气的脸给您看，有时还打骂孩子来出气，用尖刻有刺的话骂给您听，可您总忍耐着，只装着没看见没听见，实在忍不住了，也只是到邻居家坐坐谈谈，从不跟她们吵一句嘴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2F8-1531-4A61-9404-ED608C0129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1547640" y="155736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结合自己的成长经历，你觉得胡适先生的母亲哪些地方值得你母亲效仿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．结合自己的成长经历，说说你在哪些方面深受母亲的影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42:5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26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