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7.wmf" ContentType="image/x-wmf"/>
  <Override PartName="/ppt/media/image8.png" ContentType="image/png"/>
  <Override PartName="/ppt/media/image6.wmf" ContentType="image/x-wmf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4D0-2839-4FD4-8AD4-0B47F728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C38-DABC-42B1-B37B-03F0217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6D1-0A88-42F6-AA46-3DBFB578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655-443B-49EF-90C4-88FF657C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1B2B-D3A8-459E-B560-EBE22FBF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01B-CA3F-4104-9580-32D1307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C9DA-583F-4AA7-A4AA-123EBFD3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D3D-3CF1-4EC0-9E1A-956E5C5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070-6F5D-48E8-B6AE-0B26EDC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856-4B6F-4AC3-850A-5C04C1D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FB7-CDE0-4742-9043-CAE80EF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0CC-EED7-464E-A2FC-00F4781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F276-774B-419E-88E1-A2DE4825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296-C870-43DF-AFF9-C9C4065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00A0-13C3-4740-9FFA-302606C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FD20-BE1D-455C-AF69-BA879780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C22-9801-4688-9EF5-7082DA19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8F6-505D-422D-9963-62B6521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85D-AB43-4A84-9D1E-55A6897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703-5756-42B1-986A-6165D2D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767-0B9F-44B2-B315-D127A00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084-BA07-44E4-8846-9163CC34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515-3674-4A97-8026-2D40894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C9C-8882-433E-B4C8-F6D5802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289-ECF0-48EE-A95A-42F15D45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6A31-A1F0-410B-A859-C3922596E1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708200" y="141300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的水钟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2280" y="620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学科学（科教版）五年级下册第三单元第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2162160" y="2838600"/>
            <a:ext cx="447660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35E-F08B-4047-83DD-8ED28EC0FA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284720" y="1413000"/>
            <a:ext cx="4643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准备做一个什么类型的水钟？（泄水型或受水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来划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的时间刻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控制漏水的速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611280" y="26028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想一想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88" name="Picture 6" descr="思考2"/>
          <p:cNvPicPr/>
          <p:nvPr/>
        </p:nvPicPr>
        <p:blipFill>
          <a:blip r:embed="rId3"/>
          <a:stretch/>
        </p:blipFill>
        <p:spPr>
          <a:xfrm>
            <a:off x="4859280" y="549360"/>
            <a:ext cx="160020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无标题-1"/>
          <p:cNvPicPr/>
          <p:nvPr/>
        </p:nvPicPr>
        <p:blipFill>
          <a:blip r:embed="rId4"/>
          <a:stretch/>
        </p:blipFill>
        <p:spPr>
          <a:xfrm>
            <a:off x="0" y="162864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285200"/>
            <a:ext cx="914400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温馨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塑料瓶外壁贴上胶布，堵住滴漏的出水口，再   往滴漏中加满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后，水要连续流下去，每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钟，画刻度的同学抓紧画上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漏中的水流完后，不能加水，标刻度停止。（不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的不用画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分工合作，一人端着滴漏，一个人计时，一人观察水位画刻度，另一个同学协调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200"/>
          <p:cNvSpPr/>
          <p:nvPr/>
        </p:nvSpPr>
        <p:spPr>
          <a:xfrm>
            <a:off x="2854440" y="1795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282480" y="259200"/>
            <a:ext cx="24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做一个“水钟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2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76360" y="188280"/>
            <a:ext cx="59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用水钟来计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116000" y="765000"/>
            <a:ext cx="727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科学交流汇报会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53964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影响水钟计时准确的因素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20404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位变化导致流速不均匀产生的计时不精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刻度线多少不均，而使计时不精确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200"/>
          <p:cNvSpPr/>
          <p:nvPr/>
        </p:nvSpPr>
        <p:spPr>
          <a:xfrm>
            <a:off x="988920" y="1106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55640" y="54936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制作一个能以固定的速度滴水的滴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3816360" cy="517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20066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635280" y="2565360"/>
            <a:ext cx="2449440" cy="647640"/>
            <a:chOff x="3635280" y="2565360"/>
            <a:chExt cx="2449440" cy="647640"/>
          </a:xfrm>
        </p:grpSpPr>
        <p:sp>
          <p:nvSpPr>
            <p:cNvPr id="104" name="Line 6"/>
            <p:cNvSpPr/>
            <p:nvPr/>
          </p:nvSpPr>
          <p:spPr>
            <a:xfrm flipH="1">
              <a:off x="3635280" y="2565360"/>
              <a:ext cx="244944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635280" y="2565360"/>
              <a:ext cx="2449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水钟6"/>
          <p:cNvPicPr/>
          <p:nvPr/>
        </p:nvPicPr>
        <p:blipFill>
          <a:blip r:embed="rId1"/>
          <a:stretch/>
        </p:blipFill>
        <p:spPr>
          <a:xfrm>
            <a:off x="2484360" y="1268280"/>
            <a:ext cx="3810240" cy="5158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193560" y="260280"/>
            <a:ext cx="25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整完善“水钟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35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7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