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52B-FDA2-44A4-9D6E-5902F1A3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B50-B052-4C3D-8417-3C8C846A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06E-BB13-4B09-923A-13FD49D6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D79-76DA-4DFE-BAF3-1D0391B5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57E2-C82C-4DB2-B049-3D93C6FD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C50A-CD26-4FAA-BB0B-DF0C8D0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D65-CD75-48F1-AFDA-9ADE25CB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D3D4-9733-4A20-8CBF-A8C1624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B57-CAC7-4D42-BBAA-A498DEA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355C-3CD9-467A-B6F3-59BCFD18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FA5-920E-45CF-9F42-6508D83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00E-A6B9-4330-BE02-5228916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005-77DE-4F83-BF2A-2C5B0B2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F2FC-7A1C-4D5A-AE09-AF6F562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1247-B7A4-4891-902E-7F925C7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238-F085-4AD4-A829-6D817F7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A62-B7EE-43F1-B454-263F47B2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E1A-0A70-4670-AA05-EA0A2FE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798-BC45-4B5E-8676-AA0D38E0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946-3FBC-4E96-8107-07E110FE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296-7AF7-4F1E-9FE6-70B50354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0C9-120D-4DDE-943F-1B1070E2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148-C447-4215-A05C-E43E568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90B-E853-48FF-B99E-AFFA080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1983-E45C-43F0-AD1E-167D1DCCA9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53E-5BA9-46B4-B7E8-54C3BFD04C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70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教新课标  五年级品德与社会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826920" y="2708280"/>
            <a:ext cx="749016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祖国多辽阔</a:t>
            </a:r>
            <a:r>
              <a:rPr b="1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自治区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内蒙古自治区、宁夏回族自治区、新疆维吾尔自治区、西藏自治区、广西壮族自治区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直辖市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56280" y="3103560"/>
            <a:ext cx="386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北京市     天津市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上海市     重庆市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特别行政区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香港、澳门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男孩在思考"/>
          <p:cNvPicPr/>
          <p:nvPr/>
        </p:nvPicPr>
        <p:blipFill>
          <a:blip r:embed="rId2"/>
          <a:stretch/>
        </p:blipFill>
        <p:spPr>
          <a:xfrm>
            <a:off x="4952880" y="2286000"/>
            <a:ext cx="293688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8"/>
          <p:cNvGrpSpPr/>
          <p:nvPr/>
        </p:nvGrpSpPr>
        <p:grpSpPr>
          <a:xfrm>
            <a:off x="609480" y="1828800"/>
            <a:ext cx="5105520" cy="2057400"/>
            <a:chOff x="609480" y="1828800"/>
            <a:chExt cx="5105520" cy="2057400"/>
          </a:xfrm>
        </p:grpSpPr>
        <p:sp>
          <p:nvSpPr>
            <p:cNvPr id="134" name="AutoShape 7"/>
            <p:cNvSpPr/>
            <p:nvPr/>
          </p:nvSpPr>
          <p:spPr>
            <a:xfrm>
              <a:off x="609480" y="1828800"/>
              <a:ext cx="5105520" cy="2057400"/>
            </a:xfrm>
            <a:prstGeom prst="cloudCallout">
              <a:avLst>
                <a:gd name="adj1" fmla="val 53453"/>
                <a:gd name="adj2" fmla="val 47763"/>
              </a:avLst>
            </a:prstGeom>
            <a:solidFill>
              <a:srgbClr val="ccffcc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914400" y="2330280"/>
              <a:ext cx="475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　　你还能用什么来说明我们祖国的疆域辽阔呢？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36" name="文本框 8196"/>
          <p:cNvSpPr/>
          <p:nvPr/>
        </p:nvSpPr>
        <p:spPr>
          <a:xfrm>
            <a:off x="1501920" y="808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hui04"/>
          <p:cNvPicPr/>
          <p:nvPr/>
        </p:nvPicPr>
        <p:blipFill>
          <a:blip r:embed="rId1"/>
          <a:stretch/>
        </p:blipFill>
        <p:spPr>
          <a:xfrm>
            <a:off x="1025640" y="1143000"/>
            <a:ext cx="2446200" cy="60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903680" y="1905120"/>
            <a:ext cx="494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除了地图，日常生活中，还有很多可以表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国行政区的事物，你发现了吗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9" name="Picture 9" descr="p51-1"/>
          <p:cNvPicPr/>
          <p:nvPr/>
        </p:nvPicPr>
        <p:blipFill>
          <a:blip r:embed="rId2"/>
          <a:stretch/>
        </p:blipFill>
        <p:spPr>
          <a:xfrm>
            <a:off x="304920" y="2629080"/>
            <a:ext cx="236196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p51-2"/>
          <p:cNvPicPr/>
          <p:nvPr/>
        </p:nvPicPr>
        <p:blipFill>
          <a:blip r:embed="rId3"/>
          <a:stretch/>
        </p:blipFill>
        <p:spPr>
          <a:xfrm>
            <a:off x="2411280" y="2924280"/>
            <a:ext cx="2149560" cy="162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51-3"/>
          <p:cNvPicPr/>
          <p:nvPr/>
        </p:nvPicPr>
        <p:blipFill>
          <a:blip r:embed="rId4"/>
          <a:stretch/>
        </p:blipFill>
        <p:spPr>
          <a:xfrm>
            <a:off x="4572000" y="3500280"/>
            <a:ext cx="2133720" cy="131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p51-4"/>
          <p:cNvPicPr/>
          <p:nvPr/>
        </p:nvPicPr>
        <p:blipFill>
          <a:blip r:embed="rId5"/>
          <a:stretch/>
        </p:blipFill>
        <p:spPr>
          <a:xfrm>
            <a:off x="6443640" y="400536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1619280" y="5373720"/>
            <a:ext cx="63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写一写你家的地址，说一说你家地址所在的行政区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北京之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乘坐什么交通工具，理由是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准备什么衣物，理由是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55640" y="3212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、乘坐飞机或动车</a:t>
            </a: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全程约</a:t>
            </a:r>
            <a:r>
              <a:rPr b="1" lang="en-US" sz="3200" spc="-1" strike="noStrike">
                <a:solidFill>
                  <a:srgbClr val="dc3400"/>
                </a:solidFill>
                <a:latin typeface="Times New Roman"/>
              </a:rPr>
              <a:t>1490.3</a:t>
            </a: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公里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332000" y="3792240"/>
            <a:ext cx="7127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坐火车 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公里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小时 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天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小时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分钟 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坐飞机 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800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公里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小时 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小时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分钟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...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00000" y="465300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、北京的</a:t>
            </a: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dc3400"/>
                </a:solidFill>
                <a:latin typeface="Times New Roman"/>
              </a:rPr>
              <a:t>月份，天气的气温变化很    快，上半月穿秋装，下半月要穿薄毛衣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5B6-41B6-4FED-8D30-C2C6FB5FC551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763640" y="1341360"/>
            <a:ext cx="5811840" cy="33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同学们再见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hui01"/>
          <p:cNvPicPr/>
          <p:nvPr/>
        </p:nvPicPr>
        <p:blipFill>
          <a:blip r:embed="rId1"/>
          <a:stretch/>
        </p:blipFill>
        <p:spPr>
          <a:xfrm>
            <a:off x="1332000" y="77796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中国地图"/>
          <p:cNvPicPr/>
          <p:nvPr/>
        </p:nvPicPr>
        <p:blipFill>
          <a:blip r:embed="rId2"/>
          <a:stretch/>
        </p:blipFill>
        <p:spPr>
          <a:xfrm>
            <a:off x="2411280" y="1628640"/>
            <a:ext cx="4221360" cy="4800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小蚂蚁"/>
          <p:cNvPicPr/>
          <p:nvPr/>
        </p:nvPicPr>
        <p:blipFill>
          <a:blip r:embed="rId3"/>
          <a:stretch/>
        </p:blipFill>
        <p:spPr>
          <a:xfrm rot="18471600">
            <a:off x="3034440" y="4451760"/>
            <a:ext cx="25740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小蚂蚁"/>
          <p:cNvPicPr/>
          <p:nvPr/>
        </p:nvPicPr>
        <p:blipFill>
          <a:blip r:embed="rId4"/>
          <a:stretch/>
        </p:blipFill>
        <p:spPr>
          <a:xfrm rot="18471600">
            <a:off x="7809840" y="4075560"/>
            <a:ext cx="29844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漠河"/>
          <p:cNvPicPr/>
          <p:nvPr/>
        </p:nvPicPr>
        <p:blipFill>
          <a:blip r:embed="rId5"/>
          <a:stretch/>
        </p:blipFill>
        <p:spPr>
          <a:xfrm>
            <a:off x="4140360" y="2924280"/>
            <a:ext cx="1368360" cy="109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南沙群岛"/>
          <p:cNvPicPr/>
          <p:nvPr/>
        </p:nvPicPr>
        <p:blipFill>
          <a:blip r:embed="rId6"/>
          <a:stretch/>
        </p:blipFill>
        <p:spPr>
          <a:xfrm>
            <a:off x="4284720" y="292428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黑龙江和乌苏里江的汇合处"/>
          <p:cNvPicPr/>
          <p:nvPr/>
        </p:nvPicPr>
        <p:blipFill>
          <a:blip r:embed="rId7"/>
          <a:stretch/>
        </p:blipFill>
        <p:spPr>
          <a:xfrm>
            <a:off x="3995640" y="2924280"/>
            <a:ext cx="151308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帕米尔高原"/>
          <p:cNvPicPr/>
          <p:nvPr/>
        </p:nvPicPr>
        <p:blipFill>
          <a:blip r:embed="rId8"/>
          <a:stretch/>
        </p:blipFill>
        <p:spPr>
          <a:xfrm>
            <a:off x="3995640" y="2852640"/>
            <a:ext cx="1656000" cy="1243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755640" y="5013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陆疆长度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我国陆上国界线长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多万千米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900000" y="5589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海岸线长度 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8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多万千米。总长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.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万千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187280" y="1197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每天走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小时，每小时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千米，要走       年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804000" y="1141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34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86 -0.23839 C 0.31198 -0.24209 0.32171 -0.25341 0.32796 -0.26012 C 0.33386 -0.26683 0.34046 -0.27284 0.34549 -0.27908 C 0.35053 -0.28532 0.35573 -0.28995 0.35816 -0.29758 C 0.36007 -0.30521 0.35712 -0.31723 0.35955 -0.32509 C 0.36216 -0.33295 0.37188 -0.34174 0.37362 -0.34428 C 0.37535 -0.34683 0.37049 -0.33272 0.37049 -0.33989 C 0.37049 -0.34706 0.37553 -0.3822 0.37414 -0.38706 C 0.37275 -0.39191 0.36928 -0.36948 0.36164 -0.36856 C 0.35434 -0.36763 0.33872 -0.37434 0.32952 -0.38197 C 0.32049 -0.3896 0.31441 -0.40532 0.3073 -0.41388 C 0.3 -0.42243 0.29219 -0.43284 0.28716 -0.43399 C 0.28195 -0.43515 0.27865 -0.42844 0.27605 -0.42151 C 0.27344 -0.41457 0.27431 -0.39977 0.27136 -0.39191 C 0.26841 -0.38405 0.2625 -0.38035 0.25816 -0.37434 C 0.25382 -0.36833 0.24601 -0.35954 0.24549 -0.35538 C 0.24497 -0.35122 0.25 -0.35284 0.25504 -0.34891 C 0.26007 -0.34498 0.27414 -0.33596 0.27553 -0.33203 C 0.27674 -0.3281 0.26806 -0.32972 0.26303 -0.32578 C 0.25799 -0.32185 0.25122 -0.31284 0.24549 -0.30867 C 0.23976 -0.30451 0.23368 -0.3059 0.22848 -0.30081 C 0.22327 -0.29573 0.21962 -0.2837 0.21424 -0.27769 C 0.20886 -0.27168 0.20243 -0.26683 0.19636 -0.26428 C 0.19028 -0.26174 0.18421 -0.26313 0.17726 -0.2622 C 0.17032 -0.26128 0.16112 -0.25688 0.15504 -0.25804 C 0.14896 -0.2592 0.14688 -0.26706 0.1408 -0.26867 C 0.13473 -0.27029 0.125 -0.26567 0.11858 -0.26798 C 0.11216 -0.27029 0.1066 -0.27885 0.10261 -0.28278 C 0.09862 -0.28671 0.09827 -0.28717 0.0948 -0.2911 C 0.09132 -0.29503 0.08646 -0.30336 0.08195 -0.30659 C 0.07743 -0.30983 0.0698 -0.30567 0.06771 -0.31099 C 0.06563 -0.3163 0.07118 -0.33064 0.06928 -0.33827 C 0.06737 -0.3459 0.06112 -0.35145 0.0566 -0.35677 C 0.05209 -0.36209 0.04636 -0.37226 0.04237 -0.37018 C 0.03837 -0.3681 0.03768 -0.34775 0.03282 -0.34474 C 0.02796 -0.34174 0.01737 -0.35307 0.01268 -0.35168 C 0.00799 -0.35029 0.00747 -0.33943 0.00417 -0.33619 C 0.00087 -0.33295 -0.00277 -0.33827 -0.00694 -0.33203 C -0.01111 -0.32578 -0.01458 -0.30613 -0.02066 -0.29873 C -0.02673 -0.29133 -0.03593 -0.28972 -0.0434 -0.28763 C -0.05086 -0.28555 -0.05972 -0.28694 -0.0651 -0.28602 C -0.07048 -0.28509 -0.07343 -0.28555 -0.07586 -0.28232 C -0.07829 -0.27908 -0.0809 -0.2733 -0.07986 -0.26659 C -0.07882 -0.25989 -0.07291 -0.25087 -0.06996 -0.24162 C -0.06701 -0.23237 -0.06597 -0.21896 -0.0625 -0.21156 C -0.05902 -0.20417 -0.05034 -0.20324 -0.0493 -0.19723 C -0.04826 -0.19122 -0.05503 -0.18451 -0.05607 -0.1755 C -0.05711 -0.16648 -0.05868 -0.15122 -0.05607 -0.14313 C -0.05347 -0.13503 -0.04618 -0.13203 -0.04027 -0.12694 C -0.03437 -0.12185 -0.02691 -0.11885 -0.02118 -0.11214 C -0.01545 -0.10544 -0.01128 -0.0918 -0.0052 -0.08671 C 0.00087 -0.08162 0.01077 -0.08278 0.01528 -0.08185 C 0.0198 -0.08093 0.01806 -0.08185 0.02171 -0.08047 C 0.02535 -0.07908 0.03143 -0.07723 0.0375 -0.07422 C 0.04358 -0.07122 0.05261 -0.06405 0.05816 -0.06289 C 0.06372 -0.06174 0.06632 -0.0659 0.07084 -0.06775 C 0.07535 -0.0696 0.08108 -0.07422 0.08525 -0.07422 C 0.08941 -0.07422 0.0915 -0.06914 0.09636 -0.06775 C 0.10122 -0.06636 0.1132 -0.07099 0.11424 -0.06636 C 0.11528 -0.06174 0.10591 -0.04787 0.10261 -0.04024 C 0.09931 -0.03261 0.09323 -0.02683 0.0948 -0.02128 C 0.09636 -0.01573 0.10799 -0.0118 0.11216 -0.00648 C 0.11632 -0.00116 0.1165 0.00601 0.12014 0.01109 C 0.12379 0.01618 0.12987 0.02497 0.13438 0.02381 C 0.13889 0.02265 0.14046 0.00716 0.14757 0.00346 C 0.15469 -0.00024 0.17032 -0.00162 0.17761 0.00138 C 0.1849 0.00439 0.18698 0.01826 0.1915 0.02104 C 0.19601 0.02381 0.20226 0.01757 0.20469 0.01826 C 0.20712 0.01896 0.20643 0.0252 0.20608 0.02543 C 0.20573 0.02566 0.20313 0.02011 0.20261 0.01896 E">
                                      <p:cBhvr>
                                        <p:cTn id="45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101 -0.1741 C -0.21858 -0.18404 -0.21771 -0.18751 -0.22587 -0.19098 C -0.22691 -0.19306 -0.22709 -0.19676 -0.229 -0.19746 C -0.23611 -0.2 -0.23733 -0.19445 -0.24011 -0.1889 C -0.23959 -0.18613 -0.23907 -0.18312 -0.23855 -0.18035 C -0.23802 -0.17826 -0.23855 -0.1741 -0.23698 -0.1741 C -0.23542 -0.1741 -0.23386 -0.17988 -0.23542 -0.18035 C -0.24063 -0.18196 -0.24601 -0.17896 -0.25122 -0.17826 C -0.24983 -0.16925 -0.24757 -0.1637 -0.24966 -0.15514 C -0.24532 -0.13734 -0.22639 -0.14312 -0.21789 -0.15514 C -0.19861 -0.15006 -0.22136 -0.14959 -0.22587 -0.14867 C -0.22796 -0.14058 -0.22726 -0.13757 -0.22257 -0.13179 C -0.22882 -0.12902 -0.23959 -0.12439 -0.23056 -0.11075 C -0.22848 -0.10751 -0.22414 -0.10936 -0.22101 -0.10867 C -0.21927 -0.09688 -0.21806 -0.08948 -0.21146 -0.08115 C -0.21094 -0.07907 -0.21059 -0.07676 -0.2099 -0.07468 C -0.20903 -0.07237 -0.20643 -0.07098 -0.20677 -0.06844 C -0.20695 -0.06751 -0.21962 -0.05919 -0.22101 -0.0578 C -0.21546 -0.05272 -0.2099 -0.05364 -0.20521 -0.04717 C -0.20278 -0.03769 -0.20261 -0.03607 -0.2099 -0.03237 C -0.21285 -0.02104 -0.21459 -0.01179 -0.22101 -0.00277 C -0.22275 0.01596 -0.22084 0.01688 -0.23368 0.02035 C -0.24601 0.04463 -0.22674 0.00763 -0.24167 0.03306 C -0.2441 0.037 -0.24809 0.04578 -0.24809 0.04601 C -0.25105 0.04994 -0.25504 0.05411 -0.25921 0.05642 C -0.26337 0.05873 -0.2698 0.06035 -0.27344 0.06058 C -0.27952 0.06335 -0.27691 0.06428 -0.28143 0.0585 C -0.28299 0.05642 -0.28438 0.06289 -0.28611 0.06474 C -0.2908 0.06983 -0.29653 0.07098 -0.30209 0.0733 C -0.30747 0.07815 -0.31563 0.10012 -0.31563 0.10937 C -0.31945 0.11353 -0.32552 0.09757 -0.32709 0.09179 C -0.32865 0.08601 -0.32396 0.07769 -0.32535 0.07445 C -0.32674 0.07122 -0.33455 0.0696 -0.33525 0.07214 C -0.33594 0.07468 -0.32778 0.09087 -0.32934 0.08971 C -0.33091 0.08856 -0.34688 0.0652 -0.3441 0.06567 C -0.34132 0.06613 -0.31789 0.0874 -0.31233 0.09179 C -0.30677 0.09619 -0.31094 0.09202 -0.31059 0.09179 C -0.31025 0.09156 -0.31059 0.08994 -0.31059 0.08971 E">
                                      <p:cBhvr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我国四大海洋"/>
          <p:cNvPicPr/>
          <p:nvPr/>
        </p:nvPicPr>
        <p:blipFill>
          <a:blip r:embed="rId1"/>
          <a:stretch/>
        </p:blipFill>
        <p:spPr>
          <a:xfrm>
            <a:off x="1828800" y="2590920"/>
            <a:ext cx="5486400" cy="37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shui03"/>
          <p:cNvPicPr/>
          <p:nvPr/>
        </p:nvPicPr>
        <p:blipFill>
          <a:blip r:embed="rId2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2057400" y="1905120"/>
            <a:ext cx="23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祖国有多大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2666880"/>
            <a:ext cx="6324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0720"/>
            <a:ext cx="58309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塔城地区面积约为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万千平方 公里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3" name="Picture 5" descr="xjtacheng"/>
          <p:cNvPicPr/>
          <p:nvPr/>
        </p:nvPicPr>
        <p:blipFill>
          <a:blip r:embed="rId1"/>
          <a:stretch/>
        </p:blipFill>
        <p:spPr>
          <a:xfrm>
            <a:off x="4716360" y="2492280"/>
            <a:ext cx="3114720" cy="2857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6920" y="3562560"/>
            <a:ext cx="3745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新疆维吾尔自治区，简称新，位于中国西北边陲，面积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66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万平方公里，占中国国土总面积的六分之一，是中国面积最大的省级行政区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3400"/>
                </a:solidFill>
                <a:latin typeface="Times New Roman"/>
              </a:rPr>
              <a:t>韩国土面积</a:t>
            </a:r>
            <a:r>
              <a:rPr b="1" lang="en-US" sz="4000" spc="-1" strike="noStrike">
                <a:solidFill>
                  <a:srgbClr val="dc34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dc34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dc34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dc3400"/>
                </a:solidFill>
                <a:latin typeface="Times New Roman"/>
              </a:rPr>
              <a:t>万平方公里</a:t>
            </a:r>
            <a:r>
              <a:rPr b="0" lang="zh-CN" sz="4000" spc="-1" strike="noStrike">
                <a:solidFill>
                  <a:srgbClr val="dc3400"/>
                </a:solidFill>
                <a:latin typeface="Times New Roman"/>
              </a:rPr>
              <a:t>。</a:t>
            </a:r>
            <a:r>
              <a:rPr b="1" lang="zh-CN" sz="4000" spc="-1" strike="noStrike">
                <a:solidFill>
                  <a:srgbClr val="dc3400"/>
                </a:solidFill>
                <a:latin typeface="Times New Roman"/>
              </a:rPr>
              <a:t>中国约有       韩国大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7" name="Picture 5" descr="9392f163068d1aa9b011c730"/>
          <p:cNvPicPr/>
          <p:nvPr/>
        </p:nvPicPr>
        <p:blipFill>
          <a:blip r:embed="rId1"/>
          <a:stretch/>
        </p:blipFill>
        <p:spPr>
          <a:xfrm>
            <a:off x="395280" y="1700280"/>
            <a:ext cx="5256360" cy="462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2009423194344"/>
          <p:cNvPicPr/>
          <p:nvPr/>
        </p:nvPicPr>
        <p:blipFill>
          <a:blip r:embed="rId2"/>
          <a:stretch/>
        </p:blipFill>
        <p:spPr>
          <a:xfrm>
            <a:off x="5651640" y="1700280"/>
            <a:ext cx="3673440" cy="515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5076720" y="119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0" name="Picture 12" descr="2007818204150512"/>
          <p:cNvPicPr/>
          <p:nvPr/>
        </p:nvPicPr>
        <p:blipFill>
          <a:blip r:embed="rId3"/>
          <a:stretch/>
        </p:blipFill>
        <p:spPr>
          <a:xfrm>
            <a:off x="4427640" y="3284640"/>
            <a:ext cx="492120" cy="89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7"/>
          <p:cNvSpPr/>
          <p:nvPr/>
        </p:nvSpPr>
        <p:spPr>
          <a:xfrm>
            <a:off x="291636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920" y="609120"/>
            <a:ext cx="55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欧洲有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个国家，中国相当欧洲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个国家大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1220638741"/>
          <p:cNvPicPr/>
          <p:nvPr/>
        </p:nvPicPr>
        <p:blipFill>
          <a:blip r:embed="rId1"/>
          <a:stretch/>
        </p:blipFill>
        <p:spPr>
          <a:xfrm>
            <a:off x="395280" y="1989000"/>
            <a:ext cx="4321080" cy="394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20101030184809-1778743907"/>
          <p:cNvPicPr/>
          <p:nvPr/>
        </p:nvPicPr>
        <p:blipFill>
          <a:blip r:embed="rId2"/>
          <a:stretch/>
        </p:blipFill>
        <p:spPr>
          <a:xfrm>
            <a:off x="4716360" y="1989000"/>
            <a:ext cx="3816360" cy="40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14"/>
          <p:cNvPicPr/>
          <p:nvPr/>
        </p:nvPicPr>
        <p:blipFill>
          <a:blip r:embed="rId3"/>
          <a:stretch/>
        </p:blipFill>
        <p:spPr>
          <a:xfrm>
            <a:off x="5651640" y="3068640"/>
            <a:ext cx="792000" cy="866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的祖国有着辽阔的疆域，陆地面积约九百六十万平方千米，在世界各国中居第三位，差不多同整个欧洲面积相等。我国还有着辽阔的海域，在祖国大陆的东面，自北向南，渤海、黄海、东海、南海四海相连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7" name="Picture 2" descr="shui03"/>
          <p:cNvPicPr/>
          <p:nvPr/>
        </p:nvPicPr>
        <p:blipFill>
          <a:blip r:embed="rId1"/>
          <a:stretch/>
        </p:blipFill>
        <p:spPr>
          <a:xfrm>
            <a:off x="971640" y="692280"/>
            <a:ext cx="2019240" cy="533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042920" y="1341360"/>
            <a:ext cx="23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祖国有多大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2666880" y="1981080"/>
            <a:ext cx="4569120" cy="28123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小资料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按照现行的行政区划，我国共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3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省级行政单位，其中包括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省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少数民族自治区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直辖市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个特别行政区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文本框 8196"/>
          <p:cNvSpPr/>
          <p:nvPr/>
        </p:nvSpPr>
        <p:spPr>
          <a:xfrm>
            <a:off x="2225520" y="808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省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辽宁省、黑龙江省、吉林省、河北省、山西省、山东省、陕西省、河南省、甘肃省、青海省、四川省、云南省、贵州省、湖南省、湖北省、安徽省、江苏省、浙江省、江西省、福建省、广东省、海南省、台湾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49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8Z</dcterms:modified>
  <cp:revision>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