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click.wav" ContentType="audio/x-wav"/>
  <Override PartName="/ppt/media/image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3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39A3-2CEB-4BA3-84B1-10EEFA66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2B0-8C35-4248-B0FD-B0BDFDF1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85E-5C01-49E1-94CE-1B4EF1FC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6CD-274F-46ED-8B60-C49430D2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AE5C4-0C39-4740-B1F1-E89A45A2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F450A-BCB4-482B-8697-0110295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5E3-7732-4BF9-88AA-65C2746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806-B765-41D8-8301-DA7492E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7CBD-49D1-48ED-A51E-BEB6C2D6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1C6C-B699-4AD1-9CB8-F158D45F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93AF-EE87-46EF-B186-A1D5104A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B90-703B-4E72-AC54-EFF29707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1CD-1465-4B3E-96F4-30C7D295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28BF-27AE-4AE7-9952-900524EF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766B-7002-45C6-A5CC-6AB871E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B089-AF26-46FC-A64E-4FF6345D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C2F8-B76E-4AB3-B92F-0B216583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86A-B0DD-4CD9-AEF9-63372C03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58C-29A0-4E68-9B4B-3777760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C19-7FEC-42AF-B602-2153525B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F22-7213-4978-AE24-B1425F58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8B6-0A3A-42C9-91EB-52231BA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144C-A21F-43B3-B7D8-4B60716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1590-FCD0-4BDB-94DB-EC78BA22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27E-3305-4371-9B25-732EA314B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0965-759D-4E20-946A-A0BB05446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00918113329660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6"/>
          <p:cNvSpPr/>
          <p:nvPr/>
        </p:nvSpPr>
        <p:spPr>
          <a:xfrm>
            <a:off x="1749600" y="1419120"/>
            <a:ext cx="33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人教新课标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品德与社会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c00000"/>
                </a:solidFill>
                <a:latin typeface="Arial"/>
              </a:rPr>
              <a:t>三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7"/>
          <p:cNvSpPr/>
          <p:nvPr/>
        </p:nvSpPr>
        <p:spPr>
          <a:xfrm>
            <a:off x="685800" y="24415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我的责任课件</a:t>
            </a:r>
            <a:r>
              <a:rPr b="1" lang="en-US" sz="4000" spc="-1" strike="noStrike">
                <a:solidFill>
                  <a:srgbClr val="c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0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2" descr="gifbj002"/>
          <p:cNvPicPr/>
          <p:nvPr/>
        </p:nvPicPr>
        <p:blipFill>
          <a:blip r:embed="rId2"/>
          <a:stretch/>
        </p:blipFill>
        <p:spPr>
          <a:xfrm>
            <a:off x="7164360" y="11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3" descr="gifbj002"/>
          <p:cNvPicPr/>
          <p:nvPr/>
        </p:nvPicPr>
        <p:blipFill>
          <a:blip r:embed="rId3"/>
          <a:stretch/>
        </p:blipFill>
        <p:spPr>
          <a:xfrm>
            <a:off x="108000" y="117360"/>
            <a:ext cx="1871640" cy="1440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4" descr="gifbj002"/>
          <p:cNvPicPr/>
          <p:nvPr/>
        </p:nvPicPr>
        <p:blipFill>
          <a:blip r:embed="rId4"/>
          <a:stretch/>
        </p:blipFill>
        <p:spPr>
          <a:xfrm>
            <a:off x="6300720" y="189000"/>
            <a:ext cx="1871640" cy="1439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5" descr="gifbj002"/>
          <p:cNvPicPr/>
          <p:nvPr/>
        </p:nvPicPr>
        <p:blipFill>
          <a:blip r:embed="rId5"/>
          <a:stretch/>
        </p:blipFill>
        <p:spPr>
          <a:xfrm>
            <a:off x="3413160" y="117360"/>
            <a:ext cx="1779480" cy="136872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03"/>
          <p:cNvPicPr/>
          <p:nvPr/>
        </p:nvPicPr>
        <p:blipFill>
          <a:blip r:embed="rId2"/>
          <a:stretch/>
        </p:blipFill>
        <p:spPr>
          <a:xfrm>
            <a:off x="1905120" y="538200"/>
            <a:ext cx="6553080" cy="5508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16280" y="1476360"/>
            <a:ext cx="1642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教师的责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A6CB-FDA3-4C5C-91B8-25F6EAAC13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04"/>
          <p:cNvPicPr/>
          <p:nvPr/>
        </p:nvPicPr>
        <p:blipFill>
          <a:blip r:embed="rId2"/>
          <a:stretch/>
        </p:blipFill>
        <p:spPr>
          <a:xfrm>
            <a:off x="2666880" y="304920"/>
            <a:ext cx="5105520" cy="60195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592560" y="1390680"/>
            <a:ext cx="1642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琥珀"/>
              </a:rPr>
              <a:t>交警的责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图片6"/>
          <p:cNvPicPr/>
          <p:nvPr/>
        </p:nvPicPr>
        <p:blipFill>
          <a:blip r:embed="rId2"/>
          <a:stretch/>
        </p:blipFill>
        <p:spPr>
          <a:xfrm>
            <a:off x="914400" y="1752480"/>
            <a:ext cx="7540560" cy="4645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10666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隶二简体"/>
              </a:rPr>
              <a:t>想想该谁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685800" y="9907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我们的学习与生活中，要做许许多多的事情，请同学们说说，在平时的生活中，这些事情是谁做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图片7"/>
          <p:cNvPicPr/>
          <p:nvPr/>
        </p:nvPicPr>
        <p:blipFill>
          <a:blip r:embed="rId2"/>
          <a:stretch/>
        </p:blipFill>
        <p:spPr>
          <a:xfrm>
            <a:off x="685800" y="685800"/>
            <a:ext cx="783288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图片8"/>
          <p:cNvPicPr/>
          <p:nvPr/>
        </p:nvPicPr>
        <p:blipFill>
          <a:blip r:embed="rId2"/>
          <a:stretch/>
        </p:blipFill>
        <p:spPr>
          <a:xfrm>
            <a:off x="533520" y="457200"/>
            <a:ext cx="7905600" cy="575460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图片9_副本"/>
          <p:cNvPicPr/>
          <p:nvPr/>
        </p:nvPicPr>
        <p:blipFill>
          <a:blip r:embed="rId2"/>
          <a:stretch/>
        </p:blipFill>
        <p:spPr>
          <a:xfrm>
            <a:off x="762120" y="685800"/>
            <a:ext cx="78325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6"/>
          <p:cNvSpPr/>
          <p:nvPr/>
        </p:nvSpPr>
        <p:spPr>
          <a:xfrm>
            <a:off x="2784600" y="20098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 rot="19579200">
            <a:off x="-303840" y="9140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汉仪咪咪体简"/>
              </a:rPr>
              <a:t>老师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175248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己的事情，能做的应该自己做；集体的事情大家都来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家中、学校、社区的事情应该积极参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04"/>
          <p:cNvPicPr/>
          <p:nvPr/>
        </p:nvPicPr>
        <p:blipFill>
          <a:blip r:embed="rId2"/>
          <a:stretch/>
        </p:blipFill>
        <p:spPr>
          <a:xfrm>
            <a:off x="5900760" y="3657600"/>
            <a:ext cx="2206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107" name="Text Box 6"/>
          <p:cNvSpPr/>
          <p:nvPr/>
        </p:nvSpPr>
        <p:spPr>
          <a:xfrm>
            <a:off x="1752840" y="1366920"/>
            <a:ext cx="5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教学挂图05-遇到问题想办法"/>
          <p:cNvPicPr/>
          <p:nvPr/>
        </p:nvPicPr>
        <p:blipFill>
          <a:blip r:embed="rId2"/>
          <a:stretch/>
        </p:blipFill>
        <p:spPr>
          <a:xfrm>
            <a:off x="990720" y="609480"/>
            <a:ext cx="4495680" cy="2830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Picture 15" descr="教学挂图07-遇到问题想办法"/>
          <p:cNvPicPr/>
          <p:nvPr/>
        </p:nvPicPr>
        <p:blipFill>
          <a:blip r:embed="rId3"/>
          <a:stretch/>
        </p:blipFill>
        <p:spPr>
          <a:xfrm>
            <a:off x="4267080" y="3571920"/>
            <a:ext cx="4876920" cy="3286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0" name="AutoShape 17"/>
          <p:cNvSpPr/>
          <p:nvPr/>
        </p:nvSpPr>
        <p:spPr>
          <a:xfrm>
            <a:off x="1143000" y="3962520"/>
            <a:ext cx="2819520" cy="1752480"/>
          </a:xfrm>
          <a:prstGeom prst="cloudCallout">
            <a:avLst>
              <a:gd name="adj1" fmla="val -47972"/>
              <a:gd name="adj2" fmla="val 5697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有好主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 rot="19888200">
            <a:off x="305280" y="11430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汉仪咪咪体简"/>
              </a:rPr>
              <a:t>老师的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704320" y="23623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己不会做的事情要学着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4"/>
          <p:cNvPicPr/>
          <p:nvPr/>
        </p:nvPicPr>
        <p:blipFill>
          <a:blip r:embed="rId2"/>
          <a:stretch/>
        </p:blipFill>
        <p:spPr>
          <a:xfrm>
            <a:off x="5562720" y="3124080"/>
            <a:ext cx="2544480" cy="3429000"/>
          </a:xfrm>
          <a:prstGeom prst="rect">
            <a:avLst/>
          </a:prstGeom>
          <a:ln w="0">
            <a:noFill/>
          </a:ln>
        </p:spPr>
      </p:pic>
      <p:sp>
        <p:nvSpPr>
          <p:cNvPr id="115" name="文本框 8198"/>
          <p:cNvSpPr/>
          <p:nvPr/>
        </p:nvSpPr>
        <p:spPr>
          <a:xfrm>
            <a:off x="3565440" y="7128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1485000" y="6094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隶二简体"/>
              </a:rPr>
              <a:t>我给自己找岗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F200708211453552838145402"/>
          <p:cNvPicPr/>
          <p:nvPr/>
        </p:nvPicPr>
        <p:blipFill>
          <a:blip r:embed="rId2"/>
          <a:stretch/>
        </p:blipFill>
        <p:spPr>
          <a:xfrm>
            <a:off x="1981080" y="1066680"/>
            <a:ext cx="3716280" cy="510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b7903715af8969bb"/>
          <p:cNvPicPr/>
          <p:nvPr/>
        </p:nvPicPr>
        <p:blipFill>
          <a:blip r:embed="rId3"/>
          <a:stretch/>
        </p:blipFill>
        <p:spPr>
          <a:xfrm>
            <a:off x="4191120" y="3200400"/>
            <a:ext cx="36576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8T05:42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30Z</dcterms:modified>
  <cp:revision>6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