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1.gif" ContentType="image/gif"/>
  <Override PartName="/ppt/media/image38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C07-7CAF-42ED-92DF-89A50021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63A-65F6-4CD3-AC95-E1BE0E23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F46-86CF-47AB-94BD-19BB9CB7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87F-34F2-4797-BB48-E0C98064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0B7C-AC00-47E0-A467-98998749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1311-5C24-4463-A64F-D660AD82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A7B9-9655-48DE-A22A-C6052703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F815-32C6-4CE4-B1E1-5D2DF4D3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53EE-D841-4287-9E1E-34FA7584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2AB5-074E-4D25-BA64-7BC58D0A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80BE-D2CE-426E-96C8-F4CECAC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0D7-DA52-4578-BF01-3665A81A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B531-05C4-48CE-ADAF-F5EDA18D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42E4-F027-46E5-B1CA-CE0142B2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67C4-498A-46B3-B562-CE86B171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738A-0E15-4768-A65A-BE3D9D6B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956-FA3E-44CB-A9C1-416C8829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706-8C8A-419F-9F8D-76F15396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773-38A9-43AD-82D6-62238003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66D-A718-4E4D-BEE2-052D2A1A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450-070E-42CC-BC11-C9E369A2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F7F-B1C2-4FCA-ADA5-3A91AA8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353-F7BC-467D-8D49-19DA6B8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16A-8B6D-485F-9D39-9E395F2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EF01-5D43-41EC-A71F-11DA42CA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500F-D7A2-4E5F-86F1-F68DC8E240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ziye99.com/pic/ltbq/cq19.html" TargetMode="External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9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4484520" y="3581280"/>
            <a:ext cx="369756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WordArt 8"/>
          <p:cNvSpPr txBox="1"/>
          <p:nvPr/>
        </p:nvSpPr>
        <p:spPr>
          <a:xfrm>
            <a:off x="3276720" y="685800"/>
            <a:ext cx="2414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</a:t>
            </a: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7</a:t>
            </a: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857160" y="2057400"/>
            <a:ext cx="739152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文化大革命的十年课件</a:t>
            </a:r>
            <a:r>
              <a:rPr b="1" lang="en-US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打包下载</a:t>
            </a:r>
            <a:endParaRPr b="1" lang="en-US" sz="4000" spc="-1" strike="noStrike">
              <a:ln w="0">
                <a:noFill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2"/>
          <a:stretch/>
        </p:blipFill>
        <p:spPr>
          <a:xfrm>
            <a:off x="884160" y="3581280"/>
            <a:ext cx="3589560" cy="23623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Snap15"/>
          <p:cNvPicPr/>
          <p:nvPr/>
        </p:nvPicPr>
        <p:blipFill>
          <a:blip r:embed="rId1"/>
          <a:stretch/>
        </p:blipFill>
        <p:spPr>
          <a:xfrm>
            <a:off x="7120080" y="4838760"/>
            <a:ext cx="2023920" cy="2019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04920" y="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二、“文化大革命”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68580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搞阴谋”——林彪、江青齐上阵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42" name="Picture 8" descr="22"/>
          <p:cNvPicPr/>
          <p:nvPr/>
        </p:nvPicPr>
        <p:blipFill>
          <a:blip r:embed="rId2"/>
          <a:stretch/>
        </p:blipFill>
        <p:spPr>
          <a:xfrm>
            <a:off x="685800" y="1600200"/>
            <a:ext cx="6095880" cy="41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img200703300028530424"/>
          <p:cNvPicPr/>
          <p:nvPr/>
        </p:nvPicPr>
        <p:blipFill>
          <a:blip r:embed="rId3"/>
          <a:stretch/>
        </p:blipFill>
        <p:spPr>
          <a:xfrm>
            <a:off x="609480" y="1600200"/>
            <a:ext cx="6019920" cy="425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20070111075618601"/>
          <p:cNvPicPr/>
          <p:nvPr/>
        </p:nvPicPr>
        <p:blipFill>
          <a:blip r:embed="rId4"/>
          <a:stretch/>
        </p:blipFill>
        <p:spPr>
          <a:xfrm>
            <a:off x="609480" y="1600200"/>
            <a:ext cx="5943600" cy="418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1176882943485"/>
          <p:cNvPicPr/>
          <p:nvPr/>
        </p:nvPicPr>
        <p:blipFill>
          <a:blip r:embed="rId5"/>
          <a:stretch/>
        </p:blipFill>
        <p:spPr>
          <a:xfrm>
            <a:off x="685800" y="1600200"/>
            <a:ext cx="6324480" cy="42624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8194"/>
          <p:cNvSpPr/>
          <p:nvPr/>
        </p:nvSpPr>
        <p:spPr>
          <a:xfrm>
            <a:off x="917640" y="5862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055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8"/>
          <p:cNvSpPr txBox="1"/>
          <p:nvPr/>
        </p:nvSpPr>
        <p:spPr>
          <a:xfrm>
            <a:off x="1295280" y="68580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无法律”——制造最大冤案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04920" y="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二、“文化大革命”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304920" y="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三、“文化大革命”结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1295280" y="68580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伟人逝”——掀悼念热潮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52" name="Picture 8" descr="200612022041249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9"/>
          <p:cNvSpPr txBox="1"/>
          <p:nvPr/>
        </p:nvSpPr>
        <p:spPr>
          <a:xfrm>
            <a:off x="1143000" y="2666880"/>
            <a:ext cx="6400800" cy="19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十里长街送总理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4" name="Picture 10" descr="open2"/>
          <p:cNvPicPr/>
          <p:nvPr/>
        </p:nvPicPr>
        <p:blipFill>
          <a:blip r:embed="rId3"/>
          <a:stretch/>
        </p:blipFill>
        <p:spPr>
          <a:xfrm>
            <a:off x="3200400" y="4724280"/>
            <a:ext cx="1905120" cy="133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304920" y="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三、“文化大革命”结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295280" y="68580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庆胜利”——粉碎江青反革命集团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57" name="Picture 12" descr="2008062203190234"/>
          <p:cNvPicPr/>
          <p:nvPr/>
        </p:nvPicPr>
        <p:blipFill>
          <a:blip r:embed="rId1"/>
          <a:stretch/>
        </p:blipFill>
        <p:spPr>
          <a:xfrm>
            <a:off x="0" y="5097600"/>
            <a:ext cx="1828800" cy="17604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" descr=""/>
          <p:cNvPicPr/>
          <p:nvPr/>
        </p:nvPicPr>
        <p:blipFill>
          <a:blip r:embed="rId2"/>
          <a:srcRect l="0" t="0" r="24436" b="0"/>
          <a:stretch/>
        </p:blipFill>
        <p:spPr>
          <a:xfrm>
            <a:off x="1905120" y="1795320"/>
            <a:ext cx="5333760" cy="418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304920" y="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四、反思“文化大革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12859060468173"/>
          <p:cNvPicPr/>
          <p:nvPr/>
        </p:nvPicPr>
        <p:blipFill>
          <a:blip r:embed="rId1"/>
          <a:stretch/>
        </p:blipFill>
        <p:spPr>
          <a:xfrm>
            <a:off x="0" y="4191120"/>
            <a:ext cx="2417760" cy="26668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9"/>
          <p:cNvSpPr/>
          <p:nvPr/>
        </p:nvSpPr>
        <p:spPr>
          <a:xfrm>
            <a:off x="1905120" y="838080"/>
            <a:ext cx="6629400" cy="2590920"/>
          </a:xfrm>
          <a:prstGeom prst="cloudCallout">
            <a:avLst>
              <a:gd name="adj1" fmla="val -43967"/>
              <a:gd name="adj2" fmla="val 982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启体简体"/>
              </a:rPr>
              <a:t>如何评价“文化大革命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304920" y="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四、反思“文化大革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4920880317947"/>
          <p:cNvPicPr/>
          <p:nvPr/>
        </p:nvPicPr>
        <p:blipFill>
          <a:blip r:embed="rId1"/>
          <a:stretch/>
        </p:blipFill>
        <p:spPr>
          <a:xfrm>
            <a:off x="7078680" y="3962520"/>
            <a:ext cx="2065320" cy="2895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/>
          <p:cNvSpPr/>
          <p:nvPr/>
        </p:nvSpPr>
        <p:spPr>
          <a:xfrm>
            <a:off x="1600200" y="838080"/>
            <a:ext cx="4724280" cy="2743200"/>
          </a:xfrm>
          <a:prstGeom prst="wedgeRoundRectCallout">
            <a:avLst>
              <a:gd name="adj1" fmla="val 71236"/>
              <a:gd name="adj2" fmla="val 72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方正启体简体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方正启体简体"/>
              </a:rPr>
              <a:t>文化大革命”是一场由领导者错误发动，被反革命集团利用，给党、国家和各族人民带来严重灾难的内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304920" y="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四、反思“文化大革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D006"/>
          <p:cNvPicPr/>
          <p:nvPr/>
        </p:nvPicPr>
        <p:blipFill>
          <a:blip r:embed="rId1"/>
          <a:stretch/>
        </p:blipFill>
        <p:spPr>
          <a:xfrm>
            <a:off x="0" y="4343400"/>
            <a:ext cx="2295360" cy="25146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2133720" y="1143000"/>
            <a:ext cx="5410080" cy="2590920"/>
          </a:xfrm>
          <a:prstGeom prst="cloudCallout">
            <a:avLst>
              <a:gd name="adj1" fmla="val -43310"/>
              <a:gd name="adj2" fmla="val 1052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文化大革命”给我国社会主义建设造成了哪些重大损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D005"/>
          <p:cNvPicPr/>
          <p:nvPr/>
        </p:nvPicPr>
        <p:blipFill>
          <a:blip r:embed="rId1"/>
          <a:stretch/>
        </p:blipFill>
        <p:spPr>
          <a:xfrm>
            <a:off x="6877080" y="4191120"/>
            <a:ext cx="2266920" cy="26668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304920" y="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四、反思“文化大革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7"/>
          <p:cNvGrpSpPr/>
          <p:nvPr/>
        </p:nvGrpSpPr>
        <p:grpSpPr>
          <a:xfrm>
            <a:off x="304920" y="1143000"/>
            <a:ext cx="7848360" cy="2590920"/>
            <a:chOff x="304920" y="1143000"/>
            <a:chExt cx="7848360" cy="2590920"/>
          </a:xfrm>
        </p:grpSpPr>
        <p:sp>
          <p:nvSpPr>
            <p:cNvPr id="171" name="Oval 8"/>
            <p:cNvSpPr/>
            <p:nvPr/>
          </p:nvSpPr>
          <p:spPr>
            <a:xfrm>
              <a:off x="2971800" y="1143000"/>
              <a:ext cx="1828800" cy="1219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Arial"/>
                  <a:ea typeface="华文隶书"/>
                </a:rPr>
                <a:t>“</a:t>
              </a:r>
              <a:r>
                <a:rPr b="0" lang="zh-CN" sz="2000" spc="-1" strike="noStrike">
                  <a:solidFill>
                    <a:srgbClr val="ff0066"/>
                  </a:solidFill>
                  <a:latin typeface="Arial"/>
                  <a:ea typeface="华文隶书"/>
                </a:rPr>
                <a:t>文化大革命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66"/>
                  </a:solidFill>
                  <a:latin typeface="Arial"/>
                  <a:ea typeface="华文隶书"/>
                </a:rPr>
                <a:t>的影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371240" y="2133720"/>
              <a:ext cx="1676880" cy="1066680"/>
              <a:chOff x="1371240" y="2133720"/>
              <a:chExt cx="1676880" cy="1066680"/>
            </a:xfrm>
          </p:grpSpPr>
          <p:sp>
            <p:nvSpPr>
              <p:cNvPr id="173" name="Line 11"/>
              <p:cNvSpPr/>
              <p:nvPr/>
            </p:nvSpPr>
            <p:spPr>
              <a:xfrm flipH="1">
                <a:off x="1371240" y="2133720"/>
                <a:ext cx="1676520" cy="1066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1371600" y="2133720"/>
                <a:ext cx="167652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12"/>
            <p:cNvSpPr/>
            <p:nvPr/>
          </p:nvSpPr>
          <p:spPr>
            <a:xfrm rot="19815000">
              <a:off x="1371960" y="19954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民主与法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304920" y="3276720"/>
              <a:ext cx="12952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肆意践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895480" y="2362320"/>
              <a:ext cx="533520" cy="838080"/>
              <a:chOff x="2895480" y="2362320"/>
              <a:chExt cx="533520" cy="838080"/>
            </a:xfrm>
          </p:grpSpPr>
          <p:sp>
            <p:nvSpPr>
              <p:cNvPr id="178" name="Line 14"/>
              <p:cNvSpPr/>
              <p:nvPr/>
            </p:nvSpPr>
            <p:spPr>
              <a:xfrm flipH="1">
                <a:off x="2895480" y="2362320"/>
                <a:ext cx="533520" cy="838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2895480" y="2362320"/>
                <a:ext cx="53352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15"/>
            <p:cNvSpPr/>
            <p:nvPr/>
          </p:nvSpPr>
          <p:spPr>
            <a:xfrm>
              <a:off x="1828800" y="3276720"/>
              <a:ext cx="14479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严重削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6"/>
            <p:cNvSpPr/>
            <p:nvPr/>
          </p:nvSpPr>
          <p:spPr>
            <a:xfrm rot="18281400">
              <a:off x="2198520" y="22114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国家政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3429000" y="3276720"/>
              <a:ext cx="14479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发展缓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419720" y="2286000"/>
              <a:ext cx="1066680" cy="990720"/>
              <a:chOff x="4419720" y="2286000"/>
              <a:chExt cx="1066680" cy="990720"/>
            </a:xfrm>
          </p:grpSpPr>
          <p:sp>
            <p:nvSpPr>
              <p:cNvPr id="184" name="Line 18"/>
              <p:cNvSpPr/>
              <p:nvPr/>
            </p:nvSpPr>
            <p:spPr>
              <a:xfrm>
                <a:off x="4419720" y="2286000"/>
                <a:ext cx="10666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419720" y="2286000"/>
                <a:ext cx="106668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9"/>
            <p:cNvSpPr/>
            <p:nvPr/>
          </p:nvSpPr>
          <p:spPr>
            <a:xfrm rot="5275200">
              <a:off x="3567960" y="2668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国民经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5029200" y="3276720"/>
              <a:ext cx="15238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没有提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962520" y="2438280"/>
              <a:ext cx="360" cy="838440"/>
              <a:chOff x="3962520" y="2438280"/>
              <a:chExt cx="360" cy="838440"/>
            </a:xfrm>
          </p:grpSpPr>
          <p:sp>
            <p:nvSpPr>
              <p:cNvPr id="189" name="Line 21"/>
              <p:cNvSpPr/>
              <p:nvPr/>
            </p:nvSpPr>
            <p:spPr>
              <a:xfrm>
                <a:off x="3962520" y="2438280"/>
                <a:ext cx="0" cy="838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3962520" y="2438280"/>
                <a:ext cx="360" cy="83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22"/>
            <p:cNvSpPr/>
            <p:nvPr/>
          </p:nvSpPr>
          <p:spPr>
            <a:xfrm rot="2890200">
              <a:off x="4444560" y="24782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生活水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876920" y="1905120"/>
              <a:ext cx="2286000" cy="1218960"/>
              <a:chOff x="4876920" y="1905120"/>
              <a:chExt cx="2286000" cy="1218960"/>
            </a:xfrm>
          </p:grpSpPr>
          <p:sp>
            <p:nvSpPr>
              <p:cNvPr id="193" name="Line 23"/>
              <p:cNvSpPr/>
              <p:nvPr/>
            </p:nvSpPr>
            <p:spPr>
              <a:xfrm>
                <a:off x="4876920" y="1905120"/>
                <a:ext cx="2286000" cy="1218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4876920" y="1905120"/>
                <a:ext cx="2286000" cy="121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Rectangle 24"/>
            <p:cNvSpPr/>
            <p:nvPr/>
          </p:nvSpPr>
          <p:spPr>
            <a:xfrm>
              <a:off x="6705720" y="3276720"/>
              <a:ext cx="144756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严重摧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5"/>
            <p:cNvSpPr/>
            <p:nvPr/>
          </p:nvSpPr>
          <p:spPr>
            <a:xfrm rot="1784400">
              <a:off x="4876200" y="228564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教育科学文化事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304920" y="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四、反思“文化大革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iecool_com1_024"/>
          <p:cNvPicPr/>
          <p:nvPr/>
        </p:nvPicPr>
        <p:blipFill>
          <a:blip r:embed="rId1"/>
          <a:stretch/>
        </p:blipFill>
        <p:spPr>
          <a:xfrm>
            <a:off x="0" y="5105520"/>
            <a:ext cx="1238400" cy="1752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9"/>
          <p:cNvSpPr/>
          <p:nvPr/>
        </p:nvSpPr>
        <p:spPr>
          <a:xfrm>
            <a:off x="838080" y="114300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　　我们根本否定“文化大革命”，但应该说“文化大革命”也有一“功”，它提供了反而教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　　　　　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邓小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09480" y="2666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卡通简体"/>
              </a:rPr>
              <a:t>阅读上面材料，说一说“文化大革命”带给我们哪些教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219320" y="3429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教训：</a:t>
            </a:r>
            <a:r>
              <a:rPr b="0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社会主义制度建立后，党和国家的工作重点必须逐步转移到以经济建设为中心的轨道上来，阶级斗争虽仍存在，但绝不可扩大化；坚持民主集中制和集体领导的原则，反对任何形式的个人崇拜和个人专断，健全民主与法制；必须把保持政治上的安全团结放在十分重要的地位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2" descr="gif34"/>
          <p:cNvPicPr/>
          <p:nvPr/>
        </p:nvPicPr>
        <p:blipFill>
          <a:blip r:embed="rId2"/>
          <a:stretch/>
        </p:blipFill>
        <p:spPr>
          <a:xfrm>
            <a:off x="7848720" y="5945040"/>
            <a:ext cx="1295280" cy="91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A021"/>
          <p:cNvPicPr/>
          <p:nvPr/>
        </p:nvPicPr>
        <p:blipFill>
          <a:blip r:embed="rId1"/>
          <a:stretch/>
        </p:blipFill>
        <p:spPr>
          <a:xfrm>
            <a:off x="7545240" y="0"/>
            <a:ext cx="1598760" cy="22096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304920" y="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1"/>
          <p:cNvGrpSpPr/>
          <p:nvPr/>
        </p:nvGrpSpPr>
        <p:grpSpPr>
          <a:xfrm>
            <a:off x="1143000" y="914400"/>
            <a:ext cx="5486400" cy="5410080"/>
            <a:chOff x="1143000" y="914400"/>
            <a:chExt cx="5486400" cy="5410080"/>
          </a:xfrm>
        </p:grpSpPr>
        <p:sp>
          <p:nvSpPr>
            <p:cNvPr id="206" name="WordArt 8"/>
            <p:cNvSpPr txBox="1"/>
            <p:nvPr/>
          </p:nvSpPr>
          <p:spPr>
            <a:xfrm rot="5400000">
              <a:off x="-228600" y="3124080"/>
              <a:ext cx="3200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“</a:t>
              </a: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宋体"/>
                </a:rPr>
                <a:t>文化大革命”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2057400" y="1143000"/>
              <a:ext cx="304920" cy="46483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20960 h 4648320"/>
                <a:gd name="textAreaBottom" fmla="*/ 4527360 h 46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2514600" y="914400"/>
              <a:ext cx="23623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经典粗圆简"/>
                </a:rPr>
                <a:t>开始：“五一六通知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429000" y="1600200"/>
              <a:ext cx="360" cy="609480"/>
              <a:chOff x="3429000" y="1600200"/>
              <a:chExt cx="360" cy="609480"/>
            </a:xfrm>
          </p:grpSpPr>
          <p:sp>
            <p:nvSpPr>
              <p:cNvPr id="210" name="Line 12"/>
              <p:cNvSpPr/>
              <p:nvPr/>
            </p:nvSpPr>
            <p:spPr>
              <a:xfrm>
                <a:off x="3429000" y="16002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3429000" y="16002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Rectangle 13"/>
            <p:cNvSpPr/>
            <p:nvPr/>
          </p:nvSpPr>
          <p:spPr>
            <a:xfrm>
              <a:off x="2514600" y="2286000"/>
              <a:ext cx="23623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经典粗圆简"/>
                </a:rPr>
                <a:t>发展：红卫兵夺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4"/>
            <p:cNvSpPr/>
            <p:nvPr/>
          </p:nvSpPr>
          <p:spPr>
            <a:xfrm>
              <a:off x="2514600" y="3505320"/>
              <a:ext cx="411480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经典粗圆简"/>
                </a:rPr>
                <a:t>内乱：林彪、江青反革命集团篡党夺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429000" y="2819520"/>
              <a:ext cx="360" cy="609480"/>
              <a:chOff x="3429000" y="2819520"/>
              <a:chExt cx="360" cy="609480"/>
            </a:xfrm>
          </p:grpSpPr>
          <p:sp>
            <p:nvSpPr>
              <p:cNvPr id="215" name="Line 15"/>
              <p:cNvSpPr/>
              <p:nvPr/>
            </p:nvSpPr>
            <p:spPr>
              <a:xfrm>
                <a:off x="3429000" y="28195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3429000" y="281952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429000" y="4114800"/>
              <a:ext cx="360" cy="609480"/>
              <a:chOff x="3429000" y="4114800"/>
              <a:chExt cx="360" cy="6094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3429000" y="41148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429000" y="41148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Rectangle 17"/>
            <p:cNvSpPr/>
            <p:nvPr/>
          </p:nvSpPr>
          <p:spPr>
            <a:xfrm>
              <a:off x="2514600" y="4800600"/>
              <a:ext cx="32004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经典粗圆简"/>
                </a:rPr>
                <a:t>结束：江青反革命集团被粉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429000" y="5410080"/>
              <a:ext cx="360" cy="381240"/>
              <a:chOff x="3429000" y="5410080"/>
              <a:chExt cx="360" cy="381240"/>
            </a:xfrm>
          </p:grpSpPr>
          <p:sp>
            <p:nvSpPr>
              <p:cNvPr id="222" name="Line 18"/>
              <p:cNvSpPr/>
              <p:nvPr/>
            </p:nvSpPr>
            <p:spPr>
              <a:xfrm>
                <a:off x="3429000" y="5410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3429000" y="5410080"/>
                <a:ext cx="3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19"/>
            <p:cNvSpPr/>
            <p:nvPr/>
          </p:nvSpPr>
          <p:spPr>
            <a:xfrm>
              <a:off x="2743200" y="5791320"/>
              <a:ext cx="19051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经典粗圆简"/>
                </a:rPr>
                <a:t>反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Picture 20" descr="gif34"/>
          <p:cNvPicPr/>
          <p:nvPr/>
        </p:nvPicPr>
        <p:blipFill>
          <a:blip r:embed="rId2"/>
          <a:stretch/>
        </p:blipFill>
        <p:spPr>
          <a:xfrm>
            <a:off x="7848720" y="5945040"/>
            <a:ext cx="1295280" cy="91296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8194"/>
          <p:cNvSpPr/>
          <p:nvPr/>
        </p:nvSpPr>
        <p:spPr>
          <a:xfrm>
            <a:off x="1908000" y="632448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80285renwuhua2_058"/>
          <p:cNvPicPr/>
          <p:nvPr/>
        </p:nvPicPr>
        <p:blipFill>
          <a:blip r:embed="rId1"/>
          <a:stretch/>
        </p:blipFill>
        <p:spPr>
          <a:xfrm>
            <a:off x="678168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04920" y="152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温故而知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38080" y="1066680"/>
            <a:ext cx="7925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党在探索社会主义道路过程中取得的重要成果、产生的严重失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分析发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大跃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和人民公社化运动的原因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"/>
          <p:cNvSpPr/>
          <p:nvPr/>
        </p:nvSpPr>
        <p:spPr>
          <a:xfrm>
            <a:off x="304920" y="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28600" y="558720"/>
            <a:ext cx="876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毛泽东错误发动“文化大革命”的理论依据是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社会主义时期阶级斗争形势严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党和国家面临资本主义复辟的危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党和国家机关的领导干部贪污日趋严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思想文化领域出现反常反社会主义思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．见右图中的老照片，此情此景可能出现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“文化大革命”时期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“大跃进”时期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人民公社化时期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整风运动时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．“正正反反，反反正正，正反一样；是是非非，非非是是，是非不分。”这副对联反映了建国后那一时期的状况？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土地改革时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“一五”计划时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文化大革命时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改革开放后的新时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４．文革中，民主法制遭到严重破坏，表现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　　　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共产党的集体领导原则被破坏②个人崇拜达到高峰③人民代表大会制度形同虚设④公安、检察、司法机关遭到冲击⑤贪污腐败成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①②③④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①③④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①②④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①②③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文化大"/>
          <p:cNvPicPr/>
          <p:nvPr/>
        </p:nvPicPr>
        <p:blipFill>
          <a:blip r:embed="rId1"/>
          <a:stretch/>
        </p:blipFill>
        <p:spPr>
          <a:xfrm>
            <a:off x="7620120" y="2362320"/>
            <a:ext cx="1523880" cy="11048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6858000" y="457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6705720" y="23623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7772400" y="3809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6629400" y="4952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5"/>
          <p:cNvSpPr/>
          <p:nvPr/>
        </p:nvSpPr>
        <p:spPr>
          <a:xfrm>
            <a:off x="152280" y="0"/>
            <a:ext cx="876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２．在新浪网站的新浪</a:t>
            </a: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PK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台栏目中，有人发表了这样的一则贴子。主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文化大革命</a:t>
            </a: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焚书坑儒吗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以下为几位网友的跟贴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楼主：前几天在网上看完了</a:t>
            </a: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亮剑</a:t>
            </a: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的下半部分，感慨颇多，人性的扭曲，黑白的颠倒，有知识和能力的人都被弄死了，这让我想起了秦始皇，大家如果有同感的话，欢迎来聊聊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网友一：论灾难程度，焚书坑儒小于文革，仅损害了文化延续，文革造成的可是整个社会的崩溃，科学文化、道德观念、生产经济、物质生活等等无所不及。当然，论起因两者大同小异，无一不是风流人物的权术杰作。楼主的感慨，怕就是极权对民主的扼杀，谬误对真理的愚弄吧？发自内心的祈祷，但愿历史悲剧不再重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网友二：就破四旧一项，就糟蹋了我们多少宝贵的历史文化遗产和文物？很多都是无价之宝，对研究历史和当时政治环境有很重要的意义，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可惜啊！！！无知的岁月！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请回答：（</a:t>
            </a: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网友一提到文化大革命和焚书坑儒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无一不是风流人物的权术杰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你知道这里的风流人物分别指的都是谁吗？请你说出两者在影响上有哪些共同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你同意两位网友的意见吗？请说明理由。并试举例说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怕就是极权对民主的扼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楷体简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、如果请你为跟贴，你会如何正确评价文化大革命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DCB3-4A4B-4E4A-8D44-64F3AF04D0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-17092923598633"/>
          <p:cNvPicPr/>
          <p:nvPr/>
        </p:nvPicPr>
        <p:blipFill>
          <a:blip r:embed="rId1"/>
          <a:stretch/>
        </p:blipFill>
        <p:spPr>
          <a:xfrm>
            <a:off x="7715160" y="5514840"/>
            <a:ext cx="1428840" cy="13431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762120" y="1066680"/>
            <a:ext cx="716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考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两位风流人物分别是毛泽东和秦始皇。都对我国文化造成了极大的损失，都禁锢了人们的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同意。因为“文化大革命”期间，国家政权遭到严重削弱，民主法制被肆意践踏，国民经济遭受到破坏，人民生活基本上没有提高。例如国家主席刘少奇被迫害致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“文化大革命”不是任何意义上的革命和进步，而是一场由领导者错误发动的，被反革命集团利用，给党、国家和人民带来严重灾难的内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74039renwuhua2_184"/>
          <p:cNvPicPr/>
          <p:nvPr/>
        </p:nvPicPr>
        <p:blipFill>
          <a:blip r:embed="rId1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04920" y="152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导入新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838080" y="990720"/>
            <a:ext cx="80773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是疯狂的十年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是混乱的十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是让人痛心疾首的十年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让人不堪回首的十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是左倾思想占绝对统治地位的十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这是一段我们中华民族永远不能忘记的历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0937111256709"/>
          <p:cNvPicPr/>
          <p:nvPr/>
        </p:nvPicPr>
        <p:blipFill>
          <a:blip r:embed="rId1"/>
          <a:stretch/>
        </p:blipFill>
        <p:spPr>
          <a:xfrm>
            <a:off x="7091280" y="3809880"/>
            <a:ext cx="205272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04920" y="152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导航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990720" y="1295280"/>
            <a:ext cx="2590560" cy="922320"/>
            <a:chOff x="990720" y="1295280"/>
            <a:chExt cx="2590560" cy="922320"/>
          </a:xfrm>
        </p:grpSpPr>
        <p:pic>
          <p:nvPicPr>
            <p:cNvPr id="96" name="Picture 14" descr="按钮扣"/>
            <p:cNvPicPr/>
            <p:nvPr/>
          </p:nvPicPr>
          <p:blipFill>
            <a:blip r:embed="rId2"/>
            <a:stretch/>
          </p:blipFill>
          <p:spPr>
            <a:xfrm>
              <a:off x="990720" y="1295280"/>
              <a:ext cx="259056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5"/>
            <p:cNvSpPr/>
            <p:nvPr/>
          </p:nvSpPr>
          <p:spPr>
            <a:xfrm>
              <a:off x="1371600" y="15238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方正启体简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"/>
          <p:cNvGrpSpPr/>
          <p:nvPr/>
        </p:nvGrpSpPr>
        <p:grpSpPr>
          <a:xfrm>
            <a:off x="2971800" y="2666880"/>
            <a:ext cx="2590920" cy="922320"/>
            <a:chOff x="2971800" y="2666880"/>
            <a:chExt cx="2590920" cy="922320"/>
          </a:xfrm>
        </p:grpSpPr>
        <p:pic>
          <p:nvPicPr>
            <p:cNvPr id="99" name="Picture 13" descr="按钮扣"/>
            <p:cNvPicPr/>
            <p:nvPr/>
          </p:nvPicPr>
          <p:blipFill>
            <a:blip r:embed="rId3"/>
            <a:stretch/>
          </p:blipFill>
          <p:spPr>
            <a:xfrm>
              <a:off x="2971800" y="2666880"/>
              <a:ext cx="259092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6"/>
            <p:cNvSpPr/>
            <p:nvPr/>
          </p:nvSpPr>
          <p:spPr>
            <a:xfrm>
              <a:off x="3352680" y="28954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方正启体简体"/>
                </a:rPr>
                <a:t>讲授新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4343400" y="4191120"/>
            <a:ext cx="2590920" cy="922320"/>
            <a:chOff x="4343400" y="4191120"/>
            <a:chExt cx="2590920" cy="922320"/>
          </a:xfrm>
        </p:grpSpPr>
        <p:pic>
          <p:nvPicPr>
            <p:cNvPr id="102" name="Picture 12" descr="按钮扣"/>
            <p:cNvPicPr/>
            <p:nvPr/>
          </p:nvPicPr>
          <p:blipFill>
            <a:blip r:embed="rId4"/>
            <a:stretch/>
          </p:blipFill>
          <p:spPr>
            <a:xfrm>
              <a:off x="4343400" y="4191120"/>
              <a:ext cx="259092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7"/>
            <p:cNvSpPr/>
            <p:nvPr/>
          </p:nvSpPr>
          <p:spPr>
            <a:xfrm>
              <a:off x="4724280" y="44197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方正启体简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"/>
          <p:cNvGrpSpPr/>
          <p:nvPr/>
        </p:nvGrpSpPr>
        <p:grpSpPr>
          <a:xfrm>
            <a:off x="1295280" y="5410080"/>
            <a:ext cx="2590920" cy="922320"/>
            <a:chOff x="1295280" y="5410080"/>
            <a:chExt cx="2590920" cy="922320"/>
          </a:xfrm>
        </p:grpSpPr>
        <p:pic>
          <p:nvPicPr>
            <p:cNvPr id="105" name="Picture 11" descr="按钮扣"/>
            <p:cNvPicPr/>
            <p:nvPr/>
          </p:nvPicPr>
          <p:blipFill>
            <a:blip r:embed="rId5"/>
            <a:stretch/>
          </p:blipFill>
          <p:spPr>
            <a:xfrm>
              <a:off x="1295280" y="5410080"/>
              <a:ext cx="259092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8"/>
            <p:cNvSpPr/>
            <p:nvPr/>
          </p:nvSpPr>
          <p:spPr>
            <a:xfrm>
              <a:off x="1676520" y="56386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方正启体简体"/>
                </a:rPr>
                <a:t>课堂练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-17092872814258"/>
          <p:cNvPicPr/>
          <p:nvPr/>
        </p:nvPicPr>
        <p:blipFill>
          <a:blip r:embed="rId1"/>
          <a:stretch/>
        </p:blipFill>
        <p:spPr>
          <a:xfrm>
            <a:off x="0" y="495288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04920" y="152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990720" y="121932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知识目标：了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文化大革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的起因、过程、性质和后果，认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倾错误对中国革命和建设的严重危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能力目标：向经历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文化大革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的长辈、邻里进行采访调查，记录他们的经历和感受，学习整理口述史料的方法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情感目标：认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文化大革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是一场由领导者错误发动，被反革命集团利用，给党、国家和各族人民带来严重灾难的内乱。充分认识社会主义现代化建设的长期性、艰巨性、复杂性，坚定建设有中国特色的社会主义的信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gif34"/>
          <p:cNvPicPr/>
          <p:nvPr/>
        </p:nvPicPr>
        <p:blipFill>
          <a:blip r:embed="rId2"/>
          <a:stretch/>
        </p:blipFill>
        <p:spPr>
          <a:xfrm>
            <a:off x="7848720" y="5945040"/>
            <a:ext cx="1295280" cy="91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-17092923598633"/>
          <p:cNvPicPr/>
          <p:nvPr/>
        </p:nvPicPr>
        <p:blipFill>
          <a:blip r:embed="rId1"/>
          <a:stretch/>
        </p:blipFill>
        <p:spPr>
          <a:xfrm>
            <a:off x="6858000" y="4708440"/>
            <a:ext cx="2286000" cy="2149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304920" y="320760"/>
            <a:ext cx="58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一、“文化大革命”的发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990720" y="2057400"/>
            <a:ext cx="1676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2971800" y="1676520"/>
            <a:ext cx="76320" cy="121896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124080" y="1584360"/>
            <a:ext cx="6019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启体简体"/>
              </a:rPr>
              <a:t>毛泽东错误认为党内出现了资产阶级复辟的现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启体简体"/>
              </a:rPr>
              <a:t>毛泽东的错误被林彪和江青反革命集团所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方正启体简体"/>
              </a:rPr>
              <a:t>当时国家政治生活中存在着严重的高度个人崇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990720" y="3733920"/>
            <a:ext cx="1752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开始标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19520" y="3962520"/>
            <a:ext cx="533160" cy="360"/>
            <a:chOff x="2819520" y="3962520"/>
            <a:chExt cx="533160" cy="360"/>
          </a:xfrm>
        </p:grpSpPr>
        <p:sp>
          <p:nvSpPr>
            <p:cNvPr id="118" name="Line 13"/>
            <p:cNvSpPr/>
            <p:nvPr/>
          </p:nvSpPr>
          <p:spPr>
            <a:xfrm>
              <a:off x="2819520" y="3962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819520" y="396252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4"/>
          <p:cNvSpPr/>
          <p:nvPr/>
        </p:nvSpPr>
        <p:spPr>
          <a:xfrm>
            <a:off x="3505320" y="35053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日，中共中央政治局扩大会议通过</a:t>
            </a: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中国共产党中央委员会通知</a:t>
            </a: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，简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五一六通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，成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文化大革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开始的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nap14"/>
          <p:cNvPicPr/>
          <p:nvPr/>
        </p:nvPicPr>
        <p:blipFill>
          <a:blip r:embed="rId1"/>
          <a:stretch/>
        </p:blipFill>
        <p:spPr>
          <a:xfrm>
            <a:off x="0" y="3962520"/>
            <a:ext cx="1805040" cy="28954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284040" y="19836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二、“文化大革命”的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2006111412586938"/>
          <p:cNvPicPr/>
          <p:nvPr/>
        </p:nvPicPr>
        <p:blipFill>
          <a:blip r:embed="rId2"/>
          <a:stretch/>
        </p:blipFill>
        <p:spPr>
          <a:xfrm>
            <a:off x="2438280" y="1600200"/>
            <a:ext cx="5943600" cy="4680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0"/>
          <p:cNvSpPr txBox="1"/>
          <p:nvPr/>
        </p:nvSpPr>
        <p:spPr>
          <a:xfrm>
            <a:off x="1676520" y="83808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贴大字报——风云骤起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25" name="Picture 11" descr="大字报"/>
          <p:cNvPicPr/>
          <p:nvPr/>
        </p:nvPicPr>
        <p:blipFill>
          <a:blip r:embed="rId3"/>
          <a:stretch/>
        </p:blipFill>
        <p:spPr>
          <a:xfrm>
            <a:off x="2209680" y="1622520"/>
            <a:ext cx="5943600" cy="46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12859060468173"/>
          <p:cNvPicPr/>
          <p:nvPr/>
        </p:nvPicPr>
        <p:blipFill>
          <a:blip r:embed="rId1"/>
          <a:stretch/>
        </p:blipFill>
        <p:spPr>
          <a:xfrm>
            <a:off x="7002360" y="4495680"/>
            <a:ext cx="2141640" cy="2362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04920" y="0"/>
            <a:ext cx="56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二、“文化大革命”的发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刘少奇"/>
          <p:cNvPicPr/>
          <p:nvPr/>
        </p:nvPicPr>
        <p:blipFill>
          <a:blip r:embed="rId2"/>
          <a:stretch/>
        </p:blipFill>
        <p:spPr>
          <a:xfrm>
            <a:off x="1295280" y="1676520"/>
            <a:ext cx="4529160" cy="4876560"/>
          </a:xfrm>
          <a:prstGeom prst="rect">
            <a:avLst/>
          </a:prstGeom>
          <a:ln w="0">
            <a:noFill/>
          </a:ln>
        </p:spPr>
      </p:pic>
      <p:sp>
        <p:nvSpPr>
          <p:cNvPr id="129" name="WordArt 7"/>
          <p:cNvSpPr txBox="1"/>
          <p:nvPr/>
        </p:nvSpPr>
        <p:spPr>
          <a:xfrm>
            <a:off x="1676520" y="6858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炮打司令部”——冤情泛滥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30" name="Picture 9" descr="43d5bed5eb56a51ba08bb768"/>
          <p:cNvPicPr/>
          <p:nvPr/>
        </p:nvPicPr>
        <p:blipFill>
          <a:blip r:embed="rId3"/>
          <a:stretch/>
        </p:blipFill>
        <p:spPr>
          <a:xfrm>
            <a:off x="762120" y="1676520"/>
            <a:ext cx="5562360" cy="382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1556c23795255f2b0b55a9cc"/>
          <p:cNvPicPr/>
          <p:nvPr/>
        </p:nvPicPr>
        <p:blipFill>
          <a:blip r:embed="rId4"/>
          <a:stretch/>
        </p:blipFill>
        <p:spPr>
          <a:xfrm>
            <a:off x="838080" y="1676520"/>
            <a:ext cx="5867640" cy="419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265dceec91c2215579f05503"/>
          <p:cNvPicPr/>
          <p:nvPr/>
        </p:nvPicPr>
        <p:blipFill>
          <a:blip r:embed="rId5"/>
          <a:stretch/>
        </p:blipFill>
        <p:spPr>
          <a:xfrm>
            <a:off x="1981080" y="1447920"/>
            <a:ext cx="3998880" cy="510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021"/>
          <p:cNvPicPr/>
          <p:nvPr/>
        </p:nvPicPr>
        <p:blipFill>
          <a:blip r:embed="rId6"/>
          <a:stretch/>
        </p:blipFill>
        <p:spPr>
          <a:xfrm>
            <a:off x="990720" y="143028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Snap25"/>
          <p:cNvPicPr/>
          <p:nvPr/>
        </p:nvPicPr>
        <p:blipFill>
          <a:blip r:embed="rId1"/>
          <a:stretch/>
        </p:blipFill>
        <p:spPr>
          <a:xfrm>
            <a:off x="0" y="3995640"/>
            <a:ext cx="2570040" cy="286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-17092953593465"/>
          <p:cNvPicPr/>
          <p:nvPr/>
        </p:nvPicPr>
        <p:blipFill>
          <a:blip r:embed="rId2"/>
          <a:stretch/>
        </p:blipFill>
        <p:spPr>
          <a:xfrm>
            <a:off x="228600" y="480060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04920" y="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二、“文化大革命”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1676520" y="6858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红卫兵”——掀夺权风暴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38" name="11文化大革命中的全面夺权.mpg" descr=""/>
          <p:cNvPicPr/>
          <p:nvPr/>
        </p:nvPicPr>
        <p:blipFill>
          <a:blip r:embed="rId3"/>
          <a:stretch/>
        </p:blipFill>
        <p:spPr>
          <a:xfrm>
            <a:off x="2362320" y="1447920"/>
            <a:ext cx="6248160" cy="511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5:45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37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