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click.wav" ContentType="audio/x-wav"/>
  <Override PartName="/ppt/media/image13.gif" ContentType="image/gif"/>
  <Override PartName="/ppt/media/image20.gif" ContentType="image/gif"/>
  <Override PartName="/ppt/media/image24.png" ContentType="image/png"/>
  <Override PartName="/ppt/media/image11.jpeg" ContentType="image/jpeg"/>
  <Override PartName="/ppt/media/image21.gif" ContentType="image/gif"/>
  <Override PartName="/ppt/media/image10.jpeg" ContentType="image/jpeg"/>
  <Override PartName="/ppt/media/image5.gif" ContentType="image/gif"/>
  <Override PartName="/ppt/media/image7.jpeg" ContentType="image/jpeg"/>
  <Override PartName="/ppt/media/image16.jpeg" ContentType="image/jpeg"/>
  <Override PartName="/ppt/media/chimes.wav" ContentType="audio/x-wav"/>
  <Override PartName="/ppt/media/image23.wmf" ContentType="image/x-wmf"/>
  <Override PartName="/ppt/media/image9.jpeg" ContentType="image/jpeg"/>
  <Override PartName="/ppt/media/coin.wav" ContentType="audio/x-wav"/>
  <Override PartName="/ppt/media/image8.gif" ContentType="image/gif"/>
  <Override PartName="/ppt/media/image27.jpeg" ContentType="image/jpeg"/>
  <Override PartName="/ppt/media/type.wav" ContentType="audio/x-wav"/>
  <Override PartName="/ppt/media/image6.jpeg" ContentType="image/jpeg"/>
  <Override PartName="/ppt/media/image29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voltage.wav" ContentType="audio/x-wav"/>
  <Override PartName="/ppt/media/image28.wmf" ContentType="image/x-wmf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hammer.wav" ContentType="audio/x-wav"/>
  <Override PartName="/ppt/media/image2.jpeg" ContentType="image/jpeg"/>
  <Override PartName="/ppt/media/image1.jpeg" ContentType="image/jpeg"/>
  <Override PartName="/ppt/media/image22.jpeg" ContentType="image/jpeg"/>
  <Override PartName="/ppt/media/image17.png" ContentType="image/png"/>
  <Override PartName="/ppt/media/image32.jpeg" ContentType="image/jpeg"/>
  <Override PartName="/ppt/media/image14.jpeg" ContentType="image/jpe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630-E7FF-4337-9F98-E85192F1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D90-B08B-4665-9773-C04053CE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AAD-287A-4182-922F-83C0C3A7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FD8-EA4F-41B8-A745-61857043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2F4F-3558-4E6D-800E-0C63A5F5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E5DB-7A35-4F59-ADD7-B24E57EB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4BBB-53D4-42B9-8EBE-F7AB15C7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B528-DFDE-4CC3-8753-F8E41474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51DE-CB8C-45AE-8D58-EFAD9898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1AD5-D57B-4012-BB36-8E84F999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62A0-DDEF-4E53-8413-2628AE41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208-5AF6-46E9-A2DC-7525584B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9CBA-5132-41A6-9DD0-46EB370E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A3CF-7341-46B7-A032-302348FC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011C-F3E0-4F0D-B937-FED880A3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B33D-D172-4723-B7A6-61154CA9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0570-8227-4FA0-B4AA-3F8F3D1E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CD6B5-5BB0-46E4-AC76-2B27B8B5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D9627-D3A1-46C0-ACFA-082B2298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E75D-CCC1-4BB8-8CCA-099EA328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9558A-FFEB-4830-9E04-041161C8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8017A-18B2-4E51-BB74-A1719659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BBA-2531-44CD-983A-C1D4235E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AB88-6A5D-4245-A3D6-9333679A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3FF9-FECF-449C-B850-82529008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ADD72-D051-4F83-AF56-ADEA7E1D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EAB4-CBBB-48A7-B91A-3BDF3353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44B75-A38E-48DC-90F9-EB6ACEB3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B69B8-2679-4C2B-904F-ADAFC829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6BF1-895C-4BEE-9460-8AA6DDA6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F383-DE80-448E-92F9-72DB9448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525A-1E71-441D-A8E3-3CB0B996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7924F-09CA-49D5-B059-EDAED079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D71-CEE4-497E-AB38-A73051AA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55270-936A-431E-9A79-0BCB66FA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56F8C-A5E9-4210-BA52-20A6741E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8DB1A-3EBD-4470-B76B-5BAC094D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AB4F8-C95A-4E9C-BAA7-D9F18079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8511-09A7-4DD9-91BC-E7EBE733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E737-A635-4CFC-8B29-591B9677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ADB5B-15E4-4D46-B2BF-1EE8B3D6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8BC2E-F42B-4B72-BE2D-06658848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F37C8-CC9E-4703-B328-91A4F747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14D-83D5-40D9-BD31-B37F141C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BA1-0794-4CDF-9E40-6FE0FD51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3FF-F1C5-46D7-86C2-9242D275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519-360F-4823-AC49-55A19235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05E-7E70-4A7C-AA96-1374A249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C6A6-379C-406F-BE50-45BF16FCF6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4BA9-FE40-4364-B155-FA1327B0C3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017F-9A62-4220-92C9-7F61731E98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0122-BB2B-4A6A-8E5B-68532B0F6921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hammer.wav"/><Relationship Id="rId3" Type="http://schemas.openxmlformats.org/officeDocument/2006/relationships/audio" Target="../media/click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3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3.gi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3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hammer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gif"/><Relationship Id="rId3" Type="http://schemas.openxmlformats.org/officeDocument/2006/relationships/audio" Target="../media/hamm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3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1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35"/>
          <p:cNvPicPr/>
          <p:nvPr/>
        </p:nvPicPr>
        <p:blipFill>
          <a:blip r:embed="rId3"/>
          <a:stretch/>
        </p:blipFill>
        <p:spPr>
          <a:xfrm>
            <a:off x="431640" y="593640"/>
            <a:ext cx="1171800" cy="6192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6"/>
          <p:cNvSpPr txBox="1"/>
          <p:nvPr/>
        </p:nvSpPr>
        <p:spPr>
          <a:xfrm>
            <a:off x="1285920" y="2394000"/>
            <a:ext cx="6616800" cy="148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90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8000"/>
                </a:solidFill>
                <a:latin typeface="宋体"/>
              </a:rPr>
              <a:t>维护社会公平课件</a:t>
            </a:r>
            <a:r>
              <a:rPr b="1" lang="en-US" sz="4000" spc="-1" strike="noStrike">
                <a:ln w="0">
                  <a:noFill/>
                </a:ln>
                <a:solidFill>
                  <a:srgbClr val="008000"/>
                </a:solid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8000"/>
                </a:solidFill>
                <a:latin typeface="宋体"/>
              </a:rPr>
              <a:t>免费下载</a:t>
            </a:r>
            <a:endParaRPr b="1" lang="en-US" sz="4000" spc="-1" strike="noStrike">
              <a:ln w="0">
                <a:noFill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pic>
        <p:nvPicPr>
          <p:cNvPr id="167" name="Picture 8" descr="35"/>
          <p:cNvPicPr/>
          <p:nvPr/>
        </p:nvPicPr>
        <p:blipFill>
          <a:blip r:embed="rId4"/>
          <a:stretch/>
        </p:blipFill>
        <p:spPr>
          <a:xfrm>
            <a:off x="7542360" y="414360"/>
            <a:ext cx="1171440" cy="61920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1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2190240" y="884160"/>
            <a:ext cx="4617000" cy="581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我们怎样正确对待社会生活中的不公平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511280" y="1808280"/>
            <a:ext cx="697536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第一：用合法手段去解决问题，    以谋求最大限度的公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第二：调整自己的思维方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理性地反思自己的价值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：同破坏公平的行为做斗争，  对受害者伸出援助之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3_3"/>
          <p:cNvPicPr/>
          <p:nvPr/>
        </p:nvPicPr>
        <p:blipFill>
          <a:blip r:embed="rId2"/>
          <a:stretch/>
        </p:blipFill>
        <p:spPr>
          <a:xfrm>
            <a:off x="431640" y="2529000"/>
            <a:ext cx="1170000" cy="936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3537000" y="5364000"/>
            <a:ext cx="29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书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P104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1819080" y="458640"/>
            <a:ext cx="48135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在什么样的情况下，三个和尚才会有水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566640" y="1628640"/>
            <a:ext cx="2160720" cy="1395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880920" y="1898640"/>
            <a:ext cx="16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隶书"/>
                <a:ea typeface="隶书"/>
              </a:rPr>
              <a:t>公 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6146640" y="1584360"/>
            <a:ext cx="2070360" cy="134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6416640" y="18543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隶书"/>
                <a:ea typeface="隶书"/>
              </a:rPr>
              <a:t>合 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ShockwaveFlash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hammer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WordArt 6"/>
          <p:cNvSpPr txBox="1"/>
          <p:nvPr/>
        </p:nvSpPr>
        <p:spPr>
          <a:xfrm>
            <a:off x="1106640" y="2124000"/>
            <a:ext cx="6771960" cy="16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自觉树立公平合作意识</a:t>
            </a:r>
            <a:endParaRPr b="1" lang="en-US" sz="44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寓言赏析，体现公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花"/>
          <p:cNvPicPr/>
          <p:nvPr/>
        </p:nvPicPr>
        <p:blipFill>
          <a:blip r:embed="rId1"/>
          <a:stretch/>
        </p:blipFill>
        <p:spPr>
          <a:xfrm>
            <a:off x="3835440" y="3886200"/>
            <a:ext cx="1473120" cy="17524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0" y="836640"/>
            <a:ext cx="883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一个面包师一直从他隔壁的一个农民那购买黄油。有一天，他觉得本应是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磅的一包黄油似乎太轻了点。于是他开始定期称一称黄油，发现每回分量都不足。他特别生气，便 向执法机关提起诉讼，事情闹到了法官那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   “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你没有天平吗？”法官问农民。“有啊，法官先生，我有一架天平。”农民回答道。“有很准的砝码吗？”“没有，法官先生，我不需要砝码。”“没有砝码，那你怎么称黄油呢？”“这好办。”农民回答，：你瞧，就在面包师从我这儿买黄油的这段时间里，我也一直买他的面包。我总是要同样重量的面包，每次这些面包就作为称黄油的砝码。如果砝码不准，那就不是我的过错，而是他的过错了。“于是法官判定农民无罪，而面包师不得不承担诉讼费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寓言中谁具有公平意识，谁不具有公平意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这则寓言对我们的启示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6"/>
          <p:cNvSpPr/>
          <p:nvPr/>
        </p:nvSpPr>
        <p:spPr>
          <a:xfrm>
            <a:off x="297000" y="1042920"/>
            <a:ext cx="8532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面包师一直从他隔壁的一个农民那购买黄油。有一天，他觉得本应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磅的一包黄油似乎太轻了点。于是他开始定期称一称黄油，发现每回分量都不足。他特别生气，便向执法机关提起诉讼，事情闹到了法官那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没有天平吗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法官问农民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啊，法官先生，我有一架天平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农民回答道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很准的砝码吗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没有，法官先生，我不需要砝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没有砝码，那你怎么称黄油呢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好办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农民回答：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瞧 ，就在面包师从我这儿买黄油的这段时间里，我也一直买他的面包。我总是要同样重量的面包，每次这些面包就作为称黄油的砝码。如果砝码不准，那就不是我的过错，而是他的过错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是法官判定农民无罪，而面包师不得不承担诉讼费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故事中谁具有公平意识，谁不具有公平意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这则故事对我们的启示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311640" y="189000"/>
            <a:ext cx="18889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华文隶书"/>
              </a:rPr>
              <a:t>故事赏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4167360" y="1089000"/>
            <a:ext cx="3690720" cy="4140360"/>
          </a:xfrm>
          <a:prstGeom prst="wedgeRectCallout">
            <a:avLst>
              <a:gd name="adj1" fmla="val -44365"/>
              <a:gd name="adj2" fmla="val 70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社会需要合作，合作是社会生活正常进行的必要条件。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以公平为基础的合作才是良好的合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（书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P106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3_3"/>
          <p:cNvPicPr/>
          <p:nvPr/>
        </p:nvPicPr>
        <p:blipFill>
          <a:blip r:embed="rId3"/>
          <a:stretch/>
        </p:blipFill>
        <p:spPr>
          <a:xfrm>
            <a:off x="7407360" y="6245280"/>
            <a:ext cx="765000" cy="6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37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5818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5"/>
          <p:cNvSpPr txBox="1"/>
          <p:nvPr/>
        </p:nvSpPr>
        <p:spPr>
          <a:xfrm>
            <a:off x="1467000" y="1179360"/>
            <a:ext cx="653400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800080"/>
                </a:solidFill>
                <a:latin typeface="宋体"/>
              </a:rPr>
              <a:t>公平合作有什么好处（意义）？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467000" y="2259000"/>
            <a:ext cx="697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社会需要合作，合作是社会生活正常进行的必要条件。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以公平为基础的合作才是良好的合作。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在这种合作中，人们各自的积极性和创造性得到应有的发挥，个人的利益得到应有的保障；同时也避免了不必要的内耗，推动社会高效和谐地运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6551640" y="546084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1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8197"/>
          <p:cNvSpPr/>
          <p:nvPr/>
        </p:nvSpPr>
        <p:spPr>
          <a:xfrm>
            <a:off x="1660680" y="708120"/>
            <a:ext cx="58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  <p:sndAc>
      <p:stSnd>
        <p:snd r:embed="rId3" name="chimes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2" descr="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1588320" y="1278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阅读教材第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106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排演历史剧后的打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769040" y="68328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（提示：本题主要考察学生对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社会需要公平互惠的合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的理解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73080" y="1346040"/>
            <a:ext cx="913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小张的分数最高，大家为什么并没有觉得不公平，反而为他高兴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713240" y="3338280"/>
            <a:ext cx="52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为什么以后的活动大家不愿意找小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31640" y="4256640"/>
            <a:ext cx="8236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因为小王没有很好地承担自己应该做的，只想多享受利益而不愿多承担义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1220040" y="5184000"/>
            <a:ext cx="42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为什么老师没给小亮分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566640" y="2384280"/>
            <a:ext cx="8282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因为小张主动做了他应该做的，所以他才可能获取自己该得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836640" y="5859360"/>
            <a:ext cx="558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因为小亮没有付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3" descr="3_3"/>
          <p:cNvPicPr/>
          <p:nvPr/>
        </p:nvPicPr>
        <p:blipFill>
          <a:blip r:embed="rId2"/>
          <a:stretch/>
        </p:blipFill>
        <p:spPr>
          <a:xfrm>
            <a:off x="6146640" y="5769000"/>
            <a:ext cx="112572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2"/>
          <p:cNvPicPr/>
          <p:nvPr/>
        </p:nvPicPr>
        <p:blipFill>
          <a:blip r:embed="rId1"/>
          <a:stretch/>
        </p:blipFill>
        <p:spPr>
          <a:xfrm>
            <a:off x="0" y="5543640"/>
            <a:ext cx="9144000" cy="1314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250920" y="593640"/>
            <a:ext cx="850716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在社会合作中，我们需要承担自己应该做的，决不能只享受利益而不付出，否则对其他人不公平。只有做了我们该做的，才可能获取自己该得的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我们在付出的时候，同时也在收获着别人的付出。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公平的合作，必然是互惠的合作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树立公平合作的意识，有助于我们顺利地融人社会，为社会做出贡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227720" y="527364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1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8" descr="3_3"/>
          <p:cNvPicPr/>
          <p:nvPr/>
        </p:nvPicPr>
        <p:blipFill>
          <a:blip r:embed="rId2"/>
          <a:stretch/>
        </p:blipFill>
        <p:spPr>
          <a:xfrm>
            <a:off x="1557360" y="5364000"/>
            <a:ext cx="10796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u=1557141895,3687245675&amp;fm=0&amp;gp=-38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-99000" y="1719360"/>
            <a:ext cx="1399320" cy="337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华文新魏"/>
              </a:rPr>
              <a:t>维护社会公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7"/>
          <p:cNvSpPr txBox="1"/>
          <p:nvPr/>
        </p:nvSpPr>
        <p:spPr>
          <a:xfrm>
            <a:off x="341280" y="23328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隶书"/>
              </a:rPr>
              <a:t>课堂小结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1332000" y="1268280"/>
            <a:ext cx="171360" cy="4311720"/>
          </a:xfrm>
          <a:custGeom>
            <a:avLst/>
            <a:gdLst>
              <a:gd name="textAreaLeft" fmla="*/ 109440 w 171360"/>
              <a:gd name="textAreaRight" fmla="*/ 171720 w 171360"/>
              <a:gd name="textAreaTop" fmla="*/ 112320 h 4311720"/>
              <a:gd name="textAreaBottom" fmla="*/ 4199400 h 431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1692360" y="998640"/>
            <a:ext cx="166536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理智面对社会生活中的不公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1557360" y="4959360"/>
            <a:ext cx="23860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自觉树立公平合作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360" y="324000"/>
            <a:ext cx="179640" cy="3554280"/>
          </a:xfrm>
          <a:custGeom>
            <a:avLst/>
            <a:gdLst>
              <a:gd name="textAreaLeft" fmla="*/ 114840 w 179640"/>
              <a:gd name="textAreaRight" fmla="*/ 180000 w 179640"/>
              <a:gd name="textAreaTop" fmla="*/ 92520 h 3554280"/>
              <a:gd name="textAreaBottom" fmla="*/ 3461760 h 355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3716280" y="549360"/>
            <a:ext cx="42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公平总是相对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3807000" y="2168640"/>
            <a:ext cx="22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正确对待社会生活中的不公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4"/>
          <p:cNvSpPr/>
          <p:nvPr/>
        </p:nvSpPr>
        <p:spPr>
          <a:xfrm>
            <a:off x="4076640" y="4689360"/>
            <a:ext cx="181080" cy="1700280"/>
          </a:xfrm>
          <a:custGeom>
            <a:avLst/>
            <a:gdLst>
              <a:gd name="textAreaLeft" fmla="*/ 115920 w 181080"/>
              <a:gd name="textAreaRight" fmla="*/ 181440 w 181080"/>
              <a:gd name="textAreaTop" fmla="*/ 44280 h 1700280"/>
              <a:gd name="textAreaBottom" fmla="*/ 1656000 h 17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5"/>
          <p:cNvSpPr/>
          <p:nvPr/>
        </p:nvSpPr>
        <p:spPr>
          <a:xfrm>
            <a:off x="5877000" y="1224000"/>
            <a:ext cx="135000" cy="3240000"/>
          </a:xfrm>
          <a:custGeom>
            <a:avLst/>
            <a:gdLst>
              <a:gd name="textAreaLeft" fmla="*/ 86400 w 135000"/>
              <a:gd name="textAreaRight" fmla="*/ 135360 w 13500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6058080" y="1179360"/>
            <a:ext cx="279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合法手段去解决问题，以谋求最大限度的公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调整自己的思维方式，理性地反思自己的价值观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破坏公平的行为做斗争，对受害者伸出援助之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4346640" y="4599000"/>
            <a:ext cx="4591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以公平为基础的合作才是良好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公平的合作，必然是互惠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9"/>
          <p:cNvPicPr/>
          <p:nvPr/>
        </p:nvPicPr>
        <p:blipFill>
          <a:blip r:embed="rId1"/>
          <a:stretch/>
        </p:blipFill>
        <p:spPr>
          <a:xfrm>
            <a:off x="7429680" y="5315040"/>
            <a:ext cx="1714320" cy="1542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19"/>
          <p:cNvPicPr/>
          <p:nvPr/>
        </p:nvPicPr>
        <p:blipFill>
          <a:blip r:embed="rId2"/>
          <a:stretch/>
        </p:blipFill>
        <p:spPr>
          <a:xfrm>
            <a:off x="206280" y="6354720"/>
            <a:ext cx="7182000" cy="136440"/>
          </a:xfrm>
          <a:prstGeom prst="rect">
            <a:avLst/>
          </a:prstGeom>
          <a:ln w="0">
            <a:noFill/>
          </a:ln>
        </p:spPr>
      </p:pic>
      <p:sp>
        <p:nvSpPr>
          <p:cNvPr id="277" name="WordArt 6"/>
          <p:cNvSpPr txBox="1"/>
          <p:nvPr/>
        </p:nvSpPr>
        <p:spPr>
          <a:xfrm>
            <a:off x="206280" y="0"/>
            <a:ext cx="1125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习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657360" y="728640"/>
            <a:ext cx="7966080" cy="25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中国社会科学院近日发布了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中国社会形势分析与预测的社会蓝皮书，蓝皮书指出，中国宏观社会经济保持良好发展态势，突出关注民生，更加注重公平，成为社会发展的主题。下列关于“公平”的说法中，正确的是（        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公平有利于社会稳定，只要维护公平，就能推动社会持续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了公平，人们的各种期望，就都能得到满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公平是人们稳定持久地进行合作，共同推动社会持续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6642000" y="2664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3041640" y="233280"/>
            <a:ext cx="1935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单项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9"/>
          <p:cNvPicPr/>
          <p:nvPr/>
        </p:nvPicPr>
        <p:blipFill>
          <a:blip r:embed="rId1"/>
          <a:stretch/>
        </p:blipFill>
        <p:spPr>
          <a:xfrm>
            <a:off x="7429680" y="5315040"/>
            <a:ext cx="1714320" cy="1542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19"/>
          <p:cNvPicPr/>
          <p:nvPr/>
        </p:nvPicPr>
        <p:blipFill>
          <a:blip r:embed="rId2"/>
          <a:stretch/>
        </p:blipFill>
        <p:spPr>
          <a:xfrm>
            <a:off x="206280" y="6354720"/>
            <a:ext cx="7182000" cy="1364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385920" y="787320"/>
            <a:ext cx="846108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，国务院发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于在全国建立农村最低生活保障制度的通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要求将符合条件的农村贫困人口全部纳入保障范围，稳定、持久、有效地解决全国农村贫困人口的温饱问题。全国各地积极推进农村低保工作，建立和完善相关制度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年底前将全面建立农村低保制度。纳入农村低保的人数将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人。 其目的是（         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护社会公平，促进人的全面发展和社会进步     ②让农村的人先富起来  ③ 满足所有人的愿望，实现共同富裕   ④使处在社会最不利地位的群体，也能够得到基本的生存保障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①②        B. ①④       C. ③④   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132000" y="368280"/>
            <a:ext cx="80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4481640" y="338472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9"/>
          <p:cNvPicPr/>
          <p:nvPr/>
        </p:nvPicPr>
        <p:blipFill>
          <a:blip r:embed="rId2"/>
          <a:stretch/>
        </p:blipFill>
        <p:spPr>
          <a:xfrm>
            <a:off x="0" y="-4680"/>
            <a:ext cx="4419720" cy="4195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10"/>
          <p:cNvPicPr/>
          <p:nvPr/>
        </p:nvPicPr>
        <p:blipFill>
          <a:blip r:embed="rId3"/>
          <a:stretch/>
        </p:blipFill>
        <p:spPr>
          <a:xfrm>
            <a:off x="4419720" y="3024360"/>
            <a:ext cx="4724280" cy="3792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4419720" y="0"/>
            <a:ext cx="47242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男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/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决赛中刘国正和德国波尔在第七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刘国正回球击打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落到地板上，“球出界了吗？”如果是的话，刘国正将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掉整场比赛。而此时有一个人却告诉裁判球擦边了，这个人就是波尔，最终刘国正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败为胜进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0" y="4210200"/>
            <a:ext cx="4419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记者问波尔：“你知道不知道如果那个球没有被判为擦边，胜利就属于你了。”波尔说：“当时我没想那么多，因为那球是擦边了，比赛就是这样，公平竞争吗，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我必须这样做，公平让我别无选择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385920" y="189000"/>
            <a:ext cx="844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当我被别人欺负的时候，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帮我谴责欺人者；当我有困难的时候，小刚请其全力帮助我；当我欺负别人的时候，小刚毫不客气的指责我。我认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是我的好朋友，这是因为他身上具有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礼貌待人、善解人意的优良品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勤劳勇敢、刻苦节俭的优良品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维护公平、主持公道的优良品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江明的爸爸开了家平价药店，价格公道招来回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，送药上门感动病人心；设身处地为顾客提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议，收了假币自担损失不骗人；店内员工干劲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效益也不错。这个事例并不能表明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公平排斥奉献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公平带来和谐稳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公平促进人们合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6192720" y="1403280"/>
            <a:ext cx="4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6823440" y="4329000"/>
            <a:ext cx="61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9"/>
          <p:cNvPicPr/>
          <p:nvPr/>
        </p:nvPicPr>
        <p:blipFill>
          <a:blip r:embed="rId1"/>
          <a:stretch/>
        </p:blipFill>
        <p:spPr>
          <a:xfrm>
            <a:off x="7429680" y="5315040"/>
            <a:ext cx="1714320" cy="154296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8197"/>
          <p:cNvSpPr/>
          <p:nvPr/>
        </p:nvSpPr>
        <p:spPr>
          <a:xfrm>
            <a:off x="998640" y="625968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3"/>
          <p:cNvSpPr/>
          <p:nvPr/>
        </p:nvSpPr>
        <p:spPr>
          <a:xfrm>
            <a:off x="341280" y="1449360"/>
            <a:ext cx="857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平只是近代以来人们追求的目标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31640" y="2214720"/>
            <a:ext cx="74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平总受一定社会条件的制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431640" y="2889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平的观念，是头脑中自发产生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431640" y="3564000"/>
            <a:ext cx="85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平与否的判断，受个人价值观念、思维方      式的制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385920" y="464328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平能使人们稳定持久地进行合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206280" y="5273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了公平，社会才能为人的发展提供平等的权利和机会，才能为每个社会成员的生存与发展提供保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786400" y="62164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7344000" y="459900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2573640" y="40593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6623280" y="21160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7516080" y="14940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7651080" y="2798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15"/>
          <p:cNvSpPr txBox="1"/>
          <p:nvPr/>
        </p:nvSpPr>
        <p:spPr>
          <a:xfrm>
            <a:off x="385920" y="368280"/>
            <a:ext cx="1125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习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3863880" y="455760"/>
            <a:ext cx="115596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明辨是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228240" y="533160"/>
            <a:ext cx="834876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中国宪法平等权第一案”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中国人民银行成都分行招收银员，在招录广告中要求：</a:t>
            </a:r>
            <a:r>
              <a:rPr b="1" lang="zh-CN" sz="34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男性身高</a:t>
            </a:r>
            <a:r>
              <a:rPr b="1" lang="en-US" sz="3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.68</a:t>
            </a:r>
            <a:r>
              <a:rPr b="1" lang="zh-CN" sz="3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米，女性身高</a:t>
            </a:r>
            <a:r>
              <a:rPr b="1" lang="en-US" sz="3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.55</a:t>
            </a:r>
            <a:r>
              <a:rPr b="1" lang="zh-CN" sz="3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米以上</a:t>
            </a:r>
            <a:r>
              <a:rPr b="1" lang="zh-CN" sz="3400" spc="-1" strike="noStrike">
                <a:solidFill>
                  <a:srgbClr val="080808"/>
                </a:solidFill>
                <a:latin typeface="Arial"/>
                <a:ea typeface="楷体_GB2312"/>
              </a:rPr>
              <a:t>”</a:t>
            </a:r>
            <a:r>
              <a:rPr b="1" lang="zh-CN" sz="3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。一位大学毕业生身高未达到规定的高度，虽符合其规定的其他条件，却无法成为招录对象。</a:t>
            </a:r>
            <a:endParaRPr b="0" lang="en-US" sz="3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请思考：</a:t>
            </a:r>
            <a:endParaRPr b="0" lang="en-US" sz="3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①</a:t>
            </a:r>
            <a:r>
              <a:rPr b="1" lang="zh-CN" sz="3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你认为这样的招聘广告公平吗？</a:t>
            </a:r>
            <a:endParaRPr b="0" lang="en-US" sz="3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②</a:t>
            </a:r>
            <a:r>
              <a:rPr b="1" lang="zh-CN" sz="3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假如你是这位应聘者，你会怎么办？</a:t>
            </a:r>
            <a:endParaRPr b="0" lang="en-US" sz="3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WordArt 4"/>
          <p:cNvSpPr txBox="1"/>
          <p:nvPr/>
        </p:nvSpPr>
        <p:spPr>
          <a:xfrm>
            <a:off x="206280" y="0"/>
            <a:ext cx="1125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习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7" name="Picture 5" descr="9"/>
          <p:cNvPicPr/>
          <p:nvPr/>
        </p:nvPicPr>
        <p:blipFill>
          <a:blip r:embed="rId1"/>
          <a:stretch/>
        </p:blipFill>
        <p:spPr>
          <a:xfrm>
            <a:off x="7429680" y="5315040"/>
            <a:ext cx="171432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4859-2036-4E24-9BCC-A6C2B128C9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0520" y="914040"/>
            <a:ext cx="8339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</a:t>
            </a:r>
            <a:r>
              <a:rPr b="1" lang="zh-CN" sz="37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这一应聘者后来</a:t>
            </a: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依据</a:t>
            </a:r>
            <a:r>
              <a:rPr b="1" lang="en-US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宪法</a:t>
            </a:r>
            <a:r>
              <a:rPr b="1" lang="en-US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3</a:t>
            </a: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中关于公民在法律面前人人平等的规定</a:t>
            </a:r>
            <a:r>
              <a:rPr b="1" lang="zh-CN" sz="37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将招工方中国人民银行成都分行告上法庭。请求法院判令被告广告中含有身高歧视的行为违法。</a:t>
            </a:r>
            <a:endParaRPr b="0" lang="en-US" sz="3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7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专家表示：除非银行能够说明这一身高规定与工作的关系，否则银行的限制行为就是违法。 </a:t>
            </a:r>
            <a:endParaRPr b="0" lang="en-US" sz="37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13" name="Picture 4" descr="9"/>
          <p:cNvPicPr/>
          <p:nvPr/>
        </p:nvPicPr>
        <p:blipFill>
          <a:blip r:embed="rId1"/>
          <a:stretch/>
        </p:blipFill>
        <p:spPr>
          <a:xfrm>
            <a:off x="6958080" y="5315040"/>
            <a:ext cx="171432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0" y="0"/>
            <a:ext cx="2209680" cy="642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探索轨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6320" y="6858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历史的长河中，人类曾提出过各种公平观，这些不同的公平观反映了当时人们所追求的公平的主要内容。例如：不患寡而患不均；均贫富，等贵贱；人生而平等；讲求效率，维护公平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思考问题：①你了解这些公平的含义吗？②从这些公平观中你能找出什么样的轨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152280" y="3973680"/>
            <a:ext cx="8991720" cy="2244600"/>
            <a:chOff x="152280" y="3973680"/>
            <a:chExt cx="8991720" cy="2244600"/>
          </a:xfrm>
        </p:grpSpPr>
        <p:sp>
          <p:nvSpPr>
            <p:cNvPr id="178" name="Text Box 6"/>
            <p:cNvSpPr/>
            <p:nvPr/>
          </p:nvSpPr>
          <p:spPr>
            <a:xfrm>
              <a:off x="152280" y="3973680"/>
              <a:ext cx="8991720" cy="22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经济上平均的要求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政治上平等的要求        意识形态上平等的要求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进入工业社会以来，人们崇尚效率，但同时要求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从制度上保障公平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公平一直是人类追求的目标，这从一定意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上也说明了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无论怎样努力，都不可能达到绝对的公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7"/>
            <p:cNvSpPr/>
            <p:nvPr/>
          </p:nvSpPr>
          <p:spPr>
            <a:xfrm>
              <a:off x="3200400" y="41259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ff7c80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"/>
            <p:cNvSpPr/>
            <p:nvPr/>
          </p:nvSpPr>
          <p:spPr>
            <a:xfrm>
              <a:off x="6781680" y="41259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ff7c80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9" descr="图片22"/>
          <p:cNvPicPr/>
          <p:nvPr/>
        </p:nvPicPr>
        <p:blipFill>
          <a:blip r:embed="rId2"/>
          <a:stretch/>
        </p:blipFill>
        <p:spPr>
          <a:xfrm>
            <a:off x="7586640" y="5003640"/>
            <a:ext cx="623880" cy="623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3" name="chimes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25"/>
          <p:cNvPicPr/>
          <p:nvPr/>
        </p:nvPicPr>
        <p:blipFill>
          <a:blip r:embed="rId2"/>
          <a:stretch/>
        </p:blipFill>
        <p:spPr>
          <a:xfrm>
            <a:off x="0" y="3449520"/>
            <a:ext cx="4724280" cy="3408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24"/>
          <p:cNvPicPr/>
          <p:nvPr/>
        </p:nvPicPr>
        <p:blipFill>
          <a:blip r:embed="rId3"/>
          <a:stretch/>
        </p:blipFill>
        <p:spPr>
          <a:xfrm>
            <a:off x="4724280" y="3424320"/>
            <a:ext cx="4419720" cy="3433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28"/>
          <p:cNvPicPr/>
          <p:nvPr/>
        </p:nvPicPr>
        <p:blipFill>
          <a:blip r:embed="rId4"/>
          <a:stretch/>
        </p:blipFill>
        <p:spPr>
          <a:xfrm>
            <a:off x="0" y="0"/>
            <a:ext cx="4724280" cy="342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9"/>
          <p:cNvPicPr/>
          <p:nvPr/>
        </p:nvPicPr>
        <p:blipFill>
          <a:blip r:embed="rId5"/>
          <a:stretch/>
        </p:blipFill>
        <p:spPr>
          <a:xfrm>
            <a:off x="4724280" y="0"/>
            <a:ext cx="4419720" cy="34113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>
            <a:off x="297000" y="1763640"/>
            <a:ext cx="8461080" cy="301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公平总受到一定社会条件的制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任何社会都会存在一些不公平的现象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公平总是相对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不可能达到绝对的公平。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P1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3_3"/>
          <p:cNvPicPr/>
          <p:nvPr/>
        </p:nvPicPr>
        <p:blipFill>
          <a:blip r:embed="rId6"/>
          <a:stretch/>
        </p:blipFill>
        <p:spPr>
          <a:xfrm>
            <a:off x="7542360" y="4014720"/>
            <a:ext cx="809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WordArt 6" descr=""/>
          <p:cNvPicPr/>
          <p:nvPr/>
        </p:nvPicPr>
        <p:blipFill>
          <a:blip r:embed="rId2"/>
          <a:stretch/>
        </p:blipFill>
        <p:spPr>
          <a:xfrm>
            <a:off x="1955880" y="1757520"/>
            <a:ext cx="5392800" cy="26938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8197"/>
          <p:cNvSpPr/>
          <p:nvPr/>
        </p:nvSpPr>
        <p:spPr>
          <a:xfrm>
            <a:off x="2416320" y="2924280"/>
            <a:ext cx="58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152280" y="793800"/>
            <a:ext cx="89154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案情：曾凡在某公司找到一份打字员的工作，她辛辛苦苦的干了一个月，满怀喜悦的去领工资，但老板却以她曾迟到唯有。扣了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工资。曾凡觉得不公平，因为自己从未迟到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如果她接受了这种不公平，情形会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②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她可以通过那些途径，使自己的问题得到公平合理的解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431640" y="189000"/>
            <a:ext cx="227664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案例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41280" y="3564000"/>
            <a:ext cx="8055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如果她接受了这种不公平，合法权利还会继续受到老板的侵害，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会使不公平的现象继续发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31640" y="5641920"/>
            <a:ext cx="657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找老板说理交涉、向劳动监察部门投诉、向法院起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41280" y="1538280"/>
            <a:ext cx="8280360" cy="369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新魏"/>
              </a:rPr>
              <a:t>面对不公平的对待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我们应该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增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权利意识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善于寻找解决途径，用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合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的手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去寻求帮助，解决问题，以谋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最大限度的公平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法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书</a:t>
            </a:r>
            <a:r>
              <a:rPr b="0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P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3_3"/>
          <p:cNvPicPr/>
          <p:nvPr/>
        </p:nvPicPr>
        <p:blipFill>
          <a:blip r:embed="rId2"/>
          <a:stretch/>
        </p:blipFill>
        <p:spPr>
          <a:xfrm>
            <a:off x="5877000" y="4194000"/>
            <a:ext cx="1125360" cy="809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hammer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06280" y="954000"/>
            <a:ext cx="4211640" cy="3375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0" y="3852720"/>
            <a:ext cx="4392720" cy="3005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3"/>
          <a:stretch/>
        </p:blipFill>
        <p:spPr>
          <a:xfrm>
            <a:off x="4572000" y="2484360"/>
            <a:ext cx="4375080" cy="4373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533160" y="189000"/>
            <a:ext cx="115596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反躬自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751280" y="279360"/>
            <a:ext cx="3691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阅读教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1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中的三组图画及其文字说明，并就下列问题进行讨论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0" y="0"/>
            <a:ext cx="2133720" cy="642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反躬自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85920" y="819000"/>
            <a:ext cx="85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他们的想法有什么道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是什么影响着他们对公平与否的判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）他们该如何面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701640" y="1600560"/>
            <a:ext cx="76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行楷"/>
                <a:ea typeface="华文行楷"/>
              </a:rPr>
              <a:t>他们都是站在自我的角度看待</a:t>
            </a:r>
            <a:r>
              <a:rPr b="1" lang="zh-CN" sz="3200" spc="-1" strike="noStrike">
                <a:solidFill>
                  <a:srgbClr val="990033"/>
                </a:solidFill>
                <a:latin typeface="黑体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990033"/>
                </a:solidFill>
                <a:latin typeface="华文行楷"/>
                <a:ea typeface="华文行楷"/>
              </a:rPr>
              <a:t>公平</a:t>
            </a:r>
            <a:r>
              <a:rPr b="1" lang="zh-CN" sz="3200" spc="-1" strike="noStrike">
                <a:solidFill>
                  <a:srgbClr val="990033"/>
                </a:solidFill>
                <a:latin typeface="黑体"/>
                <a:ea typeface="华文行楷"/>
              </a:rPr>
              <a:t>”</a:t>
            </a:r>
            <a:r>
              <a:rPr b="1" lang="zh-CN" sz="3200" spc="-1" strike="noStrike">
                <a:solidFill>
                  <a:srgbClr val="990033"/>
                </a:solidFill>
                <a:latin typeface="华文行楷"/>
                <a:ea typeface="华文行楷"/>
              </a:rPr>
              <a:t>，以一种偏激的心态考虑自己的得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566640" y="2890080"/>
            <a:ext cx="79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ahoma"/>
                <a:ea typeface="华文行楷"/>
              </a:rPr>
              <a:t>是他们的个人价值观念、思维方式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41280" y="4410720"/>
            <a:ext cx="81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行楷"/>
                <a:ea typeface="华文行楷"/>
              </a:rPr>
              <a:t>理性地反思自己的价值观念，换个角度思考问题。承认无可改变的事实，以平和的心态对待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不公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华文行楷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0" y="2933640"/>
            <a:ext cx="8686800" cy="2531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遇到“不公平”的事情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不妨</a:t>
            </a:r>
            <a:r>
              <a:rPr b="1" lang="zh-CN" sz="4000" spc="-1" strike="noStrike">
                <a:solidFill>
                  <a:srgbClr val="cc0099"/>
                </a:solidFill>
                <a:latin typeface="华文新魏"/>
                <a:ea typeface="华文新魏"/>
              </a:rPr>
              <a:t>调整自己的思维方式，理性地反思自己的价值观念</a:t>
            </a:r>
            <a:r>
              <a:rPr b="1" lang="en-US" sz="4000" spc="-1" strike="noStrike">
                <a:solidFill>
                  <a:srgbClr val="cc0099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许我们会更加客观地对待生活中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公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象。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心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书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P1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3_3"/>
          <p:cNvPicPr/>
          <p:nvPr/>
        </p:nvPicPr>
        <p:blipFill>
          <a:blip r:embed="rId2"/>
          <a:stretch/>
        </p:blipFill>
        <p:spPr>
          <a:xfrm>
            <a:off x="7632720" y="5273640"/>
            <a:ext cx="809640" cy="647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图片22"/>
          <p:cNvPicPr/>
          <p:nvPr/>
        </p:nvPicPr>
        <p:blipFill>
          <a:blip r:embed="rId3"/>
          <a:stretch/>
        </p:blipFill>
        <p:spPr>
          <a:xfrm>
            <a:off x="8037360" y="6234120"/>
            <a:ext cx="62388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250920" y="117936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当有人恃强凌弱时，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——————</a:t>
            </a: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   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华文行楷"/>
                <a:ea typeface="华文行楷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当有人弄权渎职侵吞公款时，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—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当有人排斥异己、处事不公时， 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——————  </a:t>
            </a:r>
            <a:r>
              <a:rPr b="1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colsmalllogo1000024150"/>
          <p:cNvPicPr/>
          <p:nvPr/>
        </p:nvPicPr>
        <p:blipFill>
          <a:blip r:embed="rId2"/>
          <a:stretch/>
        </p:blipFill>
        <p:spPr>
          <a:xfrm>
            <a:off x="8217000" y="189000"/>
            <a:ext cx="706320" cy="99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q4"/>
          <p:cNvPicPr/>
          <p:nvPr/>
        </p:nvPicPr>
        <p:blipFill>
          <a:blip r:embed="rId3"/>
          <a:stretch/>
        </p:blipFill>
        <p:spPr>
          <a:xfrm>
            <a:off x="0" y="0"/>
            <a:ext cx="2209680" cy="1312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4346640" y="593640"/>
            <a:ext cx="34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前劝阻或报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敢于帮助弱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102360" y="171936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检举揭发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敢于斗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732720" y="2798640"/>
            <a:ext cx="20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仗义执言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持公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06280" y="4329000"/>
            <a:ext cx="6661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见到不公平的现象，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崇尚公平、主持公道，要求我们</a:t>
            </a:r>
            <a:r>
              <a:rPr b="1" lang="zh-CN" sz="3600" spc="-1" strike="noStrike">
                <a:solidFill>
                  <a:srgbClr val="cc0099"/>
                </a:solidFill>
                <a:latin typeface="华文新魏"/>
                <a:ea typeface="华文新魏"/>
              </a:rPr>
              <a:t>同破坏公平的行为作斗争，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受害者伸出援助之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道德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书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P1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1" descr="3_3"/>
          <p:cNvPicPr/>
          <p:nvPr/>
        </p:nvPicPr>
        <p:blipFill>
          <a:blip r:embed="rId4"/>
          <a:stretch/>
        </p:blipFill>
        <p:spPr>
          <a:xfrm>
            <a:off x="6507000" y="6210360"/>
            <a:ext cx="8096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1:30:22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59:49Z</dcterms:modified>
  <cp:revision>4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